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016604"/>
        <c:axId val="73061767"/>
      </c:barChart>
      <c:catAx>
        <c:axId val="190166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061767"/>
        <c:crosses val="autoZero"/>
        <c:auto val="1"/>
        <c:lblAlgn val="ctr"/>
        <c:lblOffset val="100"/>
        <c:noMultiLvlLbl val="0"/>
      </c:catAx>
      <c:valAx>
        <c:axId val="730617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0166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5C89-052D-497C-B9DF-30A694EB2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4533-B39A-4071-A536-CCD799C0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B63E-A554-4309-8B23-F1D4972BF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B556-AD3D-4334-ADA8-F1577C952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D571-C215-46DD-9DF6-E48118DF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8917-BC1A-442A-835B-6CF94DC1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CCA7-0AF1-44DD-84C7-D936B1BC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FF60-AD15-4F8F-8143-2BD1B14E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509F-7433-42AB-B8DD-D8F46218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27F0-D8CB-4745-8ADC-E41BE733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C6E9-4D06-415B-9FB0-FE215843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216D-58EF-42D7-BD9D-9A0F70C6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879B01-B2E7-46E3-963C-6433B371CE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