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44851"/>
        <c:axId val="85206961"/>
      </c:barChart>
      <c:catAx>
        <c:axId val="30144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06961"/>
        <c:crosses val="autoZero"/>
        <c:auto val="1"/>
        <c:lblAlgn val="ctr"/>
        <c:lblOffset val="100"/>
        <c:noMultiLvlLbl val="0"/>
      </c:catAx>
      <c:valAx>
        <c:axId val="85206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44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BF6-195F-47B0-A3AB-1A2E6CE7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ECE-D31E-49BB-8348-8E0DCEC8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081-0CAF-49EC-93BA-7CA949C0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64A-95B7-4E2E-BCB8-21878F9A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BF7-60CA-48AD-833B-42EF8560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0B6-5239-420E-8C0C-6124A23F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662-CC89-4AE1-B199-B5686AD9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984-5B4B-45F5-AC07-37EA35DC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CED-942C-405C-9EBE-645F1FD3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A76-398E-4313-918C-B27729E3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61D-AFE8-467E-883B-23EC47B6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C6A-AA59-4A4C-A620-5AFCAFDD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F7B0D-775F-414E-BF01-E604C0AD73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