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66238"/>
        <c:axId val="97532734"/>
      </c:barChart>
      <c:catAx>
        <c:axId val="28766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32734"/>
        <c:crosses val="autoZero"/>
        <c:auto val="1"/>
        <c:lblAlgn val="ctr"/>
        <c:lblOffset val="100"/>
        <c:noMultiLvlLbl val="0"/>
      </c:catAx>
      <c:valAx>
        <c:axId val="97532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66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5EEC-1CB9-4C05-9691-47FA1A9B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FF4-820C-4DCA-AE71-B223357D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F7C-684E-4556-815C-696C0A5A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369-F62D-4759-ADE2-551378DF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D05-B6DA-493D-9ABA-B860B9AD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C36-8B3F-4C22-87D6-516A0E62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8A3-1549-4C1B-8997-C15836F6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C14-7635-44F4-AA38-D1BF967E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162-E3D0-4198-829C-06CA60F8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99F-5D47-4873-9192-A6426617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0FB-1BF6-4677-A9AB-61E75275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B51-A4BB-4A0A-8E11-9F8FB4D5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F8E0E-2C2E-4499-B258-66664810FC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