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311580"/>
        <c:axId val="59677070"/>
      </c:barChart>
      <c:catAx>
        <c:axId val="513115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77070"/>
        <c:crosses val="autoZero"/>
        <c:auto val="1"/>
        <c:lblAlgn val="ctr"/>
        <c:lblOffset val="100"/>
        <c:noMultiLvlLbl val="0"/>
      </c:catAx>
      <c:valAx>
        <c:axId val="596770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115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6D7F-6C24-4E24-B041-FACDED1A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A922-A51E-417A-A25E-CCFC51ED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5254-355F-49EA-ACEA-AAB56306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5CD7-566E-45F5-9C4C-5C64D9DD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80D2-DBF0-49FA-A761-AED26CD9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4EB9-2638-4DAA-B065-5DB8B789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CB4-3AB0-44A6-805F-40C33528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2CE9-689F-42DD-8429-00032A00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EBA8-926D-4A25-ADEC-E1A0AD7C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76FC-37B7-4509-AF00-B1E23E81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726A-8229-4DEA-92B3-6BD8E5F7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04D1-3706-4A0F-83E2-FC6001F7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E0CFB-5A6E-461D-8000-7640CDB1CB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