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14953"/>
        <c:axId val="37378818"/>
      </c:barChart>
      <c:catAx>
        <c:axId val="94314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78818"/>
        <c:crosses val="autoZero"/>
        <c:auto val="1"/>
        <c:lblAlgn val="ctr"/>
        <c:lblOffset val="100"/>
        <c:noMultiLvlLbl val="0"/>
      </c:catAx>
      <c:valAx>
        <c:axId val="37378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14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055-A240-4901-9591-BA71545D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137-AE0D-40EF-9020-0354EDF9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331-741C-4A4D-B237-CC5B1CEA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C89-F595-4137-B05D-6615B309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3F0-23D5-4111-98EF-23330FE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449-C35E-48AC-8F22-ACABADB1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CD0-9628-4EB3-B9C2-D486E770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A43-8EEF-44C8-BF54-BC3CEBB9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6BD-0F45-42AA-AF67-D514A2E1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59C-4EBA-457E-88AD-F60E430C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58A-1208-4ABF-BC0A-07BFB34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E11-5A18-4D90-B0C0-972D27AE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D44AD-27F2-44ED-852B-4E02B74F57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