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47464"/>
        <c:axId val="95130374"/>
      </c:barChart>
      <c:catAx>
        <c:axId val="61747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30374"/>
        <c:crosses val="autoZero"/>
        <c:auto val="1"/>
        <c:lblAlgn val="ctr"/>
        <c:lblOffset val="100"/>
        <c:noMultiLvlLbl val="0"/>
      </c:catAx>
      <c:valAx>
        <c:axId val="95130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47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F7A-68DF-43F7-B283-73881F7A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1DC-027A-4A34-947D-5E16A5F4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3B3-6B14-4A7D-8AA5-F0990615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08A-CDD8-47B3-BE9C-976E7B6E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598-FB2B-46E7-96AB-2700FA33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611-4C6C-477C-9D84-9986AB02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F5A-805F-44A9-941C-55301B53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21C-3AC6-47B3-8C43-33BD44EF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B5D-5152-4252-A805-D6C0F1BD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9BF-BF95-468C-9236-8E4DB687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361-F902-4082-8023-42077705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213-0C50-4257-B1FB-3F06B11D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27D11-2392-459A-B824-08D9F7EC26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