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39419"/>
        <c:axId val="28442624"/>
      </c:barChart>
      <c:catAx>
        <c:axId val="25739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2624"/>
        <c:crosses val="autoZero"/>
        <c:auto val="1"/>
        <c:lblAlgn val="ctr"/>
        <c:lblOffset val="100"/>
        <c:noMultiLvlLbl val="0"/>
      </c:catAx>
      <c:valAx>
        <c:axId val="28442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39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0BB-BFC4-4744-83F1-0E4CCCED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E6E-70C4-46B2-BC46-30B3059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F7B-EB1D-43B5-A9B8-6772ECA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62E-FB7B-4D63-8746-36EE6A86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F7A-CEC7-43AC-8A86-691CCB82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C18-0CC7-412E-BD11-FEC4CE03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AED-0CCB-45F4-A34C-5A1242CC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9D4-D2CE-49E8-A81C-1FC1DA54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3C-6CFA-4F70-B58A-2293354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F83-373D-427B-9E83-1FF6D869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B0D-23E4-4639-B49D-EE1B5783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E3-1967-49CA-92D0-ACA943B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B4BD3-15DD-46DE-BD30-80593A440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