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03377"/>
        <c:axId val="89378450"/>
      </c:barChart>
      <c:catAx>
        <c:axId val="57503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78450"/>
        <c:crosses val="autoZero"/>
        <c:auto val="1"/>
        <c:lblAlgn val="ctr"/>
        <c:lblOffset val="100"/>
        <c:noMultiLvlLbl val="0"/>
      </c:catAx>
      <c:valAx>
        <c:axId val="89378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03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C9D-B273-4A89-A9E3-73AF1C6A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7E7-F9E1-4A30-BF95-95635491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964-AE3D-4558-9D84-EC5254B3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A95-804E-491B-B3D3-2B9DA01D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98E-74FE-4496-8EEE-5655C302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8D9-7CF5-4AAD-9E76-C6148060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2DE-AA61-4F33-82FE-625AE283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49E-0D3D-4781-912E-82B1E45A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626-69FC-4DB4-A8DF-32BD7BAD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528-F61D-4B82-A4D0-DA46294D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03F-ADD3-44CE-AB34-2DD4D73A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401-6738-4D7A-9783-2B895A00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1522B-247B-4E74-A553-17D0EC0BC4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