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1657"/>
        <c:axId val="61693866"/>
      </c:barChart>
      <c:catAx>
        <c:axId val="9671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3866"/>
        <c:crosses val="autoZero"/>
        <c:auto val="1"/>
        <c:lblAlgn val="ctr"/>
        <c:lblOffset val="100"/>
        <c:noMultiLvlLbl val="0"/>
      </c:catAx>
      <c:valAx>
        <c:axId val="61693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1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46F-0DCD-45CB-A1F8-4F8BF2D2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D26-8A94-4572-AD5F-CFB597FB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185-9C5A-407F-BADC-4EB989DD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A4F-2B79-4AED-AE05-84E346CC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892-AF1C-4146-B7F7-67088B80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7C9-29E3-4AB4-A5E2-33A55000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149-09D9-4D41-8FE3-0F71A8D1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C86-9925-4563-818D-D00166F8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D80-8977-451C-BBAA-F01D78E4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468-47F4-46BF-80F3-B06CB1C2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B35-59B6-4DDF-AB0E-F47CDBCB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8CF-6A7B-4561-9933-B945E255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64FB4-187E-4836-8196-74BA5BA58D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