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49295"/>
        <c:axId val="49410125"/>
      </c:barChart>
      <c:catAx>
        <c:axId val="68149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10125"/>
        <c:crosses val="autoZero"/>
        <c:auto val="1"/>
        <c:lblAlgn val="ctr"/>
        <c:lblOffset val="100"/>
        <c:noMultiLvlLbl val="0"/>
      </c:catAx>
      <c:valAx>
        <c:axId val="49410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49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C18-A5C1-4655-9A28-1DD607AA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BE6-2BBE-4FFD-82B1-B86E05B3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6FC-9770-4B7E-8C19-0648A774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C1F-6097-476D-8577-2829E620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18D-FD61-4FAA-AA78-7280CB53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C26-2992-497A-9061-0A2C69CE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619-5658-49C0-BD6A-C35D2274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4A0-A3F7-4A4A-B683-651F3343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E32-EC12-45CA-B230-D3922E12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A4F-2969-4890-A61D-7B65D6AB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641-CE56-4DE4-B450-F514716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182-B03A-414B-A1AD-28C47681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F45D6-F2FE-45B4-BBD9-9DB84128A6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