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5619"/>
        <c:axId val="97206001"/>
      </c:barChart>
      <c:catAx>
        <c:axId val="1505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06001"/>
        <c:crosses val="autoZero"/>
        <c:auto val="1"/>
        <c:lblAlgn val="ctr"/>
        <c:lblOffset val="100"/>
        <c:noMultiLvlLbl val="0"/>
      </c:catAx>
      <c:valAx>
        <c:axId val="97206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5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0D08-1393-4027-BB52-C0152264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AE6A-5C26-4AF0-8B14-07DB2D33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87C7-1680-4FB0-8927-EC101036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752-5FDC-4099-B77D-E5BE18D8D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D5D3-178C-4014-BD6F-82CFC929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1A8-EC0A-4BE6-88C0-C6AEF287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2AC-9B89-4DCE-A75B-0D40485A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3CEB-DEEA-4C4E-8E8A-A75F05E9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F26-F77D-40D8-AF29-CB0ACDA9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85DC-892E-4FDD-BFC1-33058DBB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D0E6-63DF-4D65-911F-DB46D376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A4FD-D038-47E3-AAE3-309632B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3C671-58FA-4F25-83EA-69AC9AB466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