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51101"/>
        <c:axId val="85132443"/>
      </c:barChart>
      <c:catAx>
        <c:axId val="56151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32443"/>
        <c:crosses val="autoZero"/>
        <c:auto val="1"/>
        <c:lblAlgn val="ctr"/>
        <c:lblOffset val="100"/>
        <c:noMultiLvlLbl val="0"/>
      </c:catAx>
      <c:valAx>
        <c:axId val="85132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51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A33-541A-40B9-835F-618B60CC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F8F-FF32-4956-94CA-9AB3C851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E18-7E8C-47C8-A0F3-B31FB322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ACE-7717-4BB7-9E81-777A4619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478-31FE-4671-AF12-2286E85B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51D-00CB-4A0D-BD32-E02AE0ED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072-AB8D-4F46-8F41-3BAAB6FD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69E-3E45-4656-99FC-49216919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C82-9097-4D29-8BBD-70BBD15B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FCC-0868-4917-9620-833D344C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8FE-93B3-4CC6-AC68-35202E9C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96D-FBC3-4345-9208-D7A5EE37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7D00E-7BDF-458C-BE02-2DD69E0DAA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