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58470"/>
        <c:axId val="94147282"/>
      </c:barChart>
      <c:catAx>
        <c:axId val="666584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47282"/>
        <c:crosses val="autoZero"/>
        <c:auto val="1"/>
        <c:lblAlgn val="ctr"/>
        <c:lblOffset val="100"/>
        <c:noMultiLvlLbl val="0"/>
      </c:catAx>
      <c:valAx>
        <c:axId val="941472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584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FAA-38C1-47EC-B331-3A48D4CF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F584-FD3D-4D36-9D94-A3F4D5B1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F0F3-A45D-4636-B003-177E16DA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BCA-BAE2-4689-8DE3-8B5D6CFC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B6C-21A4-4550-A384-9338BC66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AAD-9846-490F-8568-6BF0A290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F9A-2CA2-42D7-A956-E4514AB8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5566-DEC7-4861-BD75-B2343DAB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720-3248-4961-B541-34ABD2B9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2D7C-3BCF-4B95-8B4F-0EBDB1F9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F32-1427-4FE4-80A7-D85253ED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3B8-6184-49D8-B790-4996ED02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1D390-DA8A-4750-A6D9-B9D721FAFF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