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82008"/>
        <c:axId val="41588157"/>
      </c:barChart>
      <c:catAx>
        <c:axId val="87282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88157"/>
        <c:crosses val="autoZero"/>
        <c:auto val="1"/>
        <c:lblAlgn val="ctr"/>
        <c:lblOffset val="100"/>
        <c:noMultiLvlLbl val="0"/>
      </c:catAx>
      <c:valAx>
        <c:axId val="415881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82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A50-ED3F-4EB0-B62E-623BC6EF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0221-71D0-47BF-A850-856DBEA9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776-7AB1-4494-935C-811F97B6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27B-7B01-4F73-9EE8-C0B11CE9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612-63C3-40F0-B69D-4074224C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30F-6F0E-485F-9E4D-4EC986ED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962-FFEC-407B-9FED-83265DCD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00C-2078-4DB7-8BCD-789BD7A3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B4D-3123-4901-8676-EACD9EAD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ADC-7F7F-463C-8ECA-1F83C44E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93E-53F7-4092-9889-6C648B41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906-5AAF-442F-83C4-622A3ED2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D4C59-A0F6-43AC-8765-0EC156239C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