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39037"/>
        <c:axId val="71988064"/>
      </c:barChart>
      <c:catAx>
        <c:axId val="997390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88064"/>
        <c:crosses val="autoZero"/>
        <c:auto val="1"/>
        <c:lblAlgn val="ctr"/>
        <c:lblOffset val="100"/>
        <c:noMultiLvlLbl val="0"/>
      </c:catAx>
      <c:valAx>
        <c:axId val="71988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390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7D81-89F2-4F3E-8850-266EB625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858D-D77C-4D4B-9434-C51AFF27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F9A-74B7-4C1A-8591-5588848D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C0E-1E7B-4EFA-8F06-D69496EF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9EBD-7E73-47F0-B4B3-DDFC318C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A7C-0C10-4F1D-8A7E-E08CC669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3FB8-FAA8-497F-9226-55077397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B8E-267F-48E8-B90A-639E9EC3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E6F5-28E7-4664-8B36-0838272F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A04-2E53-4BF9-AC30-883C4FB6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C9E3-373B-431E-ABAD-997E2075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AC54-F159-43FB-8CC4-9EEEE78F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3E423-FC4B-491E-9B05-0F6684CB06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