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96571"/>
        <c:axId val="17108528"/>
      </c:barChart>
      <c:catAx>
        <c:axId val="569965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08528"/>
        <c:crosses val="autoZero"/>
        <c:auto val="1"/>
        <c:lblAlgn val="ctr"/>
        <c:lblOffset val="100"/>
        <c:noMultiLvlLbl val="0"/>
      </c:catAx>
      <c:valAx>
        <c:axId val="17108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965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6D6-546C-47D8-AF47-7098ECA2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88B-3770-40A3-A607-ED4D2A4D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5D7-6046-4800-BC88-00914DC3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CC8-E2AB-4397-8DCB-3F92F1B4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096-1265-4685-A1DB-52898078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AC5C-0051-464F-B4C4-C8E6A2ED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2D51-5D9C-4316-B09C-DC4E881F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940-0551-4D31-BC9B-25C60D6D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55A-39EC-4E03-A2EF-E36FE0FF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301-FA0D-44D7-8996-A201F995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6CD-A60A-4BD3-A333-082AEA41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444-DD8A-4666-A16E-D7512349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255A2-DFE0-4526-A84D-DBC202209D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