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29154"/>
        <c:axId val="81490726"/>
      </c:barChart>
      <c:catAx>
        <c:axId val="43929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90726"/>
        <c:crosses val="autoZero"/>
        <c:auto val="1"/>
        <c:lblAlgn val="ctr"/>
        <c:lblOffset val="100"/>
        <c:noMultiLvlLbl val="0"/>
      </c:catAx>
      <c:valAx>
        <c:axId val="81490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29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DFE-077B-40DD-95D3-196FA5E0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99B-4C9D-45DB-8D64-64D4026F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1CA-62D1-41F1-8F46-0DCC4677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6CC-4E87-44A8-A56C-443AEB2E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8BC-8961-491B-883A-08115496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DBE-BE9C-47DF-A939-34148399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5EA-9D11-4308-8B8B-528B10C3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F44-1B2B-42B6-A221-E84E5400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049-2D68-4352-B4AC-3D1CD2DA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DA0-11D8-4338-B061-0719AB5B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025-65BC-443E-94D0-AFDD17F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6F2-48E1-42EB-B5A9-35DE100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263BD-1FD3-4E18-B40D-516387E935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