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41814"/>
        <c:axId val="37393113"/>
      </c:barChart>
      <c:catAx>
        <c:axId val="13241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3113"/>
        <c:crosses val="autoZero"/>
        <c:auto val="1"/>
        <c:lblAlgn val="ctr"/>
        <c:lblOffset val="100"/>
        <c:noMultiLvlLbl val="0"/>
      </c:catAx>
      <c:valAx>
        <c:axId val="37393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41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C35-FB43-4223-8C20-FF6ABEB0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99B-D665-4190-8E56-0F455709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007-43BF-4E78-9982-33270A74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981-92EC-4E8B-82ED-BFB186B3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32C-D354-4BF0-9C91-9E402E7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89F-5EB7-4A97-88E9-37964452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31A-3D8F-4F87-8FD1-4369A4E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7DE-0A77-4AA8-9DFC-105A49E1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3EB-E191-4855-B4BF-30FDCF2F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B59-BA08-4F6F-B441-2039140F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FB9-B260-4BA4-A53E-1D661208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3DB-7E1E-4A60-9E51-5B8A615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8CCD4-EA35-4ECF-800F-0A4BFA3E8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