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52232"/>
        <c:axId val="82596912"/>
      </c:barChart>
      <c:catAx>
        <c:axId val="96152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96912"/>
        <c:crosses val="autoZero"/>
        <c:auto val="1"/>
        <c:lblAlgn val="ctr"/>
        <c:lblOffset val="100"/>
        <c:noMultiLvlLbl val="0"/>
      </c:catAx>
      <c:valAx>
        <c:axId val="82596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52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795-D765-4175-89CF-5A5496DA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F58-25B8-4E07-AD83-C16C49CA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412-90BF-4A6E-A8AD-0233D911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E1C-1448-441F-94CD-146610FD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CC1-99B0-4892-8550-F63DDE7D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DD4-251B-46F4-9572-A1762BBF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B8C-266A-406F-BA93-0821EC5B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6F5-1335-4AD5-AB44-B82520C7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CC5-ED02-4BC1-ACCA-06015574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44F-7182-444E-8048-6E4013DB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14C-5428-4532-84D8-5504086B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867-8AFF-40EC-B2C2-6789838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4E0AA-E81B-4E0B-A280-8824415834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