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ell Macintosh för öppn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016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åter dig köra Macintosh®-program på din SPARC-arbetsstation med Solaris 2.3 eller 2.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ger komplett System 7.1-miljö, inklusive Fi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ger AppleTalk-stöd, prestandaförbättringar, Mac TCP, ljud och mycket 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29280" y="2828880"/>
            <a:ext cx="39574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 MAE 2.0, finns på MAE Web på UR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h på MAE ftp p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support.apple.com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/pub/mae-katalogen). Ett testexemplar av MAE 1.0 finns på SunSoft Catalyst CDWare™ för SPARC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29280" y="5442120"/>
            <a:ext cx="373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ör att beställ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,  kontakta närmast Apple-återförsälj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29280" y="1584360"/>
            <a:ext cx="38354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E finns bara på engelska men stöder lokaliserade versioner av Macintosh-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