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Times New Roman"/>
              </a:rPr>
              <a:t>Click to move the slide</a:t>
            </a:r>
            <a:endParaRPr b="1" lang="en-US" sz="5400" spc="-1" strike="noStrike" u="sng">
              <a:solidFill>
                <a:srgbClr val="c0fef9"/>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50920" y="692280"/>
            <a:ext cx="4556160" cy="3416040"/>
          </a:xfrm>
          <a:prstGeom prst="rect">
            <a:avLst/>
          </a:prstGeom>
          <a:ln w="0">
            <a:noFill/>
          </a:ln>
        </p:spPr>
      </p:sp>
      <p:sp>
        <p:nvSpPr>
          <p:cNvPr id="12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dex.  Note that this page is “hotlinked”.  This means that you can click on the index items above and they will automatically move you to the map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INDEX” at the bottom right hand of each screen to automatically return to th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ftware is supported by our corporate sponsor.  Their support allows you to have this software for fre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50920" y="692280"/>
            <a:ext cx="4556160" cy="3416040"/>
          </a:xfrm>
          <a:prstGeom prst="rect">
            <a:avLst/>
          </a:prstGeom>
          <a:ln w="0">
            <a:noFill/>
          </a:ln>
        </p:spPr>
      </p:sp>
      <p:sp>
        <p:nvSpPr>
          <p:cNvPr id="12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ER OF BAB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at was the Tower of Bab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sis chapter 11 tells of how the people stayed together and built a great tower up into the sky.  God became angry with the people and confused their language and caused them to scatter throughout the earth.  The confusion of language at the Tower of Babel is from where we get the term “babbling” to describe language that makes no sen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y did the people want to build the Tower of Babe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sis 11:4  "Then they said, ‘Come, let us build ourselves a city, with a tower that reaches to the heavens, so that we may make a name for ourselves and not be scattered over the face of the whole earth.”  Apparently, the people wanted to “make a name for themselves”.  This pride was reprehensible to God.  They also didn’t want to spread over the earth.  But God had twice previously commanded  the people to fill the earth and not stay in one place: Genesis 1:28  “God blessed them and said to them, "Be fruitful and increase in number; fill the earth and subdue it.” and “9:1  Then God blessed Noah and his sons, saying to them, "Be fruitful and increase in number and fill the ear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50920" y="692280"/>
            <a:ext cx="4556160" cy="3416040"/>
          </a:xfrm>
          <a:prstGeom prst="rect">
            <a:avLst/>
          </a:prstGeom>
          <a:ln w="0">
            <a:noFill/>
          </a:ln>
        </p:spPr>
      </p:sp>
      <p:sp>
        <p:nvSpPr>
          <p:cNvPr id="12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RAHA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at do we know about Abraham?  Abraham was originally called Abram but God renamed him Abraham in Genesis 17:5 to signify him being the father of many nations.  Abraham’s descendants included both the Jewish nation by his son Issac and the Arabic people by his son Isma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y was Abraham leaving his home considered such a great act of faith?  Abraham was praised for his great faith in God.  Most significant of his praise was for the fact that he left his home at the direction of God even though he did not know where God was sending him  (Hebrews 11:8).  This showed his faith in doing whatever God wanted.  Travel at this time was very dangerous.  There was not a lot known about the different lands and you would never know whose land you would be traveling through.  There was no real government or laws to protect you.  The law of the land was the law of the migh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d had promised that Abraham would have descendants that would develop into a great nation (Genesis 12:1-3).  As Abraham grew older and his wife Sarah did not have a child,  Sarah offered her servant Hagar to be the wife of Abraham so that he could have a child.  Later, God blessed Sarah with a child by Abraham even though she was well past normal childbearing age (Genesis 17:15-17).  Finally, as an ultimate test of Abraham’s faith, God commanded Abraham to offer up his son Issac as a sacrifice.  When Abraham obediently began to do this, God stopped him from doing so (Genesis 22:1-18).  Like all men, Abraham’s life was not without fault.  When Abraham was in Egypt, he was afraid that men would want to kill him and take his wife so he declared that she was his sister (Genesis 2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d predicted that through Abraham all the people of the world would be blessed (Genesis 22:18).  This prophecy came true as a result of Jesus being the direct descendent of Abraham for because of Jesus, the whole world is blessed with the opportunity of salv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50920" y="692280"/>
            <a:ext cx="4556160" cy="341604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VELS OF ABRAHA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sis 12:1-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1  The LORD had said to Abram, "Leave your country, your people and your father's household and go to the land I will show you.  2  "I will make you into a great nation and I will bless you; I will make your name great, and you will be a blessing.  3  I will bless those who bless you, and whoever curses you I will curse; and all peoples on earth will be blessed through you."  4  So Abram left, .  .  .  5  He took his wife Sarai, his nephew Lot, all the possessions they had accumulated and the people they had acquired in Haran, and they set out for the land of Canaan, and they arrived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sis 12:10 - 13: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  Now there was a famine in the land, and Abram went down to Egypt to live there for a while because the famine was sev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1  So Abram went up from Egypt to the Negev, with his wife and everything he had, and Lot went with h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12  Abram lived in the land of Canaan, while Lot lived among the cities of the plain and pitched his tents near Sod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50920" y="692280"/>
            <a:ext cx="4556160" cy="3416040"/>
          </a:xfrm>
          <a:prstGeom prst="rect">
            <a:avLst/>
          </a:prstGeom>
          <a:ln w="0">
            <a:noFill/>
          </a:ln>
        </p:spPr>
      </p:sp>
      <p:sp>
        <p:nvSpPr>
          <p:cNvPr id="126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RAHAM &amp; LO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t was the nephew of Abraham (Genesis 12:5).  The flocks of Abraham and Lot became so numerous that the land could no longer support their great herds.  Abraham allowed Lot to chose an area in the land of Canaan in which to live and Abraham took what was left (Genesis 13:5+).  In Genesis 13:14, God promised that Abraham descendants would later have this land.  This area is now the land of Israel.  Lot finally came to live in the city of Sodom.  This city became incredibly wicked and God promised to destroy it along with its sister city of Gomorrah with fire and brimstone (sulfur) raining from heaven (Genesis 19:24).  Only Lot and his family were saved with the exception of his wife who “looked back” and was turned into a “pillar of salt”.  We do not know the specific location of Sodom and Gomorrah.  Many believe that it was at the southern tip of the Dead Sea.  Even today, there are great salt plains around this sea and animals or plants that are left in this area become encrusted with a thick layer of salt depos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lessons from the story of Abraham should we learn to apply to our lives today?  Perhaps the greatest lesson we should learn from the story of Abraham is that we should learn to trust God.  A detailed review of Abraham’s life reveals that Abraham sometimes made mistakes.  Even though he was a man of faith, out of fear of Pharoah he lied about his sister (Genesis 12:10-20).  We learn from this story that even good people sometimes fail in their fai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50920" y="692280"/>
            <a:ext cx="4556160" cy="341604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AC/JACOB/ESA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ac was the son of Abraham.  He had fraternal twin sons, Jacob and Esau.  It was the custom of the firstborn son to receive the greater inheritance but Esau was reckless and sold his birthright to Jacob for food  (Genesis 25:29-34).  Jacob later deceived his father Issac into thinking that he was Esau and received Jacob’s blessing  (Genesis 27).  If fear for his life, Jacob fled the land and got a wife named Rachel from a man named Laban.  Finally, Jacob returned to the land and was reunited with his brother.  Issac, Jacob and Esau were all herdsmen and developed great wealth in floc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How did Jacob deceive his father Issac into thinking that he was his brother Esau?  Issac was fair but Esau was rough and hairy.  When Issac was very old and was blind, Jacob’s mother Rebekah made him a covering of lambskin to simulate the hairy arms of Esau.  When Issac was near death and called for Esau to bless him, Issac instead showed up with wild game as food and deceived his father.  Issac couldn’t see well enough to distinguish the two brothers and when he felt the lambs wool he thought it was Esau’s hairy ar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oto of sheep would have been a familiar sight to the Issac, Jacob and Esa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shows our best estimate of the wanderings of Issac and Jaco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50920" y="692280"/>
            <a:ext cx="4556160" cy="3416040"/>
          </a:xfrm>
          <a:prstGeom prst="rect">
            <a:avLst/>
          </a:prstGeom>
          <a:ln w="0">
            <a:noFill/>
          </a:ln>
        </p:spPr>
      </p:sp>
      <p:sp>
        <p:nvSpPr>
          <p:cNvPr id="12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SEP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cob had twelve sons.  These sons were named:  Reuben, Simeon, Levi, Judah, Dan, Naphtali, Gad, Asher, Issachar, Zebulun, Joseph, Benjamin.  DISCUSSION QUESTION:  How were the names of these twelve men related to the twelve tribes of Israel and how were they not?  Ten of the names of the men are the same names of ten of the tribes of Israel.  Joshua, had two of the tribes named after his sons, Mannasah and  Ephraim.  Levi did was the tribe for the priests and although this tribe would later be given cities in the conquering of Canaan, they did not have a regional land to call their own.  Thus, Joseph and Levi did not have tribal regions named after the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is time, it was acceptable for men to have several wives at once.  Joseph was born to Jacob’s favorite wife, Rachel in Jacob’s old age and Joseph became Jacob’s favorite son.  Jacob gave Joseph a coat of many colors  (Genesis 37:3).  We don’t think too much of such clothes in modern times but in a time that all cloth and dyes were made laboriously by hand such a gift would have been worth a lot of money.  God gave Joseph a dream which prophesied that his brothers would serve him.  Joseph’s brothers were furious with jealousy and plotted to kill him.  His older brother, Reuben intervened and instead they threw him in a deep cistern where he was trapped.  Later, when a Ismaelite caravan happened by they saw an opportunity for money and sold him to the Ismaelites  (Midianites) as a slave (Genesis 37:27-2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Jacob deceived his brother Esau.  Later, how was Jacob deceived by his sons?  The brothers took Joseph’s precious coat and stained it with the blood of a goat and took it to his father, Jacob as evidence of the death of Joseph by some wild beast.  Jacob, who had deceived his brother Esau for the birthright was now being deceived by his 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seph was taken as a slave to Potiphar, in Egypt who was one of Pharaohs officials over the guard.  In this position, Joseph was recognized for his leadership abilities and directed the work of Potiphar’s other servants (Genesis 39:4-6).  Joseph was handsome and when he refused the advances of Potiphar’s wife she falsely accused him of attempted rape.  Potiphar had him thrown into prison where Joseph’s intelligence and skill again advanced him to head the prison’s workers  (Genesis 39:20-23).  Finally, Joseph met some of Pharaoh’s servants who had been thrown into prison.  Joseph correctly interpreted a prophetic vision of the servants.  One of the servants was released from prison to work again for Pharaoh.  When Pharaoh had a dream that his wise men couldn’t interpret, the servant remembered Joseph.  When Joseph interpreted Pharaoh’s dream as being a prophecy from God about a coming famine, Pharaoh had Joseph appointed to be in charge of the work of the kingdom including the preparations for the 7 year famine (Genesis 41:39-42).  Joseph’s family back in Canaan were affected by the famine and came to Egypt for food.  They didn’t recognize Joseph and bowed down to him as he had earlier prophesied.  Finally, Joseph had them along with his elderly father come to live with him in Egypt in the fertile land of Goshen (Genesis 45).  The Egyptians held herders in low esteem and gave them this fertile pasture land (Genesis 46:34).  Joseph had two sons, Manasseh and Ephraim.  Over the years the number of descendants of these twelve sons became extremely numerous until the point that the Egyptians became concerned that this group of people had too much potential power and made them their slaves (Exodus 1:6-1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How did Joseph’s experiences prepare him to be a leader in Egypt?   Joseph started as a hard working herdsman.  Later, he got experience in management as the director of Potiphar’s servants and then again in the Prison as he managed the work being done there.  Despite his difficulties, Joseph never quit having faith in God and made the best of his situations.  God’s gift of miraculous insight to Joseph put him in a position to become the second in command to Pharao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50920" y="692280"/>
            <a:ext cx="4556160" cy="341604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How did Joseph’s family end up living in Egypt?  Joseph was released from prison and put in the service of the Pharaoh as second in command of Egypt because he correctly interpreted the Pharaoh’s dream that a great famine was coming.  He predicted 7 years of good harvest followed by 7 years of famine.  Joseph recommended that Egypt make great stores of food to prepare for the famine.  This famine not only affected Egypt but also Israel.  Joseph’s father, Jacob, sent his sons to Egypt to get food during the famine.  At first Joseph did not reveal who he was to his brothers but finally revealed himself and Jacob and Joseph’s brothers were invited to come and live in Egypt.  The Hebrew people (Israelites) were the descendants of this grou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hoto of Joseph’s family journey into Egypt shows the fertile Nile delta as the Nile empties into the Mediterranean Sea.  During the famine, this became the home of the Israe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How was it that the Hebrew people became slaves in Egypt?  Years after moving to Egypt, the descendants of Joseph’s family became quite numerous.  The Egyptians had a distaste for sheepherders and the Hebrews and Egyptians generally did not intermarry.  A new Pharaoh who did not know Joseph became concerned that the Hebrew people might rebel against Egypt and put them into slavery.  It was into this setting that Moses was bor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lessons from the story of Joseph should we learn to apply to our lives today? We learn from the story of Joseph how that a faithful person can be ill treated.  We learn a great deal about patience from Joseph.  Joseph lived for years as a slave and in prison before God’s final will for his life was made known.  Joseph saw no immediate reward for resisting the advances of Potiphar’s wife.  He also saw no immediate reward for properly interpreting the dreams of Pharoah’s baker and butler.  Despite this fact, Joseph remained faithful and as a result not only he but ultimately his whole family was bless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50920" y="692280"/>
            <a:ext cx="4556160" cy="341604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lide shows the traditional route of  the Exodus.  Some say that this route went through the land of Midian that Moses had become familiar with when he fled to the land of Midian to avoid the prosecution for killing the Egyptian.  The more popular route to Canaan was the northern route along the Mediterranean.  That route had a variety of Egyptian military posts which would likely have resulted in many conflicts with the remaining Egyptian army units that had been detailed to these outpos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50920" y="692280"/>
            <a:ext cx="4556160" cy="341604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y did God send them manna and quail in their wanderings?  For preparation of this question, the teacher should read Exodus chapter 16.  The Israelites grumbled that there was nothing to eat in the desert and God provided food for them.  Manna was a sweet flaky material that appeared on the desert floor each morning except on the Sabbath.   They could pick this up and eat it.  On Friday they could pick up enough for two days, otherwise it would spoil.  God also sent quail for them to eat.  Quail was a small bird.  A trivia note is that the word “manna” literally means “What is it?” because when they saw it they said “What is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y do you think that God generally didn’t want them to gather manna for more than one day at a time?  It is interesting that except for Friday, the Israelites only received enough food for a day.  In the New Testament, the “Lord’s Prayer” says “Give us THIS DAY our daily bread.”  In the sermon on the mount in Matthew 6:34 , Jesus said “Therefore do not worry about tomorrow, for tomorrow will worry about itself. Each day has enough trouble of its own.”  What is the practical message from this?  We learn that we should not worry too much about things.  Again and again, God tells us to just take care of the 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UNT SINA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p shows the location of the range of mountains known as the Sinia mountain range.  Although we think that we know the general area, we don’t know the exact mountain that Moses went up on to receive the Ten Command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hoto of part of the Sinai mountains shows us the ruggedness of the terrain of this mountain region.  It is difficult to feel the scale of these mountains.  In the photo, a road with people walking on it is shown.  The road can be discerned but the people can barely be seen since they are so small compared to the mountain.  The other item to note is how some of the mountains simply jut straight out of the ground in shear bluffs.  This helps us understand the scripture on the following slide that tells people not to touch the foot of the mountain.  In some of the areas, the mountains rise so vertically out of the ground that it is clear where the mountain begins and what not to touch.  In many parts of the world, it is hard to say just where a mountain begins.  Many of the mountains in the sinai region are easily discerned and such a commandment makes more sense 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19:12   “12  Put limits for the people around the mountain and tell them, `Be careful that you do not go up the mountain or  touch the foot of it. Whoever touches the mountain shall surely be put to death.”  (NIV)</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50920" y="692280"/>
            <a:ext cx="4556160" cy="3416040"/>
          </a:xfrm>
          <a:prstGeom prst="rect">
            <a:avLst/>
          </a:prstGeom>
          <a:ln w="0">
            <a:noFill/>
          </a:ln>
        </p:spPr>
      </p:sp>
      <p:sp>
        <p:nvSpPr>
          <p:cNvPr id="124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icrosoft does not allow you to “minimize” a slide show during presentation mode, you can still switch between active slide shows or between this slide show and you Bible software simply by holding down the “alt” key and pressing the “tab” key simultaneous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50920" y="692280"/>
            <a:ext cx="4556160" cy="3416040"/>
          </a:xfrm>
          <a:prstGeom prst="rect">
            <a:avLst/>
          </a:prstGeom>
          <a:ln w="0">
            <a:noFill/>
          </a:ln>
        </p:spPr>
      </p:sp>
      <p:sp>
        <p:nvSpPr>
          <p:cNvPr id="12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t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ation was in greatest power prior to the establishment of the Israelites as a nation after the wanderings.  Nevertheless, some Hittites remained.  They were mentioned by Solomon and Elisha 1Kings 10:28+ , 11:1  2Kings 7:6.  In the last century atheists said they didn’t exist and Bible was false but now we have many archaeological proof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ist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famous Philistine fought Davi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generally remember the Philistines from the story of David and Goliath.  The Philistines were a seafaring people who lived on the coast at the southwestern tip of the land of Israel.  Their cities are mentioned several times in the Bible:  Ashdod, Ashkelon, Ekron, Gath and Gaza.  Later, although they never long controlled the land of Israel, the Romans chose a form of their name Palestine which is still in use today.  The Philistine idols included Baalzebub, Dagon and Astore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anites:  The Canaanites were the people who lived in the land of Canaan.  This was the land conquered by the Israelites.  The Canaanites were actually a mixture of different groups rather than a specific people.  Canaan was routinely used as the route between Eurasia and Egypt.  As a result, Canaan saw a great number of armies and traders.  Trade became such a part of Canaanite life that the word came to mean “merchant” in Hebrew.  The Canaanites greatest accomplishment was the development of the alphabet.  Canaanite idols included Baal, Astarte, Molech, Asherah and Dagon among others.  We often remember that God promised the land of Canaan to the Israelites but one of the reasons that God had the Israelites destroy the Canaanites was because of the evilness of the people.  “4  After the LORD your God has driven them out before you, do not say to yourself, "The LORD has brought me here to take possession of this land because of my righteousness." No, it is on account of the wickedness of these nations that the LORD is going to drive them out before you.  5  It is not because of your righteousness or your integrity that you are going in to take possession of their land; but on account of the wickedness of these nations, the LORD your God will drive them out before you, to accomplish what he swore to your fathers, to Abraham, Isaac and Jacob.  6  Understand, then, that it is not because of your righteousness that the LORD your God is giving you this good land to possess, for you are a stiff-necked people.”  Deut chapter 9.  Also the scripture says “9  When you enter the land the LORD your God is giving you, do not learn to imitate the detestable ways of the nations there.  10  Let no-one be found among you who sacrifices his son or daughter in the fire, who practices divination or sorcery, interprets omens, engages in witchcraft,  11  or casts spells, or who is a medium or spiritist or who consults the dead.  12  Anyone who does these things is detestable to the LORD, and because of these detestable practices the LORD your God will drive out those nations before you.  13  You must be blameless before the LORD your God.  14  The nations you will dispossess listen to those who practice sorcery or divination. But as for you, the LORD your God has not permitted you to do so.”  Thus we learn that there was great evil practiced in the land of the Canaanites that God did not want the Israelites to imitate.  According to “The Lion Encyclopedia of The Bible” even the Greeks and Romans were shocked at the things that the Canaanites did in the name of religion.  The stories of their idols are that they were bloodthirsty and brutal, delighting in battle with one another and in uncontrolled sexual relationships.  No wonder that God was angry wit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50920" y="692280"/>
            <a:ext cx="4556160" cy="3416040"/>
          </a:xfrm>
          <a:prstGeom prst="rect">
            <a:avLst/>
          </a:prstGeom>
          <a:ln w="0">
            <a:noFill/>
          </a:ln>
        </p:spPr>
      </p:sp>
      <p:sp>
        <p:nvSpPr>
          <p:cNvPr id="12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omon’s Israel was the period in which Israel was at its greatest.  Solomon’s Israel was so large that it can’t all be shown on this NASA pho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50920" y="692280"/>
            <a:ext cx="4556160" cy="341604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at was the Tabernacle?  The Tabernacle was a mobile worship facility for the wandering Hebrew people. The main structure was basically a very elaborate tent.  It could be dismantled and carried from place to place.  It housed a variety of holy pieces of furniture.  There was a linen wall around the facility separating the worship area from the rest of the Hebrew ca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ERNACLE SCHEMATIC:  Read Exodus chapters 35 - 40 to prepare for teaching about the Tabernacle.  Some summary information follows.   The Tabernacle outer wall surrounding the courtyard was about 150 by 75 feet or about 50 by 25 meters.  (An American football field is 300 by 75 feet).  The outer linen wall was held up by wooden posts with bronze bases and silver tops.  The linen was white except at the entrance door which was purple and blue and scarlet colors.  Just inside the door was the altar of burnt offering which was made of wood overlaid with bronze.  The alter was about 7.5 feet square (2.5 meters).  Next came the laver which was a large bronze basin used by the priests to wash before entering the tabernacle.  The Tabernacle tent itself was over a frame of acacia wood.  The wood was overlaid with gold which created two golden walled rooms within the tent.  The tent coverings were 4 layers thick of blue, purple, scarlet tapestry on the inside layer covered with goats hair cloth, followed by a waterproof covering of ram’s skins dyed red and finally an outer layer of fine waterproof leather.  The Tabernacle was divided into two rooms.  The first room was the Holy place in which was the Menorah, Altar of Incense and Table of Shewbread and the second room was the “Most Holy Place” or sometimes called the “Holy of Holies” in which was the Ark of the Covenant.  The High Priest was only allowed to enter this room once per year.  The two rooms were separated by a double curt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RAELITE CAMP AND TABERNACLE SCHEMATIC:  This slide shows how the Tabernacle occupied a position at the center of the camp with the 12 tribes of Israel arranged in specific locations around the Tabernacle.  There were three tribes camped at each point of the compass around the Tabernacle.  The Levites occupied a camp immediately surrounding the Tabernac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50920" y="692280"/>
            <a:ext cx="4556160" cy="3416040"/>
          </a:xfrm>
          <a:prstGeom prst="rect">
            <a:avLst/>
          </a:prstGeom>
          <a:ln w="0">
            <a:noFill/>
          </a:ln>
        </p:spPr>
      </p:sp>
      <p:sp>
        <p:nvSpPr>
          <p:cNvPr id="128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or was the altar of burnt offering which was made of wood overlaid with bronze.  The alter was about 7.5 feet square (2.5 meters).  Next came the laver which was a large bronze basin used by the priests to wash before entering the tabernacle.  The Tabernacle tent itself was over a frame of acacia wood.  The wood was overlaid with gold which created two golden walled rooms within the tent.  The tent coverings were 4 layers thick of blue, purple, scarlet tapestry on the inside layer covered with goats hair cloth, followed by a waterproof covering of ram’s skins dyed red and finally an outer layer of fine waterproof leather.  The Tabernacle was divided into two rooms.  The first room was the Holy place in which was the Menorah, Altar of Incense and Table of Shewbread and the second room was the “Most Holy Place” or sometimes called the “Holy of Holies” in which was the Ark of the Covenant.  The High Priest was only allowed to enter this room once per year.  The two rooms were separated by a double curt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50920" y="692280"/>
            <a:ext cx="4556160" cy="341604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reign his kingdom was divided into two par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yrian Emp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syria was based in what is now the northern part of Iraq.  The Assyrian empire became an important empire between 1500 and 1100 BC and lasted until conquered by Babylon in about 600 BC.  A few hundred years later the Assyrian empire came and overwhelmed the Israelite nation.  The Assyrians liked to take large numbers of the conquered people back to other parts of the empire and then replacing them with people from other countries.  That this happened in 2Kings 17:6, 24+ and 2Kings 18:31-32.  Tiglath-pileser III conquered Israel and oppressed Judah.  Judah was made to pay tribute.  When Judah rebelled the Sennacherib the king of Assyrian came in and conquered Judah but left Jerusalem alone.  The religion of Assyria was very similar to that of the Babylonian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50920" y="692280"/>
            <a:ext cx="4556160" cy="341604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 Emp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bylon was based in what is now the southern part of the country of Iraq.  Babylon was first an important power in about 1850 BC and then later in about 650 BC when they overcame the Assyrian empire.  Although the oldest known alphabet comes from the Canaanites, the oldest known writing comes from the Babylonia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prophet of God was taken captive by the Babylonians?  What happened to him in Babylo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ook of Daniel tells us “1:1  In the third year of the reign of Jehoiakim king of Judah, Nebuchadnezzar king of Babylon came to Jerusalem and besieged it.  2  And the Lord delivered Jehoiakim king of Judah into his hand, along with some of the articles from the temple of God. These he carried off to the temple of his god in Babylonia and put in the treasure-house of his god.  3  Then the king ordered Ashpenaz, chief of his court officials, to bring in some of the Israelites from the royal family and the nobility--  4  young men without any physical defect, handsome, showing aptitude for every kind of learning, well informed, quick to understand, and qualified to serve in the king's palace. He was to teach them the language and literature of the Babylonians.  5  The king assigned them a daily amount of food and wine from the king's table. They were to be trained for three years, and after that they were to enter the king's service.  6  Among these were some from Judah: Daniel, Hananiah, Mishael and Azariah . . .”  Thus the story of the capture of Judah by the Babylonians is related to the story of Dani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Nebuchadnezzar boasted of his greatness in Daniel 4 and God struck him down.  Later, Belshazzar became king.  Finally, The Persians conquered the Babylonian emp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bylonian religion was polytheistic.  They have a story of a great flood and a family that escaped with animals in a great boat that closely follows the flood story in the B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50920" y="692280"/>
            <a:ext cx="4556160" cy="341604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an Emp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ersian empire first became prominent about 550 BC when King Cyrus conquered the Babylonian empire.  Daniel was in exile in Babylon when the Persians conquered that city.  Cyrus allowed many Jews to return to their homeland.  Esther became queen to king Xerxes I.  The Jews were allowed to take back many temple treasures and rebuild the temple as described in the stories of Exra and Nehemiah.  The Persians controlled lands from Egypt to as far as India and as far north as modern day Turkey.  They held their empire for about 200 years.  In 333 BC, Alexander the great defeated them.  Persian religion was based on the life of a herdsm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50920" y="692280"/>
            <a:ext cx="4556160" cy="341604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ajor areas of the earth covered by the Bible tex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50920" y="692280"/>
            <a:ext cx="4556160" cy="341604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exander the Great is not mentioned in the Bible.  The effects of his empire made great impact on the New Testament.  Greek became the language of business and ultimately the language that the New Testament was written i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50920" y="692280"/>
            <a:ext cx="4556160" cy="341604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man empire was in control of much of the world during the time of Christ.  The empire helped in the spread of Christianity by providing a highway system and relatively safet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50920" y="692280"/>
            <a:ext cx="4556160" cy="341604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ew the N.T. map of Israel.  Note that the land is no longer divided by tribes.  The people, however kept detailed records of their lineage and could easily describe from what tribe they had descended.  This was particularly important in regards to determining who could serve as priest.  Only descendants of the tribe of Levi were allowed to serve as pries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50920" y="692280"/>
            <a:ext cx="4556160" cy="3416040"/>
          </a:xfrm>
          <a:prstGeom prst="rect">
            <a:avLst/>
          </a:prstGeom>
          <a:ln w="0">
            <a:noFill/>
          </a:ln>
        </p:spPr>
      </p:sp>
      <p:sp>
        <p:nvSpPr>
          <p:cNvPr id="13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HOOD OF JES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places did Jesus live as a child?  Jesus was born in Bethlehem as prophesied in Micah 5:2.  We note that the book of Mormon incorrectly states that Jesus was born in Jerusalem (Alma 7:10).  The Bible not only predicts that Jesus would be born in Bethlehem but since there were two towns in the Bible named Bethlehem, the prophet Micah specified which one (Bethlehem Ephrathah).  The baby Jesus was taken to Jerusalem when he was 8 days old (Luke 2:21-40).  They then returned to their home in Nazareth (Luke 2:39).  Later, the baby Jesus was taken to Egypt to save Him from Herod (Matthew 2:13-18).  After the death of Herod, Jesus is brought back to Nazareth of Galilee and thus was called a Jesus of Nazareth or simply a Nazarene (Matthew 2:19-23).  Nazareth was not an esteemed place (John 1:46).  Later, at the age of 12 Jesus is taken to the Temple in Jerusalem (Luke 2:41-52).  One of reasons that the Jewish religious leaders refused to accept Jesus as the Messiah was because they said that the prophecies did not describe the Messiah as coming out of Galilee (John 7:52).Although Jesus was raised in Galilee, he was born in Bethlehem as prophesied.  This they had missed.  Jesus also came out of Egypt as prophesied in Hosea 11:1.  Thus, Jesus fulfilled a variety of prophecies as a child.  These were prophecies that were fulfilled before he was old enough to have any physical control over.  This is an important point in evidences that Jesus is the messia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known travels of Jesus as a child included, Bethlehem, Jerusalem, Egypt and Nazare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50920" y="692280"/>
            <a:ext cx="4556160" cy="341604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first missionary journey of Paul as described in Acts chapters 13 and 1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50920" y="692280"/>
            <a:ext cx="4556160" cy="341604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Paul’s 2nd missionary journey as described in Acts chapter 15:36 - 18:22.  The cities of Phillipi, Ephesus, Corinth and Thessonolica were later sent letters by Pau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s third missionary journey was written of in Acts chapter 18:23 - 21:26.  In this journey he revisited many of the cities that he had previously gone to.</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50920" y="692280"/>
            <a:ext cx="4556160" cy="3416040"/>
          </a:xfrm>
          <a:prstGeom prst="rect">
            <a:avLst/>
          </a:prstGeom>
          <a:ln w="0">
            <a:noFill/>
          </a:ln>
        </p:spPr>
      </p:sp>
      <p:sp>
        <p:nvSpPr>
          <p:cNvPr id="13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s journey to Rome was described in Acts chapter 27 and 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50920" y="692280"/>
            <a:ext cx="4556160" cy="3416040"/>
          </a:xfrm>
          <a:prstGeom prst="rect">
            <a:avLst/>
          </a:prstGeom>
          <a:ln w="0">
            <a:noFill/>
          </a:ln>
        </p:spPr>
      </p:sp>
      <p:sp>
        <p:nvSpPr>
          <p:cNvPr id="13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s journeys to Corinth and Athens were described in Acts 17 and 18.  We have two letters that Paul sent to Corinth in the letters of 1st &amp; Second Corinth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50920" y="692280"/>
            <a:ext cx="4556160" cy="3416040"/>
          </a:xfrm>
          <a:prstGeom prst="rect">
            <a:avLst/>
          </a:prstGeom>
          <a:ln w="0">
            <a:noFill/>
          </a:ln>
        </p:spPr>
      </p:sp>
      <p:sp>
        <p:nvSpPr>
          <p:cNvPr id="12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an overview of the major lands mentioned in the Bibl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churches of Asia were written to in the book of Revelation in Revelation chapters 2 and 3.</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50920" y="692280"/>
            <a:ext cx="4556160" cy="341604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other maps have information shown in the bottom of this window.</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50920" y="692280"/>
            <a:ext cx="4556160" cy="341604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World of the Bible” series has over 450 slides and covers Bible lands, people, time, measurements and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Bible people used measurements that could be easily reproduced.  The cubit was simply the measurement from your elbow to the end of your fingers.  Cubits are known to have varied from 16 to 19 inches.  In the case of dispute, the king’s arm was used to determine  the standard cu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the cubit, spans, handbreadth and fingers were also easily determined.  Even today, some people still use these measurements such as in measuring horse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50920" y="692280"/>
            <a:ext cx="4556160" cy="3416040"/>
          </a:xfrm>
          <a:prstGeom prst="rect">
            <a:avLst/>
          </a:prstGeom>
          <a:ln w="0">
            <a:noFill/>
          </a:ln>
        </p:spPr>
      </p:sp>
      <p:sp>
        <p:nvSpPr>
          <p:cNvPr id="13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eb site has over 40 interactive web pages of things useful to Sunday School teachers.  It focuses primarily on adult curriculum.</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50920" y="692280"/>
            <a:ext cx="4556160" cy="3416040"/>
          </a:xfrm>
          <a:prstGeom prst="rect">
            <a:avLst/>
          </a:prstGeom>
          <a:ln w="0">
            <a:noFill/>
          </a:ln>
        </p:spPr>
      </p:sp>
      <p:sp>
        <p:nvSpPr>
          <p:cNvPr id="13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the web page to learn more about the author.</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50920" y="692280"/>
            <a:ext cx="4556160" cy="3416040"/>
          </a:xfrm>
          <a:prstGeom prst="rect">
            <a:avLst/>
          </a:prstGeom>
          <a:ln w="0">
            <a:noFill/>
          </a:ln>
        </p:spPr>
      </p:sp>
      <p:sp>
        <p:nvSpPr>
          <p:cNvPr id="13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ge gives copyright and other business and legal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50920" y="692280"/>
            <a:ext cx="4556160" cy="3416040"/>
          </a:xfrm>
          <a:prstGeom prst="rect">
            <a:avLst/>
          </a:prstGeom>
          <a:ln w="0">
            <a:noFill/>
          </a:ln>
        </p:spPr>
      </p:sp>
      <p:sp>
        <p:nvSpPr>
          <p:cNvPr id="125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DEN OF ED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at was the Garden of Ed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en of Eden is described in the Bible as a wonderful and beautiful place and the original home of man.  The book of Genesis says in chapter 2  beginning with verse 8:  “8  Now the LORD God had planted a garden in the east, in Eden; and there he put the man he had formed.  9  And the LORD God made all kinds of trees grow out of the ground--trees that were pleasing to the eye and good for food. In the middle of the garden were the tree of life and the tree of the knowledge of good and evi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at modern country is the site of what was once the Garden of Eden?  According to the Bible, the Garden of Eden was near several riv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sis 2:10  “A river watering the garden flowed from Eden; from there it was separated into four headwaters.  11  The name of the first is the Pishon;  .  .  . 13  The name of the second river is the Gihon; .  .  .  14  The name of the third river is the  Tigris ; .  .  .And the fourth river is the Euphrates.  15  The LORD God took the man and put him in the Garden of Eden to work it and take care of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aq/Ir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we do not know the exact location of the Garden of Eden we do know that the Tigris and Euphrates rivers are found in the countries of Iraq &amp; Iran and thus near the Garden of Eden.  Tradition has located Eden south of the ancient city of Ur in Iraq.  Some people believe that the names have changed and that the Garden of Eden was really located in the land of Egypt between the Blue and White Nile riv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50920" y="692280"/>
            <a:ext cx="4556160" cy="3416040"/>
          </a:xfrm>
          <a:prstGeom prst="rect">
            <a:avLst/>
          </a:prstGeom>
          <a:ln w="0">
            <a:noFill/>
          </a:ln>
        </p:spPr>
      </p:sp>
      <p:sp>
        <p:nvSpPr>
          <p:cNvPr id="12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H’S A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at was Noah’s Ark?  (Teachers should try to get their students to tell these basic Bible stories.  Teachers should reread these stories in the Bible themselves prior to coming to class.  For Noah’s ark, read Genesis chapters 7 and 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became displeased with the increasing wickedness of man and determined to destroy mankind with a great flood.  According to Genesis chapter 7 and 8, only Noah and his family were saved from the flood by entering a great 450 foot long boat called an “ark” that God had them construct.  The book of Genesis tells us that God sent great rains on the earth for 40 days and 40 nights and that the springs of the earth opened up to cover the whole land with a flood of water.  This ark floated on the water for some 150 days before coming back to rest upon the 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Where did the Ark come to rest?  Genesis 8:4 says “and on the seventeenth day of the seventh month the ark came to rest on the mountains of  Arar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50920" y="692280"/>
            <a:ext cx="4556160" cy="3416040"/>
          </a:xfrm>
          <a:prstGeom prst="rect">
            <a:avLst/>
          </a:prstGeom>
          <a:ln w="0">
            <a:noFill/>
          </a:ln>
        </p:spPr>
      </p:sp>
      <p:sp>
        <p:nvSpPr>
          <p:cNvPr id="12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shows a satellite view of snow covered Mt. Ararat and Little Ararat.  These mountains are inactive volcanoes located in eastern Turkey.  Mt. Ararat rises over 3 miles above sea level.   This mountain is the traditional resting place of the Ark.  You can see the lava flow fields to the south part of the mountain peak.  Below the lava field you can see green fiel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fontScale="88000"/>
          </a:bodyPr>
          <a:p>
            <a:pPr marL="301680" indent="-301680">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outline text format</a:t>
            </a:r>
            <a:endParaRPr b="1" lang="en-US" sz="3600" spc="-1" strike="noStrike">
              <a:solidFill>
                <a:srgbClr val="ffffff"/>
              </a:solidFill>
              <a:latin typeface="Times New Roman"/>
            </a:endParaRPr>
          </a:p>
          <a:p>
            <a:pPr lvl="1" marL="653760" indent="-251280">
              <a:spcBef>
                <a:spcPts val="9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 Outline Level</a:t>
            </a:r>
            <a:endParaRPr b="1" lang="en-US" sz="3600" spc="-1" strike="noStrike">
              <a:solidFill>
                <a:srgbClr val="ffffff"/>
              </a:solidFill>
              <a:latin typeface="Times New Roman"/>
            </a:endParaRPr>
          </a:p>
          <a:p>
            <a:pPr lvl="2" marL="1005840" indent="-200880">
              <a:spcBef>
                <a:spcPts val="901"/>
              </a:spcBef>
              <a:buClr>
                <a:srgbClr val="c0fef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rd Outline Level</a:t>
            </a:r>
            <a:endParaRPr b="1" lang="en-US" sz="3600" spc="-1" strike="noStrike">
              <a:solidFill>
                <a:srgbClr val="ffffff"/>
              </a:solidFill>
              <a:latin typeface="Times New Roman"/>
            </a:endParaRPr>
          </a:p>
          <a:p>
            <a:pPr lvl="3" marL="140796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181044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181044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181044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Times New Roman"/>
              </a:rPr>
              <a:t>Click to edit the title text format</a:t>
            </a:r>
            <a:endParaRPr b="1" lang="en-US" sz="5400" spc="-1" strike="noStrike" u="sng">
              <a:solidFill>
                <a:srgbClr val="c0fef9"/>
              </a:solidFill>
              <a:uFillTx/>
              <a:latin typeface="Times New Roman"/>
            </a:endParaRPr>
          </a:p>
        </p:txBody>
      </p:sp>
      <p:grpSp>
        <p:nvGrpSpPr>
          <p:cNvPr id="2" name=""/>
          <p:cNvGrpSpPr/>
          <p:nvPr/>
        </p:nvGrpSpPr>
        <p:grpSpPr>
          <a:xfrm>
            <a:off x="0" y="0"/>
            <a:ext cx="1085760" cy="6845400"/>
            <a:chOff x="0" y="0"/>
            <a:chExt cx="1085760" cy="6845400"/>
          </a:xfrm>
        </p:grpSpPr>
        <p:sp>
          <p:nvSpPr>
            <p:cNvPr id="3" name=""/>
            <p:cNvSpPr/>
            <p:nvPr/>
          </p:nvSpPr>
          <p:spPr>
            <a:xfrm>
              <a:off x="0" y="0"/>
              <a:ext cx="1085760" cy="6845400"/>
            </a:xfrm>
            <a:prstGeom prst="rect">
              <a:avLst/>
            </a:prstGeom>
            <a:gradFill rotWithShape="0">
              <a:gsLst>
                <a:gs pos="0">
                  <a:srgbClr val="114ffb"/>
                </a:gs>
                <a:gs pos="50000">
                  <a:srgbClr val="030f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
            <p:cNvGrpSpPr/>
            <p:nvPr/>
          </p:nvGrpSpPr>
          <p:grpSpPr>
            <a:xfrm>
              <a:off x="76320" y="162000"/>
              <a:ext cx="152280" cy="6543720"/>
              <a:chOff x="76320" y="162000"/>
              <a:chExt cx="152280" cy="6543720"/>
            </a:xfrm>
          </p:grpSpPr>
          <p:sp>
            <p:nvSpPr>
              <p:cNvPr id="5" name=""/>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bibleteacher.com/" TargetMode="External"/><Relationship Id="rId3" Type="http://schemas.openxmlformats.org/officeDocument/2006/relationships/hyperlink" Target="http://www.ebibleteacher.com/" TargetMode="External"/><Relationship Id="rId4" Type="http://schemas.openxmlformats.org/officeDocument/2006/relationships/hyperlink" Target="http://www.ebibleteacher.com/" TargetMode="External"/><Relationship Id="rId5" Type="http://schemas.openxmlformats.org/officeDocument/2006/relationships/hyperlink" Target="http://www.ebibleteacher.com/" TargetMode="External"/><Relationship Id="rId6" Type="http://schemas.openxmlformats.org/officeDocument/2006/relationships/hyperlink" Target="http://www.ebibleteacher.com/" TargetMode="External"/><Relationship Id="rId7" Type="http://schemas.openxmlformats.org/officeDocument/2006/relationships/hyperlink" Target="http://www.ebibleteacher.com/" TargetMode="External"/><Relationship Id="rId8" Type="http://schemas.openxmlformats.org/officeDocument/2006/relationships/hyperlink" Target="http://www.ebibleteacher.com/" TargetMode="External"/><Relationship Id="rId9" Type="http://schemas.openxmlformats.org/officeDocument/2006/relationships/hyperlink" Target="mailto:ttaylor@ebibleteacher.com" TargetMode="External"/><Relationship Id="rId10" Type="http://schemas.openxmlformats.org/officeDocument/2006/relationships/hyperlink" Target="mailto:ttaylor@ebibleteacher.com" TargetMode="External"/><Relationship Id="rId11" Type="http://schemas.openxmlformats.org/officeDocument/2006/relationships/hyperlink" Target="mailto:ttaylor@ebibleteacher.com" TargetMode="External"/><Relationship Id="rId12" Type="http://schemas.openxmlformats.org/officeDocument/2006/relationships/hyperlink" Target="mailto:ttaylor@ebibleteacher.com" TargetMode="External"/><Relationship Id="rId13" Type="http://schemas.openxmlformats.org/officeDocument/2006/relationships/hyperlink" Target="mailto:ttaylor@ebibleteacher.com" TargetMode="External"/><Relationship Id="rId14" Type="http://schemas.openxmlformats.org/officeDocument/2006/relationships/slide" Target="slide27.xml"/><Relationship Id="rId15" Type="http://schemas.openxmlformats.org/officeDocument/2006/relationships/slide" Target="slide27.xml"/><Relationship Id="rId16" Type="http://schemas.openxmlformats.org/officeDocument/2006/relationships/slide" Target="slide28.xml"/><Relationship Id="rId17" Type="http://schemas.openxmlformats.org/officeDocument/2006/relationships/slide" Target="slide29.xml"/><Relationship Id="rId18" Type="http://schemas.openxmlformats.org/officeDocument/2006/relationships/slide" Target="slide30.xml"/><Relationship Id="rId19" Type="http://schemas.openxmlformats.org/officeDocument/2006/relationships/slide" Target="slide31.xml"/><Relationship Id="rId20" Type="http://schemas.openxmlformats.org/officeDocument/2006/relationships/slide" Target="slide32.xml"/><Relationship Id="rId21" Type="http://schemas.openxmlformats.org/officeDocument/2006/relationships/slide" Target="slide33.xml"/><Relationship Id="rId22" Type="http://schemas.openxmlformats.org/officeDocument/2006/relationships/slide" Target="slide34.xml"/><Relationship Id="rId23" Type="http://schemas.openxmlformats.org/officeDocument/2006/relationships/slide" Target="slide35.xml"/><Relationship Id="rId24" Type="http://schemas.openxmlformats.org/officeDocument/2006/relationships/slide" Target="slide35.xml"/><Relationship Id="rId25" Type="http://schemas.openxmlformats.org/officeDocument/2006/relationships/slide" Target="slide35.xml"/><Relationship Id="rId26" Type="http://schemas.openxmlformats.org/officeDocument/2006/relationships/slide" Target="slide36.xml"/><Relationship Id="rId27" Type="http://schemas.openxmlformats.org/officeDocument/2006/relationships/slide" Target="slide36.xml"/><Relationship Id="rId28" Type="http://schemas.openxmlformats.org/officeDocument/2006/relationships/slide" Target="slide36.xml"/><Relationship Id="rId29" Type="http://schemas.openxmlformats.org/officeDocument/2006/relationships/slide" Target="slide38.xml"/><Relationship Id="rId30" Type="http://schemas.openxmlformats.org/officeDocument/2006/relationships/slide" Target="slide39.xml"/><Relationship Id="rId31" Type="http://schemas.openxmlformats.org/officeDocument/2006/relationships/slide" Target="slide39.xml"/><Relationship Id="rId32" Type="http://schemas.openxmlformats.org/officeDocument/2006/relationships/slide" Target="slide40.xml"/><Relationship Id="rId33" Type="http://schemas.openxmlformats.org/officeDocument/2006/relationships/slide" Target="slide41.xml"/><Relationship Id="rId34" Type="http://schemas.openxmlformats.org/officeDocument/2006/relationships/slide" Target="slide43.xml"/><Relationship Id="rId35" Type="http://schemas.openxmlformats.org/officeDocument/2006/relationships/slide" Target="slide42.xml"/><Relationship Id="rId36" Type="http://schemas.openxmlformats.org/officeDocument/2006/relationships/slide" Target="slide44.xml"/><Relationship Id="rId37" Type="http://schemas.openxmlformats.org/officeDocument/2006/relationships/slide" Target="slide49.xml"/><Relationship Id="rId38" Type="http://schemas.openxmlformats.org/officeDocument/2006/relationships/slide" Target="slide48.xml"/><Relationship Id="rId39" Type="http://schemas.openxmlformats.org/officeDocument/2006/relationships/slide" Target="slide3.xml"/><Relationship Id="rId40" Type="http://schemas.openxmlformats.org/officeDocument/2006/relationships/slide" Target="slide4.xml"/><Relationship Id="rId41" Type="http://schemas.openxmlformats.org/officeDocument/2006/relationships/slide" Target="slide5.xml"/><Relationship Id="rId42" Type="http://schemas.openxmlformats.org/officeDocument/2006/relationships/slide" Target="slide6.xml"/><Relationship Id="rId43" Type="http://schemas.openxmlformats.org/officeDocument/2006/relationships/slide" Target="slide7.xml"/><Relationship Id="rId44" Type="http://schemas.openxmlformats.org/officeDocument/2006/relationships/slide" Target="slide8.xml"/><Relationship Id="rId45" Type="http://schemas.openxmlformats.org/officeDocument/2006/relationships/slide" Target="slide9.xml"/><Relationship Id="rId46" Type="http://schemas.openxmlformats.org/officeDocument/2006/relationships/slide" Target="slide9.xml"/><Relationship Id="rId47" Type="http://schemas.openxmlformats.org/officeDocument/2006/relationships/slide" Target="slide10.xml"/><Relationship Id="rId48" Type="http://schemas.openxmlformats.org/officeDocument/2006/relationships/slide" Target="slide11.xml"/><Relationship Id="rId49" Type="http://schemas.openxmlformats.org/officeDocument/2006/relationships/slide" Target="slide12.xml"/><Relationship Id="rId50" Type="http://schemas.openxmlformats.org/officeDocument/2006/relationships/slide" Target="slide13.xml"/><Relationship Id="rId51" Type="http://schemas.openxmlformats.org/officeDocument/2006/relationships/slide" Target="slide14.xml"/><Relationship Id="rId52" Type="http://schemas.openxmlformats.org/officeDocument/2006/relationships/slide" Target="slide15.xml"/><Relationship Id="rId53" Type="http://schemas.openxmlformats.org/officeDocument/2006/relationships/slide" Target="slide16.xml"/><Relationship Id="rId54" Type="http://schemas.openxmlformats.org/officeDocument/2006/relationships/slide" Target="slide17.xml"/><Relationship Id="rId55" Type="http://schemas.openxmlformats.org/officeDocument/2006/relationships/slide" Target="slide18.xml"/><Relationship Id="rId56" Type="http://schemas.openxmlformats.org/officeDocument/2006/relationships/slide" Target="slide19.xml"/><Relationship Id="rId57" Type="http://schemas.openxmlformats.org/officeDocument/2006/relationships/slide" Target="slide20.xml"/><Relationship Id="rId58" Type="http://schemas.openxmlformats.org/officeDocument/2006/relationships/slide" Target="slide21.xml"/><Relationship Id="rId59" Type="http://schemas.openxmlformats.org/officeDocument/2006/relationships/slide" Target="slide22.xml"/><Relationship Id="rId60" Type="http://schemas.openxmlformats.org/officeDocument/2006/relationships/slide" Target="slide23.xml"/><Relationship Id="rId61" Type="http://schemas.openxmlformats.org/officeDocument/2006/relationships/slide" Target="slide24.xml"/><Relationship Id="rId62" Type="http://schemas.openxmlformats.org/officeDocument/2006/relationships/slide" Target="slide26.xml"/><Relationship Id="rId63" Type="http://schemas.openxmlformats.org/officeDocument/2006/relationships/image" Target="../media/image2.png"/><Relationship Id="rId64" Type="http://schemas.openxmlformats.org/officeDocument/2006/relationships/slideLayout" Target="../slideLayouts/slideLayout5.xml"/><Relationship Id="rId6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1.xm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 Target="slide1.xml"/><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ebibleteacher.com/images.html" TargetMode="External"/><Relationship Id="rId2" Type="http://schemas.openxmlformats.org/officeDocument/2006/relationships/hyperlink" Target="http://www.ebibleteacher.com/bigscreen.html" TargetMode="External"/><Relationship Id="rId3" Type="http://schemas.openxmlformats.org/officeDocument/2006/relationships/hyperlink" Target="http://www.ebibleteacher.com/review.html" TargetMode="External"/><Relationship Id="rId4" Type="http://schemas.openxmlformats.org/officeDocument/2006/relationships/hyperlink" Target="http://www.ebibleteacher.com/sunday.html" TargetMode="External"/><Relationship Id="rId5" Type="http://schemas.openxmlformats.org/officeDocument/2006/relationships/hyperlink" Target="http://www.ebibleteacher.com/sunday.html" TargetMode="External"/><Relationship Id="rId6" Type="http://schemas.openxmlformats.org/officeDocument/2006/relationships/hyperlink" Target="http://www.ebibleteacher.com/sunday.html" TargetMode="External"/><Relationship Id="rId7" Type="http://schemas.openxmlformats.org/officeDocument/2006/relationships/hyperlink" Target="http://www.ebibleteacher.com/sunday.html" TargetMode="External"/><Relationship Id="rId8" Type="http://schemas.openxmlformats.org/officeDocument/2006/relationships/hyperlink" Target="http://www.ebibleteacher.com/" TargetMode="External"/><Relationship Id="rId9" Type="http://schemas.openxmlformats.org/officeDocument/2006/relationships/hyperlink" Target="http://www.ebibleteacher.com/" TargetMode="External"/><Relationship Id="rId10" Type="http://schemas.openxmlformats.org/officeDocument/2006/relationships/hyperlink" Target="http://www.ebibleteacher.com/" TargetMode="External"/><Relationship Id="rId11" Type="http://schemas.openxmlformats.org/officeDocument/2006/relationships/hyperlink" Target="mailto:ttaylor@ebibleteacher.com" TargetMode="External"/><Relationship Id="rId12" Type="http://schemas.openxmlformats.org/officeDocument/2006/relationships/hyperlink" Target="mailto:ttaylor@ebibleteacher.com" TargetMode="External"/><Relationship Id="rId13" Type="http://schemas.openxmlformats.org/officeDocument/2006/relationships/hyperlink" Target="mailto:ttaylor@ebibleteacher.com" TargetMode="External"/><Relationship Id="rId14" Type="http://schemas.openxmlformats.org/officeDocument/2006/relationships/hyperlink" Target="mailto:ttaylor@ebibleteacher.com" TargetMode="External"/><Relationship Id="rId15" Type="http://schemas.openxmlformats.org/officeDocument/2006/relationships/hyperlink" Target="mailto:ttaylor@ebibleteacher.com" TargetMode="External"/><Relationship Id="rId16" Type="http://schemas.openxmlformats.org/officeDocument/2006/relationships/slide" Target="slide1.xml"/><Relationship Id="rId17" Type="http://schemas.openxmlformats.org/officeDocument/2006/relationships/slideLayout" Target="../slideLayouts/slideLayout3.xml"/><Relationship Id="rId1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mailto:ttaylor@ebibleteacher.com" TargetMode="External"/><Relationship Id="rId2" Type="http://schemas.openxmlformats.org/officeDocument/2006/relationships/hyperlink" Target="mailto:ttaylor@ebibleteacher.com" TargetMode="External"/><Relationship Id="rId3" Type="http://schemas.openxmlformats.org/officeDocument/2006/relationships/hyperlink" Target="mailto:ttaylor@ebibleteacher.com" TargetMode="External"/><Relationship Id="rId4" Type="http://schemas.openxmlformats.org/officeDocument/2006/relationships/hyperlink" Target="mailto:ttaylor@ebibleteacher.com" TargetMode="External"/><Relationship Id="rId5" Type="http://schemas.openxmlformats.org/officeDocument/2006/relationships/hyperlink" Target="mailto:ttaylor@ebibleteacher.com" TargetMode="External"/><Relationship Id="rId6" Type="http://schemas.openxmlformats.org/officeDocument/2006/relationships/slide" Target="slide1.xml"/><Relationship Id="rId7" Type="http://schemas.openxmlformats.org/officeDocument/2006/relationships/slideLayout" Target="../slideLayouts/slideLayout3.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ttaylor@ebibleteacher.com" TargetMode="External"/><Relationship Id="rId2" Type="http://schemas.openxmlformats.org/officeDocument/2006/relationships/hyperlink" Target="mailto:ttaylor@ebibleteacher.com" TargetMode="External"/><Relationship Id="rId3" Type="http://schemas.openxmlformats.org/officeDocument/2006/relationships/hyperlink" Target="mailto:ttaylor@ebibleteacher.com" TargetMode="External"/><Relationship Id="rId4" Type="http://schemas.openxmlformats.org/officeDocument/2006/relationships/hyperlink" Target="mailto:ttaylor@ebibleteacher.com" TargetMode="External"/><Relationship Id="rId5" Type="http://schemas.openxmlformats.org/officeDocument/2006/relationships/hyperlink" Target="mailto:ttaylor@ebibleteacher.com" TargetMode="External"/><Relationship Id="rId6" Type="http://schemas.openxmlformats.org/officeDocument/2006/relationships/hyperlink" Target="mailto:ttaylor@ebibleteacher.com" TargetMode="External"/><Relationship Id="rId7" Type="http://schemas.openxmlformats.org/officeDocument/2006/relationships/hyperlink" Target="mailto:ttaylor@ebibleteacher.com" TargetMode="External"/><Relationship Id="rId8" Type="http://schemas.openxmlformats.org/officeDocument/2006/relationships/hyperlink" Target="mailto:ttaylor@ebibleteacher.com" TargetMode="External"/><Relationship Id="rId9" Type="http://schemas.openxmlformats.org/officeDocument/2006/relationships/hyperlink" Target="mailto:ttaylor@ebibleteacher.com" TargetMode="External"/><Relationship Id="rId10" Type="http://schemas.openxmlformats.org/officeDocument/2006/relationships/hyperlink" Target="mailto:ttaylor@ebibleteacher.com" TargetMode="External"/><Relationship Id="rId11" Type="http://schemas.openxmlformats.org/officeDocument/2006/relationships/hyperlink" Target="http://www.ebibleteacher.com/" TargetMode="External"/><Relationship Id="rId12" Type="http://schemas.openxmlformats.org/officeDocument/2006/relationships/hyperlink" Target="http://www.ebibleteacher.com/" TargetMode="External"/><Relationship Id="rId13" Type="http://schemas.openxmlformats.org/officeDocument/2006/relationships/hyperlink" Target="http://www.ebibleteacher.com/" TargetMode="External"/><Relationship Id="rId14" Type="http://schemas.openxmlformats.org/officeDocument/2006/relationships/slide" Target="slide1.xml"/><Relationship Id="rId15" Type="http://schemas.openxmlformats.org/officeDocument/2006/relationships/slideLayout" Target="../slideLayouts/slideLayout1.xml"/><Relationship Id="rId16"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289160" y="247680"/>
            <a:ext cx="1028520" cy="247680"/>
          </a:xfrm>
          <a:prstGeom prst="rect">
            <a:avLst/>
          </a:prstGeom>
          <a:solidFill>
            <a:srgbClr val="0000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4" name=""/>
          <p:cNvSpPr/>
          <p:nvPr/>
        </p:nvSpPr>
        <p:spPr>
          <a:xfrm>
            <a:off x="393840" y="2425680"/>
            <a:ext cx="2571480" cy="247680"/>
          </a:xfrm>
          <a:prstGeom prst="rect">
            <a:avLst/>
          </a:prstGeom>
          <a:solidFill>
            <a:srgbClr val="0000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 name=""/>
          <p:cNvSpPr/>
          <p:nvPr/>
        </p:nvSpPr>
        <p:spPr>
          <a:xfrm>
            <a:off x="3352680" y="0"/>
            <a:ext cx="5791320" cy="6858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1165320" y="4371840"/>
            <a:ext cx="1024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Version 2.2</a:t>
            </a:r>
            <a:endParaRPr b="0" lang="en-US" sz="1600" spc="-1" strike="noStrike">
              <a:solidFill>
                <a:srgbClr val="ffffff"/>
              </a:solidFill>
              <a:latin typeface="Times New Roman"/>
            </a:endParaRPr>
          </a:p>
        </p:txBody>
      </p:sp>
      <p:sp>
        <p:nvSpPr>
          <p:cNvPr id="77" name=""/>
          <p:cNvSpPr/>
          <p:nvPr/>
        </p:nvSpPr>
        <p:spPr>
          <a:xfrm>
            <a:off x="0" y="2505240"/>
            <a:ext cx="36576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Arial"/>
              </a:rPr>
              <a:t>Bible Class Atlas</a:t>
            </a:r>
            <a:endParaRPr b="0" lang="en-US" sz="3200" spc="-1" strike="noStrike">
              <a:solidFill>
                <a:srgbClr val="ffffff"/>
              </a:solidFill>
              <a:latin typeface="Times New Roman"/>
            </a:endParaRPr>
          </a:p>
        </p:txBody>
      </p:sp>
      <p:sp>
        <p:nvSpPr>
          <p:cNvPr id="78" name=""/>
          <p:cNvSpPr/>
          <p:nvPr/>
        </p:nvSpPr>
        <p:spPr>
          <a:xfrm>
            <a:off x="0" y="3228840"/>
            <a:ext cx="3238560" cy="12384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nday School Maps for</a:t>
            </a:r>
            <a:endParaRPr b="0" lang="en-US" sz="2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Video Projectors </a:t>
            </a:r>
            <a:endParaRPr b="0" lang="en-US" sz="2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mp; Color Printing</a:t>
            </a:r>
            <a:endParaRPr b="0" lang="en-US" sz="2400" spc="-1" strike="noStrike">
              <a:solidFill>
                <a:srgbClr val="ffffff"/>
              </a:solidFill>
              <a:latin typeface="Times New Roman"/>
            </a:endParaRPr>
          </a:p>
        </p:txBody>
      </p:sp>
      <p:sp>
        <p:nvSpPr>
          <p:cNvPr id="79" name=""/>
          <p:cNvSpPr/>
          <p:nvPr/>
        </p:nvSpPr>
        <p:spPr>
          <a:xfrm>
            <a:off x="0" y="4721400"/>
            <a:ext cx="3425760" cy="2140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afd00"/>
                </a:solidFill>
                <a:latin typeface="Arial Narrow"/>
              </a:rPr>
              <a:t>This is </a:t>
            </a:r>
            <a:r>
              <a:rPr b="1" lang="en-US" sz="1600" spc="-1" strike="noStrike">
                <a:solidFill>
                  <a:srgbClr val="fafd00"/>
                </a:solidFill>
                <a:latin typeface="Arial Narrow"/>
              </a:rPr>
              <a:t>FREEWARE</a:t>
            </a:r>
            <a:r>
              <a:rPr b="0" lang="en-US" sz="1600" spc="-1" strike="noStrike">
                <a:solidFill>
                  <a:srgbClr val="fafd00"/>
                </a:solidFill>
                <a:latin typeface="Arial Narrow"/>
              </a:rPr>
              <a:t>.  </a:t>
            </a:r>
            <a:r>
              <a:rPr b="0" lang="en-US" sz="1600" spc="-1" strike="noStrike">
                <a:solidFill>
                  <a:srgbClr val="ffffff"/>
                </a:solidFill>
                <a:latin typeface="Arial Narrow"/>
              </a:rPr>
              <a:t>Feel free to copy and give to your friends.     For more </a:t>
            </a:r>
            <a:r>
              <a:rPr b="1" lang="en-US" sz="1600" spc="-1" strike="noStrike">
                <a:solidFill>
                  <a:srgbClr val="ffffff"/>
                </a:solidFill>
                <a:latin typeface="Arial Narrow"/>
              </a:rPr>
              <a:t>FREE GRAPHICS</a:t>
            </a:r>
            <a:r>
              <a:rPr b="0" lang="en-US" sz="1600" spc="-1" strike="noStrike">
                <a:solidFill>
                  <a:srgbClr val="ffffff"/>
                </a:solidFill>
                <a:latin typeface="Arial Narrow"/>
              </a:rPr>
              <a:t> for Bible teachers who use the computer in the Sunday School visit the web site of:</a:t>
            </a:r>
            <a:endParaRPr b="0" lang="en-US" sz="16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Narrow"/>
                <a:hlinkClick r:id="rId2"/>
              </a:rPr>
              <a:t> </a:t>
            </a:r>
            <a:r>
              <a:rPr b="0" lang="en-US" sz="1800" spc="-1" strike="noStrike" u="sng">
                <a:solidFill>
                  <a:srgbClr val="ffffff"/>
                </a:solidFill>
                <a:uFillTx/>
                <a:latin typeface="Arial Narrow"/>
                <a:hlinkClick r:id="rId3"/>
              </a:rPr>
              <a:t>www</a:t>
            </a:r>
            <a:r>
              <a:rPr b="0" lang="en-US" sz="1800" spc="-1" strike="noStrike" u="sng">
                <a:solidFill>
                  <a:srgbClr val="ffffff"/>
                </a:solidFill>
                <a:uFillTx/>
                <a:latin typeface="Arial Narrow"/>
                <a:hlinkClick r:id="rId4"/>
              </a:rPr>
              <a:t>.</a:t>
            </a:r>
            <a:r>
              <a:rPr b="0" lang="en-US" sz="1800" spc="-1" strike="noStrike" u="sng">
                <a:solidFill>
                  <a:srgbClr val="ffffff"/>
                </a:solidFill>
                <a:uFillTx/>
                <a:latin typeface="Arial Narrow"/>
                <a:hlinkClick r:id="rId5"/>
              </a:rPr>
              <a:t>ebibleteacher</a:t>
            </a:r>
            <a:r>
              <a:rPr b="0" lang="en-US" sz="1800" spc="-1" strike="noStrike" u="sng">
                <a:solidFill>
                  <a:srgbClr val="ffffff"/>
                </a:solidFill>
                <a:uFillTx/>
                <a:latin typeface="Arial Narrow"/>
                <a:hlinkClick r:id="rId6"/>
              </a:rPr>
              <a:t>.</a:t>
            </a:r>
            <a:r>
              <a:rPr b="0" lang="en-US" sz="1800" spc="-1" strike="noStrike" u="sng">
                <a:solidFill>
                  <a:srgbClr val="ffffff"/>
                </a:solidFill>
                <a:uFillTx/>
                <a:latin typeface="Arial Narrow"/>
                <a:hlinkClick r:id="rId7"/>
              </a:rPr>
              <a:t>com</a:t>
            </a:r>
            <a:r>
              <a:rPr b="0" lang="en-US" sz="1800" spc="-1" strike="noStrike" u="sng">
                <a:solidFill>
                  <a:srgbClr val="ffffff"/>
                </a:solidFill>
                <a:uFillTx/>
                <a:latin typeface="Arial Narrow"/>
                <a:hlinkClick r:id="rId8"/>
              </a:rPr>
              <a:t>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mail: </a:t>
            </a:r>
            <a:r>
              <a:rPr b="0" lang="en-US" sz="1800" spc="-1" strike="noStrike" u="sng">
                <a:solidFill>
                  <a:srgbClr val="ffffff"/>
                </a:solidFill>
                <a:uFillTx/>
                <a:latin typeface="Arial Narrow"/>
                <a:hlinkClick r:id="rId9"/>
              </a:rPr>
              <a:t>ttaylor</a:t>
            </a:r>
            <a:r>
              <a:rPr b="0" lang="en-US" sz="1800" spc="-1" strike="noStrike" u="sng">
                <a:solidFill>
                  <a:srgbClr val="ffffff"/>
                </a:solidFill>
                <a:uFillTx/>
                <a:latin typeface="Arial Narrow"/>
                <a:hlinkClick r:id="rId10"/>
              </a:rPr>
              <a:t>@</a:t>
            </a:r>
            <a:r>
              <a:rPr b="0" lang="en-US" sz="1800" spc="-1" strike="noStrike" u="sng">
                <a:solidFill>
                  <a:srgbClr val="ffffff"/>
                </a:solidFill>
                <a:uFillTx/>
                <a:latin typeface="Arial Narrow"/>
                <a:hlinkClick r:id="rId11"/>
              </a:rPr>
              <a:t>ebibleteacher</a:t>
            </a:r>
            <a:r>
              <a:rPr b="0" lang="en-US" sz="1800" spc="-1" strike="noStrike" u="sng">
                <a:solidFill>
                  <a:srgbClr val="ffffff"/>
                </a:solidFill>
                <a:uFillTx/>
                <a:latin typeface="Arial Narrow"/>
                <a:hlinkClick r:id="rId12"/>
              </a:rPr>
              <a:t>.</a:t>
            </a:r>
            <a:r>
              <a:rPr b="0" lang="en-US" sz="1800" spc="-1" strike="noStrike" u="sng">
                <a:solidFill>
                  <a:srgbClr val="ffffff"/>
                </a:solidFill>
                <a:uFillTx/>
                <a:latin typeface="Arial Narrow"/>
                <a:hlinkClick r:id="rId13"/>
              </a:rPr>
              <a:t>com</a:t>
            </a:r>
            <a:endParaRPr b="0" lang="en-US" sz="1800" spc="-1" strike="noStrike">
              <a:solidFill>
                <a:srgbClr val="ffffff"/>
              </a:solidFill>
              <a:latin typeface="Times New Roman"/>
            </a:endParaRPr>
          </a:p>
        </p:txBody>
      </p:sp>
      <p:sp>
        <p:nvSpPr>
          <p:cNvPr id="80" name=""/>
          <p:cNvSpPr/>
          <p:nvPr/>
        </p:nvSpPr>
        <p:spPr>
          <a:xfrm>
            <a:off x="3660840" y="28584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Black"/>
              </a:rPr>
              <a:t>QUICK INDEX</a:t>
            </a:r>
            <a:endParaRPr b="0" lang="en-US" sz="2400" spc="-1" strike="noStrike">
              <a:solidFill>
                <a:srgbClr val="ffffff"/>
              </a:solidFill>
              <a:latin typeface="Times New Roman"/>
            </a:endParaRPr>
          </a:p>
        </p:txBody>
      </p:sp>
      <p:sp>
        <p:nvSpPr>
          <p:cNvPr id="81" name=""/>
          <p:cNvSpPr/>
          <p:nvPr/>
        </p:nvSpPr>
        <p:spPr>
          <a:xfrm>
            <a:off x="6114960" y="457200"/>
            <a:ext cx="3029040" cy="6400800"/>
          </a:xfrm>
          <a:prstGeom prst="rect">
            <a:avLst/>
          </a:prstGeom>
          <a:noFill/>
          <a:ln w="0">
            <a:noFill/>
          </a:ln>
        </p:spPr>
        <p:style>
          <a:lnRef idx="0"/>
          <a:fillRef idx="0"/>
          <a:effectRef idx="0"/>
          <a:fontRef idx="minor"/>
        </p:style>
        <p:txBody>
          <a:bodyPr lIns="90360" rIns="90360" tIns="44280" bIns="44280" anchor="t">
            <a:normAutofit/>
          </a:bodyPr>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14" action="ppaction://hlinksldjump"/>
              </a:rPr>
              <a:t>Assyrian</a:t>
            </a:r>
            <a:r>
              <a:rPr b="1" lang="en-US" sz="1800" spc="-1" strike="noStrike" u="sng">
                <a:solidFill>
                  <a:srgbClr val="ffffff"/>
                </a:solidFill>
                <a:uFillTx/>
                <a:latin typeface="Arial Narrow"/>
                <a:hlinkClick r:id="rId15" action="ppaction://hlinksldjump"/>
              </a:rPr>
              <a:t> Empire</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16" action="ppaction://hlinksldjump"/>
              </a:rPr>
              <a:t>Babylonian Empire</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17" action="ppaction://hlinksldjump"/>
              </a:rPr>
              <a:t>Persian Empire</a:t>
            </a:r>
            <a:endParaRPr b="0" lang="en-US" sz="1800" spc="-1" strike="noStrike">
              <a:solidFill>
                <a:srgbClr val="ffffff"/>
              </a:solidFill>
              <a:latin typeface="Times New Roman"/>
            </a:endParaRPr>
          </a:p>
          <a:p>
            <a:pPr marL="285840" indent="-28584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afd00"/>
                </a:solidFill>
                <a:uFillTx/>
                <a:latin typeface="Arial Narrow"/>
              </a:rPr>
              <a:t>NEW Testament</a:t>
            </a:r>
            <a:endParaRPr b="0" lang="en-US" sz="20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18" action="ppaction://hlinksldjump"/>
              </a:rPr>
              <a:t>Alexander the Great </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19" action="ppaction://hlinksldjump"/>
              </a:rPr>
              <a:t>Roman Empire</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20" action="ppaction://hlinksldjump"/>
              </a:rPr>
              <a:t>Israel in the New Test</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21" action="ppaction://hlinksldjump"/>
              </a:rPr>
              <a:t>Childhood of Jesus</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22" action="ppaction://hlinksldjump"/>
              </a:rPr>
              <a:t>Paul-1st Missionary Journey</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23" action="ppaction://hlinksldjump"/>
              </a:rPr>
              <a:t>Paul-</a:t>
            </a:r>
            <a:r>
              <a:rPr b="1" lang="en-US" sz="1600" spc="-1" strike="noStrike" u="sng">
                <a:solidFill>
                  <a:srgbClr val="ffffff"/>
                </a:solidFill>
                <a:uFillTx/>
                <a:latin typeface="Arial Narrow"/>
                <a:hlinkClick r:id="rId24" action="ppaction://hlinksldjump"/>
              </a:rPr>
              <a:t>2nd</a:t>
            </a:r>
            <a:r>
              <a:rPr b="1" lang="en-US" sz="1800" spc="-1" strike="noStrike" u="sng">
                <a:solidFill>
                  <a:srgbClr val="ffffff"/>
                </a:solidFill>
                <a:uFillTx/>
                <a:latin typeface="Arial Narrow"/>
                <a:hlinkClick r:id="rId25" action="ppaction://hlinksldjump"/>
              </a:rPr>
              <a:t> Miss. Journey</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26" action="ppaction://hlinksldjump"/>
              </a:rPr>
              <a:t>Paul-</a:t>
            </a:r>
            <a:r>
              <a:rPr b="1" lang="en-US" sz="1600" spc="-1" strike="noStrike" u="sng">
                <a:solidFill>
                  <a:srgbClr val="ffffff"/>
                </a:solidFill>
                <a:uFillTx/>
                <a:latin typeface="Arial Narrow"/>
                <a:hlinkClick r:id="rId27" action="ppaction://hlinksldjump"/>
              </a:rPr>
              <a:t>3rd</a:t>
            </a:r>
            <a:r>
              <a:rPr b="1" lang="en-US" sz="1800" spc="-1" strike="noStrike" u="sng">
                <a:solidFill>
                  <a:srgbClr val="ffffff"/>
                </a:solidFill>
                <a:uFillTx/>
                <a:latin typeface="Arial Narrow"/>
                <a:hlinkClick r:id="rId28" action="ppaction://hlinksldjump"/>
              </a:rPr>
              <a:t> Miss. Journey</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ul to Caesarea</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29" action="ppaction://hlinksldjump"/>
              </a:rPr>
              <a:t>Paul- Journey to Rome</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30" action="ppaction://hlinksldjump"/>
              </a:rPr>
              <a:t>Corinth</a:t>
            </a:r>
            <a:r>
              <a:rPr b="1" lang="en-US" sz="1800" spc="-1" strike="noStrike" u="sng">
                <a:solidFill>
                  <a:srgbClr val="ffffff"/>
                </a:solidFill>
                <a:uFillTx/>
                <a:latin typeface="Arial Narrow"/>
                <a:hlinkClick r:id="rId31" action="ppaction://hlinksldjump"/>
              </a:rPr>
              <a:t>/Athens</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32" action="ppaction://hlinksldjump"/>
              </a:rPr>
              <a:t>7 Churches of Asia (Revelation)</a:t>
            </a:r>
            <a:endParaRPr b="0" lang="en-US" sz="1800" spc="-1" strike="noStrike">
              <a:solidFill>
                <a:srgbClr val="ffffff"/>
              </a:solidFill>
              <a:latin typeface="Times New Roman"/>
            </a:endParaRPr>
          </a:p>
          <a:p>
            <a:pPr marL="285840" indent="-28584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afd00"/>
                </a:solidFill>
                <a:uFillTx/>
                <a:latin typeface="Arial Narrow"/>
              </a:rPr>
              <a:t>MODERN Maps</a:t>
            </a:r>
            <a:endParaRPr b="0" lang="en-US" sz="20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33" action="ppaction://hlinksldjump"/>
              </a:rPr>
              <a:t>Modern Israel</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lank Maps of </a:t>
            </a:r>
            <a:r>
              <a:rPr b="1" lang="en-US" sz="1800" spc="-1" strike="noStrike" u="sng">
                <a:solidFill>
                  <a:srgbClr val="ffffff"/>
                </a:solidFill>
                <a:uFillTx/>
                <a:latin typeface="Arial Narrow"/>
                <a:hlinkClick r:id="rId34" action="ppaction://hlinksldjump"/>
              </a:rPr>
              <a:t>Israel,</a:t>
            </a:r>
            <a:r>
              <a:rPr b="1" lang="en-US" sz="1800" spc="-1" strike="noStrike">
                <a:solidFill>
                  <a:srgbClr val="ffffff"/>
                </a:solidFill>
                <a:latin typeface="Arial Narrow"/>
              </a:rPr>
              <a:t> </a:t>
            </a:r>
            <a:r>
              <a:rPr b="1" lang="en-US" sz="1800" spc="-1" strike="noStrike" u="sng">
                <a:solidFill>
                  <a:srgbClr val="ffffff"/>
                </a:solidFill>
                <a:uFillTx/>
                <a:latin typeface="Arial Narrow"/>
                <a:hlinkClick r:id="rId35" action="ppaction://hlinksldjump"/>
              </a:rPr>
              <a:t>Sinai</a:t>
            </a:r>
            <a:r>
              <a:rPr b="1" lang="en-US" sz="1800" spc="-1" strike="noStrike">
                <a:solidFill>
                  <a:srgbClr val="ffffff"/>
                </a:solidFill>
                <a:latin typeface="Arial Narrow"/>
              </a:rPr>
              <a:t> &amp; </a:t>
            </a:r>
            <a:r>
              <a:rPr b="1" lang="en-US" sz="1800" spc="-1" strike="noStrike" u="sng">
                <a:solidFill>
                  <a:srgbClr val="ffffff"/>
                </a:solidFill>
                <a:uFillTx/>
                <a:latin typeface="Arial Narrow"/>
                <a:hlinkClick r:id="rId36" action="ppaction://hlinksldjump"/>
              </a:rPr>
              <a:t>Bible Land Area</a:t>
            </a:r>
            <a:endParaRPr b="0" lang="en-US" sz="1800" spc="-1" strike="noStrike">
              <a:solidFill>
                <a:srgbClr val="ffffff"/>
              </a:solidFill>
              <a:latin typeface="Times New Roman"/>
            </a:endParaRPr>
          </a:p>
          <a:p>
            <a:pPr marL="285840" indent="-28584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afd00"/>
                </a:solidFill>
                <a:uFillTx/>
                <a:latin typeface="Arial Narrow"/>
              </a:rPr>
              <a:t>OTHER</a:t>
            </a:r>
            <a:endParaRPr b="0" lang="en-US" sz="20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37" action="ppaction://hlinksldjump"/>
              </a:rPr>
              <a:t>Cubit Diagram Sample</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38" action="ppaction://hlinksldjump"/>
              </a:rPr>
              <a:t>Tips/Resources</a:t>
            </a:r>
            <a:endParaRPr b="0" lang="en-US" sz="1800" spc="-1" strike="noStrike">
              <a:solidFill>
                <a:srgbClr val="ffffff"/>
              </a:solidFill>
              <a:latin typeface="Times New Roman"/>
            </a:endParaRPr>
          </a:p>
          <a:p>
            <a:pPr lvl="1" marL="571680" indent="-17172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ponsor</a:t>
            </a:r>
            <a:endParaRPr b="0" lang="en-US" sz="1800" spc="-1" strike="noStrike">
              <a:solidFill>
                <a:srgbClr val="ffffff"/>
              </a:solidFill>
              <a:latin typeface="Times New Roman"/>
            </a:endParaRPr>
          </a:p>
        </p:txBody>
      </p:sp>
      <p:sp>
        <p:nvSpPr>
          <p:cNvPr id="82" name=""/>
          <p:cNvSpPr/>
          <p:nvPr/>
        </p:nvSpPr>
        <p:spPr>
          <a:xfrm>
            <a:off x="3500280" y="838080"/>
            <a:ext cx="3262320" cy="601992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afd00"/>
                </a:solidFill>
                <a:uFillTx/>
                <a:latin typeface="Arial Narrow"/>
              </a:rPr>
              <a:t>OVERALL MAPS</a:t>
            </a:r>
            <a:endParaRPr b="0" lang="en-US" sz="2000" spc="-1" strike="noStrike">
              <a:solidFill>
                <a:srgbClr val="ffffff"/>
              </a:solidFill>
              <a:latin typeface="Times New Roman"/>
            </a:endParaRPr>
          </a:p>
          <a:p>
            <a:pPr lvl="1" marL="514440" indent="-17136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39" action="ppaction://hlinksldjump"/>
              </a:rPr>
              <a:t>Bible Lands Overview</a:t>
            </a:r>
            <a:endParaRPr b="0" lang="en-US" sz="1800" spc="-1" strike="noStrike">
              <a:solidFill>
                <a:srgbClr val="ffffff"/>
              </a:solidFill>
              <a:latin typeface="Times New Roman"/>
            </a:endParaRPr>
          </a:p>
          <a:p>
            <a:pPr lvl="1" marL="514440" indent="-17136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0" action="ppaction://hlinksldjump"/>
              </a:rPr>
              <a:t>Important Ancient Lands</a:t>
            </a:r>
            <a:endParaRPr b="0" lang="en-US" sz="1800" spc="-1" strike="noStrike">
              <a:solidFill>
                <a:srgbClr val="ffffff"/>
              </a:solidFill>
              <a:latin typeface="Times New Roman"/>
            </a:endParaRPr>
          </a:p>
          <a:p>
            <a:pPr lvl="1" marL="514440" indent="-17136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1" action="ppaction://hlinksldjump"/>
              </a:rPr>
              <a:t>Continents &amp; Land Masses</a:t>
            </a:r>
            <a:endParaRPr b="0" lang="en-US" sz="1800" spc="-1" strike="noStrike">
              <a:solidFill>
                <a:srgbClr val="ffffff"/>
              </a:solidFill>
              <a:latin typeface="Times New Roman"/>
            </a:endParaRPr>
          </a:p>
          <a:p>
            <a:pPr marL="228600" indent="-228600">
              <a:lnSpc>
                <a:spcPct val="90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afd00"/>
                </a:solidFill>
                <a:uFillTx/>
                <a:latin typeface="Arial Narrow"/>
              </a:rPr>
              <a:t>OLD Testament</a:t>
            </a:r>
            <a:endParaRPr b="0" lang="en-US" sz="20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2" action="ppaction://hlinksldjump"/>
              </a:rPr>
              <a:t>Garden of Eden</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3" action="ppaction://hlinksldjump"/>
              </a:rPr>
              <a:t>Noah’s Ark 1</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4" action="ppaction://hlinksldjump"/>
              </a:rPr>
              <a:t>Noah’s Ark 2</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5" action="ppaction://hlinksldjump"/>
              </a:rPr>
              <a:t>Noah’s Ark Mt.</a:t>
            </a:r>
            <a:r>
              <a:rPr b="1" lang="en-US" sz="1800" spc="-1" strike="noStrike" u="sng">
                <a:solidFill>
                  <a:srgbClr val="ffffff"/>
                </a:solidFill>
                <a:uFillTx/>
                <a:latin typeface="Arial Narrow"/>
                <a:hlinkClick r:id="rId46" action="ppaction://hlinksldjump"/>
              </a:rPr>
              <a:t> Ararat</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7" action="ppaction://hlinksldjump"/>
              </a:rPr>
              <a:t>Tower of Babel</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8" action="ppaction://hlinksldjump"/>
              </a:rPr>
              <a:t>Abraham’s Journey</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49" action="ppaction://hlinksldjump"/>
              </a:rPr>
              <a:t>Abraham Journey to Egypt</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0" action="ppaction://hlinksldjump"/>
              </a:rPr>
              <a:t>Abraham in Canaan</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1" action="ppaction://hlinksldjump"/>
              </a:rPr>
              <a:t>Wandering’s of Jacob</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2" action="ppaction://hlinksldjump"/>
              </a:rPr>
              <a:t>Joseph’s Journey to Egypt</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3" action="ppaction://hlinksldjump"/>
              </a:rPr>
              <a:t>Joseph’s Family to Goshen</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4" action="ppaction://hlinksldjump"/>
              </a:rPr>
              <a:t>Route of the Exodus</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5" action="ppaction://hlinksldjump"/>
              </a:rPr>
              <a:t>Exodus Major Events Map</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6" action="ppaction://hlinksldjump"/>
              </a:rPr>
              <a:t>Twelve Tribes of Israel</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7" action="ppaction://hlinksldjump"/>
              </a:rPr>
              <a:t>Nations of Canaan</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58" action="ppaction://hlinksldjump"/>
              </a:rPr>
              <a:t>Solomon’s Israel</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abernacle  </a:t>
            </a:r>
            <a:r>
              <a:rPr b="1" lang="en-US" sz="1800" spc="-1" strike="noStrike" u="sng">
                <a:solidFill>
                  <a:srgbClr val="ffffff"/>
                </a:solidFill>
                <a:uFillTx/>
                <a:latin typeface="Arial Narrow"/>
                <a:hlinkClick r:id="rId59" action="ppaction://hlinksldjump"/>
              </a:rPr>
              <a:t>- 1 -</a:t>
            </a:r>
            <a:r>
              <a:rPr b="1" lang="en-US" sz="1800" spc="-1" strike="noStrike">
                <a:solidFill>
                  <a:srgbClr val="ffffff"/>
                </a:solidFill>
                <a:latin typeface="Arial Narrow"/>
              </a:rPr>
              <a:t>   </a:t>
            </a:r>
            <a:r>
              <a:rPr b="1" lang="en-US" sz="1800" spc="-1" strike="noStrike" u="sng">
                <a:solidFill>
                  <a:srgbClr val="ffffff"/>
                </a:solidFill>
                <a:uFillTx/>
                <a:latin typeface="Arial Narrow"/>
                <a:hlinkClick r:id="rId60" action="ppaction://hlinksldjump"/>
              </a:rPr>
              <a:t>- 2 -</a:t>
            </a:r>
            <a:r>
              <a:rPr b="1" lang="en-US" sz="1800" spc="-1" strike="noStrike">
                <a:solidFill>
                  <a:srgbClr val="ffffff"/>
                </a:solidFill>
                <a:latin typeface="Arial Narrow"/>
              </a:rPr>
              <a:t>   </a:t>
            </a:r>
            <a:r>
              <a:rPr b="1" lang="en-US" sz="1800" spc="-1" strike="noStrike" u="sng">
                <a:solidFill>
                  <a:srgbClr val="ffffff"/>
                </a:solidFill>
                <a:uFillTx/>
                <a:latin typeface="Arial Narrow"/>
                <a:hlinkClick r:id="rId61" action="ppaction://hlinksldjump"/>
              </a:rPr>
              <a:t>- 3 -</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olomon’s Temple</a:t>
            </a:r>
            <a:endParaRPr b="0" lang="en-US" sz="1800" spc="-1" strike="noStrike">
              <a:solidFill>
                <a:srgbClr val="ffffff"/>
              </a:solidFill>
              <a:latin typeface="Times New Roman"/>
            </a:endParaRPr>
          </a:p>
          <a:p>
            <a:pPr lvl="1" marL="514440" indent="-171360">
              <a:lnSpc>
                <a:spcPct val="87000"/>
              </a:lnSpc>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hlinkClick r:id="rId62" action="ppaction://hlinksldjump"/>
              </a:rPr>
              <a:t>Divided Kingdom of Israel</a:t>
            </a:r>
            <a:endParaRPr b="0" lang="en-US" sz="1800" spc="-1" strike="noStrike">
              <a:solidFill>
                <a:srgbClr val="ffffff"/>
              </a:solidFill>
              <a:latin typeface="Times New Roman"/>
            </a:endParaRPr>
          </a:p>
        </p:txBody>
      </p:sp>
      <p:sp>
        <p:nvSpPr>
          <p:cNvPr id="83" name="PlaceHolder 1"/>
          <p:cNvSpPr>
            <a:spLocks noGrp="1"/>
          </p:cNvSpPr>
          <p:nvPr>
            <p:ph type="title"/>
          </p:nvPr>
        </p:nvSpPr>
        <p:spPr>
          <a:xfrm>
            <a:off x="6095520" y="609480"/>
            <a:ext cx="2800440" cy="74880"/>
          </a:xfrm>
          <a:prstGeom prst="rect">
            <a:avLst/>
          </a:prstGeom>
          <a:noFill/>
          <a:ln w="0">
            <a:noFill/>
          </a:ln>
          <a:effectLst>
            <a:outerShdw dist="17819" dir="2700000" blurRad="0" rotWithShape="0">
              <a:srgbClr val="000000"/>
            </a:outerShdw>
          </a:effectLst>
        </p:spPr>
        <p:txBody>
          <a:bodyPr lIns="90360" rIns="90360" tIns="30600" bIns="306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Index</a:t>
            </a:r>
            <a:endParaRPr b="1" lang="en-US" sz="500" spc="-1" strike="noStrike" u="sng">
              <a:solidFill>
                <a:srgbClr val="c0fef9"/>
              </a:solidFill>
              <a:uFillTx/>
              <a:latin typeface="Times New Roman"/>
            </a:endParaRPr>
          </a:p>
        </p:txBody>
      </p:sp>
      <p:sp>
        <p:nvSpPr>
          <p:cNvPr id="84" name=""/>
          <p:cNvSpPr/>
          <p:nvPr/>
        </p:nvSpPr>
        <p:spPr>
          <a:xfrm>
            <a:off x="1281600" y="228600"/>
            <a:ext cx="107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ONSOR</a:t>
            </a:r>
            <a:endParaRPr b="0" lang="en-US" sz="1400" spc="-1" strike="noStrike">
              <a:solidFill>
                <a:srgbClr val="ffffff"/>
              </a:solidFill>
              <a:latin typeface="Times New Roman"/>
            </a:endParaRPr>
          </a:p>
        </p:txBody>
      </p:sp>
      <p:sp>
        <p:nvSpPr>
          <p:cNvPr id="85" name=""/>
          <p:cNvSpPr/>
          <p:nvPr/>
        </p:nvSpPr>
        <p:spPr>
          <a:xfrm>
            <a:off x="0" y="2343240"/>
            <a:ext cx="339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www.churchprojection.com</a:t>
            </a:r>
            <a:endParaRPr b="0" lang="en-US" sz="1800" spc="-1" strike="noStrike">
              <a:solidFill>
                <a:srgbClr val="ffffff"/>
              </a:solidFill>
              <a:latin typeface="Times New Roman"/>
            </a:endParaRPr>
          </a:p>
        </p:txBody>
      </p:sp>
      <p:sp>
        <p:nvSpPr>
          <p:cNvPr id="86" name=""/>
          <p:cNvSpPr/>
          <p:nvPr/>
        </p:nvSpPr>
        <p:spPr>
          <a:xfrm>
            <a:off x="288720" y="5975280"/>
            <a:ext cx="37512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87" name="projector%20solutions" descr=""/>
          <p:cNvPicPr/>
          <p:nvPr/>
        </p:nvPicPr>
        <p:blipFill>
          <a:blip r:embed="rId63"/>
          <a:stretch/>
        </p:blipFill>
        <p:spPr>
          <a:xfrm>
            <a:off x="235080" y="533520"/>
            <a:ext cx="320328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924160" y="609120"/>
            <a:ext cx="297180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Tower of Babel</a:t>
            </a:r>
            <a:endParaRPr b="1" lang="en-US" sz="100" spc="-1" strike="noStrike" u="sng">
              <a:solidFill>
                <a:srgbClr val="c0fef9"/>
              </a:solidFill>
              <a:uFillTx/>
              <a:latin typeface="Times New Roman"/>
            </a:endParaRPr>
          </a:p>
        </p:txBody>
      </p:sp>
      <p:sp>
        <p:nvSpPr>
          <p:cNvPr id="244"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245" name=""/>
          <p:cNvGrpSpPr/>
          <p:nvPr/>
        </p:nvGrpSpPr>
        <p:grpSpPr>
          <a:xfrm>
            <a:off x="0" y="0"/>
            <a:ext cx="9086760" cy="6095880"/>
            <a:chOff x="0" y="0"/>
            <a:chExt cx="9086760" cy="6095880"/>
          </a:xfrm>
        </p:grpSpPr>
        <p:grpSp>
          <p:nvGrpSpPr>
            <p:cNvPr id="246" name=""/>
            <p:cNvGrpSpPr/>
            <p:nvPr/>
          </p:nvGrpSpPr>
          <p:grpSpPr>
            <a:xfrm>
              <a:off x="0" y="0"/>
              <a:ext cx="9086760" cy="6095880"/>
              <a:chOff x="0" y="0"/>
              <a:chExt cx="9086760" cy="6095880"/>
            </a:xfrm>
          </p:grpSpPr>
          <p:sp>
            <p:nvSpPr>
              <p:cNvPr id="247" name=""/>
              <p:cNvSpPr/>
              <p:nvPr/>
            </p:nvSpPr>
            <p:spPr>
              <a:xfrm>
                <a:off x="0" y="1028880"/>
                <a:ext cx="9086760" cy="50292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38120" y="0"/>
                <a:ext cx="7715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afd00"/>
                    </a:solidFill>
                    <a:uFillTx/>
                    <a:latin typeface="Times New Roman"/>
                  </a:rPr>
                  <a:t>Tower of Babel</a:t>
                </a:r>
                <a:endParaRPr b="0" lang="en-US" sz="6000" spc="-1" strike="noStrike">
                  <a:solidFill>
                    <a:srgbClr val="ffffff"/>
                  </a:solidFill>
                  <a:latin typeface="Times New Roman"/>
                </a:endParaRPr>
              </a:p>
            </p:txBody>
          </p:sp>
          <p:sp>
            <p:nvSpPr>
              <p:cNvPr id="249" name=""/>
              <p:cNvSpPr/>
              <p:nvPr/>
            </p:nvSpPr>
            <p:spPr>
              <a:xfrm>
                <a:off x="1176480" y="1676520"/>
                <a:ext cx="77914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0" name=""/>
              <p:cNvGrpSpPr/>
              <p:nvPr/>
            </p:nvGrpSpPr>
            <p:grpSpPr>
              <a:xfrm>
                <a:off x="0" y="457200"/>
                <a:ext cx="9086760" cy="5638680"/>
                <a:chOff x="0" y="457200"/>
                <a:chExt cx="9086760" cy="5638680"/>
              </a:xfrm>
            </p:grpSpPr>
            <p:sp>
              <p:nvSpPr>
                <p:cNvPr id="251" name=""/>
                <p:cNvSpPr/>
                <p:nvPr/>
              </p:nvSpPr>
              <p:spPr>
                <a:xfrm>
                  <a:off x="2724120" y="2855880"/>
                  <a:ext cx="9540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0" y="3575160"/>
                  <a:ext cx="5372280" cy="2520720"/>
                </a:xfrm>
                <a:custGeom>
                  <a:avLst/>
                  <a:gdLst/>
                  <a:ahLst/>
                  <a:rect l="l" t="t" r="r" b="b"/>
                  <a:pathLst>
                    <a:path w="3384" h="1588">
                      <a:moveTo>
                        <a:pt x="3384" y="1552"/>
                      </a:moveTo>
                      <a:lnTo>
                        <a:pt x="3348" y="1228"/>
                      </a:lnTo>
                      <a:lnTo>
                        <a:pt x="3060" y="976"/>
                      </a:lnTo>
                      <a:lnTo>
                        <a:pt x="3132" y="724"/>
                      </a:lnTo>
                      <a:lnTo>
                        <a:pt x="3060" y="580"/>
                      </a:lnTo>
                      <a:lnTo>
                        <a:pt x="2988" y="652"/>
                      </a:lnTo>
                      <a:lnTo>
                        <a:pt x="2916" y="616"/>
                      </a:lnTo>
                      <a:lnTo>
                        <a:pt x="2808" y="652"/>
                      </a:lnTo>
                      <a:lnTo>
                        <a:pt x="2376" y="472"/>
                      </a:lnTo>
                      <a:lnTo>
                        <a:pt x="2240" y="516"/>
                      </a:lnTo>
                      <a:lnTo>
                        <a:pt x="2228" y="624"/>
                      </a:lnTo>
                      <a:lnTo>
                        <a:pt x="1692" y="400"/>
                      </a:lnTo>
                      <a:lnTo>
                        <a:pt x="1652" y="156"/>
                      </a:lnTo>
                      <a:lnTo>
                        <a:pt x="1296" y="184"/>
                      </a:lnTo>
                      <a:lnTo>
                        <a:pt x="904" y="0"/>
                      </a:lnTo>
                      <a:lnTo>
                        <a:pt x="576" y="184"/>
                      </a:lnTo>
                      <a:lnTo>
                        <a:pt x="288" y="472"/>
                      </a:lnTo>
                      <a:lnTo>
                        <a:pt x="288" y="544"/>
                      </a:lnTo>
                      <a:lnTo>
                        <a:pt x="216" y="652"/>
                      </a:lnTo>
                      <a:lnTo>
                        <a:pt x="72" y="832"/>
                      </a:lnTo>
                      <a:lnTo>
                        <a:pt x="0" y="868"/>
                      </a:lnTo>
                      <a:lnTo>
                        <a:pt x="0" y="158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95320" y="1009800"/>
                  <a:ext cx="8191440" cy="5029200"/>
                </a:xfrm>
                <a:custGeom>
                  <a:avLst/>
                  <a:gdLst/>
                  <a:ahLst/>
                  <a:rect l="l" t="t" r="r" b="b"/>
                  <a:pathLst>
                    <a:path w="5160" h="3168">
                      <a:moveTo>
                        <a:pt x="5160" y="3096"/>
                      </a:moveTo>
                      <a:lnTo>
                        <a:pt x="4944" y="2916"/>
                      </a:lnTo>
                      <a:lnTo>
                        <a:pt x="4440" y="2916"/>
                      </a:lnTo>
                      <a:lnTo>
                        <a:pt x="3648" y="2520"/>
                      </a:lnTo>
                      <a:lnTo>
                        <a:pt x="3648" y="2916"/>
                      </a:lnTo>
                      <a:lnTo>
                        <a:pt x="4116" y="3168"/>
                      </a:lnTo>
                      <a:lnTo>
                        <a:pt x="3036" y="3168"/>
                      </a:lnTo>
                      <a:lnTo>
                        <a:pt x="2568" y="2448"/>
                      </a:lnTo>
                      <a:lnTo>
                        <a:pt x="2532" y="2268"/>
                      </a:lnTo>
                      <a:lnTo>
                        <a:pt x="2712" y="2160"/>
                      </a:lnTo>
                      <a:lnTo>
                        <a:pt x="2820" y="2036"/>
                      </a:lnTo>
                      <a:lnTo>
                        <a:pt x="2868" y="1904"/>
                      </a:lnTo>
                      <a:lnTo>
                        <a:pt x="2820" y="1620"/>
                      </a:lnTo>
                      <a:lnTo>
                        <a:pt x="2640" y="1700"/>
                      </a:lnTo>
                      <a:lnTo>
                        <a:pt x="2244" y="1656"/>
                      </a:lnTo>
                      <a:lnTo>
                        <a:pt x="2268" y="1448"/>
                      </a:lnTo>
                      <a:lnTo>
                        <a:pt x="2352" y="1404"/>
                      </a:lnTo>
                      <a:lnTo>
                        <a:pt x="2568" y="1260"/>
                      </a:lnTo>
                      <a:lnTo>
                        <a:pt x="3168" y="1184"/>
                      </a:lnTo>
                      <a:lnTo>
                        <a:pt x="3204" y="1052"/>
                      </a:lnTo>
                      <a:lnTo>
                        <a:pt x="2784" y="900"/>
                      </a:lnTo>
                      <a:lnTo>
                        <a:pt x="2820" y="756"/>
                      </a:lnTo>
                      <a:lnTo>
                        <a:pt x="2724" y="920"/>
                      </a:lnTo>
                      <a:lnTo>
                        <a:pt x="2604" y="920"/>
                      </a:lnTo>
                      <a:lnTo>
                        <a:pt x="2532" y="944"/>
                      </a:lnTo>
                      <a:lnTo>
                        <a:pt x="2400" y="1064"/>
                      </a:lnTo>
                      <a:lnTo>
                        <a:pt x="2484" y="1244"/>
                      </a:lnTo>
                      <a:lnTo>
                        <a:pt x="2424" y="1260"/>
                      </a:lnTo>
                      <a:lnTo>
                        <a:pt x="2376" y="1256"/>
                      </a:lnTo>
                      <a:lnTo>
                        <a:pt x="2280" y="1388"/>
                      </a:lnTo>
                      <a:lnTo>
                        <a:pt x="2064" y="1400"/>
                      </a:lnTo>
                      <a:lnTo>
                        <a:pt x="2064" y="1548"/>
                      </a:lnTo>
                      <a:lnTo>
                        <a:pt x="2064" y="1656"/>
                      </a:lnTo>
                      <a:lnTo>
                        <a:pt x="1968" y="1772"/>
                      </a:lnTo>
                      <a:lnTo>
                        <a:pt x="1884" y="1728"/>
                      </a:lnTo>
                      <a:lnTo>
                        <a:pt x="1884" y="1476"/>
                      </a:lnTo>
                      <a:lnTo>
                        <a:pt x="1884" y="1404"/>
                      </a:lnTo>
                      <a:lnTo>
                        <a:pt x="1560" y="944"/>
                      </a:lnTo>
                      <a:lnTo>
                        <a:pt x="1488" y="1016"/>
                      </a:lnTo>
                      <a:lnTo>
                        <a:pt x="1512" y="1136"/>
                      </a:lnTo>
                      <a:lnTo>
                        <a:pt x="1695" y="1389"/>
                      </a:lnTo>
                      <a:lnTo>
                        <a:pt x="1677" y="1452"/>
                      </a:lnTo>
                      <a:lnTo>
                        <a:pt x="1608" y="1388"/>
                      </a:lnTo>
                      <a:lnTo>
                        <a:pt x="1605" y="1479"/>
                      </a:lnTo>
                      <a:lnTo>
                        <a:pt x="1560" y="1551"/>
                      </a:lnTo>
                      <a:lnTo>
                        <a:pt x="1542" y="1533"/>
                      </a:lnTo>
                      <a:lnTo>
                        <a:pt x="1533" y="1407"/>
                      </a:lnTo>
                      <a:lnTo>
                        <a:pt x="1416" y="1260"/>
                      </a:lnTo>
                      <a:lnTo>
                        <a:pt x="1236" y="1008"/>
                      </a:lnTo>
                      <a:lnTo>
                        <a:pt x="912" y="1008"/>
                      </a:lnTo>
                      <a:lnTo>
                        <a:pt x="516" y="1548"/>
                      </a:lnTo>
                      <a:lnTo>
                        <a:pt x="288" y="1524"/>
                      </a:lnTo>
                      <a:lnTo>
                        <a:pt x="0" y="1380"/>
                      </a:lnTo>
                      <a:lnTo>
                        <a:pt x="120" y="1044"/>
                      </a:lnTo>
                      <a:lnTo>
                        <a:pt x="192" y="828"/>
                      </a:lnTo>
                      <a:lnTo>
                        <a:pt x="372" y="828"/>
                      </a:lnTo>
                      <a:lnTo>
                        <a:pt x="588" y="936"/>
                      </a:lnTo>
                      <a:lnTo>
                        <a:pt x="732" y="756"/>
                      </a:lnTo>
                      <a:lnTo>
                        <a:pt x="588" y="504"/>
                      </a:lnTo>
                      <a:lnTo>
                        <a:pt x="912" y="504"/>
                      </a:lnTo>
                      <a:lnTo>
                        <a:pt x="948" y="360"/>
                      </a:lnTo>
                      <a:lnTo>
                        <a:pt x="1200" y="180"/>
                      </a:lnTo>
                      <a:lnTo>
                        <a:pt x="1416" y="108"/>
                      </a:lnTo>
                      <a:lnTo>
                        <a:pt x="1384" y="0"/>
                      </a:lnTo>
                      <a:lnTo>
                        <a:pt x="1492" y="0"/>
                      </a:lnTo>
                      <a:lnTo>
                        <a:pt x="1524" y="108"/>
                      </a:lnTo>
                      <a:lnTo>
                        <a:pt x="1740" y="252"/>
                      </a:lnTo>
                      <a:lnTo>
                        <a:pt x="1848" y="0"/>
                      </a:lnTo>
                      <a:lnTo>
                        <a:pt x="5160"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320" y="575784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255" name=""/>
                <p:cNvSpPr/>
                <p:nvPr/>
              </p:nvSpPr>
              <p:spPr>
                <a:xfrm>
                  <a:off x="2714760" y="3133800"/>
                  <a:ext cx="114120" cy="31428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29040" y="3476520"/>
                  <a:ext cx="257040" cy="23184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005360" y="3938760"/>
                  <a:ext cx="223920" cy="9360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086440" y="3876840"/>
                  <a:ext cx="171360" cy="15552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1628640" y="1028880"/>
                  <a:ext cx="800280" cy="647640"/>
                </a:xfrm>
                <a:custGeom>
                  <a:avLst/>
                  <a:gdLst/>
                  <a:ahLst/>
                  <a:rect l="l" t="t" r="r" b="b"/>
                  <a:pathLst>
                    <a:path w="504" h="408">
                      <a:moveTo>
                        <a:pt x="0" y="354"/>
                      </a:moveTo>
                      <a:lnTo>
                        <a:pt x="54" y="408"/>
                      </a:lnTo>
                      <a:lnTo>
                        <a:pt x="198" y="336"/>
                      </a:lnTo>
                      <a:lnTo>
                        <a:pt x="396" y="354"/>
                      </a:lnTo>
                      <a:lnTo>
                        <a:pt x="504" y="246"/>
                      </a:lnTo>
                      <a:lnTo>
                        <a:pt x="342" y="30"/>
                      </a:lnTo>
                      <a:lnTo>
                        <a:pt x="334" y="0"/>
                      </a:lnTo>
                      <a:lnTo>
                        <a:pt x="178" y="0"/>
                      </a:lnTo>
                      <a:lnTo>
                        <a:pt x="180" y="120"/>
                      </a:lnTo>
                      <a:lnTo>
                        <a:pt x="108" y="120"/>
                      </a:lnTo>
                      <a:lnTo>
                        <a:pt x="126" y="228"/>
                      </a:lnTo>
                      <a:lnTo>
                        <a:pt x="0" y="354"/>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343160" y="1019160"/>
                  <a:ext cx="39996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21280" y="4159080"/>
                  <a:ext cx="498600" cy="482760"/>
                </a:xfrm>
                <a:custGeom>
                  <a:avLst/>
                  <a:gdLst/>
                  <a:ahLst/>
                  <a:rect l="l" t="t" r="r" b="b"/>
                  <a:pathLst>
                    <a:path w="314" h="304">
                      <a:moveTo>
                        <a:pt x="240" y="12"/>
                      </a:moveTo>
                      <a:lnTo>
                        <a:pt x="288" y="0"/>
                      </a:lnTo>
                      <a:lnTo>
                        <a:pt x="314" y="17"/>
                      </a:lnTo>
                      <a:lnTo>
                        <a:pt x="314" y="53"/>
                      </a:lnTo>
                      <a:lnTo>
                        <a:pt x="278" y="98"/>
                      </a:lnTo>
                      <a:lnTo>
                        <a:pt x="206" y="179"/>
                      </a:lnTo>
                      <a:lnTo>
                        <a:pt x="125" y="269"/>
                      </a:lnTo>
                      <a:lnTo>
                        <a:pt x="64" y="304"/>
                      </a:lnTo>
                      <a:lnTo>
                        <a:pt x="0" y="264"/>
                      </a:lnTo>
                      <a:lnTo>
                        <a:pt x="84" y="204"/>
                      </a:lnTo>
                      <a:lnTo>
                        <a:pt x="192" y="108"/>
                      </a:lnTo>
                      <a:lnTo>
                        <a:pt x="240" y="12"/>
                      </a:lnTo>
                      <a:close/>
                    </a:path>
                  </a:pathLst>
                </a:custGeom>
                <a:solidFill>
                  <a:srgbClr val="99cc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291400" y="3962520"/>
                  <a:ext cx="3125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terranean</a:t>
                  </a:r>
                  <a:endParaRPr b="0" lang="en-US" sz="3600" spc="-1" strike="noStrike">
                    <a:solidFill>
                      <a:srgbClr val="ffffff"/>
                    </a:solidFill>
                    <a:latin typeface="Times New Roman"/>
                  </a:endParaRPr>
                </a:p>
              </p:txBody>
            </p:sp>
            <p:sp>
              <p:nvSpPr>
                <p:cNvPr id="263" name=""/>
                <p:cNvSpPr/>
                <p:nvPr/>
              </p:nvSpPr>
              <p:spPr>
                <a:xfrm>
                  <a:off x="5415120" y="3581280"/>
                  <a:ext cx="1298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rael</a:t>
                  </a:r>
                  <a:endParaRPr b="0" lang="en-US" sz="3600" spc="-1" strike="noStrike">
                    <a:solidFill>
                      <a:srgbClr val="ffffff"/>
                    </a:solidFill>
                    <a:latin typeface="Times New Roman"/>
                  </a:endParaRPr>
                </a:p>
              </p:txBody>
            </p:sp>
            <p:sp>
              <p:nvSpPr>
                <p:cNvPr id="264" name=""/>
                <p:cNvSpPr/>
                <p:nvPr/>
              </p:nvSpPr>
              <p:spPr>
                <a:xfrm>
                  <a:off x="3433320" y="5181480"/>
                  <a:ext cx="1350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gypt</a:t>
                  </a:r>
                  <a:endParaRPr b="0" lang="en-US" sz="3600" spc="-1" strike="noStrike">
                    <a:solidFill>
                      <a:srgbClr val="ffffff"/>
                    </a:solidFill>
                    <a:latin typeface="Times New Roman"/>
                  </a:endParaRPr>
                </a:p>
              </p:txBody>
            </p:sp>
            <p:sp>
              <p:nvSpPr>
                <p:cNvPr id="265" name=""/>
                <p:cNvSpPr/>
                <p:nvPr/>
              </p:nvSpPr>
              <p:spPr>
                <a:xfrm>
                  <a:off x="6905520" y="3657600"/>
                  <a:ext cx="1450800" cy="1734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Towe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of</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Babel</a:t>
                  </a:r>
                  <a:endParaRPr b="0" lang="en-US" sz="3600" spc="-1" strike="noStrike">
                    <a:solidFill>
                      <a:srgbClr val="ffffff"/>
                    </a:solidFill>
                    <a:latin typeface="Times New Roman"/>
                  </a:endParaRPr>
                </a:p>
              </p:txBody>
            </p:sp>
            <p:sp>
              <p:nvSpPr>
                <p:cNvPr id="266" name=""/>
                <p:cNvSpPr/>
                <p:nvPr/>
              </p:nvSpPr>
              <p:spPr>
                <a:xfrm>
                  <a:off x="6426360" y="4349880"/>
                  <a:ext cx="520560" cy="52056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648480" y="1981080"/>
                  <a:ext cx="1905120" cy="38124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6764400" y="1600200"/>
                  <a:ext cx="1673280" cy="3808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937200" y="1219320"/>
                  <a:ext cx="1327320" cy="3808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7110360" y="838080"/>
                  <a:ext cx="1038240" cy="38124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340760" y="457200"/>
                  <a:ext cx="577800" cy="3808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 name=""/>
              <p:cNvSpPr/>
              <p:nvPr/>
            </p:nvSpPr>
            <p:spPr>
              <a:xfrm>
                <a:off x="6770520" y="1981080"/>
                <a:ext cx="166068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46880" y="838080"/>
                <a:ext cx="62244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116840" y="1219320"/>
                <a:ext cx="108432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943680" y="1600200"/>
                <a:ext cx="13143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6" name=""/>
            <p:cNvSpPr/>
            <p:nvPr/>
          </p:nvSpPr>
          <p:spPr>
            <a:xfrm>
              <a:off x="4984920" y="4654440"/>
              <a:ext cx="126720" cy="26064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7" name=""/>
            <p:cNvSpPr/>
            <p:nvPr/>
          </p:nvSpPr>
          <p:spPr>
            <a:xfrm>
              <a:off x="6121440" y="218448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924160" y="609480"/>
            <a:ext cx="2971800" cy="114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Abraham’s Journey</a:t>
            </a:r>
            <a:endParaRPr b="1" lang="en-US" sz="100" spc="-1" strike="noStrike" u="sng">
              <a:solidFill>
                <a:srgbClr val="c0fef9"/>
              </a:solidFill>
              <a:uFillTx/>
              <a:latin typeface="Times New Roman"/>
            </a:endParaRPr>
          </a:p>
        </p:txBody>
      </p:sp>
      <p:sp>
        <p:nvSpPr>
          <p:cNvPr id="279"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280" name=""/>
          <p:cNvGrpSpPr/>
          <p:nvPr/>
        </p:nvGrpSpPr>
        <p:grpSpPr>
          <a:xfrm>
            <a:off x="0" y="0"/>
            <a:ext cx="9156600" cy="6381720"/>
            <a:chOff x="0" y="0"/>
            <a:chExt cx="9156600" cy="6381720"/>
          </a:xfrm>
        </p:grpSpPr>
        <p:grpSp>
          <p:nvGrpSpPr>
            <p:cNvPr id="281" name=""/>
            <p:cNvGrpSpPr/>
            <p:nvPr/>
          </p:nvGrpSpPr>
          <p:grpSpPr>
            <a:xfrm>
              <a:off x="0" y="0"/>
              <a:ext cx="9156600" cy="6381720"/>
              <a:chOff x="0" y="0"/>
              <a:chExt cx="9156600" cy="6381720"/>
            </a:xfrm>
          </p:grpSpPr>
          <p:sp>
            <p:nvSpPr>
              <p:cNvPr id="282" name=""/>
              <p:cNvSpPr/>
              <p:nvPr/>
            </p:nvSpPr>
            <p:spPr>
              <a:xfrm>
                <a:off x="0" y="1314360"/>
                <a:ext cx="9086760" cy="497232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62040" y="0"/>
                <a:ext cx="7715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afd00"/>
                    </a:solidFill>
                    <a:uFillTx/>
                    <a:latin typeface="Times New Roman"/>
                  </a:rPr>
                  <a:t>Abraham’s Journeys</a:t>
                </a:r>
                <a:endParaRPr b="0" lang="en-US" sz="6000" spc="-1" strike="noStrike">
                  <a:solidFill>
                    <a:srgbClr val="ffffff"/>
                  </a:solidFill>
                  <a:latin typeface="Times New Roman"/>
                </a:endParaRPr>
              </a:p>
            </p:txBody>
          </p:sp>
          <p:grpSp>
            <p:nvGrpSpPr>
              <p:cNvPr id="284" name=""/>
              <p:cNvGrpSpPr/>
              <p:nvPr/>
            </p:nvGrpSpPr>
            <p:grpSpPr>
              <a:xfrm>
                <a:off x="0" y="1295280"/>
                <a:ext cx="9156600" cy="5086440"/>
                <a:chOff x="0" y="1295280"/>
                <a:chExt cx="9156600" cy="5086440"/>
              </a:xfrm>
            </p:grpSpPr>
            <p:grpSp>
              <p:nvGrpSpPr>
                <p:cNvPr id="285" name=""/>
                <p:cNvGrpSpPr/>
                <p:nvPr/>
              </p:nvGrpSpPr>
              <p:grpSpPr>
                <a:xfrm>
                  <a:off x="0" y="1295280"/>
                  <a:ext cx="9086760" cy="5086440"/>
                  <a:chOff x="0" y="1295280"/>
                  <a:chExt cx="9086760" cy="5086440"/>
                </a:xfrm>
              </p:grpSpPr>
              <p:sp>
                <p:nvSpPr>
                  <p:cNvPr id="286" name=""/>
                  <p:cNvSpPr/>
                  <p:nvPr/>
                </p:nvSpPr>
                <p:spPr>
                  <a:xfrm>
                    <a:off x="2724120" y="3141720"/>
                    <a:ext cx="9540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0" y="3860640"/>
                    <a:ext cx="5372280" cy="2521080"/>
                  </a:xfrm>
                  <a:custGeom>
                    <a:avLst/>
                    <a:gdLst/>
                    <a:ahLst/>
                    <a:rect l="l" t="t" r="r" b="b"/>
                    <a:pathLst>
                      <a:path w="3384" h="1588">
                        <a:moveTo>
                          <a:pt x="3384" y="1552"/>
                        </a:moveTo>
                        <a:lnTo>
                          <a:pt x="3348" y="1228"/>
                        </a:lnTo>
                        <a:lnTo>
                          <a:pt x="3060" y="976"/>
                        </a:lnTo>
                        <a:lnTo>
                          <a:pt x="3132" y="724"/>
                        </a:lnTo>
                        <a:lnTo>
                          <a:pt x="3060" y="580"/>
                        </a:lnTo>
                        <a:lnTo>
                          <a:pt x="2988" y="652"/>
                        </a:lnTo>
                        <a:lnTo>
                          <a:pt x="2916" y="616"/>
                        </a:lnTo>
                        <a:lnTo>
                          <a:pt x="2808" y="652"/>
                        </a:lnTo>
                        <a:lnTo>
                          <a:pt x="2376" y="472"/>
                        </a:lnTo>
                        <a:lnTo>
                          <a:pt x="2240" y="516"/>
                        </a:lnTo>
                        <a:lnTo>
                          <a:pt x="2228" y="624"/>
                        </a:lnTo>
                        <a:lnTo>
                          <a:pt x="1692" y="400"/>
                        </a:lnTo>
                        <a:lnTo>
                          <a:pt x="1652" y="156"/>
                        </a:lnTo>
                        <a:lnTo>
                          <a:pt x="1296" y="184"/>
                        </a:lnTo>
                        <a:lnTo>
                          <a:pt x="904" y="0"/>
                        </a:lnTo>
                        <a:lnTo>
                          <a:pt x="576" y="184"/>
                        </a:lnTo>
                        <a:lnTo>
                          <a:pt x="288" y="472"/>
                        </a:lnTo>
                        <a:lnTo>
                          <a:pt x="288" y="544"/>
                        </a:lnTo>
                        <a:lnTo>
                          <a:pt x="216" y="652"/>
                        </a:lnTo>
                        <a:lnTo>
                          <a:pt x="72" y="832"/>
                        </a:lnTo>
                        <a:lnTo>
                          <a:pt x="0" y="868"/>
                        </a:lnTo>
                        <a:lnTo>
                          <a:pt x="0" y="158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76240" y="1295280"/>
                    <a:ext cx="8210520" cy="5029200"/>
                  </a:xfrm>
                  <a:custGeom>
                    <a:avLst/>
                    <a:gdLst/>
                    <a:ahLst/>
                    <a:rect l="l" t="t" r="r" b="b"/>
                    <a:pathLst>
                      <a:path w="5172" h="3168">
                        <a:moveTo>
                          <a:pt x="5172" y="3096"/>
                        </a:moveTo>
                        <a:lnTo>
                          <a:pt x="4956" y="2916"/>
                        </a:lnTo>
                        <a:lnTo>
                          <a:pt x="4452" y="2916"/>
                        </a:lnTo>
                        <a:lnTo>
                          <a:pt x="3660" y="2520"/>
                        </a:lnTo>
                        <a:lnTo>
                          <a:pt x="3660" y="2916"/>
                        </a:lnTo>
                        <a:lnTo>
                          <a:pt x="4128" y="3168"/>
                        </a:lnTo>
                        <a:lnTo>
                          <a:pt x="3048" y="3168"/>
                        </a:lnTo>
                        <a:lnTo>
                          <a:pt x="2580" y="2448"/>
                        </a:lnTo>
                        <a:lnTo>
                          <a:pt x="2544" y="2268"/>
                        </a:lnTo>
                        <a:lnTo>
                          <a:pt x="2724" y="2160"/>
                        </a:lnTo>
                        <a:lnTo>
                          <a:pt x="2832" y="2036"/>
                        </a:lnTo>
                        <a:lnTo>
                          <a:pt x="2880" y="1904"/>
                        </a:lnTo>
                        <a:lnTo>
                          <a:pt x="2832" y="1620"/>
                        </a:lnTo>
                        <a:lnTo>
                          <a:pt x="2652" y="1700"/>
                        </a:lnTo>
                        <a:lnTo>
                          <a:pt x="2256" y="1656"/>
                        </a:lnTo>
                        <a:lnTo>
                          <a:pt x="2280" y="1448"/>
                        </a:lnTo>
                        <a:lnTo>
                          <a:pt x="2364" y="1404"/>
                        </a:lnTo>
                        <a:lnTo>
                          <a:pt x="2580" y="1260"/>
                        </a:lnTo>
                        <a:lnTo>
                          <a:pt x="3180" y="1184"/>
                        </a:lnTo>
                        <a:lnTo>
                          <a:pt x="3216" y="1052"/>
                        </a:lnTo>
                        <a:lnTo>
                          <a:pt x="2796" y="900"/>
                        </a:lnTo>
                        <a:lnTo>
                          <a:pt x="2832" y="756"/>
                        </a:lnTo>
                        <a:lnTo>
                          <a:pt x="2736" y="920"/>
                        </a:lnTo>
                        <a:lnTo>
                          <a:pt x="2616" y="920"/>
                        </a:lnTo>
                        <a:lnTo>
                          <a:pt x="2544" y="944"/>
                        </a:lnTo>
                        <a:lnTo>
                          <a:pt x="2412" y="1064"/>
                        </a:lnTo>
                        <a:lnTo>
                          <a:pt x="2496" y="1244"/>
                        </a:lnTo>
                        <a:lnTo>
                          <a:pt x="2436" y="1260"/>
                        </a:lnTo>
                        <a:lnTo>
                          <a:pt x="2388" y="1256"/>
                        </a:lnTo>
                        <a:lnTo>
                          <a:pt x="2292" y="1388"/>
                        </a:lnTo>
                        <a:lnTo>
                          <a:pt x="2076" y="1400"/>
                        </a:lnTo>
                        <a:lnTo>
                          <a:pt x="2076" y="1548"/>
                        </a:lnTo>
                        <a:lnTo>
                          <a:pt x="2076" y="1656"/>
                        </a:lnTo>
                        <a:lnTo>
                          <a:pt x="1980" y="1772"/>
                        </a:lnTo>
                        <a:lnTo>
                          <a:pt x="1896" y="1728"/>
                        </a:lnTo>
                        <a:lnTo>
                          <a:pt x="1896" y="1476"/>
                        </a:lnTo>
                        <a:lnTo>
                          <a:pt x="1896" y="1404"/>
                        </a:lnTo>
                        <a:lnTo>
                          <a:pt x="1572" y="944"/>
                        </a:lnTo>
                        <a:lnTo>
                          <a:pt x="1500" y="1016"/>
                        </a:lnTo>
                        <a:lnTo>
                          <a:pt x="1524" y="1136"/>
                        </a:lnTo>
                        <a:lnTo>
                          <a:pt x="1707" y="1389"/>
                        </a:lnTo>
                        <a:lnTo>
                          <a:pt x="1689" y="1452"/>
                        </a:lnTo>
                        <a:lnTo>
                          <a:pt x="1620" y="1388"/>
                        </a:lnTo>
                        <a:lnTo>
                          <a:pt x="1617" y="1479"/>
                        </a:lnTo>
                        <a:lnTo>
                          <a:pt x="1572" y="1551"/>
                        </a:lnTo>
                        <a:lnTo>
                          <a:pt x="1554" y="1533"/>
                        </a:lnTo>
                        <a:lnTo>
                          <a:pt x="1545" y="1407"/>
                        </a:lnTo>
                        <a:lnTo>
                          <a:pt x="1428" y="1260"/>
                        </a:lnTo>
                        <a:lnTo>
                          <a:pt x="1248" y="1008"/>
                        </a:lnTo>
                        <a:lnTo>
                          <a:pt x="924" y="1008"/>
                        </a:lnTo>
                        <a:lnTo>
                          <a:pt x="528" y="1548"/>
                        </a:lnTo>
                        <a:lnTo>
                          <a:pt x="276" y="1548"/>
                        </a:lnTo>
                        <a:lnTo>
                          <a:pt x="0" y="1392"/>
                        </a:lnTo>
                        <a:lnTo>
                          <a:pt x="132" y="1044"/>
                        </a:lnTo>
                        <a:lnTo>
                          <a:pt x="204" y="828"/>
                        </a:lnTo>
                        <a:lnTo>
                          <a:pt x="384" y="828"/>
                        </a:lnTo>
                        <a:lnTo>
                          <a:pt x="600" y="936"/>
                        </a:lnTo>
                        <a:lnTo>
                          <a:pt x="744" y="756"/>
                        </a:lnTo>
                        <a:lnTo>
                          <a:pt x="600" y="504"/>
                        </a:lnTo>
                        <a:lnTo>
                          <a:pt x="924" y="504"/>
                        </a:lnTo>
                        <a:lnTo>
                          <a:pt x="960" y="360"/>
                        </a:lnTo>
                        <a:lnTo>
                          <a:pt x="1212" y="180"/>
                        </a:lnTo>
                        <a:lnTo>
                          <a:pt x="1428" y="108"/>
                        </a:lnTo>
                        <a:lnTo>
                          <a:pt x="1404" y="24"/>
                        </a:lnTo>
                        <a:lnTo>
                          <a:pt x="1512" y="24"/>
                        </a:lnTo>
                        <a:lnTo>
                          <a:pt x="1536" y="108"/>
                        </a:lnTo>
                        <a:lnTo>
                          <a:pt x="1752" y="252"/>
                        </a:lnTo>
                        <a:lnTo>
                          <a:pt x="1860" y="0"/>
                        </a:lnTo>
                        <a:lnTo>
                          <a:pt x="5172"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320" y="604368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290" name=""/>
                  <p:cNvSpPr/>
                  <p:nvPr/>
                </p:nvSpPr>
                <p:spPr>
                  <a:xfrm>
                    <a:off x="2714760" y="3419640"/>
                    <a:ext cx="114120" cy="31428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029040" y="3762360"/>
                    <a:ext cx="257040" cy="23184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005360" y="4224240"/>
                    <a:ext cx="223920" cy="9360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086440" y="4162320"/>
                    <a:ext cx="171360" cy="15552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628640" y="1314360"/>
                    <a:ext cx="800280" cy="647640"/>
                  </a:xfrm>
                  <a:custGeom>
                    <a:avLst/>
                    <a:gdLst/>
                    <a:ahLst/>
                    <a:rect l="l" t="t" r="r" b="b"/>
                    <a:pathLst>
                      <a:path w="504" h="408">
                        <a:moveTo>
                          <a:pt x="0" y="354"/>
                        </a:moveTo>
                        <a:lnTo>
                          <a:pt x="54" y="408"/>
                        </a:lnTo>
                        <a:lnTo>
                          <a:pt x="198" y="336"/>
                        </a:lnTo>
                        <a:lnTo>
                          <a:pt x="396" y="354"/>
                        </a:lnTo>
                        <a:lnTo>
                          <a:pt x="504" y="246"/>
                        </a:lnTo>
                        <a:lnTo>
                          <a:pt x="342" y="30"/>
                        </a:lnTo>
                        <a:lnTo>
                          <a:pt x="342" y="0"/>
                        </a:lnTo>
                        <a:lnTo>
                          <a:pt x="174" y="0"/>
                        </a:lnTo>
                        <a:lnTo>
                          <a:pt x="180" y="120"/>
                        </a:lnTo>
                        <a:lnTo>
                          <a:pt x="108" y="120"/>
                        </a:lnTo>
                        <a:lnTo>
                          <a:pt x="126" y="228"/>
                        </a:lnTo>
                        <a:lnTo>
                          <a:pt x="0" y="354"/>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343160" y="1305000"/>
                    <a:ext cx="39996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6" name=""/>
                <p:cNvSpPr/>
                <p:nvPr/>
              </p:nvSpPr>
              <p:spPr>
                <a:xfrm>
                  <a:off x="5078520" y="4444920"/>
                  <a:ext cx="498240" cy="482760"/>
                </a:xfrm>
                <a:custGeom>
                  <a:avLst/>
                  <a:gdLst/>
                  <a:ahLst/>
                  <a:rect l="l" t="t" r="r" b="b"/>
                  <a:pathLst>
                    <a:path w="314" h="304">
                      <a:moveTo>
                        <a:pt x="240" y="12"/>
                      </a:moveTo>
                      <a:lnTo>
                        <a:pt x="288" y="0"/>
                      </a:lnTo>
                      <a:lnTo>
                        <a:pt x="314" y="17"/>
                      </a:lnTo>
                      <a:lnTo>
                        <a:pt x="314" y="53"/>
                      </a:lnTo>
                      <a:lnTo>
                        <a:pt x="278" y="98"/>
                      </a:lnTo>
                      <a:lnTo>
                        <a:pt x="206" y="179"/>
                      </a:lnTo>
                      <a:lnTo>
                        <a:pt x="125" y="269"/>
                      </a:lnTo>
                      <a:lnTo>
                        <a:pt x="64" y="304"/>
                      </a:lnTo>
                      <a:lnTo>
                        <a:pt x="0" y="264"/>
                      </a:lnTo>
                      <a:lnTo>
                        <a:pt x="84" y="204"/>
                      </a:lnTo>
                      <a:lnTo>
                        <a:pt x="192" y="108"/>
                      </a:lnTo>
                      <a:lnTo>
                        <a:pt x="240" y="12"/>
                      </a:lnTo>
                      <a:close/>
                    </a:path>
                  </a:pathLst>
                </a:custGeom>
                <a:solidFill>
                  <a:srgbClr val="99cc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210400" y="3886200"/>
                  <a:ext cx="3125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terranean</a:t>
                  </a:r>
                  <a:endParaRPr b="0" lang="en-US" sz="3600" spc="-1" strike="noStrike">
                    <a:solidFill>
                      <a:srgbClr val="ffffff"/>
                    </a:solidFill>
                    <a:latin typeface="Times New Roman"/>
                  </a:endParaRPr>
                </a:p>
              </p:txBody>
            </p:sp>
            <p:sp>
              <p:nvSpPr>
                <p:cNvPr id="298" name=""/>
                <p:cNvSpPr/>
                <p:nvPr/>
              </p:nvSpPr>
              <p:spPr>
                <a:xfrm>
                  <a:off x="3352320" y="5105520"/>
                  <a:ext cx="1350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gypt</a:t>
                  </a:r>
                  <a:endParaRPr b="0" lang="en-US" sz="3600" spc="-1" strike="noStrike">
                    <a:solidFill>
                      <a:srgbClr val="ffffff"/>
                    </a:solidFill>
                    <a:latin typeface="Times New Roman"/>
                  </a:endParaRPr>
                </a:p>
              </p:txBody>
            </p:sp>
            <p:sp>
              <p:nvSpPr>
                <p:cNvPr id="299" name=""/>
                <p:cNvSpPr/>
                <p:nvPr/>
              </p:nvSpPr>
              <p:spPr>
                <a:xfrm>
                  <a:off x="6345360" y="4578480"/>
                  <a:ext cx="520560" cy="52056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721560" y="3719520"/>
                  <a:ext cx="2435040" cy="228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Haran &amp; Ur of the Chaldean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Iraq)</a:t>
                  </a:r>
                  <a:endParaRPr b="0" lang="en-US" sz="3600" spc="-1" strike="noStrike">
                    <a:solidFill>
                      <a:srgbClr val="ffffff"/>
                    </a:solidFill>
                    <a:latin typeface="Times New Roman"/>
                  </a:endParaRPr>
                </a:p>
              </p:txBody>
            </p:sp>
            <p:sp>
              <p:nvSpPr>
                <p:cNvPr id="301" name=""/>
                <p:cNvSpPr/>
                <p:nvPr/>
              </p:nvSpPr>
              <p:spPr>
                <a:xfrm>
                  <a:off x="4613400" y="3757680"/>
                  <a:ext cx="1906560" cy="1369800"/>
                </a:xfrm>
                <a:custGeom>
                  <a:avLst/>
                  <a:gdLst/>
                  <a:ahLst/>
                  <a:rect l="l" t="t" r="r" b="b"/>
                  <a:pathLst>
                    <a:path w="1201" h="863">
                      <a:moveTo>
                        <a:pt x="1183" y="609"/>
                      </a:moveTo>
                      <a:lnTo>
                        <a:pt x="1200" y="568"/>
                      </a:lnTo>
                      <a:lnTo>
                        <a:pt x="1179" y="535"/>
                      </a:lnTo>
                      <a:lnTo>
                        <a:pt x="1157" y="502"/>
                      </a:lnTo>
                      <a:lnTo>
                        <a:pt x="1124" y="469"/>
                      </a:lnTo>
                      <a:lnTo>
                        <a:pt x="1091" y="437"/>
                      </a:lnTo>
                      <a:lnTo>
                        <a:pt x="1059" y="404"/>
                      </a:lnTo>
                      <a:lnTo>
                        <a:pt x="1026" y="382"/>
                      </a:lnTo>
                      <a:lnTo>
                        <a:pt x="993" y="349"/>
                      </a:lnTo>
                      <a:lnTo>
                        <a:pt x="960" y="328"/>
                      </a:lnTo>
                      <a:lnTo>
                        <a:pt x="917" y="317"/>
                      </a:lnTo>
                      <a:lnTo>
                        <a:pt x="884" y="295"/>
                      </a:lnTo>
                      <a:lnTo>
                        <a:pt x="873" y="262"/>
                      </a:lnTo>
                      <a:lnTo>
                        <a:pt x="873" y="229"/>
                      </a:lnTo>
                      <a:lnTo>
                        <a:pt x="851" y="186"/>
                      </a:lnTo>
                      <a:lnTo>
                        <a:pt x="830" y="153"/>
                      </a:lnTo>
                      <a:lnTo>
                        <a:pt x="808" y="120"/>
                      </a:lnTo>
                      <a:lnTo>
                        <a:pt x="786" y="77"/>
                      </a:lnTo>
                      <a:lnTo>
                        <a:pt x="764" y="44"/>
                      </a:lnTo>
                      <a:lnTo>
                        <a:pt x="731" y="33"/>
                      </a:lnTo>
                      <a:lnTo>
                        <a:pt x="699" y="0"/>
                      </a:lnTo>
                      <a:lnTo>
                        <a:pt x="688" y="33"/>
                      </a:lnTo>
                      <a:lnTo>
                        <a:pt x="666" y="66"/>
                      </a:lnTo>
                      <a:lnTo>
                        <a:pt x="644" y="109"/>
                      </a:lnTo>
                      <a:lnTo>
                        <a:pt x="622" y="142"/>
                      </a:lnTo>
                      <a:lnTo>
                        <a:pt x="611" y="175"/>
                      </a:lnTo>
                      <a:lnTo>
                        <a:pt x="600" y="208"/>
                      </a:lnTo>
                      <a:lnTo>
                        <a:pt x="600" y="251"/>
                      </a:lnTo>
                      <a:lnTo>
                        <a:pt x="600" y="284"/>
                      </a:lnTo>
                      <a:lnTo>
                        <a:pt x="590" y="317"/>
                      </a:lnTo>
                      <a:lnTo>
                        <a:pt x="590" y="360"/>
                      </a:lnTo>
                      <a:lnTo>
                        <a:pt x="579" y="393"/>
                      </a:lnTo>
                      <a:lnTo>
                        <a:pt x="579" y="426"/>
                      </a:lnTo>
                      <a:lnTo>
                        <a:pt x="557" y="469"/>
                      </a:lnTo>
                      <a:lnTo>
                        <a:pt x="535" y="502"/>
                      </a:lnTo>
                      <a:lnTo>
                        <a:pt x="513" y="535"/>
                      </a:lnTo>
                      <a:lnTo>
                        <a:pt x="502" y="568"/>
                      </a:lnTo>
                      <a:lnTo>
                        <a:pt x="480" y="611"/>
                      </a:lnTo>
                      <a:lnTo>
                        <a:pt x="459" y="644"/>
                      </a:lnTo>
                      <a:lnTo>
                        <a:pt x="426" y="666"/>
                      </a:lnTo>
                      <a:lnTo>
                        <a:pt x="393" y="688"/>
                      </a:lnTo>
                      <a:lnTo>
                        <a:pt x="360" y="709"/>
                      </a:lnTo>
                      <a:lnTo>
                        <a:pt x="317" y="731"/>
                      </a:lnTo>
                      <a:lnTo>
                        <a:pt x="284" y="753"/>
                      </a:lnTo>
                      <a:lnTo>
                        <a:pt x="251" y="764"/>
                      </a:lnTo>
                      <a:lnTo>
                        <a:pt x="208" y="764"/>
                      </a:lnTo>
                      <a:lnTo>
                        <a:pt x="175" y="764"/>
                      </a:lnTo>
                      <a:lnTo>
                        <a:pt x="142" y="775"/>
                      </a:lnTo>
                      <a:lnTo>
                        <a:pt x="99" y="775"/>
                      </a:lnTo>
                      <a:lnTo>
                        <a:pt x="66" y="786"/>
                      </a:lnTo>
                      <a:lnTo>
                        <a:pt x="33" y="797"/>
                      </a:lnTo>
                      <a:lnTo>
                        <a:pt x="0" y="797"/>
                      </a:lnTo>
                      <a:lnTo>
                        <a:pt x="33" y="829"/>
                      </a:lnTo>
                      <a:lnTo>
                        <a:pt x="66" y="851"/>
                      </a:lnTo>
                      <a:lnTo>
                        <a:pt x="99" y="862"/>
                      </a:lnTo>
                      <a:lnTo>
                        <a:pt x="142" y="862"/>
                      </a:lnTo>
                      <a:lnTo>
                        <a:pt x="175" y="862"/>
                      </a:lnTo>
                      <a:lnTo>
                        <a:pt x="208" y="862"/>
                      </a:lnTo>
                      <a:lnTo>
                        <a:pt x="251" y="829"/>
                      </a:lnTo>
                      <a:lnTo>
                        <a:pt x="284" y="818"/>
                      </a:lnTo>
                      <a:lnTo>
                        <a:pt x="317" y="808"/>
                      </a:lnTo>
                      <a:lnTo>
                        <a:pt x="350" y="786"/>
                      </a:lnTo>
                      <a:lnTo>
                        <a:pt x="393" y="753"/>
                      </a:lnTo>
                      <a:lnTo>
                        <a:pt x="415" y="720"/>
                      </a:lnTo>
                      <a:lnTo>
                        <a:pt x="448" y="688"/>
                      </a:lnTo>
                      <a:lnTo>
                        <a:pt x="459" y="655"/>
                      </a:lnTo>
                    </a:path>
                  </a:pathLst>
                </a:custGeom>
                <a:noFill/>
                <a:ln cap="rnd" w="3168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5256720" y="3429000"/>
                  <a:ext cx="1707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aan</a:t>
                  </a:r>
                  <a:endParaRPr b="0" lang="en-US" sz="3600" spc="-1" strike="noStrike">
                    <a:solidFill>
                      <a:srgbClr val="ffffff"/>
                    </a:solidFill>
                    <a:latin typeface="Times New Roman"/>
                  </a:endParaRPr>
                </a:p>
              </p:txBody>
            </p:sp>
            <p:sp>
              <p:nvSpPr>
                <p:cNvPr id="303" name=""/>
                <p:cNvSpPr/>
                <p:nvPr/>
              </p:nvSpPr>
              <p:spPr>
                <a:xfrm rot="19062000">
                  <a:off x="6259680" y="4347720"/>
                  <a:ext cx="115560" cy="166680"/>
                </a:xfrm>
                <a:prstGeom prst="triangle">
                  <a:avLst>
                    <a:gd name="adj" fmla="val 50000"/>
                  </a:avLst>
                </a:prstGeom>
                <a:solidFill>
                  <a:srgbClr val="ff5008"/>
                </a:solidFill>
                <a:ln w="25560">
                  <a:solidFill>
                    <a:srgbClr val="ff5008"/>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304" name=""/>
                <p:cNvSpPr/>
                <p:nvPr/>
              </p:nvSpPr>
              <p:spPr>
                <a:xfrm rot="10939800">
                  <a:off x="5518080" y="4176360"/>
                  <a:ext cx="90720" cy="128520"/>
                </a:xfrm>
                <a:prstGeom prst="triangle">
                  <a:avLst>
                    <a:gd name="adj" fmla="val 50000"/>
                  </a:avLst>
                </a:prstGeom>
                <a:solidFill>
                  <a:srgbClr val="ff5008"/>
                </a:solidFill>
                <a:ln w="25560">
                  <a:solidFill>
                    <a:srgbClr val="ff5008"/>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05" name=""/>
                <p:cNvSpPr/>
                <p:nvPr/>
              </p:nvSpPr>
              <p:spPr>
                <a:xfrm rot="14355000">
                  <a:off x="5059440" y="4841280"/>
                  <a:ext cx="109440" cy="128880"/>
                </a:xfrm>
                <a:prstGeom prst="triangle">
                  <a:avLst>
                    <a:gd name="adj" fmla="val 50000"/>
                  </a:avLst>
                </a:prstGeom>
                <a:solidFill>
                  <a:srgbClr val="ff5008"/>
                </a:solidFill>
                <a:ln w="25560">
                  <a:solidFill>
                    <a:srgbClr val="ff5008"/>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06" name=""/>
                <p:cNvSpPr/>
                <p:nvPr/>
              </p:nvSpPr>
              <p:spPr>
                <a:xfrm rot="3718800">
                  <a:off x="5077440" y="4962960"/>
                  <a:ext cx="104760" cy="128880"/>
                </a:xfrm>
                <a:prstGeom prst="triangle">
                  <a:avLst>
                    <a:gd name="adj" fmla="val 50000"/>
                  </a:avLst>
                </a:prstGeom>
                <a:solidFill>
                  <a:srgbClr val="ff5008"/>
                </a:solidFill>
                <a:ln w="25560">
                  <a:solidFill>
                    <a:srgbClr val="ff5008"/>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grpSp>
        <p:sp>
          <p:nvSpPr>
            <p:cNvPr id="307" name=""/>
            <p:cNvSpPr/>
            <p:nvPr/>
          </p:nvSpPr>
          <p:spPr>
            <a:xfrm>
              <a:off x="4984920" y="5054760"/>
              <a:ext cx="126720" cy="26028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08" name=""/>
            <p:cNvSpPr/>
            <p:nvPr/>
          </p:nvSpPr>
          <p:spPr>
            <a:xfrm>
              <a:off x="6292800" y="229860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309" name=""/>
          <p:cNvGrpSpPr/>
          <p:nvPr/>
        </p:nvGrpSpPr>
        <p:grpSpPr>
          <a:xfrm>
            <a:off x="557280" y="0"/>
            <a:ext cx="8586720" cy="6693480"/>
            <a:chOff x="557280" y="0"/>
            <a:chExt cx="8586720" cy="6693480"/>
          </a:xfrm>
        </p:grpSpPr>
        <p:grpSp>
          <p:nvGrpSpPr>
            <p:cNvPr id="310" name=""/>
            <p:cNvGrpSpPr/>
            <p:nvPr/>
          </p:nvGrpSpPr>
          <p:grpSpPr>
            <a:xfrm>
              <a:off x="557280" y="0"/>
              <a:ext cx="8586720" cy="6693480"/>
              <a:chOff x="557280" y="0"/>
              <a:chExt cx="8586720" cy="6693480"/>
            </a:xfrm>
          </p:grpSpPr>
          <p:sp>
            <p:nvSpPr>
              <p:cNvPr id="311" name=""/>
              <p:cNvSpPr/>
              <p:nvPr/>
            </p:nvSpPr>
            <p:spPr>
              <a:xfrm flipH="1" flipV="1">
                <a:off x="5735520" y="2566440"/>
                <a:ext cx="190080" cy="10476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H="1">
                <a:off x="5781600" y="2747880"/>
                <a:ext cx="204480" cy="9540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H="1" flipV="1">
                <a:off x="4993560" y="2445840"/>
                <a:ext cx="309240" cy="11772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V="1">
                <a:off x="5097240" y="2304720"/>
                <a:ext cx="193320" cy="12060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15" name="" descr=""/>
              <p:cNvPicPr/>
              <p:nvPr/>
            </p:nvPicPr>
            <p:blipFill>
              <a:blip r:embed="rId1"/>
              <a:stretch/>
            </p:blipFill>
            <p:spPr>
              <a:xfrm>
                <a:off x="557280" y="71280"/>
                <a:ext cx="8586720" cy="6613560"/>
              </a:xfrm>
              <a:prstGeom prst="rect">
                <a:avLst/>
              </a:prstGeom>
              <a:ln w="0">
                <a:noFill/>
              </a:ln>
            </p:spPr>
          </p:pic>
          <p:sp>
            <p:nvSpPr>
              <p:cNvPr id="316" name=""/>
              <p:cNvSpPr/>
              <p:nvPr/>
            </p:nvSpPr>
            <p:spPr>
              <a:xfrm>
                <a:off x="748800" y="3706920"/>
                <a:ext cx="19339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Egypt</a:t>
                </a:r>
                <a:endParaRPr b="0" lang="en-US" sz="5400" spc="-1" strike="noStrike">
                  <a:solidFill>
                    <a:srgbClr val="ffffff"/>
                  </a:solidFill>
                  <a:latin typeface="Times New Roman"/>
                </a:endParaRPr>
              </a:p>
            </p:txBody>
          </p:sp>
          <p:sp>
            <p:nvSpPr>
              <p:cNvPr id="317" name=""/>
              <p:cNvSpPr/>
              <p:nvPr/>
            </p:nvSpPr>
            <p:spPr>
              <a:xfrm rot="19680000">
                <a:off x="681480" y="3039480"/>
                <a:ext cx="8823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le</a:t>
                </a:r>
                <a:endParaRPr b="0" lang="en-US" sz="3200" spc="-1" strike="noStrike">
                  <a:solidFill>
                    <a:srgbClr val="ffffff"/>
                  </a:solidFill>
                  <a:latin typeface="Times New Roman"/>
                </a:endParaRPr>
              </a:p>
            </p:txBody>
          </p:sp>
          <p:sp>
            <p:nvSpPr>
              <p:cNvPr id="318" name=""/>
              <p:cNvSpPr/>
              <p:nvPr/>
            </p:nvSpPr>
            <p:spPr>
              <a:xfrm>
                <a:off x="1365840" y="2116080"/>
                <a:ext cx="1912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ile Delta</a:t>
                </a:r>
                <a:endParaRPr b="0" lang="en-US" sz="3200" spc="-1" strike="noStrike">
                  <a:solidFill>
                    <a:srgbClr val="ffffff"/>
                  </a:solidFill>
                  <a:latin typeface="Times New Roman"/>
                </a:endParaRPr>
              </a:p>
            </p:txBody>
          </p:sp>
          <p:sp>
            <p:nvSpPr>
              <p:cNvPr id="319" name=""/>
              <p:cNvSpPr/>
              <p:nvPr/>
            </p:nvSpPr>
            <p:spPr>
              <a:xfrm>
                <a:off x="1698120" y="1192320"/>
                <a:ext cx="46926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diterranean Sea</a:t>
                </a:r>
                <a:endParaRPr b="0" lang="en-US" sz="4000" spc="-1" strike="noStrike">
                  <a:solidFill>
                    <a:srgbClr val="ffffff"/>
                  </a:solidFill>
                  <a:latin typeface="Times New Roman"/>
                </a:endParaRPr>
              </a:p>
            </p:txBody>
          </p:sp>
          <p:sp>
            <p:nvSpPr>
              <p:cNvPr id="320" name=""/>
              <p:cNvSpPr/>
              <p:nvPr/>
            </p:nvSpPr>
            <p:spPr>
              <a:xfrm>
                <a:off x="7248240" y="6238800"/>
                <a:ext cx="1796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Photo</a:t>
                </a:r>
                <a:endParaRPr b="0" lang="en-US" sz="2400" spc="-1" strike="noStrike">
                  <a:solidFill>
                    <a:srgbClr val="ffffff"/>
                  </a:solidFill>
                  <a:latin typeface="Times New Roman"/>
                </a:endParaRPr>
              </a:p>
            </p:txBody>
          </p:sp>
          <p:sp>
            <p:nvSpPr>
              <p:cNvPr id="321" name=""/>
              <p:cNvSpPr/>
              <p:nvPr/>
            </p:nvSpPr>
            <p:spPr>
              <a:xfrm>
                <a:off x="4033440" y="4190760"/>
                <a:ext cx="11721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ai</a:t>
                </a:r>
                <a:endParaRPr b="0" lang="en-US" sz="3600" spc="-1" strike="noStrike">
                  <a:solidFill>
                    <a:srgbClr val="ffffff"/>
                  </a:solidFill>
                  <a:latin typeface="Times New Roman"/>
                </a:endParaRPr>
              </a:p>
            </p:txBody>
          </p:sp>
          <p:sp>
            <p:nvSpPr>
              <p:cNvPr id="322" name=""/>
              <p:cNvSpPr/>
              <p:nvPr/>
            </p:nvSpPr>
            <p:spPr>
              <a:xfrm>
                <a:off x="2584440" y="652320"/>
                <a:ext cx="6514560" cy="2216160"/>
              </a:xfrm>
              <a:custGeom>
                <a:avLst/>
                <a:gdLst/>
                <a:ahLst/>
                <a:rect l="l" t="t" r="r" b="b"/>
                <a:pathLst>
                  <a:path w="4104" h="1396">
                    <a:moveTo>
                      <a:pt x="4103" y="135"/>
                    </a:moveTo>
                    <a:lnTo>
                      <a:pt x="4075" y="116"/>
                    </a:lnTo>
                    <a:lnTo>
                      <a:pt x="4056" y="87"/>
                    </a:lnTo>
                    <a:lnTo>
                      <a:pt x="4028" y="68"/>
                    </a:lnTo>
                    <a:lnTo>
                      <a:pt x="3991" y="58"/>
                    </a:lnTo>
                    <a:lnTo>
                      <a:pt x="3963" y="28"/>
                    </a:lnTo>
                    <a:lnTo>
                      <a:pt x="3935" y="19"/>
                    </a:lnTo>
                    <a:lnTo>
                      <a:pt x="3898" y="0"/>
                    </a:lnTo>
                    <a:lnTo>
                      <a:pt x="3870" y="0"/>
                    </a:lnTo>
                    <a:lnTo>
                      <a:pt x="3842" y="19"/>
                    </a:lnTo>
                    <a:lnTo>
                      <a:pt x="3815" y="48"/>
                    </a:lnTo>
                    <a:lnTo>
                      <a:pt x="3786" y="77"/>
                    </a:lnTo>
                    <a:lnTo>
                      <a:pt x="3768" y="106"/>
                    </a:lnTo>
                    <a:lnTo>
                      <a:pt x="3740" y="125"/>
                    </a:lnTo>
                    <a:lnTo>
                      <a:pt x="3721" y="154"/>
                    </a:lnTo>
                    <a:lnTo>
                      <a:pt x="3693" y="174"/>
                    </a:lnTo>
                    <a:lnTo>
                      <a:pt x="3665" y="203"/>
                    </a:lnTo>
                    <a:lnTo>
                      <a:pt x="3637" y="213"/>
                    </a:lnTo>
                    <a:lnTo>
                      <a:pt x="3609" y="242"/>
                    </a:lnTo>
                    <a:lnTo>
                      <a:pt x="3572" y="271"/>
                    </a:lnTo>
                    <a:lnTo>
                      <a:pt x="3544" y="291"/>
                    </a:lnTo>
                    <a:lnTo>
                      <a:pt x="3515" y="310"/>
                    </a:lnTo>
                    <a:lnTo>
                      <a:pt x="3488" y="339"/>
                    </a:lnTo>
                    <a:lnTo>
                      <a:pt x="3460" y="358"/>
                    </a:lnTo>
                    <a:lnTo>
                      <a:pt x="3432" y="378"/>
                    </a:lnTo>
                    <a:lnTo>
                      <a:pt x="3404" y="407"/>
                    </a:lnTo>
                    <a:lnTo>
                      <a:pt x="3375" y="426"/>
                    </a:lnTo>
                    <a:lnTo>
                      <a:pt x="3339" y="455"/>
                    </a:lnTo>
                    <a:lnTo>
                      <a:pt x="3310" y="474"/>
                    </a:lnTo>
                    <a:lnTo>
                      <a:pt x="3282" y="494"/>
                    </a:lnTo>
                    <a:lnTo>
                      <a:pt x="3245" y="513"/>
                    </a:lnTo>
                    <a:lnTo>
                      <a:pt x="3162" y="533"/>
                    </a:lnTo>
                    <a:lnTo>
                      <a:pt x="3096" y="542"/>
                    </a:lnTo>
                    <a:lnTo>
                      <a:pt x="3069" y="571"/>
                    </a:lnTo>
                    <a:lnTo>
                      <a:pt x="2984" y="591"/>
                    </a:lnTo>
                    <a:lnTo>
                      <a:pt x="2956" y="610"/>
                    </a:lnTo>
                    <a:lnTo>
                      <a:pt x="2919" y="639"/>
                    </a:lnTo>
                    <a:lnTo>
                      <a:pt x="2891" y="658"/>
                    </a:lnTo>
                    <a:lnTo>
                      <a:pt x="2872" y="687"/>
                    </a:lnTo>
                    <a:lnTo>
                      <a:pt x="2844" y="707"/>
                    </a:lnTo>
                    <a:lnTo>
                      <a:pt x="2826" y="736"/>
                    </a:lnTo>
                    <a:lnTo>
                      <a:pt x="2798" y="746"/>
                    </a:lnTo>
                    <a:lnTo>
                      <a:pt x="2732" y="765"/>
                    </a:lnTo>
                    <a:lnTo>
                      <a:pt x="2658" y="784"/>
                    </a:lnTo>
                    <a:lnTo>
                      <a:pt x="2593" y="803"/>
                    </a:lnTo>
                    <a:lnTo>
                      <a:pt x="2518" y="824"/>
                    </a:lnTo>
                    <a:lnTo>
                      <a:pt x="2453" y="843"/>
                    </a:lnTo>
                    <a:lnTo>
                      <a:pt x="2425" y="862"/>
                    </a:lnTo>
                    <a:lnTo>
                      <a:pt x="2396" y="949"/>
                    </a:lnTo>
                    <a:lnTo>
                      <a:pt x="2378" y="1017"/>
                    </a:lnTo>
                    <a:lnTo>
                      <a:pt x="2359" y="1094"/>
                    </a:lnTo>
                    <a:lnTo>
                      <a:pt x="2341" y="1123"/>
                    </a:lnTo>
                    <a:lnTo>
                      <a:pt x="2313" y="1143"/>
                    </a:lnTo>
                    <a:lnTo>
                      <a:pt x="2229" y="1153"/>
                    </a:lnTo>
                    <a:lnTo>
                      <a:pt x="2145" y="1153"/>
                    </a:lnTo>
                    <a:lnTo>
                      <a:pt x="2117" y="1163"/>
                    </a:lnTo>
                    <a:lnTo>
                      <a:pt x="2052" y="1163"/>
                    </a:lnTo>
                    <a:lnTo>
                      <a:pt x="2023" y="1172"/>
                    </a:lnTo>
                    <a:lnTo>
                      <a:pt x="1986" y="1191"/>
                    </a:lnTo>
                    <a:lnTo>
                      <a:pt x="1903" y="1201"/>
                    </a:lnTo>
                    <a:lnTo>
                      <a:pt x="1818" y="1220"/>
                    </a:lnTo>
                    <a:lnTo>
                      <a:pt x="1790" y="1230"/>
                    </a:lnTo>
                    <a:lnTo>
                      <a:pt x="1753" y="1230"/>
                    </a:lnTo>
                    <a:lnTo>
                      <a:pt x="1725" y="1230"/>
                    </a:lnTo>
                    <a:lnTo>
                      <a:pt x="1642" y="1230"/>
                    </a:lnTo>
                    <a:lnTo>
                      <a:pt x="1557" y="1230"/>
                    </a:lnTo>
                    <a:lnTo>
                      <a:pt x="1474" y="1230"/>
                    </a:lnTo>
                    <a:lnTo>
                      <a:pt x="1445" y="1240"/>
                    </a:lnTo>
                    <a:lnTo>
                      <a:pt x="1371" y="1240"/>
                    </a:lnTo>
                    <a:lnTo>
                      <a:pt x="1287" y="1250"/>
                    </a:lnTo>
                    <a:lnTo>
                      <a:pt x="1212" y="1250"/>
                    </a:lnTo>
                    <a:lnTo>
                      <a:pt x="1147" y="1250"/>
                    </a:lnTo>
                    <a:lnTo>
                      <a:pt x="1072" y="1260"/>
                    </a:lnTo>
                    <a:lnTo>
                      <a:pt x="961" y="1260"/>
                    </a:lnTo>
                    <a:lnTo>
                      <a:pt x="886" y="1269"/>
                    </a:lnTo>
                    <a:lnTo>
                      <a:pt x="811" y="1269"/>
                    </a:lnTo>
                    <a:lnTo>
                      <a:pt x="737" y="1279"/>
                    </a:lnTo>
                    <a:lnTo>
                      <a:pt x="709" y="1279"/>
                    </a:lnTo>
                    <a:lnTo>
                      <a:pt x="634" y="1279"/>
                    </a:lnTo>
                    <a:lnTo>
                      <a:pt x="551" y="1288"/>
                    </a:lnTo>
                    <a:lnTo>
                      <a:pt x="523" y="1288"/>
                    </a:lnTo>
                    <a:lnTo>
                      <a:pt x="448" y="1298"/>
                    </a:lnTo>
                    <a:lnTo>
                      <a:pt x="364" y="1308"/>
                    </a:lnTo>
                    <a:lnTo>
                      <a:pt x="336" y="1308"/>
                    </a:lnTo>
                    <a:lnTo>
                      <a:pt x="261" y="1308"/>
                    </a:lnTo>
                    <a:lnTo>
                      <a:pt x="233" y="1317"/>
                    </a:lnTo>
                    <a:lnTo>
                      <a:pt x="168" y="1317"/>
                    </a:lnTo>
                    <a:lnTo>
                      <a:pt x="140" y="1317"/>
                    </a:lnTo>
                    <a:lnTo>
                      <a:pt x="65" y="1317"/>
                    </a:lnTo>
                    <a:lnTo>
                      <a:pt x="28" y="1317"/>
                    </a:lnTo>
                    <a:lnTo>
                      <a:pt x="0" y="1317"/>
                    </a:lnTo>
                    <a:lnTo>
                      <a:pt x="28" y="1336"/>
                    </a:lnTo>
                    <a:lnTo>
                      <a:pt x="56" y="1347"/>
                    </a:lnTo>
                    <a:lnTo>
                      <a:pt x="85" y="1357"/>
                    </a:lnTo>
                    <a:lnTo>
                      <a:pt x="121" y="1376"/>
                    </a:lnTo>
                    <a:lnTo>
                      <a:pt x="150" y="1376"/>
                    </a:lnTo>
                    <a:lnTo>
                      <a:pt x="178" y="1376"/>
                    </a:lnTo>
                    <a:lnTo>
                      <a:pt x="215" y="1376"/>
                    </a:lnTo>
                    <a:lnTo>
                      <a:pt x="243" y="1376"/>
                    </a:lnTo>
                    <a:lnTo>
                      <a:pt x="271" y="1376"/>
                    </a:lnTo>
                    <a:lnTo>
                      <a:pt x="308" y="1376"/>
                    </a:lnTo>
                    <a:lnTo>
                      <a:pt x="391" y="1376"/>
                    </a:lnTo>
                    <a:lnTo>
                      <a:pt x="420" y="1385"/>
                    </a:lnTo>
                    <a:lnTo>
                      <a:pt x="504" y="1385"/>
                    </a:lnTo>
                    <a:lnTo>
                      <a:pt x="588" y="1385"/>
                    </a:lnTo>
                    <a:lnTo>
                      <a:pt x="616" y="1385"/>
                    </a:lnTo>
                    <a:lnTo>
                      <a:pt x="644" y="1385"/>
                    </a:lnTo>
                    <a:lnTo>
                      <a:pt x="681" y="1385"/>
                    </a:lnTo>
                    <a:lnTo>
                      <a:pt x="746" y="1385"/>
                    </a:lnTo>
                    <a:lnTo>
                      <a:pt x="774" y="1385"/>
                    </a:lnTo>
                    <a:lnTo>
                      <a:pt x="839" y="1385"/>
                    </a:lnTo>
                    <a:lnTo>
                      <a:pt x="904" y="1385"/>
                    </a:lnTo>
                    <a:lnTo>
                      <a:pt x="933" y="1385"/>
                    </a:lnTo>
                    <a:lnTo>
                      <a:pt x="961" y="1385"/>
                    </a:lnTo>
                    <a:lnTo>
                      <a:pt x="1035" y="1385"/>
                    </a:lnTo>
                    <a:lnTo>
                      <a:pt x="1064" y="1385"/>
                    </a:lnTo>
                    <a:lnTo>
                      <a:pt x="1101" y="1385"/>
                    </a:lnTo>
                    <a:lnTo>
                      <a:pt x="1184" y="1395"/>
                    </a:lnTo>
                    <a:lnTo>
                      <a:pt x="1269" y="1395"/>
                    </a:lnTo>
                    <a:lnTo>
                      <a:pt x="1352" y="1395"/>
                    </a:lnTo>
                    <a:lnTo>
                      <a:pt x="1427" y="1395"/>
                    </a:lnTo>
                    <a:lnTo>
                      <a:pt x="1492" y="1395"/>
                    </a:lnTo>
                    <a:lnTo>
                      <a:pt x="1520" y="1395"/>
                    </a:lnTo>
                    <a:lnTo>
                      <a:pt x="1585" y="1395"/>
                    </a:lnTo>
                    <a:lnTo>
                      <a:pt x="1660" y="1395"/>
                    </a:lnTo>
                    <a:lnTo>
                      <a:pt x="1725" y="1395"/>
                    </a:lnTo>
                    <a:lnTo>
                      <a:pt x="1790" y="1395"/>
                    </a:lnTo>
                    <a:lnTo>
                      <a:pt x="1818" y="1395"/>
                    </a:lnTo>
                    <a:lnTo>
                      <a:pt x="1883" y="1395"/>
                    </a:lnTo>
                    <a:lnTo>
                      <a:pt x="1950" y="1395"/>
                    </a:lnTo>
                    <a:lnTo>
                      <a:pt x="2015" y="1395"/>
                    </a:lnTo>
                    <a:lnTo>
                      <a:pt x="2089" y="1395"/>
                    </a:lnTo>
                    <a:lnTo>
                      <a:pt x="2163" y="1395"/>
                    </a:lnTo>
                    <a:lnTo>
                      <a:pt x="2229" y="1395"/>
                    </a:lnTo>
                    <a:lnTo>
                      <a:pt x="2303" y="1395"/>
                    </a:lnTo>
                    <a:lnTo>
                      <a:pt x="2378" y="1395"/>
                    </a:lnTo>
                    <a:lnTo>
                      <a:pt x="2462" y="1385"/>
                    </a:lnTo>
                    <a:lnTo>
                      <a:pt x="2499" y="1376"/>
                    </a:lnTo>
                    <a:lnTo>
                      <a:pt x="2527" y="1347"/>
                    </a:lnTo>
                    <a:lnTo>
                      <a:pt x="2556" y="1327"/>
                    </a:lnTo>
                    <a:lnTo>
                      <a:pt x="2593" y="1298"/>
                    </a:lnTo>
                    <a:lnTo>
                      <a:pt x="2621" y="1288"/>
                    </a:lnTo>
                    <a:lnTo>
                      <a:pt x="2649" y="1260"/>
                    </a:lnTo>
                    <a:lnTo>
                      <a:pt x="2676" y="1230"/>
                    </a:lnTo>
                    <a:lnTo>
                      <a:pt x="2704" y="1201"/>
                    </a:lnTo>
                    <a:lnTo>
                      <a:pt x="2714" y="1134"/>
                    </a:lnTo>
                    <a:lnTo>
                      <a:pt x="2732" y="1104"/>
                    </a:lnTo>
                    <a:lnTo>
                      <a:pt x="2751" y="1075"/>
                    </a:lnTo>
                    <a:lnTo>
                      <a:pt x="2761" y="1007"/>
                    </a:lnTo>
                    <a:lnTo>
                      <a:pt x="2789" y="988"/>
                    </a:lnTo>
                    <a:lnTo>
                      <a:pt x="2798" y="959"/>
                    </a:lnTo>
                    <a:lnTo>
                      <a:pt x="2826" y="930"/>
                    </a:lnTo>
                    <a:lnTo>
                      <a:pt x="2854" y="900"/>
                    </a:lnTo>
                    <a:lnTo>
                      <a:pt x="2882" y="862"/>
                    </a:lnTo>
                    <a:lnTo>
                      <a:pt x="2909" y="833"/>
                    </a:lnTo>
                    <a:lnTo>
                      <a:pt x="2929" y="803"/>
                    </a:lnTo>
                  </a:path>
                </a:pathLst>
              </a:custGeom>
              <a:noFill/>
              <a:ln cap="rnd" w="5076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096320" y="761760"/>
                <a:ext cx="1707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Canaan</a:t>
                </a:r>
                <a:endParaRPr b="0" lang="en-US" sz="3600" spc="-1" strike="noStrike">
                  <a:solidFill>
                    <a:srgbClr val="ffffff"/>
                  </a:solidFill>
                  <a:latin typeface="Times New Roman"/>
                </a:endParaRPr>
              </a:p>
            </p:txBody>
          </p:sp>
          <p:sp>
            <p:nvSpPr>
              <p:cNvPr id="324" name=""/>
              <p:cNvSpPr/>
              <p:nvPr/>
            </p:nvSpPr>
            <p:spPr>
              <a:xfrm>
                <a:off x="778320" y="6359400"/>
                <a:ext cx="1798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BibleTeacher.com  </a:t>
                </a:r>
                <a:endParaRPr b="0" lang="en-US" sz="1200" spc="-1" strike="noStrike">
                  <a:solidFill>
                    <a:srgbClr val="ffffff"/>
                  </a:solidFill>
                  <a:latin typeface="Times New Roman"/>
                </a:endParaRPr>
              </a:p>
            </p:txBody>
          </p:sp>
          <p:sp>
            <p:nvSpPr>
              <p:cNvPr id="325" name=""/>
              <p:cNvSpPr/>
              <p:nvPr/>
            </p:nvSpPr>
            <p:spPr>
              <a:xfrm>
                <a:off x="685440" y="0"/>
                <a:ext cx="7492680" cy="10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Times New Roman"/>
                  </a:rPr>
                  <a:t>Abraham’s Journey to Egypt</a:t>
                </a:r>
                <a:endParaRPr b="0" lang="en-US" sz="4400" spc="-1" strike="noStrike">
                  <a:solidFill>
                    <a:srgbClr val="ffffff"/>
                  </a:solidFill>
                  <a:latin typeface="Times New Roman"/>
                </a:endParaRPr>
              </a:p>
            </p:txBody>
          </p:sp>
        </p:grpSp>
        <p:sp>
          <p:nvSpPr>
            <p:cNvPr id="326" name=""/>
            <p:cNvSpPr/>
            <p:nvPr/>
          </p:nvSpPr>
          <p:spPr>
            <a:xfrm rot="16091400">
              <a:off x="5075280" y="247464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27" name=""/>
            <p:cNvSpPr/>
            <p:nvPr/>
          </p:nvSpPr>
          <p:spPr>
            <a:xfrm flipH="1" rot="5508600">
              <a:off x="5555880" y="272700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28" name=""/>
            <p:cNvSpPr/>
            <p:nvPr/>
          </p:nvSpPr>
          <p:spPr>
            <a:xfrm rot="15092400">
              <a:off x="7594560" y="136512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sp>
        <p:nvSpPr>
          <p:cNvPr id="329" name="PlaceHolder 1"/>
          <p:cNvSpPr>
            <a:spLocks noGrp="1"/>
          </p:cNvSpPr>
          <p:nvPr>
            <p:ph type="title"/>
          </p:nvPr>
        </p:nvSpPr>
        <p:spPr>
          <a:xfrm rot="10800000">
            <a:off x="6610320" y="379800"/>
            <a:ext cx="228600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Abraham’s Journey to Egypt</a:t>
            </a:r>
            <a:endParaRPr b="1" lang="en-US" sz="100" spc="-1" strike="noStrike" u="sng">
              <a:solidFill>
                <a:srgbClr val="c0fef9"/>
              </a:solidFill>
              <a:uFillTx/>
              <a:latin typeface="Times New Roman"/>
            </a:endParaRPr>
          </a:p>
        </p:txBody>
      </p:sp>
      <p:sp>
        <p:nvSpPr>
          <p:cNvPr id="330"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331" name=""/>
          <p:cNvGrpSpPr/>
          <p:nvPr/>
        </p:nvGrpSpPr>
        <p:grpSpPr>
          <a:xfrm>
            <a:off x="307080" y="0"/>
            <a:ext cx="8440200" cy="6845400"/>
            <a:chOff x="307080" y="0"/>
            <a:chExt cx="8440200" cy="6845400"/>
          </a:xfrm>
        </p:grpSpPr>
        <p:sp>
          <p:nvSpPr>
            <p:cNvPr id="332" name=""/>
            <p:cNvSpPr/>
            <p:nvPr/>
          </p:nvSpPr>
          <p:spPr>
            <a:xfrm>
              <a:off x="484560" y="4405320"/>
              <a:ext cx="3267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aan - (Land of Israel)</a:t>
              </a:r>
              <a:endParaRPr b="0" lang="en-US" sz="2400" spc="-1" strike="noStrike">
                <a:solidFill>
                  <a:srgbClr val="ffffff"/>
                </a:solidFill>
                <a:latin typeface="Times New Roman"/>
              </a:endParaRPr>
            </a:p>
          </p:txBody>
        </p:sp>
        <p:sp>
          <p:nvSpPr>
            <p:cNvPr id="333" name=""/>
            <p:cNvSpPr/>
            <p:nvPr/>
          </p:nvSpPr>
          <p:spPr>
            <a:xfrm>
              <a:off x="3054240" y="5781600"/>
              <a:ext cx="444600" cy="29232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
            <a:stretch/>
          </p:blipFill>
          <p:spPr>
            <a:xfrm>
              <a:off x="365040" y="0"/>
              <a:ext cx="4629240" cy="6845400"/>
            </a:xfrm>
            <a:prstGeom prst="rect">
              <a:avLst/>
            </a:prstGeom>
            <a:ln w="0">
              <a:noFill/>
            </a:ln>
          </p:spPr>
        </p:pic>
        <p:sp>
          <p:nvSpPr>
            <p:cNvPr id="335" name=""/>
            <p:cNvSpPr/>
            <p:nvPr/>
          </p:nvSpPr>
          <p:spPr>
            <a:xfrm rot="16680000">
              <a:off x="-1535040" y="2417400"/>
              <a:ext cx="515412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terranean Sea</a:t>
              </a:r>
              <a:endParaRPr b="0" lang="en-US" sz="4400" spc="-1" strike="noStrike">
                <a:solidFill>
                  <a:srgbClr val="ffffff"/>
                </a:solidFill>
                <a:latin typeface="Times New Roman"/>
              </a:endParaRPr>
            </a:p>
          </p:txBody>
        </p:sp>
        <p:sp>
          <p:nvSpPr>
            <p:cNvPr id="336" name=""/>
            <p:cNvSpPr/>
            <p:nvPr/>
          </p:nvSpPr>
          <p:spPr>
            <a:xfrm>
              <a:off x="1875600" y="2851200"/>
              <a:ext cx="221292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naan</a:t>
              </a:r>
              <a:endParaRPr b="0" lang="en-US" sz="4800" spc="-1" strike="noStrike">
                <a:solidFill>
                  <a:srgbClr val="ffffff"/>
                </a:solidFill>
                <a:latin typeface="Times New Roman"/>
              </a:endParaRPr>
            </a:p>
          </p:txBody>
        </p:sp>
        <p:sp>
          <p:nvSpPr>
            <p:cNvPr id="337" name=""/>
            <p:cNvSpPr/>
            <p:nvPr/>
          </p:nvSpPr>
          <p:spPr>
            <a:xfrm>
              <a:off x="2394720" y="5911920"/>
              <a:ext cx="15285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dom</a:t>
              </a:r>
              <a:endParaRPr b="0" lang="en-US" sz="3600" spc="-1" strike="noStrike">
                <a:solidFill>
                  <a:srgbClr val="ffffff"/>
                </a:solidFill>
                <a:latin typeface="Times New Roman"/>
              </a:endParaRPr>
            </a:p>
          </p:txBody>
        </p:sp>
        <p:sp>
          <p:nvSpPr>
            <p:cNvPr id="338" name=""/>
            <p:cNvSpPr/>
            <p:nvPr/>
          </p:nvSpPr>
          <p:spPr>
            <a:xfrm>
              <a:off x="2328840" y="5834160"/>
              <a:ext cx="1590840" cy="934920"/>
            </a:xfrm>
            <a:prstGeom prst="ellipse">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1430280" y="4935600"/>
              <a:ext cx="1452600" cy="1087200"/>
            </a:xfrm>
            <a:prstGeom prst="ellipse">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216160" y="5126040"/>
              <a:ext cx="444600" cy="29196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2435400" y="2623680"/>
              <a:ext cx="3068640" cy="23259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532480" y="1874880"/>
              <a:ext cx="316872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braham’s pastures</a:t>
              </a:r>
              <a:endParaRPr b="0" lang="en-US" sz="4400" spc="-1" strike="noStrike">
                <a:solidFill>
                  <a:srgbClr val="ffffff"/>
                </a:solidFill>
                <a:latin typeface="Times New Roman"/>
              </a:endParaRPr>
            </a:p>
          </p:txBody>
        </p:sp>
        <p:sp>
          <p:nvSpPr>
            <p:cNvPr id="343" name=""/>
            <p:cNvSpPr/>
            <p:nvPr/>
          </p:nvSpPr>
          <p:spPr>
            <a:xfrm flipV="1">
              <a:off x="3822840" y="4665240"/>
              <a:ext cx="1757160" cy="13669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578560" y="3886200"/>
              <a:ext cx="316872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ot’s pastures</a:t>
              </a:r>
              <a:endParaRPr b="0" lang="en-US" sz="4400" spc="-1" strike="noStrike">
                <a:solidFill>
                  <a:srgbClr val="ffffff"/>
                </a:solidFill>
                <a:latin typeface="Times New Roman"/>
              </a:endParaRPr>
            </a:p>
          </p:txBody>
        </p:sp>
        <p:sp>
          <p:nvSpPr>
            <p:cNvPr id="345" name=""/>
            <p:cNvSpPr/>
            <p:nvPr/>
          </p:nvSpPr>
          <p:spPr>
            <a:xfrm>
              <a:off x="1144440" y="5256360"/>
              <a:ext cx="1679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bron</a:t>
              </a:r>
              <a:endParaRPr b="0" lang="en-US" sz="3600" spc="-1" strike="noStrike">
                <a:solidFill>
                  <a:srgbClr val="ffffff"/>
                </a:solidFill>
                <a:latin typeface="Times New Roman"/>
              </a:endParaRPr>
            </a:p>
          </p:txBody>
        </p:sp>
      </p:grpSp>
      <p:sp>
        <p:nvSpPr>
          <p:cNvPr id="34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Abraham in Canaan</a:t>
            </a:r>
            <a:endParaRPr b="1" lang="en-US" sz="100" spc="-1" strike="noStrike" u="sng">
              <a:solidFill>
                <a:srgbClr val="c0fef9"/>
              </a:solidFill>
              <a:uFillTx/>
              <a:latin typeface="Times New Roman"/>
            </a:endParaRPr>
          </a:p>
        </p:txBody>
      </p:sp>
      <p:sp>
        <p:nvSpPr>
          <p:cNvPr id="347"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348" name=""/>
          <p:cNvGrpSpPr/>
          <p:nvPr/>
        </p:nvGrpSpPr>
        <p:grpSpPr>
          <a:xfrm>
            <a:off x="397440" y="0"/>
            <a:ext cx="8645040" cy="6845400"/>
            <a:chOff x="397440" y="0"/>
            <a:chExt cx="8645040" cy="6845400"/>
          </a:xfrm>
        </p:grpSpPr>
        <p:sp>
          <p:nvSpPr>
            <p:cNvPr id="349" name=""/>
            <p:cNvSpPr/>
            <p:nvPr/>
          </p:nvSpPr>
          <p:spPr>
            <a:xfrm>
              <a:off x="1181160" y="609480"/>
              <a:ext cx="7715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fef9"/>
                  </a:solidFill>
                  <a:latin typeface="Times New Roman"/>
                </a:rPr>
                <a:t>Click to add title</a:t>
              </a:r>
              <a:endParaRPr b="0" lang="en-US" sz="4400" spc="-1" strike="noStrike">
                <a:solidFill>
                  <a:srgbClr val="ffffff"/>
                </a:solidFill>
                <a:latin typeface="Times New Roman"/>
              </a:endParaRPr>
            </a:p>
          </p:txBody>
        </p:sp>
        <p:sp>
          <p:nvSpPr>
            <p:cNvPr id="350" name=""/>
            <p:cNvSpPr/>
            <p:nvPr/>
          </p:nvSpPr>
          <p:spPr>
            <a:xfrm>
              <a:off x="1157400" y="1981080"/>
              <a:ext cx="77914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add text</a:t>
              </a:r>
              <a:endParaRPr b="0" lang="en-US" sz="3200" spc="-1" strike="noStrike">
                <a:solidFill>
                  <a:srgbClr val="ffffff"/>
                </a:solidFill>
                <a:latin typeface="Times New Roman"/>
              </a:endParaRPr>
            </a:p>
          </p:txBody>
        </p:sp>
        <p:sp>
          <p:nvSpPr>
            <p:cNvPr id="351" name=""/>
            <p:cNvSpPr/>
            <p:nvPr/>
          </p:nvSpPr>
          <p:spPr>
            <a:xfrm>
              <a:off x="5168880" y="4618080"/>
              <a:ext cx="3873600" cy="2099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Times New Roman"/>
                </a:rPr>
                <a:t>The Wanderings of Jacob</a:t>
              </a:r>
              <a:endParaRPr b="0" lang="en-US" sz="4400" spc="-1" strike="noStrike">
                <a:solidFill>
                  <a:srgbClr val="ffffff"/>
                </a:solidFill>
                <a:latin typeface="Times New Roman"/>
              </a:endParaRPr>
            </a:p>
          </p:txBody>
        </p:sp>
        <p:sp>
          <p:nvSpPr>
            <p:cNvPr id="352" name=""/>
            <p:cNvSpPr/>
            <p:nvPr/>
          </p:nvSpPr>
          <p:spPr>
            <a:xfrm flipV="1">
              <a:off x="4487760" y="663120"/>
              <a:ext cx="274680" cy="258840"/>
            </a:xfrm>
            <a:prstGeom prst="line">
              <a:avLst/>
            </a:prstGeom>
            <a:ln w="76320">
              <a:solidFill>
                <a:srgbClr val="f35b1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H="1">
              <a:off x="4703760" y="797040"/>
              <a:ext cx="117360" cy="188640"/>
            </a:xfrm>
            <a:prstGeom prst="line">
              <a:avLst/>
            </a:prstGeom>
            <a:ln w="101520">
              <a:solidFill>
                <a:srgbClr val="f35b1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5108400" y="230040"/>
              <a:ext cx="3865680" cy="422892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acob left his Father’s home and went to  Haran to flee from Esau and to  get a wife.  He had the vision of the stairway to heaven.  Years later he returned along the same route.</a:t>
              </a:r>
              <a:endParaRPr b="0" lang="en-US" sz="3200" spc="-1" strike="noStrike">
                <a:solidFill>
                  <a:srgbClr val="ffffff"/>
                </a:solidFill>
                <a:latin typeface="Times New Roman"/>
              </a:endParaRPr>
            </a:p>
          </p:txBody>
        </p:sp>
        <p:sp>
          <p:nvSpPr>
            <p:cNvPr id="355" name=""/>
            <p:cNvSpPr/>
            <p:nvPr/>
          </p:nvSpPr>
          <p:spPr>
            <a:xfrm flipV="1">
              <a:off x="4564080" y="723600"/>
              <a:ext cx="152280" cy="136440"/>
            </a:xfrm>
            <a:prstGeom prst="line">
              <a:avLst/>
            </a:prstGeom>
            <a:ln w="76320">
              <a:solidFill>
                <a:srgbClr val="f35b1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770360" y="784080"/>
              <a:ext cx="0" cy="184320"/>
            </a:xfrm>
            <a:prstGeom prst="line">
              <a:avLst/>
            </a:prstGeom>
            <a:ln w="76320">
              <a:solidFill>
                <a:srgbClr val="f35b1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1"/>
            <a:stretch/>
          </p:blipFill>
          <p:spPr>
            <a:xfrm>
              <a:off x="423720" y="0"/>
              <a:ext cx="4629240" cy="6845400"/>
            </a:xfrm>
            <a:prstGeom prst="rect">
              <a:avLst/>
            </a:prstGeom>
            <a:ln w="0">
              <a:noFill/>
            </a:ln>
          </p:spPr>
        </p:pic>
        <p:sp>
          <p:nvSpPr>
            <p:cNvPr id="358" name=""/>
            <p:cNvSpPr/>
            <p:nvPr/>
          </p:nvSpPr>
          <p:spPr>
            <a:xfrm rot="16680000">
              <a:off x="-1444680" y="2374560"/>
              <a:ext cx="515412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terranean Sea</a:t>
              </a:r>
              <a:endParaRPr b="0" lang="en-US" sz="4400" spc="-1" strike="noStrike">
                <a:solidFill>
                  <a:srgbClr val="ffffff"/>
                </a:solidFill>
                <a:latin typeface="Times New Roman"/>
              </a:endParaRPr>
            </a:p>
          </p:txBody>
        </p:sp>
        <p:sp>
          <p:nvSpPr>
            <p:cNvPr id="359" name=""/>
            <p:cNvSpPr/>
            <p:nvPr/>
          </p:nvSpPr>
          <p:spPr>
            <a:xfrm>
              <a:off x="1735920" y="2576520"/>
              <a:ext cx="221292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Canaan</a:t>
              </a:r>
              <a:endParaRPr b="0" lang="en-US" sz="4800" spc="-1" strike="noStrike">
                <a:solidFill>
                  <a:srgbClr val="ffffff"/>
                </a:solidFill>
                <a:latin typeface="Times New Roman"/>
              </a:endParaRPr>
            </a:p>
          </p:txBody>
        </p:sp>
        <p:sp>
          <p:nvSpPr>
            <p:cNvPr id="360" name=""/>
            <p:cNvSpPr/>
            <p:nvPr/>
          </p:nvSpPr>
          <p:spPr>
            <a:xfrm>
              <a:off x="2119320" y="762120"/>
              <a:ext cx="2668680" cy="5046480"/>
            </a:xfrm>
            <a:custGeom>
              <a:avLst/>
              <a:gdLst/>
              <a:ahLst/>
              <a:rect l="l" t="t" r="r" b="b"/>
              <a:pathLst>
                <a:path w="1681" h="3179">
                  <a:moveTo>
                    <a:pt x="0" y="3178"/>
                  </a:moveTo>
                  <a:lnTo>
                    <a:pt x="0" y="3149"/>
                  </a:lnTo>
                  <a:lnTo>
                    <a:pt x="0" y="3120"/>
                  </a:lnTo>
                  <a:lnTo>
                    <a:pt x="0" y="3091"/>
                  </a:lnTo>
                  <a:lnTo>
                    <a:pt x="0" y="3062"/>
                  </a:lnTo>
                  <a:lnTo>
                    <a:pt x="0" y="3024"/>
                  </a:lnTo>
                  <a:lnTo>
                    <a:pt x="0" y="2995"/>
                  </a:lnTo>
                  <a:lnTo>
                    <a:pt x="9" y="2966"/>
                  </a:lnTo>
                  <a:lnTo>
                    <a:pt x="29" y="2928"/>
                  </a:lnTo>
                  <a:lnTo>
                    <a:pt x="48" y="2899"/>
                  </a:lnTo>
                  <a:lnTo>
                    <a:pt x="67" y="2870"/>
                  </a:lnTo>
                  <a:lnTo>
                    <a:pt x="96" y="2842"/>
                  </a:lnTo>
                  <a:lnTo>
                    <a:pt x="115" y="2813"/>
                  </a:lnTo>
                  <a:lnTo>
                    <a:pt x="144" y="2784"/>
                  </a:lnTo>
                  <a:lnTo>
                    <a:pt x="153" y="2755"/>
                  </a:lnTo>
                  <a:lnTo>
                    <a:pt x="173" y="2726"/>
                  </a:lnTo>
                  <a:lnTo>
                    <a:pt x="182" y="2688"/>
                  </a:lnTo>
                  <a:lnTo>
                    <a:pt x="192" y="2659"/>
                  </a:lnTo>
                  <a:lnTo>
                    <a:pt x="201" y="2630"/>
                  </a:lnTo>
                  <a:lnTo>
                    <a:pt x="201" y="2592"/>
                  </a:lnTo>
                  <a:lnTo>
                    <a:pt x="211" y="2506"/>
                  </a:lnTo>
                  <a:lnTo>
                    <a:pt x="221" y="2438"/>
                  </a:lnTo>
                  <a:lnTo>
                    <a:pt x="230" y="2342"/>
                  </a:lnTo>
                  <a:lnTo>
                    <a:pt x="240" y="2304"/>
                  </a:lnTo>
                  <a:lnTo>
                    <a:pt x="249" y="2275"/>
                  </a:lnTo>
                  <a:lnTo>
                    <a:pt x="278" y="2256"/>
                  </a:lnTo>
                  <a:lnTo>
                    <a:pt x="297" y="2227"/>
                  </a:lnTo>
                  <a:lnTo>
                    <a:pt x="326" y="2208"/>
                  </a:lnTo>
                  <a:lnTo>
                    <a:pt x="355" y="2189"/>
                  </a:lnTo>
                  <a:lnTo>
                    <a:pt x="384" y="2170"/>
                  </a:lnTo>
                  <a:lnTo>
                    <a:pt x="413" y="2160"/>
                  </a:lnTo>
                  <a:lnTo>
                    <a:pt x="451" y="2150"/>
                  </a:lnTo>
                  <a:lnTo>
                    <a:pt x="480" y="2141"/>
                  </a:lnTo>
                  <a:lnTo>
                    <a:pt x="509" y="2141"/>
                  </a:lnTo>
                  <a:lnTo>
                    <a:pt x="547" y="2141"/>
                  </a:lnTo>
                  <a:lnTo>
                    <a:pt x="576" y="2160"/>
                  </a:lnTo>
                  <a:lnTo>
                    <a:pt x="605" y="2179"/>
                  </a:lnTo>
                  <a:lnTo>
                    <a:pt x="643" y="2198"/>
                  </a:lnTo>
                  <a:lnTo>
                    <a:pt x="672" y="2227"/>
                  </a:lnTo>
                  <a:lnTo>
                    <a:pt x="701" y="2218"/>
                  </a:lnTo>
                  <a:lnTo>
                    <a:pt x="739" y="2198"/>
                  </a:lnTo>
                  <a:lnTo>
                    <a:pt x="768" y="2170"/>
                  </a:lnTo>
                  <a:lnTo>
                    <a:pt x="777" y="2141"/>
                  </a:lnTo>
                  <a:lnTo>
                    <a:pt x="797" y="2112"/>
                  </a:lnTo>
                  <a:lnTo>
                    <a:pt x="797" y="2083"/>
                  </a:lnTo>
                  <a:lnTo>
                    <a:pt x="816" y="2054"/>
                  </a:lnTo>
                  <a:lnTo>
                    <a:pt x="845" y="2026"/>
                  </a:lnTo>
                  <a:lnTo>
                    <a:pt x="883" y="2006"/>
                  </a:lnTo>
                  <a:lnTo>
                    <a:pt x="912" y="1997"/>
                  </a:lnTo>
                  <a:lnTo>
                    <a:pt x="941" y="1997"/>
                  </a:lnTo>
                  <a:lnTo>
                    <a:pt x="979" y="1997"/>
                  </a:lnTo>
                  <a:lnTo>
                    <a:pt x="1008" y="1987"/>
                  </a:lnTo>
                  <a:lnTo>
                    <a:pt x="1037" y="1968"/>
                  </a:lnTo>
                  <a:lnTo>
                    <a:pt x="1056" y="1939"/>
                  </a:lnTo>
                  <a:lnTo>
                    <a:pt x="1085" y="1920"/>
                  </a:lnTo>
                  <a:lnTo>
                    <a:pt x="1104" y="1891"/>
                  </a:lnTo>
                  <a:lnTo>
                    <a:pt x="1123" y="1862"/>
                  </a:lnTo>
                  <a:lnTo>
                    <a:pt x="1142" y="1824"/>
                  </a:lnTo>
                  <a:lnTo>
                    <a:pt x="1161" y="1795"/>
                  </a:lnTo>
                  <a:lnTo>
                    <a:pt x="1171" y="1766"/>
                  </a:lnTo>
                  <a:lnTo>
                    <a:pt x="1190" y="1728"/>
                  </a:lnTo>
                  <a:lnTo>
                    <a:pt x="1200" y="1699"/>
                  </a:lnTo>
                  <a:lnTo>
                    <a:pt x="1209" y="1670"/>
                  </a:lnTo>
                  <a:lnTo>
                    <a:pt x="1219" y="1632"/>
                  </a:lnTo>
                  <a:lnTo>
                    <a:pt x="1219" y="1565"/>
                  </a:lnTo>
                  <a:lnTo>
                    <a:pt x="1229" y="1478"/>
                  </a:lnTo>
                  <a:lnTo>
                    <a:pt x="1229" y="1411"/>
                  </a:lnTo>
                  <a:lnTo>
                    <a:pt x="1238" y="1334"/>
                  </a:lnTo>
                  <a:lnTo>
                    <a:pt x="1238" y="1258"/>
                  </a:lnTo>
                  <a:lnTo>
                    <a:pt x="1248" y="1190"/>
                  </a:lnTo>
                  <a:lnTo>
                    <a:pt x="1248" y="1114"/>
                  </a:lnTo>
                  <a:lnTo>
                    <a:pt x="1257" y="1085"/>
                  </a:lnTo>
                  <a:lnTo>
                    <a:pt x="1267" y="1056"/>
                  </a:lnTo>
                  <a:lnTo>
                    <a:pt x="1277" y="1027"/>
                  </a:lnTo>
                  <a:lnTo>
                    <a:pt x="1286" y="950"/>
                  </a:lnTo>
                  <a:lnTo>
                    <a:pt x="1296" y="883"/>
                  </a:lnTo>
                  <a:lnTo>
                    <a:pt x="1305" y="797"/>
                  </a:lnTo>
                  <a:lnTo>
                    <a:pt x="1325" y="768"/>
                  </a:lnTo>
                  <a:lnTo>
                    <a:pt x="1334" y="739"/>
                  </a:lnTo>
                  <a:lnTo>
                    <a:pt x="1353" y="710"/>
                  </a:lnTo>
                  <a:lnTo>
                    <a:pt x="1373" y="672"/>
                  </a:lnTo>
                  <a:lnTo>
                    <a:pt x="1392" y="643"/>
                  </a:lnTo>
                  <a:lnTo>
                    <a:pt x="1401" y="614"/>
                  </a:lnTo>
                  <a:lnTo>
                    <a:pt x="1430" y="576"/>
                  </a:lnTo>
                  <a:lnTo>
                    <a:pt x="1449" y="547"/>
                  </a:lnTo>
                  <a:lnTo>
                    <a:pt x="1469" y="518"/>
                  </a:lnTo>
                  <a:lnTo>
                    <a:pt x="1488" y="480"/>
                  </a:lnTo>
                  <a:lnTo>
                    <a:pt x="1507" y="403"/>
                  </a:lnTo>
                  <a:lnTo>
                    <a:pt x="1526" y="317"/>
                  </a:lnTo>
                  <a:lnTo>
                    <a:pt x="1536" y="240"/>
                  </a:lnTo>
                  <a:lnTo>
                    <a:pt x="1545" y="173"/>
                  </a:lnTo>
                  <a:lnTo>
                    <a:pt x="1565" y="144"/>
                  </a:lnTo>
                  <a:lnTo>
                    <a:pt x="1584" y="115"/>
                  </a:lnTo>
                  <a:lnTo>
                    <a:pt x="1603" y="86"/>
                  </a:lnTo>
                  <a:lnTo>
                    <a:pt x="1632" y="58"/>
                  </a:lnTo>
                  <a:lnTo>
                    <a:pt x="1661" y="29"/>
                  </a:lnTo>
                  <a:lnTo>
                    <a:pt x="1680" y="0"/>
                  </a:lnTo>
                </a:path>
              </a:pathLst>
            </a:custGeom>
            <a:noFill/>
            <a:ln cap="rnd" w="7632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522600" y="4908600"/>
              <a:ext cx="1246320" cy="9666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ad Sea</a:t>
              </a:r>
              <a:endParaRPr b="0" lang="en-US" sz="3600" spc="-1" strike="noStrike">
                <a:solidFill>
                  <a:srgbClr val="ffffff"/>
                </a:solidFill>
                <a:latin typeface="Times New Roman"/>
              </a:endParaRPr>
            </a:p>
          </p:txBody>
        </p:sp>
        <p:sp>
          <p:nvSpPr>
            <p:cNvPr id="362" name=""/>
            <p:cNvSpPr/>
            <p:nvPr/>
          </p:nvSpPr>
          <p:spPr>
            <a:xfrm>
              <a:off x="1036440" y="5807160"/>
              <a:ext cx="2810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aac’s Home</a:t>
              </a:r>
              <a:endParaRPr b="0" lang="en-US" sz="3600" spc="-1" strike="noStrike">
                <a:solidFill>
                  <a:srgbClr val="ffffff"/>
                </a:solidFill>
                <a:latin typeface="Times New Roman"/>
              </a:endParaRPr>
            </a:p>
          </p:txBody>
        </p:sp>
        <p:sp>
          <p:nvSpPr>
            <p:cNvPr id="363" name=""/>
            <p:cNvSpPr/>
            <p:nvPr/>
          </p:nvSpPr>
          <p:spPr>
            <a:xfrm>
              <a:off x="2368440" y="5143680"/>
              <a:ext cx="368280" cy="38232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890720" y="5411880"/>
              <a:ext cx="1516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bron</a:t>
              </a:r>
              <a:endParaRPr b="0" lang="en-US" sz="3200" spc="-1" strike="noStrike">
                <a:solidFill>
                  <a:srgbClr val="ffffff"/>
                </a:solidFill>
                <a:latin typeface="Times New Roman"/>
              </a:endParaRPr>
            </a:p>
          </p:txBody>
        </p:sp>
      </p:grpSp>
      <p:sp>
        <p:nvSpPr>
          <p:cNvPr id="365" name="PlaceHolder 1"/>
          <p:cNvSpPr>
            <a:spLocks noGrp="1"/>
          </p:cNvSpPr>
          <p:nvPr>
            <p:ph type="title"/>
          </p:nvPr>
        </p:nvSpPr>
        <p:spPr>
          <a:xfrm>
            <a:off x="6838560" y="609120"/>
            <a:ext cx="2057400" cy="171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Wandering’s of Jacob</a:t>
            </a:r>
            <a:endParaRPr b="1" lang="en-US" sz="100" spc="-1" strike="noStrike" u="sng">
              <a:solidFill>
                <a:srgbClr val="c0fef9"/>
              </a:solidFill>
              <a:uFillTx/>
              <a:latin typeface="Times New Roman"/>
            </a:endParaRPr>
          </a:p>
        </p:txBody>
      </p:sp>
      <p:sp>
        <p:nvSpPr>
          <p:cNvPr id="366"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367" name=""/>
          <p:cNvGrpSpPr/>
          <p:nvPr/>
        </p:nvGrpSpPr>
        <p:grpSpPr>
          <a:xfrm>
            <a:off x="74520" y="220680"/>
            <a:ext cx="9055080" cy="6623640"/>
            <a:chOff x="74520" y="220680"/>
            <a:chExt cx="9055080" cy="6623640"/>
          </a:xfrm>
        </p:grpSpPr>
        <p:sp>
          <p:nvSpPr>
            <p:cNvPr id="368" name=""/>
            <p:cNvSpPr/>
            <p:nvPr/>
          </p:nvSpPr>
          <p:spPr>
            <a:xfrm>
              <a:off x="1255680" y="600120"/>
              <a:ext cx="7715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fef9"/>
                  </a:solidFill>
                  <a:latin typeface="Times New Roman"/>
                </a:rPr>
                <a:t>Click to add title</a:t>
              </a:r>
              <a:endParaRPr b="0" lang="en-US" sz="4400" spc="-1" strike="noStrike">
                <a:solidFill>
                  <a:srgbClr val="ffffff"/>
                </a:solidFill>
                <a:latin typeface="Times New Roman"/>
              </a:endParaRPr>
            </a:p>
          </p:txBody>
        </p:sp>
        <p:sp>
          <p:nvSpPr>
            <p:cNvPr id="369" name=""/>
            <p:cNvSpPr/>
            <p:nvPr/>
          </p:nvSpPr>
          <p:spPr>
            <a:xfrm>
              <a:off x="1231920" y="1971720"/>
              <a:ext cx="77914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add text</a:t>
              </a:r>
              <a:endParaRPr b="0" lang="en-US" sz="3200" spc="-1" strike="noStrike">
                <a:solidFill>
                  <a:srgbClr val="ffffff"/>
                </a:solidFill>
                <a:latin typeface="Times New Roman"/>
              </a:endParaRPr>
            </a:p>
          </p:txBody>
        </p:sp>
        <p:pic>
          <p:nvPicPr>
            <p:cNvPr id="370" name="" descr=""/>
            <p:cNvPicPr/>
            <p:nvPr/>
          </p:nvPicPr>
          <p:blipFill>
            <a:blip r:embed="rId1"/>
            <a:stretch/>
          </p:blipFill>
          <p:spPr>
            <a:xfrm>
              <a:off x="74520" y="220680"/>
              <a:ext cx="8839440" cy="6551640"/>
            </a:xfrm>
            <a:prstGeom prst="rect">
              <a:avLst/>
            </a:prstGeom>
            <a:ln w="0">
              <a:noFill/>
            </a:ln>
          </p:spPr>
        </p:pic>
        <p:sp>
          <p:nvSpPr>
            <p:cNvPr id="371" name=""/>
            <p:cNvSpPr/>
            <p:nvPr/>
          </p:nvSpPr>
          <p:spPr>
            <a:xfrm>
              <a:off x="344520" y="4437000"/>
              <a:ext cx="19339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Egypt</a:t>
              </a:r>
              <a:endParaRPr b="0" lang="en-US" sz="5400" spc="-1" strike="noStrike">
                <a:solidFill>
                  <a:srgbClr val="ffffff"/>
                </a:solidFill>
                <a:latin typeface="Times New Roman"/>
              </a:endParaRPr>
            </a:p>
          </p:txBody>
        </p:sp>
        <p:sp>
          <p:nvSpPr>
            <p:cNvPr id="372" name=""/>
            <p:cNvSpPr/>
            <p:nvPr/>
          </p:nvSpPr>
          <p:spPr>
            <a:xfrm rot="19680000">
              <a:off x="207000" y="3222360"/>
              <a:ext cx="8823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le</a:t>
              </a:r>
              <a:endParaRPr b="0" lang="en-US" sz="3200" spc="-1" strike="noStrike">
                <a:solidFill>
                  <a:srgbClr val="ffffff"/>
                </a:solidFill>
                <a:latin typeface="Times New Roman"/>
              </a:endParaRPr>
            </a:p>
          </p:txBody>
        </p:sp>
        <p:sp>
          <p:nvSpPr>
            <p:cNvPr id="373" name=""/>
            <p:cNvSpPr/>
            <p:nvPr/>
          </p:nvSpPr>
          <p:spPr>
            <a:xfrm>
              <a:off x="912240" y="2305080"/>
              <a:ext cx="1912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ile Delta</a:t>
              </a:r>
              <a:endParaRPr b="0" lang="en-US" sz="3200" spc="-1" strike="noStrike">
                <a:solidFill>
                  <a:srgbClr val="ffffff"/>
                </a:solidFill>
                <a:latin typeface="Times New Roman"/>
              </a:endParaRPr>
            </a:p>
          </p:txBody>
        </p:sp>
        <p:sp>
          <p:nvSpPr>
            <p:cNvPr id="374" name=""/>
            <p:cNvSpPr/>
            <p:nvPr/>
          </p:nvSpPr>
          <p:spPr>
            <a:xfrm>
              <a:off x="1252440" y="1390680"/>
              <a:ext cx="46926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diterranean Sea</a:t>
              </a:r>
              <a:endParaRPr b="0" lang="en-US" sz="4000" spc="-1" strike="noStrike">
                <a:solidFill>
                  <a:srgbClr val="ffffff"/>
                </a:solidFill>
                <a:latin typeface="Times New Roman"/>
              </a:endParaRPr>
            </a:p>
          </p:txBody>
        </p:sp>
        <p:sp>
          <p:nvSpPr>
            <p:cNvPr id="375" name=""/>
            <p:cNvSpPr/>
            <p:nvPr/>
          </p:nvSpPr>
          <p:spPr>
            <a:xfrm>
              <a:off x="6966000" y="6389640"/>
              <a:ext cx="1796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Photo</a:t>
              </a:r>
              <a:endParaRPr b="0" lang="en-US" sz="2400" spc="-1" strike="noStrike">
                <a:solidFill>
                  <a:srgbClr val="ffffff"/>
                </a:solidFill>
                <a:latin typeface="Times New Roman"/>
              </a:endParaRPr>
            </a:p>
          </p:txBody>
        </p:sp>
        <p:sp>
          <p:nvSpPr>
            <p:cNvPr id="376" name=""/>
            <p:cNvSpPr/>
            <p:nvPr/>
          </p:nvSpPr>
          <p:spPr>
            <a:xfrm>
              <a:off x="3657240" y="4362480"/>
              <a:ext cx="11721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ai</a:t>
              </a:r>
              <a:endParaRPr b="0" lang="en-US" sz="3600" spc="-1" strike="noStrike">
                <a:solidFill>
                  <a:srgbClr val="ffffff"/>
                </a:solidFill>
                <a:latin typeface="Times New Roman"/>
              </a:endParaRPr>
            </a:p>
          </p:txBody>
        </p:sp>
        <p:sp>
          <p:nvSpPr>
            <p:cNvPr id="377" name=""/>
            <p:cNvSpPr/>
            <p:nvPr/>
          </p:nvSpPr>
          <p:spPr>
            <a:xfrm>
              <a:off x="7018920" y="1000080"/>
              <a:ext cx="1707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aan</a:t>
              </a:r>
              <a:endParaRPr b="0" lang="en-US" sz="3600" spc="-1" strike="noStrike">
                <a:solidFill>
                  <a:srgbClr val="ffffff"/>
                </a:solidFill>
                <a:latin typeface="Times New Roman"/>
              </a:endParaRPr>
            </a:p>
          </p:txBody>
        </p:sp>
        <p:sp>
          <p:nvSpPr>
            <p:cNvPr id="378" name=""/>
            <p:cNvSpPr/>
            <p:nvPr/>
          </p:nvSpPr>
          <p:spPr>
            <a:xfrm>
              <a:off x="300960" y="6512040"/>
              <a:ext cx="1798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BibleTeacher.com  </a:t>
              </a:r>
              <a:endParaRPr b="0" lang="en-US" sz="1200" spc="-1" strike="noStrike">
                <a:solidFill>
                  <a:srgbClr val="ffffff"/>
                </a:solidFill>
                <a:latin typeface="Times New Roman"/>
              </a:endParaRPr>
            </a:p>
          </p:txBody>
        </p:sp>
        <p:sp>
          <p:nvSpPr>
            <p:cNvPr id="379" name=""/>
            <p:cNvSpPr/>
            <p:nvPr/>
          </p:nvSpPr>
          <p:spPr>
            <a:xfrm>
              <a:off x="1373040" y="1687680"/>
              <a:ext cx="5769000" cy="1508040"/>
            </a:xfrm>
            <a:custGeom>
              <a:avLst/>
              <a:gdLst/>
              <a:ahLst/>
              <a:rect l="l" t="t" r="r" b="b"/>
              <a:pathLst>
                <a:path w="3634" h="950">
                  <a:moveTo>
                    <a:pt x="3589" y="284"/>
                  </a:moveTo>
                  <a:lnTo>
                    <a:pt x="3600" y="251"/>
                  </a:lnTo>
                  <a:lnTo>
                    <a:pt x="3600" y="218"/>
                  </a:lnTo>
                  <a:lnTo>
                    <a:pt x="3611" y="175"/>
                  </a:lnTo>
                  <a:lnTo>
                    <a:pt x="3622" y="142"/>
                  </a:lnTo>
                  <a:lnTo>
                    <a:pt x="3633" y="109"/>
                  </a:lnTo>
                  <a:lnTo>
                    <a:pt x="3633" y="76"/>
                  </a:lnTo>
                  <a:lnTo>
                    <a:pt x="3633" y="33"/>
                  </a:lnTo>
                  <a:lnTo>
                    <a:pt x="3622" y="0"/>
                  </a:lnTo>
                  <a:lnTo>
                    <a:pt x="3589" y="0"/>
                  </a:lnTo>
                  <a:lnTo>
                    <a:pt x="3546" y="22"/>
                  </a:lnTo>
                  <a:lnTo>
                    <a:pt x="3513" y="44"/>
                  </a:lnTo>
                  <a:lnTo>
                    <a:pt x="3480" y="66"/>
                  </a:lnTo>
                  <a:lnTo>
                    <a:pt x="3447" y="98"/>
                  </a:lnTo>
                  <a:lnTo>
                    <a:pt x="3415" y="131"/>
                  </a:lnTo>
                  <a:lnTo>
                    <a:pt x="3382" y="142"/>
                  </a:lnTo>
                  <a:lnTo>
                    <a:pt x="3349" y="164"/>
                  </a:lnTo>
                  <a:lnTo>
                    <a:pt x="3306" y="196"/>
                  </a:lnTo>
                  <a:lnTo>
                    <a:pt x="3273" y="218"/>
                  </a:lnTo>
                  <a:lnTo>
                    <a:pt x="3240" y="240"/>
                  </a:lnTo>
                  <a:lnTo>
                    <a:pt x="3207" y="262"/>
                  </a:lnTo>
                  <a:lnTo>
                    <a:pt x="3175" y="295"/>
                  </a:lnTo>
                  <a:lnTo>
                    <a:pt x="3142" y="306"/>
                  </a:lnTo>
                  <a:lnTo>
                    <a:pt x="3109" y="327"/>
                  </a:lnTo>
                  <a:lnTo>
                    <a:pt x="3066" y="338"/>
                  </a:lnTo>
                  <a:lnTo>
                    <a:pt x="3033" y="360"/>
                  </a:lnTo>
                  <a:lnTo>
                    <a:pt x="3000" y="382"/>
                  </a:lnTo>
                  <a:lnTo>
                    <a:pt x="2967" y="393"/>
                  </a:lnTo>
                  <a:lnTo>
                    <a:pt x="2924" y="415"/>
                  </a:lnTo>
                  <a:lnTo>
                    <a:pt x="2891" y="436"/>
                  </a:lnTo>
                  <a:lnTo>
                    <a:pt x="2858" y="447"/>
                  </a:lnTo>
                  <a:lnTo>
                    <a:pt x="2815" y="469"/>
                  </a:lnTo>
                  <a:lnTo>
                    <a:pt x="2782" y="480"/>
                  </a:lnTo>
                  <a:lnTo>
                    <a:pt x="2749" y="491"/>
                  </a:lnTo>
                  <a:lnTo>
                    <a:pt x="2706" y="502"/>
                  </a:lnTo>
                  <a:lnTo>
                    <a:pt x="2673" y="513"/>
                  </a:lnTo>
                  <a:lnTo>
                    <a:pt x="2640" y="513"/>
                  </a:lnTo>
                  <a:lnTo>
                    <a:pt x="2607" y="513"/>
                  </a:lnTo>
                  <a:lnTo>
                    <a:pt x="2564" y="513"/>
                  </a:lnTo>
                  <a:lnTo>
                    <a:pt x="2531" y="513"/>
                  </a:lnTo>
                  <a:lnTo>
                    <a:pt x="2498" y="524"/>
                  </a:lnTo>
                  <a:lnTo>
                    <a:pt x="2455" y="546"/>
                  </a:lnTo>
                  <a:lnTo>
                    <a:pt x="2422" y="556"/>
                  </a:lnTo>
                  <a:lnTo>
                    <a:pt x="2389" y="567"/>
                  </a:lnTo>
                  <a:lnTo>
                    <a:pt x="2346" y="578"/>
                  </a:lnTo>
                  <a:lnTo>
                    <a:pt x="2313" y="589"/>
                  </a:lnTo>
                  <a:lnTo>
                    <a:pt x="2280" y="589"/>
                  </a:lnTo>
                  <a:lnTo>
                    <a:pt x="2247" y="600"/>
                  </a:lnTo>
                  <a:lnTo>
                    <a:pt x="2204" y="611"/>
                  </a:lnTo>
                  <a:lnTo>
                    <a:pt x="2171" y="622"/>
                  </a:lnTo>
                  <a:lnTo>
                    <a:pt x="2138" y="622"/>
                  </a:lnTo>
                  <a:lnTo>
                    <a:pt x="2095" y="622"/>
                  </a:lnTo>
                  <a:lnTo>
                    <a:pt x="2062" y="622"/>
                  </a:lnTo>
                  <a:lnTo>
                    <a:pt x="2029" y="622"/>
                  </a:lnTo>
                  <a:lnTo>
                    <a:pt x="1986" y="622"/>
                  </a:lnTo>
                  <a:lnTo>
                    <a:pt x="1953" y="622"/>
                  </a:lnTo>
                  <a:lnTo>
                    <a:pt x="1866" y="633"/>
                  </a:lnTo>
                  <a:lnTo>
                    <a:pt x="1767" y="633"/>
                  </a:lnTo>
                  <a:lnTo>
                    <a:pt x="1724" y="644"/>
                  </a:lnTo>
                  <a:lnTo>
                    <a:pt x="1647" y="644"/>
                  </a:lnTo>
                  <a:lnTo>
                    <a:pt x="1538" y="655"/>
                  </a:lnTo>
                  <a:lnTo>
                    <a:pt x="1495" y="666"/>
                  </a:lnTo>
                  <a:lnTo>
                    <a:pt x="1418" y="666"/>
                  </a:lnTo>
                  <a:lnTo>
                    <a:pt x="1375" y="676"/>
                  </a:lnTo>
                  <a:lnTo>
                    <a:pt x="1342" y="676"/>
                  </a:lnTo>
                  <a:lnTo>
                    <a:pt x="1309" y="676"/>
                  </a:lnTo>
                  <a:lnTo>
                    <a:pt x="1266" y="687"/>
                  </a:lnTo>
                  <a:lnTo>
                    <a:pt x="1233" y="687"/>
                  </a:lnTo>
                  <a:lnTo>
                    <a:pt x="1200" y="698"/>
                  </a:lnTo>
                  <a:lnTo>
                    <a:pt x="1167" y="709"/>
                  </a:lnTo>
                  <a:lnTo>
                    <a:pt x="1124" y="720"/>
                  </a:lnTo>
                  <a:lnTo>
                    <a:pt x="1091" y="731"/>
                  </a:lnTo>
                  <a:lnTo>
                    <a:pt x="1058" y="731"/>
                  </a:lnTo>
                  <a:lnTo>
                    <a:pt x="1015" y="742"/>
                  </a:lnTo>
                  <a:lnTo>
                    <a:pt x="982" y="753"/>
                  </a:lnTo>
                  <a:lnTo>
                    <a:pt x="949" y="764"/>
                  </a:lnTo>
                  <a:lnTo>
                    <a:pt x="851" y="775"/>
                  </a:lnTo>
                  <a:lnTo>
                    <a:pt x="818" y="775"/>
                  </a:lnTo>
                  <a:lnTo>
                    <a:pt x="731" y="786"/>
                  </a:lnTo>
                  <a:lnTo>
                    <a:pt x="633" y="786"/>
                  </a:lnTo>
                  <a:lnTo>
                    <a:pt x="535" y="796"/>
                  </a:lnTo>
                  <a:lnTo>
                    <a:pt x="447" y="807"/>
                  </a:lnTo>
                  <a:lnTo>
                    <a:pt x="360" y="818"/>
                  </a:lnTo>
                  <a:lnTo>
                    <a:pt x="327" y="829"/>
                  </a:lnTo>
                  <a:lnTo>
                    <a:pt x="251" y="829"/>
                  </a:lnTo>
                  <a:lnTo>
                    <a:pt x="218" y="840"/>
                  </a:lnTo>
                  <a:lnTo>
                    <a:pt x="175" y="862"/>
                  </a:lnTo>
                  <a:lnTo>
                    <a:pt x="142" y="873"/>
                  </a:lnTo>
                  <a:lnTo>
                    <a:pt x="109" y="884"/>
                  </a:lnTo>
                  <a:lnTo>
                    <a:pt x="66" y="916"/>
                  </a:lnTo>
                  <a:lnTo>
                    <a:pt x="33" y="938"/>
                  </a:lnTo>
                  <a:lnTo>
                    <a:pt x="0" y="949"/>
                  </a:lnTo>
                </a:path>
              </a:pathLst>
            </a:custGeom>
            <a:noFill/>
            <a:ln cap="rnd" w="5076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98280" y="307800"/>
              <a:ext cx="6812280" cy="784440"/>
            </a:xfrm>
            <a:prstGeom prst="rect">
              <a:avLst/>
            </a:prstGeom>
            <a:solidFill>
              <a:srgbClr val="00279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Joseph’s Journey to Egypt</a:t>
              </a:r>
              <a:endParaRPr b="0" lang="en-US" sz="4000" spc="-1" strike="noStrike">
                <a:solidFill>
                  <a:srgbClr val="ffffff"/>
                </a:solidFill>
                <a:latin typeface="Times New Roman"/>
              </a:endParaRPr>
            </a:p>
          </p:txBody>
        </p:sp>
        <p:sp>
          <p:nvSpPr>
            <p:cNvPr id="381" name=""/>
            <p:cNvSpPr/>
            <p:nvPr/>
          </p:nvSpPr>
          <p:spPr>
            <a:xfrm>
              <a:off x="6391440" y="2286000"/>
              <a:ext cx="27381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Joseph sold to caravan</a:t>
              </a:r>
              <a:endParaRPr b="0" lang="en-US" sz="3600" spc="-1" strike="noStrike">
                <a:solidFill>
                  <a:srgbClr val="ffffff"/>
                </a:solidFill>
                <a:latin typeface="Times New Roman"/>
              </a:endParaRPr>
            </a:p>
          </p:txBody>
        </p:sp>
        <p:sp>
          <p:nvSpPr>
            <p:cNvPr id="382" name=""/>
            <p:cNvSpPr/>
            <p:nvPr/>
          </p:nvSpPr>
          <p:spPr>
            <a:xfrm>
              <a:off x="828720" y="3166920"/>
              <a:ext cx="273852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Potiphar    &amp; Pharaoh</a:t>
              </a:r>
              <a:endParaRPr b="0" lang="en-US" sz="3600" spc="-1" strike="noStrike">
                <a:solidFill>
                  <a:srgbClr val="ffffff"/>
                </a:solidFill>
                <a:latin typeface="Times New Roman"/>
              </a:endParaRPr>
            </a:p>
          </p:txBody>
        </p:sp>
        <p:sp>
          <p:nvSpPr>
            <p:cNvPr id="383" name=""/>
            <p:cNvSpPr/>
            <p:nvPr/>
          </p:nvSpPr>
          <p:spPr>
            <a:xfrm rot="16091400">
              <a:off x="4576680" y="254916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84" name=""/>
            <p:cNvSpPr/>
            <p:nvPr/>
          </p:nvSpPr>
          <p:spPr>
            <a:xfrm rot="16091400">
              <a:off x="2538360" y="280620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85" name=""/>
            <p:cNvSpPr/>
            <p:nvPr/>
          </p:nvSpPr>
          <p:spPr>
            <a:xfrm rot="14002800">
              <a:off x="6485760" y="1915560"/>
              <a:ext cx="15588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sp>
        <p:nvSpPr>
          <p:cNvPr id="386" name="PlaceHolder 1"/>
          <p:cNvSpPr>
            <a:spLocks noGrp="1"/>
          </p:cNvSpPr>
          <p:nvPr>
            <p:ph type="title"/>
          </p:nvPr>
        </p:nvSpPr>
        <p:spPr>
          <a:xfrm rot="10800000">
            <a:off x="7182000" y="322920"/>
            <a:ext cx="1714320" cy="285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Joseph’s Journey to Egypt</a:t>
            </a:r>
            <a:endParaRPr b="1" lang="en-US" sz="100" spc="-1" strike="noStrike" u="sng">
              <a:solidFill>
                <a:srgbClr val="c0fef9"/>
              </a:solidFill>
              <a:uFillTx/>
              <a:latin typeface="Times New Roman"/>
            </a:endParaRPr>
          </a:p>
        </p:txBody>
      </p:sp>
      <p:sp>
        <p:nvSpPr>
          <p:cNvPr id="387"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388" name=""/>
          <p:cNvGrpSpPr/>
          <p:nvPr/>
        </p:nvGrpSpPr>
        <p:grpSpPr>
          <a:xfrm>
            <a:off x="0" y="247680"/>
            <a:ext cx="9131400" cy="6597720"/>
            <a:chOff x="0" y="247680"/>
            <a:chExt cx="9131400" cy="6597720"/>
          </a:xfrm>
        </p:grpSpPr>
        <p:pic>
          <p:nvPicPr>
            <p:cNvPr id="389" name="" descr=""/>
            <p:cNvPicPr/>
            <p:nvPr/>
          </p:nvPicPr>
          <p:blipFill>
            <a:blip r:embed="rId1"/>
            <a:srcRect l="0" t="4025" r="0" b="0"/>
            <a:stretch/>
          </p:blipFill>
          <p:spPr>
            <a:xfrm>
              <a:off x="0" y="1054080"/>
              <a:ext cx="9131400" cy="5791320"/>
            </a:xfrm>
            <a:prstGeom prst="rect">
              <a:avLst/>
            </a:prstGeom>
            <a:ln w="0">
              <a:noFill/>
            </a:ln>
          </p:spPr>
        </p:pic>
        <p:sp>
          <p:nvSpPr>
            <p:cNvPr id="390" name=""/>
            <p:cNvSpPr/>
            <p:nvPr/>
          </p:nvSpPr>
          <p:spPr>
            <a:xfrm>
              <a:off x="716040" y="247680"/>
              <a:ext cx="7607160" cy="1563480"/>
            </a:xfrm>
            <a:prstGeom prst="rect">
              <a:avLst/>
            </a:prstGeom>
            <a:solidFill>
              <a:srgbClr val="00279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Joseph’s Families Journey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to Goshen Due to the Famine</a:t>
              </a:r>
              <a:endParaRPr b="0" lang="en-US" sz="4400" spc="-1" strike="noStrike">
                <a:solidFill>
                  <a:srgbClr val="ffffff"/>
                </a:solidFill>
                <a:latin typeface="Times New Roman"/>
              </a:endParaRPr>
            </a:p>
          </p:txBody>
        </p:sp>
        <p:sp>
          <p:nvSpPr>
            <p:cNvPr id="391" name=""/>
            <p:cNvSpPr/>
            <p:nvPr/>
          </p:nvSpPr>
          <p:spPr>
            <a:xfrm>
              <a:off x="4832280" y="4311720"/>
              <a:ext cx="3117960" cy="1768320"/>
            </a:xfrm>
            <a:custGeom>
              <a:avLst/>
              <a:gdLst/>
              <a:ahLst/>
              <a:rect l="l" t="t" r="r" b="b"/>
              <a:pathLst>
                <a:path w="1964" h="1114">
                  <a:moveTo>
                    <a:pt x="1963" y="0"/>
                  </a:moveTo>
                  <a:lnTo>
                    <a:pt x="1963" y="33"/>
                  </a:lnTo>
                  <a:lnTo>
                    <a:pt x="1963" y="66"/>
                  </a:lnTo>
                  <a:lnTo>
                    <a:pt x="1963" y="99"/>
                  </a:lnTo>
                  <a:lnTo>
                    <a:pt x="1963" y="142"/>
                  </a:lnTo>
                  <a:lnTo>
                    <a:pt x="1963" y="175"/>
                  </a:lnTo>
                  <a:lnTo>
                    <a:pt x="1953" y="208"/>
                  </a:lnTo>
                  <a:lnTo>
                    <a:pt x="1942" y="251"/>
                  </a:lnTo>
                  <a:lnTo>
                    <a:pt x="1920" y="284"/>
                  </a:lnTo>
                  <a:lnTo>
                    <a:pt x="1898" y="317"/>
                  </a:lnTo>
                  <a:lnTo>
                    <a:pt x="1865" y="349"/>
                  </a:lnTo>
                  <a:lnTo>
                    <a:pt x="1843" y="382"/>
                  </a:lnTo>
                  <a:lnTo>
                    <a:pt x="1800" y="404"/>
                  </a:lnTo>
                  <a:lnTo>
                    <a:pt x="1767" y="426"/>
                  </a:lnTo>
                  <a:lnTo>
                    <a:pt x="1734" y="437"/>
                  </a:lnTo>
                  <a:lnTo>
                    <a:pt x="1691" y="448"/>
                  </a:lnTo>
                  <a:lnTo>
                    <a:pt x="1658" y="448"/>
                  </a:lnTo>
                  <a:lnTo>
                    <a:pt x="1625" y="459"/>
                  </a:lnTo>
                  <a:lnTo>
                    <a:pt x="1582" y="459"/>
                  </a:lnTo>
                  <a:lnTo>
                    <a:pt x="1549" y="459"/>
                  </a:lnTo>
                  <a:lnTo>
                    <a:pt x="1516" y="459"/>
                  </a:lnTo>
                  <a:lnTo>
                    <a:pt x="1483" y="459"/>
                  </a:lnTo>
                  <a:lnTo>
                    <a:pt x="1440" y="469"/>
                  </a:lnTo>
                  <a:lnTo>
                    <a:pt x="1407" y="469"/>
                  </a:lnTo>
                  <a:lnTo>
                    <a:pt x="1374" y="480"/>
                  </a:lnTo>
                  <a:lnTo>
                    <a:pt x="1331" y="480"/>
                  </a:lnTo>
                  <a:lnTo>
                    <a:pt x="1298" y="480"/>
                  </a:lnTo>
                  <a:lnTo>
                    <a:pt x="1265" y="480"/>
                  </a:lnTo>
                  <a:lnTo>
                    <a:pt x="1222" y="491"/>
                  </a:lnTo>
                  <a:lnTo>
                    <a:pt x="1189" y="491"/>
                  </a:lnTo>
                  <a:lnTo>
                    <a:pt x="1156" y="502"/>
                  </a:lnTo>
                  <a:lnTo>
                    <a:pt x="1123" y="513"/>
                  </a:lnTo>
                  <a:lnTo>
                    <a:pt x="1080" y="513"/>
                  </a:lnTo>
                  <a:lnTo>
                    <a:pt x="1047" y="513"/>
                  </a:lnTo>
                  <a:lnTo>
                    <a:pt x="1014" y="513"/>
                  </a:lnTo>
                  <a:lnTo>
                    <a:pt x="971" y="513"/>
                  </a:lnTo>
                  <a:lnTo>
                    <a:pt x="938" y="513"/>
                  </a:lnTo>
                  <a:lnTo>
                    <a:pt x="905" y="513"/>
                  </a:lnTo>
                  <a:lnTo>
                    <a:pt x="862" y="513"/>
                  </a:lnTo>
                  <a:lnTo>
                    <a:pt x="829" y="524"/>
                  </a:lnTo>
                  <a:lnTo>
                    <a:pt x="796" y="535"/>
                  </a:lnTo>
                  <a:lnTo>
                    <a:pt x="763" y="557"/>
                  </a:lnTo>
                  <a:lnTo>
                    <a:pt x="720" y="579"/>
                  </a:lnTo>
                  <a:lnTo>
                    <a:pt x="687" y="589"/>
                  </a:lnTo>
                  <a:lnTo>
                    <a:pt x="654" y="611"/>
                  </a:lnTo>
                  <a:lnTo>
                    <a:pt x="611" y="644"/>
                  </a:lnTo>
                  <a:lnTo>
                    <a:pt x="578" y="666"/>
                  </a:lnTo>
                  <a:lnTo>
                    <a:pt x="556" y="699"/>
                  </a:lnTo>
                  <a:lnTo>
                    <a:pt x="523" y="742"/>
                  </a:lnTo>
                  <a:lnTo>
                    <a:pt x="491" y="775"/>
                  </a:lnTo>
                  <a:lnTo>
                    <a:pt x="469" y="808"/>
                  </a:lnTo>
                  <a:lnTo>
                    <a:pt x="436" y="851"/>
                  </a:lnTo>
                  <a:lnTo>
                    <a:pt x="414" y="884"/>
                  </a:lnTo>
                  <a:lnTo>
                    <a:pt x="393" y="917"/>
                  </a:lnTo>
                  <a:lnTo>
                    <a:pt x="360" y="949"/>
                  </a:lnTo>
                  <a:lnTo>
                    <a:pt x="327" y="982"/>
                  </a:lnTo>
                  <a:lnTo>
                    <a:pt x="294" y="1004"/>
                  </a:lnTo>
                  <a:lnTo>
                    <a:pt x="218" y="1026"/>
                  </a:lnTo>
                  <a:lnTo>
                    <a:pt x="142" y="1037"/>
                  </a:lnTo>
                  <a:lnTo>
                    <a:pt x="65" y="1059"/>
                  </a:lnTo>
                  <a:lnTo>
                    <a:pt x="22" y="1080"/>
                  </a:lnTo>
                  <a:lnTo>
                    <a:pt x="0" y="1113"/>
                  </a:lnTo>
                </a:path>
              </a:pathLst>
            </a:custGeom>
            <a:noFill/>
            <a:ln cap="rnd" w="50760">
              <a:solidFill>
                <a:srgbClr val="f35b1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37960" y="3144960"/>
              <a:ext cx="3762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ertile Nile Delta</a:t>
              </a:r>
              <a:endParaRPr b="0" lang="en-US" sz="3600" spc="-1" strike="noStrike">
                <a:solidFill>
                  <a:srgbClr val="ffffff"/>
                </a:solidFill>
                <a:latin typeface="Times New Roman"/>
              </a:endParaRPr>
            </a:p>
          </p:txBody>
        </p:sp>
        <p:sp>
          <p:nvSpPr>
            <p:cNvPr id="393" name=""/>
            <p:cNvSpPr/>
            <p:nvPr/>
          </p:nvSpPr>
          <p:spPr>
            <a:xfrm>
              <a:off x="2293920" y="4027320"/>
              <a:ext cx="1714680" cy="1092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277720" y="6084720"/>
              <a:ext cx="17344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gypt</a:t>
              </a:r>
              <a:endParaRPr b="0" lang="en-US" sz="4400" spc="-1" strike="noStrike">
                <a:solidFill>
                  <a:srgbClr val="ffffff"/>
                </a:solidFill>
                <a:latin typeface="Times New Roman"/>
              </a:endParaRPr>
            </a:p>
          </p:txBody>
        </p:sp>
        <p:sp>
          <p:nvSpPr>
            <p:cNvPr id="395" name=""/>
            <p:cNvSpPr/>
            <p:nvPr/>
          </p:nvSpPr>
          <p:spPr>
            <a:xfrm>
              <a:off x="7071480" y="3379680"/>
              <a:ext cx="1833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naan</a:t>
              </a:r>
              <a:endParaRPr b="0" lang="en-US" sz="3600" spc="-1" strike="noStrike">
                <a:solidFill>
                  <a:srgbClr val="ffffff"/>
                </a:solidFill>
                <a:latin typeface="Times New Roman"/>
              </a:endParaRPr>
            </a:p>
          </p:txBody>
        </p:sp>
        <p:sp>
          <p:nvSpPr>
            <p:cNvPr id="396" name=""/>
            <p:cNvSpPr/>
            <p:nvPr/>
          </p:nvSpPr>
          <p:spPr>
            <a:xfrm>
              <a:off x="61920" y="647856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397" name=""/>
            <p:cNvSpPr/>
            <p:nvPr/>
          </p:nvSpPr>
          <p:spPr>
            <a:xfrm rot="16091400">
              <a:off x="6319800" y="500652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98" name=""/>
            <p:cNvSpPr/>
            <p:nvPr/>
          </p:nvSpPr>
          <p:spPr>
            <a:xfrm rot="12993600">
              <a:off x="5357520" y="5659200"/>
              <a:ext cx="155520" cy="23148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399" name=""/>
            <p:cNvSpPr/>
            <p:nvPr/>
          </p:nvSpPr>
          <p:spPr>
            <a:xfrm rot="10799400">
              <a:off x="7862040" y="4392720"/>
              <a:ext cx="15588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sp>
        <p:nvSpPr>
          <p:cNvPr id="400" name="PlaceHolder 1"/>
          <p:cNvSpPr>
            <a:spLocks noGrp="1"/>
          </p:cNvSpPr>
          <p:nvPr>
            <p:ph type="title"/>
          </p:nvPr>
        </p:nvSpPr>
        <p:spPr>
          <a:xfrm>
            <a:off x="8096400" y="609480"/>
            <a:ext cx="79992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Joseph’s Family to Goshen</a:t>
            </a:r>
            <a:endParaRPr b="1" lang="en-US" sz="100" spc="-1" strike="noStrike" u="sng">
              <a:solidFill>
                <a:srgbClr val="c0fef9"/>
              </a:solidFill>
              <a:uFillTx/>
              <a:latin typeface="Times New Roman"/>
            </a:endParaRPr>
          </a:p>
        </p:txBody>
      </p:sp>
      <p:sp>
        <p:nvSpPr>
          <p:cNvPr id="401"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402" name=""/>
          <p:cNvGrpSpPr/>
          <p:nvPr/>
        </p:nvGrpSpPr>
        <p:grpSpPr>
          <a:xfrm>
            <a:off x="415800" y="87480"/>
            <a:ext cx="8715600" cy="6757920"/>
            <a:chOff x="415800" y="87480"/>
            <a:chExt cx="8715600" cy="6757920"/>
          </a:xfrm>
        </p:grpSpPr>
        <p:pic>
          <p:nvPicPr>
            <p:cNvPr id="403" name="" descr=""/>
            <p:cNvPicPr/>
            <p:nvPr/>
          </p:nvPicPr>
          <p:blipFill>
            <a:blip r:embed="rId1"/>
            <a:stretch/>
          </p:blipFill>
          <p:spPr>
            <a:xfrm>
              <a:off x="415800" y="87480"/>
              <a:ext cx="8715600" cy="6757920"/>
            </a:xfrm>
            <a:prstGeom prst="rect">
              <a:avLst/>
            </a:prstGeom>
            <a:ln w="0">
              <a:noFill/>
            </a:ln>
          </p:spPr>
        </p:pic>
        <p:sp>
          <p:nvSpPr>
            <p:cNvPr id="404" name=""/>
            <p:cNvSpPr/>
            <p:nvPr/>
          </p:nvSpPr>
          <p:spPr>
            <a:xfrm>
              <a:off x="617760" y="4067280"/>
              <a:ext cx="17388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gypt</a:t>
              </a:r>
              <a:endParaRPr b="0" lang="en-US" sz="4800" spc="-1" strike="noStrike">
                <a:solidFill>
                  <a:srgbClr val="ffffff"/>
                </a:solidFill>
                <a:latin typeface="Times New Roman"/>
              </a:endParaRPr>
            </a:p>
          </p:txBody>
        </p:sp>
        <p:sp>
          <p:nvSpPr>
            <p:cNvPr id="405" name=""/>
            <p:cNvSpPr/>
            <p:nvPr/>
          </p:nvSpPr>
          <p:spPr>
            <a:xfrm>
              <a:off x="1378800" y="1935000"/>
              <a:ext cx="1415880" cy="86868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ile</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lta</a:t>
              </a:r>
              <a:endParaRPr b="0" lang="en-US" sz="3200" spc="-1" strike="noStrike">
                <a:solidFill>
                  <a:srgbClr val="ffffff"/>
                </a:solidFill>
                <a:latin typeface="Times New Roman"/>
              </a:endParaRPr>
            </a:p>
          </p:txBody>
        </p:sp>
        <p:sp>
          <p:nvSpPr>
            <p:cNvPr id="406" name=""/>
            <p:cNvSpPr/>
            <p:nvPr/>
          </p:nvSpPr>
          <p:spPr>
            <a:xfrm>
              <a:off x="3330360" y="422280"/>
              <a:ext cx="3076920" cy="1246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 Sea</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terranean)</a:t>
              </a:r>
              <a:endParaRPr b="0" lang="en-US" sz="3200" spc="-1" strike="noStrike">
                <a:solidFill>
                  <a:srgbClr val="ffffff"/>
                </a:solidFill>
                <a:latin typeface="Times New Roman"/>
              </a:endParaRPr>
            </a:p>
          </p:txBody>
        </p:sp>
        <p:sp>
          <p:nvSpPr>
            <p:cNvPr id="407" name=""/>
            <p:cNvSpPr/>
            <p:nvPr/>
          </p:nvSpPr>
          <p:spPr>
            <a:xfrm>
              <a:off x="3379680" y="6095880"/>
              <a:ext cx="1595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 Sea</a:t>
              </a:r>
              <a:endParaRPr b="0" lang="en-US" sz="3200" spc="-1" strike="noStrike">
                <a:solidFill>
                  <a:srgbClr val="ffffff"/>
                </a:solidFill>
                <a:latin typeface="Times New Roman"/>
              </a:endParaRPr>
            </a:p>
          </p:txBody>
        </p:sp>
        <p:sp>
          <p:nvSpPr>
            <p:cNvPr id="408" name=""/>
            <p:cNvSpPr/>
            <p:nvPr/>
          </p:nvSpPr>
          <p:spPr>
            <a:xfrm>
              <a:off x="7225200" y="1398600"/>
              <a:ext cx="1707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aan</a:t>
              </a:r>
              <a:endParaRPr b="0" lang="en-US" sz="3600" spc="-1" strike="noStrike">
                <a:solidFill>
                  <a:srgbClr val="ffffff"/>
                </a:solidFill>
                <a:latin typeface="Times New Roman"/>
              </a:endParaRPr>
            </a:p>
          </p:txBody>
        </p:sp>
        <p:sp>
          <p:nvSpPr>
            <p:cNvPr id="409" name=""/>
            <p:cNvSpPr/>
            <p:nvPr/>
          </p:nvSpPr>
          <p:spPr>
            <a:xfrm>
              <a:off x="4437000" y="5672160"/>
              <a:ext cx="1643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t. Sinai</a:t>
              </a:r>
              <a:endParaRPr b="0" lang="en-US" sz="2800" spc="-1" strike="noStrike">
                <a:solidFill>
                  <a:srgbClr val="ffffff"/>
                </a:solidFill>
                <a:latin typeface="Times New Roman"/>
              </a:endParaRPr>
            </a:p>
          </p:txBody>
        </p:sp>
        <p:sp>
          <p:nvSpPr>
            <p:cNvPr id="410" name=""/>
            <p:cNvSpPr/>
            <p:nvPr/>
          </p:nvSpPr>
          <p:spPr>
            <a:xfrm>
              <a:off x="6627240" y="4932360"/>
              <a:ext cx="2371320" cy="155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Arial"/>
                </a:rPr>
                <a:t>Traditional</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Arial"/>
                </a:rPr>
                <a:t>Route of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Arial"/>
                </a:rPr>
                <a:t>the Exodus</a:t>
              </a:r>
              <a:endParaRPr b="0" lang="en-US" sz="3200" spc="-1" strike="noStrike">
                <a:solidFill>
                  <a:srgbClr val="ffffff"/>
                </a:solidFill>
                <a:latin typeface="Times New Roman"/>
              </a:endParaRPr>
            </a:p>
          </p:txBody>
        </p:sp>
        <p:sp>
          <p:nvSpPr>
            <p:cNvPr id="411" name=""/>
            <p:cNvSpPr/>
            <p:nvPr/>
          </p:nvSpPr>
          <p:spPr>
            <a:xfrm>
              <a:off x="415800" y="6173640"/>
              <a:ext cx="20210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Pho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BibleTeacher.com  </a:t>
              </a:r>
              <a:endParaRPr b="0" lang="en-US" sz="1400" spc="-1" strike="noStrike">
                <a:solidFill>
                  <a:srgbClr val="ffffff"/>
                </a:solidFill>
                <a:latin typeface="Times New Roman"/>
              </a:endParaRPr>
            </a:p>
          </p:txBody>
        </p:sp>
        <p:sp>
          <p:nvSpPr>
            <p:cNvPr id="412" name=""/>
            <p:cNvSpPr/>
            <p:nvPr/>
          </p:nvSpPr>
          <p:spPr>
            <a:xfrm>
              <a:off x="2819520" y="1523880"/>
              <a:ext cx="6221160" cy="4219560"/>
            </a:xfrm>
            <a:custGeom>
              <a:avLst/>
              <a:gdLst/>
              <a:ahLst/>
              <a:rect l="l" t="t" r="r" b="b"/>
              <a:pathLst>
                <a:path w="3919" h="2658">
                  <a:moveTo>
                    <a:pt x="0" y="672"/>
                  </a:moveTo>
                  <a:lnTo>
                    <a:pt x="48" y="720"/>
                  </a:lnTo>
                  <a:lnTo>
                    <a:pt x="48" y="720"/>
                  </a:lnTo>
                  <a:lnTo>
                    <a:pt x="97" y="768"/>
                  </a:lnTo>
                  <a:lnTo>
                    <a:pt x="145" y="864"/>
                  </a:lnTo>
                  <a:lnTo>
                    <a:pt x="192" y="1008"/>
                  </a:lnTo>
                  <a:lnTo>
                    <a:pt x="289" y="1104"/>
                  </a:lnTo>
                  <a:lnTo>
                    <a:pt x="336" y="1152"/>
                  </a:lnTo>
                  <a:lnTo>
                    <a:pt x="433" y="1200"/>
                  </a:lnTo>
                  <a:lnTo>
                    <a:pt x="480" y="1200"/>
                  </a:lnTo>
                  <a:lnTo>
                    <a:pt x="480" y="1200"/>
                  </a:lnTo>
                  <a:lnTo>
                    <a:pt x="480" y="1200"/>
                  </a:lnTo>
                  <a:lnTo>
                    <a:pt x="480" y="1200"/>
                  </a:lnTo>
                  <a:lnTo>
                    <a:pt x="480" y="1200"/>
                  </a:lnTo>
                  <a:lnTo>
                    <a:pt x="529" y="1200"/>
                  </a:lnTo>
                  <a:lnTo>
                    <a:pt x="577" y="1200"/>
                  </a:lnTo>
                  <a:lnTo>
                    <a:pt x="577" y="1200"/>
                  </a:lnTo>
                  <a:lnTo>
                    <a:pt x="626" y="1244"/>
                  </a:lnTo>
                  <a:lnTo>
                    <a:pt x="626" y="1285"/>
                  </a:lnTo>
                  <a:lnTo>
                    <a:pt x="626" y="1329"/>
                  </a:lnTo>
                  <a:lnTo>
                    <a:pt x="637" y="1370"/>
                  </a:lnTo>
                  <a:lnTo>
                    <a:pt x="681" y="1409"/>
                  </a:lnTo>
                  <a:lnTo>
                    <a:pt x="696" y="1453"/>
                  </a:lnTo>
                  <a:lnTo>
                    <a:pt x="696" y="1494"/>
                  </a:lnTo>
                  <a:lnTo>
                    <a:pt x="707" y="1538"/>
                  </a:lnTo>
                  <a:lnTo>
                    <a:pt x="707" y="1579"/>
                  </a:lnTo>
                  <a:lnTo>
                    <a:pt x="707" y="1620"/>
                  </a:lnTo>
                  <a:lnTo>
                    <a:pt x="707" y="1663"/>
                  </a:lnTo>
                  <a:lnTo>
                    <a:pt x="696" y="1704"/>
                  </a:lnTo>
                  <a:lnTo>
                    <a:pt x="681" y="1748"/>
                  </a:lnTo>
                  <a:lnTo>
                    <a:pt x="681" y="1789"/>
                  </a:lnTo>
                  <a:lnTo>
                    <a:pt x="681" y="1830"/>
                  </a:lnTo>
                  <a:lnTo>
                    <a:pt x="681" y="1874"/>
                  </a:lnTo>
                  <a:lnTo>
                    <a:pt x="681" y="1928"/>
                  </a:lnTo>
                  <a:lnTo>
                    <a:pt x="681" y="1969"/>
                  </a:lnTo>
                  <a:lnTo>
                    <a:pt x="681" y="2013"/>
                  </a:lnTo>
                  <a:lnTo>
                    <a:pt x="696" y="2054"/>
                  </a:lnTo>
                  <a:lnTo>
                    <a:pt x="723" y="2097"/>
                  </a:lnTo>
                  <a:lnTo>
                    <a:pt x="752" y="2138"/>
                  </a:lnTo>
                  <a:lnTo>
                    <a:pt x="778" y="2179"/>
                  </a:lnTo>
                  <a:lnTo>
                    <a:pt x="822" y="2223"/>
                  </a:lnTo>
                  <a:lnTo>
                    <a:pt x="864" y="2249"/>
                  </a:lnTo>
                  <a:lnTo>
                    <a:pt x="908" y="2293"/>
                  </a:lnTo>
                  <a:lnTo>
                    <a:pt x="950" y="2319"/>
                  </a:lnTo>
                  <a:lnTo>
                    <a:pt x="1005" y="2334"/>
                  </a:lnTo>
                  <a:lnTo>
                    <a:pt x="1034" y="2378"/>
                  </a:lnTo>
                  <a:lnTo>
                    <a:pt x="1062" y="2419"/>
                  </a:lnTo>
                  <a:lnTo>
                    <a:pt x="1105" y="2458"/>
                  </a:lnTo>
                  <a:lnTo>
                    <a:pt x="1132" y="2502"/>
                  </a:lnTo>
                  <a:lnTo>
                    <a:pt x="1175" y="2528"/>
                  </a:lnTo>
                  <a:lnTo>
                    <a:pt x="1217" y="2558"/>
                  </a:lnTo>
                  <a:lnTo>
                    <a:pt x="1261" y="2598"/>
                  </a:lnTo>
                  <a:lnTo>
                    <a:pt x="1303" y="2628"/>
                  </a:lnTo>
                  <a:lnTo>
                    <a:pt x="1344" y="2657"/>
                  </a:lnTo>
                  <a:lnTo>
                    <a:pt x="1389" y="2657"/>
                  </a:lnTo>
                  <a:lnTo>
                    <a:pt x="1444" y="2657"/>
                  </a:lnTo>
                  <a:lnTo>
                    <a:pt x="1444" y="2613"/>
                  </a:lnTo>
                  <a:lnTo>
                    <a:pt x="1459" y="2572"/>
                  </a:lnTo>
                  <a:lnTo>
                    <a:pt x="1486" y="2528"/>
                  </a:lnTo>
                  <a:lnTo>
                    <a:pt x="1530" y="2473"/>
                  </a:lnTo>
                  <a:lnTo>
                    <a:pt x="1571" y="2458"/>
                  </a:lnTo>
                  <a:lnTo>
                    <a:pt x="1616" y="2419"/>
                  </a:lnTo>
                  <a:lnTo>
                    <a:pt x="1671" y="2378"/>
                  </a:lnTo>
                  <a:lnTo>
                    <a:pt x="1713" y="2363"/>
                  </a:lnTo>
                  <a:lnTo>
                    <a:pt x="1757" y="2347"/>
                  </a:lnTo>
                  <a:lnTo>
                    <a:pt x="1812" y="2319"/>
                  </a:lnTo>
                  <a:lnTo>
                    <a:pt x="1854" y="2293"/>
                  </a:lnTo>
                  <a:lnTo>
                    <a:pt x="1883" y="2249"/>
                  </a:lnTo>
                  <a:lnTo>
                    <a:pt x="1924" y="2223"/>
                  </a:lnTo>
                  <a:lnTo>
                    <a:pt x="1940" y="2179"/>
                  </a:lnTo>
                  <a:lnTo>
                    <a:pt x="1969" y="2138"/>
                  </a:lnTo>
                  <a:lnTo>
                    <a:pt x="1980" y="2097"/>
                  </a:lnTo>
                  <a:lnTo>
                    <a:pt x="2010" y="2054"/>
                  </a:lnTo>
                  <a:lnTo>
                    <a:pt x="2024" y="2013"/>
                  </a:lnTo>
                  <a:lnTo>
                    <a:pt x="2039" y="1969"/>
                  </a:lnTo>
                  <a:lnTo>
                    <a:pt x="2050" y="1859"/>
                  </a:lnTo>
                  <a:lnTo>
                    <a:pt x="2050" y="1760"/>
                  </a:lnTo>
                  <a:lnTo>
                    <a:pt x="2066" y="1649"/>
                  </a:lnTo>
                  <a:lnTo>
                    <a:pt x="2066" y="1523"/>
                  </a:lnTo>
                  <a:lnTo>
                    <a:pt x="2081" y="1479"/>
                  </a:lnTo>
                  <a:lnTo>
                    <a:pt x="2110" y="1424"/>
                  </a:lnTo>
                  <a:lnTo>
                    <a:pt x="2121" y="1383"/>
                  </a:lnTo>
                  <a:lnTo>
                    <a:pt x="2151" y="1339"/>
                  </a:lnTo>
                  <a:lnTo>
                    <a:pt x="2193" y="1298"/>
                  </a:lnTo>
                  <a:lnTo>
                    <a:pt x="2236" y="1244"/>
                  </a:lnTo>
                  <a:lnTo>
                    <a:pt x="2251" y="1200"/>
                  </a:lnTo>
                  <a:lnTo>
                    <a:pt x="2293" y="1174"/>
                  </a:lnTo>
                  <a:lnTo>
                    <a:pt x="2322" y="1130"/>
                  </a:lnTo>
                  <a:lnTo>
                    <a:pt x="2363" y="1104"/>
                  </a:lnTo>
                  <a:lnTo>
                    <a:pt x="2405" y="1104"/>
                  </a:lnTo>
                  <a:lnTo>
                    <a:pt x="2449" y="1104"/>
                  </a:lnTo>
                  <a:lnTo>
                    <a:pt x="2504" y="1089"/>
                  </a:lnTo>
                  <a:lnTo>
                    <a:pt x="2546" y="1089"/>
                  </a:lnTo>
                  <a:lnTo>
                    <a:pt x="2590" y="1075"/>
                  </a:lnTo>
                  <a:lnTo>
                    <a:pt x="2632" y="1075"/>
                  </a:lnTo>
                  <a:lnTo>
                    <a:pt x="2732" y="1075"/>
                  </a:lnTo>
                  <a:lnTo>
                    <a:pt x="2773" y="1075"/>
                  </a:lnTo>
                  <a:lnTo>
                    <a:pt x="2817" y="1075"/>
                  </a:lnTo>
                  <a:lnTo>
                    <a:pt x="2873" y="1075"/>
                  </a:lnTo>
                  <a:lnTo>
                    <a:pt x="2914" y="1075"/>
                  </a:lnTo>
                  <a:lnTo>
                    <a:pt x="2959" y="1075"/>
                  </a:lnTo>
                  <a:lnTo>
                    <a:pt x="3000" y="1060"/>
                  </a:lnTo>
                  <a:lnTo>
                    <a:pt x="3055" y="1060"/>
                  </a:lnTo>
                  <a:lnTo>
                    <a:pt x="3100" y="1049"/>
                  </a:lnTo>
                  <a:lnTo>
                    <a:pt x="3141" y="1049"/>
                  </a:lnTo>
                  <a:lnTo>
                    <a:pt x="3197" y="1049"/>
                  </a:lnTo>
                  <a:lnTo>
                    <a:pt x="3241" y="1049"/>
                  </a:lnTo>
                  <a:lnTo>
                    <a:pt x="3283" y="1034"/>
                  </a:lnTo>
                  <a:lnTo>
                    <a:pt x="3324" y="1019"/>
                  </a:lnTo>
                  <a:lnTo>
                    <a:pt x="3367" y="990"/>
                  </a:lnTo>
                  <a:lnTo>
                    <a:pt x="3409" y="964"/>
                  </a:lnTo>
                  <a:lnTo>
                    <a:pt x="3453" y="935"/>
                  </a:lnTo>
                  <a:lnTo>
                    <a:pt x="3312" y="240"/>
                  </a:lnTo>
                  <a:lnTo>
                    <a:pt x="3523" y="851"/>
                  </a:lnTo>
                  <a:lnTo>
                    <a:pt x="3550" y="809"/>
                  </a:lnTo>
                  <a:lnTo>
                    <a:pt x="3580" y="768"/>
                  </a:lnTo>
                  <a:lnTo>
                    <a:pt x="3594" y="725"/>
                  </a:lnTo>
                  <a:lnTo>
                    <a:pt x="3620" y="670"/>
                  </a:lnTo>
                  <a:lnTo>
                    <a:pt x="3636" y="629"/>
                  </a:lnTo>
                  <a:lnTo>
                    <a:pt x="3651" y="585"/>
                  </a:lnTo>
                  <a:lnTo>
                    <a:pt x="3692" y="544"/>
                  </a:lnTo>
                  <a:lnTo>
                    <a:pt x="3721" y="501"/>
                  </a:lnTo>
                  <a:lnTo>
                    <a:pt x="3763" y="474"/>
                  </a:lnTo>
                  <a:lnTo>
                    <a:pt x="3806" y="445"/>
                  </a:lnTo>
                  <a:lnTo>
                    <a:pt x="3834" y="404"/>
                  </a:lnTo>
                  <a:lnTo>
                    <a:pt x="3863" y="360"/>
                  </a:lnTo>
                  <a:lnTo>
                    <a:pt x="3889" y="305"/>
                  </a:lnTo>
                  <a:lnTo>
                    <a:pt x="3918" y="264"/>
                  </a:lnTo>
                  <a:lnTo>
                    <a:pt x="3918" y="221"/>
                  </a:lnTo>
                  <a:lnTo>
                    <a:pt x="3918" y="179"/>
                  </a:lnTo>
                  <a:lnTo>
                    <a:pt x="3904" y="125"/>
                  </a:lnTo>
                  <a:lnTo>
                    <a:pt x="3889" y="81"/>
                  </a:lnTo>
                  <a:lnTo>
                    <a:pt x="3863" y="40"/>
                  </a:lnTo>
                  <a:lnTo>
                    <a:pt x="3818" y="0"/>
                  </a:lnTo>
                </a:path>
              </a:pathLst>
            </a:custGeom>
            <a:noFill/>
            <a:ln cap="rnd" w="5076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065840" y="2774880"/>
              <a:ext cx="2298240" cy="118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nai</a:t>
              </a:r>
              <a:endParaRPr b="0" lang="en-US" sz="4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ninsula</a:t>
              </a:r>
              <a:endParaRPr b="0" lang="en-US" sz="4000" spc="-1" strike="noStrike">
                <a:solidFill>
                  <a:srgbClr val="ffffff"/>
                </a:solidFill>
                <a:latin typeface="Times New Roman"/>
              </a:endParaRPr>
            </a:p>
          </p:txBody>
        </p:sp>
        <p:sp>
          <p:nvSpPr>
            <p:cNvPr id="414" name=""/>
            <p:cNvSpPr/>
            <p:nvPr/>
          </p:nvSpPr>
          <p:spPr>
            <a:xfrm rot="9582600">
              <a:off x="2976120" y="283500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15" name=""/>
            <p:cNvSpPr/>
            <p:nvPr/>
          </p:nvSpPr>
          <p:spPr>
            <a:xfrm rot="11005200">
              <a:off x="3814560" y="439704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16" name=""/>
            <p:cNvSpPr/>
            <p:nvPr/>
          </p:nvSpPr>
          <p:spPr>
            <a:xfrm flipV="1" rot="11125200">
              <a:off x="6009840" y="399204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17" name=""/>
            <p:cNvSpPr/>
            <p:nvPr/>
          </p:nvSpPr>
          <p:spPr>
            <a:xfrm flipV="1" rot="16133400">
              <a:off x="7233840" y="3101040"/>
              <a:ext cx="15588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18" name=""/>
            <p:cNvSpPr/>
            <p:nvPr/>
          </p:nvSpPr>
          <p:spPr>
            <a:xfrm flipV="1" rot="13000200">
              <a:off x="8815320" y="204840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sp>
        <p:nvSpPr>
          <p:cNvPr id="419" name="PlaceHolder 1"/>
          <p:cNvSpPr>
            <a:spLocks noGrp="1"/>
          </p:cNvSpPr>
          <p:nvPr>
            <p:ph type="title"/>
          </p:nvPr>
        </p:nvSpPr>
        <p:spPr>
          <a:xfrm>
            <a:off x="8038800" y="609120"/>
            <a:ext cx="857160" cy="171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Route of the Exodus</a:t>
            </a:r>
            <a:endParaRPr b="1" lang="en-US" sz="100" spc="-1" strike="noStrike" u="sng">
              <a:solidFill>
                <a:srgbClr val="c0fef9"/>
              </a:solidFill>
              <a:uFillTx/>
              <a:latin typeface="Times New Roman"/>
            </a:endParaRPr>
          </a:p>
        </p:txBody>
      </p:sp>
      <p:sp>
        <p:nvSpPr>
          <p:cNvPr id="420"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421" name=""/>
          <p:cNvGrpSpPr/>
          <p:nvPr/>
        </p:nvGrpSpPr>
        <p:grpSpPr>
          <a:xfrm>
            <a:off x="415800" y="11160"/>
            <a:ext cx="8715600" cy="6757920"/>
            <a:chOff x="415800" y="11160"/>
            <a:chExt cx="8715600" cy="6757920"/>
          </a:xfrm>
        </p:grpSpPr>
        <p:grpSp>
          <p:nvGrpSpPr>
            <p:cNvPr id="422" name=""/>
            <p:cNvGrpSpPr/>
            <p:nvPr/>
          </p:nvGrpSpPr>
          <p:grpSpPr>
            <a:xfrm>
              <a:off x="415800" y="11160"/>
              <a:ext cx="8715600" cy="6757920"/>
              <a:chOff x="415800" y="11160"/>
              <a:chExt cx="8715600" cy="6757920"/>
            </a:xfrm>
          </p:grpSpPr>
          <p:pic>
            <p:nvPicPr>
              <p:cNvPr id="423" name="" descr=""/>
              <p:cNvPicPr/>
              <p:nvPr/>
            </p:nvPicPr>
            <p:blipFill>
              <a:blip r:embed="rId1"/>
              <a:stretch/>
            </p:blipFill>
            <p:spPr>
              <a:xfrm>
                <a:off x="415800" y="11160"/>
                <a:ext cx="8715600" cy="6757920"/>
              </a:xfrm>
              <a:prstGeom prst="rect">
                <a:avLst/>
              </a:prstGeom>
              <a:ln w="0">
                <a:noFill/>
              </a:ln>
            </p:spPr>
          </p:pic>
          <p:sp>
            <p:nvSpPr>
              <p:cNvPr id="424" name=""/>
              <p:cNvSpPr/>
              <p:nvPr/>
            </p:nvSpPr>
            <p:spPr>
              <a:xfrm>
                <a:off x="617400" y="4464000"/>
                <a:ext cx="147996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gypt</a:t>
                </a:r>
                <a:endParaRPr b="0" lang="en-US" sz="4000" spc="-1" strike="noStrike">
                  <a:solidFill>
                    <a:srgbClr val="ffffff"/>
                  </a:solidFill>
                  <a:latin typeface="Times New Roman"/>
                </a:endParaRPr>
              </a:p>
            </p:txBody>
          </p:sp>
          <p:sp>
            <p:nvSpPr>
              <p:cNvPr id="425" name=""/>
              <p:cNvSpPr/>
              <p:nvPr/>
            </p:nvSpPr>
            <p:spPr>
              <a:xfrm>
                <a:off x="1533960" y="1897200"/>
                <a:ext cx="1256040" cy="77148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le</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elta</a:t>
                </a:r>
                <a:endParaRPr b="0" lang="en-US" sz="2800" spc="-1" strike="noStrike">
                  <a:solidFill>
                    <a:srgbClr val="ffffff"/>
                  </a:solidFill>
                  <a:latin typeface="Times New Roman"/>
                </a:endParaRPr>
              </a:p>
            </p:txBody>
          </p:sp>
          <p:sp>
            <p:nvSpPr>
              <p:cNvPr id="426" name=""/>
              <p:cNvSpPr/>
              <p:nvPr/>
            </p:nvSpPr>
            <p:spPr>
              <a:xfrm>
                <a:off x="3819600" y="392040"/>
                <a:ext cx="2708280" cy="1125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reat Se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terranean)</a:t>
                </a:r>
                <a:endParaRPr b="0" lang="en-US" sz="2800" spc="-1" strike="noStrike">
                  <a:solidFill>
                    <a:srgbClr val="ffffff"/>
                  </a:solidFill>
                  <a:latin typeface="Times New Roman"/>
                </a:endParaRPr>
              </a:p>
            </p:txBody>
          </p:sp>
          <p:sp>
            <p:nvSpPr>
              <p:cNvPr id="427" name=""/>
              <p:cNvSpPr/>
              <p:nvPr/>
            </p:nvSpPr>
            <p:spPr>
              <a:xfrm>
                <a:off x="3382200" y="6064200"/>
                <a:ext cx="1414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Times New Roman"/>
                  </a:rPr>
                  <a:t>Red Sea</a:t>
                </a:r>
                <a:endParaRPr b="0" lang="en-US" sz="2800" spc="-1" strike="noStrike">
                  <a:solidFill>
                    <a:srgbClr val="ffffff"/>
                  </a:solidFill>
                  <a:latin typeface="Times New Roman"/>
                </a:endParaRPr>
              </a:p>
            </p:txBody>
          </p:sp>
          <p:sp>
            <p:nvSpPr>
              <p:cNvPr id="428" name=""/>
              <p:cNvSpPr/>
              <p:nvPr/>
            </p:nvSpPr>
            <p:spPr>
              <a:xfrm>
                <a:off x="4064400" y="2782800"/>
                <a:ext cx="187596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nai</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ninsula</a:t>
                </a:r>
                <a:endParaRPr b="0" lang="en-US" sz="3200" spc="-1" strike="noStrike">
                  <a:solidFill>
                    <a:srgbClr val="ffffff"/>
                  </a:solidFill>
                  <a:latin typeface="Times New Roman"/>
                </a:endParaRPr>
              </a:p>
            </p:txBody>
          </p:sp>
          <p:sp>
            <p:nvSpPr>
              <p:cNvPr id="429" name=""/>
              <p:cNvSpPr/>
              <p:nvPr/>
            </p:nvSpPr>
            <p:spPr>
              <a:xfrm>
                <a:off x="7224120" y="1293840"/>
                <a:ext cx="15393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aan</a:t>
                </a:r>
                <a:endParaRPr b="0" lang="en-US" sz="3200" spc="-1" strike="noStrike">
                  <a:solidFill>
                    <a:srgbClr val="ffffff"/>
                  </a:solidFill>
                  <a:latin typeface="Times New Roman"/>
                </a:endParaRPr>
              </a:p>
            </p:txBody>
          </p:sp>
          <p:sp>
            <p:nvSpPr>
              <p:cNvPr id="430" name=""/>
              <p:cNvSpPr/>
              <p:nvPr/>
            </p:nvSpPr>
            <p:spPr>
              <a:xfrm>
                <a:off x="743400" y="252360"/>
                <a:ext cx="209556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afd00"/>
                    </a:solidFill>
                    <a:uFillTx/>
                    <a:latin typeface="Arial"/>
                  </a:rPr>
                  <a:t>Traditional</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afd00"/>
                    </a:solidFill>
                    <a:uFillTx/>
                    <a:latin typeface="Arial"/>
                  </a:rPr>
                  <a:t>Route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afd00"/>
                    </a:solidFill>
                    <a:uFillTx/>
                    <a:latin typeface="Arial"/>
                  </a:rPr>
                  <a:t>the Exodus</a:t>
                </a:r>
                <a:endParaRPr b="0" lang="en-US" sz="2800" spc="-1" strike="noStrike">
                  <a:solidFill>
                    <a:srgbClr val="ffffff"/>
                  </a:solidFill>
                  <a:latin typeface="Times New Roman"/>
                </a:endParaRPr>
              </a:p>
            </p:txBody>
          </p:sp>
          <p:sp>
            <p:nvSpPr>
              <p:cNvPr id="431" name=""/>
              <p:cNvSpPr/>
              <p:nvPr/>
            </p:nvSpPr>
            <p:spPr>
              <a:xfrm>
                <a:off x="415800" y="6110280"/>
                <a:ext cx="20973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Pho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BibleTeacher.com  </a:t>
                </a:r>
                <a:endParaRPr b="0" lang="en-US" sz="1400" spc="-1" strike="noStrike">
                  <a:solidFill>
                    <a:srgbClr val="ffffff"/>
                  </a:solidFill>
                  <a:latin typeface="Times New Roman"/>
                </a:endParaRPr>
              </a:p>
            </p:txBody>
          </p:sp>
          <p:sp>
            <p:nvSpPr>
              <p:cNvPr id="432" name=""/>
              <p:cNvSpPr/>
              <p:nvPr/>
            </p:nvSpPr>
            <p:spPr>
              <a:xfrm>
                <a:off x="2360520" y="3397320"/>
                <a:ext cx="1320840" cy="506520"/>
              </a:xfrm>
              <a:prstGeom prst="rightArrow">
                <a:avLst>
                  <a:gd name="adj1" fmla="val 50000"/>
                  <a:gd name="adj2" fmla="val 130396"/>
                </a:avLst>
              </a:prstGeom>
              <a:solidFill>
                <a:srgbClr val="fafd0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48440" y="3809880"/>
                <a:ext cx="289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Arial"/>
                  </a:rPr>
                  <a:t>Quail/Manna</a:t>
                </a:r>
                <a:endParaRPr b="0" lang="en-US" sz="3600" spc="-1" strike="noStrike">
                  <a:solidFill>
                    <a:srgbClr val="ffffff"/>
                  </a:solidFill>
                  <a:latin typeface="Times New Roman"/>
                </a:endParaRPr>
              </a:p>
            </p:txBody>
          </p:sp>
          <p:sp>
            <p:nvSpPr>
              <p:cNvPr id="434" name=""/>
              <p:cNvSpPr/>
              <p:nvPr/>
            </p:nvSpPr>
            <p:spPr>
              <a:xfrm flipH="1">
                <a:off x="5484960" y="5226120"/>
                <a:ext cx="1320480" cy="506520"/>
              </a:xfrm>
              <a:prstGeom prst="rightArrow">
                <a:avLst>
                  <a:gd name="adj1" fmla="val 50000"/>
                  <a:gd name="adj2" fmla="val 130360"/>
                </a:avLst>
              </a:prstGeom>
              <a:solidFill>
                <a:srgbClr val="fafd0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539400" y="4451400"/>
                <a:ext cx="226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afd00"/>
                    </a:solidFill>
                    <a:uFillTx/>
                    <a:latin typeface="Arial"/>
                  </a:rPr>
                  <a:t>Mt. Sinai</a:t>
                </a:r>
                <a:endParaRPr b="0" lang="en-US" sz="4000" spc="-1" strike="noStrike">
                  <a:solidFill>
                    <a:srgbClr val="ffffff"/>
                  </a:solidFill>
                  <a:latin typeface="Times New Roman"/>
                </a:endParaRPr>
              </a:p>
            </p:txBody>
          </p:sp>
          <p:sp>
            <p:nvSpPr>
              <p:cNvPr id="436" name=""/>
              <p:cNvSpPr/>
              <p:nvPr/>
            </p:nvSpPr>
            <p:spPr>
              <a:xfrm>
                <a:off x="6399360" y="2025720"/>
                <a:ext cx="1320480" cy="506520"/>
              </a:xfrm>
              <a:prstGeom prst="rightArrow">
                <a:avLst>
                  <a:gd name="adj1" fmla="val 50000"/>
                  <a:gd name="adj2" fmla="val 130360"/>
                </a:avLst>
              </a:prstGeom>
              <a:solidFill>
                <a:srgbClr val="fafd0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4177440" y="1860480"/>
                <a:ext cx="22402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afd00"/>
                    </a:solidFill>
                    <a:uFillTx/>
                    <a:latin typeface="Arial"/>
                  </a:rPr>
                  <a:t>12 Spies</a:t>
                </a:r>
                <a:endParaRPr b="0" lang="en-US" sz="4000" spc="-1" strike="noStrike">
                  <a:solidFill>
                    <a:srgbClr val="ffffff"/>
                  </a:solidFill>
                  <a:latin typeface="Times New Roman"/>
                </a:endParaRPr>
              </a:p>
            </p:txBody>
          </p:sp>
          <p:sp>
            <p:nvSpPr>
              <p:cNvPr id="438" name=""/>
              <p:cNvSpPr/>
              <p:nvPr/>
            </p:nvSpPr>
            <p:spPr>
              <a:xfrm>
                <a:off x="8616960" y="1301760"/>
                <a:ext cx="29196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439" name=""/>
              <p:cNvSpPr/>
              <p:nvPr/>
            </p:nvSpPr>
            <p:spPr>
              <a:xfrm>
                <a:off x="6844320" y="641520"/>
                <a:ext cx="198576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afd00"/>
                    </a:solidFill>
                    <a:uFillTx/>
                    <a:latin typeface="Arial"/>
                  </a:rPr>
                  <a:t>Jericho</a:t>
                </a:r>
                <a:endParaRPr b="0" lang="en-US" sz="4000" spc="-1" strike="noStrike">
                  <a:solidFill>
                    <a:srgbClr val="ffffff"/>
                  </a:solidFill>
                  <a:latin typeface="Times New Roman"/>
                </a:endParaRPr>
              </a:p>
            </p:txBody>
          </p:sp>
          <p:sp>
            <p:nvSpPr>
              <p:cNvPr id="440" name=""/>
              <p:cNvSpPr/>
              <p:nvPr/>
            </p:nvSpPr>
            <p:spPr>
              <a:xfrm>
                <a:off x="2819520" y="1523880"/>
                <a:ext cx="6221160" cy="4219560"/>
              </a:xfrm>
              <a:custGeom>
                <a:avLst/>
                <a:gdLst/>
                <a:ahLst/>
                <a:rect l="l" t="t" r="r" b="b"/>
                <a:pathLst>
                  <a:path w="3919" h="2658">
                    <a:moveTo>
                      <a:pt x="0" y="672"/>
                    </a:moveTo>
                    <a:lnTo>
                      <a:pt x="48" y="720"/>
                    </a:lnTo>
                    <a:lnTo>
                      <a:pt x="48" y="720"/>
                    </a:lnTo>
                    <a:lnTo>
                      <a:pt x="97" y="768"/>
                    </a:lnTo>
                    <a:lnTo>
                      <a:pt x="145" y="864"/>
                    </a:lnTo>
                    <a:lnTo>
                      <a:pt x="192" y="1008"/>
                    </a:lnTo>
                    <a:lnTo>
                      <a:pt x="289" y="1104"/>
                    </a:lnTo>
                    <a:lnTo>
                      <a:pt x="336" y="1152"/>
                    </a:lnTo>
                    <a:lnTo>
                      <a:pt x="433" y="1200"/>
                    </a:lnTo>
                    <a:lnTo>
                      <a:pt x="480" y="1200"/>
                    </a:lnTo>
                    <a:lnTo>
                      <a:pt x="480" y="1200"/>
                    </a:lnTo>
                    <a:lnTo>
                      <a:pt x="480" y="1200"/>
                    </a:lnTo>
                    <a:lnTo>
                      <a:pt x="480" y="1200"/>
                    </a:lnTo>
                    <a:lnTo>
                      <a:pt x="480" y="1200"/>
                    </a:lnTo>
                    <a:lnTo>
                      <a:pt x="529" y="1200"/>
                    </a:lnTo>
                    <a:lnTo>
                      <a:pt x="577" y="1200"/>
                    </a:lnTo>
                    <a:lnTo>
                      <a:pt x="577" y="1200"/>
                    </a:lnTo>
                    <a:lnTo>
                      <a:pt x="626" y="1244"/>
                    </a:lnTo>
                    <a:lnTo>
                      <a:pt x="626" y="1285"/>
                    </a:lnTo>
                    <a:lnTo>
                      <a:pt x="626" y="1329"/>
                    </a:lnTo>
                    <a:lnTo>
                      <a:pt x="637" y="1370"/>
                    </a:lnTo>
                    <a:lnTo>
                      <a:pt x="681" y="1409"/>
                    </a:lnTo>
                    <a:lnTo>
                      <a:pt x="696" y="1453"/>
                    </a:lnTo>
                    <a:lnTo>
                      <a:pt x="696" y="1494"/>
                    </a:lnTo>
                    <a:lnTo>
                      <a:pt x="707" y="1538"/>
                    </a:lnTo>
                    <a:lnTo>
                      <a:pt x="707" y="1579"/>
                    </a:lnTo>
                    <a:lnTo>
                      <a:pt x="707" y="1620"/>
                    </a:lnTo>
                    <a:lnTo>
                      <a:pt x="707" y="1663"/>
                    </a:lnTo>
                    <a:lnTo>
                      <a:pt x="696" y="1704"/>
                    </a:lnTo>
                    <a:lnTo>
                      <a:pt x="681" y="1748"/>
                    </a:lnTo>
                    <a:lnTo>
                      <a:pt x="681" y="1789"/>
                    </a:lnTo>
                    <a:lnTo>
                      <a:pt x="681" y="1830"/>
                    </a:lnTo>
                    <a:lnTo>
                      <a:pt x="681" y="1874"/>
                    </a:lnTo>
                    <a:lnTo>
                      <a:pt x="681" y="1928"/>
                    </a:lnTo>
                    <a:lnTo>
                      <a:pt x="681" y="1969"/>
                    </a:lnTo>
                    <a:lnTo>
                      <a:pt x="681" y="2013"/>
                    </a:lnTo>
                    <a:lnTo>
                      <a:pt x="696" y="2054"/>
                    </a:lnTo>
                    <a:lnTo>
                      <a:pt x="723" y="2097"/>
                    </a:lnTo>
                    <a:lnTo>
                      <a:pt x="752" y="2138"/>
                    </a:lnTo>
                    <a:lnTo>
                      <a:pt x="778" y="2179"/>
                    </a:lnTo>
                    <a:lnTo>
                      <a:pt x="822" y="2223"/>
                    </a:lnTo>
                    <a:lnTo>
                      <a:pt x="864" y="2249"/>
                    </a:lnTo>
                    <a:lnTo>
                      <a:pt x="908" y="2293"/>
                    </a:lnTo>
                    <a:lnTo>
                      <a:pt x="950" y="2319"/>
                    </a:lnTo>
                    <a:lnTo>
                      <a:pt x="1005" y="2334"/>
                    </a:lnTo>
                    <a:lnTo>
                      <a:pt x="1034" y="2378"/>
                    </a:lnTo>
                    <a:lnTo>
                      <a:pt x="1062" y="2419"/>
                    </a:lnTo>
                    <a:lnTo>
                      <a:pt x="1105" y="2458"/>
                    </a:lnTo>
                    <a:lnTo>
                      <a:pt x="1132" y="2502"/>
                    </a:lnTo>
                    <a:lnTo>
                      <a:pt x="1175" y="2528"/>
                    </a:lnTo>
                    <a:lnTo>
                      <a:pt x="1217" y="2558"/>
                    </a:lnTo>
                    <a:lnTo>
                      <a:pt x="1261" y="2598"/>
                    </a:lnTo>
                    <a:lnTo>
                      <a:pt x="1303" y="2628"/>
                    </a:lnTo>
                    <a:lnTo>
                      <a:pt x="1344" y="2657"/>
                    </a:lnTo>
                    <a:lnTo>
                      <a:pt x="1389" y="2657"/>
                    </a:lnTo>
                    <a:lnTo>
                      <a:pt x="1444" y="2657"/>
                    </a:lnTo>
                    <a:lnTo>
                      <a:pt x="1444" y="2613"/>
                    </a:lnTo>
                    <a:lnTo>
                      <a:pt x="1459" y="2572"/>
                    </a:lnTo>
                    <a:lnTo>
                      <a:pt x="1486" y="2528"/>
                    </a:lnTo>
                    <a:lnTo>
                      <a:pt x="1530" y="2473"/>
                    </a:lnTo>
                    <a:lnTo>
                      <a:pt x="1571" y="2458"/>
                    </a:lnTo>
                    <a:lnTo>
                      <a:pt x="1616" y="2419"/>
                    </a:lnTo>
                    <a:lnTo>
                      <a:pt x="1671" y="2378"/>
                    </a:lnTo>
                    <a:lnTo>
                      <a:pt x="1713" y="2363"/>
                    </a:lnTo>
                    <a:lnTo>
                      <a:pt x="1757" y="2347"/>
                    </a:lnTo>
                    <a:lnTo>
                      <a:pt x="1812" y="2319"/>
                    </a:lnTo>
                    <a:lnTo>
                      <a:pt x="1854" y="2293"/>
                    </a:lnTo>
                    <a:lnTo>
                      <a:pt x="1883" y="2249"/>
                    </a:lnTo>
                    <a:lnTo>
                      <a:pt x="1924" y="2223"/>
                    </a:lnTo>
                    <a:lnTo>
                      <a:pt x="1940" y="2179"/>
                    </a:lnTo>
                    <a:lnTo>
                      <a:pt x="1969" y="2138"/>
                    </a:lnTo>
                    <a:lnTo>
                      <a:pt x="1980" y="2097"/>
                    </a:lnTo>
                    <a:lnTo>
                      <a:pt x="2010" y="2054"/>
                    </a:lnTo>
                    <a:lnTo>
                      <a:pt x="2024" y="2013"/>
                    </a:lnTo>
                    <a:lnTo>
                      <a:pt x="2039" y="1969"/>
                    </a:lnTo>
                    <a:lnTo>
                      <a:pt x="2050" y="1859"/>
                    </a:lnTo>
                    <a:lnTo>
                      <a:pt x="2050" y="1760"/>
                    </a:lnTo>
                    <a:lnTo>
                      <a:pt x="2066" y="1649"/>
                    </a:lnTo>
                    <a:lnTo>
                      <a:pt x="2066" y="1523"/>
                    </a:lnTo>
                    <a:lnTo>
                      <a:pt x="2081" y="1479"/>
                    </a:lnTo>
                    <a:lnTo>
                      <a:pt x="2110" y="1424"/>
                    </a:lnTo>
                    <a:lnTo>
                      <a:pt x="2121" y="1383"/>
                    </a:lnTo>
                    <a:lnTo>
                      <a:pt x="2151" y="1339"/>
                    </a:lnTo>
                    <a:lnTo>
                      <a:pt x="2193" y="1298"/>
                    </a:lnTo>
                    <a:lnTo>
                      <a:pt x="2236" y="1244"/>
                    </a:lnTo>
                    <a:lnTo>
                      <a:pt x="2251" y="1200"/>
                    </a:lnTo>
                    <a:lnTo>
                      <a:pt x="2293" y="1174"/>
                    </a:lnTo>
                    <a:lnTo>
                      <a:pt x="2322" y="1130"/>
                    </a:lnTo>
                    <a:lnTo>
                      <a:pt x="2363" y="1104"/>
                    </a:lnTo>
                    <a:lnTo>
                      <a:pt x="2405" y="1104"/>
                    </a:lnTo>
                    <a:lnTo>
                      <a:pt x="2449" y="1104"/>
                    </a:lnTo>
                    <a:lnTo>
                      <a:pt x="2504" y="1089"/>
                    </a:lnTo>
                    <a:lnTo>
                      <a:pt x="2546" y="1089"/>
                    </a:lnTo>
                    <a:lnTo>
                      <a:pt x="2590" y="1075"/>
                    </a:lnTo>
                    <a:lnTo>
                      <a:pt x="2632" y="1075"/>
                    </a:lnTo>
                    <a:lnTo>
                      <a:pt x="2732" y="1075"/>
                    </a:lnTo>
                    <a:lnTo>
                      <a:pt x="2773" y="1075"/>
                    </a:lnTo>
                    <a:lnTo>
                      <a:pt x="2817" y="1075"/>
                    </a:lnTo>
                    <a:lnTo>
                      <a:pt x="2873" y="1075"/>
                    </a:lnTo>
                    <a:lnTo>
                      <a:pt x="2914" y="1075"/>
                    </a:lnTo>
                    <a:lnTo>
                      <a:pt x="2959" y="1075"/>
                    </a:lnTo>
                    <a:lnTo>
                      <a:pt x="3000" y="1060"/>
                    </a:lnTo>
                    <a:lnTo>
                      <a:pt x="3055" y="1060"/>
                    </a:lnTo>
                    <a:lnTo>
                      <a:pt x="3100" y="1049"/>
                    </a:lnTo>
                    <a:lnTo>
                      <a:pt x="3141" y="1049"/>
                    </a:lnTo>
                    <a:lnTo>
                      <a:pt x="3197" y="1049"/>
                    </a:lnTo>
                    <a:lnTo>
                      <a:pt x="3241" y="1049"/>
                    </a:lnTo>
                    <a:lnTo>
                      <a:pt x="3283" y="1034"/>
                    </a:lnTo>
                    <a:lnTo>
                      <a:pt x="3324" y="1019"/>
                    </a:lnTo>
                    <a:lnTo>
                      <a:pt x="3367" y="990"/>
                    </a:lnTo>
                    <a:lnTo>
                      <a:pt x="3409" y="964"/>
                    </a:lnTo>
                    <a:lnTo>
                      <a:pt x="3453" y="935"/>
                    </a:lnTo>
                    <a:lnTo>
                      <a:pt x="3312" y="240"/>
                    </a:lnTo>
                    <a:lnTo>
                      <a:pt x="3523" y="851"/>
                    </a:lnTo>
                    <a:lnTo>
                      <a:pt x="3550" y="809"/>
                    </a:lnTo>
                    <a:lnTo>
                      <a:pt x="3580" y="768"/>
                    </a:lnTo>
                    <a:lnTo>
                      <a:pt x="3594" y="725"/>
                    </a:lnTo>
                    <a:lnTo>
                      <a:pt x="3620" y="670"/>
                    </a:lnTo>
                    <a:lnTo>
                      <a:pt x="3636" y="629"/>
                    </a:lnTo>
                    <a:lnTo>
                      <a:pt x="3651" y="585"/>
                    </a:lnTo>
                    <a:lnTo>
                      <a:pt x="3692" y="544"/>
                    </a:lnTo>
                    <a:lnTo>
                      <a:pt x="3721" y="501"/>
                    </a:lnTo>
                    <a:lnTo>
                      <a:pt x="3763" y="474"/>
                    </a:lnTo>
                    <a:lnTo>
                      <a:pt x="3806" y="445"/>
                    </a:lnTo>
                    <a:lnTo>
                      <a:pt x="3834" y="404"/>
                    </a:lnTo>
                    <a:lnTo>
                      <a:pt x="3863" y="360"/>
                    </a:lnTo>
                    <a:lnTo>
                      <a:pt x="3889" y="305"/>
                    </a:lnTo>
                    <a:lnTo>
                      <a:pt x="3918" y="264"/>
                    </a:lnTo>
                    <a:lnTo>
                      <a:pt x="3918" y="221"/>
                    </a:lnTo>
                    <a:lnTo>
                      <a:pt x="3918" y="179"/>
                    </a:lnTo>
                    <a:lnTo>
                      <a:pt x="3904" y="125"/>
                    </a:lnTo>
                    <a:lnTo>
                      <a:pt x="3889" y="81"/>
                    </a:lnTo>
                    <a:lnTo>
                      <a:pt x="3863" y="40"/>
                    </a:lnTo>
                    <a:lnTo>
                      <a:pt x="3818" y="0"/>
                    </a:lnTo>
                  </a:path>
                </a:pathLst>
              </a:custGeom>
              <a:noFill/>
              <a:ln cap="rnd" w="5076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284720" y="5519880"/>
                <a:ext cx="1643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Mt. Sinai</a:t>
                </a:r>
                <a:endParaRPr b="0" lang="en-US" sz="2800" spc="-1" strike="noStrike">
                  <a:solidFill>
                    <a:srgbClr val="ffffff"/>
                  </a:solidFill>
                  <a:latin typeface="Times New Roman"/>
                </a:endParaRPr>
              </a:p>
            </p:txBody>
          </p:sp>
        </p:grpSp>
        <p:sp>
          <p:nvSpPr>
            <p:cNvPr id="442" name=""/>
            <p:cNvSpPr/>
            <p:nvPr/>
          </p:nvSpPr>
          <p:spPr>
            <a:xfrm rot="9582600">
              <a:off x="2976120" y="283500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43" name=""/>
            <p:cNvSpPr/>
            <p:nvPr/>
          </p:nvSpPr>
          <p:spPr>
            <a:xfrm rot="11005200">
              <a:off x="3814560" y="439704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44" name=""/>
            <p:cNvSpPr/>
            <p:nvPr/>
          </p:nvSpPr>
          <p:spPr>
            <a:xfrm flipV="1" rot="11125200">
              <a:off x="6009840" y="399204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45" name=""/>
            <p:cNvSpPr/>
            <p:nvPr/>
          </p:nvSpPr>
          <p:spPr>
            <a:xfrm flipV="1" rot="16133400">
              <a:off x="7233840" y="3101040"/>
              <a:ext cx="15588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46" name=""/>
            <p:cNvSpPr/>
            <p:nvPr/>
          </p:nvSpPr>
          <p:spPr>
            <a:xfrm flipV="1" rot="13000200">
              <a:off x="8815320" y="2048400"/>
              <a:ext cx="155520" cy="231840"/>
            </a:xfrm>
            <a:prstGeom prst="triangle">
              <a:avLst>
                <a:gd name="adj" fmla="val 50000"/>
              </a:avLst>
            </a:prstGeom>
            <a:solidFill>
              <a:srgbClr val="ff5008"/>
            </a:solidFill>
            <a:ln w="12600">
              <a:solidFill>
                <a:srgbClr val="ff5008"/>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sp>
        <p:nvSpPr>
          <p:cNvPr id="447" name="PlaceHolder 1"/>
          <p:cNvSpPr>
            <a:spLocks noGrp="1"/>
          </p:cNvSpPr>
          <p:nvPr>
            <p:ph type="title"/>
          </p:nvPr>
        </p:nvSpPr>
        <p:spPr>
          <a:xfrm rot="10800000">
            <a:off x="7466760" y="533880"/>
            <a:ext cx="1428840" cy="74520"/>
          </a:xfrm>
          <a:prstGeom prst="rect">
            <a:avLst/>
          </a:prstGeom>
          <a:noFill/>
          <a:ln w="0">
            <a:noFill/>
          </a:ln>
          <a:effectLst>
            <a:outerShdw dist="17819" dir="2700000" blurRad="0" rotWithShape="0">
              <a:srgbClr val="000000"/>
            </a:outerShdw>
          </a:effectLst>
        </p:spPr>
        <p:txBody>
          <a:bodyPr lIns="90360" rIns="90360" tIns="30240" bIns="302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Exodus Major Events Map</a:t>
            </a:r>
            <a:endParaRPr b="1" lang="en-US" sz="100" spc="-1" strike="noStrike" u="sng">
              <a:solidFill>
                <a:srgbClr val="c0fef9"/>
              </a:solidFill>
              <a:uFillTx/>
              <a:latin typeface="Times New Roman"/>
            </a:endParaRPr>
          </a:p>
        </p:txBody>
      </p:sp>
      <p:sp>
        <p:nvSpPr>
          <p:cNvPr id="448"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7924320" y="609480"/>
            <a:ext cx="97164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Twelve Tribes of Israel</a:t>
            </a:r>
            <a:endParaRPr b="1" lang="en-US" sz="100" spc="-1" strike="noStrike" u="sng">
              <a:solidFill>
                <a:srgbClr val="c0fef9"/>
              </a:solidFill>
              <a:uFillTx/>
              <a:latin typeface="Times New Roman"/>
            </a:endParaRPr>
          </a:p>
        </p:txBody>
      </p:sp>
      <p:sp>
        <p:nvSpPr>
          <p:cNvPr id="450"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451" name=""/>
          <p:cNvGrpSpPr/>
          <p:nvPr/>
        </p:nvGrpSpPr>
        <p:grpSpPr>
          <a:xfrm>
            <a:off x="210960" y="31680"/>
            <a:ext cx="8855280" cy="6635880"/>
            <a:chOff x="210960" y="31680"/>
            <a:chExt cx="8855280" cy="6635880"/>
          </a:xfrm>
        </p:grpSpPr>
        <p:grpSp>
          <p:nvGrpSpPr>
            <p:cNvPr id="452" name=""/>
            <p:cNvGrpSpPr/>
            <p:nvPr/>
          </p:nvGrpSpPr>
          <p:grpSpPr>
            <a:xfrm>
              <a:off x="210960" y="31680"/>
              <a:ext cx="8855280" cy="6635880"/>
              <a:chOff x="210960" y="31680"/>
              <a:chExt cx="8855280" cy="6635880"/>
            </a:xfrm>
          </p:grpSpPr>
          <p:pic>
            <p:nvPicPr>
              <p:cNvPr id="453" name="" descr=""/>
              <p:cNvPicPr/>
              <p:nvPr/>
            </p:nvPicPr>
            <p:blipFill>
              <a:blip r:embed="rId2">
                <a:lum bright="-12000"/>
              </a:blip>
              <a:stretch/>
            </p:blipFill>
            <p:spPr>
              <a:xfrm>
                <a:off x="210960" y="31680"/>
                <a:ext cx="4476960" cy="6618240"/>
              </a:xfrm>
              <a:prstGeom prst="rect">
                <a:avLst/>
              </a:prstGeom>
              <a:ln w="0">
                <a:noFill/>
              </a:ln>
            </p:spPr>
          </p:pic>
          <p:sp>
            <p:nvSpPr>
              <p:cNvPr id="454" name=""/>
              <p:cNvSpPr/>
              <p:nvPr/>
            </p:nvSpPr>
            <p:spPr>
              <a:xfrm>
                <a:off x="2852640" y="251460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658880" y="452520"/>
                <a:ext cx="585720" cy="2211480"/>
              </a:xfrm>
              <a:custGeom>
                <a:avLst/>
                <a:gdLst/>
                <a:ahLst/>
                <a:rect l="l" t="t" r="r" b="b"/>
                <a:pathLst>
                  <a:path w="369" h="1393">
                    <a:moveTo>
                      <a:pt x="0" y="1216"/>
                    </a:moveTo>
                    <a:lnTo>
                      <a:pt x="10" y="1226"/>
                    </a:lnTo>
                    <a:lnTo>
                      <a:pt x="19" y="1238"/>
                    </a:lnTo>
                    <a:lnTo>
                      <a:pt x="29" y="1248"/>
                    </a:lnTo>
                    <a:lnTo>
                      <a:pt x="35" y="1258"/>
                    </a:lnTo>
                    <a:lnTo>
                      <a:pt x="45" y="1264"/>
                    </a:lnTo>
                    <a:lnTo>
                      <a:pt x="54" y="1274"/>
                    </a:lnTo>
                    <a:lnTo>
                      <a:pt x="64" y="1277"/>
                    </a:lnTo>
                    <a:lnTo>
                      <a:pt x="74" y="1286"/>
                    </a:lnTo>
                    <a:lnTo>
                      <a:pt x="86" y="1293"/>
                    </a:lnTo>
                    <a:lnTo>
                      <a:pt x="96" y="1302"/>
                    </a:lnTo>
                    <a:lnTo>
                      <a:pt x="106" y="1309"/>
                    </a:lnTo>
                    <a:lnTo>
                      <a:pt x="118" y="1318"/>
                    </a:lnTo>
                    <a:lnTo>
                      <a:pt x="128" y="1325"/>
                    </a:lnTo>
                    <a:lnTo>
                      <a:pt x="138" y="1334"/>
                    </a:lnTo>
                    <a:lnTo>
                      <a:pt x="141" y="1344"/>
                    </a:lnTo>
                    <a:lnTo>
                      <a:pt x="144" y="1354"/>
                    </a:lnTo>
                    <a:lnTo>
                      <a:pt x="154" y="1366"/>
                    </a:lnTo>
                    <a:lnTo>
                      <a:pt x="160" y="1376"/>
                    </a:lnTo>
                    <a:lnTo>
                      <a:pt x="170" y="1382"/>
                    </a:lnTo>
                    <a:lnTo>
                      <a:pt x="179" y="1392"/>
                    </a:lnTo>
                    <a:lnTo>
                      <a:pt x="189" y="1392"/>
                    </a:lnTo>
                    <a:lnTo>
                      <a:pt x="198" y="1382"/>
                    </a:lnTo>
                    <a:lnTo>
                      <a:pt x="205" y="1370"/>
                    </a:lnTo>
                    <a:lnTo>
                      <a:pt x="208" y="1360"/>
                    </a:lnTo>
                    <a:lnTo>
                      <a:pt x="214" y="1350"/>
                    </a:lnTo>
                    <a:lnTo>
                      <a:pt x="214" y="1338"/>
                    </a:lnTo>
                    <a:lnTo>
                      <a:pt x="214" y="1328"/>
                    </a:lnTo>
                    <a:lnTo>
                      <a:pt x="214" y="1318"/>
                    </a:lnTo>
                    <a:lnTo>
                      <a:pt x="211" y="1306"/>
                    </a:lnTo>
                    <a:lnTo>
                      <a:pt x="211" y="1296"/>
                    </a:lnTo>
                    <a:lnTo>
                      <a:pt x="211" y="1286"/>
                    </a:lnTo>
                    <a:lnTo>
                      <a:pt x="211" y="1274"/>
                    </a:lnTo>
                    <a:lnTo>
                      <a:pt x="221" y="1274"/>
                    </a:lnTo>
                    <a:lnTo>
                      <a:pt x="234" y="1270"/>
                    </a:lnTo>
                    <a:lnTo>
                      <a:pt x="246" y="1270"/>
                    </a:lnTo>
                    <a:lnTo>
                      <a:pt x="256" y="1270"/>
                    </a:lnTo>
                    <a:lnTo>
                      <a:pt x="266" y="1270"/>
                    </a:lnTo>
                    <a:lnTo>
                      <a:pt x="266" y="1258"/>
                    </a:lnTo>
                    <a:lnTo>
                      <a:pt x="266" y="1248"/>
                    </a:lnTo>
                    <a:lnTo>
                      <a:pt x="266" y="1238"/>
                    </a:lnTo>
                    <a:lnTo>
                      <a:pt x="266" y="1226"/>
                    </a:lnTo>
                    <a:lnTo>
                      <a:pt x="266" y="1216"/>
                    </a:lnTo>
                    <a:lnTo>
                      <a:pt x="266" y="1206"/>
                    </a:lnTo>
                    <a:lnTo>
                      <a:pt x="266" y="1194"/>
                    </a:lnTo>
                    <a:lnTo>
                      <a:pt x="266" y="1184"/>
                    </a:lnTo>
                    <a:lnTo>
                      <a:pt x="269" y="1174"/>
                    </a:lnTo>
                    <a:lnTo>
                      <a:pt x="275" y="1162"/>
                    </a:lnTo>
                    <a:lnTo>
                      <a:pt x="285" y="1155"/>
                    </a:lnTo>
                    <a:lnTo>
                      <a:pt x="288" y="1142"/>
                    </a:lnTo>
                    <a:lnTo>
                      <a:pt x="288" y="1130"/>
                    </a:lnTo>
                    <a:lnTo>
                      <a:pt x="288" y="1120"/>
                    </a:lnTo>
                    <a:lnTo>
                      <a:pt x="285" y="1110"/>
                    </a:lnTo>
                    <a:lnTo>
                      <a:pt x="282" y="1098"/>
                    </a:lnTo>
                    <a:lnTo>
                      <a:pt x="278" y="1088"/>
                    </a:lnTo>
                    <a:lnTo>
                      <a:pt x="278" y="1078"/>
                    </a:lnTo>
                    <a:lnTo>
                      <a:pt x="275" y="1066"/>
                    </a:lnTo>
                    <a:lnTo>
                      <a:pt x="275" y="1056"/>
                    </a:lnTo>
                    <a:lnTo>
                      <a:pt x="269" y="1046"/>
                    </a:lnTo>
                    <a:lnTo>
                      <a:pt x="262" y="1034"/>
                    </a:lnTo>
                    <a:lnTo>
                      <a:pt x="259" y="1024"/>
                    </a:lnTo>
                    <a:lnTo>
                      <a:pt x="259" y="1014"/>
                    </a:lnTo>
                    <a:lnTo>
                      <a:pt x="259" y="1002"/>
                    </a:lnTo>
                    <a:lnTo>
                      <a:pt x="259" y="992"/>
                    </a:lnTo>
                    <a:lnTo>
                      <a:pt x="259" y="982"/>
                    </a:lnTo>
                    <a:lnTo>
                      <a:pt x="259" y="970"/>
                    </a:lnTo>
                    <a:lnTo>
                      <a:pt x="259" y="960"/>
                    </a:lnTo>
                    <a:lnTo>
                      <a:pt x="259" y="950"/>
                    </a:lnTo>
                    <a:lnTo>
                      <a:pt x="259" y="938"/>
                    </a:lnTo>
                    <a:lnTo>
                      <a:pt x="259" y="928"/>
                    </a:lnTo>
                    <a:lnTo>
                      <a:pt x="262" y="918"/>
                    </a:lnTo>
                    <a:lnTo>
                      <a:pt x="266" y="906"/>
                    </a:lnTo>
                    <a:lnTo>
                      <a:pt x="269" y="896"/>
                    </a:lnTo>
                    <a:lnTo>
                      <a:pt x="269" y="886"/>
                    </a:lnTo>
                    <a:lnTo>
                      <a:pt x="272" y="874"/>
                    </a:lnTo>
                    <a:lnTo>
                      <a:pt x="272" y="864"/>
                    </a:lnTo>
                    <a:lnTo>
                      <a:pt x="275" y="854"/>
                    </a:lnTo>
                    <a:lnTo>
                      <a:pt x="278" y="842"/>
                    </a:lnTo>
                    <a:lnTo>
                      <a:pt x="278" y="813"/>
                    </a:lnTo>
                    <a:lnTo>
                      <a:pt x="282" y="787"/>
                    </a:lnTo>
                    <a:lnTo>
                      <a:pt x="285" y="774"/>
                    </a:lnTo>
                    <a:lnTo>
                      <a:pt x="285" y="762"/>
                    </a:lnTo>
                    <a:lnTo>
                      <a:pt x="288" y="752"/>
                    </a:lnTo>
                    <a:lnTo>
                      <a:pt x="291" y="742"/>
                    </a:lnTo>
                    <a:lnTo>
                      <a:pt x="298" y="730"/>
                    </a:lnTo>
                    <a:lnTo>
                      <a:pt x="301" y="720"/>
                    </a:lnTo>
                    <a:lnTo>
                      <a:pt x="304" y="710"/>
                    </a:lnTo>
                    <a:lnTo>
                      <a:pt x="310" y="698"/>
                    </a:lnTo>
                    <a:lnTo>
                      <a:pt x="314" y="688"/>
                    </a:lnTo>
                    <a:lnTo>
                      <a:pt x="317" y="678"/>
                    </a:lnTo>
                    <a:lnTo>
                      <a:pt x="323" y="666"/>
                    </a:lnTo>
                    <a:lnTo>
                      <a:pt x="326" y="656"/>
                    </a:lnTo>
                    <a:lnTo>
                      <a:pt x="330" y="630"/>
                    </a:lnTo>
                    <a:lnTo>
                      <a:pt x="330" y="605"/>
                    </a:lnTo>
                    <a:lnTo>
                      <a:pt x="333" y="582"/>
                    </a:lnTo>
                    <a:lnTo>
                      <a:pt x="336" y="570"/>
                    </a:lnTo>
                    <a:lnTo>
                      <a:pt x="336" y="560"/>
                    </a:lnTo>
                    <a:lnTo>
                      <a:pt x="336" y="550"/>
                    </a:lnTo>
                    <a:lnTo>
                      <a:pt x="336" y="538"/>
                    </a:lnTo>
                    <a:lnTo>
                      <a:pt x="336" y="528"/>
                    </a:lnTo>
                    <a:lnTo>
                      <a:pt x="339" y="518"/>
                    </a:lnTo>
                    <a:lnTo>
                      <a:pt x="339" y="506"/>
                    </a:lnTo>
                    <a:lnTo>
                      <a:pt x="339" y="496"/>
                    </a:lnTo>
                    <a:lnTo>
                      <a:pt x="342" y="486"/>
                    </a:lnTo>
                    <a:lnTo>
                      <a:pt x="342" y="474"/>
                    </a:lnTo>
                    <a:lnTo>
                      <a:pt x="342" y="464"/>
                    </a:lnTo>
                    <a:lnTo>
                      <a:pt x="342" y="454"/>
                    </a:lnTo>
                    <a:lnTo>
                      <a:pt x="346" y="442"/>
                    </a:lnTo>
                    <a:lnTo>
                      <a:pt x="346" y="432"/>
                    </a:lnTo>
                    <a:lnTo>
                      <a:pt x="346" y="422"/>
                    </a:lnTo>
                    <a:lnTo>
                      <a:pt x="349" y="410"/>
                    </a:lnTo>
                    <a:lnTo>
                      <a:pt x="349" y="400"/>
                    </a:lnTo>
                    <a:lnTo>
                      <a:pt x="349" y="390"/>
                    </a:lnTo>
                    <a:lnTo>
                      <a:pt x="352" y="378"/>
                    </a:lnTo>
                    <a:lnTo>
                      <a:pt x="352" y="368"/>
                    </a:lnTo>
                    <a:lnTo>
                      <a:pt x="355" y="358"/>
                    </a:lnTo>
                    <a:lnTo>
                      <a:pt x="358" y="346"/>
                    </a:lnTo>
                    <a:lnTo>
                      <a:pt x="358" y="336"/>
                    </a:lnTo>
                    <a:lnTo>
                      <a:pt x="362" y="326"/>
                    </a:lnTo>
                    <a:lnTo>
                      <a:pt x="365" y="314"/>
                    </a:lnTo>
                    <a:lnTo>
                      <a:pt x="365" y="304"/>
                    </a:lnTo>
                    <a:lnTo>
                      <a:pt x="368" y="294"/>
                    </a:lnTo>
                    <a:lnTo>
                      <a:pt x="368" y="282"/>
                    </a:lnTo>
                    <a:lnTo>
                      <a:pt x="368" y="272"/>
                    </a:lnTo>
                    <a:lnTo>
                      <a:pt x="368" y="262"/>
                    </a:lnTo>
                    <a:lnTo>
                      <a:pt x="368" y="250"/>
                    </a:lnTo>
                    <a:lnTo>
                      <a:pt x="368" y="240"/>
                    </a:lnTo>
                    <a:lnTo>
                      <a:pt x="368" y="230"/>
                    </a:lnTo>
                    <a:lnTo>
                      <a:pt x="368" y="218"/>
                    </a:lnTo>
                    <a:lnTo>
                      <a:pt x="368" y="208"/>
                    </a:lnTo>
                    <a:lnTo>
                      <a:pt x="368" y="198"/>
                    </a:lnTo>
                    <a:lnTo>
                      <a:pt x="368" y="186"/>
                    </a:lnTo>
                    <a:lnTo>
                      <a:pt x="368" y="176"/>
                    </a:lnTo>
                    <a:lnTo>
                      <a:pt x="368" y="166"/>
                    </a:lnTo>
                    <a:lnTo>
                      <a:pt x="365" y="154"/>
                    </a:lnTo>
                    <a:lnTo>
                      <a:pt x="362" y="144"/>
                    </a:lnTo>
                    <a:lnTo>
                      <a:pt x="355" y="134"/>
                    </a:lnTo>
                    <a:lnTo>
                      <a:pt x="352" y="122"/>
                    </a:lnTo>
                    <a:lnTo>
                      <a:pt x="346" y="112"/>
                    </a:lnTo>
                    <a:lnTo>
                      <a:pt x="342" y="102"/>
                    </a:lnTo>
                    <a:lnTo>
                      <a:pt x="333" y="90"/>
                    </a:lnTo>
                    <a:lnTo>
                      <a:pt x="330" y="80"/>
                    </a:lnTo>
                    <a:lnTo>
                      <a:pt x="323" y="70"/>
                    </a:lnTo>
                    <a:lnTo>
                      <a:pt x="317" y="58"/>
                    </a:lnTo>
                    <a:lnTo>
                      <a:pt x="307" y="48"/>
                    </a:lnTo>
                    <a:lnTo>
                      <a:pt x="301" y="38"/>
                    </a:lnTo>
                    <a:lnTo>
                      <a:pt x="291" y="29"/>
                    </a:lnTo>
                    <a:lnTo>
                      <a:pt x="285" y="19"/>
                    </a:lnTo>
                    <a:lnTo>
                      <a:pt x="275" y="10"/>
                    </a:lnTo>
                    <a:lnTo>
                      <a:pt x="26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2125800" y="700200"/>
                <a:ext cx="733320" cy="1719000"/>
              </a:xfrm>
              <a:custGeom>
                <a:avLst/>
                <a:gdLst/>
                <a:ahLst/>
                <a:rect l="l" t="t" r="r" b="b"/>
                <a:pathLst>
                  <a:path w="462" h="1083">
                    <a:moveTo>
                      <a:pt x="74" y="0"/>
                    </a:moveTo>
                    <a:lnTo>
                      <a:pt x="77" y="7"/>
                    </a:lnTo>
                    <a:lnTo>
                      <a:pt x="87" y="17"/>
                    </a:lnTo>
                    <a:lnTo>
                      <a:pt x="93" y="30"/>
                    </a:lnTo>
                    <a:lnTo>
                      <a:pt x="103" y="33"/>
                    </a:lnTo>
                    <a:lnTo>
                      <a:pt x="116" y="39"/>
                    </a:lnTo>
                    <a:lnTo>
                      <a:pt x="128" y="42"/>
                    </a:lnTo>
                    <a:lnTo>
                      <a:pt x="138" y="46"/>
                    </a:lnTo>
                    <a:lnTo>
                      <a:pt x="148" y="46"/>
                    </a:lnTo>
                    <a:lnTo>
                      <a:pt x="160" y="49"/>
                    </a:lnTo>
                    <a:lnTo>
                      <a:pt x="170" y="52"/>
                    </a:lnTo>
                    <a:lnTo>
                      <a:pt x="180" y="55"/>
                    </a:lnTo>
                    <a:lnTo>
                      <a:pt x="192" y="58"/>
                    </a:lnTo>
                    <a:lnTo>
                      <a:pt x="202" y="62"/>
                    </a:lnTo>
                    <a:lnTo>
                      <a:pt x="212" y="62"/>
                    </a:lnTo>
                    <a:lnTo>
                      <a:pt x="224" y="65"/>
                    </a:lnTo>
                    <a:lnTo>
                      <a:pt x="234" y="68"/>
                    </a:lnTo>
                    <a:lnTo>
                      <a:pt x="244" y="71"/>
                    </a:lnTo>
                    <a:lnTo>
                      <a:pt x="256" y="74"/>
                    </a:lnTo>
                    <a:lnTo>
                      <a:pt x="266" y="74"/>
                    </a:lnTo>
                    <a:lnTo>
                      <a:pt x="276" y="78"/>
                    </a:lnTo>
                    <a:lnTo>
                      <a:pt x="288" y="78"/>
                    </a:lnTo>
                    <a:lnTo>
                      <a:pt x="298" y="81"/>
                    </a:lnTo>
                    <a:lnTo>
                      <a:pt x="308" y="81"/>
                    </a:lnTo>
                    <a:lnTo>
                      <a:pt x="320" y="84"/>
                    </a:lnTo>
                    <a:lnTo>
                      <a:pt x="330" y="84"/>
                    </a:lnTo>
                    <a:lnTo>
                      <a:pt x="340" y="84"/>
                    </a:lnTo>
                    <a:lnTo>
                      <a:pt x="352" y="84"/>
                    </a:lnTo>
                    <a:lnTo>
                      <a:pt x="362" y="84"/>
                    </a:lnTo>
                    <a:lnTo>
                      <a:pt x="372" y="84"/>
                    </a:lnTo>
                    <a:lnTo>
                      <a:pt x="378" y="94"/>
                    </a:lnTo>
                    <a:lnTo>
                      <a:pt x="381" y="106"/>
                    </a:lnTo>
                    <a:lnTo>
                      <a:pt x="388" y="116"/>
                    </a:lnTo>
                    <a:lnTo>
                      <a:pt x="391" y="126"/>
                    </a:lnTo>
                    <a:lnTo>
                      <a:pt x="397" y="138"/>
                    </a:lnTo>
                    <a:lnTo>
                      <a:pt x="397" y="148"/>
                    </a:lnTo>
                    <a:lnTo>
                      <a:pt x="400" y="158"/>
                    </a:lnTo>
                    <a:lnTo>
                      <a:pt x="400" y="170"/>
                    </a:lnTo>
                    <a:lnTo>
                      <a:pt x="400" y="180"/>
                    </a:lnTo>
                    <a:lnTo>
                      <a:pt x="404" y="190"/>
                    </a:lnTo>
                    <a:lnTo>
                      <a:pt x="407" y="202"/>
                    </a:lnTo>
                    <a:lnTo>
                      <a:pt x="407" y="212"/>
                    </a:lnTo>
                    <a:lnTo>
                      <a:pt x="410" y="222"/>
                    </a:lnTo>
                    <a:lnTo>
                      <a:pt x="413" y="234"/>
                    </a:lnTo>
                    <a:lnTo>
                      <a:pt x="413" y="244"/>
                    </a:lnTo>
                    <a:lnTo>
                      <a:pt x="416" y="254"/>
                    </a:lnTo>
                    <a:lnTo>
                      <a:pt x="416" y="266"/>
                    </a:lnTo>
                    <a:lnTo>
                      <a:pt x="416" y="276"/>
                    </a:lnTo>
                    <a:lnTo>
                      <a:pt x="416" y="286"/>
                    </a:lnTo>
                    <a:lnTo>
                      <a:pt x="416" y="298"/>
                    </a:lnTo>
                    <a:lnTo>
                      <a:pt x="416" y="308"/>
                    </a:lnTo>
                    <a:lnTo>
                      <a:pt x="420" y="318"/>
                    </a:lnTo>
                    <a:lnTo>
                      <a:pt x="423" y="330"/>
                    </a:lnTo>
                    <a:lnTo>
                      <a:pt x="426" y="340"/>
                    </a:lnTo>
                    <a:lnTo>
                      <a:pt x="429" y="350"/>
                    </a:lnTo>
                    <a:lnTo>
                      <a:pt x="432" y="362"/>
                    </a:lnTo>
                    <a:lnTo>
                      <a:pt x="436" y="372"/>
                    </a:lnTo>
                    <a:lnTo>
                      <a:pt x="436" y="382"/>
                    </a:lnTo>
                    <a:lnTo>
                      <a:pt x="439" y="394"/>
                    </a:lnTo>
                    <a:lnTo>
                      <a:pt x="442" y="404"/>
                    </a:lnTo>
                    <a:lnTo>
                      <a:pt x="442" y="414"/>
                    </a:lnTo>
                    <a:lnTo>
                      <a:pt x="445" y="426"/>
                    </a:lnTo>
                    <a:lnTo>
                      <a:pt x="448" y="436"/>
                    </a:lnTo>
                    <a:lnTo>
                      <a:pt x="448" y="446"/>
                    </a:lnTo>
                    <a:lnTo>
                      <a:pt x="452" y="458"/>
                    </a:lnTo>
                    <a:lnTo>
                      <a:pt x="452" y="468"/>
                    </a:lnTo>
                    <a:lnTo>
                      <a:pt x="455" y="478"/>
                    </a:lnTo>
                    <a:lnTo>
                      <a:pt x="458" y="490"/>
                    </a:lnTo>
                    <a:lnTo>
                      <a:pt x="458" y="500"/>
                    </a:lnTo>
                    <a:lnTo>
                      <a:pt x="461" y="510"/>
                    </a:lnTo>
                    <a:lnTo>
                      <a:pt x="461" y="522"/>
                    </a:lnTo>
                    <a:lnTo>
                      <a:pt x="461" y="532"/>
                    </a:lnTo>
                    <a:lnTo>
                      <a:pt x="461" y="542"/>
                    </a:lnTo>
                    <a:lnTo>
                      <a:pt x="458" y="554"/>
                    </a:lnTo>
                    <a:lnTo>
                      <a:pt x="458" y="564"/>
                    </a:lnTo>
                    <a:lnTo>
                      <a:pt x="455" y="574"/>
                    </a:lnTo>
                    <a:lnTo>
                      <a:pt x="455" y="586"/>
                    </a:lnTo>
                    <a:lnTo>
                      <a:pt x="452" y="596"/>
                    </a:lnTo>
                    <a:lnTo>
                      <a:pt x="452" y="606"/>
                    </a:lnTo>
                    <a:lnTo>
                      <a:pt x="452" y="618"/>
                    </a:lnTo>
                    <a:lnTo>
                      <a:pt x="452" y="628"/>
                    </a:lnTo>
                    <a:lnTo>
                      <a:pt x="452" y="638"/>
                    </a:lnTo>
                    <a:lnTo>
                      <a:pt x="452" y="650"/>
                    </a:lnTo>
                    <a:lnTo>
                      <a:pt x="452" y="660"/>
                    </a:lnTo>
                    <a:lnTo>
                      <a:pt x="452" y="670"/>
                    </a:lnTo>
                    <a:lnTo>
                      <a:pt x="452" y="682"/>
                    </a:lnTo>
                    <a:lnTo>
                      <a:pt x="452" y="692"/>
                    </a:lnTo>
                    <a:lnTo>
                      <a:pt x="452" y="702"/>
                    </a:lnTo>
                    <a:lnTo>
                      <a:pt x="452" y="714"/>
                    </a:lnTo>
                    <a:lnTo>
                      <a:pt x="452" y="724"/>
                    </a:lnTo>
                    <a:lnTo>
                      <a:pt x="452" y="734"/>
                    </a:lnTo>
                    <a:lnTo>
                      <a:pt x="452" y="746"/>
                    </a:lnTo>
                    <a:lnTo>
                      <a:pt x="452" y="756"/>
                    </a:lnTo>
                    <a:lnTo>
                      <a:pt x="452" y="766"/>
                    </a:lnTo>
                    <a:lnTo>
                      <a:pt x="452" y="778"/>
                    </a:lnTo>
                    <a:lnTo>
                      <a:pt x="452" y="788"/>
                    </a:lnTo>
                    <a:lnTo>
                      <a:pt x="452" y="798"/>
                    </a:lnTo>
                    <a:lnTo>
                      <a:pt x="452" y="810"/>
                    </a:lnTo>
                    <a:lnTo>
                      <a:pt x="452" y="820"/>
                    </a:lnTo>
                    <a:lnTo>
                      <a:pt x="452" y="830"/>
                    </a:lnTo>
                    <a:lnTo>
                      <a:pt x="448" y="842"/>
                    </a:lnTo>
                    <a:lnTo>
                      <a:pt x="436" y="849"/>
                    </a:lnTo>
                    <a:lnTo>
                      <a:pt x="426" y="855"/>
                    </a:lnTo>
                    <a:lnTo>
                      <a:pt x="416" y="862"/>
                    </a:lnTo>
                    <a:lnTo>
                      <a:pt x="404" y="868"/>
                    </a:lnTo>
                    <a:lnTo>
                      <a:pt x="394" y="874"/>
                    </a:lnTo>
                    <a:lnTo>
                      <a:pt x="384" y="881"/>
                    </a:lnTo>
                    <a:lnTo>
                      <a:pt x="372" y="890"/>
                    </a:lnTo>
                    <a:lnTo>
                      <a:pt x="368" y="900"/>
                    </a:lnTo>
                    <a:lnTo>
                      <a:pt x="359" y="910"/>
                    </a:lnTo>
                    <a:lnTo>
                      <a:pt x="352" y="922"/>
                    </a:lnTo>
                    <a:lnTo>
                      <a:pt x="346" y="932"/>
                    </a:lnTo>
                    <a:lnTo>
                      <a:pt x="343" y="942"/>
                    </a:lnTo>
                    <a:lnTo>
                      <a:pt x="340" y="954"/>
                    </a:lnTo>
                    <a:lnTo>
                      <a:pt x="336" y="964"/>
                    </a:lnTo>
                    <a:lnTo>
                      <a:pt x="336" y="974"/>
                    </a:lnTo>
                    <a:lnTo>
                      <a:pt x="346" y="980"/>
                    </a:lnTo>
                    <a:lnTo>
                      <a:pt x="356" y="986"/>
                    </a:lnTo>
                    <a:lnTo>
                      <a:pt x="368" y="993"/>
                    </a:lnTo>
                    <a:lnTo>
                      <a:pt x="378" y="1006"/>
                    </a:lnTo>
                    <a:lnTo>
                      <a:pt x="388" y="1018"/>
                    </a:lnTo>
                    <a:lnTo>
                      <a:pt x="388" y="1028"/>
                    </a:lnTo>
                    <a:lnTo>
                      <a:pt x="378" y="1034"/>
                    </a:lnTo>
                    <a:lnTo>
                      <a:pt x="368" y="1034"/>
                    </a:lnTo>
                    <a:lnTo>
                      <a:pt x="356" y="1034"/>
                    </a:lnTo>
                    <a:lnTo>
                      <a:pt x="346" y="1034"/>
                    </a:lnTo>
                    <a:lnTo>
                      <a:pt x="336" y="1034"/>
                    </a:lnTo>
                    <a:lnTo>
                      <a:pt x="324" y="1038"/>
                    </a:lnTo>
                    <a:lnTo>
                      <a:pt x="314" y="1041"/>
                    </a:lnTo>
                    <a:lnTo>
                      <a:pt x="304" y="1041"/>
                    </a:lnTo>
                    <a:lnTo>
                      <a:pt x="292" y="1044"/>
                    </a:lnTo>
                    <a:lnTo>
                      <a:pt x="282" y="1047"/>
                    </a:lnTo>
                    <a:lnTo>
                      <a:pt x="272" y="1050"/>
                    </a:lnTo>
                    <a:lnTo>
                      <a:pt x="260" y="1054"/>
                    </a:lnTo>
                    <a:lnTo>
                      <a:pt x="250" y="1057"/>
                    </a:lnTo>
                    <a:lnTo>
                      <a:pt x="240" y="1060"/>
                    </a:lnTo>
                    <a:lnTo>
                      <a:pt x="228" y="1066"/>
                    </a:lnTo>
                    <a:lnTo>
                      <a:pt x="218" y="1070"/>
                    </a:lnTo>
                    <a:lnTo>
                      <a:pt x="208" y="1076"/>
                    </a:lnTo>
                    <a:lnTo>
                      <a:pt x="196" y="1082"/>
                    </a:lnTo>
                    <a:lnTo>
                      <a:pt x="186" y="1076"/>
                    </a:lnTo>
                    <a:lnTo>
                      <a:pt x="183" y="1066"/>
                    </a:lnTo>
                    <a:lnTo>
                      <a:pt x="180" y="1054"/>
                    </a:lnTo>
                    <a:lnTo>
                      <a:pt x="173" y="1044"/>
                    </a:lnTo>
                    <a:lnTo>
                      <a:pt x="170" y="1034"/>
                    </a:lnTo>
                    <a:lnTo>
                      <a:pt x="164" y="1022"/>
                    </a:lnTo>
                    <a:lnTo>
                      <a:pt x="160" y="1012"/>
                    </a:lnTo>
                    <a:lnTo>
                      <a:pt x="157" y="1002"/>
                    </a:lnTo>
                    <a:lnTo>
                      <a:pt x="148" y="990"/>
                    </a:lnTo>
                    <a:lnTo>
                      <a:pt x="138" y="983"/>
                    </a:lnTo>
                    <a:lnTo>
                      <a:pt x="128" y="977"/>
                    </a:lnTo>
                    <a:lnTo>
                      <a:pt x="119" y="967"/>
                    </a:lnTo>
                    <a:lnTo>
                      <a:pt x="109" y="964"/>
                    </a:lnTo>
                    <a:lnTo>
                      <a:pt x="96" y="958"/>
                    </a:lnTo>
                    <a:lnTo>
                      <a:pt x="84" y="954"/>
                    </a:lnTo>
                    <a:lnTo>
                      <a:pt x="74" y="954"/>
                    </a:lnTo>
                    <a:lnTo>
                      <a:pt x="64" y="954"/>
                    </a:lnTo>
                    <a:lnTo>
                      <a:pt x="52" y="954"/>
                    </a:lnTo>
                    <a:lnTo>
                      <a:pt x="42" y="954"/>
                    </a:lnTo>
                    <a:lnTo>
                      <a:pt x="32" y="954"/>
                    </a:lnTo>
                    <a:lnTo>
                      <a:pt x="20" y="961"/>
                    </a:lnTo>
                    <a:lnTo>
                      <a:pt x="10" y="967"/>
                    </a:lnTo>
                    <a:lnTo>
                      <a:pt x="0" y="97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2340000" y="2306520"/>
                <a:ext cx="514440" cy="555840"/>
              </a:xfrm>
              <a:custGeom>
                <a:avLst/>
                <a:gdLst/>
                <a:ahLst/>
                <a:rect l="l" t="t" r="r" b="b"/>
                <a:pathLst>
                  <a:path w="324" h="350">
                    <a:moveTo>
                      <a:pt x="243" y="0"/>
                    </a:moveTo>
                    <a:lnTo>
                      <a:pt x="249" y="26"/>
                    </a:lnTo>
                    <a:lnTo>
                      <a:pt x="256" y="38"/>
                    </a:lnTo>
                    <a:lnTo>
                      <a:pt x="262" y="48"/>
                    </a:lnTo>
                    <a:lnTo>
                      <a:pt x="272" y="51"/>
                    </a:lnTo>
                    <a:lnTo>
                      <a:pt x="278" y="61"/>
                    </a:lnTo>
                    <a:lnTo>
                      <a:pt x="285" y="74"/>
                    </a:lnTo>
                    <a:lnTo>
                      <a:pt x="288" y="86"/>
                    </a:lnTo>
                    <a:lnTo>
                      <a:pt x="294" y="96"/>
                    </a:lnTo>
                    <a:lnTo>
                      <a:pt x="297" y="106"/>
                    </a:lnTo>
                    <a:lnTo>
                      <a:pt x="301" y="118"/>
                    </a:lnTo>
                    <a:lnTo>
                      <a:pt x="304" y="128"/>
                    </a:lnTo>
                    <a:lnTo>
                      <a:pt x="317" y="138"/>
                    </a:lnTo>
                    <a:lnTo>
                      <a:pt x="323" y="150"/>
                    </a:lnTo>
                    <a:lnTo>
                      <a:pt x="323" y="160"/>
                    </a:lnTo>
                    <a:lnTo>
                      <a:pt x="323" y="170"/>
                    </a:lnTo>
                    <a:lnTo>
                      <a:pt x="323" y="182"/>
                    </a:lnTo>
                    <a:lnTo>
                      <a:pt x="323" y="192"/>
                    </a:lnTo>
                    <a:lnTo>
                      <a:pt x="323" y="202"/>
                    </a:lnTo>
                    <a:lnTo>
                      <a:pt x="323" y="214"/>
                    </a:lnTo>
                    <a:lnTo>
                      <a:pt x="323" y="224"/>
                    </a:lnTo>
                    <a:lnTo>
                      <a:pt x="323" y="234"/>
                    </a:lnTo>
                    <a:lnTo>
                      <a:pt x="323" y="246"/>
                    </a:lnTo>
                    <a:lnTo>
                      <a:pt x="323" y="256"/>
                    </a:lnTo>
                    <a:lnTo>
                      <a:pt x="323" y="266"/>
                    </a:lnTo>
                    <a:lnTo>
                      <a:pt x="323" y="278"/>
                    </a:lnTo>
                    <a:lnTo>
                      <a:pt x="323" y="288"/>
                    </a:lnTo>
                    <a:lnTo>
                      <a:pt x="323" y="298"/>
                    </a:lnTo>
                    <a:lnTo>
                      <a:pt x="323" y="310"/>
                    </a:lnTo>
                    <a:lnTo>
                      <a:pt x="323" y="320"/>
                    </a:lnTo>
                    <a:lnTo>
                      <a:pt x="323" y="330"/>
                    </a:lnTo>
                    <a:lnTo>
                      <a:pt x="323" y="342"/>
                    </a:lnTo>
                    <a:lnTo>
                      <a:pt x="313" y="346"/>
                    </a:lnTo>
                    <a:lnTo>
                      <a:pt x="301" y="349"/>
                    </a:lnTo>
                    <a:lnTo>
                      <a:pt x="291" y="349"/>
                    </a:lnTo>
                    <a:lnTo>
                      <a:pt x="281" y="349"/>
                    </a:lnTo>
                    <a:lnTo>
                      <a:pt x="269" y="346"/>
                    </a:lnTo>
                    <a:lnTo>
                      <a:pt x="259" y="339"/>
                    </a:lnTo>
                    <a:lnTo>
                      <a:pt x="249" y="336"/>
                    </a:lnTo>
                    <a:lnTo>
                      <a:pt x="237" y="333"/>
                    </a:lnTo>
                    <a:lnTo>
                      <a:pt x="227" y="330"/>
                    </a:lnTo>
                    <a:lnTo>
                      <a:pt x="217" y="330"/>
                    </a:lnTo>
                    <a:lnTo>
                      <a:pt x="205" y="330"/>
                    </a:lnTo>
                    <a:lnTo>
                      <a:pt x="195" y="330"/>
                    </a:lnTo>
                    <a:lnTo>
                      <a:pt x="185" y="330"/>
                    </a:lnTo>
                    <a:lnTo>
                      <a:pt x="173" y="333"/>
                    </a:lnTo>
                    <a:lnTo>
                      <a:pt x="163" y="333"/>
                    </a:lnTo>
                    <a:lnTo>
                      <a:pt x="153" y="333"/>
                    </a:lnTo>
                    <a:lnTo>
                      <a:pt x="141" y="333"/>
                    </a:lnTo>
                    <a:lnTo>
                      <a:pt x="131" y="333"/>
                    </a:lnTo>
                    <a:lnTo>
                      <a:pt x="121" y="333"/>
                    </a:lnTo>
                    <a:lnTo>
                      <a:pt x="109" y="333"/>
                    </a:lnTo>
                    <a:lnTo>
                      <a:pt x="99" y="333"/>
                    </a:lnTo>
                    <a:lnTo>
                      <a:pt x="89" y="333"/>
                    </a:lnTo>
                    <a:lnTo>
                      <a:pt x="77" y="323"/>
                    </a:lnTo>
                    <a:lnTo>
                      <a:pt x="67" y="310"/>
                    </a:lnTo>
                    <a:lnTo>
                      <a:pt x="57" y="304"/>
                    </a:lnTo>
                    <a:lnTo>
                      <a:pt x="45" y="298"/>
                    </a:lnTo>
                    <a:lnTo>
                      <a:pt x="35" y="291"/>
                    </a:lnTo>
                    <a:lnTo>
                      <a:pt x="25" y="285"/>
                    </a:lnTo>
                    <a:lnTo>
                      <a:pt x="16" y="275"/>
                    </a:lnTo>
                    <a:lnTo>
                      <a:pt x="9" y="262"/>
                    </a:lnTo>
                    <a:lnTo>
                      <a:pt x="6" y="250"/>
                    </a:lnTo>
                    <a:lnTo>
                      <a:pt x="6" y="240"/>
                    </a:lnTo>
                    <a:lnTo>
                      <a:pt x="6" y="230"/>
                    </a:lnTo>
                    <a:lnTo>
                      <a:pt x="6" y="218"/>
                    </a:lnTo>
                    <a:lnTo>
                      <a:pt x="3" y="208"/>
                    </a:lnTo>
                    <a:lnTo>
                      <a:pt x="0" y="198"/>
                    </a:lnTo>
                    <a:lnTo>
                      <a:pt x="0" y="186"/>
                    </a:lnTo>
                    <a:lnTo>
                      <a:pt x="6" y="176"/>
                    </a:lnTo>
                    <a:lnTo>
                      <a:pt x="16" y="170"/>
                    </a:lnTo>
                    <a:lnTo>
                      <a:pt x="25" y="160"/>
                    </a:lnTo>
                    <a:lnTo>
                      <a:pt x="32" y="150"/>
                    </a:lnTo>
                    <a:lnTo>
                      <a:pt x="38" y="138"/>
                    </a:lnTo>
                    <a:lnTo>
                      <a:pt x="45" y="128"/>
                    </a:lnTo>
                    <a:lnTo>
                      <a:pt x="51" y="118"/>
                    </a:lnTo>
                    <a:lnTo>
                      <a:pt x="54" y="106"/>
                    </a:lnTo>
                    <a:lnTo>
                      <a:pt x="57" y="96"/>
                    </a:lnTo>
                    <a:lnTo>
                      <a:pt x="57" y="8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959120" y="2662200"/>
                <a:ext cx="377640" cy="158760"/>
              </a:xfrm>
              <a:custGeom>
                <a:avLst/>
                <a:gdLst/>
                <a:ahLst/>
                <a:rect l="l" t="t" r="r" b="b"/>
                <a:pathLst>
                  <a:path w="238" h="100">
                    <a:moveTo>
                      <a:pt x="3" y="16"/>
                    </a:moveTo>
                    <a:lnTo>
                      <a:pt x="0" y="0"/>
                    </a:lnTo>
                    <a:lnTo>
                      <a:pt x="3" y="10"/>
                    </a:lnTo>
                    <a:lnTo>
                      <a:pt x="6" y="22"/>
                    </a:lnTo>
                    <a:lnTo>
                      <a:pt x="16" y="32"/>
                    </a:lnTo>
                    <a:lnTo>
                      <a:pt x="22" y="42"/>
                    </a:lnTo>
                    <a:lnTo>
                      <a:pt x="32" y="48"/>
                    </a:lnTo>
                    <a:lnTo>
                      <a:pt x="38" y="58"/>
                    </a:lnTo>
                    <a:lnTo>
                      <a:pt x="48" y="64"/>
                    </a:lnTo>
                    <a:lnTo>
                      <a:pt x="54" y="74"/>
                    </a:lnTo>
                    <a:lnTo>
                      <a:pt x="64" y="80"/>
                    </a:lnTo>
                    <a:lnTo>
                      <a:pt x="77" y="86"/>
                    </a:lnTo>
                    <a:lnTo>
                      <a:pt x="89" y="93"/>
                    </a:lnTo>
                    <a:lnTo>
                      <a:pt x="99" y="96"/>
                    </a:lnTo>
                    <a:lnTo>
                      <a:pt x="109" y="99"/>
                    </a:lnTo>
                    <a:lnTo>
                      <a:pt x="121" y="99"/>
                    </a:lnTo>
                    <a:lnTo>
                      <a:pt x="131" y="99"/>
                    </a:lnTo>
                    <a:lnTo>
                      <a:pt x="141" y="99"/>
                    </a:lnTo>
                    <a:lnTo>
                      <a:pt x="153" y="96"/>
                    </a:lnTo>
                    <a:lnTo>
                      <a:pt x="163" y="93"/>
                    </a:lnTo>
                    <a:lnTo>
                      <a:pt x="173" y="90"/>
                    </a:lnTo>
                    <a:lnTo>
                      <a:pt x="185" y="80"/>
                    </a:lnTo>
                    <a:lnTo>
                      <a:pt x="195" y="74"/>
                    </a:lnTo>
                    <a:lnTo>
                      <a:pt x="205" y="67"/>
                    </a:lnTo>
                    <a:lnTo>
                      <a:pt x="211" y="54"/>
                    </a:lnTo>
                    <a:lnTo>
                      <a:pt x="221" y="51"/>
                    </a:lnTo>
                    <a:lnTo>
                      <a:pt x="230" y="38"/>
                    </a:lnTo>
                    <a:lnTo>
                      <a:pt x="237" y="26"/>
                    </a:lnTo>
                    <a:lnTo>
                      <a:pt x="237" y="1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1324080" y="3952800"/>
                <a:ext cx="949320" cy="784440"/>
              </a:xfrm>
              <a:custGeom>
                <a:avLst/>
                <a:gdLst/>
                <a:ahLst/>
                <a:rect l="l" t="t" r="r" b="b"/>
                <a:pathLst>
                  <a:path w="598" h="494">
                    <a:moveTo>
                      <a:pt x="0" y="314"/>
                    </a:moveTo>
                    <a:lnTo>
                      <a:pt x="13" y="323"/>
                    </a:lnTo>
                    <a:lnTo>
                      <a:pt x="22" y="333"/>
                    </a:lnTo>
                    <a:lnTo>
                      <a:pt x="29" y="345"/>
                    </a:lnTo>
                    <a:lnTo>
                      <a:pt x="35" y="355"/>
                    </a:lnTo>
                    <a:lnTo>
                      <a:pt x="38" y="365"/>
                    </a:lnTo>
                    <a:lnTo>
                      <a:pt x="45" y="377"/>
                    </a:lnTo>
                    <a:lnTo>
                      <a:pt x="51" y="387"/>
                    </a:lnTo>
                    <a:lnTo>
                      <a:pt x="57" y="397"/>
                    </a:lnTo>
                    <a:lnTo>
                      <a:pt x="61" y="409"/>
                    </a:lnTo>
                    <a:lnTo>
                      <a:pt x="64" y="419"/>
                    </a:lnTo>
                    <a:lnTo>
                      <a:pt x="64" y="429"/>
                    </a:lnTo>
                    <a:lnTo>
                      <a:pt x="73" y="441"/>
                    </a:lnTo>
                    <a:lnTo>
                      <a:pt x="83" y="448"/>
                    </a:lnTo>
                    <a:lnTo>
                      <a:pt x="93" y="454"/>
                    </a:lnTo>
                    <a:lnTo>
                      <a:pt x="105" y="464"/>
                    </a:lnTo>
                    <a:lnTo>
                      <a:pt x="115" y="470"/>
                    </a:lnTo>
                    <a:lnTo>
                      <a:pt x="125" y="477"/>
                    </a:lnTo>
                    <a:lnTo>
                      <a:pt x="137" y="483"/>
                    </a:lnTo>
                    <a:lnTo>
                      <a:pt x="147" y="489"/>
                    </a:lnTo>
                    <a:lnTo>
                      <a:pt x="157" y="493"/>
                    </a:lnTo>
                    <a:lnTo>
                      <a:pt x="169" y="493"/>
                    </a:lnTo>
                    <a:lnTo>
                      <a:pt x="179" y="493"/>
                    </a:lnTo>
                    <a:lnTo>
                      <a:pt x="189" y="489"/>
                    </a:lnTo>
                    <a:lnTo>
                      <a:pt x="201" y="489"/>
                    </a:lnTo>
                    <a:lnTo>
                      <a:pt x="211" y="489"/>
                    </a:lnTo>
                    <a:lnTo>
                      <a:pt x="221" y="489"/>
                    </a:lnTo>
                    <a:lnTo>
                      <a:pt x="233" y="489"/>
                    </a:lnTo>
                    <a:lnTo>
                      <a:pt x="243" y="489"/>
                    </a:lnTo>
                    <a:lnTo>
                      <a:pt x="253" y="489"/>
                    </a:lnTo>
                    <a:lnTo>
                      <a:pt x="265" y="489"/>
                    </a:lnTo>
                    <a:lnTo>
                      <a:pt x="275" y="489"/>
                    </a:lnTo>
                    <a:lnTo>
                      <a:pt x="285" y="489"/>
                    </a:lnTo>
                    <a:lnTo>
                      <a:pt x="297" y="489"/>
                    </a:lnTo>
                    <a:lnTo>
                      <a:pt x="307" y="486"/>
                    </a:lnTo>
                    <a:lnTo>
                      <a:pt x="317" y="483"/>
                    </a:lnTo>
                    <a:lnTo>
                      <a:pt x="329" y="480"/>
                    </a:lnTo>
                    <a:lnTo>
                      <a:pt x="339" y="480"/>
                    </a:lnTo>
                    <a:lnTo>
                      <a:pt x="349" y="480"/>
                    </a:lnTo>
                    <a:lnTo>
                      <a:pt x="361" y="480"/>
                    </a:lnTo>
                    <a:lnTo>
                      <a:pt x="371" y="480"/>
                    </a:lnTo>
                    <a:lnTo>
                      <a:pt x="381" y="480"/>
                    </a:lnTo>
                    <a:lnTo>
                      <a:pt x="393" y="477"/>
                    </a:lnTo>
                    <a:lnTo>
                      <a:pt x="403" y="473"/>
                    </a:lnTo>
                    <a:lnTo>
                      <a:pt x="413" y="473"/>
                    </a:lnTo>
                    <a:lnTo>
                      <a:pt x="425" y="473"/>
                    </a:lnTo>
                    <a:lnTo>
                      <a:pt x="435" y="473"/>
                    </a:lnTo>
                    <a:lnTo>
                      <a:pt x="445" y="473"/>
                    </a:lnTo>
                    <a:lnTo>
                      <a:pt x="457" y="467"/>
                    </a:lnTo>
                    <a:lnTo>
                      <a:pt x="467" y="461"/>
                    </a:lnTo>
                    <a:lnTo>
                      <a:pt x="477" y="454"/>
                    </a:lnTo>
                    <a:lnTo>
                      <a:pt x="483" y="441"/>
                    </a:lnTo>
                    <a:lnTo>
                      <a:pt x="493" y="432"/>
                    </a:lnTo>
                    <a:lnTo>
                      <a:pt x="502" y="422"/>
                    </a:lnTo>
                    <a:lnTo>
                      <a:pt x="509" y="409"/>
                    </a:lnTo>
                    <a:lnTo>
                      <a:pt x="542" y="383"/>
                    </a:lnTo>
                    <a:lnTo>
                      <a:pt x="538" y="373"/>
                    </a:lnTo>
                    <a:lnTo>
                      <a:pt x="511" y="373"/>
                    </a:lnTo>
                    <a:lnTo>
                      <a:pt x="510" y="358"/>
                    </a:lnTo>
                    <a:lnTo>
                      <a:pt x="577" y="324"/>
                    </a:lnTo>
                    <a:lnTo>
                      <a:pt x="597" y="293"/>
                    </a:lnTo>
                    <a:lnTo>
                      <a:pt x="592" y="283"/>
                    </a:lnTo>
                    <a:lnTo>
                      <a:pt x="544" y="299"/>
                    </a:lnTo>
                    <a:lnTo>
                      <a:pt x="457" y="342"/>
                    </a:lnTo>
                    <a:lnTo>
                      <a:pt x="445" y="342"/>
                    </a:lnTo>
                    <a:lnTo>
                      <a:pt x="435" y="342"/>
                    </a:lnTo>
                    <a:lnTo>
                      <a:pt x="425" y="339"/>
                    </a:lnTo>
                    <a:lnTo>
                      <a:pt x="413" y="339"/>
                    </a:lnTo>
                    <a:lnTo>
                      <a:pt x="403" y="336"/>
                    </a:lnTo>
                    <a:lnTo>
                      <a:pt x="393" y="336"/>
                    </a:lnTo>
                    <a:lnTo>
                      <a:pt x="381" y="329"/>
                    </a:lnTo>
                    <a:lnTo>
                      <a:pt x="371" y="320"/>
                    </a:lnTo>
                    <a:lnTo>
                      <a:pt x="365" y="310"/>
                    </a:lnTo>
                    <a:lnTo>
                      <a:pt x="355" y="304"/>
                    </a:lnTo>
                    <a:lnTo>
                      <a:pt x="352" y="294"/>
                    </a:lnTo>
                    <a:lnTo>
                      <a:pt x="349" y="281"/>
                    </a:lnTo>
                    <a:lnTo>
                      <a:pt x="345" y="269"/>
                    </a:lnTo>
                    <a:lnTo>
                      <a:pt x="342" y="259"/>
                    </a:lnTo>
                    <a:lnTo>
                      <a:pt x="339" y="249"/>
                    </a:lnTo>
                    <a:lnTo>
                      <a:pt x="336" y="237"/>
                    </a:lnTo>
                    <a:lnTo>
                      <a:pt x="336" y="227"/>
                    </a:lnTo>
                    <a:lnTo>
                      <a:pt x="336" y="205"/>
                    </a:lnTo>
                    <a:lnTo>
                      <a:pt x="333" y="176"/>
                    </a:lnTo>
                    <a:lnTo>
                      <a:pt x="333" y="166"/>
                    </a:lnTo>
                    <a:lnTo>
                      <a:pt x="329" y="141"/>
                    </a:lnTo>
                    <a:lnTo>
                      <a:pt x="329" y="131"/>
                    </a:lnTo>
                    <a:lnTo>
                      <a:pt x="326" y="121"/>
                    </a:lnTo>
                    <a:lnTo>
                      <a:pt x="320" y="109"/>
                    </a:lnTo>
                    <a:lnTo>
                      <a:pt x="317" y="99"/>
                    </a:lnTo>
                    <a:lnTo>
                      <a:pt x="313" y="89"/>
                    </a:lnTo>
                    <a:lnTo>
                      <a:pt x="310" y="77"/>
                    </a:lnTo>
                    <a:lnTo>
                      <a:pt x="307" y="67"/>
                    </a:lnTo>
                    <a:lnTo>
                      <a:pt x="301" y="57"/>
                    </a:lnTo>
                    <a:lnTo>
                      <a:pt x="294" y="45"/>
                    </a:lnTo>
                    <a:lnTo>
                      <a:pt x="291" y="35"/>
                    </a:lnTo>
                    <a:lnTo>
                      <a:pt x="285" y="25"/>
                    </a:lnTo>
                    <a:lnTo>
                      <a:pt x="278" y="13"/>
                    </a:lnTo>
                    <a:lnTo>
                      <a:pt x="265" y="3"/>
                    </a:lnTo>
                    <a:lnTo>
                      <a:pt x="253" y="0"/>
                    </a:lnTo>
                    <a:lnTo>
                      <a:pt x="243" y="0"/>
                    </a:lnTo>
                    <a:lnTo>
                      <a:pt x="233" y="0"/>
                    </a:lnTo>
                    <a:lnTo>
                      <a:pt x="221" y="3"/>
                    </a:lnTo>
                    <a:lnTo>
                      <a:pt x="211" y="9"/>
                    </a:lnTo>
                    <a:lnTo>
                      <a:pt x="201" y="13"/>
                    </a:lnTo>
                    <a:lnTo>
                      <a:pt x="189" y="16"/>
                    </a:lnTo>
                    <a:lnTo>
                      <a:pt x="179" y="19"/>
                    </a:lnTo>
                    <a:lnTo>
                      <a:pt x="169" y="22"/>
                    </a:lnTo>
                    <a:lnTo>
                      <a:pt x="157" y="25"/>
                    </a:lnTo>
                    <a:lnTo>
                      <a:pt x="147" y="25"/>
                    </a:lnTo>
                    <a:lnTo>
                      <a:pt x="137" y="29"/>
                    </a:lnTo>
                    <a:lnTo>
                      <a:pt x="125" y="29"/>
                    </a:lnTo>
                    <a:lnTo>
                      <a:pt x="115" y="29"/>
                    </a:lnTo>
                    <a:lnTo>
                      <a:pt x="105" y="29"/>
                    </a:lnTo>
                    <a:lnTo>
                      <a:pt x="93" y="29"/>
                    </a:lnTo>
                    <a:lnTo>
                      <a:pt x="83" y="29"/>
                    </a:lnTo>
                    <a:lnTo>
                      <a:pt x="73" y="29"/>
                    </a:lnTo>
                    <a:lnTo>
                      <a:pt x="61" y="32"/>
                    </a:lnTo>
                    <a:lnTo>
                      <a:pt x="51" y="3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2268360" y="3648240"/>
                <a:ext cx="1602000" cy="941400"/>
              </a:xfrm>
              <a:custGeom>
                <a:avLst/>
                <a:gdLst/>
                <a:ahLst/>
                <a:rect l="l" t="t" r="r" b="b"/>
                <a:pathLst>
                  <a:path w="1009" h="593">
                    <a:moveTo>
                      <a:pt x="0" y="473"/>
                    </a:moveTo>
                    <a:lnTo>
                      <a:pt x="10" y="467"/>
                    </a:lnTo>
                    <a:lnTo>
                      <a:pt x="22" y="461"/>
                    </a:lnTo>
                    <a:lnTo>
                      <a:pt x="32" y="454"/>
                    </a:lnTo>
                    <a:lnTo>
                      <a:pt x="42" y="448"/>
                    </a:lnTo>
                    <a:lnTo>
                      <a:pt x="54" y="441"/>
                    </a:lnTo>
                    <a:lnTo>
                      <a:pt x="64" y="438"/>
                    </a:lnTo>
                    <a:lnTo>
                      <a:pt x="74" y="435"/>
                    </a:lnTo>
                    <a:lnTo>
                      <a:pt x="86" y="432"/>
                    </a:lnTo>
                    <a:lnTo>
                      <a:pt x="96" y="432"/>
                    </a:lnTo>
                    <a:lnTo>
                      <a:pt x="106" y="432"/>
                    </a:lnTo>
                    <a:lnTo>
                      <a:pt x="118" y="432"/>
                    </a:lnTo>
                    <a:lnTo>
                      <a:pt x="128" y="432"/>
                    </a:lnTo>
                    <a:lnTo>
                      <a:pt x="138" y="432"/>
                    </a:lnTo>
                    <a:lnTo>
                      <a:pt x="150" y="432"/>
                    </a:lnTo>
                    <a:lnTo>
                      <a:pt x="160" y="435"/>
                    </a:lnTo>
                    <a:lnTo>
                      <a:pt x="170" y="438"/>
                    </a:lnTo>
                    <a:lnTo>
                      <a:pt x="182" y="441"/>
                    </a:lnTo>
                    <a:lnTo>
                      <a:pt x="192" y="445"/>
                    </a:lnTo>
                    <a:lnTo>
                      <a:pt x="202" y="448"/>
                    </a:lnTo>
                    <a:lnTo>
                      <a:pt x="214" y="451"/>
                    </a:lnTo>
                    <a:lnTo>
                      <a:pt x="224" y="451"/>
                    </a:lnTo>
                    <a:lnTo>
                      <a:pt x="234" y="454"/>
                    </a:lnTo>
                    <a:lnTo>
                      <a:pt x="246" y="457"/>
                    </a:lnTo>
                    <a:lnTo>
                      <a:pt x="256" y="457"/>
                    </a:lnTo>
                    <a:lnTo>
                      <a:pt x="266" y="461"/>
                    </a:lnTo>
                    <a:lnTo>
                      <a:pt x="278" y="464"/>
                    </a:lnTo>
                    <a:lnTo>
                      <a:pt x="288" y="467"/>
                    </a:lnTo>
                    <a:lnTo>
                      <a:pt x="298" y="467"/>
                    </a:lnTo>
                    <a:lnTo>
                      <a:pt x="310" y="467"/>
                    </a:lnTo>
                    <a:lnTo>
                      <a:pt x="320" y="467"/>
                    </a:lnTo>
                    <a:lnTo>
                      <a:pt x="330" y="467"/>
                    </a:lnTo>
                    <a:lnTo>
                      <a:pt x="342" y="467"/>
                    </a:lnTo>
                    <a:lnTo>
                      <a:pt x="352" y="467"/>
                    </a:lnTo>
                    <a:lnTo>
                      <a:pt x="362" y="464"/>
                    </a:lnTo>
                    <a:lnTo>
                      <a:pt x="374" y="461"/>
                    </a:lnTo>
                    <a:lnTo>
                      <a:pt x="384" y="457"/>
                    </a:lnTo>
                    <a:lnTo>
                      <a:pt x="394" y="457"/>
                    </a:lnTo>
                    <a:lnTo>
                      <a:pt x="406" y="454"/>
                    </a:lnTo>
                    <a:lnTo>
                      <a:pt x="416" y="451"/>
                    </a:lnTo>
                    <a:lnTo>
                      <a:pt x="426" y="451"/>
                    </a:lnTo>
                    <a:lnTo>
                      <a:pt x="438" y="448"/>
                    </a:lnTo>
                    <a:lnTo>
                      <a:pt x="448" y="441"/>
                    </a:lnTo>
                    <a:lnTo>
                      <a:pt x="458" y="435"/>
                    </a:lnTo>
                    <a:lnTo>
                      <a:pt x="461" y="425"/>
                    </a:lnTo>
                    <a:lnTo>
                      <a:pt x="461" y="413"/>
                    </a:lnTo>
                    <a:lnTo>
                      <a:pt x="461" y="403"/>
                    </a:lnTo>
                    <a:lnTo>
                      <a:pt x="461" y="393"/>
                    </a:lnTo>
                    <a:lnTo>
                      <a:pt x="458" y="381"/>
                    </a:lnTo>
                    <a:lnTo>
                      <a:pt x="451" y="371"/>
                    </a:lnTo>
                    <a:lnTo>
                      <a:pt x="445" y="361"/>
                    </a:lnTo>
                    <a:lnTo>
                      <a:pt x="438" y="349"/>
                    </a:lnTo>
                    <a:lnTo>
                      <a:pt x="435" y="339"/>
                    </a:lnTo>
                    <a:lnTo>
                      <a:pt x="429" y="329"/>
                    </a:lnTo>
                    <a:lnTo>
                      <a:pt x="422" y="317"/>
                    </a:lnTo>
                    <a:lnTo>
                      <a:pt x="419" y="307"/>
                    </a:lnTo>
                    <a:lnTo>
                      <a:pt x="413" y="297"/>
                    </a:lnTo>
                    <a:lnTo>
                      <a:pt x="413" y="285"/>
                    </a:lnTo>
                    <a:lnTo>
                      <a:pt x="413" y="275"/>
                    </a:lnTo>
                    <a:lnTo>
                      <a:pt x="416" y="265"/>
                    </a:lnTo>
                    <a:lnTo>
                      <a:pt x="419" y="253"/>
                    </a:lnTo>
                    <a:lnTo>
                      <a:pt x="422" y="243"/>
                    </a:lnTo>
                    <a:lnTo>
                      <a:pt x="422" y="233"/>
                    </a:lnTo>
                    <a:lnTo>
                      <a:pt x="422" y="221"/>
                    </a:lnTo>
                    <a:lnTo>
                      <a:pt x="422" y="211"/>
                    </a:lnTo>
                    <a:lnTo>
                      <a:pt x="422" y="201"/>
                    </a:lnTo>
                    <a:lnTo>
                      <a:pt x="422" y="189"/>
                    </a:lnTo>
                    <a:lnTo>
                      <a:pt x="422" y="179"/>
                    </a:lnTo>
                    <a:lnTo>
                      <a:pt x="426" y="169"/>
                    </a:lnTo>
                    <a:lnTo>
                      <a:pt x="432" y="158"/>
                    </a:lnTo>
                    <a:lnTo>
                      <a:pt x="445" y="152"/>
                    </a:lnTo>
                    <a:lnTo>
                      <a:pt x="451" y="138"/>
                    </a:lnTo>
                    <a:lnTo>
                      <a:pt x="456" y="126"/>
                    </a:lnTo>
                    <a:lnTo>
                      <a:pt x="459" y="121"/>
                    </a:lnTo>
                    <a:lnTo>
                      <a:pt x="464" y="115"/>
                    </a:lnTo>
                    <a:lnTo>
                      <a:pt x="474" y="112"/>
                    </a:lnTo>
                    <a:lnTo>
                      <a:pt x="486" y="109"/>
                    </a:lnTo>
                    <a:lnTo>
                      <a:pt x="496" y="99"/>
                    </a:lnTo>
                    <a:lnTo>
                      <a:pt x="506" y="96"/>
                    </a:lnTo>
                    <a:lnTo>
                      <a:pt x="515" y="86"/>
                    </a:lnTo>
                    <a:lnTo>
                      <a:pt x="525" y="83"/>
                    </a:lnTo>
                    <a:lnTo>
                      <a:pt x="538" y="77"/>
                    </a:lnTo>
                    <a:lnTo>
                      <a:pt x="550" y="70"/>
                    </a:lnTo>
                    <a:lnTo>
                      <a:pt x="560" y="64"/>
                    </a:lnTo>
                    <a:lnTo>
                      <a:pt x="570" y="57"/>
                    </a:lnTo>
                    <a:lnTo>
                      <a:pt x="582" y="54"/>
                    </a:lnTo>
                    <a:lnTo>
                      <a:pt x="592" y="51"/>
                    </a:lnTo>
                    <a:lnTo>
                      <a:pt x="602" y="48"/>
                    </a:lnTo>
                    <a:lnTo>
                      <a:pt x="614" y="45"/>
                    </a:lnTo>
                    <a:lnTo>
                      <a:pt x="624" y="41"/>
                    </a:lnTo>
                    <a:lnTo>
                      <a:pt x="634" y="38"/>
                    </a:lnTo>
                    <a:lnTo>
                      <a:pt x="646" y="38"/>
                    </a:lnTo>
                    <a:lnTo>
                      <a:pt x="656" y="38"/>
                    </a:lnTo>
                    <a:lnTo>
                      <a:pt x="666" y="38"/>
                    </a:lnTo>
                    <a:lnTo>
                      <a:pt x="678" y="38"/>
                    </a:lnTo>
                    <a:lnTo>
                      <a:pt x="688" y="35"/>
                    </a:lnTo>
                    <a:lnTo>
                      <a:pt x="698" y="32"/>
                    </a:lnTo>
                    <a:lnTo>
                      <a:pt x="707" y="22"/>
                    </a:lnTo>
                    <a:lnTo>
                      <a:pt x="717" y="19"/>
                    </a:lnTo>
                    <a:lnTo>
                      <a:pt x="730" y="16"/>
                    </a:lnTo>
                    <a:lnTo>
                      <a:pt x="742" y="9"/>
                    </a:lnTo>
                    <a:lnTo>
                      <a:pt x="752" y="9"/>
                    </a:lnTo>
                    <a:lnTo>
                      <a:pt x="762" y="6"/>
                    </a:lnTo>
                    <a:lnTo>
                      <a:pt x="774" y="0"/>
                    </a:lnTo>
                    <a:lnTo>
                      <a:pt x="784" y="0"/>
                    </a:lnTo>
                    <a:lnTo>
                      <a:pt x="794" y="3"/>
                    </a:lnTo>
                    <a:lnTo>
                      <a:pt x="803" y="13"/>
                    </a:lnTo>
                    <a:lnTo>
                      <a:pt x="813" y="19"/>
                    </a:lnTo>
                    <a:lnTo>
                      <a:pt x="826" y="22"/>
                    </a:lnTo>
                    <a:lnTo>
                      <a:pt x="838" y="22"/>
                    </a:lnTo>
                    <a:lnTo>
                      <a:pt x="848" y="19"/>
                    </a:lnTo>
                    <a:lnTo>
                      <a:pt x="848" y="29"/>
                    </a:lnTo>
                    <a:lnTo>
                      <a:pt x="851" y="41"/>
                    </a:lnTo>
                    <a:lnTo>
                      <a:pt x="854" y="51"/>
                    </a:lnTo>
                    <a:lnTo>
                      <a:pt x="864" y="51"/>
                    </a:lnTo>
                    <a:lnTo>
                      <a:pt x="870" y="61"/>
                    </a:lnTo>
                    <a:lnTo>
                      <a:pt x="880" y="67"/>
                    </a:lnTo>
                    <a:lnTo>
                      <a:pt x="883" y="77"/>
                    </a:lnTo>
                    <a:lnTo>
                      <a:pt x="890" y="89"/>
                    </a:lnTo>
                    <a:lnTo>
                      <a:pt x="893" y="99"/>
                    </a:lnTo>
                    <a:lnTo>
                      <a:pt x="902" y="109"/>
                    </a:lnTo>
                    <a:lnTo>
                      <a:pt x="912" y="115"/>
                    </a:lnTo>
                    <a:lnTo>
                      <a:pt x="922" y="118"/>
                    </a:lnTo>
                    <a:lnTo>
                      <a:pt x="934" y="118"/>
                    </a:lnTo>
                    <a:lnTo>
                      <a:pt x="944" y="118"/>
                    </a:lnTo>
                    <a:lnTo>
                      <a:pt x="954" y="118"/>
                    </a:lnTo>
                    <a:lnTo>
                      <a:pt x="966" y="118"/>
                    </a:lnTo>
                    <a:lnTo>
                      <a:pt x="976" y="118"/>
                    </a:lnTo>
                    <a:lnTo>
                      <a:pt x="986" y="125"/>
                    </a:lnTo>
                    <a:lnTo>
                      <a:pt x="992" y="137"/>
                    </a:lnTo>
                    <a:lnTo>
                      <a:pt x="992" y="147"/>
                    </a:lnTo>
                    <a:lnTo>
                      <a:pt x="995" y="157"/>
                    </a:lnTo>
                    <a:lnTo>
                      <a:pt x="995" y="169"/>
                    </a:lnTo>
                    <a:lnTo>
                      <a:pt x="998" y="179"/>
                    </a:lnTo>
                    <a:lnTo>
                      <a:pt x="1002" y="189"/>
                    </a:lnTo>
                    <a:lnTo>
                      <a:pt x="1008" y="201"/>
                    </a:lnTo>
                    <a:lnTo>
                      <a:pt x="1008" y="211"/>
                    </a:lnTo>
                    <a:lnTo>
                      <a:pt x="1002" y="221"/>
                    </a:lnTo>
                    <a:lnTo>
                      <a:pt x="992" y="227"/>
                    </a:lnTo>
                    <a:lnTo>
                      <a:pt x="982" y="237"/>
                    </a:lnTo>
                    <a:lnTo>
                      <a:pt x="970" y="249"/>
                    </a:lnTo>
                    <a:lnTo>
                      <a:pt x="960" y="256"/>
                    </a:lnTo>
                    <a:lnTo>
                      <a:pt x="950" y="262"/>
                    </a:lnTo>
                    <a:lnTo>
                      <a:pt x="938" y="265"/>
                    </a:lnTo>
                    <a:lnTo>
                      <a:pt x="928" y="269"/>
                    </a:lnTo>
                    <a:lnTo>
                      <a:pt x="918" y="272"/>
                    </a:lnTo>
                    <a:lnTo>
                      <a:pt x="906" y="275"/>
                    </a:lnTo>
                    <a:lnTo>
                      <a:pt x="896" y="281"/>
                    </a:lnTo>
                    <a:lnTo>
                      <a:pt x="886" y="288"/>
                    </a:lnTo>
                    <a:lnTo>
                      <a:pt x="874" y="297"/>
                    </a:lnTo>
                    <a:lnTo>
                      <a:pt x="867" y="307"/>
                    </a:lnTo>
                    <a:lnTo>
                      <a:pt x="861" y="317"/>
                    </a:lnTo>
                    <a:lnTo>
                      <a:pt x="851" y="326"/>
                    </a:lnTo>
                    <a:lnTo>
                      <a:pt x="848" y="336"/>
                    </a:lnTo>
                    <a:lnTo>
                      <a:pt x="848" y="349"/>
                    </a:lnTo>
                    <a:lnTo>
                      <a:pt x="854" y="361"/>
                    </a:lnTo>
                    <a:lnTo>
                      <a:pt x="864" y="368"/>
                    </a:lnTo>
                    <a:lnTo>
                      <a:pt x="874" y="374"/>
                    </a:lnTo>
                    <a:lnTo>
                      <a:pt x="883" y="384"/>
                    </a:lnTo>
                    <a:lnTo>
                      <a:pt x="893" y="393"/>
                    </a:lnTo>
                    <a:lnTo>
                      <a:pt x="902" y="403"/>
                    </a:lnTo>
                    <a:lnTo>
                      <a:pt x="909" y="413"/>
                    </a:lnTo>
                    <a:lnTo>
                      <a:pt x="922" y="419"/>
                    </a:lnTo>
                    <a:lnTo>
                      <a:pt x="925" y="429"/>
                    </a:lnTo>
                    <a:lnTo>
                      <a:pt x="928" y="441"/>
                    </a:lnTo>
                    <a:lnTo>
                      <a:pt x="934" y="451"/>
                    </a:lnTo>
                    <a:lnTo>
                      <a:pt x="938" y="461"/>
                    </a:lnTo>
                    <a:lnTo>
                      <a:pt x="941" y="473"/>
                    </a:lnTo>
                    <a:lnTo>
                      <a:pt x="941" y="483"/>
                    </a:lnTo>
                    <a:lnTo>
                      <a:pt x="941" y="498"/>
                    </a:lnTo>
                    <a:lnTo>
                      <a:pt x="928" y="510"/>
                    </a:lnTo>
                    <a:lnTo>
                      <a:pt x="917" y="517"/>
                    </a:lnTo>
                    <a:lnTo>
                      <a:pt x="904" y="521"/>
                    </a:lnTo>
                    <a:lnTo>
                      <a:pt x="889" y="526"/>
                    </a:lnTo>
                    <a:lnTo>
                      <a:pt x="877" y="530"/>
                    </a:lnTo>
                    <a:lnTo>
                      <a:pt x="867" y="536"/>
                    </a:lnTo>
                    <a:lnTo>
                      <a:pt x="858" y="545"/>
                    </a:lnTo>
                    <a:lnTo>
                      <a:pt x="848" y="548"/>
                    </a:lnTo>
                    <a:lnTo>
                      <a:pt x="837" y="551"/>
                    </a:lnTo>
                    <a:lnTo>
                      <a:pt x="828" y="556"/>
                    </a:lnTo>
                    <a:lnTo>
                      <a:pt x="816" y="558"/>
                    </a:lnTo>
                    <a:lnTo>
                      <a:pt x="809" y="563"/>
                    </a:lnTo>
                    <a:lnTo>
                      <a:pt x="800" y="569"/>
                    </a:lnTo>
                    <a:lnTo>
                      <a:pt x="790" y="573"/>
                    </a:lnTo>
                    <a:lnTo>
                      <a:pt x="778" y="576"/>
                    </a:lnTo>
                    <a:lnTo>
                      <a:pt x="768" y="579"/>
                    </a:lnTo>
                    <a:lnTo>
                      <a:pt x="758" y="582"/>
                    </a:lnTo>
                    <a:lnTo>
                      <a:pt x="746" y="585"/>
                    </a:lnTo>
                    <a:lnTo>
                      <a:pt x="736" y="585"/>
                    </a:lnTo>
                    <a:lnTo>
                      <a:pt x="726" y="589"/>
                    </a:lnTo>
                    <a:lnTo>
                      <a:pt x="714" y="592"/>
                    </a:lnTo>
                    <a:lnTo>
                      <a:pt x="704" y="592"/>
                    </a:lnTo>
                    <a:lnTo>
                      <a:pt x="694" y="592"/>
                    </a:lnTo>
                    <a:lnTo>
                      <a:pt x="682" y="592"/>
                    </a:lnTo>
                    <a:lnTo>
                      <a:pt x="672" y="592"/>
                    </a:lnTo>
                    <a:lnTo>
                      <a:pt x="662" y="592"/>
                    </a:lnTo>
                    <a:lnTo>
                      <a:pt x="650" y="592"/>
                    </a:lnTo>
                    <a:lnTo>
                      <a:pt x="640" y="592"/>
                    </a:lnTo>
                    <a:lnTo>
                      <a:pt x="630" y="592"/>
                    </a:lnTo>
                    <a:lnTo>
                      <a:pt x="618" y="592"/>
                    </a:lnTo>
                    <a:lnTo>
                      <a:pt x="608" y="592"/>
                    </a:lnTo>
                    <a:lnTo>
                      <a:pt x="598" y="592"/>
                    </a:lnTo>
                    <a:lnTo>
                      <a:pt x="586" y="592"/>
                    </a:lnTo>
                    <a:lnTo>
                      <a:pt x="576" y="592"/>
                    </a:lnTo>
                    <a:lnTo>
                      <a:pt x="566" y="592"/>
                    </a:lnTo>
                    <a:lnTo>
                      <a:pt x="554" y="592"/>
                    </a:lnTo>
                    <a:lnTo>
                      <a:pt x="544" y="592"/>
                    </a:lnTo>
                    <a:lnTo>
                      <a:pt x="534" y="592"/>
                    </a:lnTo>
                    <a:lnTo>
                      <a:pt x="522" y="592"/>
                    </a:lnTo>
                    <a:lnTo>
                      <a:pt x="512" y="589"/>
                    </a:lnTo>
                    <a:lnTo>
                      <a:pt x="502" y="585"/>
                    </a:lnTo>
                    <a:lnTo>
                      <a:pt x="490" y="585"/>
                    </a:lnTo>
                    <a:lnTo>
                      <a:pt x="480" y="585"/>
                    </a:lnTo>
                    <a:lnTo>
                      <a:pt x="477" y="573"/>
                    </a:lnTo>
                    <a:lnTo>
                      <a:pt x="477" y="563"/>
                    </a:lnTo>
                    <a:lnTo>
                      <a:pt x="477" y="553"/>
                    </a:lnTo>
                    <a:lnTo>
                      <a:pt x="474" y="541"/>
                    </a:lnTo>
                    <a:lnTo>
                      <a:pt x="467" y="531"/>
                    </a:lnTo>
                    <a:lnTo>
                      <a:pt x="464" y="521"/>
                    </a:lnTo>
                    <a:lnTo>
                      <a:pt x="464" y="509"/>
                    </a:lnTo>
                    <a:lnTo>
                      <a:pt x="464" y="499"/>
                    </a:lnTo>
                    <a:lnTo>
                      <a:pt x="464" y="489"/>
                    </a:lnTo>
                    <a:lnTo>
                      <a:pt x="461" y="477"/>
                    </a:lnTo>
                    <a:lnTo>
                      <a:pt x="458" y="467"/>
                    </a:lnTo>
                    <a:lnTo>
                      <a:pt x="458" y="457"/>
                    </a:lnTo>
                    <a:lnTo>
                      <a:pt x="458" y="445"/>
                    </a:lnTo>
                    <a:lnTo>
                      <a:pt x="461" y="435"/>
                    </a:lnTo>
                    <a:lnTo>
                      <a:pt x="464" y="4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1747800" y="3678120"/>
                <a:ext cx="1020960" cy="712800"/>
              </a:xfrm>
              <a:custGeom>
                <a:avLst/>
                <a:gdLst/>
                <a:ahLst/>
                <a:rect l="l" t="t" r="r" b="b"/>
                <a:pathLst>
                  <a:path w="643" h="449">
                    <a:moveTo>
                      <a:pt x="0" y="179"/>
                    </a:moveTo>
                    <a:lnTo>
                      <a:pt x="18" y="170"/>
                    </a:lnTo>
                    <a:lnTo>
                      <a:pt x="24" y="160"/>
                    </a:lnTo>
                    <a:lnTo>
                      <a:pt x="34" y="157"/>
                    </a:lnTo>
                    <a:lnTo>
                      <a:pt x="43" y="147"/>
                    </a:lnTo>
                    <a:lnTo>
                      <a:pt x="53" y="144"/>
                    </a:lnTo>
                    <a:lnTo>
                      <a:pt x="66" y="138"/>
                    </a:lnTo>
                    <a:lnTo>
                      <a:pt x="78" y="131"/>
                    </a:lnTo>
                    <a:lnTo>
                      <a:pt x="88" y="131"/>
                    </a:lnTo>
                    <a:lnTo>
                      <a:pt x="98" y="134"/>
                    </a:lnTo>
                    <a:lnTo>
                      <a:pt x="110" y="141"/>
                    </a:lnTo>
                    <a:lnTo>
                      <a:pt x="120" y="147"/>
                    </a:lnTo>
                    <a:lnTo>
                      <a:pt x="130" y="150"/>
                    </a:lnTo>
                    <a:lnTo>
                      <a:pt x="142" y="150"/>
                    </a:lnTo>
                    <a:lnTo>
                      <a:pt x="152" y="150"/>
                    </a:lnTo>
                    <a:lnTo>
                      <a:pt x="162" y="150"/>
                    </a:lnTo>
                    <a:lnTo>
                      <a:pt x="174" y="150"/>
                    </a:lnTo>
                    <a:lnTo>
                      <a:pt x="184" y="147"/>
                    </a:lnTo>
                    <a:lnTo>
                      <a:pt x="194" y="144"/>
                    </a:lnTo>
                    <a:lnTo>
                      <a:pt x="200" y="134"/>
                    </a:lnTo>
                    <a:lnTo>
                      <a:pt x="210" y="128"/>
                    </a:lnTo>
                    <a:lnTo>
                      <a:pt x="219" y="118"/>
                    </a:lnTo>
                    <a:lnTo>
                      <a:pt x="229" y="115"/>
                    </a:lnTo>
                    <a:lnTo>
                      <a:pt x="242" y="115"/>
                    </a:lnTo>
                    <a:lnTo>
                      <a:pt x="254" y="115"/>
                    </a:lnTo>
                    <a:lnTo>
                      <a:pt x="264" y="115"/>
                    </a:lnTo>
                    <a:lnTo>
                      <a:pt x="274" y="115"/>
                    </a:lnTo>
                    <a:lnTo>
                      <a:pt x="286" y="115"/>
                    </a:lnTo>
                    <a:lnTo>
                      <a:pt x="296" y="115"/>
                    </a:lnTo>
                    <a:lnTo>
                      <a:pt x="306" y="118"/>
                    </a:lnTo>
                    <a:lnTo>
                      <a:pt x="318" y="122"/>
                    </a:lnTo>
                    <a:lnTo>
                      <a:pt x="328" y="125"/>
                    </a:lnTo>
                    <a:lnTo>
                      <a:pt x="338" y="128"/>
                    </a:lnTo>
                    <a:lnTo>
                      <a:pt x="350" y="131"/>
                    </a:lnTo>
                    <a:lnTo>
                      <a:pt x="360" y="134"/>
                    </a:lnTo>
                    <a:lnTo>
                      <a:pt x="370" y="134"/>
                    </a:lnTo>
                    <a:lnTo>
                      <a:pt x="382" y="138"/>
                    </a:lnTo>
                    <a:lnTo>
                      <a:pt x="392" y="138"/>
                    </a:lnTo>
                    <a:lnTo>
                      <a:pt x="402" y="134"/>
                    </a:lnTo>
                    <a:lnTo>
                      <a:pt x="414" y="125"/>
                    </a:lnTo>
                    <a:lnTo>
                      <a:pt x="421" y="115"/>
                    </a:lnTo>
                    <a:lnTo>
                      <a:pt x="434" y="106"/>
                    </a:lnTo>
                    <a:lnTo>
                      <a:pt x="437" y="96"/>
                    </a:lnTo>
                    <a:lnTo>
                      <a:pt x="440" y="86"/>
                    </a:lnTo>
                    <a:lnTo>
                      <a:pt x="443" y="74"/>
                    </a:lnTo>
                    <a:lnTo>
                      <a:pt x="450" y="64"/>
                    </a:lnTo>
                    <a:lnTo>
                      <a:pt x="459" y="54"/>
                    </a:lnTo>
                    <a:lnTo>
                      <a:pt x="466" y="42"/>
                    </a:lnTo>
                    <a:lnTo>
                      <a:pt x="472" y="32"/>
                    </a:lnTo>
                    <a:lnTo>
                      <a:pt x="482" y="22"/>
                    </a:lnTo>
                    <a:lnTo>
                      <a:pt x="488" y="10"/>
                    </a:lnTo>
                    <a:lnTo>
                      <a:pt x="498" y="6"/>
                    </a:lnTo>
                    <a:lnTo>
                      <a:pt x="510" y="3"/>
                    </a:lnTo>
                    <a:lnTo>
                      <a:pt x="520" y="0"/>
                    </a:lnTo>
                    <a:lnTo>
                      <a:pt x="530" y="0"/>
                    </a:lnTo>
                    <a:lnTo>
                      <a:pt x="542" y="6"/>
                    </a:lnTo>
                    <a:lnTo>
                      <a:pt x="552" y="13"/>
                    </a:lnTo>
                    <a:lnTo>
                      <a:pt x="562" y="19"/>
                    </a:lnTo>
                    <a:lnTo>
                      <a:pt x="574" y="26"/>
                    </a:lnTo>
                    <a:lnTo>
                      <a:pt x="584" y="35"/>
                    </a:lnTo>
                    <a:lnTo>
                      <a:pt x="594" y="42"/>
                    </a:lnTo>
                    <a:lnTo>
                      <a:pt x="606" y="51"/>
                    </a:lnTo>
                    <a:lnTo>
                      <a:pt x="613" y="61"/>
                    </a:lnTo>
                    <a:lnTo>
                      <a:pt x="622" y="74"/>
                    </a:lnTo>
                    <a:lnTo>
                      <a:pt x="626" y="86"/>
                    </a:lnTo>
                    <a:lnTo>
                      <a:pt x="629" y="96"/>
                    </a:lnTo>
                    <a:lnTo>
                      <a:pt x="629" y="106"/>
                    </a:lnTo>
                    <a:lnTo>
                      <a:pt x="632" y="118"/>
                    </a:lnTo>
                    <a:lnTo>
                      <a:pt x="635" y="128"/>
                    </a:lnTo>
                    <a:lnTo>
                      <a:pt x="638" y="138"/>
                    </a:lnTo>
                    <a:lnTo>
                      <a:pt x="642" y="150"/>
                    </a:lnTo>
                    <a:lnTo>
                      <a:pt x="642" y="160"/>
                    </a:lnTo>
                    <a:lnTo>
                      <a:pt x="642" y="170"/>
                    </a:lnTo>
                    <a:lnTo>
                      <a:pt x="642" y="182"/>
                    </a:lnTo>
                    <a:lnTo>
                      <a:pt x="642" y="192"/>
                    </a:lnTo>
                    <a:lnTo>
                      <a:pt x="642" y="202"/>
                    </a:lnTo>
                    <a:lnTo>
                      <a:pt x="642" y="214"/>
                    </a:lnTo>
                    <a:lnTo>
                      <a:pt x="642" y="224"/>
                    </a:lnTo>
                    <a:lnTo>
                      <a:pt x="642" y="234"/>
                    </a:lnTo>
                    <a:lnTo>
                      <a:pt x="642" y="246"/>
                    </a:lnTo>
                    <a:lnTo>
                      <a:pt x="642" y="256"/>
                    </a:lnTo>
                    <a:lnTo>
                      <a:pt x="642" y="266"/>
                    </a:lnTo>
                    <a:lnTo>
                      <a:pt x="642" y="278"/>
                    </a:lnTo>
                    <a:lnTo>
                      <a:pt x="642" y="288"/>
                    </a:lnTo>
                    <a:lnTo>
                      <a:pt x="642" y="298"/>
                    </a:lnTo>
                    <a:lnTo>
                      <a:pt x="642" y="310"/>
                    </a:lnTo>
                    <a:lnTo>
                      <a:pt x="638" y="320"/>
                    </a:lnTo>
                    <a:lnTo>
                      <a:pt x="638" y="330"/>
                    </a:lnTo>
                    <a:lnTo>
                      <a:pt x="635" y="342"/>
                    </a:lnTo>
                    <a:lnTo>
                      <a:pt x="632" y="352"/>
                    </a:lnTo>
                    <a:lnTo>
                      <a:pt x="629" y="362"/>
                    </a:lnTo>
                    <a:lnTo>
                      <a:pt x="629" y="374"/>
                    </a:lnTo>
                    <a:lnTo>
                      <a:pt x="626" y="384"/>
                    </a:lnTo>
                    <a:lnTo>
                      <a:pt x="626" y="394"/>
                    </a:lnTo>
                    <a:lnTo>
                      <a:pt x="629" y="406"/>
                    </a:lnTo>
                    <a:lnTo>
                      <a:pt x="632" y="416"/>
                    </a:lnTo>
                    <a:lnTo>
                      <a:pt x="635" y="426"/>
                    </a:lnTo>
                    <a:lnTo>
                      <a:pt x="635" y="438"/>
                    </a:lnTo>
                    <a:lnTo>
                      <a:pt x="636" y="442"/>
                    </a:lnTo>
                    <a:lnTo>
                      <a:pt x="635" y="4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3025800" y="4419720"/>
                <a:ext cx="920880" cy="961920"/>
              </a:xfrm>
              <a:custGeom>
                <a:avLst/>
                <a:gdLst/>
                <a:ahLst/>
                <a:rect l="l" t="t" r="r" b="b"/>
                <a:pathLst>
                  <a:path w="580" h="606">
                    <a:moveTo>
                      <a:pt x="0" y="96"/>
                    </a:moveTo>
                    <a:lnTo>
                      <a:pt x="0" y="106"/>
                    </a:lnTo>
                    <a:lnTo>
                      <a:pt x="0" y="119"/>
                    </a:lnTo>
                    <a:lnTo>
                      <a:pt x="0" y="131"/>
                    </a:lnTo>
                    <a:lnTo>
                      <a:pt x="0" y="141"/>
                    </a:lnTo>
                    <a:lnTo>
                      <a:pt x="3" y="151"/>
                    </a:lnTo>
                    <a:lnTo>
                      <a:pt x="9" y="163"/>
                    </a:lnTo>
                    <a:lnTo>
                      <a:pt x="9" y="173"/>
                    </a:lnTo>
                    <a:lnTo>
                      <a:pt x="13" y="183"/>
                    </a:lnTo>
                    <a:lnTo>
                      <a:pt x="25" y="183"/>
                    </a:lnTo>
                    <a:lnTo>
                      <a:pt x="35" y="183"/>
                    </a:lnTo>
                    <a:lnTo>
                      <a:pt x="45" y="183"/>
                    </a:lnTo>
                    <a:lnTo>
                      <a:pt x="57" y="189"/>
                    </a:lnTo>
                    <a:lnTo>
                      <a:pt x="64" y="199"/>
                    </a:lnTo>
                    <a:lnTo>
                      <a:pt x="70" y="211"/>
                    </a:lnTo>
                    <a:lnTo>
                      <a:pt x="70" y="221"/>
                    </a:lnTo>
                    <a:lnTo>
                      <a:pt x="70" y="231"/>
                    </a:lnTo>
                    <a:lnTo>
                      <a:pt x="67" y="243"/>
                    </a:lnTo>
                    <a:lnTo>
                      <a:pt x="64" y="253"/>
                    </a:lnTo>
                    <a:lnTo>
                      <a:pt x="61" y="263"/>
                    </a:lnTo>
                    <a:lnTo>
                      <a:pt x="57" y="275"/>
                    </a:lnTo>
                    <a:lnTo>
                      <a:pt x="57" y="285"/>
                    </a:lnTo>
                    <a:lnTo>
                      <a:pt x="57" y="295"/>
                    </a:lnTo>
                    <a:lnTo>
                      <a:pt x="57" y="307"/>
                    </a:lnTo>
                    <a:lnTo>
                      <a:pt x="57" y="317"/>
                    </a:lnTo>
                    <a:lnTo>
                      <a:pt x="57" y="327"/>
                    </a:lnTo>
                    <a:lnTo>
                      <a:pt x="57" y="339"/>
                    </a:lnTo>
                    <a:lnTo>
                      <a:pt x="57" y="349"/>
                    </a:lnTo>
                    <a:lnTo>
                      <a:pt x="57" y="359"/>
                    </a:lnTo>
                    <a:lnTo>
                      <a:pt x="57" y="371"/>
                    </a:lnTo>
                    <a:lnTo>
                      <a:pt x="54" y="381"/>
                    </a:lnTo>
                    <a:lnTo>
                      <a:pt x="54" y="391"/>
                    </a:lnTo>
                    <a:lnTo>
                      <a:pt x="48" y="403"/>
                    </a:lnTo>
                    <a:lnTo>
                      <a:pt x="48" y="413"/>
                    </a:lnTo>
                    <a:lnTo>
                      <a:pt x="48" y="423"/>
                    </a:lnTo>
                    <a:lnTo>
                      <a:pt x="48" y="435"/>
                    </a:lnTo>
                    <a:lnTo>
                      <a:pt x="48" y="445"/>
                    </a:lnTo>
                    <a:lnTo>
                      <a:pt x="48" y="455"/>
                    </a:lnTo>
                    <a:lnTo>
                      <a:pt x="51" y="467"/>
                    </a:lnTo>
                    <a:lnTo>
                      <a:pt x="54" y="477"/>
                    </a:lnTo>
                    <a:lnTo>
                      <a:pt x="57" y="487"/>
                    </a:lnTo>
                    <a:lnTo>
                      <a:pt x="64" y="499"/>
                    </a:lnTo>
                    <a:lnTo>
                      <a:pt x="67" y="509"/>
                    </a:lnTo>
                    <a:lnTo>
                      <a:pt x="67" y="519"/>
                    </a:lnTo>
                    <a:lnTo>
                      <a:pt x="70" y="531"/>
                    </a:lnTo>
                    <a:lnTo>
                      <a:pt x="70" y="541"/>
                    </a:lnTo>
                    <a:lnTo>
                      <a:pt x="70" y="551"/>
                    </a:lnTo>
                    <a:lnTo>
                      <a:pt x="77" y="563"/>
                    </a:lnTo>
                    <a:lnTo>
                      <a:pt x="86" y="573"/>
                    </a:lnTo>
                    <a:lnTo>
                      <a:pt x="93" y="583"/>
                    </a:lnTo>
                    <a:lnTo>
                      <a:pt x="105" y="589"/>
                    </a:lnTo>
                    <a:lnTo>
                      <a:pt x="115" y="595"/>
                    </a:lnTo>
                    <a:lnTo>
                      <a:pt x="125" y="602"/>
                    </a:lnTo>
                    <a:lnTo>
                      <a:pt x="137" y="602"/>
                    </a:lnTo>
                    <a:lnTo>
                      <a:pt x="147" y="602"/>
                    </a:lnTo>
                    <a:lnTo>
                      <a:pt x="157" y="602"/>
                    </a:lnTo>
                    <a:lnTo>
                      <a:pt x="169" y="602"/>
                    </a:lnTo>
                    <a:lnTo>
                      <a:pt x="179" y="602"/>
                    </a:lnTo>
                    <a:lnTo>
                      <a:pt x="189" y="602"/>
                    </a:lnTo>
                    <a:lnTo>
                      <a:pt x="201" y="599"/>
                    </a:lnTo>
                    <a:lnTo>
                      <a:pt x="211" y="595"/>
                    </a:lnTo>
                    <a:lnTo>
                      <a:pt x="221" y="595"/>
                    </a:lnTo>
                    <a:lnTo>
                      <a:pt x="233" y="592"/>
                    </a:lnTo>
                    <a:lnTo>
                      <a:pt x="243" y="589"/>
                    </a:lnTo>
                    <a:lnTo>
                      <a:pt x="253" y="586"/>
                    </a:lnTo>
                    <a:lnTo>
                      <a:pt x="265" y="583"/>
                    </a:lnTo>
                    <a:lnTo>
                      <a:pt x="275" y="579"/>
                    </a:lnTo>
                    <a:lnTo>
                      <a:pt x="285" y="576"/>
                    </a:lnTo>
                    <a:lnTo>
                      <a:pt x="297" y="573"/>
                    </a:lnTo>
                    <a:lnTo>
                      <a:pt x="307" y="573"/>
                    </a:lnTo>
                    <a:lnTo>
                      <a:pt x="317" y="570"/>
                    </a:lnTo>
                    <a:lnTo>
                      <a:pt x="329" y="567"/>
                    </a:lnTo>
                    <a:lnTo>
                      <a:pt x="339" y="567"/>
                    </a:lnTo>
                    <a:lnTo>
                      <a:pt x="349" y="567"/>
                    </a:lnTo>
                    <a:lnTo>
                      <a:pt x="361" y="570"/>
                    </a:lnTo>
                    <a:lnTo>
                      <a:pt x="371" y="573"/>
                    </a:lnTo>
                    <a:lnTo>
                      <a:pt x="381" y="583"/>
                    </a:lnTo>
                    <a:lnTo>
                      <a:pt x="393" y="589"/>
                    </a:lnTo>
                    <a:lnTo>
                      <a:pt x="403" y="589"/>
                    </a:lnTo>
                    <a:lnTo>
                      <a:pt x="413" y="589"/>
                    </a:lnTo>
                    <a:lnTo>
                      <a:pt x="425" y="592"/>
                    </a:lnTo>
                    <a:lnTo>
                      <a:pt x="435" y="592"/>
                    </a:lnTo>
                    <a:lnTo>
                      <a:pt x="445" y="595"/>
                    </a:lnTo>
                    <a:lnTo>
                      <a:pt x="457" y="599"/>
                    </a:lnTo>
                    <a:lnTo>
                      <a:pt x="467" y="602"/>
                    </a:lnTo>
                    <a:lnTo>
                      <a:pt x="477" y="602"/>
                    </a:lnTo>
                    <a:lnTo>
                      <a:pt x="489" y="605"/>
                    </a:lnTo>
                    <a:lnTo>
                      <a:pt x="499" y="605"/>
                    </a:lnTo>
                    <a:lnTo>
                      <a:pt x="509" y="602"/>
                    </a:lnTo>
                    <a:lnTo>
                      <a:pt x="518" y="592"/>
                    </a:lnTo>
                    <a:lnTo>
                      <a:pt x="528" y="583"/>
                    </a:lnTo>
                    <a:lnTo>
                      <a:pt x="531" y="573"/>
                    </a:lnTo>
                    <a:lnTo>
                      <a:pt x="537" y="563"/>
                    </a:lnTo>
                    <a:lnTo>
                      <a:pt x="547" y="557"/>
                    </a:lnTo>
                    <a:lnTo>
                      <a:pt x="553" y="547"/>
                    </a:lnTo>
                    <a:lnTo>
                      <a:pt x="563" y="538"/>
                    </a:lnTo>
                    <a:lnTo>
                      <a:pt x="569" y="528"/>
                    </a:lnTo>
                    <a:lnTo>
                      <a:pt x="576" y="515"/>
                    </a:lnTo>
                    <a:lnTo>
                      <a:pt x="579" y="503"/>
                    </a:lnTo>
                    <a:lnTo>
                      <a:pt x="579" y="493"/>
                    </a:lnTo>
                    <a:lnTo>
                      <a:pt x="579" y="483"/>
                    </a:lnTo>
                    <a:lnTo>
                      <a:pt x="579" y="471"/>
                    </a:lnTo>
                    <a:lnTo>
                      <a:pt x="579" y="461"/>
                    </a:lnTo>
                    <a:lnTo>
                      <a:pt x="576" y="451"/>
                    </a:lnTo>
                    <a:lnTo>
                      <a:pt x="569" y="439"/>
                    </a:lnTo>
                    <a:lnTo>
                      <a:pt x="563" y="429"/>
                    </a:lnTo>
                    <a:lnTo>
                      <a:pt x="560" y="419"/>
                    </a:lnTo>
                    <a:lnTo>
                      <a:pt x="553" y="407"/>
                    </a:lnTo>
                    <a:lnTo>
                      <a:pt x="550" y="397"/>
                    </a:lnTo>
                    <a:lnTo>
                      <a:pt x="547" y="387"/>
                    </a:lnTo>
                    <a:lnTo>
                      <a:pt x="544" y="375"/>
                    </a:lnTo>
                    <a:lnTo>
                      <a:pt x="541" y="365"/>
                    </a:lnTo>
                    <a:lnTo>
                      <a:pt x="541" y="355"/>
                    </a:lnTo>
                    <a:lnTo>
                      <a:pt x="537" y="343"/>
                    </a:lnTo>
                    <a:lnTo>
                      <a:pt x="534" y="333"/>
                    </a:lnTo>
                    <a:lnTo>
                      <a:pt x="531" y="323"/>
                    </a:lnTo>
                    <a:lnTo>
                      <a:pt x="531" y="311"/>
                    </a:lnTo>
                    <a:lnTo>
                      <a:pt x="528" y="301"/>
                    </a:lnTo>
                    <a:lnTo>
                      <a:pt x="528" y="291"/>
                    </a:lnTo>
                    <a:lnTo>
                      <a:pt x="528" y="279"/>
                    </a:lnTo>
                    <a:lnTo>
                      <a:pt x="528" y="269"/>
                    </a:lnTo>
                    <a:lnTo>
                      <a:pt x="528" y="259"/>
                    </a:lnTo>
                    <a:lnTo>
                      <a:pt x="528" y="247"/>
                    </a:lnTo>
                    <a:lnTo>
                      <a:pt x="528" y="237"/>
                    </a:lnTo>
                    <a:lnTo>
                      <a:pt x="528" y="227"/>
                    </a:lnTo>
                    <a:lnTo>
                      <a:pt x="528" y="215"/>
                    </a:lnTo>
                    <a:lnTo>
                      <a:pt x="528" y="205"/>
                    </a:lnTo>
                    <a:lnTo>
                      <a:pt x="531" y="195"/>
                    </a:lnTo>
                    <a:lnTo>
                      <a:pt x="531" y="183"/>
                    </a:lnTo>
                    <a:lnTo>
                      <a:pt x="531" y="173"/>
                    </a:lnTo>
                    <a:lnTo>
                      <a:pt x="531" y="163"/>
                    </a:lnTo>
                    <a:lnTo>
                      <a:pt x="531" y="151"/>
                    </a:lnTo>
                    <a:lnTo>
                      <a:pt x="531" y="141"/>
                    </a:lnTo>
                    <a:lnTo>
                      <a:pt x="531" y="131"/>
                    </a:lnTo>
                    <a:lnTo>
                      <a:pt x="531" y="119"/>
                    </a:lnTo>
                    <a:lnTo>
                      <a:pt x="531" y="109"/>
                    </a:lnTo>
                    <a:lnTo>
                      <a:pt x="531" y="99"/>
                    </a:lnTo>
                    <a:lnTo>
                      <a:pt x="531" y="87"/>
                    </a:lnTo>
                    <a:lnTo>
                      <a:pt x="531" y="77"/>
                    </a:lnTo>
                    <a:lnTo>
                      <a:pt x="531" y="67"/>
                    </a:lnTo>
                    <a:lnTo>
                      <a:pt x="531" y="55"/>
                    </a:lnTo>
                    <a:lnTo>
                      <a:pt x="531" y="45"/>
                    </a:lnTo>
                    <a:lnTo>
                      <a:pt x="531" y="35"/>
                    </a:lnTo>
                    <a:lnTo>
                      <a:pt x="531" y="23"/>
                    </a:lnTo>
                    <a:lnTo>
                      <a:pt x="521" y="13"/>
                    </a:lnTo>
                    <a:lnTo>
                      <a:pt x="509" y="7"/>
                    </a:lnTo>
                    <a:lnTo>
                      <a:pt x="499" y="0"/>
                    </a:lnTo>
                    <a:lnTo>
                      <a:pt x="489" y="0"/>
                    </a:lnTo>
                    <a:lnTo>
                      <a:pt x="480" y="10"/>
                    </a:lnTo>
                    <a:lnTo>
                      <a:pt x="470" y="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2182680" y="4567320"/>
                <a:ext cx="849600" cy="57240"/>
              </a:xfrm>
              <a:custGeom>
                <a:avLst/>
                <a:gdLst/>
                <a:ahLst/>
                <a:rect l="l" t="t" r="r" b="b"/>
                <a:pathLst>
                  <a:path w="535" h="36">
                    <a:moveTo>
                      <a:pt x="0" y="0"/>
                    </a:moveTo>
                    <a:lnTo>
                      <a:pt x="12" y="0"/>
                    </a:lnTo>
                    <a:lnTo>
                      <a:pt x="22" y="0"/>
                    </a:lnTo>
                    <a:lnTo>
                      <a:pt x="32" y="3"/>
                    </a:lnTo>
                    <a:lnTo>
                      <a:pt x="44" y="3"/>
                    </a:lnTo>
                    <a:lnTo>
                      <a:pt x="54" y="3"/>
                    </a:lnTo>
                    <a:lnTo>
                      <a:pt x="64" y="0"/>
                    </a:lnTo>
                    <a:lnTo>
                      <a:pt x="76" y="0"/>
                    </a:lnTo>
                    <a:lnTo>
                      <a:pt x="86" y="3"/>
                    </a:lnTo>
                    <a:lnTo>
                      <a:pt x="96" y="6"/>
                    </a:lnTo>
                    <a:lnTo>
                      <a:pt x="108" y="13"/>
                    </a:lnTo>
                    <a:lnTo>
                      <a:pt x="118" y="19"/>
                    </a:lnTo>
                    <a:lnTo>
                      <a:pt x="128" y="22"/>
                    </a:lnTo>
                    <a:lnTo>
                      <a:pt x="140" y="29"/>
                    </a:lnTo>
                    <a:lnTo>
                      <a:pt x="150" y="29"/>
                    </a:lnTo>
                    <a:lnTo>
                      <a:pt x="160" y="32"/>
                    </a:lnTo>
                    <a:lnTo>
                      <a:pt x="172" y="32"/>
                    </a:lnTo>
                    <a:lnTo>
                      <a:pt x="182" y="32"/>
                    </a:lnTo>
                    <a:lnTo>
                      <a:pt x="192" y="32"/>
                    </a:lnTo>
                    <a:lnTo>
                      <a:pt x="204" y="32"/>
                    </a:lnTo>
                    <a:lnTo>
                      <a:pt x="214" y="32"/>
                    </a:lnTo>
                    <a:lnTo>
                      <a:pt x="224" y="32"/>
                    </a:lnTo>
                    <a:lnTo>
                      <a:pt x="236" y="32"/>
                    </a:lnTo>
                    <a:lnTo>
                      <a:pt x="246" y="29"/>
                    </a:lnTo>
                    <a:lnTo>
                      <a:pt x="256" y="29"/>
                    </a:lnTo>
                    <a:lnTo>
                      <a:pt x="268" y="26"/>
                    </a:lnTo>
                    <a:lnTo>
                      <a:pt x="278" y="26"/>
                    </a:lnTo>
                    <a:lnTo>
                      <a:pt x="288" y="26"/>
                    </a:lnTo>
                    <a:lnTo>
                      <a:pt x="300" y="26"/>
                    </a:lnTo>
                    <a:lnTo>
                      <a:pt x="310" y="26"/>
                    </a:lnTo>
                    <a:lnTo>
                      <a:pt x="320" y="26"/>
                    </a:lnTo>
                    <a:lnTo>
                      <a:pt x="332" y="26"/>
                    </a:lnTo>
                    <a:lnTo>
                      <a:pt x="342" y="26"/>
                    </a:lnTo>
                    <a:lnTo>
                      <a:pt x="371" y="29"/>
                    </a:lnTo>
                    <a:lnTo>
                      <a:pt x="384" y="29"/>
                    </a:lnTo>
                    <a:lnTo>
                      <a:pt x="396" y="32"/>
                    </a:lnTo>
                    <a:lnTo>
                      <a:pt x="406" y="35"/>
                    </a:lnTo>
                    <a:lnTo>
                      <a:pt x="416" y="35"/>
                    </a:lnTo>
                    <a:lnTo>
                      <a:pt x="428" y="35"/>
                    </a:lnTo>
                    <a:lnTo>
                      <a:pt x="438" y="35"/>
                    </a:lnTo>
                    <a:lnTo>
                      <a:pt x="448" y="35"/>
                    </a:lnTo>
                    <a:lnTo>
                      <a:pt x="460" y="32"/>
                    </a:lnTo>
                    <a:lnTo>
                      <a:pt x="470" y="29"/>
                    </a:lnTo>
                    <a:lnTo>
                      <a:pt x="480" y="26"/>
                    </a:lnTo>
                    <a:lnTo>
                      <a:pt x="492" y="22"/>
                    </a:lnTo>
                    <a:lnTo>
                      <a:pt x="502" y="22"/>
                    </a:lnTo>
                    <a:lnTo>
                      <a:pt x="512" y="19"/>
                    </a:lnTo>
                    <a:lnTo>
                      <a:pt x="524" y="19"/>
                    </a:lnTo>
                    <a:lnTo>
                      <a:pt x="534" y="13"/>
                    </a:lnTo>
                  </a:path>
                </a:pathLst>
              </a:custGeom>
              <a:noFill/>
              <a:ln cap="rnd" w="255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4" name=""/>
              <p:cNvSpPr/>
              <p:nvPr/>
            </p:nvSpPr>
            <p:spPr>
              <a:xfrm>
                <a:off x="1100160" y="4699080"/>
                <a:ext cx="1932120" cy="1968480"/>
              </a:xfrm>
              <a:custGeom>
                <a:avLst/>
                <a:gdLst/>
                <a:ahLst/>
                <a:rect l="l" t="t" r="r" b="b"/>
                <a:pathLst>
                  <a:path w="1217" h="1240">
                    <a:moveTo>
                      <a:pt x="429" y="23"/>
                    </a:moveTo>
                    <a:lnTo>
                      <a:pt x="419" y="32"/>
                    </a:lnTo>
                    <a:lnTo>
                      <a:pt x="410" y="42"/>
                    </a:lnTo>
                    <a:lnTo>
                      <a:pt x="400" y="51"/>
                    </a:lnTo>
                    <a:lnTo>
                      <a:pt x="390" y="61"/>
                    </a:lnTo>
                    <a:lnTo>
                      <a:pt x="384" y="71"/>
                    </a:lnTo>
                    <a:lnTo>
                      <a:pt x="381" y="83"/>
                    </a:lnTo>
                    <a:lnTo>
                      <a:pt x="378" y="93"/>
                    </a:lnTo>
                    <a:lnTo>
                      <a:pt x="374" y="103"/>
                    </a:lnTo>
                    <a:lnTo>
                      <a:pt x="371" y="115"/>
                    </a:lnTo>
                    <a:lnTo>
                      <a:pt x="365" y="125"/>
                    </a:lnTo>
                    <a:lnTo>
                      <a:pt x="362" y="135"/>
                    </a:lnTo>
                    <a:lnTo>
                      <a:pt x="355" y="147"/>
                    </a:lnTo>
                    <a:lnTo>
                      <a:pt x="352" y="157"/>
                    </a:lnTo>
                    <a:lnTo>
                      <a:pt x="352" y="167"/>
                    </a:lnTo>
                    <a:lnTo>
                      <a:pt x="346" y="179"/>
                    </a:lnTo>
                    <a:lnTo>
                      <a:pt x="342" y="189"/>
                    </a:lnTo>
                    <a:lnTo>
                      <a:pt x="333" y="199"/>
                    </a:lnTo>
                    <a:lnTo>
                      <a:pt x="323" y="205"/>
                    </a:lnTo>
                    <a:lnTo>
                      <a:pt x="310" y="215"/>
                    </a:lnTo>
                    <a:lnTo>
                      <a:pt x="298" y="221"/>
                    </a:lnTo>
                    <a:lnTo>
                      <a:pt x="288" y="227"/>
                    </a:lnTo>
                    <a:lnTo>
                      <a:pt x="278" y="237"/>
                    </a:lnTo>
                    <a:lnTo>
                      <a:pt x="266" y="247"/>
                    </a:lnTo>
                    <a:lnTo>
                      <a:pt x="256" y="256"/>
                    </a:lnTo>
                    <a:lnTo>
                      <a:pt x="246" y="266"/>
                    </a:lnTo>
                    <a:lnTo>
                      <a:pt x="237" y="279"/>
                    </a:lnTo>
                    <a:lnTo>
                      <a:pt x="227" y="288"/>
                    </a:lnTo>
                    <a:lnTo>
                      <a:pt x="224" y="314"/>
                    </a:lnTo>
                    <a:lnTo>
                      <a:pt x="218" y="336"/>
                    </a:lnTo>
                    <a:lnTo>
                      <a:pt x="211" y="346"/>
                    </a:lnTo>
                    <a:lnTo>
                      <a:pt x="202" y="359"/>
                    </a:lnTo>
                    <a:lnTo>
                      <a:pt x="192" y="371"/>
                    </a:lnTo>
                    <a:lnTo>
                      <a:pt x="186" y="381"/>
                    </a:lnTo>
                    <a:lnTo>
                      <a:pt x="179" y="391"/>
                    </a:lnTo>
                    <a:lnTo>
                      <a:pt x="170" y="403"/>
                    </a:lnTo>
                    <a:lnTo>
                      <a:pt x="166" y="413"/>
                    </a:lnTo>
                    <a:lnTo>
                      <a:pt x="163" y="423"/>
                    </a:lnTo>
                    <a:lnTo>
                      <a:pt x="160" y="445"/>
                    </a:lnTo>
                    <a:lnTo>
                      <a:pt x="157" y="455"/>
                    </a:lnTo>
                    <a:lnTo>
                      <a:pt x="150" y="487"/>
                    </a:lnTo>
                    <a:lnTo>
                      <a:pt x="147" y="519"/>
                    </a:lnTo>
                    <a:lnTo>
                      <a:pt x="144" y="531"/>
                    </a:lnTo>
                    <a:lnTo>
                      <a:pt x="141" y="541"/>
                    </a:lnTo>
                    <a:lnTo>
                      <a:pt x="138" y="551"/>
                    </a:lnTo>
                    <a:lnTo>
                      <a:pt x="134" y="563"/>
                    </a:lnTo>
                    <a:lnTo>
                      <a:pt x="134" y="573"/>
                    </a:lnTo>
                    <a:lnTo>
                      <a:pt x="131" y="583"/>
                    </a:lnTo>
                    <a:lnTo>
                      <a:pt x="128" y="595"/>
                    </a:lnTo>
                    <a:lnTo>
                      <a:pt x="128" y="605"/>
                    </a:lnTo>
                    <a:lnTo>
                      <a:pt x="125" y="615"/>
                    </a:lnTo>
                    <a:lnTo>
                      <a:pt x="125" y="640"/>
                    </a:lnTo>
                    <a:lnTo>
                      <a:pt x="122" y="650"/>
                    </a:lnTo>
                    <a:lnTo>
                      <a:pt x="122" y="675"/>
                    </a:lnTo>
                    <a:lnTo>
                      <a:pt x="122" y="704"/>
                    </a:lnTo>
                    <a:lnTo>
                      <a:pt x="118" y="730"/>
                    </a:lnTo>
                    <a:lnTo>
                      <a:pt x="118" y="752"/>
                    </a:lnTo>
                    <a:lnTo>
                      <a:pt x="115" y="762"/>
                    </a:lnTo>
                    <a:lnTo>
                      <a:pt x="112" y="775"/>
                    </a:lnTo>
                    <a:lnTo>
                      <a:pt x="112" y="797"/>
                    </a:lnTo>
                    <a:lnTo>
                      <a:pt x="106" y="807"/>
                    </a:lnTo>
                    <a:lnTo>
                      <a:pt x="99" y="819"/>
                    </a:lnTo>
                    <a:lnTo>
                      <a:pt x="96" y="829"/>
                    </a:lnTo>
                    <a:lnTo>
                      <a:pt x="93" y="851"/>
                    </a:lnTo>
                    <a:lnTo>
                      <a:pt x="90" y="861"/>
                    </a:lnTo>
                    <a:lnTo>
                      <a:pt x="83" y="871"/>
                    </a:lnTo>
                    <a:lnTo>
                      <a:pt x="83" y="893"/>
                    </a:lnTo>
                    <a:lnTo>
                      <a:pt x="80" y="903"/>
                    </a:lnTo>
                    <a:lnTo>
                      <a:pt x="74" y="931"/>
                    </a:lnTo>
                    <a:lnTo>
                      <a:pt x="70" y="957"/>
                    </a:lnTo>
                    <a:lnTo>
                      <a:pt x="64" y="967"/>
                    </a:lnTo>
                    <a:lnTo>
                      <a:pt x="64" y="989"/>
                    </a:lnTo>
                    <a:lnTo>
                      <a:pt x="58" y="1018"/>
                    </a:lnTo>
                    <a:lnTo>
                      <a:pt x="54" y="1040"/>
                    </a:lnTo>
                    <a:lnTo>
                      <a:pt x="51" y="1066"/>
                    </a:lnTo>
                    <a:lnTo>
                      <a:pt x="45" y="1079"/>
                    </a:lnTo>
                    <a:lnTo>
                      <a:pt x="38" y="1091"/>
                    </a:lnTo>
                    <a:lnTo>
                      <a:pt x="32" y="1101"/>
                    </a:lnTo>
                    <a:lnTo>
                      <a:pt x="26" y="1111"/>
                    </a:lnTo>
                    <a:lnTo>
                      <a:pt x="19" y="1123"/>
                    </a:lnTo>
                    <a:lnTo>
                      <a:pt x="16" y="1133"/>
                    </a:lnTo>
                    <a:lnTo>
                      <a:pt x="13" y="1143"/>
                    </a:lnTo>
                    <a:lnTo>
                      <a:pt x="6" y="1155"/>
                    </a:lnTo>
                    <a:lnTo>
                      <a:pt x="3" y="1165"/>
                    </a:lnTo>
                    <a:lnTo>
                      <a:pt x="0" y="1175"/>
                    </a:lnTo>
                    <a:lnTo>
                      <a:pt x="0" y="1187"/>
                    </a:lnTo>
                    <a:lnTo>
                      <a:pt x="0" y="1197"/>
                    </a:lnTo>
                    <a:lnTo>
                      <a:pt x="3" y="1207"/>
                    </a:lnTo>
                    <a:lnTo>
                      <a:pt x="10" y="1219"/>
                    </a:lnTo>
                    <a:lnTo>
                      <a:pt x="22" y="1226"/>
                    </a:lnTo>
                    <a:lnTo>
                      <a:pt x="32" y="1229"/>
                    </a:lnTo>
                    <a:lnTo>
                      <a:pt x="42" y="1229"/>
                    </a:lnTo>
                    <a:lnTo>
                      <a:pt x="54" y="1232"/>
                    </a:lnTo>
                    <a:lnTo>
                      <a:pt x="64" y="1235"/>
                    </a:lnTo>
                    <a:lnTo>
                      <a:pt x="74" y="1235"/>
                    </a:lnTo>
                    <a:lnTo>
                      <a:pt x="86" y="1239"/>
                    </a:lnTo>
                    <a:lnTo>
                      <a:pt x="96" y="1239"/>
                    </a:lnTo>
                    <a:lnTo>
                      <a:pt x="106" y="1239"/>
                    </a:lnTo>
                    <a:lnTo>
                      <a:pt x="118" y="1239"/>
                    </a:lnTo>
                    <a:lnTo>
                      <a:pt x="128" y="1239"/>
                    </a:lnTo>
                    <a:lnTo>
                      <a:pt x="138" y="1239"/>
                    </a:lnTo>
                    <a:lnTo>
                      <a:pt x="150" y="1239"/>
                    </a:lnTo>
                    <a:lnTo>
                      <a:pt x="160" y="1239"/>
                    </a:lnTo>
                    <a:lnTo>
                      <a:pt x="170" y="1239"/>
                    </a:lnTo>
                    <a:lnTo>
                      <a:pt x="182" y="1239"/>
                    </a:lnTo>
                    <a:lnTo>
                      <a:pt x="192" y="1239"/>
                    </a:lnTo>
                    <a:lnTo>
                      <a:pt x="202" y="1239"/>
                    </a:lnTo>
                    <a:lnTo>
                      <a:pt x="214" y="1235"/>
                    </a:lnTo>
                    <a:lnTo>
                      <a:pt x="224" y="1232"/>
                    </a:lnTo>
                    <a:lnTo>
                      <a:pt x="234" y="1232"/>
                    </a:lnTo>
                    <a:lnTo>
                      <a:pt x="256" y="1232"/>
                    </a:lnTo>
                    <a:lnTo>
                      <a:pt x="266" y="1229"/>
                    </a:lnTo>
                    <a:lnTo>
                      <a:pt x="278" y="1229"/>
                    </a:lnTo>
                    <a:lnTo>
                      <a:pt x="288" y="1229"/>
                    </a:lnTo>
                    <a:lnTo>
                      <a:pt x="298" y="1229"/>
                    </a:lnTo>
                    <a:lnTo>
                      <a:pt x="310" y="1229"/>
                    </a:lnTo>
                    <a:lnTo>
                      <a:pt x="320" y="1226"/>
                    </a:lnTo>
                    <a:lnTo>
                      <a:pt x="330" y="1226"/>
                    </a:lnTo>
                    <a:lnTo>
                      <a:pt x="342" y="1223"/>
                    </a:lnTo>
                    <a:lnTo>
                      <a:pt x="352" y="1223"/>
                    </a:lnTo>
                    <a:lnTo>
                      <a:pt x="362" y="1223"/>
                    </a:lnTo>
                    <a:lnTo>
                      <a:pt x="374" y="1219"/>
                    </a:lnTo>
                    <a:lnTo>
                      <a:pt x="384" y="1219"/>
                    </a:lnTo>
                    <a:lnTo>
                      <a:pt x="394" y="1219"/>
                    </a:lnTo>
                    <a:lnTo>
                      <a:pt x="406" y="1210"/>
                    </a:lnTo>
                    <a:lnTo>
                      <a:pt x="416" y="1203"/>
                    </a:lnTo>
                    <a:lnTo>
                      <a:pt x="426" y="1200"/>
                    </a:lnTo>
                    <a:lnTo>
                      <a:pt x="438" y="1194"/>
                    </a:lnTo>
                    <a:lnTo>
                      <a:pt x="448" y="1191"/>
                    </a:lnTo>
                    <a:lnTo>
                      <a:pt x="474" y="1187"/>
                    </a:lnTo>
                    <a:lnTo>
                      <a:pt x="486" y="1181"/>
                    </a:lnTo>
                    <a:lnTo>
                      <a:pt x="496" y="1178"/>
                    </a:lnTo>
                    <a:lnTo>
                      <a:pt x="506" y="1171"/>
                    </a:lnTo>
                    <a:lnTo>
                      <a:pt x="518" y="1165"/>
                    </a:lnTo>
                    <a:lnTo>
                      <a:pt x="528" y="1162"/>
                    </a:lnTo>
                    <a:lnTo>
                      <a:pt x="550" y="1159"/>
                    </a:lnTo>
                    <a:lnTo>
                      <a:pt x="560" y="1155"/>
                    </a:lnTo>
                    <a:lnTo>
                      <a:pt x="570" y="1149"/>
                    </a:lnTo>
                    <a:lnTo>
                      <a:pt x="582" y="1143"/>
                    </a:lnTo>
                    <a:lnTo>
                      <a:pt x="592" y="1139"/>
                    </a:lnTo>
                    <a:lnTo>
                      <a:pt x="602" y="1133"/>
                    </a:lnTo>
                    <a:lnTo>
                      <a:pt x="614" y="1127"/>
                    </a:lnTo>
                    <a:lnTo>
                      <a:pt x="624" y="1123"/>
                    </a:lnTo>
                    <a:lnTo>
                      <a:pt x="634" y="1120"/>
                    </a:lnTo>
                    <a:lnTo>
                      <a:pt x="646" y="1111"/>
                    </a:lnTo>
                    <a:lnTo>
                      <a:pt x="672" y="1104"/>
                    </a:lnTo>
                    <a:lnTo>
                      <a:pt x="682" y="1095"/>
                    </a:lnTo>
                    <a:lnTo>
                      <a:pt x="694" y="1088"/>
                    </a:lnTo>
                    <a:lnTo>
                      <a:pt x="704" y="1085"/>
                    </a:lnTo>
                    <a:lnTo>
                      <a:pt x="714" y="1079"/>
                    </a:lnTo>
                    <a:lnTo>
                      <a:pt x="739" y="1075"/>
                    </a:lnTo>
                    <a:lnTo>
                      <a:pt x="749" y="1069"/>
                    </a:lnTo>
                    <a:lnTo>
                      <a:pt x="762" y="1063"/>
                    </a:lnTo>
                    <a:lnTo>
                      <a:pt x="794" y="1056"/>
                    </a:lnTo>
                    <a:lnTo>
                      <a:pt x="819" y="1050"/>
                    </a:lnTo>
                    <a:lnTo>
                      <a:pt x="829" y="1043"/>
                    </a:lnTo>
                    <a:lnTo>
                      <a:pt x="842" y="1034"/>
                    </a:lnTo>
                    <a:lnTo>
                      <a:pt x="848" y="1024"/>
                    </a:lnTo>
                    <a:lnTo>
                      <a:pt x="877" y="1015"/>
                    </a:lnTo>
                    <a:lnTo>
                      <a:pt x="899" y="1011"/>
                    </a:lnTo>
                    <a:lnTo>
                      <a:pt x="909" y="1002"/>
                    </a:lnTo>
                    <a:lnTo>
                      <a:pt x="922" y="992"/>
                    </a:lnTo>
                    <a:lnTo>
                      <a:pt x="934" y="983"/>
                    </a:lnTo>
                    <a:lnTo>
                      <a:pt x="944" y="973"/>
                    </a:lnTo>
                    <a:lnTo>
                      <a:pt x="954" y="967"/>
                    </a:lnTo>
                    <a:lnTo>
                      <a:pt x="960" y="957"/>
                    </a:lnTo>
                    <a:lnTo>
                      <a:pt x="970" y="951"/>
                    </a:lnTo>
                    <a:lnTo>
                      <a:pt x="979" y="941"/>
                    </a:lnTo>
                    <a:lnTo>
                      <a:pt x="989" y="935"/>
                    </a:lnTo>
                    <a:lnTo>
                      <a:pt x="1002" y="928"/>
                    </a:lnTo>
                    <a:lnTo>
                      <a:pt x="1014" y="919"/>
                    </a:lnTo>
                    <a:lnTo>
                      <a:pt x="1024" y="909"/>
                    </a:lnTo>
                    <a:lnTo>
                      <a:pt x="1034" y="903"/>
                    </a:lnTo>
                    <a:lnTo>
                      <a:pt x="1043" y="893"/>
                    </a:lnTo>
                    <a:lnTo>
                      <a:pt x="1053" y="887"/>
                    </a:lnTo>
                    <a:lnTo>
                      <a:pt x="1062" y="877"/>
                    </a:lnTo>
                    <a:lnTo>
                      <a:pt x="1072" y="871"/>
                    </a:lnTo>
                    <a:lnTo>
                      <a:pt x="1078" y="861"/>
                    </a:lnTo>
                    <a:lnTo>
                      <a:pt x="1088" y="851"/>
                    </a:lnTo>
                    <a:lnTo>
                      <a:pt x="1094" y="839"/>
                    </a:lnTo>
                    <a:lnTo>
                      <a:pt x="1094" y="829"/>
                    </a:lnTo>
                    <a:lnTo>
                      <a:pt x="1094" y="819"/>
                    </a:lnTo>
                    <a:lnTo>
                      <a:pt x="1094" y="807"/>
                    </a:lnTo>
                    <a:lnTo>
                      <a:pt x="1094" y="797"/>
                    </a:lnTo>
                    <a:lnTo>
                      <a:pt x="1094" y="787"/>
                    </a:lnTo>
                    <a:lnTo>
                      <a:pt x="1098" y="775"/>
                    </a:lnTo>
                    <a:lnTo>
                      <a:pt x="1107" y="765"/>
                    </a:lnTo>
                    <a:lnTo>
                      <a:pt x="1114" y="755"/>
                    </a:lnTo>
                    <a:lnTo>
                      <a:pt x="1123" y="743"/>
                    </a:lnTo>
                    <a:lnTo>
                      <a:pt x="1126" y="733"/>
                    </a:lnTo>
                    <a:lnTo>
                      <a:pt x="1126" y="723"/>
                    </a:lnTo>
                    <a:lnTo>
                      <a:pt x="1126" y="711"/>
                    </a:lnTo>
                    <a:lnTo>
                      <a:pt x="1126" y="701"/>
                    </a:lnTo>
                    <a:lnTo>
                      <a:pt x="1126" y="691"/>
                    </a:lnTo>
                    <a:lnTo>
                      <a:pt x="1126" y="679"/>
                    </a:lnTo>
                    <a:lnTo>
                      <a:pt x="1126" y="669"/>
                    </a:lnTo>
                    <a:lnTo>
                      <a:pt x="1126" y="659"/>
                    </a:lnTo>
                    <a:lnTo>
                      <a:pt x="1123" y="647"/>
                    </a:lnTo>
                    <a:lnTo>
                      <a:pt x="1123" y="637"/>
                    </a:lnTo>
                    <a:lnTo>
                      <a:pt x="1120" y="627"/>
                    </a:lnTo>
                    <a:lnTo>
                      <a:pt x="1120" y="615"/>
                    </a:lnTo>
                    <a:lnTo>
                      <a:pt x="1120" y="605"/>
                    </a:lnTo>
                    <a:lnTo>
                      <a:pt x="1120" y="595"/>
                    </a:lnTo>
                    <a:lnTo>
                      <a:pt x="1114" y="583"/>
                    </a:lnTo>
                    <a:lnTo>
                      <a:pt x="1110" y="573"/>
                    </a:lnTo>
                    <a:lnTo>
                      <a:pt x="1107" y="563"/>
                    </a:lnTo>
                    <a:lnTo>
                      <a:pt x="1101" y="551"/>
                    </a:lnTo>
                    <a:lnTo>
                      <a:pt x="1098" y="541"/>
                    </a:lnTo>
                    <a:lnTo>
                      <a:pt x="1098" y="531"/>
                    </a:lnTo>
                    <a:lnTo>
                      <a:pt x="1094" y="519"/>
                    </a:lnTo>
                    <a:lnTo>
                      <a:pt x="1091" y="509"/>
                    </a:lnTo>
                    <a:lnTo>
                      <a:pt x="1091" y="499"/>
                    </a:lnTo>
                    <a:lnTo>
                      <a:pt x="1085" y="487"/>
                    </a:lnTo>
                    <a:lnTo>
                      <a:pt x="1085" y="477"/>
                    </a:lnTo>
                    <a:lnTo>
                      <a:pt x="1085" y="467"/>
                    </a:lnTo>
                    <a:lnTo>
                      <a:pt x="1085" y="455"/>
                    </a:lnTo>
                    <a:lnTo>
                      <a:pt x="1085" y="445"/>
                    </a:lnTo>
                    <a:lnTo>
                      <a:pt x="1085" y="435"/>
                    </a:lnTo>
                    <a:lnTo>
                      <a:pt x="1085" y="423"/>
                    </a:lnTo>
                    <a:lnTo>
                      <a:pt x="1085" y="413"/>
                    </a:lnTo>
                    <a:lnTo>
                      <a:pt x="1085" y="403"/>
                    </a:lnTo>
                    <a:lnTo>
                      <a:pt x="1078" y="391"/>
                    </a:lnTo>
                    <a:lnTo>
                      <a:pt x="1075" y="381"/>
                    </a:lnTo>
                    <a:lnTo>
                      <a:pt x="1075" y="371"/>
                    </a:lnTo>
                    <a:lnTo>
                      <a:pt x="1075" y="359"/>
                    </a:lnTo>
                    <a:lnTo>
                      <a:pt x="1075" y="349"/>
                    </a:lnTo>
                    <a:lnTo>
                      <a:pt x="1078" y="339"/>
                    </a:lnTo>
                    <a:lnTo>
                      <a:pt x="1082" y="327"/>
                    </a:lnTo>
                    <a:lnTo>
                      <a:pt x="1088" y="317"/>
                    </a:lnTo>
                    <a:lnTo>
                      <a:pt x="1094" y="307"/>
                    </a:lnTo>
                    <a:lnTo>
                      <a:pt x="1098" y="295"/>
                    </a:lnTo>
                    <a:lnTo>
                      <a:pt x="1094" y="285"/>
                    </a:lnTo>
                    <a:lnTo>
                      <a:pt x="1091" y="275"/>
                    </a:lnTo>
                    <a:lnTo>
                      <a:pt x="1085" y="263"/>
                    </a:lnTo>
                    <a:lnTo>
                      <a:pt x="1082" y="253"/>
                    </a:lnTo>
                    <a:lnTo>
                      <a:pt x="1082" y="243"/>
                    </a:lnTo>
                    <a:lnTo>
                      <a:pt x="1082" y="231"/>
                    </a:lnTo>
                    <a:lnTo>
                      <a:pt x="1082" y="221"/>
                    </a:lnTo>
                    <a:lnTo>
                      <a:pt x="1085" y="211"/>
                    </a:lnTo>
                    <a:lnTo>
                      <a:pt x="1088" y="199"/>
                    </a:lnTo>
                    <a:lnTo>
                      <a:pt x="1091" y="189"/>
                    </a:lnTo>
                    <a:lnTo>
                      <a:pt x="1098" y="179"/>
                    </a:lnTo>
                    <a:lnTo>
                      <a:pt x="1107" y="167"/>
                    </a:lnTo>
                    <a:lnTo>
                      <a:pt x="1107" y="157"/>
                    </a:lnTo>
                    <a:lnTo>
                      <a:pt x="1107" y="147"/>
                    </a:lnTo>
                    <a:lnTo>
                      <a:pt x="1110" y="135"/>
                    </a:lnTo>
                    <a:lnTo>
                      <a:pt x="1110" y="125"/>
                    </a:lnTo>
                    <a:lnTo>
                      <a:pt x="1117" y="115"/>
                    </a:lnTo>
                    <a:lnTo>
                      <a:pt x="1123" y="103"/>
                    </a:lnTo>
                    <a:lnTo>
                      <a:pt x="1130" y="93"/>
                    </a:lnTo>
                    <a:lnTo>
                      <a:pt x="1130" y="83"/>
                    </a:lnTo>
                    <a:lnTo>
                      <a:pt x="1133" y="71"/>
                    </a:lnTo>
                    <a:lnTo>
                      <a:pt x="1139" y="61"/>
                    </a:lnTo>
                    <a:lnTo>
                      <a:pt x="1146" y="51"/>
                    </a:lnTo>
                    <a:lnTo>
                      <a:pt x="1158" y="39"/>
                    </a:lnTo>
                    <a:lnTo>
                      <a:pt x="1165" y="29"/>
                    </a:lnTo>
                    <a:lnTo>
                      <a:pt x="1174" y="19"/>
                    </a:lnTo>
                    <a:lnTo>
                      <a:pt x="1184" y="13"/>
                    </a:lnTo>
                    <a:lnTo>
                      <a:pt x="1194" y="7"/>
                    </a:lnTo>
                    <a:lnTo>
                      <a:pt x="1206" y="0"/>
                    </a:lnTo>
                    <a:lnTo>
                      <a:pt x="121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1303200" y="5303880"/>
                <a:ext cx="595440" cy="996840"/>
              </a:xfrm>
              <a:custGeom>
                <a:avLst/>
                <a:gdLst/>
                <a:ahLst/>
                <a:rect l="l" t="t" r="r" b="b"/>
                <a:pathLst>
                  <a:path w="375" h="628">
                    <a:moveTo>
                      <a:pt x="226" y="5"/>
                    </a:moveTo>
                    <a:lnTo>
                      <a:pt x="218" y="0"/>
                    </a:lnTo>
                    <a:lnTo>
                      <a:pt x="208" y="6"/>
                    </a:lnTo>
                    <a:lnTo>
                      <a:pt x="198" y="13"/>
                    </a:lnTo>
                    <a:lnTo>
                      <a:pt x="186" y="19"/>
                    </a:lnTo>
                    <a:lnTo>
                      <a:pt x="176" y="29"/>
                    </a:lnTo>
                    <a:lnTo>
                      <a:pt x="166" y="32"/>
                    </a:lnTo>
                    <a:lnTo>
                      <a:pt x="154" y="35"/>
                    </a:lnTo>
                    <a:lnTo>
                      <a:pt x="144" y="38"/>
                    </a:lnTo>
                    <a:lnTo>
                      <a:pt x="134" y="42"/>
                    </a:lnTo>
                    <a:lnTo>
                      <a:pt x="122" y="48"/>
                    </a:lnTo>
                    <a:lnTo>
                      <a:pt x="112" y="51"/>
                    </a:lnTo>
                    <a:lnTo>
                      <a:pt x="102" y="58"/>
                    </a:lnTo>
                    <a:lnTo>
                      <a:pt x="90" y="67"/>
                    </a:lnTo>
                    <a:lnTo>
                      <a:pt x="80" y="74"/>
                    </a:lnTo>
                    <a:lnTo>
                      <a:pt x="70" y="83"/>
                    </a:lnTo>
                    <a:lnTo>
                      <a:pt x="67" y="93"/>
                    </a:lnTo>
                    <a:lnTo>
                      <a:pt x="64" y="106"/>
                    </a:lnTo>
                    <a:lnTo>
                      <a:pt x="64" y="131"/>
                    </a:lnTo>
                    <a:lnTo>
                      <a:pt x="64" y="141"/>
                    </a:lnTo>
                    <a:lnTo>
                      <a:pt x="64" y="154"/>
                    </a:lnTo>
                    <a:lnTo>
                      <a:pt x="58" y="166"/>
                    </a:lnTo>
                    <a:lnTo>
                      <a:pt x="54" y="176"/>
                    </a:lnTo>
                    <a:lnTo>
                      <a:pt x="48" y="186"/>
                    </a:lnTo>
                    <a:lnTo>
                      <a:pt x="42" y="198"/>
                    </a:lnTo>
                    <a:lnTo>
                      <a:pt x="38" y="208"/>
                    </a:lnTo>
                    <a:lnTo>
                      <a:pt x="35" y="218"/>
                    </a:lnTo>
                    <a:lnTo>
                      <a:pt x="32" y="230"/>
                    </a:lnTo>
                    <a:lnTo>
                      <a:pt x="32" y="240"/>
                    </a:lnTo>
                    <a:lnTo>
                      <a:pt x="29" y="250"/>
                    </a:lnTo>
                    <a:lnTo>
                      <a:pt x="26" y="262"/>
                    </a:lnTo>
                    <a:lnTo>
                      <a:pt x="22" y="272"/>
                    </a:lnTo>
                    <a:lnTo>
                      <a:pt x="22" y="282"/>
                    </a:lnTo>
                    <a:lnTo>
                      <a:pt x="19" y="294"/>
                    </a:lnTo>
                    <a:lnTo>
                      <a:pt x="19" y="304"/>
                    </a:lnTo>
                    <a:lnTo>
                      <a:pt x="16" y="330"/>
                    </a:lnTo>
                    <a:lnTo>
                      <a:pt x="13" y="358"/>
                    </a:lnTo>
                    <a:lnTo>
                      <a:pt x="13" y="368"/>
                    </a:lnTo>
                    <a:lnTo>
                      <a:pt x="10" y="394"/>
                    </a:lnTo>
                    <a:lnTo>
                      <a:pt x="10" y="422"/>
                    </a:lnTo>
                    <a:lnTo>
                      <a:pt x="6" y="432"/>
                    </a:lnTo>
                    <a:lnTo>
                      <a:pt x="6" y="454"/>
                    </a:lnTo>
                    <a:lnTo>
                      <a:pt x="3" y="464"/>
                    </a:lnTo>
                    <a:lnTo>
                      <a:pt x="3" y="486"/>
                    </a:lnTo>
                    <a:lnTo>
                      <a:pt x="0" y="496"/>
                    </a:lnTo>
                    <a:lnTo>
                      <a:pt x="0" y="506"/>
                    </a:lnTo>
                    <a:lnTo>
                      <a:pt x="10" y="512"/>
                    </a:lnTo>
                    <a:lnTo>
                      <a:pt x="16" y="522"/>
                    </a:lnTo>
                    <a:lnTo>
                      <a:pt x="22" y="534"/>
                    </a:lnTo>
                    <a:lnTo>
                      <a:pt x="32" y="544"/>
                    </a:lnTo>
                    <a:lnTo>
                      <a:pt x="42" y="550"/>
                    </a:lnTo>
                    <a:lnTo>
                      <a:pt x="54" y="554"/>
                    </a:lnTo>
                    <a:lnTo>
                      <a:pt x="64" y="560"/>
                    </a:lnTo>
                    <a:lnTo>
                      <a:pt x="74" y="566"/>
                    </a:lnTo>
                    <a:lnTo>
                      <a:pt x="86" y="570"/>
                    </a:lnTo>
                    <a:lnTo>
                      <a:pt x="96" y="576"/>
                    </a:lnTo>
                    <a:lnTo>
                      <a:pt x="106" y="579"/>
                    </a:lnTo>
                    <a:lnTo>
                      <a:pt x="118" y="586"/>
                    </a:lnTo>
                    <a:lnTo>
                      <a:pt x="128" y="589"/>
                    </a:lnTo>
                    <a:lnTo>
                      <a:pt x="138" y="595"/>
                    </a:lnTo>
                    <a:lnTo>
                      <a:pt x="150" y="598"/>
                    </a:lnTo>
                    <a:lnTo>
                      <a:pt x="160" y="602"/>
                    </a:lnTo>
                    <a:lnTo>
                      <a:pt x="170" y="605"/>
                    </a:lnTo>
                    <a:lnTo>
                      <a:pt x="182" y="608"/>
                    </a:lnTo>
                    <a:lnTo>
                      <a:pt x="192" y="611"/>
                    </a:lnTo>
                    <a:lnTo>
                      <a:pt x="202" y="614"/>
                    </a:lnTo>
                    <a:lnTo>
                      <a:pt x="214" y="621"/>
                    </a:lnTo>
                    <a:lnTo>
                      <a:pt x="224" y="624"/>
                    </a:lnTo>
                    <a:lnTo>
                      <a:pt x="234" y="624"/>
                    </a:lnTo>
                    <a:lnTo>
                      <a:pt x="246" y="627"/>
                    </a:lnTo>
                    <a:lnTo>
                      <a:pt x="256" y="627"/>
                    </a:lnTo>
                    <a:lnTo>
                      <a:pt x="266" y="627"/>
                    </a:lnTo>
                    <a:lnTo>
                      <a:pt x="278" y="627"/>
                    </a:lnTo>
                    <a:lnTo>
                      <a:pt x="288" y="627"/>
                    </a:lnTo>
                    <a:lnTo>
                      <a:pt x="298" y="627"/>
                    </a:lnTo>
                    <a:lnTo>
                      <a:pt x="310" y="627"/>
                    </a:lnTo>
                    <a:lnTo>
                      <a:pt x="320" y="627"/>
                    </a:lnTo>
                    <a:lnTo>
                      <a:pt x="330" y="627"/>
                    </a:lnTo>
                    <a:lnTo>
                      <a:pt x="342" y="621"/>
                    </a:lnTo>
                    <a:lnTo>
                      <a:pt x="349" y="611"/>
                    </a:lnTo>
                    <a:lnTo>
                      <a:pt x="355" y="598"/>
                    </a:lnTo>
                    <a:lnTo>
                      <a:pt x="358" y="586"/>
                    </a:lnTo>
                    <a:lnTo>
                      <a:pt x="358" y="576"/>
                    </a:lnTo>
                    <a:lnTo>
                      <a:pt x="358" y="566"/>
                    </a:lnTo>
                    <a:lnTo>
                      <a:pt x="362" y="554"/>
                    </a:lnTo>
                    <a:lnTo>
                      <a:pt x="362" y="544"/>
                    </a:lnTo>
                    <a:lnTo>
                      <a:pt x="362" y="534"/>
                    </a:lnTo>
                    <a:lnTo>
                      <a:pt x="362" y="522"/>
                    </a:lnTo>
                    <a:lnTo>
                      <a:pt x="365" y="512"/>
                    </a:lnTo>
                    <a:lnTo>
                      <a:pt x="365" y="502"/>
                    </a:lnTo>
                    <a:lnTo>
                      <a:pt x="368" y="477"/>
                    </a:lnTo>
                    <a:lnTo>
                      <a:pt x="368" y="467"/>
                    </a:lnTo>
                    <a:lnTo>
                      <a:pt x="368" y="454"/>
                    </a:lnTo>
                    <a:lnTo>
                      <a:pt x="368" y="442"/>
                    </a:lnTo>
                    <a:lnTo>
                      <a:pt x="368" y="432"/>
                    </a:lnTo>
                    <a:lnTo>
                      <a:pt x="371" y="422"/>
                    </a:lnTo>
                    <a:lnTo>
                      <a:pt x="371" y="410"/>
                    </a:lnTo>
                    <a:lnTo>
                      <a:pt x="374" y="381"/>
                    </a:lnTo>
                    <a:lnTo>
                      <a:pt x="374" y="371"/>
                    </a:lnTo>
                    <a:lnTo>
                      <a:pt x="374" y="358"/>
                    </a:lnTo>
                    <a:lnTo>
                      <a:pt x="374" y="346"/>
                    </a:lnTo>
                    <a:lnTo>
                      <a:pt x="374" y="336"/>
                    </a:lnTo>
                    <a:lnTo>
                      <a:pt x="374" y="326"/>
                    </a:lnTo>
                    <a:lnTo>
                      <a:pt x="371" y="298"/>
                    </a:lnTo>
                    <a:lnTo>
                      <a:pt x="371" y="288"/>
                    </a:lnTo>
                    <a:lnTo>
                      <a:pt x="368" y="278"/>
                    </a:lnTo>
                    <a:lnTo>
                      <a:pt x="365" y="266"/>
                    </a:lnTo>
                    <a:lnTo>
                      <a:pt x="362" y="256"/>
                    </a:lnTo>
                    <a:lnTo>
                      <a:pt x="358" y="246"/>
                    </a:lnTo>
                    <a:lnTo>
                      <a:pt x="355" y="234"/>
                    </a:lnTo>
                    <a:lnTo>
                      <a:pt x="352" y="224"/>
                    </a:lnTo>
                    <a:lnTo>
                      <a:pt x="346" y="214"/>
                    </a:lnTo>
                    <a:lnTo>
                      <a:pt x="336" y="202"/>
                    </a:lnTo>
                    <a:lnTo>
                      <a:pt x="330" y="192"/>
                    </a:lnTo>
                    <a:lnTo>
                      <a:pt x="320" y="182"/>
                    </a:lnTo>
                    <a:lnTo>
                      <a:pt x="314" y="170"/>
                    </a:lnTo>
                    <a:lnTo>
                      <a:pt x="307" y="160"/>
                    </a:lnTo>
                    <a:lnTo>
                      <a:pt x="304" y="150"/>
                    </a:lnTo>
                    <a:lnTo>
                      <a:pt x="294" y="141"/>
                    </a:lnTo>
                    <a:lnTo>
                      <a:pt x="291" y="131"/>
                    </a:lnTo>
                    <a:lnTo>
                      <a:pt x="285" y="118"/>
                    </a:lnTo>
                    <a:lnTo>
                      <a:pt x="278" y="90"/>
                    </a:lnTo>
                    <a:lnTo>
                      <a:pt x="272" y="80"/>
                    </a:lnTo>
                    <a:lnTo>
                      <a:pt x="269" y="70"/>
                    </a:lnTo>
                    <a:lnTo>
                      <a:pt x="259" y="58"/>
                    </a:lnTo>
                    <a:lnTo>
                      <a:pt x="253" y="48"/>
                    </a:lnTo>
                    <a:lnTo>
                      <a:pt x="246" y="38"/>
                    </a:lnTo>
                    <a:lnTo>
                      <a:pt x="240" y="26"/>
                    </a:lnTo>
                    <a:lnTo>
                      <a:pt x="234" y="16"/>
                    </a:lnTo>
                    <a:lnTo>
                      <a:pt x="226"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2836800" y="2387520"/>
                <a:ext cx="1779480" cy="1460520"/>
              </a:xfrm>
              <a:custGeom>
                <a:avLst/>
                <a:gdLst/>
                <a:ahLst/>
                <a:rect l="l" t="t" r="r" b="b"/>
                <a:pathLst>
                  <a:path w="1121" h="920">
                    <a:moveTo>
                      <a:pt x="0" y="83"/>
                    </a:moveTo>
                    <a:lnTo>
                      <a:pt x="10" y="83"/>
                    </a:lnTo>
                    <a:lnTo>
                      <a:pt x="20" y="74"/>
                    </a:lnTo>
                    <a:lnTo>
                      <a:pt x="32" y="71"/>
                    </a:lnTo>
                    <a:lnTo>
                      <a:pt x="42" y="67"/>
                    </a:lnTo>
                    <a:lnTo>
                      <a:pt x="52" y="61"/>
                    </a:lnTo>
                    <a:lnTo>
                      <a:pt x="64" y="55"/>
                    </a:lnTo>
                    <a:lnTo>
                      <a:pt x="74" y="55"/>
                    </a:lnTo>
                    <a:lnTo>
                      <a:pt x="84" y="58"/>
                    </a:lnTo>
                    <a:lnTo>
                      <a:pt x="96" y="58"/>
                    </a:lnTo>
                    <a:lnTo>
                      <a:pt x="106" y="58"/>
                    </a:lnTo>
                    <a:lnTo>
                      <a:pt x="116" y="55"/>
                    </a:lnTo>
                    <a:lnTo>
                      <a:pt x="128" y="48"/>
                    </a:lnTo>
                    <a:lnTo>
                      <a:pt x="138" y="45"/>
                    </a:lnTo>
                    <a:lnTo>
                      <a:pt x="148" y="45"/>
                    </a:lnTo>
                    <a:lnTo>
                      <a:pt x="160" y="42"/>
                    </a:lnTo>
                    <a:lnTo>
                      <a:pt x="170" y="39"/>
                    </a:lnTo>
                    <a:lnTo>
                      <a:pt x="180" y="35"/>
                    </a:lnTo>
                    <a:lnTo>
                      <a:pt x="192" y="32"/>
                    </a:lnTo>
                    <a:lnTo>
                      <a:pt x="202" y="32"/>
                    </a:lnTo>
                    <a:lnTo>
                      <a:pt x="212" y="32"/>
                    </a:lnTo>
                    <a:lnTo>
                      <a:pt x="224" y="29"/>
                    </a:lnTo>
                    <a:lnTo>
                      <a:pt x="234" y="26"/>
                    </a:lnTo>
                    <a:lnTo>
                      <a:pt x="244" y="23"/>
                    </a:lnTo>
                    <a:lnTo>
                      <a:pt x="256" y="19"/>
                    </a:lnTo>
                    <a:lnTo>
                      <a:pt x="266" y="16"/>
                    </a:lnTo>
                    <a:lnTo>
                      <a:pt x="276" y="16"/>
                    </a:lnTo>
                    <a:lnTo>
                      <a:pt x="288" y="10"/>
                    </a:lnTo>
                    <a:lnTo>
                      <a:pt x="298" y="7"/>
                    </a:lnTo>
                    <a:lnTo>
                      <a:pt x="308" y="0"/>
                    </a:lnTo>
                    <a:lnTo>
                      <a:pt x="320" y="0"/>
                    </a:lnTo>
                    <a:lnTo>
                      <a:pt x="330" y="0"/>
                    </a:lnTo>
                    <a:lnTo>
                      <a:pt x="340" y="0"/>
                    </a:lnTo>
                    <a:lnTo>
                      <a:pt x="352" y="0"/>
                    </a:lnTo>
                    <a:lnTo>
                      <a:pt x="362" y="0"/>
                    </a:lnTo>
                    <a:lnTo>
                      <a:pt x="372" y="3"/>
                    </a:lnTo>
                    <a:lnTo>
                      <a:pt x="384" y="7"/>
                    </a:lnTo>
                    <a:lnTo>
                      <a:pt x="394" y="10"/>
                    </a:lnTo>
                    <a:lnTo>
                      <a:pt x="404" y="10"/>
                    </a:lnTo>
                    <a:lnTo>
                      <a:pt x="410" y="23"/>
                    </a:lnTo>
                    <a:lnTo>
                      <a:pt x="420" y="29"/>
                    </a:lnTo>
                    <a:lnTo>
                      <a:pt x="429" y="39"/>
                    </a:lnTo>
                    <a:lnTo>
                      <a:pt x="439" y="48"/>
                    </a:lnTo>
                    <a:lnTo>
                      <a:pt x="448" y="58"/>
                    </a:lnTo>
                    <a:lnTo>
                      <a:pt x="458" y="64"/>
                    </a:lnTo>
                    <a:lnTo>
                      <a:pt x="468" y="67"/>
                    </a:lnTo>
                    <a:lnTo>
                      <a:pt x="480" y="67"/>
                    </a:lnTo>
                    <a:lnTo>
                      <a:pt x="490" y="64"/>
                    </a:lnTo>
                    <a:lnTo>
                      <a:pt x="500" y="61"/>
                    </a:lnTo>
                    <a:lnTo>
                      <a:pt x="512" y="58"/>
                    </a:lnTo>
                    <a:lnTo>
                      <a:pt x="522" y="58"/>
                    </a:lnTo>
                    <a:lnTo>
                      <a:pt x="532" y="58"/>
                    </a:lnTo>
                    <a:lnTo>
                      <a:pt x="544" y="55"/>
                    </a:lnTo>
                    <a:lnTo>
                      <a:pt x="554" y="55"/>
                    </a:lnTo>
                    <a:lnTo>
                      <a:pt x="564" y="51"/>
                    </a:lnTo>
                    <a:lnTo>
                      <a:pt x="576" y="45"/>
                    </a:lnTo>
                    <a:lnTo>
                      <a:pt x="586" y="42"/>
                    </a:lnTo>
                    <a:lnTo>
                      <a:pt x="596" y="35"/>
                    </a:lnTo>
                    <a:lnTo>
                      <a:pt x="608" y="35"/>
                    </a:lnTo>
                    <a:lnTo>
                      <a:pt x="618" y="35"/>
                    </a:lnTo>
                    <a:lnTo>
                      <a:pt x="628" y="35"/>
                    </a:lnTo>
                    <a:lnTo>
                      <a:pt x="640" y="35"/>
                    </a:lnTo>
                    <a:lnTo>
                      <a:pt x="650" y="35"/>
                    </a:lnTo>
                    <a:lnTo>
                      <a:pt x="660" y="35"/>
                    </a:lnTo>
                    <a:lnTo>
                      <a:pt x="682" y="35"/>
                    </a:lnTo>
                    <a:lnTo>
                      <a:pt x="704" y="35"/>
                    </a:lnTo>
                    <a:lnTo>
                      <a:pt x="733" y="39"/>
                    </a:lnTo>
                    <a:lnTo>
                      <a:pt x="756" y="39"/>
                    </a:lnTo>
                    <a:lnTo>
                      <a:pt x="784" y="42"/>
                    </a:lnTo>
                    <a:lnTo>
                      <a:pt x="794" y="42"/>
                    </a:lnTo>
                    <a:lnTo>
                      <a:pt x="804" y="42"/>
                    </a:lnTo>
                    <a:lnTo>
                      <a:pt x="816" y="42"/>
                    </a:lnTo>
                    <a:lnTo>
                      <a:pt x="826" y="35"/>
                    </a:lnTo>
                    <a:lnTo>
                      <a:pt x="836" y="32"/>
                    </a:lnTo>
                    <a:lnTo>
                      <a:pt x="848" y="29"/>
                    </a:lnTo>
                    <a:lnTo>
                      <a:pt x="858" y="29"/>
                    </a:lnTo>
                    <a:lnTo>
                      <a:pt x="868" y="29"/>
                    </a:lnTo>
                    <a:lnTo>
                      <a:pt x="880" y="26"/>
                    </a:lnTo>
                    <a:lnTo>
                      <a:pt x="890" y="26"/>
                    </a:lnTo>
                    <a:lnTo>
                      <a:pt x="900" y="26"/>
                    </a:lnTo>
                    <a:lnTo>
                      <a:pt x="912" y="26"/>
                    </a:lnTo>
                    <a:lnTo>
                      <a:pt x="922" y="26"/>
                    </a:lnTo>
                    <a:lnTo>
                      <a:pt x="932" y="26"/>
                    </a:lnTo>
                    <a:lnTo>
                      <a:pt x="944" y="26"/>
                    </a:lnTo>
                    <a:lnTo>
                      <a:pt x="954" y="29"/>
                    </a:lnTo>
                    <a:lnTo>
                      <a:pt x="964" y="29"/>
                    </a:lnTo>
                    <a:lnTo>
                      <a:pt x="976" y="29"/>
                    </a:lnTo>
                    <a:lnTo>
                      <a:pt x="986" y="29"/>
                    </a:lnTo>
                    <a:lnTo>
                      <a:pt x="996" y="29"/>
                    </a:lnTo>
                    <a:lnTo>
                      <a:pt x="1008" y="29"/>
                    </a:lnTo>
                    <a:lnTo>
                      <a:pt x="1018" y="26"/>
                    </a:lnTo>
                    <a:lnTo>
                      <a:pt x="1028" y="23"/>
                    </a:lnTo>
                    <a:lnTo>
                      <a:pt x="1040" y="19"/>
                    </a:lnTo>
                    <a:lnTo>
                      <a:pt x="1050" y="16"/>
                    </a:lnTo>
                    <a:lnTo>
                      <a:pt x="1060" y="16"/>
                    </a:lnTo>
                    <a:lnTo>
                      <a:pt x="1072" y="23"/>
                    </a:lnTo>
                    <a:lnTo>
                      <a:pt x="1082" y="32"/>
                    </a:lnTo>
                    <a:lnTo>
                      <a:pt x="1088" y="42"/>
                    </a:lnTo>
                    <a:lnTo>
                      <a:pt x="1095" y="55"/>
                    </a:lnTo>
                    <a:lnTo>
                      <a:pt x="1101" y="67"/>
                    </a:lnTo>
                    <a:lnTo>
                      <a:pt x="1104" y="77"/>
                    </a:lnTo>
                    <a:lnTo>
                      <a:pt x="1111" y="106"/>
                    </a:lnTo>
                    <a:lnTo>
                      <a:pt x="1114" y="119"/>
                    </a:lnTo>
                    <a:lnTo>
                      <a:pt x="1117" y="147"/>
                    </a:lnTo>
                    <a:lnTo>
                      <a:pt x="1117" y="157"/>
                    </a:lnTo>
                    <a:lnTo>
                      <a:pt x="1117" y="167"/>
                    </a:lnTo>
                    <a:lnTo>
                      <a:pt x="1117" y="179"/>
                    </a:lnTo>
                    <a:lnTo>
                      <a:pt x="1117" y="189"/>
                    </a:lnTo>
                    <a:lnTo>
                      <a:pt x="1117" y="199"/>
                    </a:lnTo>
                    <a:lnTo>
                      <a:pt x="1117" y="211"/>
                    </a:lnTo>
                    <a:lnTo>
                      <a:pt x="1117" y="221"/>
                    </a:lnTo>
                    <a:lnTo>
                      <a:pt x="1117" y="231"/>
                    </a:lnTo>
                    <a:lnTo>
                      <a:pt x="1117" y="243"/>
                    </a:lnTo>
                    <a:lnTo>
                      <a:pt x="1117" y="253"/>
                    </a:lnTo>
                    <a:lnTo>
                      <a:pt x="1117" y="263"/>
                    </a:lnTo>
                    <a:lnTo>
                      <a:pt x="1117" y="291"/>
                    </a:lnTo>
                    <a:lnTo>
                      <a:pt x="1117" y="301"/>
                    </a:lnTo>
                    <a:lnTo>
                      <a:pt x="1117" y="323"/>
                    </a:lnTo>
                    <a:lnTo>
                      <a:pt x="1114" y="349"/>
                    </a:lnTo>
                    <a:lnTo>
                      <a:pt x="1114" y="359"/>
                    </a:lnTo>
                    <a:lnTo>
                      <a:pt x="1114" y="371"/>
                    </a:lnTo>
                    <a:lnTo>
                      <a:pt x="1114" y="381"/>
                    </a:lnTo>
                    <a:lnTo>
                      <a:pt x="1114" y="391"/>
                    </a:lnTo>
                    <a:lnTo>
                      <a:pt x="1114" y="403"/>
                    </a:lnTo>
                    <a:lnTo>
                      <a:pt x="1114" y="413"/>
                    </a:lnTo>
                    <a:lnTo>
                      <a:pt x="1117" y="423"/>
                    </a:lnTo>
                    <a:lnTo>
                      <a:pt x="1117" y="435"/>
                    </a:lnTo>
                    <a:lnTo>
                      <a:pt x="1120" y="445"/>
                    </a:lnTo>
                    <a:lnTo>
                      <a:pt x="1120" y="455"/>
                    </a:lnTo>
                    <a:lnTo>
                      <a:pt x="1120" y="467"/>
                    </a:lnTo>
                    <a:lnTo>
                      <a:pt x="1120" y="477"/>
                    </a:lnTo>
                    <a:lnTo>
                      <a:pt x="1114" y="487"/>
                    </a:lnTo>
                    <a:lnTo>
                      <a:pt x="1108" y="499"/>
                    </a:lnTo>
                    <a:lnTo>
                      <a:pt x="1101" y="509"/>
                    </a:lnTo>
                    <a:lnTo>
                      <a:pt x="1095" y="519"/>
                    </a:lnTo>
                    <a:lnTo>
                      <a:pt x="1088" y="531"/>
                    </a:lnTo>
                    <a:lnTo>
                      <a:pt x="1082" y="541"/>
                    </a:lnTo>
                    <a:lnTo>
                      <a:pt x="1079" y="570"/>
                    </a:lnTo>
                    <a:lnTo>
                      <a:pt x="1072" y="583"/>
                    </a:lnTo>
                    <a:lnTo>
                      <a:pt x="1069" y="595"/>
                    </a:lnTo>
                    <a:lnTo>
                      <a:pt x="1069" y="605"/>
                    </a:lnTo>
                    <a:lnTo>
                      <a:pt x="1066" y="631"/>
                    </a:lnTo>
                    <a:lnTo>
                      <a:pt x="1063" y="643"/>
                    </a:lnTo>
                    <a:lnTo>
                      <a:pt x="1063" y="666"/>
                    </a:lnTo>
                    <a:lnTo>
                      <a:pt x="1063" y="679"/>
                    </a:lnTo>
                    <a:lnTo>
                      <a:pt x="1060" y="691"/>
                    </a:lnTo>
                    <a:lnTo>
                      <a:pt x="1060" y="701"/>
                    </a:lnTo>
                    <a:lnTo>
                      <a:pt x="1053" y="711"/>
                    </a:lnTo>
                    <a:lnTo>
                      <a:pt x="1044" y="723"/>
                    </a:lnTo>
                    <a:lnTo>
                      <a:pt x="1040" y="733"/>
                    </a:lnTo>
                    <a:lnTo>
                      <a:pt x="1034" y="743"/>
                    </a:lnTo>
                    <a:lnTo>
                      <a:pt x="1024" y="752"/>
                    </a:lnTo>
                    <a:lnTo>
                      <a:pt x="1015" y="762"/>
                    </a:lnTo>
                    <a:lnTo>
                      <a:pt x="1005" y="768"/>
                    </a:lnTo>
                    <a:lnTo>
                      <a:pt x="996" y="778"/>
                    </a:lnTo>
                    <a:lnTo>
                      <a:pt x="986" y="787"/>
                    </a:lnTo>
                    <a:lnTo>
                      <a:pt x="976" y="797"/>
                    </a:lnTo>
                    <a:lnTo>
                      <a:pt x="967" y="807"/>
                    </a:lnTo>
                    <a:lnTo>
                      <a:pt x="957" y="813"/>
                    </a:lnTo>
                    <a:lnTo>
                      <a:pt x="951" y="823"/>
                    </a:lnTo>
                    <a:lnTo>
                      <a:pt x="941" y="829"/>
                    </a:lnTo>
                    <a:lnTo>
                      <a:pt x="928" y="835"/>
                    </a:lnTo>
                    <a:lnTo>
                      <a:pt x="916" y="835"/>
                    </a:lnTo>
                    <a:lnTo>
                      <a:pt x="906" y="835"/>
                    </a:lnTo>
                    <a:lnTo>
                      <a:pt x="896" y="835"/>
                    </a:lnTo>
                    <a:lnTo>
                      <a:pt x="884" y="835"/>
                    </a:lnTo>
                    <a:lnTo>
                      <a:pt x="874" y="832"/>
                    </a:lnTo>
                    <a:lnTo>
                      <a:pt x="864" y="829"/>
                    </a:lnTo>
                    <a:lnTo>
                      <a:pt x="852" y="826"/>
                    </a:lnTo>
                    <a:lnTo>
                      <a:pt x="842" y="826"/>
                    </a:lnTo>
                    <a:lnTo>
                      <a:pt x="832" y="823"/>
                    </a:lnTo>
                    <a:lnTo>
                      <a:pt x="820" y="823"/>
                    </a:lnTo>
                    <a:lnTo>
                      <a:pt x="810" y="823"/>
                    </a:lnTo>
                    <a:lnTo>
                      <a:pt x="800" y="826"/>
                    </a:lnTo>
                    <a:lnTo>
                      <a:pt x="788" y="839"/>
                    </a:lnTo>
                    <a:lnTo>
                      <a:pt x="778" y="848"/>
                    </a:lnTo>
                    <a:lnTo>
                      <a:pt x="772" y="858"/>
                    </a:lnTo>
                    <a:lnTo>
                      <a:pt x="762" y="864"/>
                    </a:lnTo>
                    <a:lnTo>
                      <a:pt x="752" y="867"/>
                    </a:lnTo>
                    <a:lnTo>
                      <a:pt x="740" y="867"/>
                    </a:lnTo>
                    <a:lnTo>
                      <a:pt x="730" y="867"/>
                    </a:lnTo>
                    <a:lnTo>
                      <a:pt x="720" y="867"/>
                    </a:lnTo>
                    <a:lnTo>
                      <a:pt x="708" y="871"/>
                    </a:lnTo>
                    <a:lnTo>
                      <a:pt x="698" y="874"/>
                    </a:lnTo>
                    <a:lnTo>
                      <a:pt x="688" y="883"/>
                    </a:lnTo>
                    <a:lnTo>
                      <a:pt x="676" y="893"/>
                    </a:lnTo>
                    <a:lnTo>
                      <a:pt x="666" y="899"/>
                    </a:lnTo>
                    <a:lnTo>
                      <a:pt x="656" y="906"/>
                    </a:lnTo>
                    <a:lnTo>
                      <a:pt x="644" y="912"/>
                    </a:lnTo>
                    <a:lnTo>
                      <a:pt x="634" y="915"/>
                    </a:lnTo>
                    <a:lnTo>
                      <a:pt x="624" y="91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rot="16740000">
                <a:off x="1426320" y="1400760"/>
                <a:ext cx="1041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s h e r</a:t>
                </a:r>
                <a:endParaRPr b="0" lang="en-US" sz="1800" spc="-1" strike="noStrike">
                  <a:solidFill>
                    <a:srgbClr val="ffffff"/>
                  </a:solidFill>
                  <a:latin typeface="Times New Roman"/>
                </a:endParaRPr>
              </a:p>
            </p:txBody>
          </p:sp>
          <p:sp>
            <p:nvSpPr>
              <p:cNvPr id="468" name=""/>
              <p:cNvSpPr/>
              <p:nvPr/>
            </p:nvSpPr>
            <p:spPr>
              <a:xfrm rot="16740000">
                <a:off x="1101600" y="561168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imeon</a:t>
                </a:r>
                <a:endParaRPr b="0" lang="en-US" sz="1600" spc="-1" strike="noStrike">
                  <a:solidFill>
                    <a:srgbClr val="ffffff"/>
                  </a:solidFill>
                  <a:latin typeface="Times New Roman"/>
                </a:endParaRPr>
              </a:p>
            </p:txBody>
          </p:sp>
          <p:sp>
            <p:nvSpPr>
              <p:cNvPr id="469" name=""/>
              <p:cNvSpPr/>
              <p:nvPr/>
            </p:nvSpPr>
            <p:spPr>
              <a:xfrm rot="18060000">
                <a:off x="1902600" y="1467360"/>
                <a:ext cx="109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phtali</a:t>
                </a:r>
                <a:endParaRPr b="0" lang="en-US" sz="1800" spc="-1" strike="noStrike">
                  <a:solidFill>
                    <a:srgbClr val="ffffff"/>
                  </a:solidFill>
                  <a:latin typeface="Times New Roman"/>
                </a:endParaRPr>
              </a:p>
            </p:txBody>
          </p:sp>
          <p:sp>
            <p:nvSpPr>
              <p:cNvPr id="470" name=""/>
              <p:cNvSpPr/>
              <p:nvPr/>
            </p:nvSpPr>
            <p:spPr>
              <a:xfrm rot="16740000">
                <a:off x="1702800" y="2356920"/>
                <a:ext cx="91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bulun</a:t>
                </a:r>
                <a:endParaRPr b="0" lang="en-US" sz="1600" spc="-1" strike="noStrike">
                  <a:solidFill>
                    <a:srgbClr val="ffffff"/>
                  </a:solidFill>
                  <a:latin typeface="Times New Roman"/>
                </a:endParaRPr>
              </a:p>
            </p:txBody>
          </p:sp>
          <p:sp>
            <p:nvSpPr>
              <p:cNvPr id="471" name=""/>
              <p:cNvSpPr/>
              <p:nvPr/>
            </p:nvSpPr>
            <p:spPr>
              <a:xfrm rot="16740000">
                <a:off x="2081880" y="242784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achar</a:t>
                </a:r>
                <a:endParaRPr b="0" lang="en-US" sz="1800" spc="-1" strike="noStrike">
                  <a:solidFill>
                    <a:srgbClr val="ffffff"/>
                  </a:solidFill>
                  <a:latin typeface="Times New Roman"/>
                </a:endParaRPr>
              </a:p>
            </p:txBody>
          </p:sp>
          <p:sp>
            <p:nvSpPr>
              <p:cNvPr id="472" name=""/>
              <p:cNvSpPr/>
              <p:nvPr/>
            </p:nvSpPr>
            <p:spPr>
              <a:xfrm>
                <a:off x="1782000" y="3892680"/>
                <a:ext cx="1039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Ephraim</a:t>
                </a:r>
                <a:endParaRPr b="0" lang="en-US" sz="1700" spc="-1" strike="noStrike">
                  <a:solidFill>
                    <a:srgbClr val="ffffff"/>
                  </a:solidFill>
                  <a:latin typeface="Times New Roman"/>
                </a:endParaRPr>
              </a:p>
            </p:txBody>
          </p:sp>
          <p:sp>
            <p:nvSpPr>
              <p:cNvPr id="473" name=""/>
              <p:cNvSpPr/>
              <p:nvPr/>
            </p:nvSpPr>
            <p:spPr>
              <a:xfrm>
                <a:off x="2014200" y="314172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 a n a s s e h</a:t>
                </a:r>
                <a:endParaRPr b="0" lang="en-US" sz="1800" spc="-1" strike="noStrike">
                  <a:solidFill>
                    <a:srgbClr val="ffffff"/>
                  </a:solidFill>
                  <a:latin typeface="Times New Roman"/>
                </a:endParaRPr>
              </a:p>
            </p:txBody>
          </p:sp>
          <p:sp>
            <p:nvSpPr>
              <p:cNvPr id="474" name=""/>
              <p:cNvSpPr/>
              <p:nvPr/>
            </p:nvSpPr>
            <p:spPr>
              <a:xfrm>
                <a:off x="3064680" y="3778200"/>
                <a:ext cx="73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 a d</a:t>
                </a:r>
                <a:endParaRPr b="0" lang="en-US" sz="1800" spc="-1" strike="noStrike">
                  <a:solidFill>
                    <a:srgbClr val="ffffff"/>
                  </a:solidFill>
                  <a:latin typeface="Times New Roman"/>
                </a:endParaRPr>
              </a:p>
            </p:txBody>
          </p:sp>
          <p:sp>
            <p:nvSpPr>
              <p:cNvPr id="475" name=""/>
              <p:cNvSpPr/>
              <p:nvPr/>
            </p:nvSpPr>
            <p:spPr>
              <a:xfrm>
                <a:off x="1295640" y="4181400"/>
                <a:ext cx="61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a:t>
                </a:r>
                <a:endParaRPr b="0" lang="en-US" sz="1800" spc="-1" strike="noStrike">
                  <a:solidFill>
                    <a:srgbClr val="ffffff"/>
                  </a:solidFill>
                  <a:latin typeface="Times New Roman"/>
                </a:endParaRPr>
              </a:p>
            </p:txBody>
          </p:sp>
          <p:sp>
            <p:nvSpPr>
              <p:cNvPr id="476" name=""/>
              <p:cNvSpPr/>
              <p:nvPr/>
            </p:nvSpPr>
            <p:spPr>
              <a:xfrm rot="18480000">
                <a:off x="3017160" y="4772880"/>
                <a:ext cx="100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uben</a:t>
                </a:r>
                <a:endParaRPr b="0" lang="en-US" sz="1800" spc="-1" strike="noStrike">
                  <a:solidFill>
                    <a:srgbClr val="ffffff"/>
                  </a:solidFill>
                  <a:latin typeface="Times New Roman"/>
                </a:endParaRPr>
              </a:p>
            </p:txBody>
          </p:sp>
          <p:sp>
            <p:nvSpPr>
              <p:cNvPr id="477" name=""/>
              <p:cNvSpPr/>
              <p:nvPr/>
            </p:nvSpPr>
            <p:spPr>
              <a:xfrm rot="20760000">
                <a:off x="1676880" y="489852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 u d a h</a:t>
                </a:r>
                <a:endParaRPr b="0" lang="en-US" sz="1800" spc="-1" strike="noStrike">
                  <a:solidFill>
                    <a:srgbClr val="ffffff"/>
                  </a:solidFill>
                  <a:latin typeface="Times New Roman"/>
                </a:endParaRPr>
              </a:p>
            </p:txBody>
          </p:sp>
          <p:sp>
            <p:nvSpPr>
              <p:cNvPr id="478" name=""/>
              <p:cNvSpPr/>
              <p:nvPr/>
            </p:nvSpPr>
            <p:spPr>
              <a:xfrm>
                <a:off x="2076480" y="4307040"/>
                <a:ext cx="1028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njamin</a:t>
                </a:r>
                <a:endParaRPr b="0" lang="en-US" sz="1600" spc="-1" strike="noStrike">
                  <a:solidFill>
                    <a:srgbClr val="ffffff"/>
                  </a:solidFill>
                  <a:latin typeface="Times New Roman"/>
                </a:endParaRPr>
              </a:p>
            </p:txBody>
          </p:sp>
          <p:sp>
            <p:nvSpPr>
              <p:cNvPr id="479" name=""/>
              <p:cNvSpPr/>
              <p:nvPr/>
            </p:nvSpPr>
            <p:spPr>
              <a:xfrm>
                <a:off x="2532240" y="46292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480" name=""/>
              <p:cNvSpPr/>
              <p:nvPr/>
            </p:nvSpPr>
            <p:spPr>
              <a:xfrm>
                <a:off x="2154960" y="4645080"/>
                <a:ext cx="806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usalem</a:t>
                </a:r>
                <a:endParaRPr b="0" lang="en-US" sz="1000" spc="-1" strike="noStrike">
                  <a:solidFill>
                    <a:srgbClr val="ffffff"/>
                  </a:solidFill>
                  <a:latin typeface="Times New Roman"/>
                </a:endParaRPr>
              </a:p>
            </p:txBody>
          </p:sp>
          <p:sp>
            <p:nvSpPr>
              <p:cNvPr id="481" name=""/>
              <p:cNvSpPr/>
              <p:nvPr/>
            </p:nvSpPr>
            <p:spPr>
              <a:xfrm rot="16680000">
                <a:off x="2494440" y="5027400"/>
                <a:ext cx="98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Times New Roman"/>
                </a:endParaRPr>
              </a:p>
            </p:txBody>
          </p:sp>
          <p:sp>
            <p:nvSpPr>
              <p:cNvPr id="482" name=""/>
              <p:cNvSpPr/>
              <p:nvPr/>
            </p:nvSpPr>
            <p:spPr>
              <a:xfrm rot="16500000">
                <a:off x="2564280" y="211896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Times New Roman"/>
                </a:endParaRPr>
              </a:p>
            </p:txBody>
          </p:sp>
          <p:sp>
            <p:nvSpPr>
              <p:cNvPr id="483" name=""/>
              <p:cNvSpPr/>
              <p:nvPr/>
            </p:nvSpPr>
            <p:spPr>
              <a:xfrm rot="16200000">
                <a:off x="2508120" y="3544200"/>
                <a:ext cx="69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Times New Roman"/>
                </a:endParaRPr>
              </a:p>
            </p:txBody>
          </p:sp>
          <p:sp>
            <p:nvSpPr>
              <p:cNvPr id="484" name=""/>
              <p:cNvSpPr/>
              <p:nvPr/>
            </p:nvSpPr>
            <p:spPr>
              <a:xfrm rot="16200000">
                <a:off x="2557080" y="2933280"/>
                <a:ext cx="56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Times New Roman"/>
                </a:endParaRPr>
              </a:p>
            </p:txBody>
          </p:sp>
          <p:sp>
            <p:nvSpPr>
              <p:cNvPr id="485" name=""/>
              <p:cNvSpPr/>
              <p:nvPr/>
            </p:nvSpPr>
            <p:spPr>
              <a:xfrm>
                <a:off x="2820960" y="45338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486" name=""/>
              <p:cNvSpPr/>
              <p:nvPr/>
            </p:nvSpPr>
            <p:spPr>
              <a:xfrm>
                <a:off x="2571480" y="4548240"/>
                <a:ext cx="6310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icho</a:t>
                </a:r>
                <a:endParaRPr b="0" lang="en-US" sz="1000" spc="-1" strike="noStrike">
                  <a:solidFill>
                    <a:srgbClr val="ffffff"/>
                  </a:solidFill>
                  <a:latin typeface="Times New Roman"/>
                </a:endParaRPr>
              </a:p>
            </p:txBody>
          </p:sp>
          <p:sp>
            <p:nvSpPr>
              <p:cNvPr id="487" name=""/>
              <p:cNvSpPr/>
              <p:nvPr/>
            </p:nvSpPr>
            <p:spPr>
              <a:xfrm>
                <a:off x="3411360" y="4675320"/>
                <a:ext cx="59040" cy="79200"/>
              </a:xfrm>
              <a:prstGeom prst="triangle">
                <a:avLst>
                  <a:gd name="adj" fmla="val 49995"/>
                </a:avLst>
              </a:prstGeom>
              <a:solidFill>
                <a:srgbClr val="ff5008"/>
              </a:solidFill>
              <a:ln w="12600">
                <a:solidFill>
                  <a:srgbClr val="ff5008"/>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488" name=""/>
              <p:cNvSpPr/>
              <p:nvPr/>
            </p:nvSpPr>
            <p:spPr>
              <a:xfrm>
                <a:off x="3084840" y="4548240"/>
                <a:ext cx="681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t.Nebo</a:t>
                </a:r>
                <a:endParaRPr b="0" lang="en-US" sz="1000" spc="-1" strike="noStrike">
                  <a:solidFill>
                    <a:srgbClr val="ffffff"/>
                  </a:solidFill>
                  <a:latin typeface="Times New Roman"/>
                </a:endParaRPr>
              </a:p>
            </p:txBody>
          </p:sp>
          <p:sp>
            <p:nvSpPr>
              <p:cNvPr id="489" name=""/>
              <p:cNvSpPr/>
              <p:nvPr/>
            </p:nvSpPr>
            <p:spPr>
              <a:xfrm>
                <a:off x="3360600" y="6381720"/>
                <a:ext cx="12891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PHOTO</a:t>
                </a:r>
                <a:endParaRPr b="0" lang="en-US" sz="1200" spc="-1" strike="noStrike">
                  <a:solidFill>
                    <a:srgbClr val="ffffff"/>
                  </a:solidFill>
                  <a:latin typeface="Times New Roman"/>
                </a:endParaRPr>
              </a:p>
            </p:txBody>
          </p:sp>
          <p:sp>
            <p:nvSpPr>
              <p:cNvPr id="490" name=""/>
              <p:cNvSpPr/>
              <p:nvPr/>
            </p:nvSpPr>
            <p:spPr>
              <a:xfrm>
                <a:off x="3295800" y="6173640"/>
                <a:ext cx="15793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BibleTeacher.com  </a:t>
                </a:r>
                <a:endParaRPr b="0" lang="en-US" sz="1000" spc="-1" strike="noStrike">
                  <a:solidFill>
                    <a:srgbClr val="ffffff"/>
                  </a:solidFill>
                  <a:latin typeface="Times New Roman"/>
                </a:endParaRPr>
              </a:p>
            </p:txBody>
          </p:sp>
          <p:sp>
            <p:nvSpPr>
              <p:cNvPr id="491" name=""/>
              <p:cNvSpPr/>
              <p:nvPr/>
            </p:nvSpPr>
            <p:spPr>
              <a:xfrm>
                <a:off x="3103560" y="127080"/>
                <a:ext cx="1519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12 Trib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of Israel</a:t>
                </a:r>
                <a:endParaRPr b="0" lang="en-US" sz="2400" spc="-1" strike="noStrike">
                  <a:solidFill>
                    <a:srgbClr val="ffffff"/>
                  </a:solidFill>
                  <a:latin typeface="Times New Roman"/>
                </a:endParaRPr>
              </a:p>
            </p:txBody>
          </p:sp>
          <p:grpSp>
            <p:nvGrpSpPr>
              <p:cNvPr id="492" name=""/>
              <p:cNvGrpSpPr/>
              <p:nvPr/>
            </p:nvGrpSpPr>
            <p:grpSpPr>
              <a:xfrm>
                <a:off x="4726080" y="230040"/>
                <a:ext cx="4340160" cy="5862960"/>
                <a:chOff x="4726080" y="230040"/>
                <a:chExt cx="4340160" cy="5862960"/>
              </a:xfrm>
            </p:grpSpPr>
            <p:sp>
              <p:nvSpPr>
                <p:cNvPr id="493" name=""/>
                <p:cNvSpPr/>
                <p:nvPr/>
              </p:nvSpPr>
              <p:spPr>
                <a:xfrm>
                  <a:off x="4726080" y="230040"/>
                  <a:ext cx="4340160" cy="1429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Twelve Tribes of Israel</a:t>
                  </a:r>
                  <a:endParaRPr b="0" lang="en-US" sz="4400" spc="-1" strike="noStrike">
                    <a:solidFill>
                      <a:srgbClr val="ffffff"/>
                    </a:solidFill>
                    <a:latin typeface="Times New Roman"/>
                  </a:endParaRPr>
                </a:p>
              </p:txBody>
            </p:sp>
            <p:sp>
              <p:nvSpPr>
                <p:cNvPr id="494" name=""/>
                <p:cNvSpPr/>
                <p:nvPr/>
              </p:nvSpPr>
              <p:spPr>
                <a:xfrm>
                  <a:off x="4878360" y="1982880"/>
                  <a:ext cx="4187880" cy="4110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sseh  Asher</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phtali     Zebulun</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sachar     Gad</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hraim     Dan</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jamin   Reuben</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eon      Judah</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sp>
          <p:nvSpPr>
            <p:cNvPr id="495" name=""/>
            <p:cNvSpPr/>
            <p:nvPr/>
          </p:nvSpPr>
          <p:spPr>
            <a:xfrm rot="17160000">
              <a:off x="-506160" y="202212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224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Times New Roman"/>
              </a:rPr>
              <a:t>Program Tips</a:t>
            </a:r>
            <a:endParaRPr b="1" lang="en-US" sz="5400" spc="-1" strike="noStrike" u="sng">
              <a:solidFill>
                <a:srgbClr val="c0fef9"/>
              </a:solidFill>
              <a:uFillTx/>
              <a:latin typeface="Times New Roman"/>
            </a:endParaRPr>
          </a:p>
        </p:txBody>
      </p:sp>
      <p:sp>
        <p:nvSpPr>
          <p:cNvPr id="89" name="PlaceHolder 2"/>
          <p:cNvSpPr>
            <a:spLocks noGrp="1"/>
          </p:cNvSpPr>
          <p:nvPr>
            <p:ph/>
          </p:nvPr>
        </p:nvSpPr>
        <p:spPr>
          <a:xfrm>
            <a:off x="280800" y="1066680"/>
            <a:ext cx="8615160" cy="4114800"/>
          </a:xfrm>
          <a:prstGeom prst="rect">
            <a:avLst/>
          </a:prstGeom>
          <a:noFill/>
          <a:ln w="0">
            <a:noFill/>
          </a:ln>
        </p:spPr>
        <p:txBody>
          <a:bodyPr lIns="90360" rIns="90360" tIns="44280" bIns="44280" anchor="t">
            <a:normAutofit fontScale="86000"/>
          </a:bodyPr>
          <a:p>
            <a:pPr marL="294840" indent="-294840">
              <a:lnSpc>
                <a:spcPct val="95000"/>
              </a:lnSpc>
              <a:spcBef>
                <a:spcPts val="6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Narrow"/>
              </a:rPr>
              <a:t>INTERACTIVE MAPS</a:t>
            </a:r>
            <a:r>
              <a:rPr b="0" lang="en-US" sz="2400" spc="-1" strike="noStrike">
                <a:solidFill>
                  <a:srgbClr val="ffffff"/>
                </a:solidFill>
                <a:latin typeface="Arial Narrow"/>
              </a:rPr>
              <a:t>: When run in the “presentation” mode, this map set is </a:t>
            </a:r>
            <a:r>
              <a:rPr b="0" i="1" lang="en-US" sz="2400" spc="-1" strike="noStrike">
                <a:solidFill>
                  <a:srgbClr val="ffffff"/>
                </a:solidFill>
                <a:latin typeface="Arial Narrow"/>
              </a:rPr>
              <a:t>interactive</a:t>
            </a:r>
            <a:r>
              <a:rPr b="0" lang="en-US" sz="2400" spc="-1" strike="noStrike">
                <a:solidFill>
                  <a:srgbClr val="ffffff"/>
                </a:solidFill>
                <a:latin typeface="Arial Narrow"/>
              </a:rPr>
              <a:t>.  That is, the index is </a:t>
            </a:r>
            <a:r>
              <a:rPr b="0" i="1" lang="en-US" sz="2400" spc="-1" strike="noStrike">
                <a:solidFill>
                  <a:srgbClr val="ffffff"/>
                </a:solidFill>
                <a:latin typeface="Arial Narrow"/>
              </a:rPr>
              <a:t>hotlinked</a:t>
            </a:r>
            <a:r>
              <a:rPr b="0" lang="en-US" sz="2400" spc="-1" strike="noStrike">
                <a:solidFill>
                  <a:srgbClr val="ffffff"/>
                </a:solidFill>
                <a:latin typeface="Arial Narrow"/>
              </a:rPr>
              <a:t> to the maps.  This allows you to simply click on a map in the index &amp; instantly jump to that map set.  To go into interactive presentation mode simply click on the presentations icon         at the bottom left hand corner of the screen or pick “</a:t>
            </a:r>
            <a:r>
              <a:rPr b="0" lang="en-US" sz="2400" spc="-1" strike="noStrike">
                <a:solidFill>
                  <a:srgbClr val="fafd00"/>
                </a:solidFill>
                <a:latin typeface="Arial Narrow"/>
              </a:rPr>
              <a:t>Slide Show/Play</a:t>
            </a:r>
            <a:r>
              <a:rPr b="0" lang="en-US" sz="2400" spc="-1" strike="noStrike">
                <a:solidFill>
                  <a:srgbClr val="ffffff"/>
                </a:solidFill>
                <a:latin typeface="Arial Narrow"/>
              </a:rPr>
              <a:t>” from the menu bar.  Click on “</a:t>
            </a:r>
            <a:r>
              <a:rPr b="0" lang="en-US" sz="2400" spc="-1" strike="noStrike">
                <a:solidFill>
                  <a:srgbClr val="fafd00"/>
                </a:solidFill>
                <a:latin typeface="Arial Narrow"/>
              </a:rPr>
              <a:t>INDEX</a:t>
            </a:r>
            <a:r>
              <a:rPr b="0" lang="en-US" sz="2400" spc="-1" strike="noStrike">
                <a:solidFill>
                  <a:srgbClr val="ffffff"/>
                </a:solidFill>
                <a:latin typeface="Arial Narrow"/>
              </a:rPr>
              <a:t>” to return.</a:t>
            </a:r>
            <a:endParaRPr b="1" lang="en-US" sz="2400" spc="-1" strike="noStrike">
              <a:solidFill>
                <a:srgbClr val="ffffff"/>
              </a:solidFill>
              <a:latin typeface="Times New Roman"/>
            </a:endParaRPr>
          </a:p>
          <a:p>
            <a:pPr marL="294840" indent="-294840">
              <a:lnSpc>
                <a:spcPct val="95000"/>
              </a:lnSpc>
              <a:spcBef>
                <a:spcPts val="6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Narrow"/>
              </a:rPr>
              <a:t>FAST KEYS</a:t>
            </a:r>
            <a:r>
              <a:rPr b="0" lang="en-US" sz="2400" spc="-1" strike="noStrike">
                <a:solidFill>
                  <a:srgbClr val="ffffff"/>
                </a:solidFill>
                <a:latin typeface="Arial Narrow"/>
              </a:rPr>
              <a:t>:  On the keyboard the “</a:t>
            </a:r>
            <a:r>
              <a:rPr b="0" lang="en-US" sz="2400" spc="-1" strike="noStrike">
                <a:solidFill>
                  <a:srgbClr val="fafd00"/>
                </a:solidFill>
                <a:latin typeface="Arial Narrow"/>
              </a:rPr>
              <a:t>Home</a:t>
            </a:r>
            <a:r>
              <a:rPr b="0" lang="en-US" sz="2400" spc="-1" strike="noStrike">
                <a:solidFill>
                  <a:srgbClr val="ffffff"/>
                </a:solidFill>
                <a:latin typeface="Arial Narrow"/>
              </a:rPr>
              <a:t>” key takes you to the first slide, the “</a:t>
            </a:r>
            <a:r>
              <a:rPr b="0" lang="en-US" sz="2400" spc="-1" strike="noStrike">
                <a:solidFill>
                  <a:srgbClr val="fafd00"/>
                </a:solidFill>
                <a:latin typeface="Arial Narrow"/>
              </a:rPr>
              <a:t>End</a:t>
            </a:r>
            <a:r>
              <a:rPr b="0" lang="en-US" sz="2400" spc="-1" strike="noStrike">
                <a:solidFill>
                  <a:srgbClr val="ffffff"/>
                </a:solidFill>
                <a:latin typeface="Arial Narrow"/>
              </a:rPr>
              <a:t>” key goes to last slide, “</a:t>
            </a:r>
            <a:r>
              <a:rPr b="0" lang="en-US" sz="2400" spc="-1" strike="noStrike">
                <a:solidFill>
                  <a:srgbClr val="fafd00"/>
                </a:solidFill>
                <a:latin typeface="Arial Narrow"/>
              </a:rPr>
              <a:t>PgUp</a:t>
            </a:r>
            <a:r>
              <a:rPr b="0" lang="en-US" sz="2400" spc="-1" strike="noStrike">
                <a:solidFill>
                  <a:srgbClr val="ffffff"/>
                </a:solidFill>
                <a:latin typeface="Arial Narrow"/>
              </a:rPr>
              <a:t>” &amp; “</a:t>
            </a:r>
            <a:r>
              <a:rPr b="0" lang="en-US" sz="2400" spc="-1" strike="noStrike">
                <a:solidFill>
                  <a:srgbClr val="fafd00"/>
                </a:solidFill>
                <a:latin typeface="Arial Narrow"/>
              </a:rPr>
              <a:t>PgDn</a:t>
            </a:r>
            <a:r>
              <a:rPr b="0" lang="en-US" sz="2400" spc="-1" strike="noStrike">
                <a:solidFill>
                  <a:srgbClr val="ffffff"/>
                </a:solidFill>
                <a:latin typeface="Arial Narrow"/>
              </a:rPr>
              <a:t>” keys take you forward &amp; backward one slide at a time.  To switch to another program hold down the “</a:t>
            </a:r>
            <a:r>
              <a:rPr b="0" lang="en-US" sz="2400" spc="-1" strike="noStrike">
                <a:solidFill>
                  <a:srgbClr val="fafd00"/>
                </a:solidFill>
                <a:latin typeface="Arial Narrow"/>
              </a:rPr>
              <a:t>alt</a:t>
            </a:r>
            <a:r>
              <a:rPr b="0" lang="en-US" sz="2400" spc="-1" strike="noStrike">
                <a:solidFill>
                  <a:srgbClr val="ffffff"/>
                </a:solidFill>
                <a:latin typeface="Arial Narrow"/>
              </a:rPr>
              <a:t>” key &amp; press “</a:t>
            </a:r>
            <a:r>
              <a:rPr b="0" lang="en-US" sz="2400" spc="-1" strike="noStrike">
                <a:solidFill>
                  <a:srgbClr val="fafd00"/>
                </a:solidFill>
                <a:latin typeface="Arial Narrow"/>
              </a:rPr>
              <a:t>tab</a:t>
            </a:r>
            <a:r>
              <a:rPr b="0" lang="en-US" sz="2400" spc="-1" strike="noStrike">
                <a:solidFill>
                  <a:srgbClr val="ffffff"/>
                </a:solidFill>
                <a:latin typeface="Arial Narrow"/>
              </a:rPr>
              <a:t>”.</a:t>
            </a:r>
            <a:endParaRPr b="1" lang="en-US" sz="2400" spc="-1" strike="noStrike">
              <a:solidFill>
                <a:srgbClr val="ffffff"/>
              </a:solidFill>
              <a:latin typeface="Times New Roman"/>
            </a:endParaRPr>
          </a:p>
          <a:p>
            <a:pPr marL="294840" indent="-294840">
              <a:lnSpc>
                <a:spcPct val="95000"/>
              </a:lnSpc>
              <a:spcBef>
                <a:spcPts val="6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Narrow"/>
              </a:rPr>
              <a:t>EDITING MODE</a:t>
            </a:r>
            <a:r>
              <a:rPr b="0" lang="en-US" sz="2400" spc="-1" strike="noStrike">
                <a:solidFill>
                  <a:srgbClr val="ffffff"/>
                </a:solidFill>
                <a:latin typeface="Arial Narrow"/>
              </a:rPr>
              <a:t>:  If you want to copy images into your own slide presentations then simply click on the image that you want and then cut and paste it into your own presentation.  There is no fee for this use.  A few rules do apply.  See the last slide for requirements.</a:t>
            </a:r>
            <a:endParaRPr b="1" lang="en-US" sz="2400" spc="-1" strike="noStrike">
              <a:solidFill>
                <a:srgbClr val="ffffff"/>
              </a:solidFill>
              <a:latin typeface="Times New Roman"/>
            </a:endParaRPr>
          </a:p>
        </p:txBody>
      </p:sp>
      <p:graphicFrame>
        <p:nvGraphicFramePr>
          <p:cNvPr id="90" name=""/>
          <p:cNvGraphicFramePr/>
          <p:nvPr/>
        </p:nvGraphicFramePr>
        <p:xfrm>
          <a:off x="2867040" y="2481120"/>
          <a:ext cx="395280" cy="370080"/>
        </p:xfrm>
        <a:graphic>
          <a:graphicData uri="http://schemas.openxmlformats.org/presentationml/2006/ole">
            <p:oleObj r:id="rId1" spid="">
              <p:embed/>
              <p:pic>
                <p:nvPicPr>
                  <p:cNvPr id="91" name="" descr=""/>
                  <p:cNvPicPr/>
                  <p:nvPr/>
                </p:nvPicPr>
                <p:blipFill>
                  <a:blip r:embed="rId2"/>
                  <a:stretch/>
                </p:blipFill>
                <p:spPr>
                  <a:xfrm>
                    <a:off x="2867040" y="2481120"/>
                    <a:ext cx="395280" cy="370080"/>
                  </a:xfrm>
                  <a:prstGeom prst="rect">
                    <a:avLst/>
                  </a:prstGeom>
                  <a:ln w="0">
                    <a:noFill/>
                  </a:ln>
                </p:spPr>
              </p:pic>
            </p:oleObj>
          </a:graphicData>
        </a:graphic>
      </p:graphicFrame>
      <p:sp>
        <p:nvSpPr>
          <p:cNvPr id="92"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3" action="ppaction://hlinksldjump"/>
              </a:rPr>
              <a:t>INDEX</a:t>
            </a:r>
            <a:endParaRPr b="0" lang="en-US" sz="1800" spc="-1" strike="noStrike">
              <a:solidFill>
                <a:srgbClr val="ffffff"/>
              </a:solidFill>
              <a:latin typeface="Times New Roman"/>
            </a:endParaRPr>
          </a:p>
        </p:txBody>
      </p:sp>
      <p:sp>
        <p:nvSpPr>
          <p:cNvPr id="93" name=""/>
          <p:cNvSpPr/>
          <p:nvPr/>
        </p:nvSpPr>
        <p:spPr>
          <a:xfrm>
            <a:off x="250920" y="6156360"/>
            <a:ext cx="70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Narrow"/>
              </a:rPr>
              <a:t>If while running in the interactive mode you got to this slide by accident press the “PgUp” key or click here to go back to the index :</a:t>
            </a:r>
            <a:endParaRPr b="0" lang="en-US" sz="2000" spc="-1" strike="noStrike">
              <a:solidFill>
                <a:srgbClr val="ffffff"/>
              </a:solidFill>
              <a:latin typeface="Times New Roman"/>
            </a:endParaRPr>
          </a:p>
        </p:txBody>
      </p:sp>
      <p:sp>
        <p:nvSpPr>
          <p:cNvPr id="94" name=""/>
          <p:cNvSpPr/>
          <p:nvPr/>
        </p:nvSpPr>
        <p:spPr>
          <a:xfrm>
            <a:off x="7238880" y="6515280"/>
            <a:ext cx="914400" cy="342720"/>
          </a:xfrm>
          <a:prstGeom prst="rightArrow">
            <a:avLst>
              <a:gd name="adj1" fmla="val 50000"/>
              <a:gd name="adj2" fmla="val 66702"/>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496" name=""/>
          <p:cNvGrpSpPr/>
          <p:nvPr/>
        </p:nvGrpSpPr>
        <p:grpSpPr>
          <a:xfrm>
            <a:off x="228600" y="533520"/>
            <a:ext cx="4114800" cy="5257800"/>
            <a:chOff x="228600" y="533520"/>
            <a:chExt cx="4114800" cy="5257800"/>
          </a:xfrm>
        </p:grpSpPr>
        <p:sp>
          <p:nvSpPr>
            <p:cNvPr id="497" name=""/>
            <p:cNvSpPr/>
            <p:nvPr/>
          </p:nvSpPr>
          <p:spPr>
            <a:xfrm>
              <a:off x="228600" y="533520"/>
              <a:ext cx="41148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Other Nations</a:t>
              </a:r>
              <a:endParaRPr b="0" lang="en-US" sz="4400" spc="-1" strike="noStrike">
                <a:solidFill>
                  <a:srgbClr val="ffffff"/>
                </a:solidFill>
                <a:latin typeface="Times New Roman"/>
              </a:endParaRPr>
            </a:p>
          </p:txBody>
        </p:sp>
        <p:sp>
          <p:nvSpPr>
            <p:cNvPr id="498" name=""/>
            <p:cNvSpPr/>
            <p:nvPr/>
          </p:nvSpPr>
          <p:spPr>
            <a:xfrm>
              <a:off x="380880" y="1676520"/>
              <a:ext cx="381024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anaanites</a:t>
              </a:r>
              <a:endParaRPr b="0" lang="en-US" sz="3600" spc="-1" strike="noStrike">
                <a:solidFill>
                  <a:srgbClr val="ffffff"/>
                </a:solidFill>
                <a:latin typeface="Times New Roman"/>
              </a:endParaRPr>
            </a:p>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Hittites</a:t>
              </a:r>
              <a:endParaRPr b="0" lang="en-US" sz="3600" spc="-1" strike="noStrike">
                <a:solidFill>
                  <a:srgbClr val="ffffff"/>
                </a:solidFill>
                <a:latin typeface="Times New Roman"/>
              </a:endParaRPr>
            </a:p>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ilistines</a:t>
              </a:r>
              <a:endParaRPr b="0" lang="en-US" sz="3600" spc="-1" strike="noStrike">
                <a:solidFill>
                  <a:srgbClr val="ffffff"/>
                </a:solidFill>
                <a:latin typeface="Times New Roman"/>
              </a:endParaRPr>
            </a:p>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oenicians</a:t>
              </a:r>
              <a:endParaRPr b="0" lang="en-US" sz="3600" spc="-1" strike="noStrike">
                <a:solidFill>
                  <a:srgbClr val="ffffff"/>
                </a:solidFill>
                <a:latin typeface="Times New Roman"/>
              </a:endParaRPr>
            </a:p>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abites</a:t>
              </a:r>
              <a:endParaRPr b="0" lang="en-US" sz="3600" spc="-1" strike="noStrike">
                <a:solidFill>
                  <a:srgbClr val="ffffff"/>
                </a:solidFill>
                <a:latin typeface="Times New Roman"/>
              </a:endParaRPr>
            </a:p>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Ammonites</a:t>
              </a:r>
              <a:endParaRPr b="0" lang="en-US" sz="3600" spc="-1" strike="noStrike">
                <a:solidFill>
                  <a:srgbClr val="ffffff"/>
                </a:solidFill>
                <a:latin typeface="Times New Roman"/>
              </a:endParaRPr>
            </a:p>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domites</a:t>
              </a:r>
              <a:endParaRPr b="0" lang="en-US" sz="3600" spc="-1" strike="noStrike">
                <a:solidFill>
                  <a:srgbClr val="ffffff"/>
                </a:solidFill>
                <a:latin typeface="Times New Roman"/>
              </a:endParaRPr>
            </a:p>
            <a:p>
              <a:pPr marL="343080" indent="-343080">
                <a:lnSpc>
                  <a:spcPct val="9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idianites</a:t>
              </a:r>
              <a:endParaRPr b="0" lang="en-US" sz="3600" spc="-1" strike="noStrike">
                <a:solidFill>
                  <a:srgbClr val="ffffff"/>
                </a:solidFill>
                <a:latin typeface="Times New Roman"/>
              </a:endParaRPr>
            </a:p>
          </p:txBody>
        </p:sp>
      </p:grpSp>
      <p:grpSp>
        <p:nvGrpSpPr>
          <p:cNvPr id="499" name=""/>
          <p:cNvGrpSpPr/>
          <p:nvPr/>
        </p:nvGrpSpPr>
        <p:grpSpPr>
          <a:xfrm>
            <a:off x="4554360" y="101520"/>
            <a:ext cx="4499280" cy="6647040"/>
            <a:chOff x="4554360" y="101520"/>
            <a:chExt cx="4499280" cy="6647040"/>
          </a:xfrm>
        </p:grpSpPr>
        <p:pic>
          <p:nvPicPr>
            <p:cNvPr id="500" name="" descr=""/>
            <p:cNvPicPr/>
            <p:nvPr/>
          </p:nvPicPr>
          <p:blipFill>
            <a:blip r:embed="rId1">
              <a:lum bright="-6000"/>
            </a:blip>
            <a:stretch/>
          </p:blipFill>
          <p:spPr>
            <a:xfrm>
              <a:off x="4576680" y="108000"/>
              <a:ext cx="4476960" cy="6618240"/>
            </a:xfrm>
            <a:prstGeom prst="rect">
              <a:avLst/>
            </a:prstGeom>
            <a:ln w="0">
              <a:noFill/>
            </a:ln>
          </p:spPr>
        </p:pic>
        <p:sp>
          <p:nvSpPr>
            <p:cNvPr id="501" name=""/>
            <p:cNvSpPr/>
            <p:nvPr/>
          </p:nvSpPr>
          <p:spPr>
            <a:xfrm>
              <a:off x="721836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584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rot="17280000">
              <a:off x="5751000" y="134460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0" lang="en-US" sz="2400" spc="-1" strike="noStrike">
                <a:solidFill>
                  <a:srgbClr val="ffffff"/>
                </a:solidFill>
                <a:latin typeface="Times New Roman"/>
              </a:endParaRPr>
            </a:p>
          </p:txBody>
        </p:sp>
        <p:sp>
          <p:nvSpPr>
            <p:cNvPr id="503" name=""/>
            <p:cNvSpPr/>
            <p:nvPr/>
          </p:nvSpPr>
          <p:spPr>
            <a:xfrm rot="17880000">
              <a:off x="4815000" y="56818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0" lang="en-US" sz="2000" spc="-1" strike="noStrike">
                <a:solidFill>
                  <a:srgbClr val="ffffff"/>
                </a:solidFill>
                <a:latin typeface="Times New Roman"/>
              </a:endParaRPr>
            </a:p>
          </p:txBody>
        </p:sp>
        <p:sp>
          <p:nvSpPr>
            <p:cNvPr id="504" name=""/>
            <p:cNvSpPr/>
            <p:nvPr/>
          </p:nvSpPr>
          <p:spPr>
            <a:xfrm>
              <a:off x="5804280" y="3417840"/>
              <a:ext cx="1388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naan</a:t>
              </a:r>
              <a:endParaRPr b="0" lang="en-US" sz="3200" spc="-1" strike="noStrike">
                <a:solidFill>
                  <a:srgbClr val="ffffff"/>
                </a:solidFill>
                <a:latin typeface="Times New Roman"/>
              </a:endParaRPr>
            </a:p>
          </p:txBody>
        </p:sp>
        <p:sp>
          <p:nvSpPr>
            <p:cNvPr id="505" name=""/>
            <p:cNvSpPr/>
            <p:nvPr/>
          </p:nvSpPr>
          <p:spPr>
            <a:xfrm>
              <a:off x="6897600" y="4705200"/>
              <a:ext cx="77760" cy="86040"/>
            </a:xfrm>
            <a:prstGeom prst="star5">
              <a:avLst/>
            </a:prstGeom>
            <a:solidFill>
              <a:srgbClr val="fc0128"/>
            </a:solidFill>
            <a:ln w="12600">
              <a:solidFill>
                <a:srgbClr val="fc0128"/>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506" name=""/>
            <p:cNvSpPr/>
            <p:nvPr/>
          </p:nvSpPr>
          <p:spPr>
            <a:xfrm>
              <a:off x="601884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Times New Roman"/>
              </a:endParaRPr>
            </a:p>
          </p:txBody>
        </p:sp>
        <p:sp>
          <p:nvSpPr>
            <p:cNvPr id="507" name=""/>
            <p:cNvSpPr/>
            <p:nvPr/>
          </p:nvSpPr>
          <p:spPr>
            <a:xfrm rot="16680000">
              <a:off x="6860160" y="5104080"/>
              <a:ext cx="98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Times New Roman"/>
              </a:endParaRPr>
            </a:p>
          </p:txBody>
        </p:sp>
        <p:sp>
          <p:nvSpPr>
            <p:cNvPr id="508" name=""/>
            <p:cNvSpPr/>
            <p:nvPr/>
          </p:nvSpPr>
          <p:spPr>
            <a:xfrm rot="16500000">
              <a:off x="693000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Times New Roman"/>
              </a:endParaRPr>
            </a:p>
          </p:txBody>
        </p:sp>
        <p:sp>
          <p:nvSpPr>
            <p:cNvPr id="509" name=""/>
            <p:cNvSpPr/>
            <p:nvPr/>
          </p:nvSpPr>
          <p:spPr>
            <a:xfrm rot="16200000">
              <a:off x="687384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Times New Roman"/>
              </a:endParaRPr>
            </a:p>
          </p:txBody>
        </p:sp>
        <p:sp>
          <p:nvSpPr>
            <p:cNvPr id="510" name=""/>
            <p:cNvSpPr/>
            <p:nvPr/>
          </p:nvSpPr>
          <p:spPr>
            <a:xfrm rot="16200000">
              <a:off x="692244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Times New Roman"/>
              </a:endParaRPr>
            </a:p>
          </p:txBody>
        </p:sp>
        <p:sp>
          <p:nvSpPr>
            <p:cNvPr id="511" name=""/>
            <p:cNvSpPr/>
            <p:nvPr/>
          </p:nvSpPr>
          <p:spPr>
            <a:xfrm>
              <a:off x="7726320" y="6458040"/>
              <a:ext cx="12891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PHOTO</a:t>
              </a:r>
              <a:endParaRPr b="0" lang="en-US" sz="1200" spc="-1" strike="noStrike">
                <a:solidFill>
                  <a:srgbClr val="ffffff"/>
                </a:solidFill>
                <a:latin typeface="Times New Roman"/>
              </a:endParaRPr>
            </a:p>
          </p:txBody>
        </p:sp>
        <p:sp>
          <p:nvSpPr>
            <p:cNvPr id="512" name=""/>
            <p:cNvSpPr/>
            <p:nvPr/>
          </p:nvSpPr>
          <p:spPr>
            <a:xfrm>
              <a:off x="4554360" y="6383160"/>
              <a:ext cx="15973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BibleTeacher.com  </a:t>
              </a:r>
              <a:endParaRPr b="0" lang="en-US" sz="1000" spc="-1" strike="noStrike">
                <a:solidFill>
                  <a:srgbClr val="ffffff"/>
                </a:solidFill>
                <a:latin typeface="Times New Roman"/>
              </a:endParaRPr>
            </a:p>
          </p:txBody>
        </p:sp>
        <p:sp>
          <p:nvSpPr>
            <p:cNvPr id="513" name=""/>
            <p:cNvSpPr/>
            <p:nvPr/>
          </p:nvSpPr>
          <p:spPr>
            <a:xfrm>
              <a:off x="6041880" y="101520"/>
              <a:ext cx="1119240" cy="2613240"/>
            </a:xfrm>
            <a:custGeom>
              <a:avLst/>
              <a:gdLst/>
              <a:ahLst/>
              <a:rect l="l" t="t" r="r" b="b"/>
              <a:pathLst>
                <a:path w="705" h="1646">
                  <a:moveTo>
                    <a:pt x="0" y="1504"/>
                  </a:moveTo>
                  <a:lnTo>
                    <a:pt x="19" y="1504"/>
                  </a:lnTo>
                  <a:lnTo>
                    <a:pt x="38" y="1510"/>
                  </a:lnTo>
                  <a:lnTo>
                    <a:pt x="58" y="1510"/>
                  </a:lnTo>
                  <a:lnTo>
                    <a:pt x="77" y="1517"/>
                  </a:lnTo>
                  <a:lnTo>
                    <a:pt x="96" y="1530"/>
                  </a:lnTo>
                  <a:lnTo>
                    <a:pt x="115" y="1542"/>
                  </a:lnTo>
                  <a:lnTo>
                    <a:pt x="134" y="1555"/>
                  </a:lnTo>
                  <a:lnTo>
                    <a:pt x="154" y="1568"/>
                  </a:lnTo>
                  <a:lnTo>
                    <a:pt x="173" y="1587"/>
                  </a:lnTo>
                  <a:lnTo>
                    <a:pt x="192" y="1600"/>
                  </a:lnTo>
                  <a:lnTo>
                    <a:pt x="211" y="1619"/>
                  </a:lnTo>
                  <a:lnTo>
                    <a:pt x="230" y="1632"/>
                  </a:lnTo>
                  <a:lnTo>
                    <a:pt x="250" y="1638"/>
                  </a:lnTo>
                  <a:lnTo>
                    <a:pt x="269" y="1645"/>
                  </a:lnTo>
                  <a:lnTo>
                    <a:pt x="288" y="1645"/>
                  </a:lnTo>
                  <a:lnTo>
                    <a:pt x="307" y="1645"/>
                  </a:lnTo>
                  <a:lnTo>
                    <a:pt x="326" y="1626"/>
                  </a:lnTo>
                  <a:lnTo>
                    <a:pt x="339" y="1606"/>
                  </a:lnTo>
                  <a:lnTo>
                    <a:pt x="352" y="1587"/>
                  </a:lnTo>
                  <a:lnTo>
                    <a:pt x="365" y="1568"/>
                  </a:lnTo>
                  <a:lnTo>
                    <a:pt x="371" y="1549"/>
                  </a:lnTo>
                  <a:lnTo>
                    <a:pt x="378" y="1530"/>
                  </a:lnTo>
                  <a:lnTo>
                    <a:pt x="378" y="1510"/>
                  </a:lnTo>
                  <a:lnTo>
                    <a:pt x="384" y="1491"/>
                  </a:lnTo>
                  <a:lnTo>
                    <a:pt x="390" y="1472"/>
                  </a:lnTo>
                  <a:lnTo>
                    <a:pt x="403" y="1453"/>
                  </a:lnTo>
                  <a:lnTo>
                    <a:pt x="410" y="1434"/>
                  </a:lnTo>
                  <a:lnTo>
                    <a:pt x="416" y="1414"/>
                  </a:lnTo>
                  <a:lnTo>
                    <a:pt x="422" y="1395"/>
                  </a:lnTo>
                  <a:lnTo>
                    <a:pt x="429" y="1376"/>
                  </a:lnTo>
                  <a:lnTo>
                    <a:pt x="435" y="1357"/>
                  </a:lnTo>
                  <a:lnTo>
                    <a:pt x="442" y="1338"/>
                  </a:lnTo>
                  <a:lnTo>
                    <a:pt x="448" y="1318"/>
                  </a:lnTo>
                  <a:lnTo>
                    <a:pt x="461" y="1299"/>
                  </a:lnTo>
                  <a:lnTo>
                    <a:pt x="467" y="1280"/>
                  </a:lnTo>
                  <a:lnTo>
                    <a:pt x="474" y="1261"/>
                  </a:lnTo>
                  <a:lnTo>
                    <a:pt x="480" y="1242"/>
                  </a:lnTo>
                  <a:lnTo>
                    <a:pt x="480" y="1222"/>
                  </a:lnTo>
                  <a:lnTo>
                    <a:pt x="480" y="1203"/>
                  </a:lnTo>
                  <a:lnTo>
                    <a:pt x="486" y="1184"/>
                  </a:lnTo>
                  <a:lnTo>
                    <a:pt x="486" y="1165"/>
                  </a:lnTo>
                  <a:lnTo>
                    <a:pt x="493" y="1146"/>
                  </a:lnTo>
                  <a:lnTo>
                    <a:pt x="499" y="1126"/>
                  </a:lnTo>
                  <a:lnTo>
                    <a:pt x="506" y="1107"/>
                  </a:lnTo>
                  <a:lnTo>
                    <a:pt x="512" y="1088"/>
                  </a:lnTo>
                  <a:lnTo>
                    <a:pt x="518" y="1069"/>
                  </a:lnTo>
                  <a:lnTo>
                    <a:pt x="525" y="1011"/>
                  </a:lnTo>
                  <a:lnTo>
                    <a:pt x="538" y="992"/>
                  </a:lnTo>
                  <a:lnTo>
                    <a:pt x="538" y="973"/>
                  </a:lnTo>
                  <a:lnTo>
                    <a:pt x="544" y="922"/>
                  </a:lnTo>
                  <a:lnTo>
                    <a:pt x="544" y="864"/>
                  </a:lnTo>
                  <a:lnTo>
                    <a:pt x="544" y="813"/>
                  </a:lnTo>
                  <a:lnTo>
                    <a:pt x="544" y="794"/>
                  </a:lnTo>
                  <a:lnTo>
                    <a:pt x="544" y="774"/>
                  </a:lnTo>
                  <a:lnTo>
                    <a:pt x="550" y="755"/>
                  </a:lnTo>
                  <a:lnTo>
                    <a:pt x="557" y="736"/>
                  </a:lnTo>
                  <a:lnTo>
                    <a:pt x="557" y="717"/>
                  </a:lnTo>
                  <a:lnTo>
                    <a:pt x="563" y="698"/>
                  </a:lnTo>
                  <a:lnTo>
                    <a:pt x="563" y="678"/>
                  </a:lnTo>
                  <a:lnTo>
                    <a:pt x="570" y="659"/>
                  </a:lnTo>
                  <a:lnTo>
                    <a:pt x="582" y="640"/>
                  </a:lnTo>
                  <a:lnTo>
                    <a:pt x="589" y="621"/>
                  </a:lnTo>
                  <a:lnTo>
                    <a:pt x="595" y="602"/>
                  </a:lnTo>
                  <a:lnTo>
                    <a:pt x="595" y="550"/>
                  </a:lnTo>
                  <a:lnTo>
                    <a:pt x="602" y="499"/>
                  </a:lnTo>
                  <a:lnTo>
                    <a:pt x="608" y="480"/>
                  </a:lnTo>
                  <a:lnTo>
                    <a:pt x="608" y="435"/>
                  </a:lnTo>
                  <a:lnTo>
                    <a:pt x="608" y="384"/>
                  </a:lnTo>
                  <a:lnTo>
                    <a:pt x="614" y="365"/>
                  </a:lnTo>
                  <a:lnTo>
                    <a:pt x="614" y="346"/>
                  </a:lnTo>
                  <a:lnTo>
                    <a:pt x="627" y="326"/>
                  </a:lnTo>
                  <a:lnTo>
                    <a:pt x="634" y="307"/>
                  </a:lnTo>
                  <a:lnTo>
                    <a:pt x="640" y="288"/>
                  </a:lnTo>
                  <a:lnTo>
                    <a:pt x="646" y="269"/>
                  </a:lnTo>
                  <a:lnTo>
                    <a:pt x="653" y="250"/>
                  </a:lnTo>
                  <a:lnTo>
                    <a:pt x="659" y="230"/>
                  </a:lnTo>
                  <a:lnTo>
                    <a:pt x="666" y="211"/>
                  </a:lnTo>
                  <a:lnTo>
                    <a:pt x="672" y="192"/>
                  </a:lnTo>
                  <a:lnTo>
                    <a:pt x="678" y="173"/>
                  </a:lnTo>
                  <a:lnTo>
                    <a:pt x="678" y="154"/>
                  </a:lnTo>
                  <a:lnTo>
                    <a:pt x="685" y="134"/>
                  </a:lnTo>
                  <a:lnTo>
                    <a:pt x="685" y="115"/>
                  </a:lnTo>
                  <a:lnTo>
                    <a:pt x="691" y="96"/>
                  </a:lnTo>
                  <a:lnTo>
                    <a:pt x="691" y="77"/>
                  </a:lnTo>
                  <a:lnTo>
                    <a:pt x="698" y="58"/>
                  </a:lnTo>
                  <a:lnTo>
                    <a:pt x="698" y="38"/>
                  </a:lnTo>
                  <a:lnTo>
                    <a:pt x="704" y="19"/>
                  </a:lnTo>
                  <a:lnTo>
                    <a:pt x="70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38720" y="4511520"/>
              <a:ext cx="703440" cy="2237040"/>
            </a:xfrm>
            <a:custGeom>
              <a:avLst/>
              <a:gdLst/>
              <a:ahLst/>
              <a:rect l="l" t="t" r="r" b="b"/>
              <a:pathLst>
                <a:path w="443" h="1409">
                  <a:moveTo>
                    <a:pt x="0" y="1408"/>
                  </a:moveTo>
                  <a:lnTo>
                    <a:pt x="39" y="1184"/>
                  </a:lnTo>
                  <a:lnTo>
                    <a:pt x="52" y="1165"/>
                  </a:lnTo>
                  <a:lnTo>
                    <a:pt x="58" y="1146"/>
                  </a:lnTo>
                  <a:lnTo>
                    <a:pt x="65" y="1126"/>
                  </a:lnTo>
                  <a:lnTo>
                    <a:pt x="77" y="1107"/>
                  </a:lnTo>
                  <a:lnTo>
                    <a:pt x="84" y="1088"/>
                  </a:lnTo>
                  <a:lnTo>
                    <a:pt x="90" y="1069"/>
                  </a:lnTo>
                  <a:lnTo>
                    <a:pt x="103" y="1050"/>
                  </a:lnTo>
                  <a:lnTo>
                    <a:pt x="116" y="1030"/>
                  </a:lnTo>
                  <a:lnTo>
                    <a:pt x="129" y="1011"/>
                  </a:lnTo>
                  <a:lnTo>
                    <a:pt x="141" y="992"/>
                  </a:lnTo>
                  <a:lnTo>
                    <a:pt x="154" y="973"/>
                  </a:lnTo>
                  <a:lnTo>
                    <a:pt x="167" y="954"/>
                  </a:lnTo>
                  <a:lnTo>
                    <a:pt x="173" y="934"/>
                  </a:lnTo>
                  <a:lnTo>
                    <a:pt x="193" y="915"/>
                  </a:lnTo>
                  <a:lnTo>
                    <a:pt x="205" y="896"/>
                  </a:lnTo>
                  <a:lnTo>
                    <a:pt x="218" y="877"/>
                  </a:lnTo>
                  <a:lnTo>
                    <a:pt x="231" y="858"/>
                  </a:lnTo>
                  <a:lnTo>
                    <a:pt x="244" y="838"/>
                  </a:lnTo>
                  <a:lnTo>
                    <a:pt x="257" y="819"/>
                  </a:lnTo>
                  <a:lnTo>
                    <a:pt x="269" y="800"/>
                  </a:lnTo>
                  <a:lnTo>
                    <a:pt x="282" y="781"/>
                  </a:lnTo>
                  <a:lnTo>
                    <a:pt x="295" y="762"/>
                  </a:lnTo>
                  <a:lnTo>
                    <a:pt x="308" y="742"/>
                  </a:lnTo>
                  <a:lnTo>
                    <a:pt x="314" y="723"/>
                  </a:lnTo>
                  <a:lnTo>
                    <a:pt x="321" y="672"/>
                  </a:lnTo>
                  <a:lnTo>
                    <a:pt x="333" y="653"/>
                  </a:lnTo>
                  <a:lnTo>
                    <a:pt x="340" y="595"/>
                  </a:lnTo>
                  <a:lnTo>
                    <a:pt x="346" y="538"/>
                  </a:lnTo>
                  <a:lnTo>
                    <a:pt x="359" y="518"/>
                  </a:lnTo>
                  <a:lnTo>
                    <a:pt x="365" y="499"/>
                  </a:lnTo>
                  <a:lnTo>
                    <a:pt x="385" y="486"/>
                  </a:lnTo>
                  <a:lnTo>
                    <a:pt x="391" y="467"/>
                  </a:lnTo>
                  <a:lnTo>
                    <a:pt x="397" y="448"/>
                  </a:lnTo>
                  <a:lnTo>
                    <a:pt x="410" y="429"/>
                  </a:lnTo>
                  <a:lnTo>
                    <a:pt x="417" y="410"/>
                  </a:lnTo>
                  <a:lnTo>
                    <a:pt x="423" y="390"/>
                  </a:lnTo>
                  <a:lnTo>
                    <a:pt x="423" y="371"/>
                  </a:lnTo>
                  <a:lnTo>
                    <a:pt x="423" y="352"/>
                  </a:lnTo>
                  <a:lnTo>
                    <a:pt x="417" y="333"/>
                  </a:lnTo>
                  <a:lnTo>
                    <a:pt x="417" y="314"/>
                  </a:lnTo>
                  <a:lnTo>
                    <a:pt x="417" y="294"/>
                  </a:lnTo>
                  <a:lnTo>
                    <a:pt x="417" y="275"/>
                  </a:lnTo>
                  <a:lnTo>
                    <a:pt x="423" y="256"/>
                  </a:lnTo>
                  <a:lnTo>
                    <a:pt x="429" y="237"/>
                  </a:lnTo>
                  <a:lnTo>
                    <a:pt x="436" y="218"/>
                  </a:lnTo>
                  <a:lnTo>
                    <a:pt x="442" y="198"/>
                  </a:lnTo>
                  <a:lnTo>
                    <a:pt x="442" y="179"/>
                  </a:lnTo>
                  <a:lnTo>
                    <a:pt x="442" y="160"/>
                  </a:lnTo>
                  <a:lnTo>
                    <a:pt x="442" y="141"/>
                  </a:lnTo>
                  <a:lnTo>
                    <a:pt x="436" y="122"/>
                  </a:lnTo>
                  <a:lnTo>
                    <a:pt x="429" y="102"/>
                  </a:lnTo>
                  <a:lnTo>
                    <a:pt x="423" y="83"/>
                  </a:lnTo>
                  <a:lnTo>
                    <a:pt x="404" y="77"/>
                  </a:lnTo>
                  <a:lnTo>
                    <a:pt x="385" y="64"/>
                  </a:lnTo>
                  <a:lnTo>
                    <a:pt x="365" y="58"/>
                  </a:lnTo>
                  <a:lnTo>
                    <a:pt x="353" y="38"/>
                  </a:lnTo>
                  <a:lnTo>
                    <a:pt x="340" y="19"/>
                  </a:lnTo>
                  <a:lnTo>
                    <a:pt x="3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rot="17160000">
              <a:off x="3885840" y="168732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Times New Roman"/>
              </a:endParaRPr>
            </a:p>
          </p:txBody>
        </p:sp>
        <p:sp>
          <p:nvSpPr>
            <p:cNvPr id="516" name=""/>
            <p:cNvSpPr/>
            <p:nvPr/>
          </p:nvSpPr>
          <p:spPr>
            <a:xfrm rot="16200000">
              <a:off x="7473960" y="539640"/>
              <a:ext cx="825480" cy="215640"/>
            </a:xfrm>
            <a:prstGeom prst="rightArrow">
              <a:avLst>
                <a:gd name="adj1" fmla="val 50000"/>
                <a:gd name="adj2" fmla="val 191420"/>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7101000" y="1055520"/>
              <a:ext cx="166032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ittite Empire</a:t>
              </a:r>
              <a:endParaRPr b="0" lang="en-US" sz="3200" spc="-1" strike="noStrike">
                <a:solidFill>
                  <a:srgbClr val="ffffff"/>
                </a:solidFill>
                <a:latin typeface="Times New Roman"/>
              </a:endParaRPr>
            </a:p>
          </p:txBody>
        </p:sp>
        <p:sp>
          <p:nvSpPr>
            <p:cNvPr id="518" name=""/>
            <p:cNvSpPr/>
            <p:nvPr/>
          </p:nvSpPr>
          <p:spPr>
            <a:xfrm>
              <a:off x="7499520" y="5513400"/>
              <a:ext cx="1109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dom</a:t>
              </a:r>
              <a:endParaRPr b="0" lang="en-US" sz="3200" spc="-1" strike="noStrike">
                <a:solidFill>
                  <a:srgbClr val="ffffff"/>
                </a:solidFill>
                <a:latin typeface="Times New Roman"/>
              </a:endParaRPr>
            </a:p>
          </p:txBody>
        </p:sp>
        <p:sp>
          <p:nvSpPr>
            <p:cNvPr id="519" name=""/>
            <p:cNvSpPr/>
            <p:nvPr/>
          </p:nvSpPr>
          <p:spPr>
            <a:xfrm>
              <a:off x="7480800" y="4903920"/>
              <a:ext cx="105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oab</a:t>
              </a:r>
              <a:endParaRPr b="0" lang="en-US" sz="3200" spc="-1" strike="noStrike">
                <a:solidFill>
                  <a:srgbClr val="ffffff"/>
                </a:solidFill>
                <a:latin typeface="Times New Roman"/>
              </a:endParaRPr>
            </a:p>
          </p:txBody>
        </p:sp>
        <p:sp>
          <p:nvSpPr>
            <p:cNvPr id="520" name=""/>
            <p:cNvSpPr/>
            <p:nvPr/>
          </p:nvSpPr>
          <p:spPr>
            <a:xfrm>
              <a:off x="7461720" y="3780000"/>
              <a:ext cx="142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mmon</a:t>
              </a:r>
              <a:endParaRPr b="0" lang="en-US" sz="3200" spc="-1" strike="noStrike">
                <a:solidFill>
                  <a:srgbClr val="ffffff"/>
                </a:solidFill>
                <a:latin typeface="Times New Roman"/>
              </a:endParaRPr>
            </a:p>
          </p:txBody>
        </p:sp>
        <p:sp>
          <p:nvSpPr>
            <p:cNvPr id="521" name=""/>
            <p:cNvSpPr/>
            <p:nvPr/>
          </p:nvSpPr>
          <p:spPr>
            <a:xfrm>
              <a:off x="6870240" y="6053040"/>
              <a:ext cx="1239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dian</a:t>
              </a:r>
              <a:endParaRPr b="0" lang="en-US" sz="3200" spc="-1" strike="noStrike">
                <a:solidFill>
                  <a:srgbClr val="ffffff"/>
                </a:solidFill>
                <a:latin typeface="Times New Roman"/>
              </a:endParaRPr>
            </a:p>
          </p:txBody>
        </p:sp>
      </p:grpSp>
      <p:sp>
        <p:nvSpPr>
          <p:cNvPr id="522" name="PlaceHolder 1"/>
          <p:cNvSpPr>
            <a:spLocks noGrp="1"/>
          </p:cNvSpPr>
          <p:nvPr>
            <p:ph type="title"/>
          </p:nvPr>
        </p:nvSpPr>
        <p:spPr>
          <a:xfrm>
            <a:off x="7067520" y="609480"/>
            <a:ext cx="1828800" cy="285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Nations of Canaan</a:t>
            </a:r>
            <a:endParaRPr b="1" lang="en-US" sz="100" spc="-1" strike="noStrike" u="sng">
              <a:solidFill>
                <a:srgbClr val="c0fef9"/>
              </a:solidFill>
              <a:uFillTx/>
              <a:latin typeface="Times New Roman"/>
            </a:endParaRPr>
          </a:p>
        </p:txBody>
      </p:sp>
      <p:sp>
        <p:nvSpPr>
          <p:cNvPr id="523"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24" name=""/>
          <p:cNvSpPr/>
          <p:nvPr/>
        </p:nvSpPr>
        <p:spPr>
          <a:xfrm>
            <a:off x="4726080" y="2440080"/>
            <a:ext cx="4340160" cy="191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afd00"/>
                </a:solidFill>
                <a:uFillTx/>
                <a:latin typeface="Arial"/>
              </a:rPr>
              <a:t>Solomon’s Israel</a:t>
            </a:r>
            <a:endParaRPr b="0" lang="en-US" sz="6000" spc="-1" strike="noStrike">
              <a:solidFill>
                <a:srgbClr val="ffffff"/>
              </a:solidFill>
              <a:latin typeface="Times New Roman"/>
            </a:endParaRPr>
          </a:p>
        </p:txBody>
      </p:sp>
      <p:grpSp>
        <p:nvGrpSpPr>
          <p:cNvPr id="525" name=""/>
          <p:cNvGrpSpPr/>
          <p:nvPr/>
        </p:nvGrpSpPr>
        <p:grpSpPr>
          <a:xfrm>
            <a:off x="233280" y="81000"/>
            <a:ext cx="4491000" cy="6669000"/>
            <a:chOff x="233280" y="81000"/>
            <a:chExt cx="4491000" cy="6669000"/>
          </a:xfrm>
        </p:grpSpPr>
        <p:pic>
          <p:nvPicPr>
            <p:cNvPr id="526" name="" descr=""/>
            <p:cNvPicPr/>
            <p:nvPr/>
          </p:nvPicPr>
          <p:blipFill>
            <a:blip r:embed="rId1">
              <a:lum bright="-6000"/>
            </a:blip>
            <a:stretch/>
          </p:blipFill>
          <p:spPr>
            <a:xfrm>
              <a:off x="233280" y="108000"/>
              <a:ext cx="4476960" cy="6618240"/>
            </a:xfrm>
            <a:prstGeom prst="rect">
              <a:avLst/>
            </a:prstGeom>
            <a:ln w="0">
              <a:noFill/>
            </a:ln>
          </p:spPr>
        </p:pic>
        <p:sp>
          <p:nvSpPr>
            <p:cNvPr id="527" name=""/>
            <p:cNvSpPr/>
            <p:nvPr/>
          </p:nvSpPr>
          <p:spPr>
            <a:xfrm>
              <a:off x="287496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rot="17280000">
              <a:off x="1347120" y="93996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0" lang="en-US" sz="2400" spc="-1" strike="noStrike">
                <a:solidFill>
                  <a:srgbClr val="ffffff"/>
                </a:solidFill>
                <a:latin typeface="Times New Roman"/>
              </a:endParaRPr>
            </a:p>
          </p:txBody>
        </p:sp>
        <p:sp>
          <p:nvSpPr>
            <p:cNvPr id="529" name=""/>
            <p:cNvSpPr/>
            <p:nvPr/>
          </p:nvSpPr>
          <p:spPr>
            <a:xfrm>
              <a:off x="1580760" y="3956040"/>
              <a:ext cx="1246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Black"/>
                </a:rPr>
                <a:t>Israel</a:t>
              </a:r>
              <a:endParaRPr b="0" lang="en-US" sz="3200" spc="-1" strike="noStrike">
                <a:solidFill>
                  <a:srgbClr val="ffffff"/>
                </a:solidFill>
                <a:latin typeface="Times New Roman"/>
              </a:endParaRPr>
            </a:p>
          </p:txBody>
        </p:sp>
        <p:sp>
          <p:nvSpPr>
            <p:cNvPr id="530" name=""/>
            <p:cNvSpPr/>
            <p:nvPr/>
          </p:nvSpPr>
          <p:spPr>
            <a:xfrm>
              <a:off x="2554200" y="4705200"/>
              <a:ext cx="77760" cy="86040"/>
            </a:xfrm>
            <a:prstGeom prst="star5">
              <a:avLst/>
            </a:prstGeom>
            <a:solidFill>
              <a:srgbClr val="ff0000"/>
            </a:solidFill>
            <a:ln w="12600">
              <a:solidFill>
                <a:srgbClr val="ff5008"/>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531" name=""/>
            <p:cNvSpPr/>
            <p:nvPr/>
          </p:nvSpPr>
          <p:spPr>
            <a:xfrm>
              <a:off x="167544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Times New Roman"/>
              </a:endParaRPr>
            </a:p>
          </p:txBody>
        </p:sp>
        <p:sp>
          <p:nvSpPr>
            <p:cNvPr id="532" name=""/>
            <p:cNvSpPr/>
            <p:nvPr/>
          </p:nvSpPr>
          <p:spPr>
            <a:xfrm rot="16680000">
              <a:off x="2516760" y="5104080"/>
              <a:ext cx="98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Times New Roman"/>
              </a:endParaRPr>
            </a:p>
          </p:txBody>
        </p:sp>
        <p:sp>
          <p:nvSpPr>
            <p:cNvPr id="533" name=""/>
            <p:cNvSpPr/>
            <p:nvPr/>
          </p:nvSpPr>
          <p:spPr>
            <a:xfrm rot="16500000">
              <a:off x="258660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Times New Roman"/>
              </a:endParaRPr>
            </a:p>
          </p:txBody>
        </p:sp>
        <p:sp>
          <p:nvSpPr>
            <p:cNvPr id="534" name=""/>
            <p:cNvSpPr/>
            <p:nvPr/>
          </p:nvSpPr>
          <p:spPr>
            <a:xfrm rot="16200000">
              <a:off x="253044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Times New Roman"/>
              </a:endParaRPr>
            </a:p>
          </p:txBody>
        </p:sp>
        <p:sp>
          <p:nvSpPr>
            <p:cNvPr id="535" name=""/>
            <p:cNvSpPr/>
            <p:nvPr/>
          </p:nvSpPr>
          <p:spPr>
            <a:xfrm rot="16200000">
              <a:off x="257904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Times New Roman"/>
              </a:endParaRPr>
            </a:p>
          </p:txBody>
        </p:sp>
        <p:sp>
          <p:nvSpPr>
            <p:cNvPr id="536" name=""/>
            <p:cNvSpPr/>
            <p:nvPr/>
          </p:nvSpPr>
          <p:spPr>
            <a:xfrm>
              <a:off x="3382920" y="6458040"/>
              <a:ext cx="12891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PHOTO</a:t>
              </a:r>
              <a:endParaRPr b="0" lang="en-US" sz="1200" spc="-1" strike="noStrike">
                <a:solidFill>
                  <a:srgbClr val="ffffff"/>
                </a:solidFill>
                <a:latin typeface="Times New Roman"/>
              </a:endParaRPr>
            </a:p>
          </p:txBody>
        </p:sp>
        <p:sp>
          <p:nvSpPr>
            <p:cNvPr id="537" name=""/>
            <p:cNvSpPr/>
            <p:nvPr/>
          </p:nvSpPr>
          <p:spPr>
            <a:xfrm>
              <a:off x="3201840" y="6249960"/>
              <a:ext cx="14893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BibleTeacher.com  </a:t>
              </a:r>
              <a:endParaRPr b="0" lang="en-US" sz="1000" spc="-1" strike="noStrike">
                <a:solidFill>
                  <a:srgbClr val="ffffff"/>
                </a:solidFill>
                <a:latin typeface="Times New Roman"/>
              </a:endParaRPr>
            </a:p>
          </p:txBody>
        </p:sp>
        <p:sp>
          <p:nvSpPr>
            <p:cNvPr id="538" name=""/>
            <p:cNvSpPr/>
            <p:nvPr/>
          </p:nvSpPr>
          <p:spPr>
            <a:xfrm>
              <a:off x="2668680" y="272880"/>
              <a:ext cx="20350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afd00"/>
                  </a:solidFill>
                  <a:uFillTx/>
                  <a:latin typeface="Arial"/>
                </a:rPr>
                <a:t>Solomon’s Israel</a:t>
              </a:r>
              <a:endParaRPr b="0" lang="en-US" sz="2800" spc="-1" strike="noStrike">
                <a:solidFill>
                  <a:srgbClr val="ffffff"/>
                </a:solidFill>
                <a:latin typeface="Times New Roman"/>
              </a:endParaRPr>
            </a:p>
          </p:txBody>
        </p:sp>
        <p:sp>
          <p:nvSpPr>
            <p:cNvPr id="539" name=""/>
            <p:cNvSpPr/>
            <p:nvPr/>
          </p:nvSpPr>
          <p:spPr>
            <a:xfrm>
              <a:off x="1730520" y="3295800"/>
              <a:ext cx="108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echem</a:t>
              </a:r>
              <a:endParaRPr b="0" lang="en-US" sz="1600" spc="-1" strike="noStrike">
                <a:solidFill>
                  <a:srgbClr val="ffffff"/>
                </a:solidFill>
                <a:latin typeface="Times New Roman"/>
              </a:endParaRPr>
            </a:p>
          </p:txBody>
        </p:sp>
        <p:sp>
          <p:nvSpPr>
            <p:cNvPr id="540" name=""/>
            <p:cNvSpPr/>
            <p:nvPr/>
          </p:nvSpPr>
          <p:spPr>
            <a:xfrm>
              <a:off x="2351160" y="3618000"/>
              <a:ext cx="77760" cy="85680"/>
            </a:xfrm>
            <a:prstGeom prst="star5">
              <a:avLst/>
            </a:prstGeom>
            <a:solidFill>
              <a:srgbClr val="ff0000"/>
            </a:solidFill>
            <a:ln w="12600">
              <a:solidFill>
                <a:srgbClr val="ff5008"/>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541" name=""/>
            <p:cNvSpPr/>
            <p:nvPr/>
          </p:nvSpPr>
          <p:spPr>
            <a:xfrm>
              <a:off x="1719360" y="81000"/>
              <a:ext cx="1128600" cy="2521080"/>
            </a:xfrm>
            <a:custGeom>
              <a:avLst/>
              <a:gdLst/>
              <a:ahLst/>
              <a:rect l="l" t="t" r="r" b="b"/>
              <a:pathLst>
                <a:path w="711" h="1588">
                  <a:moveTo>
                    <a:pt x="0" y="1504"/>
                  </a:moveTo>
                  <a:lnTo>
                    <a:pt x="19" y="1504"/>
                  </a:lnTo>
                  <a:lnTo>
                    <a:pt x="38" y="1517"/>
                  </a:lnTo>
                  <a:lnTo>
                    <a:pt x="57" y="1523"/>
                  </a:lnTo>
                  <a:lnTo>
                    <a:pt x="77" y="1530"/>
                  </a:lnTo>
                  <a:lnTo>
                    <a:pt x="96" y="1543"/>
                  </a:lnTo>
                  <a:lnTo>
                    <a:pt x="115" y="1555"/>
                  </a:lnTo>
                  <a:lnTo>
                    <a:pt x="134" y="1568"/>
                  </a:lnTo>
                  <a:lnTo>
                    <a:pt x="153" y="1581"/>
                  </a:lnTo>
                  <a:lnTo>
                    <a:pt x="173" y="1587"/>
                  </a:lnTo>
                  <a:lnTo>
                    <a:pt x="192" y="1587"/>
                  </a:lnTo>
                  <a:lnTo>
                    <a:pt x="211" y="1587"/>
                  </a:lnTo>
                  <a:lnTo>
                    <a:pt x="217" y="1568"/>
                  </a:lnTo>
                  <a:lnTo>
                    <a:pt x="224" y="1549"/>
                  </a:lnTo>
                  <a:lnTo>
                    <a:pt x="230" y="1530"/>
                  </a:lnTo>
                  <a:lnTo>
                    <a:pt x="237" y="1511"/>
                  </a:lnTo>
                  <a:lnTo>
                    <a:pt x="243" y="1491"/>
                  </a:lnTo>
                  <a:lnTo>
                    <a:pt x="243" y="1472"/>
                  </a:lnTo>
                  <a:lnTo>
                    <a:pt x="249" y="1453"/>
                  </a:lnTo>
                  <a:lnTo>
                    <a:pt x="256" y="1434"/>
                  </a:lnTo>
                  <a:lnTo>
                    <a:pt x="262" y="1415"/>
                  </a:lnTo>
                  <a:lnTo>
                    <a:pt x="262" y="1395"/>
                  </a:lnTo>
                  <a:lnTo>
                    <a:pt x="269" y="1376"/>
                  </a:lnTo>
                  <a:lnTo>
                    <a:pt x="275" y="1357"/>
                  </a:lnTo>
                  <a:lnTo>
                    <a:pt x="281" y="1338"/>
                  </a:lnTo>
                  <a:lnTo>
                    <a:pt x="288" y="1319"/>
                  </a:lnTo>
                  <a:lnTo>
                    <a:pt x="294" y="1299"/>
                  </a:lnTo>
                  <a:lnTo>
                    <a:pt x="301" y="1280"/>
                  </a:lnTo>
                  <a:lnTo>
                    <a:pt x="301" y="1261"/>
                  </a:lnTo>
                  <a:lnTo>
                    <a:pt x="301" y="1242"/>
                  </a:lnTo>
                  <a:lnTo>
                    <a:pt x="301" y="1223"/>
                  </a:lnTo>
                  <a:lnTo>
                    <a:pt x="301" y="1203"/>
                  </a:lnTo>
                  <a:lnTo>
                    <a:pt x="307" y="1184"/>
                  </a:lnTo>
                  <a:lnTo>
                    <a:pt x="307" y="1165"/>
                  </a:lnTo>
                  <a:lnTo>
                    <a:pt x="307" y="1146"/>
                  </a:lnTo>
                  <a:lnTo>
                    <a:pt x="313" y="1127"/>
                  </a:lnTo>
                  <a:lnTo>
                    <a:pt x="313" y="1107"/>
                  </a:lnTo>
                  <a:lnTo>
                    <a:pt x="320" y="1088"/>
                  </a:lnTo>
                  <a:lnTo>
                    <a:pt x="326" y="1069"/>
                  </a:lnTo>
                  <a:lnTo>
                    <a:pt x="326" y="1050"/>
                  </a:lnTo>
                  <a:lnTo>
                    <a:pt x="333" y="1031"/>
                  </a:lnTo>
                  <a:lnTo>
                    <a:pt x="339" y="1011"/>
                  </a:lnTo>
                  <a:lnTo>
                    <a:pt x="345" y="992"/>
                  </a:lnTo>
                  <a:lnTo>
                    <a:pt x="352" y="973"/>
                  </a:lnTo>
                  <a:lnTo>
                    <a:pt x="358" y="928"/>
                  </a:lnTo>
                  <a:lnTo>
                    <a:pt x="365" y="909"/>
                  </a:lnTo>
                  <a:lnTo>
                    <a:pt x="371" y="890"/>
                  </a:lnTo>
                  <a:lnTo>
                    <a:pt x="377" y="871"/>
                  </a:lnTo>
                  <a:lnTo>
                    <a:pt x="384" y="851"/>
                  </a:lnTo>
                  <a:lnTo>
                    <a:pt x="390" y="832"/>
                  </a:lnTo>
                  <a:lnTo>
                    <a:pt x="397" y="813"/>
                  </a:lnTo>
                  <a:lnTo>
                    <a:pt x="403" y="794"/>
                  </a:lnTo>
                  <a:lnTo>
                    <a:pt x="409" y="775"/>
                  </a:lnTo>
                  <a:lnTo>
                    <a:pt x="409" y="755"/>
                  </a:lnTo>
                  <a:lnTo>
                    <a:pt x="416" y="736"/>
                  </a:lnTo>
                  <a:lnTo>
                    <a:pt x="422" y="717"/>
                  </a:lnTo>
                  <a:lnTo>
                    <a:pt x="422" y="698"/>
                  </a:lnTo>
                  <a:lnTo>
                    <a:pt x="429" y="679"/>
                  </a:lnTo>
                  <a:lnTo>
                    <a:pt x="429" y="627"/>
                  </a:lnTo>
                  <a:lnTo>
                    <a:pt x="441" y="570"/>
                  </a:lnTo>
                  <a:lnTo>
                    <a:pt x="441" y="525"/>
                  </a:lnTo>
                  <a:lnTo>
                    <a:pt x="454" y="506"/>
                  </a:lnTo>
                  <a:lnTo>
                    <a:pt x="461" y="461"/>
                  </a:lnTo>
                  <a:lnTo>
                    <a:pt x="467" y="442"/>
                  </a:lnTo>
                  <a:lnTo>
                    <a:pt x="473" y="423"/>
                  </a:lnTo>
                  <a:lnTo>
                    <a:pt x="486" y="403"/>
                  </a:lnTo>
                  <a:lnTo>
                    <a:pt x="499" y="384"/>
                  </a:lnTo>
                  <a:lnTo>
                    <a:pt x="512" y="339"/>
                  </a:lnTo>
                  <a:lnTo>
                    <a:pt x="518" y="295"/>
                  </a:lnTo>
                  <a:lnTo>
                    <a:pt x="525" y="250"/>
                  </a:lnTo>
                  <a:lnTo>
                    <a:pt x="544" y="231"/>
                  </a:lnTo>
                  <a:lnTo>
                    <a:pt x="557" y="211"/>
                  </a:lnTo>
                  <a:lnTo>
                    <a:pt x="569" y="192"/>
                  </a:lnTo>
                  <a:lnTo>
                    <a:pt x="589" y="173"/>
                  </a:lnTo>
                  <a:lnTo>
                    <a:pt x="601" y="154"/>
                  </a:lnTo>
                  <a:lnTo>
                    <a:pt x="614" y="135"/>
                  </a:lnTo>
                  <a:lnTo>
                    <a:pt x="633" y="115"/>
                  </a:lnTo>
                  <a:lnTo>
                    <a:pt x="646" y="96"/>
                  </a:lnTo>
                  <a:lnTo>
                    <a:pt x="665" y="77"/>
                  </a:lnTo>
                  <a:lnTo>
                    <a:pt x="678" y="58"/>
                  </a:lnTo>
                  <a:lnTo>
                    <a:pt x="691" y="39"/>
                  </a:lnTo>
                  <a:lnTo>
                    <a:pt x="704" y="19"/>
                  </a:lnTo>
                  <a:lnTo>
                    <a:pt x="71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65080" y="4511520"/>
              <a:ext cx="692280" cy="1271880"/>
            </a:xfrm>
            <a:custGeom>
              <a:avLst/>
              <a:gdLst/>
              <a:ahLst/>
              <a:rect l="l" t="t" r="r" b="b"/>
              <a:pathLst>
                <a:path w="436" h="801">
                  <a:moveTo>
                    <a:pt x="333" y="0"/>
                  </a:moveTo>
                  <a:lnTo>
                    <a:pt x="339" y="19"/>
                  </a:lnTo>
                  <a:lnTo>
                    <a:pt x="346" y="38"/>
                  </a:lnTo>
                  <a:lnTo>
                    <a:pt x="365" y="51"/>
                  </a:lnTo>
                  <a:lnTo>
                    <a:pt x="384" y="70"/>
                  </a:lnTo>
                  <a:lnTo>
                    <a:pt x="403" y="89"/>
                  </a:lnTo>
                  <a:lnTo>
                    <a:pt x="416" y="108"/>
                  </a:lnTo>
                  <a:lnTo>
                    <a:pt x="429" y="128"/>
                  </a:lnTo>
                  <a:lnTo>
                    <a:pt x="435" y="147"/>
                  </a:lnTo>
                  <a:lnTo>
                    <a:pt x="435" y="166"/>
                  </a:lnTo>
                  <a:lnTo>
                    <a:pt x="435" y="185"/>
                  </a:lnTo>
                  <a:lnTo>
                    <a:pt x="435" y="204"/>
                  </a:lnTo>
                  <a:lnTo>
                    <a:pt x="435" y="224"/>
                  </a:lnTo>
                  <a:lnTo>
                    <a:pt x="435" y="243"/>
                  </a:lnTo>
                  <a:lnTo>
                    <a:pt x="429" y="262"/>
                  </a:lnTo>
                  <a:lnTo>
                    <a:pt x="423" y="281"/>
                  </a:lnTo>
                  <a:lnTo>
                    <a:pt x="416" y="300"/>
                  </a:lnTo>
                  <a:lnTo>
                    <a:pt x="403" y="320"/>
                  </a:lnTo>
                  <a:lnTo>
                    <a:pt x="397" y="339"/>
                  </a:lnTo>
                  <a:lnTo>
                    <a:pt x="384" y="358"/>
                  </a:lnTo>
                  <a:lnTo>
                    <a:pt x="378" y="377"/>
                  </a:lnTo>
                  <a:lnTo>
                    <a:pt x="378" y="396"/>
                  </a:lnTo>
                  <a:lnTo>
                    <a:pt x="371" y="416"/>
                  </a:lnTo>
                  <a:lnTo>
                    <a:pt x="371" y="435"/>
                  </a:lnTo>
                  <a:lnTo>
                    <a:pt x="365" y="454"/>
                  </a:lnTo>
                  <a:lnTo>
                    <a:pt x="359" y="473"/>
                  </a:lnTo>
                  <a:lnTo>
                    <a:pt x="359" y="492"/>
                  </a:lnTo>
                  <a:lnTo>
                    <a:pt x="352" y="512"/>
                  </a:lnTo>
                  <a:lnTo>
                    <a:pt x="352" y="531"/>
                  </a:lnTo>
                  <a:lnTo>
                    <a:pt x="346" y="550"/>
                  </a:lnTo>
                  <a:lnTo>
                    <a:pt x="346" y="569"/>
                  </a:lnTo>
                  <a:lnTo>
                    <a:pt x="339" y="588"/>
                  </a:lnTo>
                  <a:lnTo>
                    <a:pt x="333" y="608"/>
                  </a:lnTo>
                  <a:lnTo>
                    <a:pt x="327" y="627"/>
                  </a:lnTo>
                  <a:lnTo>
                    <a:pt x="314" y="646"/>
                  </a:lnTo>
                  <a:lnTo>
                    <a:pt x="307" y="665"/>
                  </a:lnTo>
                  <a:lnTo>
                    <a:pt x="301" y="684"/>
                  </a:lnTo>
                  <a:lnTo>
                    <a:pt x="282" y="704"/>
                  </a:lnTo>
                  <a:lnTo>
                    <a:pt x="269" y="723"/>
                  </a:lnTo>
                  <a:lnTo>
                    <a:pt x="250" y="742"/>
                  </a:lnTo>
                  <a:lnTo>
                    <a:pt x="231" y="761"/>
                  </a:lnTo>
                  <a:lnTo>
                    <a:pt x="211" y="761"/>
                  </a:lnTo>
                  <a:lnTo>
                    <a:pt x="192" y="768"/>
                  </a:lnTo>
                  <a:lnTo>
                    <a:pt x="173" y="774"/>
                  </a:lnTo>
                  <a:lnTo>
                    <a:pt x="154" y="780"/>
                  </a:lnTo>
                  <a:lnTo>
                    <a:pt x="135" y="780"/>
                  </a:lnTo>
                  <a:lnTo>
                    <a:pt x="115" y="787"/>
                  </a:lnTo>
                  <a:lnTo>
                    <a:pt x="96" y="793"/>
                  </a:lnTo>
                  <a:lnTo>
                    <a:pt x="77" y="800"/>
                  </a:lnTo>
                  <a:lnTo>
                    <a:pt x="58" y="800"/>
                  </a:lnTo>
                  <a:lnTo>
                    <a:pt x="39" y="800"/>
                  </a:lnTo>
                  <a:lnTo>
                    <a:pt x="19" y="800"/>
                  </a:lnTo>
                  <a:lnTo>
                    <a:pt x="0" y="80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361800" y="6342120"/>
              <a:ext cx="115920" cy="407880"/>
            </a:xfrm>
            <a:custGeom>
              <a:avLst/>
              <a:gdLst/>
              <a:ahLst/>
              <a:rect l="l" t="t" r="r" b="b"/>
              <a:pathLst>
                <a:path w="73" h="257">
                  <a:moveTo>
                    <a:pt x="0" y="0"/>
                  </a:moveTo>
                  <a:lnTo>
                    <a:pt x="0" y="30"/>
                  </a:lnTo>
                  <a:lnTo>
                    <a:pt x="11" y="62"/>
                  </a:lnTo>
                  <a:lnTo>
                    <a:pt x="21" y="92"/>
                  </a:lnTo>
                  <a:lnTo>
                    <a:pt x="40" y="124"/>
                  </a:lnTo>
                  <a:lnTo>
                    <a:pt x="62" y="164"/>
                  </a:lnTo>
                  <a:lnTo>
                    <a:pt x="72" y="194"/>
                  </a:lnTo>
                  <a:lnTo>
                    <a:pt x="72" y="226"/>
                  </a:lnTo>
                  <a:lnTo>
                    <a:pt x="72" y="25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3314880" y="522360"/>
              <a:ext cx="1409400" cy="6227640"/>
            </a:xfrm>
            <a:custGeom>
              <a:avLst/>
              <a:gdLst/>
              <a:ahLst/>
              <a:rect l="l" t="t" r="r" b="b"/>
              <a:pathLst>
                <a:path w="888" h="3923">
                  <a:moveTo>
                    <a:pt x="0" y="3922"/>
                  </a:moveTo>
                  <a:lnTo>
                    <a:pt x="0" y="3892"/>
                  </a:lnTo>
                  <a:lnTo>
                    <a:pt x="10" y="3860"/>
                  </a:lnTo>
                  <a:lnTo>
                    <a:pt x="19" y="3830"/>
                  </a:lnTo>
                  <a:lnTo>
                    <a:pt x="40" y="3798"/>
                  </a:lnTo>
                  <a:lnTo>
                    <a:pt x="51" y="3768"/>
                  </a:lnTo>
                  <a:lnTo>
                    <a:pt x="70" y="3728"/>
                  </a:lnTo>
                  <a:lnTo>
                    <a:pt x="80" y="3696"/>
                  </a:lnTo>
                  <a:lnTo>
                    <a:pt x="91" y="3666"/>
                  </a:lnTo>
                  <a:lnTo>
                    <a:pt x="112" y="3636"/>
                  </a:lnTo>
                  <a:lnTo>
                    <a:pt x="121" y="3605"/>
                  </a:lnTo>
                  <a:lnTo>
                    <a:pt x="132" y="3575"/>
                  </a:lnTo>
                  <a:lnTo>
                    <a:pt x="142" y="3543"/>
                  </a:lnTo>
                  <a:lnTo>
                    <a:pt x="142" y="3513"/>
                  </a:lnTo>
                  <a:lnTo>
                    <a:pt x="142" y="3483"/>
                  </a:lnTo>
                  <a:lnTo>
                    <a:pt x="153" y="3451"/>
                  </a:lnTo>
                  <a:lnTo>
                    <a:pt x="163" y="3411"/>
                  </a:lnTo>
                  <a:lnTo>
                    <a:pt x="163" y="3381"/>
                  </a:lnTo>
                  <a:lnTo>
                    <a:pt x="172" y="3349"/>
                  </a:lnTo>
                  <a:lnTo>
                    <a:pt x="172" y="3319"/>
                  </a:lnTo>
                  <a:lnTo>
                    <a:pt x="172" y="3288"/>
                  </a:lnTo>
                  <a:lnTo>
                    <a:pt x="172" y="3258"/>
                  </a:lnTo>
                  <a:lnTo>
                    <a:pt x="172" y="3228"/>
                  </a:lnTo>
                  <a:lnTo>
                    <a:pt x="172" y="3196"/>
                  </a:lnTo>
                  <a:lnTo>
                    <a:pt x="183" y="3166"/>
                  </a:lnTo>
                  <a:lnTo>
                    <a:pt x="183" y="3134"/>
                  </a:lnTo>
                  <a:lnTo>
                    <a:pt x="193" y="3094"/>
                  </a:lnTo>
                  <a:lnTo>
                    <a:pt x="204" y="3064"/>
                  </a:lnTo>
                  <a:lnTo>
                    <a:pt x="215" y="3032"/>
                  </a:lnTo>
                  <a:lnTo>
                    <a:pt x="223" y="3002"/>
                  </a:lnTo>
                  <a:lnTo>
                    <a:pt x="234" y="2962"/>
                  </a:lnTo>
                  <a:lnTo>
                    <a:pt x="244" y="2930"/>
                  </a:lnTo>
                  <a:lnTo>
                    <a:pt x="255" y="2900"/>
                  </a:lnTo>
                  <a:lnTo>
                    <a:pt x="255" y="2870"/>
                  </a:lnTo>
                  <a:lnTo>
                    <a:pt x="266" y="2839"/>
                  </a:lnTo>
                  <a:lnTo>
                    <a:pt x="274" y="2809"/>
                  </a:lnTo>
                  <a:lnTo>
                    <a:pt x="274" y="2777"/>
                  </a:lnTo>
                  <a:lnTo>
                    <a:pt x="285" y="2747"/>
                  </a:lnTo>
                  <a:lnTo>
                    <a:pt x="295" y="2717"/>
                  </a:lnTo>
                  <a:lnTo>
                    <a:pt x="295" y="2685"/>
                  </a:lnTo>
                  <a:lnTo>
                    <a:pt x="317" y="2645"/>
                  </a:lnTo>
                  <a:lnTo>
                    <a:pt x="325" y="2615"/>
                  </a:lnTo>
                  <a:lnTo>
                    <a:pt x="336" y="2583"/>
                  </a:lnTo>
                  <a:lnTo>
                    <a:pt x="357" y="2553"/>
                  </a:lnTo>
                  <a:lnTo>
                    <a:pt x="357" y="2481"/>
                  </a:lnTo>
                  <a:lnTo>
                    <a:pt x="357" y="2411"/>
                  </a:lnTo>
                  <a:lnTo>
                    <a:pt x="368" y="2379"/>
                  </a:lnTo>
                  <a:lnTo>
                    <a:pt x="376" y="2298"/>
                  </a:lnTo>
                  <a:lnTo>
                    <a:pt x="397" y="2266"/>
                  </a:lnTo>
                  <a:lnTo>
                    <a:pt x="408" y="2236"/>
                  </a:lnTo>
                  <a:lnTo>
                    <a:pt x="427" y="2196"/>
                  </a:lnTo>
                  <a:lnTo>
                    <a:pt x="438" y="2164"/>
                  </a:lnTo>
                  <a:lnTo>
                    <a:pt x="449" y="2134"/>
                  </a:lnTo>
                  <a:lnTo>
                    <a:pt x="449" y="2094"/>
                  </a:lnTo>
                  <a:lnTo>
                    <a:pt x="449" y="2062"/>
                  </a:lnTo>
                  <a:lnTo>
                    <a:pt x="459" y="2032"/>
                  </a:lnTo>
                  <a:lnTo>
                    <a:pt x="459" y="2002"/>
                  </a:lnTo>
                  <a:lnTo>
                    <a:pt x="470" y="1970"/>
                  </a:lnTo>
                  <a:lnTo>
                    <a:pt x="470" y="1930"/>
                  </a:lnTo>
                  <a:lnTo>
                    <a:pt x="470" y="1839"/>
                  </a:lnTo>
                  <a:lnTo>
                    <a:pt x="478" y="1747"/>
                  </a:lnTo>
                  <a:lnTo>
                    <a:pt x="478" y="1653"/>
                  </a:lnTo>
                  <a:lnTo>
                    <a:pt x="489" y="1613"/>
                  </a:lnTo>
                  <a:lnTo>
                    <a:pt x="489" y="1583"/>
                  </a:lnTo>
                  <a:lnTo>
                    <a:pt x="489" y="1551"/>
                  </a:lnTo>
                  <a:lnTo>
                    <a:pt x="489" y="1511"/>
                  </a:lnTo>
                  <a:lnTo>
                    <a:pt x="489" y="1481"/>
                  </a:lnTo>
                  <a:lnTo>
                    <a:pt x="489" y="1449"/>
                  </a:lnTo>
                  <a:lnTo>
                    <a:pt x="489" y="1419"/>
                  </a:lnTo>
                  <a:lnTo>
                    <a:pt x="489" y="1379"/>
                  </a:lnTo>
                  <a:lnTo>
                    <a:pt x="500" y="1347"/>
                  </a:lnTo>
                  <a:lnTo>
                    <a:pt x="500" y="1317"/>
                  </a:lnTo>
                  <a:lnTo>
                    <a:pt x="500" y="1277"/>
                  </a:lnTo>
                  <a:lnTo>
                    <a:pt x="500" y="1245"/>
                  </a:lnTo>
                  <a:lnTo>
                    <a:pt x="500" y="1215"/>
                  </a:lnTo>
                  <a:lnTo>
                    <a:pt x="500" y="1185"/>
                  </a:lnTo>
                  <a:lnTo>
                    <a:pt x="500" y="1113"/>
                  </a:lnTo>
                  <a:lnTo>
                    <a:pt x="500" y="1083"/>
                  </a:lnTo>
                  <a:lnTo>
                    <a:pt x="500" y="1051"/>
                  </a:lnTo>
                  <a:lnTo>
                    <a:pt x="500" y="1011"/>
                  </a:lnTo>
                  <a:lnTo>
                    <a:pt x="510" y="981"/>
                  </a:lnTo>
                  <a:lnTo>
                    <a:pt x="521" y="949"/>
                  </a:lnTo>
                  <a:lnTo>
                    <a:pt x="521" y="919"/>
                  </a:lnTo>
                  <a:lnTo>
                    <a:pt x="529" y="847"/>
                  </a:lnTo>
                  <a:lnTo>
                    <a:pt x="529" y="766"/>
                  </a:lnTo>
                  <a:lnTo>
                    <a:pt x="529" y="694"/>
                  </a:lnTo>
                  <a:lnTo>
                    <a:pt x="540" y="613"/>
                  </a:lnTo>
                  <a:lnTo>
                    <a:pt x="551" y="522"/>
                  </a:lnTo>
                  <a:lnTo>
                    <a:pt x="561" y="490"/>
                  </a:lnTo>
                  <a:lnTo>
                    <a:pt x="572" y="460"/>
                  </a:lnTo>
                  <a:lnTo>
                    <a:pt x="572" y="428"/>
                  </a:lnTo>
                  <a:lnTo>
                    <a:pt x="580" y="398"/>
                  </a:lnTo>
                  <a:lnTo>
                    <a:pt x="591" y="368"/>
                  </a:lnTo>
                  <a:lnTo>
                    <a:pt x="602" y="336"/>
                  </a:lnTo>
                  <a:lnTo>
                    <a:pt x="612" y="296"/>
                  </a:lnTo>
                  <a:lnTo>
                    <a:pt x="623" y="266"/>
                  </a:lnTo>
                  <a:lnTo>
                    <a:pt x="642" y="234"/>
                  </a:lnTo>
                  <a:lnTo>
                    <a:pt x="663" y="194"/>
                  </a:lnTo>
                  <a:lnTo>
                    <a:pt x="683" y="164"/>
                  </a:lnTo>
                  <a:lnTo>
                    <a:pt x="715" y="143"/>
                  </a:lnTo>
                  <a:lnTo>
                    <a:pt x="744" y="113"/>
                  </a:lnTo>
                  <a:lnTo>
                    <a:pt x="776" y="92"/>
                  </a:lnTo>
                  <a:lnTo>
                    <a:pt x="806" y="81"/>
                  </a:lnTo>
                  <a:lnTo>
                    <a:pt x="836" y="51"/>
                  </a:lnTo>
                  <a:lnTo>
                    <a:pt x="868" y="30"/>
                  </a:lnTo>
                  <a:lnTo>
                    <a:pt x="88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rot="17160000">
              <a:off x="-450720" y="184752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Times New Roman"/>
              </a:endParaRPr>
            </a:p>
          </p:txBody>
        </p:sp>
        <p:sp>
          <p:nvSpPr>
            <p:cNvPr id="546" name=""/>
            <p:cNvSpPr/>
            <p:nvPr/>
          </p:nvSpPr>
          <p:spPr>
            <a:xfrm rot="17460000">
              <a:off x="695160" y="50500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0" lang="en-US" sz="2000" spc="-1" strike="noStrike">
                <a:solidFill>
                  <a:srgbClr val="ffffff"/>
                </a:solidFill>
                <a:latin typeface="Times New Roman"/>
              </a:endParaRPr>
            </a:p>
          </p:txBody>
        </p:sp>
      </p:grpSp>
      <p:sp>
        <p:nvSpPr>
          <p:cNvPr id="547" name="PlaceHolder 1"/>
          <p:cNvSpPr>
            <a:spLocks noGrp="1"/>
          </p:cNvSpPr>
          <p:nvPr>
            <p:ph type="title"/>
          </p:nvPr>
        </p:nvSpPr>
        <p:spPr>
          <a:xfrm>
            <a:off x="7467120" y="609120"/>
            <a:ext cx="142884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Solomon’s Israel</a:t>
            </a:r>
            <a:endParaRPr b="1" lang="en-US" sz="100" spc="-1" strike="noStrike" u="sng">
              <a:solidFill>
                <a:srgbClr val="c0fef9"/>
              </a:solidFill>
              <a:uFillTx/>
              <a:latin typeface="Times New Roman"/>
            </a:endParaRPr>
          </a:p>
        </p:txBody>
      </p:sp>
      <p:sp>
        <p:nvSpPr>
          <p:cNvPr id="548"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981920" y="609480"/>
            <a:ext cx="91440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Tabernacle Schematics 1</a:t>
            </a:r>
            <a:endParaRPr b="1" lang="en-US" sz="100" spc="-1" strike="noStrike" u="sng">
              <a:solidFill>
                <a:srgbClr val="c0fef9"/>
              </a:solidFill>
              <a:uFillTx/>
              <a:latin typeface="Times New Roman"/>
            </a:endParaRPr>
          </a:p>
        </p:txBody>
      </p:sp>
      <p:sp>
        <p:nvSpPr>
          <p:cNvPr id="550"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
        <p:nvSpPr>
          <p:cNvPr id="551" name=""/>
          <p:cNvSpPr/>
          <p:nvPr/>
        </p:nvSpPr>
        <p:spPr>
          <a:xfrm>
            <a:off x="3643200" y="5800680"/>
            <a:ext cx="2124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urtyard</a:t>
            </a:r>
            <a:endParaRPr b="0" lang="en-US" sz="3200" spc="-1" strike="noStrike">
              <a:solidFill>
                <a:srgbClr val="ffffff"/>
              </a:solidFill>
              <a:latin typeface="Times New Roman"/>
            </a:endParaRPr>
          </a:p>
        </p:txBody>
      </p:sp>
      <p:grpSp>
        <p:nvGrpSpPr>
          <p:cNvPr id="552" name=""/>
          <p:cNvGrpSpPr/>
          <p:nvPr/>
        </p:nvGrpSpPr>
        <p:grpSpPr>
          <a:xfrm>
            <a:off x="274680" y="581040"/>
            <a:ext cx="8583480" cy="6199560"/>
            <a:chOff x="274680" y="581040"/>
            <a:chExt cx="8583480" cy="6199560"/>
          </a:xfrm>
        </p:grpSpPr>
        <p:grpSp>
          <p:nvGrpSpPr>
            <p:cNvPr id="553" name=""/>
            <p:cNvGrpSpPr/>
            <p:nvPr/>
          </p:nvGrpSpPr>
          <p:grpSpPr>
            <a:xfrm>
              <a:off x="274680" y="581040"/>
              <a:ext cx="8562960" cy="6199560"/>
              <a:chOff x="274680" y="581040"/>
              <a:chExt cx="8562960" cy="6199560"/>
            </a:xfrm>
          </p:grpSpPr>
          <p:sp>
            <p:nvSpPr>
              <p:cNvPr id="554" name=""/>
              <p:cNvSpPr/>
              <p:nvPr/>
            </p:nvSpPr>
            <p:spPr>
              <a:xfrm>
                <a:off x="2079360" y="581040"/>
                <a:ext cx="5014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afd00"/>
                    </a:solidFill>
                    <a:uFillTx/>
                    <a:latin typeface="Arial"/>
                  </a:rPr>
                  <a:t>Tabernacle</a:t>
                </a:r>
                <a:endParaRPr b="0" lang="en-US" sz="7200" spc="-1" strike="noStrike">
                  <a:solidFill>
                    <a:srgbClr val="ffffff"/>
                  </a:solidFill>
                  <a:latin typeface="Times New Roman"/>
                </a:endParaRPr>
              </a:p>
            </p:txBody>
          </p:sp>
          <p:sp>
            <p:nvSpPr>
              <p:cNvPr id="555" name=""/>
              <p:cNvSpPr/>
              <p:nvPr/>
            </p:nvSpPr>
            <p:spPr>
              <a:xfrm>
                <a:off x="274680" y="2368440"/>
                <a:ext cx="8481960" cy="402588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814320" y="3517920"/>
                <a:ext cx="3592440" cy="1879560"/>
              </a:xfrm>
              <a:prstGeom prst="rect">
                <a:avLst/>
              </a:prstGeom>
              <a:solidFill>
                <a:srgbClr val="fe9b03"/>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808200" y="3511440"/>
                <a:ext cx="1815840" cy="189252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723960" y="3705120"/>
                <a:ext cx="1789200" cy="1551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Hol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e</a:t>
                </a:r>
                <a:endParaRPr b="0" lang="en-US" sz="3200" spc="-1" strike="noStrike">
                  <a:solidFill>
                    <a:srgbClr val="ffffff"/>
                  </a:solidFill>
                  <a:latin typeface="Times New Roman"/>
                </a:endParaRPr>
              </a:p>
            </p:txBody>
          </p:sp>
          <p:sp>
            <p:nvSpPr>
              <p:cNvPr id="559" name=""/>
              <p:cNvSpPr/>
              <p:nvPr/>
            </p:nvSpPr>
            <p:spPr>
              <a:xfrm>
                <a:off x="2768760" y="3886200"/>
                <a:ext cx="142056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ly Place</a:t>
                </a:r>
                <a:endParaRPr b="0" lang="en-US" sz="3600" spc="-1" strike="noStrike">
                  <a:solidFill>
                    <a:srgbClr val="ffffff"/>
                  </a:solidFill>
                  <a:latin typeface="Times New Roman"/>
                </a:endParaRPr>
              </a:p>
            </p:txBody>
          </p:sp>
          <p:sp>
            <p:nvSpPr>
              <p:cNvPr id="560" name=""/>
              <p:cNvSpPr/>
              <p:nvPr/>
            </p:nvSpPr>
            <p:spPr>
              <a:xfrm>
                <a:off x="4923000" y="4044960"/>
                <a:ext cx="825480" cy="749160"/>
              </a:xfrm>
              <a:prstGeom prst="ellipse">
                <a:avLst/>
              </a:prstGeom>
              <a:solidFill>
                <a:srgbClr val="fe9b03"/>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294600" y="3968640"/>
                <a:ext cx="1054080" cy="1054080"/>
              </a:xfrm>
              <a:prstGeom prst="rect">
                <a:avLst/>
              </a:prstGeom>
              <a:solidFill>
                <a:srgbClr val="fe9b03"/>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4749120" y="4848120"/>
                <a:ext cx="126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ver</a:t>
                </a:r>
                <a:endParaRPr b="0" lang="en-US" sz="3200" spc="-1" strike="noStrike">
                  <a:solidFill>
                    <a:srgbClr val="ffffff"/>
                  </a:solidFill>
                  <a:latin typeface="Times New Roman"/>
                </a:endParaRPr>
              </a:p>
            </p:txBody>
          </p:sp>
          <p:sp>
            <p:nvSpPr>
              <p:cNvPr id="563" name=""/>
              <p:cNvSpPr/>
              <p:nvPr/>
            </p:nvSpPr>
            <p:spPr>
              <a:xfrm>
                <a:off x="6350040" y="4206960"/>
                <a:ext cx="992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ar</a:t>
                </a:r>
                <a:endParaRPr b="0" lang="en-US" sz="2800" spc="-1" strike="noStrike">
                  <a:solidFill>
                    <a:srgbClr val="ffffff"/>
                  </a:solidFill>
                  <a:latin typeface="Times New Roman"/>
                </a:endParaRPr>
              </a:p>
            </p:txBody>
          </p:sp>
          <p:sp>
            <p:nvSpPr>
              <p:cNvPr id="564" name=""/>
              <p:cNvSpPr/>
              <p:nvPr/>
            </p:nvSpPr>
            <p:spPr>
              <a:xfrm>
                <a:off x="7148520" y="647856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grpSp>
        <p:sp>
          <p:nvSpPr>
            <p:cNvPr id="565" name=""/>
            <p:cNvSpPr/>
            <p:nvPr/>
          </p:nvSpPr>
          <p:spPr>
            <a:xfrm>
              <a:off x="8686800" y="3962520"/>
              <a:ext cx="171360" cy="11430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6" name=""/>
          <p:cNvSpPr/>
          <p:nvPr/>
        </p:nvSpPr>
        <p:spPr>
          <a:xfrm rot="16174800">
            <a:off x="7452720" y="4295880"/>
            <a:ext cx="1920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ance</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567" name=""/>
          <p:cNvGrpSpPr/>
          <p:nvPr/>
        </p:nvGrpSpPr>
        <p:grpSpPr>
          <a:xfrm>
            <a:off x="60840" y="152280"/>
            <a:ext cx="9000720" cy="6628320"/>
            <a:chOff x="60840" y="152280"/>
            <a:chExt cx="9000720" cy="6628320"/>
          </a:xfrm>
        </p:grpSpPr>
        <p:sp>
          <p:nvSpPr>
            <p:cNvPr id="568" name=""/>
            <p:cNvSpPr/>
            <p:nvPr/>
          </p:nvSpPr>
          <p:spPr>
            <a:xfrm>
              <a:off x="304920" y="152280"/>
              <a:ext cx="85341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afd00"/>
                  </a:solidFill>
                  <a:uFillTx/>
                  <a:latin typeface="Arial"/>
                </a:rPr>
                <a:t>Israelite Camp &amp; Tabernacle</a:t>
              </a:r>
              <a:endParaRPr b="0" lang="en-US" sz="4800" spc="-1" strike="noStrike">
                <a:solidFill>
                  <a:srgbClr val="ffffff"/>
                </a:solidFill>
                <a:latin typeface="Times New Roman"/>
              </a:endParaRPr>
            </a:p>
          </p:txBody>
        </p:sp>
        <p:sp>
          <p:nvSpPr>
            <p:cNvPr id="569" name=""/>
            <p:cNvSpPr/>
            <p:nvPr/>
          </p:nvSpPr>
          <p:spPr>
            <a:xfrm>
              <a:off x="3206880" y="3130560"/>
              <a:ext cx="2806560" cy="173988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530520" y="3652920"/>
              <a:ext cx="577800" cy="684000"/>
            </a:xfrm>
            <a:prstGeom prst="rect">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4140360" y="3652920"/>
              <a:ext cx="577800" cy="684000"/>
            </a:xfrm>
            <a:prstGeom prst="rect">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4951440" y="3865680"/>
              <a:ext cx="299880" cy="242640"/>
            </a:xfrm>
            <a:prstGeom prst="ellipse">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452920" y="3819600"/>
              <a:ext cx="255600" cy="288720"/>
            </a:xfrm>
            <a:prstGeom prst="rect">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V="1">
              <a:off x="235080" y="3967920"/>
              <a:ext cx="901440" cy="444600"/>
            </a:xfrm>
            <a:custGeom>
              <a:avLst/>
              <a:gdLst>
                <a:gd name="textAreaLeft" fmla="*/ 198000 w 901440"/>
                <a:gd name="textAreaRight" fmla="*/ 703440 w 90144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1149480" y="3358440"/>
              <a:ext cx="901440" cy="444600"/>
            </a:xfrm>
            <a:custGeom>
              <a:avLst/>
              <a:gdLst>
                <a:gd name="textAreaLeft" fmla="*/ 198000 w 901440"/>
                <a:gd name="textAreaRight" fmla="*/ 703440 w 90144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1911240" y="3892680"/>
              <a:ext cx="901800" cy="444240"/>
            </a:xfrm>
            <a:custGeom>
              <a:avLst/>
              <a:gdLst>
                <a:gd name="textAreaLeft" fmla="*/ 198360 w 901800"/>
                <a:gd name="textAreaRight" fmla="*/ 703440 w 901800"/>
                <a:gd name="textAreaTop" fmla="*/ 97560 h 444240"/>
                <a:gd name="textAreaBottom" fmla="*/ 346680 h 44424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8159760" y="4044240"/>
              <a:ext cx="901800" cy="444600"/>
            </a:xfrm>
            <a:custGeom>
              <a:avLst/>
              <a:gdLst>
                <a:gd name="textAreaLeft" fmla="*/ 198360 w 901800"/>
                <a:gd name="textAreaRight" fmla="*/ 703440 w 90180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7397640" y="3358440"/>
              <a:ext cx="901800" cy="444600"/>
            </a:xfrm>
            <a:custGeom>
              <a:avLst/>
              <a:gdLst>
                <a:gd name="textAreaLeft" fmla="*/ 198360 w 901800"/>
                <a:gd name="textAreaRight" fmla="*/ 703440 w 90180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6407280" y="3892680"/>
              <a:ext cx="901440" cy="444240"/>
            </a:xfrm>
            <a:custGeom>
              <a:avLst/>
              <a:gdLst>
                <a:gd name="textAreaLeft" fmla="*/ 198000 w 901440"/>
                <a:gd name="textAreaRight" fmla="*/ 703440 w 901440"/>
                <a:gd name="textAreaTop" fmla="*/ 97560 h 444240"/>
                <a:gd name="textAreaBottom" fmla="*/ 346680 h 44424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3664080" y="6101640"/>
              <a:ext cx="901440" cy="444600"/>
            </a:xfrm>
            <a:custGeom>
              <a:avLst/>
              <a:gdLst>
                <a:gd name="textAreaLeft" fmla="*/ 198000 w 901440"/>
                <a:gd name="textAreaRight" fmla="*/ 703440 w 90144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V="1">
              <a:off x="4502160" y="5721480"/>
              <a:ext cx="901800" cy="444240"/>
            </a:xfrm>
            <a:custGeom>
              <a:avLst/>
              <a:gdLst>
                <a:gd name="textAreaLeft" fmla="*/ 198360 w 901800"/>
                <a:gd name="textAreaRight" fmla="*/ 703440 w 901800"/>
                <a:gd name="textAreaTop" fmla="*/ 97560 h 444240"/>
                <a:gd name="textAreaBottom" fmla="*/ 346680 h 44424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flipV="1">
              <a:off x="4044960" y="5187240"/>
              <a:ext cx="901800" cy="444600"/>
            </a:xfrm>
            <a:custGeom>
              <a:avLst/>
              <a:gdLst>
                <a:gd name="textAreaLeft" fmla="*/ 198360 w 901800"/>
                <a:gd name="textAreaRight" fmla="*/ 703440 w 90180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V="1">
              <a:off x="3816360" y="1301040"/>
              <a:ext cx="901800" cy="444600"/>
            </a:xfrm>
            <a:custGeom>
              <a:avLst/>
              <a:gdLst>
                <a:gd name="textAreaLeft" fmla="*/ 198360 w 901800"/>
                <a:gd name="textAreaRight" fmla="*/ 703440 w 90180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flipV="1">
              <a:off x="3740040" y="2367720"/>
              <a:ext cx="901800" cy="444600"/>
            </a:xfrm>
            <a:custGeom>
              <a:avLst/>
              <a:gdLst>
                <a:gd name="textAreaLeft" fmla="*/ 198360 w 901800"/>
                <a:gd name="textAreaRight" fmla="*/ 703440 w 901800"/>
                <a:gd name="textAreaTop" fmla="*/ 97560 h 444600"/>
                <a:gd name="textAreaBottom" fmla="*/ 347040 h 44460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V="1">
              <a:off x="4273560" y="1835280"/>
              <a:ext cx="901800" cy="444240"/>
            </a:xfrm>
            <a:custGeom>
              <a:avLst/>
              <a:gdLst>
                <a:gd name="textAreaLeft" fmla="*/ 198360 w 901800"/>
                <a:gd name="textAreaRight" fmla="*/ 703440 w 901800"/>
                <a:gd name="textAreaTop" fmla="*/ 97560 h 444240"/>
                <a:gd name="textAreaBottom" fmla="*/ 346680 h 44424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337920" y="4343400"/>
              <a:ext cx="2595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ernacle</a:t>
              </a:r>
              <a:endParaRPr b="0" lang="en-US" sz="3600" spc="-1" strike="noStrike">
                <a:solidFill>
                  <a:srgbClr val="ffffff"/>
                </a:solidFill>
                <a:latin typeface="Times New Roman"/>
              </a:endParaRPr>
            </a:p>
          </p:txBody>
        </p:sp>
        <p:sp>
          <p:nvSpPr>
            <p:cNvPr id="587" name=""/>
            <p:cNvSpPr/>
            <p:nvPr/>
          </p:nvSpPr>
          <p:spPr>
            <a:xfrm>
              <a:off x="6156360" y="4390920"/>
              <a:ext cx="1377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dah</a:t>
              </a:r>
              <a:endParaRPr b="0" lang="en-US" sz="3200" spc="-1" strike="noStrike">
                <a:solidFill>
                  <a:srgbClr val="ffffff"/>
                </a:solidFill>
                <a:latin typeface="Times New Roman"/>
              </a:endParaRPr>
            </a:p>
          </p:txBody>
        </p:sp>
        <p:sp>
          <p:nvSpPr>
            <p:cNvPr id="588" name=""/>
            <p:cNvSpPr/>
            <p:nvPr/>
          </p:nvSpPr>
          <p:spPr>
            <a:xfrm>
              <a:off x="7071480" y="2454120"/>
              <a:ext cx="129996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6bf69"/>
                  </a:solidFill>
                  <a:uFillTx/>
                  <a:latin typeface="Times New Roman"/>
                </a:rPr>
                <a:t>East</a:t>
              </a:r>
              <a:endParaRPr b="0" lang="en-US" sz="4800" spc="-1" strike="noStrike">
                <a:solidFill>
                  <a:srgbClr val="ffffff"/>
                </a:solidFill>
                <a:latin typeface="Times New Roman"/>
              </a:endParaRPr>
            </a:p>
          </p:txBody>
        </p:sp>
        <p:sp>
          <p:nvSpPr>
            <p:cNvPr id="589" name=""/>
            <p:cNvSpPr/>
            <p:nvPr/>
          </p:nvSpPr>
          <p:spPr>
            <a:xfrm>
              <a:off x="5626800" y="5959440"/>
              <a:ext cx="16704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6bf69"/>
                  </a:solidFill>
                  <a:uFillTx/>
                  <a:latin typeface="Times New Roman"/>
                </a:rPr>
                <a:t>South</a:t>
              </a:r>
              <a:endParaRPr b="0" lang="en-US" sz="4800" spc="-1" strike="noStrike">
                <a:solidFill>
                  <a:srgbClr val="ffffff"/>
                </a:solidFill>
                <a:latin typeface="Times New Roman"/>
              </a:endParaRPr>
            </a:p>
          </p:txBody>
        </p:sp>
        <p:sp>
          <p:nvSpPr>
            <p:cNvPr id="590" name=""/>
            <p:cNvSpPr/>
            <p:nvPr/>
          </p:nvSpPr>
          <p:spPr>
            <a:xfrm>
              <a:off x="669600" y="2378160"/>
              <a:ext cx="14022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6bf69"/>
                  </a:solidFill>
                  <a:uFillTx/>
                  <a:latin typeface="Times New Roman"/>
                </a:rPr>
                <a:t>West</a:t>
              </a:r>
              <a:endParaRPr b="0" lang="en-US" sz="4800" spc="-1" strike="noStrike">
                <a:solidFill>
                  <a:srgbClr val="ffffff"/>
                </a:solidFill>
                <a:latin typeface="Times New Roman"/>
              </a:endParaRPr>
            </a:p>
          </p:txBody>
        </p:sp>
        <p:sp>
          <p:nvSpPr>
            <p:cNvPr id="591" name=""/>
            <p:cNvSpPr/>
            <p:nvPr/>
          </p:nvSpPr>
          <p:spPr>
            <a:xfrm>
              <a:off x="6842880" y="3324240"/>
              <a:ext cx="1828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sachar</a:t>
              </a:r>
              <a:endParaRPr b="0" lang="en-US" sz="3200" spc="-1" strike="noStrike">
                <a:solidFill>
                  <a:srgbClr val="ffffff"/>
                </a:solidFill>
                <a:latin typeface="Times New Roman"/>
              </a:endParaRPr>
            </a:p>
          </p:txBody>
        </p:sp>
        <p:sp>
          <p:nvSpPr>
            <p:cNvPr id="592" name=""/>
            <p:cNvSpPr/>
            <p:nvPr/>
          </p:nvSpPr>
          <p:spPr>
            <a:xfrm>
              <a:off x="7298640" y="4010040"/>
              <a:ext cx="176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ebulun</a:t>
              </a:r>
              <a:endParaRPr b="0" lang="en-US" sz="3200" spc="-1" strike="noStrike">
                <a:solidFill>
                  <a:srgbClr val="ffffff"/>
                </a:solidFill>
                <a:latin typeface="Times New Roman"/>
              </a:endParaRPr>
            </a:p>
          </p:txBody>
        </p:sp>
        <p:sp>
          <p:nvSpPr>
            <p:cNvPr id="593" name=""/>
            <p:cNvSpPr/>
            <p:nvPr/>
          </p:nvSpPr>
          <p:spPr>
            <a:xfrm>
              <a:off x="2498760" y="5000760"/>
              <a:ext cx="167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ueben</a:t>
              </a:r>
              <a:endParaRPr b="0" lang="en-US" sz="3200" spc="-1" strike="noStrike">
                <a:solidFill>
                  <a:srgbClr val="ffffff"/>
                </a:solidFill>
                <a:latin typeface="Times New Roman"/>
              </a:endParaRPr>
            </a:p>
          </p:txBody>
        </p:sp>
        <p:sp>
          <p:nvSpPr>
            <p:cNvPr id="594" name=""/>
            <p:cNvSpPr/>
            <p:nvPr/>
          </p:nvSpPr>
          <p:spPr>
            <a:xfrm>
              <a:off x="2804400" y="5610240"/>
              <a:ext cx="1649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eon</a:t>
              </a:r>
              <a:endParaRPr b="0" lang="en-US" sz="3200" spc="-1" strike="noStrike">
                <a:solidFill>
                  <a:srgbClr val="ffffff"/>
                </a:solidFill>
                <a:latin typeface="Times New Roman"/>
              </a:endParaRPr>
            </a:p>
          </p:txBody>
        </p:sp>
        <p:sp>
          <p:nvSpPr>
            <p:cNvPr id="595" name=""/>
            <p:cNvSpPr/>
            <p:nvPr/>
          </p:nvSpPr>
          <p:spPr>
            <a:xfrm>
              <a:off x="2727720" y="6067440"/>
              <a:ext cx="972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d</a:t>
              </a:r>
              <a:endParaRPr b="0" lang="en-US" sz="3200" spc="-1" strike="noStrike">
                <a:solidFill>
                  <a:srgbClr val="ffffff"/>
                </a:solidFill>
                <a:latin typeface="Times New Roman"/>
              </a:endParaRPr>
            </a:p>
          </p:txBody>
        </p:sp>
        <p:sp>
          <p:nvSpPr>
            <p:cNvPr id="596" name=""/>
            <p:cNvSpPr/>
            <p:nvPr/>
          </p:nvSpPr>
          <p:spPr>
            <a:xfrm>
              <a:off x="3870720" y="3095640"/>
              <a:ext cx="1580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ites</a:t>
              </a:r>
              <a:endParaRPr b="0" lang="en-US" sz="3200" spc="-1" strike="noStrike">
                <a:solidFill>
                  <a:srgbClr val="ffffff"/>
                </a:solidFill>
                <a:latin typeface="Times New Roman"/>
              </a:endParaRPr>
            </a:p>
          </p:txBody>
        </p:sp>
        <p:sp>
          <p:nvSpPr>
            <p:cNvPr id="597" name=""/>
            <p:cNvSpPr/>
            <p:nvPr/>
          </p:nvSpPr>
          <p:spPr>
            <a:xfrm>
              <a:off x="1661760" y="4390920"/>
              <a:ext cx="180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hraim</a:t>
              </a:r>
              <a:endParaRPr b="0" lang="en-US" sz="3200" spc="-1" strike="noStrike">
                <a:solidFill>
                  <a:srgbClr val="ffffff"/>
                </a:solidFill>
                <a:latin typeface="Times New Roman"/>
              </a:endParaRPr>
            </a:p>
          </p:txBody>
        </p:sp>
        <p:sp>
          <p:nvSpPr>
            <p:cNvPr id="598" name=""/>
            <p:cNvSpPr/>
            <p:nvPr/>
          </p:nvSpPr>
          <p:spPr>
            <a:xfrm>
              <a:off x="917640" y="3247920"/>
              <a:ext cx="2144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sseh</a:t>
              </a:r>
              <a:endParaRPr b="0" lang="en-US" sz="3200" spc="-1" strike="noStrike">
                <a:solidFill>
                  <a:srgbClr val="ffffff"/>
                </a:solidFill>
                <a:latin typeface="Times New Roman"/>
              </a:endParaRPr>
            </a:p>
          </p:txBody>
        </p:sp>
        <p:sp>
          <p:nvSpPr>
            <p:cNvPr id="599" name=""/>
            <p:cNvSpPr/>
            <p:nvPr/>
          </p:nvSpPr>
          <p:spPr>
            <a:xfrm>
              <a:off x="60840" y="3933720"/>
              <a:ext cx="2010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jamin</a:t>
              </a:r>
              <a:endParaRPr b="0" lang="en-US" sz="3200" spc="-1" strike="noStrike">
                <a:solidFill>
                  <a:srgbClr val="ffffff"/>
                </a:solidFill>
                <a:latin typeface="Times New Roman"/>
              </a:endParaRPr>
            </a:p>
          </p:txBody>
        </p:sp>
        <p:sp>
          <p:nvSpPr>
            <p:cNvPr id="600" name=""/>
            <p:cNvSpPr/>
            <p:nvPr/>
          </p:nvSpPr>
          <p:spPr>
            <a:xfrm>
              <a:off x="4633200" y="2333520"/>
              <a:ext cx="949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n</a:t>
              </a:r>
              <a:endParaRPr b="0" lang="en-US" sz="3200" spc="-1" strike="noStrike">
                <a:solidFill>
                  <a:srgbClr val="ffffff"/>
                </a:solidFill>
                <a:latin typeface="Times New Roman"/>
              </a:endParaRPr>
            </a:p>
          </p:txBody>
        </p:sp>
        <p:sp>
          <p:nvSpPr>
            <p:cNvPr id="601" name=""/>
            <p:cNvSpPr/>
            <p:nvPr/>
          </p:nvSpPr>
          <p:spPr>
            <a:xfrm>
              <a:off x="2880720" y="1876320"/>
              <a:ext cx="1333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her</a:t>
              </a:r>
              <a:endParaRPr b="0" lang="en-US" sz="3200" spc="-1" strike="noStrike">
                <a:solidFill>
                  <a:srgbClr val="ffffff"/>
                </a:solidFill>
                <a:latin typeface="Times New Roman"/>
              </a:endParaRPr>
            </a:p>
          </p:txBody>
        </p:sp>
        <p:sp>
          <p:nvSpPr>
            <p:cNvPr id="602" name=""/>
            <p:cNvSpPr/>
            <p:nvPr/>
          </p:nvSpPr>
          <p:spPr>
            <a:xfrm>
              <a:off x="4632480" y="1190520"/>
              <a:ext cx="1784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phtali</a:t>
              </a:r>
              <a:endParaRPr b="0" lang="en-US" sz="3200" spc="-1" strike="noStrike">
                <a:solidFill>
                  <a:srgbClr val="ffffff"/>
                </a:solidFill>
                <a:latin typeface="Times New Roman"/>
              </a:endParaRPr>
            </a:p>
          </p:txBody>
        </p:sp>
        <p:sp>
          <p:nvSpPr>
            <p:cNvPr id="603" name=""/>
            <p:cNvSpPr/>
            <p:nvPr/>
          </p:nvSpPr>
          <p:spPr>
            <a:xfrm>
              <a:off x="2119320" y="1006560"/>
              <a:ext cx="167184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6bf69"/>
                  </a:solidFill>
                  <a:uFillTx/>
                  <a:latin typeface="Times New Roman"/>
                </a:rPr>
                <a:t>North</a:t>
              </a:r>
              <a:endParaRPr b="0" lang="en-US" sz="4800" spc="-1" strike="noStrike">
                <a:solidFill>
                  <a:srgbClr val="ffffff"/>
                </a:solidFill>
                <a:latin typeface="Times New Roman"/>
              </a:endParaRPr>
            </a:p>
          </p:txBody>
        </p:sp>
        <p:sp>
          <p:nvSpPr>
            <p:cNvPr id="604" name=""/>
            <p:cNvSpPr/>
            <p:nvPr/>
          </p:nvSpPr>
          <p:spPr>
            <a:xfrm>
              <a:off x="61920" y="647856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grpSp>
      <p:sp>
        <p:nvSpPr>
          <p:cNvPr id="605" name="PlaceHolder 1"/>
          <p:cNvSpPr>
            <a:spLocks noGrp="1"/>
          </p:cNvSpPr>
          <p:nvPr>
            <p:ph type="title"/>
          </p:nvPr>
        </p:nvSpPr>
        <p:spPr>
          <a:xfrm>
            <a:off x="7867440" y="609480"/>
            <a:ext cx="1028520" cy="285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Tabernacle Schematics 2</a:t>
            </a:r>
            <a:endParaRPr b="1" lang="en-US" sz="100" spc="-1" strike="noStrike" u="sng">
              <a:solidFill>
                <a:srgbClr val="c0fef9"/>
              </a:solidFill>
              <a:uFillTx/>
              <a:latin typeface="Times New Roman"/>
            </a:endParaRPr>
          </a:p>
        </p:txBody>
      </p:sp>
      <p:sp>
        <p:nvSpPr>
          <p:cNvPr id="606"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607" name=""/>
          <p:cNvSpPr/>
          <p:nvPr/>
        </p:nvSpPr>
        <p:spPr>
          <a:xfrm>
            <a:off x="2079360" y="581040"/>
            <a:ext cx="5014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afd00"/>
                </a:solidFill>
                <a:uFillTx/>
                <a:latin typeface="Arial"/>
              </a:rPr>
              <a:t>Tabernacle</a:t>
            </a:r>
            <a:endParaRPr b="0" lang="en-US" sz="7200" spc="-1" strike="noStrike">
              <a:solidFill>
                <a:srgbClr val="ffffff"/>
              </a:solidFill>
              <a:latin typeface="Times New Roman"/>
            </a:endParaRPr>
          </a:p>
        </p:txBody>
      </p:sp>
      <p:grpSp>
        <p:nvGrpSpPr>
          <p:cNvPr id="608" name=""/>
          <p:cNvGrpSpPr/>
          <p:nvPr/>
        </p:nvGrpSpPr>
        <p:grpSpPr>
          <a:xfrm>
            <a:off x="387360" y="1844640"/>
            <a:ext cx="8653320" cy="4869360"/>
            <a:chOff x="387360" y="1844640"/>
            <a:chExt cx="8653320" cy="4869360"/>
          </a:xfrm>
        </p:grpSpPr>
        <p:sp>
          <p:nvSpPr>
            <p:cNvPr id="609" name=""/>
            <p:cNvSpPr/>
            <p:nvPr/>
          </p:nvSpPr>
          <p:spPr>
            <a:xfrm>
              <a:off x="387360" y="2254320"/>
              <a:ext cx="3340080" cy="280656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2978280" y="2244600"/>
              <a:ext cx="2425680" cy="280692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97440" y="3301920"/>
              <a:ext cx="901800" cy="882720"/>
            </a:xfrm>
            <a:prstGeom prst="ellipse">
              <a:avLst/>
            </a:prstGeom>
            <a:solidFill>
              <a:srgbClr val="fe9b03"/>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7397640" y="3087720"/>
              <a:ext cx="1511280" cy="1477800"/>
            </a:xfrm>
            <a:prstGeom prst="rect">
              <a:avLst/>
            </a:prstGeom>
            <a:solidFill>
              <a:srgbClr val="fe9b03"/>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573120" y="5208480"/>
              <a:ext cx="2092320" cy="13309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a:t>
              </a:r>
              <a:endParaRPr b="0" lang="en-US" sz="3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ly</a:t>
              </a:r>
              <a:endParaRPr b="0" lang="en-US" sz="3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ce</a:t>
              </a:r>
              <a:endParaRPr b="0" lang="en-US" sz="3200" spc="-1" strike="noStrike">
                <a:solidFill>
                  <a:srgbClr val="ffffff"/>
                </a:solidFill>
                <a:latin typeface="Times New Roman"/>
              </a:endParaRPr>
            </a:p>
          </p:txBody>
        </p:sp>
        <p:sp>
          <p:nvSpPr>
            <p:cNvPr id="614" name=""/>
            <p:cNvSpPr/>
            <p:nvPr/>
          </p:nvSpPr>
          <p:spPr>
            <a:xfrm>
              <a:off x="2859120" y="5216400"/>
              <a:ext cx="248760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l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ce</a:t>
              </a:r>
              <a:endParaRPr b="0" lang="en-US" sz="3200" spc="-1" strike="noStrike">
                <a:solidFill>
                  <a:srgbClr val="ffffff"/>
                </a:solidFill>
                <a:latin typeface="Times New Roman"/>
              </a:endParaRPr>
            </a:p>
          </p:txBody>
        </p:sp>
        <p:sp>
          <p:nvSpPr>
            <p:cNvPr id="615" name=""/>
            <p:cNvSpPr/>
            <p:nvPr/>
          </p:nvSpPr>
          <p:spPr>
            <a:xfrm>
              <a:off x="4959360" y="2557440"/>
              <a:ext cx="2531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ver</a:t>
              </a:r>
              <a:endParaRPr b="0" lang="en-US" sz="3200" spc="-1" strike="noStrike">
                <a:solidFill>
                  <a:srgbClr val="ffffff"/>
                </a:solidFill>
                <a:latin typeface="Times New Roman"/>
              </a:endParaRPr>
            </a:p>
          </p:txBody>
        </p:sp>
        <p:sp>
          <p:nvSpPr>
            <p:cNvPr id="616" name=""/>
            <p:cNvSpPr/>
            <p:nvPr/>
          </p:nvSpPr>
          <p:spPr>
            <a:xfrm>
              <a:off x="7316640" y="3319560"/>
              <a:ext cx="169560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onz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ar</a:t>
              </a:r>
              <a:endParaRPr b="0" lang="en-US" sz="3200" spc="-1" strike="noStrike">
                <a:solidFill>
                  <a:srgbClr val="ffffff"/>
                </a:solidFill>
                <a:latin typeface="Times New Roman"/>
              </a:endParaRPr>
            </a:p>
          </p:txBody>
        </p:sp>
        <p:sp>
          <p:nvSpPr>
            <p:cNvPr id="617" name=""/>
            <p:cNvSpPr/>
            <p:nvPr/>
          </p:nvSpPr>
          <p:spPr>
            <a:xfrm flipV="1">
              <a:off x="1073160" y="2978280"/>
              <a:ext cx="901800" cy="444240"/>
            </a:xfrm>
            <a:custGeom>
              <a:avLst/>
              <a:gdLst>
                <a:gd name="textAreaLeft" fmla="*/ 198360 w 901800"/>
                <a:gd name="textAreaRight" fmla="*/ 703440 w 901800"/>
                <a:gd name="textAreaTop" fmla="*/ 97560 h 444240"/>
                <a:gd name="textAreaBottom" fmla="*/ 346680 h 44424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90040" y="3629160"/>
              <a:ext cx="219168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k of th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venant</a:t>
              </a:r>
              <a:endParaRPr b="0" lang="en-US" sz="3200" spc="-1" strike="noStrike">
                <a:solidFill>
                  <a:srgbClr val="ffffff"/>
                </a:solidFill>
                <a:latin typeface="Times New Roman"/>
              </a:endParaRPr>
            </a:p>
          </p:txBody>
        </p:sp>
        <p:sp>
          <p:nvSpPr>
            <p:cNvPr id="619" name=""/>
            <p:cNvSpPr/>
            <p:nvPr/>
          </p:nvSpPr>
          <p:spPr>
            <a:xfrm>
              <a:off x="3664080" y="2749680"/>
              <a:ext cx="1054080" cy="368280"/>
            </a:xfrm>
            <a:prstGeom prst="rect">
              <a:avLst/>
            </a:prstGeom>
            <a:solidFill>
              <a:srgbClr val="fe9b03"/>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3130560" y="3435480"/>
              <a:ext cx="368280" cy="368280"/>
            </a:xfrm>
            <a:prstGeom prst="rect">
              <a:avLst/>
            </a:prstGeom>
            <a:solidFill>
              <a:srgbClr val="fe9b03"/>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121280" y="4197240"/>
              <a:ext cx="63360" cy="749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759120" y="4216320"/>
              <a:ext cx="387360" cy="40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3882960" y="4202280"/>
              <a:ext cx="263520" cy="277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006800" y="4202280"/>
              <a:ext cx="138240" cy="13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160800" y="1844640"/>
              <a:ext cx="20757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wbread</a:t>
              </a:r>
              <a:endParaRPr b="0" lang="en-US" sz="2800" spc="-1" strike="noStrike">
                <a:solidFill>
                  <a:srgbClr val="ffffff"/>
                </a:solidFill>
                <a:latin typeface="Times New Roman"/>
              </a:endParaRPr>
            </a:p>
          </p:txBody>
        </p:sp>
        <p:sp>
          <p:nvSpPr>
            <p:cNvPr id="626" name=""/>
            <p:cNvSpPr/>
            <p:nvPr/>
          </p:nvSpPr>
          <p:spPr>
            <a:xfrm>
              <a:off x="4175280" y="4543560"/>
              <a:ext cx="1874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norah</a:t>
              </a:r>
              <a:endParaRPr b="0" lang="en-US" sz="3200" spc="-1" strike="noStrike">
                <a:solidFill>
                  <a:srgbClr val="ffffff"/>
                </a:solidFill>
                <a:latin typeface="Times New Roman"/>
              </a:endParaRPr>
            </a:p>
          </p:txBody>
        </p:sp>
        <p:sp>
          <p:nvSpPr>
            <p:cNvPr id="627" name=""/>
            <p:cNvSpPr/>
            <p:nvPr/>
          </p:nvSpPr>
          <p:spPr>
            <a:xfrm>
              <a:off x="3568320" y="3281400"/>
              <a:ext cx="1505880" cy="77148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ar of</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ense</a:t>
              </a:r>
              <a:endParaRPr b="0" lang="en-US" sz="2800" spc="-1" strike="noStrike">
                <a:solidFill>
                  <a:srgbClr val="ffffff"/>
                </a:solidFill>
                <a:latin typeface="Times New Roman"/>
              </a:endParaRPr>
            </a:p>
          </p:txBody>
        </p:sp>
        <p:sp>
          <p:nvSpPr>
            <p:cNvPr id="628" name=""/>
            <p:cNvSpPr/>
            <p:nvPr/>
          </p:nvSpPr>
          <p:spPr>
            <a:xfrm>
              <a:off x="7351560" y="641196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629" name=""/>
            <p:cNvSpPr/>
            <p:nvPr/>
          </p:nvSpPr>
          <p:spPr>
            <a:xfrm flipH="1">
              <a:off x="4140360" y="4240080"/>
              <a:ext cx="387360" cy="40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flipH="1">
              <a:off x="4164120" y="4197240"/>
              <a:ext cx="263520" cy="277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H="1">
              <a:off x="4173480" y="4197240"/>
              <a:ext cx="138240" cy="13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2" name="PlaceHolder 1"/>
          <p:cNvSpPr>
            <a:spLocks noGrp="1"/>
          </p:cNvSpPr>
          <p:nvPr>
            <p:ph type="title"/>
          </p:nvPr>
        </p:nvSpPr>
        <p:spPr>
          <a:xfrm>
            <a:off x="7810560" y="609480"/>
            <a:ext cx="1085760" cy="285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Tabernacle Schematics 3</a:t>
            </a:r>
            <a:endParaRPr b="1" lang="en-US" sz="100" spc="-1" strike="noStrike" u="sng">
              <a:solidFill>
                <a:srgbClr val="c0fef9"/>
              </a:solidFill>
              <a:uFillTx/>
              <a:latin typeface="Times New Roman"/>
            </a:endParaRPr>
          </a:p>
        </p:txBody>
      </p:sp>
      <p:sp>
        <p:nvSpPr>
          <p:cNvPr id="633"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634" name=""/>
          <p:cNvGrpSpPr/>
          <p:nvPr/>
        </p:nvGrpSpPr>
        <p:grpSpPr>
          <a:xfrm>
            <a:off x="274680" y="557280"/>
            <a:ext cx="8866080" cy="5891400"/>
            <a:chOff x="274680" y="557280"/>
            <a:chExt cx="8866080" cy="5891400"/>
          </a:xfrm>
        </p:grpSpPr>
        <p:sp>
          <p:nvSpPr>
            <p:cNvPr id="635" name=""/>
            <p:cNvSpPr/>
            <p:nvPr/>
          </p:nvSpPr>
          <p:spPr>
            <a:xfrm>
              <a:off x="1320840" y="557280"/>
              <a:ext cx="627732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ff"/>
                  </a:solidFill>
                  <a:uFillTx/>
                  <a:latin typeface="Arial"/>
                </a:rPr>
                <a:t>Solomon’s Temple</a:t>
              </a:r>
              <a:endParaRPr b="0" lang="en-US" sz="5400" spc="-1" strike="noStrike">
                <a:solidFill>
                  <a:srgbClr val="ffffff"/>
                </a:solidFill>
                <a:latin typeface="Times New Roman"/>
              </a:endParaRPr>
            </a:p>
          </p:txBody>
        </p:sp>
        <p:sp>
          <p:nvSpPr>
            <p:cNvPr id="636" name=""/>
            <p:cNvSpPr/>
            <p:nvPr/>
          </p:nvSpPr>
          <p:spPr>
            <a:xfrm>
              <a:off x="274680" y="2063880"/>
              <a:ext cx="6006960" cy="31874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814320" y="2679840"/>
              <a:ext cx="5461200" cy="1879560"/>
            </a:xfrm>
            <a:prstGeom prst="rect">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294600" y="2673360"/>
              <a:ext cx="825480" cy="189216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209000" y="3130560"/>
              <a:ext cx="291960" cy="21600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7209000" y="3816360"/>
              <a:ext cx="291960" cy="21600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808200" y="2673360"/>
              <a:ext cx="1815840" cy="189216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4680" y="5638680"/>
              <a:ext cx="69213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392480" y="5686560"/>
              <a:ext cx="4922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rox 90 cubits (135 ft)</a:t>
              </a:r>
              <a:endParaRPr b="0" lang="en-US" sz="3200" spc="-1" strike="noStrike">
                <a:solidFill>
                  <a:srgbClr val="ffffff"/>
                </a:solidFill>
                <a:latin typeface="Times New Roman"/>
              </a:endParaRPr>
            </a:p>
          </p:txBody>
        </p:sp>
        <p:sp>
          <p:nvSpPr>
            <p:cNvPr id="644" name=""/>
            <p:cNvSpPr/>
            <p:nvPr/>
          </p:nvSpPr>
          <p:spPr>
            <a:xfrm>
              <a:off x="768600" y="2987640"/>
              <a:ext cx="18792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Hol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a:t>
              </a:r>
              <a:endParaRPr b="0" lang="en-US" sz="2800" spc="-1" strike="noStrike">
                <a:solidFill>
                  <a:srgbClr val="ffffff"/>
                </a:solidFill>
                <a:latin typeface="Times New Roman"/>
              </a:endParaRPr>
            </a:p>
          </p:txBody>
        </p:sp>
        <p:sp>
          <p:nvSpPr>
            <p:cNvPr id="645" name=""/>
            <p:cNvSpPr/>
            <p:nvPr/>
          </p:nvSpPr>
          <p:spPr>
            <a:xfrm>
              <a:off x="3072960" y="3276720"/>
              <a:ext cx="2493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ly Place</a:t>
              </a:r>
              <a:endParaRPr b="0" lang="en-US" sz="3600" spc="-1" strike="noStrike">
                <a:solidFill>
                  <a:srgbClr val="ffffff"/>
                </a:solidFill>
                <a:latin typeface="Times New Roman"/>
              </a:endParaRPr>
            </a:p>
          </p:txBody>
        </p:sp>
        <p:sp>
          <p:nvSpPr>
            <p:cNvPr id="646" name=""/>
            <p:cNvSpPr/>
            <p:nvPr/>
          </p:nvSpPr>
          <p:spPr>
            <a:xfrm>
              <a:off x="1776600" y="2104920"/>
              <a:ext cx="2711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Rooms</a:t>
              </a:r>
              <a:endParaRPr b="0" lang="en-US" sz="3200" spc="-1" strike="noStrike">
                <a:solidFill>
                  <a:srgbClr val="ffffff"/>
                </a:solidFill>
                <a:latin typeface="Times New Roman"/>
              </a:endParaRPr>
            </a:p>
          </p:txBody>
        </p:sp>
        <p:sp>
          <p:nvSpPr>
            <p:cNvPr id="647" name=""/>
            <p:cNvSpPr/>
            <p:nvPr/>
          </p:nvSpPr>
          <p:spPr>
            <a:xfrm>
              <a:off x="7437600" y="4654440"/>
              <a:ext cx="825480" cy="74952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361280" y="5638680"/>
              <a:ext cx="977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263000" y="5624640"/>
              <a:ext cx="172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cu (15 ft)</a:t>
              </a:r>
              <a:endParaRPr b="0" lang="en-US" sz="2400" spc="-1" strike="noStrike">
                <a:solidFill>
                  <a:srgbClr val="ffffff"/>
                </a:solidFill>
                <a:latin typeface="Times New Roman"/>
              </a:endParaRPr>
            </a:p>
          </p:txBody>
        </p:sp>
        <p:sp>
          <p:nvSpPr>
            <p:cNvPr id="650" name=""/>
            <p:cNvSpPr/>
            <p:nvPr/>
          </p:nvSpPr>
          <p:spPr>
            <a:xfrm>
              <a:off x="7742160" y="2978280"/>
              <a:ext cx="1054080" cy="105408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7417440" y="4786200"/>
              <a:ext cx="72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a:t>
              </a:r>
              <a:endParaRPr b="0" lang="en-US" sz="2400" spc="-1" strike="noStrike">
                <a:solidFill>
                  <a:srgbClr val="ffffff"/>
                </a:solidFill>
                <a:latin typeface="Times New Roman"/>
              </a:endParaRPr>
            </a:p>
          </p:txBody>
        </p:sp>
        <p:sp>
          <p:nvSpPr>
            <p:cNvPr id="652" name=""/>
            <p:cNvSpPr/>
            <p:nvPr/>
          </p:nvSpPr>
          <p:spPr>
            <a:xfrm>
              <a:off x="7797960" y="3216240"/>
              <a:ext cx="992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ar</a:t>
              </a:r>
              <a:endParaRPr b="0" lang="en-US" sz="2800" spc="-1" strike="noStrike">
                <a:solidFill>
                  <a:srgbClr val="ffffff"/>
                </a:solidFill>
                <a:latin typeface="Times New Roman"/>
              </a:endParaRPr>
            </a:p>
          </p:txBody>
        </p:sp>
        <p:sp>
          <p:nvSpPr>
            <p:cNvPr id="653" name=""/>
            <p:cNvSpPr/>
            <p:nvPr/>
          </p:nvSpPr>
          <p:spPr>
            <a:xfrm>
              <a:off x="7742160" y="2590920"/>
              <a:ext cx="10540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7415640" y="2043000"/>
              <a:ext cx="172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cu (30 ft)</a:t>
              </a:r>
              <a:endParaRPr b="0" lang="en-US" sz="2400" spc="-1" strike="noStrike">
                <a:solidFill>
                  <a:srgbClr val="ffffff"/>
                </a:solidFill>
                <a:latin typeface="Times New Roman"/>
              </a:endParaRPr>
            </a:p>
          </p:txBody>
        </p:sp>
        <p:sp>
          <p:nvSpPr>
            <p:cNvPr id="655" name=""/>
            <p:cNvSpPr/>
            <p:nvPr/>
          </p:nvSpPr>
          <p:spPr>
            <a:xfrm>
              <a:off x="7284960" y="614664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grpSp>
      <p:sp>
        <p:nvSpPr>
          <p:cNvPr id="656" name="PlaceHolder 1"/>
          <p:cNvSpPr>
            <a:spLocks noGrp="1"/>
          </p:cNvSpPr>
          <p:nvPr>
            <p:ph type="title"/>
          </p:nvPr>
        </p:nvSpPr>
        <p:spPr>
          <a:xfrm>
            <a:off x="7867440" y="609120"/>
            <a:ext cx="102852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Solomon’s Temple</a:t>
            </a:r>
            <a:endParaRPr b="1" lang="en-US" sz="100" spc="-1" strike="noStrike" u="sng">
              <a:solidFill>
                <a:srgbClr val="c0fef9"/>
              </a:solidFill>
              <a:uFillTx/>
              <a:latin typeface="Times New Roman"/>
            </a:endParaRPr>
          </a:p>
        </p:txBody>
      </p:sp>
      <p:sp>
        <p:nvSpPr>
          <p:cNvPr id="657"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658" name=""/>
          <p:cNvGrpSpPr/>
          <p:nvPr/>
        </p:nvGrpSpPr>
        <p:grpSpPr>
          <a:xfrm>
            <a:off x="309600" y="101520"/>
            <a:ext cx="4484520" cy="6677280"/>
            <a:chOff x="309600" y="101520"/>
            <a:chExt cx="4484520" cy="6677280"/>
          </a:xfrm>
        </p:grpSpPr>
        <p:pic>
          <p:nvPicPr>
            <p:cNvPr id="659" name="" descr=""/>
            <p:cNvPicPr/>
            <p:nvPr/>
          </p:nvPicPr>
          <p:blipFill>
            <a:blip r:embed="rId1">
              <a:lum bright="-6000"/>
            </a:blip>
            <a:stretch/>
          </p:blipFill>
          <p:spPr>
            <a:xfrm>
              <a:off x="309600" y="108000"/>
              <a:ext cx="4476600" cy="6618240"/>
            </a:xfrm>
            <a:prstGeom prst="rect">
              <a:avLst/>
            </a:prstGeom>
            <a:ln w="0">
              <a:noFill/>
            </a:ln>
          </p:spPr>
        </p:pic>
        <p:sp>
          <p:nvSpPr>
            <p:cNvPr id="660" name=""/>
            <p:cNvSpPr/>
            <p:nvPr/>
          </p:nvSpPr>
          <p:spPr>
            <a:xfrm>
              <a:off x="295128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rot="17280000">
              <a:off x="1485360" y="133992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0" lang="en-US" sz="2400" spc="-1" strike="noStrike">
                <a:solidFill>
                  <a:srgbClr val="ffffff"/>
                </a:solidFill>
                <a:latin typeface="Times New Roman"/>
              </a:endParaRPr>
            </a:p>
          </p:txBody>
        </p:sp>
        <p:sp>
          <p:nvSpPr>
            <p:cNvPr id="662" name=""/>
            <p:cNvSpPr/>
            <p:nvPr/>
          </p:nvSpPr>
          <p:spPr>
            <a:xfrm rot="17880000">
              <a:off x="547920" y="56818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0" lang="en-US" sz="2000" spc="-1" strike="noStrike">
                <a:solidFill>
                  <a:srgbClr val="ffffff"/>
                </a:solidFill>
                <a:latin typeface="Times New Roman"/>
              </a:endParaRPr>
            </a:p>
          </p:txBody>
        </p:sp>
        <p:sp>
          <p:nvSpPr>
            <p:cNvPr id="663" name=""/>
            <p:cNvSpPr/>
            <p:nvPr/>
          </p:nvSpPr>
          <p:spPr>
            <a:xfrm>
              <a:off x="1638000" y="3417840"/>
              <a:ext cx="1246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Black"/>
                </a:rPr>
                <a:t>Israel</a:t>
              </a:r>
              <a:endParaRPr b="0" lang="en-US" sz="3200" spc="-1" strike="noStrike">
                <a:solidFill>
                  <a:srgbClr val="ffffff"/>
                </a:solidFill>
                <a:latin typeface="Times New Roman"/>
              </a:endParaRPr>
            </a:p>
          </p:txBody>
        </p:sp>
        <p:sp>
          <p:nvSpPr>
            <p:cNvPr id="664" name=""/>
            <p:cNvSpPr/>
            <p:nvPr/>
          </p:nvSpPr>
          <p:spPr>
            <a:xfrm>
              <a:off x="3612960" y="3770280"/>
              <a:ext cx="1130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mmon</a:t>
              </a:r>
              <a:endParaRPr b="0" lang="en-US" sz="2000" spc="-1" strike="noStrike">
                <a:solidFill>
                  <a:srgbClr val="ffffff"/>
                </a:solidFill>
                <a:latin typeface="Times New Roman"/>
              </a:endParaRPr>
            </a:p>
          </p:txBody>
        </p:sp>
        <p:sp>
          <p:nvSpPr>
            <p:cNvPr id="665" name=""/>
            <p:cNvSpPr/>
            <p:nvPr/>
          </p:nvSpPr>
          <p:spPr>
            <a:xfrm>
              <a:off x="3158640" y="5265720"/>
              <a:ext cx="9327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Moab</a:t>
              </a:r>
              <a:endParaRPr b="0" lang="en-US" sz="2200" spc="-1" strike="noStrike">
                <a:solidFill>
                  <a:srgbClr val="ffffff"/>
                </a:solidFill>
                <a:latin typeface="Times New Roman"/>
              </a:endParaRPr>
            </a:p>
          </p:txBody>
        </p:sp>
        <p:sp>
          <p:nvSpPr>
            <p:cNvPr id="666" name=""/>
            <p:cNvSpPr/>
            <p:nvPr/>
          </p:nvSpPr>
          <p:spPr>
            <a:xfrm>
              <a:off x="1632240" y="5253120"/>
              <a:ext cx="120564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Black"/>
                </a:rPr>
                <a:t>Judah</a:t>
              </a:r>
              <a:endParaRPr b="0" lang="en-US" sz="3000" spc="-1" strike="noStrike">
                <a:solidFill>
                  <a:srgbClr val="ffffff"/>
                </a:solidFill>
                <a:latin typeface="Times New Roman"/>
              </a:endParaRPr>
            </a:p>
          </p:txBody>
        </p:sp>
        <p:sp>
          <p:nvSpPr>
            <p:cNvPr id="667" name=""/>
            <p:cNvSpPr/>
            <p:nvPr/>
          </p:nvSpPr>
          <p:spPr>
            <a:xfrm>
              <a:off x="2630520" y="4705200"/>
              <a:ext cx="77760" cy="86040"/>
            </a:xfrm>
            <a:prstGeom prst="star5">
              <a:avLst/>
            </a:prstGeom>
            <a:solidFill>
              <a:srgbClr val="fc0128"/>
            </a:solidFill>
            <a:ln w="12600">
              <a:solidFill>
                <a:srgbClr val="fc0128"/>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668" name=""/>
            <p:cNvSpPr/>
            <p:nvPr/>
          </p:nvSpPr>
          <p:spPr>
            <a:xfrm>
              <a:off x="175176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Times New Roman"/>
              </a:endParaRPr>
            </a:p>
          </p:txBody>
        </p:sp>
        <p:sp>
          <p:nvSpPr>
            <p:cNvPr id="669" name=""/>
            <p:cNvSpPr/>
            <p:nvPr/>
          </p:nvSpPr>
          <p:spPr>
            <a:xfrm rot="16680000">
              <a:off x="2592720" y="5103720"/>
              <a:ext cx="98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Times New Roman"/>
              </a:endParaRPr>
            </a:p>
          </p:txBody>
        </p:sp>
        <p:sp>
          <p:nvSpPr>
            <p:cNvPr id="670" name=""/>
            <p:cNvSpPr/>
            <p:nvPr/>
          </p:nvSpPr>
          <p:spPr>
            <a:xfrm rot="16500000">
              <a:off x="266292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Times New Roman"/>
              </a:endParaRPr>
            </a:p>
          </p:txBody>
        </p:sp>
        <p:sp>
          <p:nvSpPr>
            <p:cNvPr id="671" name=""/>
            <p:cNvSpPr/>
            <p:nvPr/>
          </p:nvSpPr>
          <p:spPr>
            <a:xfrm rot="16200000">
              <a:off x="260676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Times New Roman"/>
              </a:endParaRPr>
            </a:p>
          </p:txBody>
        </p:sp>
        <p:sp>
          <p:nvSpPr>
            <p:cNvPr id="672" name=""/>
            <p:cNvSpPr/>
            <p:nvPr/>
          </p:nvSpPr>
          <p:spPr>
            <a:xfrm rot="16200000">
              <a:off x="265536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Times New Roman"/>
              </a:endParaRPr>
            </a:p>
          </p:txBody>
        </p:sp>
        <p:sp>
          <p:nvSpPr>
            <p:cNvPr id="673" name=""/>
            <p:cNvSpPr/>
            <p:nvPr/>
          </p:nvSpPr>
          <p:spPr>
            <a:xfrm>
              <a:off x="3459240" y="6458040"/>
              <a:ext cx="1288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PHOTO</a:t>
              </a:r>
              <a:endParaRPr b="0" lang="en-US" sz="1200" spc="-1" strike="noStrike">
                <a:solidFill>
                  <a:srgbClr val="ffffff"/>
                </a:solidFill>
                <a:latin typeface="Times New Roman"/>
              </a:endParaRPr>
            </a:p>
          </p:txBody>
        </p:sp>
        <p:sp>
          <p:nvSpPr>
            <p:cNvPr id="674" name=""/>
            <p:cNvSpPr/>
            <p:nvPr/>
          </p:nvSpPr>
          <p:spPr>
            <a:xfrm>
              <a:off x="3394080" y="6305400"/>
              <a:ext cx="13730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EBibleTeacher.com  </a:t>
              </a:r>
              <a:endParaRPr b="0" lang="en-US" sz="900" spc="-1" strike="noStrike">
                <a:solidFill>
                  <a:srgbClr val="ffffff"/>
                </a:solidFill>
                <a:latin typeface="Times New Roman"/>
              </a:endParaRPr>
            </a:p>
          </p:txBody>
        </p:sp>
        <p:sp>
          <p:nvSpPr>
            <p:cNvPr id="675" name=""/>
            <p:cNvSpPr/>
            <p:nvPr/>
          </p:nvSpPr>
          <p:spPr>
            <a:xfrm>
              <a:off x="2897280" y="272880"/>
              <a:ext cx="188280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afd00"/>
                  </a:solidFill>
                  <a:uFillTx/>
                  <a:latin typeface="Arial"/>
                </a:rPr>
                <a:t>Divided Kingdom</a:t>
              </a:r>
              <a:endParaRPr b="0" lang="en-US" sz="2800" spc="-1" strike="noStrike">
                <a:solidFill>
                  <a:srgbClr val="ffffff"/>
                </a:solidFill>
                <a:latin typeface="Times New Roman"/>
              </a:endParaRPr>
            </a:p>
          </p:txBody>
        </p:sp>
        <p:sp>
          <p:nvSpPr>
            <p:cNvPr id="676" name=""/>
            <p:cNvSpPr/>
            <p:nvPr/>
          </p:nvSpPr>
          <p:spPr>
            <a:xfrm>
              <a:off x="2853720" y="5987880"/>
              <a:ext cx="938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Edom</a:t>
              </a:r>
              <a:endParaRPr b="0" lang="en-US" sz="2200" spc="-1" strike="noStrike">
                <a:solidFill>
                  <a:srgbClr val="ffffff"/>
                </a:solidFill>
                <a:latin typeface="Times New Roman"/>
              </a:endParaRPr>
            </a:p>
          </p:txBody>
        </p:sp>
        <p:sp>
          <p:nvSpPr>
            <p:cNvPr id="677" name=""/>
            <p:cNvSpPr/>
            <p:nvPr/>
          </p:nvSpPr>
          <p:spPr>
            <a:xfrm>
              <a:off x="3413160" y="1206360"/>
              <a:ext cx="880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yria</a:t>
              </a:r>
              <a:endParaRPr b="0" lang="en-US" sz="2400" spc="-1" strike="noStrike">
                <a:solidFill>
                  <a:srgbClr val="ffffff"/>
                </a:solidFill>
                <a:latin typeface="Times New Roman"/>
              </a:endParaRPr>
            </a:p>
          </p:txBody>
        </p:sp>
        <p:sp>
          <p:nvSpPr>
            <p:cNvPr id="678" name=""/>
            <p:cNvSpPr/>
            <p:nvPr/>
          </p:nvSpPr>
          <p:spPr>
            <a:xfrm>
              <a:off x="1774800" y="101520"/>
              <a:ext cx="1119240" cy="2613240"/>
            </a:xfrm>
            <a:custGeom>
              <a:avLst/>
              <a:gdLst/>
              <a:ahLst/>
              <a:rect l="l" t="t" r="r" b="b"/>
              <a:pathLst>
                <a:path w="705" h="1646">
                  <a:moveTo>
                    <a:pt x="0" y="1504"/>
                  </a:moveTo>
                  <a:lnTo>
                    <a:pt x="19" y="1504"/>
                  </a:lnTo>
                  <a:lnTo>
                    <a:pt x="38" y="1510"/>
                  </a:lnTo>
                  <a:lnTo>
                    <a:pt x="58" y="1510"/>
                  </a:lnTo>
                  <a:lnTo>
                    <a:pt x="77" y="1517"/>
                  </a:lnTo>
                  <a:lnTo>
                    <a:pt x="96" y="1530"/>
                  </a:lnTo>
                  <a:lnTo>
                    <a:pt x="115" y="1542"/>
                  </a:lnTo>
                  <a:lnTo>
                    <a:pt x="134" y="1555"/>
                  </a:lnTo>
                  <a:lnTo>
                    <a:pt x="154" y="1568"/>
                  </a:lnTo>
                  <a:lnTo>
                    <a:pt x="173" y="1587"/>
                  </a:lnTo>
                  <a:lnTo>
                    <a:pt x="192" y="1600"/>
                  </a:lnTo>
                  <a:lnTo>
                    <a:pt x="211" y="1619"/>
                  </a:lnTo>
                  <a:lnTo>
                    <a:pt x="230" y="1632"/>
                  </a:lnTo>
                  <a:lnTo>
                    <a:pt x="250" y="1638"/>
                  </a:lnTo>
                  <a:lnTo>
                    <a:pt x="269" y="1645"/>
                  </a:lnTo>
                  <a:lnTo>
                    <a:pt x="288" y="1645"/>
                  </a:lnTo>
                  <a:lnTo>
                    <a:pt x="307" y="1645"/>
                  </a:lnTo>
                  <a:lnTo>
                    <a:pt x="326" y="1626"/>
                  </a:lnTo>
                  <a:lnTo>
                    <a:pt x="339" y="1606"/>
                  </a:lnTo>
                  <a:lnTo>
                    <a:pt x="352" y="1587"/>
                  </a:lnTo>
                  <a:lnTo>
                    <a:pt x="365" y="1568"/>
                  </a:lnTo>
                  <a:lnTo>
                    <a:pt x="371" y="1549"/>
                  </a:lnTo>
                  <a:lnTo>
                    <a:pt x="378" y="1530"/>
                  </a:lnTo>
                  <a:lnTo>
                    <a:pt x="378" y="1510"/>
                  </a:lnTo>
                  <a:lnTo>
                    <a:pt x="384" y="1491"/>
                  </a:lnTo>
                  <a:lnTo>
                    <a:pt x="390" y="1472"/>
                  </a:lnTo>
                  <a:lnTo>
                    <a:pt x="403" y="1453"/>
                  </a:lnTo>
                  <a:lnTo>
                    <a:pt x="410" y="1434"/>
                  </a:lnTo>
                  <a:lnTo>
                    <a:pt x="416" y="1414"/>
                  </a:lnTo>
                  <a:lnTo>
                    <a:pt x="422" y="1395"/>
                  </a:lnTo>
                  <a:lnTo>
                    <a:pt x="429" y="1376"/>
                  </a:lnTo>
                  <a:lnTo>
                    <a:pt x="435" y="1357"/>
                  </a:lnTo>
                  <a:lnTo>
                    <a:pt x="442" y="1338"/>
                  </a:lnTo>
                  <a:lnTo>
                    <a:pt x="448" y="1318"/>
                  </a:lnTo>
                  <a:lnTo>
                    <a:pt x="461" y="1299"/>
                  </a:lnTo>
                  <a:lnTo>
                    <a:pt x="467" y="1280"/>
                  </a:lnTo>
                  <a:lnTo>
                    <a:pt x="474" y="1261"/>
                  </a:lnTo>
                  <a:lnTo>
                    <a:pt x="480" y="1242"/>
                  </a:lnTo>
                  <a:lnTo>
                    <a:pt x="480" y="1222"/>
                  </a:lnTo>
                  <a:lnTo>
                    <a:pt x="480" y="1203"/>
                  </a:lnTo>
                  <a:lnTo>
                    <a:pt x="486" y="1184"/>
                  </a:lnTo>
                  <a:lnTo>
                    <a:pt x="486" y="1165"/>
                  </a:lnTo>
                  <a:lnTo>
                    <a:pt x="493" y="1146"/>
                  </a:lnTo>
                  <a:lnTo>
                    <a:pt x="499" y="1126"/>
                  </a:lnTo>
                  <a:lnTo>
                    <a:pt x="506" y="1107"/>
                  </a:lnTo>
                  <a:lnTo>
                    <a:pt x="512" y="1088"/>
                  </a:lnTo>
                  <a:lnTo>
                    <a:pt x="518" y="1069"/>
                  </a:lnTo>
                  <a:lnTo>
                    <a:pt x="525" y="1011"/>
                  </a:lnTo>
                  <a:lnTo>
                    <a:pt x="538" y="992"/>
                  </a:lnTo>
                  <a:lnTo>
                    <a:pt x="538" y="973"/>
                  </a:lnTo>
                  <a:lnTo>
                    <a:pt x="544" y="922"/>
                  </a:lnTo>
                  <a:lnTo>
                    <a:pt x="544" y="864"/>
                  </a:lnTo>
                  <a:lnTo>
                    <a:pt x="544" y="813"/>
                  </a:lnTo>
                  <a:lnTo>
                    <a:pt x="544" y="794"/>
                  </a:lnTo>
                  <a:lnTo>
                    <a:pt x="544" y="774"/>
                  </a:lnTo>
                  <a:lnTo>
                    <a:pt x="550" y="755"/>
                  </a:lnTo>
                  <a:lnTo>
                    <a:pt x="557" y="736"/>
                  </a:lnTo>
                  <a:lnTo>
                    <a:pt x="557" y="717"/>
                  </a:lnTo>
                  <a:lnTo>
                    <a:pt x="563" y="698"/>
                  </a:lnTo>
                  <a:lnTo>
                    <a:pt x="563" y="678"/>
                  </a:lnTo>
                  <a:lnTo>
                    <a:pt x="570" y="659"/>
                  </a:lnTo>
                  <a:lnTo>
                    <a:pt x="582" y="640"/>
                  </a:lnTo>
                  <a:lnTo>
                    <a:pt x="589" y="621"/>
                  </a:lnTo>
                  <a:lnTo>
                    <a:pt x="595" y="602"/>
                  </a:lnTo>
                  <a:lnTo>
                    <a:pt x="595" y="550"/>
                  </a:lnTo>
                  <a:lnTo>
                    <a:pt x="602" y="499"/>
                  </a:lnTo>
                  <a:lnTo>
                    <a:pt x="608" y="480"/>
                  </a:lnTo>
                  <a:lnTo>
                    <a:pt x="608" y="435"/>
                  </a:lnTo>
                  <a:lnTo>
                    <a:pt x="608" y="384"/>
                  </a:lnTo>
                  <a:lnTo>
                    <a:pt x="614" y="365"/>
                  </a:lnTo>
                  <a:lnTo>
                    <a:pt x="614" y="346"/>
                  </a:lnTo>
                  <a:lnTo>
                    <a:pt x="627" y="326"/>
                  </a:lnTo>
                  <a:lnTo>
                    <a:pt x="634" y="307"/>
                  </a:lnTo>
                  <a:lnTo>
                    <a:pt x="640" y="288"/>
                  </a:lnTo>
                  <a:lnTo>
                    <a:pt x="646" y="269"/>
                  </a:lnTo>
                  <a:lnTo>
                    <a:pt x="653" y="250"/>
                  </a:lnTo>
                  <a:lnTo>
                    <a:pt x="659" y="230"/>
                  </a:lnTo>
                  <a:lnTo>
                    <a:pt x="666" y="211"/>
                  </a:lnTo>
                  <a:lnTo>
                    <a:pt x="672" y="192"/>
                  </a:lnTo>
                  <a:lnTo>
                    <a:pt x="678" y="173"/>
                  </a:lnTo>
                  <a:lnTo>
                    <a:pt x="678" y="154"/>
                  </a:lnTo>
                  <a:lnTo>
                    <a:pt x="685" y="134"/>
                  </a:lnTo>
                  <a:lnTo>
                    <a:pt x="685" y="115"/>
                  </a:lnTo>
                  <a:lnTo>
                    <a:pt x="691" y="96"/>
                  </a:lnTo>
                  <a:lnTo>
                    <a:pt x="691" y="77"/>
                  </a:lnTo>
                  <a:lnTo>
                    <a:pt x="698" y="58"/>
                  </a:lnTo>
                  <a:lnTo>
                    <a:pt x="698" y="38"/>
                  </a:lnTo>
                  <a:lnTo>
                    <a:pt x="704" y="19"/>
                  </a:lnTo>
                  <a:lnTo>
                    <a:pt x="70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2647800" y="1392120"/>
              <a:ext cx="439920" cy="733680"/>
            </a:xfrm>
            <a:custGeom>
              <a:avLst/>
              <a:gdLst/>
              <a:ahLst/>
              <a:rect l="l" t="t" r="r" b="b"/>
              <a:pathLst>
                <a:path w="277" h="462">
                  <a:moveTo>
                    <a:pt x="0" y="57"/>
                  </a:moveTo>
                  <a:lnTo>
                    <a:pt x="20" y="45"/>
                  </a:lnTo>
                  <a:lnTo>
                    <a:pt x="39" y="38"/>
                  </a:lnTo>
                  <a:lnTo>
                    <a:pt x="58" y="25"/>
                  </a:lnTo>
                  <a:lnTo>
                    <a:pt x="77" y="13"/>
                  </a:lnTo>
                  <a:lnTo>
                    <a:pt x="96" y="13"/>
                  </a:lnTo>
                  <a:lnTo>
                    <a:pt x="116" y="13"/>
                  </a:lnTo>
                  <a:lnTo>
                    <a:pt x="135" y="6"/>
                  </a:lnTo>
                  <a:lnTo>
                    <a:pt x="154" y="0"/>
                  </a:lnTo>
                  <a:lnTo>
                    <a:pt x="173" y="0"/>
                  </a:lnTo>
                  <a:lnTo>
                    <a:pt x="192" y="0"/>
                  </a:lnTo>
                  <a:lnTo>
                    <a:pt x="212" y="0"/>
                  </a:lnTo>
                  <a:lnTo>
                    <a:pt x="231" y="0"/>
                  </a:lnTo>
                  <a:lnTo>
                    <a:pt x="237" y="19"/>
                  </a:lnTo>
                  <a:lnTo>
                    <a:pt x="244" y="38"/>
                  </a:lnTo>
                  <a:lnTo>
                    <a:pt x="250" y="57"/>
                  </a:lnTo>
                  <a:lnTo>
                    <a:pt x="256" y="77"/>
                  </a:lnTo>
                  <a:lnTo>
                    <a:pt x="256" y="96"/>
                  </a:lnTo>
                  <a:lnTo>
                    <a:pt x="263" y="115"/>
                  </a:lnTo>
                  <a:lnTo>
                    <a:pt x="269" y="134"/>
                  </a:lnTo>
                  <a:lnTo>
                    <a:pt x="276" y="153"/>
                  </a:lnTo>
                  <a:lnTo>
                    <a:pt x="276" y="173"/>
                  </a:lnTo>
                  <a:lnTo>
                    <a:pt x="269" y="192"/>
                  </a:lnTo>
                  <a:lnTo>
                    <a:pt x="263" y="211"/>
                  </a:lnTo>
                  <a:lnTo>
                    <a:pt x="250" y="230"/>
                  </a:lnTo>
                  <a:lnTo>
                    <a:pt x="244" y="249"/>
                  </a:lnTo>
                  <a:lnTo>
                    <a:pt x="244" y="269"/>
                  </a:lnTo>
                  <a:lnTo>
                    <a:pt x="237" y="288"/>
                  </a:lnTo>
                  <a:lnTo>
                    <a:pt x="237" y="307"/>
                  </a:lnTo>
                  <a:lnTo>
                    <a:pt x="237" y="326"/>
                  </a:lnTo>
                  <a:lnTo>
                    <a:pt x="237" y="345"/>
                  </a:lnTo>
                  <a:lnTo>
                    <a:pt x="237" y="365"/>
                  </a:lnTo>
                  <a:lnTo>
                    <a:pt x="237" y="384"/>
                  </a:lnTo>
                  <a:lnTo>
                    <a:pt x="237" y="403"/>
                  </a:lnTo>
                  <a:lnTo>
                    <a:pt x="237" y="422"/>
                  </a:lnTo>
                  <a:lnTo>
                    <a:pt x="237" y="441"/>
                  </a:lnTo>
                  <a:lnTo>
                    <a:pt x="237" y="4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2984400" y="2509920"/>
              <a:ext cx="1170000" cy="4268880"/>
            </a:xfrm>
            <a:custGeom>
              <a:avLst/>
              <a:gdLst/>
              <a:ahLst/>
              <a:rect l="l" t="t" r="r" b="b"/>
              <a:pathLst>
                <a:path w="737" h="2689">
                  <a:moveTo>
                    <a:pt x="0" y="51"/>
                  </a:moveTo>
                  <a:lnTo>
                    <a:pt x="0" y="70"/>
                  </a:lnTo>
                  <a:lnTo>
                    <a:pt x="0" y="89"/>
                  </a:lnTo>
                  <a:lnTo>
                    <a:pt x="0" y="109"/>
                  </a:lnTo>
                  <a:lnTo>
                    <a:pt x="6" y="128"/>
                  </a:lnTo>
                  <a:lnTo>
                    <a:pt x="19" y="147"/>
                  </a:lnTo>
                  <a:lnTo>
                    <a:pt x="38" y="147"/>
                  </a:lnTo>
                  <a:lnTo>
                    <a:pt x="57" y="153"/>
                  </a:lnTo>
                  <a:lnTo>
                    <a:pt x="76" y="153"/>
                  </a:lnTo>
                  <a:lnTo>
                    <a:pt x="89" y="134"/>
                  </a:lnTo>
                  <a:lnTo>
                    <a:pt x="108" y="115"/>
                  </a:lnTo>
                  <a:lnTo>
                    <a:pt x="115" y="96"/>
                  </a:lnTo>
                  <a:lnTo>
                    <a:pt x="128" y="77"/>
                  </a:lnTo>
                  <a:lnTo>
                    <a:pt x="147" y="70"/>
                  </a:lnTo>
                  <a:lnTo>
                    <a:pt x="198" y="57"/>
                  </a:lnTo>
                  <a:lnTo>
                    <a:pt x="217" y="51"/>
                  </a:lnTo>
                  <a:lnTo>
                    <a:pt x="236" y="45"/>
                  </a:lnTo>
                  <a:lnTo>
                    <a:pt x="256" y="32"/>
                  </a:lnTo>
                  <a:lnTo>
                    <a:pt x="275" y="25"/>
                  </a:lnTo>
                  <a:lnTo>
                    <a:pt x="294" y="19"/>
                  </a:lnTo>
                  <a:lnTo>
                    <a:pt x="313" y="19"/>
                  </a:lnTo>
                  <a:lnTo>
                    <a:pt x="332" y="13"/>
                  </a:lnTo>
                  <a:lnTo>
                    <a:pt x="352" y="6"/>
                  </a:lnTo>
                  <a:lnTo>
                    <a:pt x="371" y="6"/>
                  </a:lnTo>
                  <a:lnTo>
                    <a:pt x="390" y="0"/>
                  </a:lnTo>
                  <a:lnTo>
                    <a:pt x="409" y="0"/>
                  </a:lnTo>
                  <a:lnTo>
                    <a:pt x="428" y="13"/>
                  </a:lnTo>
                  <a:lnTo>
                    <a:pt x="448" y="25"/>
                  </a:lnTo>
                  <a:lnTo>
                    <a:pt x="448" y="45"/>
                  </a:lnTo>
                  <a:lnTo>
                    <a:pt x="460" y="64"/>
                  </a:lnTo>
                  <a:lnTo>
                    <a:pt x="473" y="83"/>
                  </a:lnTo>
                  <a:lnTo>
                    <a:pt x="486" y="102"/>
                  </a:lnTo>
                  <a:lnTo>
                    <a:pt x="499" y="121"/>
                  </a:lnTo>
                  <a:lnTo>
                    <a:pt x="505" y="141"/>
                  </a:lnTo>
                  <a:lnTo>
                    <a:pt x="505" y="160"/>
                  </a:lnTo>
                  <a:lnTo>
                    <a:pt x="512" y="179"/>
                  </a:lnTo>
                  <a:lnTo>
                    <a:pt x="518" y="198"/>
                  </a:lnTo>
                  <a:lnTo>
                    <a:pt x="531" y="217"/>
                  </a:lnTo>
                  <a:lnTo>
                    <a:pt x="550" y="224"/>
                  </a:lnTo>
                  <a:lnTo>
                    <a:pt x="556" y="243"/>
                  </a:lnTo>
                  <a:lnTo>
                    <a:pt x="556" y="262"/>
                  </a:lnTo>
                  <a:lnTo>
                    <a:pt x="550" y="281"/>
                  </a:lnTo>
                  <a:lnTo>
                    <a:pt x="537" y="301"/>
                  </a:lnTo>
                  <a:lnTo>
                    <a:pt x="524" y="320"/>
                  </a:lnTo>
                  <a:lnTo>
                    <a:pt x="512" y="339"/>
                  </a:lnTo>
                  <a:lnTo>
                    <a:pt x="499" y="358"/>
                  </a:lnTo>
                  <a:lnTo>
                    <a:pt x="486" y="377"/>
                  </a:lnTo>
                  <a:lnTo>
                    <a:pt x="473" y="397"/>
                  </a:lnTo>
                  <a:lnTo>
                    <a:pt x="467" y="416"/>
                  </a:lnTo>
                  <a:lnTo>
                    <a:pt x="454" y="435"/>
                  </a:lnTo>
                  <a:lnTo>
                    <a:pt x="448" y="454"/>
                  </a:lnTo>
                  <a:lnTo>
                    <a:pt x="441" y="473"/>
                  </a:lnTo>
                  <a:lnTo>
                    <a:pt x="435" y="493"/>
                  </a:lnTo>
                  <a:lnTo>
                    <a:pt x="428" y="512"/>
                  </a:lnTo>
                  <a:lnTo>
                    <a:pt x="416" y="531"/>
                  </a:lnTo>
                  <a:lnTo>
                    <a:pt x="409" y="550"/>
                  </a:lnTo>
                  <a:lnTo>
                    <a:pt x="403" y="569"/>
                  </a:lnTo>
                  <a:lnTo>
                    <a:pt x="390" y="589"/>
                  </a:lnTo>
                  <a:lnTo>
                    <a:pt x="384" y="608"/>
                  </a:lnTo>
                  <a:lnTo>
                    <a:pt x="377" y="627"/>
                  </a:lnTo>
                  <a:lnTo>
                    <a:pt x="371" y="646"/>
                  </a:lnTo>
                  <a:lnTo>
                    <a:pt x="364" y="665"/>
                  </a:lnTo>
                  <a:lnTo>
                    <a:pt x="364" y="685"/>
                  </a:lnTo>
                  <a:lnTo>
                    <a:pt x="358" y="704"/>
                  </a:lnTo>
                  <a:lnTo>
                    <a:pt x="352" y="723"/>
                  </a:lnTo>
                  <a:lnTo>
                    <a:pt x="352" y="742"/>
                  </a:lnTo>
                  <a:lnTo>
                    <a:pt x="352" y="761"/>
                  </a:lnTo>
                  <a:lnTo>
                    <a:pt x="352" y="781"/>
                  </a:lnTo>
                  <a:lnTo>
                    <a:pt x="352" y="832"/>
                  </a:lnTo>
                  <a:lnTo>
                    <a:pt x="352" y="851"/>
                  </a:lnTo>
                  <a:lnTo>
                    <a:pt x="358" y="870"/>
                  </a:lnTo>
                  <a:lnTo>
                    <a:pt x="358" y="889"/>
                  </a:lnTo>
                  <a:lnTo>
                    <a:pt x="364" y="909"/>
                  </a:lnTo>
                  <a:lnTo>
                    <a:pt x="371" y="966"/>
                  </a:lnTo>
                  <a:lnTo>
                    <a:pt x="371" y="985"/>
                  </a:lnTo>
                  <a:lnTo>
                    <a:pt x="377" y="1005"/>
                  </a:lnTo>
                  <a:lnTo>
                    <a:pt x="384" y="1024"/>
                  </a:lnTo>
                  <a:lnTo>
                    <a:pt x="390" y="1043"/>
                  </a:lnTo>
                  <a:lnTo>
                    <a:pt x="403" y="1062"/>
                  </a:lnTo>
                  <a:lnTo>
                    <a:pt x="416" y="1081"/>
                  </a:lnTo>
                  <a:lnTo>
                    <a:pt x="422" y="1101"/>
                  </a:lnTo>
                  <a:lnTo>
                    <a:pt x="435" y="1120"/>
                  </a:lnTo>
                  <a:lnTo>
                    <a:pt x="448" y="1139"/>
                  </a:lnTo>
                  <a:lnTo>
                    <a:pt x="460" y="1158"/>
                  </a:lnTo>
                  <a:lnTo>
                    <a:pt x="480" y="1177"/>
                  </a:lnTo>
                  <a:lnTo>
                    <a:pt x="486" y="1197"/>
                  </a:lnTo>
                  <a:lnTo>
                    <a:pt x="499" y="1216"/>
                  </a:lnTo>
                  <a:lnTo>
                    <a:pt x="505" y="1235"/>
                  </a:lnTo>
                  <a:lnTo>
                    <a:pt x="518" y="1254"/>
                  </a:lnTo>
                  <a:lnTo>
                    <a:pt x="524" y="1273"/>
                  </a:lnTo>
                  <a:lnTo>
                    <a:pt x="537" y="1293"/>
                  </a:lnTo>
                  <a:lnTo>
                    <a:pt x="544" y="1312"/>
                  </a:lnTo>
                  <a:lnTo>
                    <a:pt x="556" y="1331"/>
                  </a:lnTo>
                  <a:lnTo>
                    <a:pt x="556" y="1350"/>
                  </a:lnTo>
                  <a:lnTo>
                    <a:pt x="563" y="1369"/>
                  </a:lnTo>
                  <a:lnTo>
                    <a:pt x="569" y="1389"/>
                  </a:lnTo>
                  <a:lnTo>
                    <a:pt x="582" y="1408"/>
                  </a:lnTo>
                  <a:lnTo>
                    <a:pt x="588" y="1427"/>
                  </a:lnTo>
                  <a:lnTo>
                    <a:pt x="595" y="1446"/>
                  </a:lnTo>
                  <a:lnTo>
                    <a:pt x="608" y="1465"/>
                  </a:lnTo>
                  <a:lnTo>
                    <a:pt x="620" y="1485"/>
                  </a:lnTo>
                  <a:lnTo>
                    <a:pt x="633" y="1504"/>
                  </a:lnTo>
                  <a:lnTo>
                    <a:pt x="640" y="1523"/>
                  </a:lnTo>
                  <a:lnTo>
                    <a:pt x="659" y="1542"/>
                  </a:lnTo>
                  <a:lnTo>
                    <a:pt x="659" y="1561"/>
                  </a:lnTo>
                  <a:lnTo>
                    <a:pt x="665" y="1581"/>
                  </a:lnTo>
                  <a:lnTo>
                    <a:pt x="672" y="1600"/>
                  </a:lnTo>
                  <a:lnTo>
                    <a:pt x="684" y="1619"/>
                  </a:lnTo>
                  <a:lnTo>
                    <a:pt x="691" y="1638"/>
                  </a:lnTo>
                  <a:lnTo>
                    <a:pt x="697" y="1657"/>
                  </a:lnTo>
                  <a:lnTo>
                    <a:pt x="704" y="1677"/>
                  </a:lnTo>
                  <a:lnTo>
                    <a:pt x="710" y="1696"/>
                  </a:lnTo>
                  <a:lnTo>
                    <a:pt x="710" y="1715"/>
                  </a:lnTo>
                  <a:lnTo>
                    <a:pt x="716" y="1734"/>
                  </a:lnTo>
                  <a:lnTo>
                    <a:pt x="723" y="1753"/>
                  </a:lnTo>
                  <a:lnTo>
                    <a:pt x="729" y="1773"/>
                  </a:lnTo>
                  <a:lnTo>
                    <a:pt x="729" y="1792"/>
                  </a:lnTo>
                  <a:lnTo>
                    <a:pt x="736" y="1811"/>
                  </a:lnTo>
                  <a:lnTo>
                    <a:pt x="736" y="1830"/>
                  </a:lnTo>
                  <a:lnTo>
                    <a:pt x="736" y="1849"/>
                  </a:lnTo>
                  <a:lnTo>
                    <a:pt x="736" y="1869"/>
                  </a:lnTo>
                  <a:lnTo>
                    <a:pt x="736" y="1888"/>
                  </a:lnTo>
                  <a:lnTo>
                    <a:pt x="729" y="1907"/>
                  </a:lnTo>
                  <a:lnTo>
                    <a:pt x="729" y="1926"/>
                  </a:lnTo>
                  <a:lnTo>
                    <a:pt x="716" y="1945"/>
                  </a:lnTo>
                  <a:lnTo>
                    <a:pt x="710" y="1965"/>
                  </a:lnTo>
                  <a:lnTo>
                    <a:pt x="697" y="1984"/>
                  </a:lnTo>
                  <a:lnTo>
                    <a:pt x="691" y="2003"/>
                  </a:lnTo>
                  <a:lnTo>
                    <a:pt x="678" y="2022"/>
                  </a:lnTo>
                  <a:lnTo>
                    <a:pt x="665" y="2041"/>
                  </a:lnTo>
                  <a:lnTo>
                    <a:pt x="665" y="2061"/>
                  </a:lnTo>
                  <a:lnTo>
                    <a:pt x="652" y="2080"/>
                  </a:lnTo>
                  <a:lnTo>
                    <a:pt x="652" y="2125"/>
                  </a:lnTo>
                  <a:lnTo>
                    <a:pt x="646" y="2144"/>
                  </a:lnTo>
                  <a:lnTo>
                    <a:pt x="640" y="2163"/>
                  </a:lnTo>
                  <a:lnTo>
                    <a:pt x="633" y="2182"/>
                  </a:lnTo>
                  <a:lnTo>
                    <a:pt x="627" y="2201"/>
                  </a:lnTo>
                  <a:lnTo>
                    <a:pt x="620" y="2246"/>
                  </a:lnTo>
                  <a:lnTo>
                    <a:pt x="608" y="2265"/>
                  </a:lnTo>
                  <a:lnTo>
                    <a:pt x="601" y="2323"/>
                  </a:lnTo>
                  <a:lnTo>
                    <a:pt x="588" y="2374"/>
                  </a:lnTo>
                  <a:lnTo>
                    <a:pt x="588" y="2419"/>
                  </a:lnTo>
                  <a:lnTo>
                    <a:pt x="582" y="2464"/>
                  </a:lnTo>
                  <a:lnTo>
                    <a:pt x="576" y="2509"/>
                  </a:lnTo>
                  <a:lnTo>
                    <a:pt x="569" y="2553"/>
                  </a:lnTo>
                  <a:lnTo>
                    <a:pt x="563" y="2598"/>
                  </a:lnTo>
                  <a:lnTo>
                    <a:pt x="550" y="2649"/>
                  </a:lnTo>
                  <a:lnTo>
                    <a:pt x="544" y="2669"/>
                  </a:lnTo>
                  <a:lnTo>
                    <a:pt x="537" y="268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4019400" y="4613400"/>
              <a:ext cx="774720" cy="387360"/>
            </a:xfrm>
            <a:custGeom>
              <a:avLst/>
              <a:gdLst/>
              <a:ahLst/>
              <a:rect l="l" t="t" r="r" b="b"/>
              <a:pathLst>
                <a:path w="488" h="244">
                  <a:moveTo>
                    <a:pt x="0" y="243"/>
                  </a:moveTo>
                  <a:lnTo>
                    <a:pt x="20" y="230"/>
                  </a:lnTo>
                  <a:lnTo>
                    <a:pt x="39" y="217"/>
                  </a:lnTo>
                  <a:lnTo>
                    <a:pt x="58" y="211"/>
                  </a:lnTo>
                  <a:lnTo>
                    <a:pt x="77" y="211"/>
                  </a:lnTo>
                  <a:lnTo>
                    <a:pt x="96" y="211"/>
                  </a:lnTo>
                  <a:lnTo>
                    <a:pt x="116" y="204"/>
                  </a:lnTo>
                  <a:lnTo>
                    <a:pt x="135" y="198"/>
                  </a:lnTo>
                  <a:lnTo>
                    <a:pt x="154" y="185"/>
                  </a:lnTo>
                  <a:lnTo>
                    <a:pt x="205" y="179"/>
                  </a:lnTo>
                  <a:lnTo>
                    <a:pt x="224" y="166"/>
                  </a:lnTo>
                  <a:lnTo>
                    <a:pt x="244" y="153"/>
                  </a:lnTo>
                  <a:lnTo>
                    <a:pt x="263" y="147"/>
                  </a:lnTo>
                  <a:lnTo>
                    <a:pt x="276" y="128"/>
                  </a:lnTo>
                  <a:lnTo>
                    <a:pt x="295" y="121"/>
                  </a:lnTo>
                  <a:lnTo>
                    <a:pt x="314" y="108"/>
                  </a:lnTo>
                  <a:lnTo>
                    <a:pt x="333" y="102"/>
                  </a:lnTo>
                  <a:lnTo>
                    <a:pt x="352" y="83"/>
                  </a:lnTo>
                  <a:lnTo>
                    <a:pt x="372" y="70"/>
                  </a:lnTo>
                  <a:lnTo>
                    <a:pt x="391" y="64"/>
                  </a:lnTo>
                  <a:lnTo>
                    <a:pt x="410" y="51"/>
                  </a:lnTo>
                  <a:lnTo>
                    <a:pt x="429" y="38"/>
                  </a:lnTo>
                  <a:lnTo>
                    <a:pt x="448" y="19"/>
                  </a:lnTo>
                  <a:lnTo>
                    <a:pt x="468" y="6"/>
                  </a:lnTo>
                  <a:lnTo>
                    <a:pt x="48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3552840" y="3251160"/>
              <a:ext cx="1220760" cy="417600"/>
            </a:xfrm>
            <a:custGeom>
              <a:avLst/>
              <a:gdLst/>
              <a:ahLst/>
              <a:rect l="l" t="t" r="r" b="b"/>
              <a:pathLst>
                <a:path w="769" h="263">
                  <a:moveTo>
                    <a:pt x="0" y="262"/>
                  </a:moveTo>
                  <a:lnTo>
                    <a:pt x="19" y="250"/>
                  </a:lnTo>
                  <a:lnTo>
                    <a:pt x="32" y="230"/>
                  </a:lnTo>
                  <a:lnTo>
                    <a:pt x="51" y="211"/>
                  </a:lnTo>
                  <a:lnTo>
                    <a:pt x="70" y="198"/>
                  </a:lnTo>
                  <a:lnTo>
                    <a:pt x="83" y="179"/>
                  </a:lnTo>
                  <a:lnTo>
                    <a:pt x="102" y="173"/>
                  </a:lnTo>
                  <a:lnTo>
                    <a:pt x="122" y="160"/>
                  </a:lnTo>
                  <a:lnTo>
                    <a:pt x="141" y="154"/>
                  </a:lnTo>
                  <a:lnTo>
                    <a:pt x="160" y="141"/>
                  </a:lnTo>
                  <a:lnTo>
                    <a:pt x="205" y="134"/>
                  </a:lnTo>
                  <a:lnTo>
                    <a:pt x="250" y="128"/>
                  </a:lnTo>
                  <a:lnTo>
                    <a:pt x="301" y="115"/>
                  </a:lnTo>
                  <a:lnTo>
                    <a:pt x="352" y="102"/>
                  </a:lnTo>
                  <a:lnTo>
                    <a:pt x="397" y="96"/>
                  </a:lnTo>
                  <a:lnTo>
                    <a:pt x="448" y="90"/>
                  </a:lnTo>
                  <a:lnTo>
                    <a:pt x="493" y="83"/>
                  </a:lnTo>
                  <a:lnTo>
                    <a:pt x="538" y="77"/>
                  </a:lnTo>
                  <a:lnTo>
                    <a:pt x="595" y="64"/>
                  </a:lnTo>
                  <a:lnTo>
                    <a:pt x="614" y="58"/>
                  </a:lnTo>
                  <a:lnTo>
                    <a:pt x="634" y="45"/>
                  </a:lnTo>
                  <a:lnTo>
                    <a:pt x="653" y="38"/>
                  </a:lnTo>
                  <a:lnTo>
                    <a:pt x="672" y="32"/>
                  </a:lnTo>
                  <a:lnTo>
                    <a:pt x="691" y="19"/>
                  </a:lnTo>
                  <a:lnTo>
                    <a:pt x="710" y="13"/>
                  </a:lnTo>
                  <a:lnTo>
                    <a:pt x="730" y="6"/>
                  </a:lnTo>
                  <a:lnTo>
                    <a:pt x="749" y="0"/>
                  </a:lnTo>
                  <a:lnTo>
                    <a:pt x="76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3218040" y="5211720"/>
              <a:ext cx="895320" cy="42840"/>
            </a:xfrm>
            <a:custGeom>
              <a:avLst/>
              <a:gdLst/>
              <a:ahLst/>
              <a:rect l="l" t="t" r="r" b="b"/>
              <a:pathLst>
                <a:path w="564" h="27">
                  <a:moveTo>
                    <a:pt x="0" y="0"/>
                  </a:moveTo>
                  <a:lnTo>
                    <a:pt x="19" y="0"/>
                  </a:lnTo>
                  <a:lnTo>
                    <a:pt x="38" y="0"/>
                  </a:lnTo>
                  <a:lnTo>
                    <a:pt x="57" y="7"/>
                  </a:lnTo>
                  <a:lnTo>
                    <a:pt x="77" y="7"/>
                  </a:lnTo>
                  <a:lnTo>
                    <a:pt x="96" y="7"/>
                  </a:lnTo>
                  <a:lnTo>
                    <a:pt x="115" y="7"/>
                  </a:lnTo>
                  <a:lnTo>
                    <a:pt x="134" y="7"/>
                  </a:lnTo>
                  <a:lnTo>
                    <a:pt x="153" y="7"/>
                  </a:lnTo>
                  <a:lnTo>
                    <a:pt x="173" y="7"/>
                  </a:lnTo>
                  <a:lnTo>
                    <a:pt x="192" y="0"/>
                  </a:lnTo>
                  <a:lnTo>
                    <a:pt x="211" y="0"/>
                  </a:lnTo>
                  <a:lnTo>
                    <a:pt x="230" y="0"/>
                  </a:lnTo>
                  <a:lnTo>
                    <a:pt x="249" y="7"/>
                  </a:lnTo>
                  <a:lnTo>
                    <a:pt x="269" y="7"/>
                  </a:lnTo>
                  <a:lnTo>
                    <a:pt x="288" y="13"/>
                  </a:lnTo>
                  <a:lnTo>
                    <a:pt x="307" y="13"/>
                  </a:lnTo>
                  <a:lnTo>
                    <a:pt x="326" y="13"/>
                  </a:lnTo>
                  <a:lnTo>
                    <a:pt x="345" y="13"/>
                  </a:lnTo>
                  <a:lnTo>
                    <a:pt x="365" y="13"/>
                  </a:lnTo>
                  <a:lnTo>
                    <a:pt x="384" y="13"/>
                  </a:lnTo>
                  <a:lnTo>
                    <a:pt x="403" y="13"/>
                  </a:lnTo>
                  <a:lnTo>
                    <a:pt x="422" y="13"/>
                  </a:lnTo>
                  <a:lnTo>
                    <a:pt x="441" y="13"/>
                  </a:lnTo>
                  <a:lnTo>
                    <a:pt x="486" y="13"/>
                  </a:lnTo>
                  <a:lnTo>
                    <a:pt x="505" y="13"/>
                  </a:lnTo>
                  <a:lnTo>
                    <a:pt x="525" y="19"/>
                  </a:lnTo>
                  <a:lnTo>
                    <a:pt x="544" y="26"/>
                  </a:lnTo>
                  <a:lnTo>
                    <a:pt x="563" y="26"/>
                  </a:lnTo>
                </a:path>
              </a:pathLst>
            </a:custGeom>
            <a:noFill/>
            <a:ln cap="rnd" w="255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4" name=""/>
            <p:cNvSpPr/>
            <p:nvPr/>
          </p:nvSpPr>
          <p:spPr>
            <a:xfrm>
              <a:off x="3105000" y="5934240"/>
              <a:ext cx="846360" cy="274320"/>
            </a:xfrm>
            <a:custGeom>
              <a:avLst/>
              <a:gdLst/>
              <a:ahLst/>
              <a:rect l="l" t="t" r="r" b="b"/>
              <a:pathLst>
                <a:path w="533" h="173">
                  <a:moveTo>
                    <a:pt x="0" y="0"/>
                  </a:moveTo>
                  <a:lnTo>
                    <a:pt x="20" y="12"/>
                  </a:lnTo>
                  <a:lnTo>
                    <a:pt x="39" y="25"/>
                  </a:lnTo>
                  <a:lnTo>
                    <a:pt x="58" y="32"/>
                  </a:lnTo>
                  <a:lnTo>
                    <a:pt x="77" y="32"/>
                  </a:lnTo>
                  <a:lnTo>
                    <a:pt x="96" y="32"/>
                  </a:lnTo>
                  <a:lnTo>
                    <a:pt x="116" y="25"/>
                  </a:lnTo>
                  <a:lnTo>
                    <a:pt x="135" y="25"/>
                  </a:lnTo>
                  <a:lnTo>
                    <a:pt x="154" y="25"/>
                  </a:lnTo>
                  <a:lnTo>
                    <a:pt x="173" y="32"/>
                  </a:lnTo>
                  <a:lnTo>
                    <a:pt x="192" y="32"/>
                  </a:lnTo>
                  <a:lnTo>
                    <a:pt x="212" y="38"/>
                  </a:lnTo>
                  <a:lnTo>
                    <a:pt x="231" y="44"/>
                  </a:lnTo>
                  <a:lnTo>
                    <a:pt x="250" y="44"/>
                  </a:lnTo>
                  <a:lnTo>
                    <a:pt x="269" y="44"/>
                  </a:lnTo>
                  <a:lnTo>
                    <a:pt x="288" y="51"/>
                  </a:lnTo>
                  <a:lnTo>
                    <a:pt x="308" y="57"/>
                  </a:lnTo>
                  <a:lnTo>
                    <a:pt x="327" y="64"/>
                  </a:lnTo>
                  <a:lnTo>
                    <a:pt x="346" y="64"/>
                  </a:lnTo>
                  <a:lnTo>
                    <a:pt x="365" y="70"/>
                  </a:lnTo>
                  <a:lnTo>
                    <a:pt x="384" y="76"/>
                  </a:lnTo>
                  <a:lnTo>
                    <a:pt x="404" y="83"/>
                  </a:lnTo>
                  <a:lnTo>
                    <a:pt x="423" y="89"/>
                  </a:lnTo>
                  <a:lnTo>
                    <a:pt x="442" y="102"/>
                  </a:lnTo>
                  <a:lnTo>
                    <a:pt x="461" y="108"/>
                  </a:lnTo>
                  <a:lnTo>
                    <a:pt x="480" y="121"/>
                  </a:lnTo>
                  <a:lnTo>
                    <a:pt x="500" y="140"/>
                  </a:lnTo>
                  <a:lnTo>
                    <a:pt x="519" y="153"/>
                  </a:lnTo>
                  <a:lnTo>
                    <a:pt x="532" y="1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971640" y="4511520"/>
              <a:ext cx="703080" cy="2237040"/>
            </a:xfrm>
            <a:custGeom>
              <a:avLst/>
              <a:gdLst/>
              <a:ahLst/>
              <a:rect l="l" t="t" r="r" b="b"/>
              <a:pathLst>
                <a:path w="443" h="1409">
                  <a:moveTo>
                    <a:pt x="0" y="1408"/>
                  </a:moveTo>
                  <a:lnTo>
                    <a:pt x="39" y="1184"/>
                  </a:lnTo>
                  <a:lnTo>
                    <a:pt x="52" y="1165"/>
                  </a:lnTo>
                  <a:lnTo>
                    <a:pt x="58" y="1146"/>
                  </a:lnTo>
                  <a:lnTo>
                    <a:pt x="65" y="1126"/>
                  </a:lnTo>
                  <a:lnTo>
                    <a:pt x="77" y="1107"/>
                  </a:lnTo>
                  <a:lnTo>
                    <a:pt x="84" y="1088"/>
                  </a:lnTo>
                  <a:lnTo>
                    <a:pt x="90" y="1069"/>
                  </a:lnTo>
                  <a:lnTo>
                    <a:pt x="103" y="1050"/>
                  </a:lnTo>
                  <a:lnTo>
                    <a:pt x="116" y="1030"/>
                  </a:lnTo>
                  <a:lnTo>
                    <a:pt x="129" y="1011"/>
                  </a:lnTo>
                  <a:lnTo>
                    <a:pt x="141" y="992"/>
                  </a:lnTo>
                  <a:lnTo>
                    <a:pt x="154" y="973"/>
                  </a:lnTo>
                  <a:lnTo>
                    <a:pt x="167" y="954"/>
                  </a:lnTo>
                  <a:lnTo>
                    <a:pt x="173" y="934"/>
                  </a:lnTo>
                  <a:lnTo>
                    <a:pt x="193" y="915"/>
                  </a:lnTo>
                  <a:lnTo>
                    <a:pt x="205" y="896"/>
                  </a:lnTo>
                  <a:lnTo>
                    <a:pt x="218" y="877"/>
                  </a:lnTo>
                  <a:lnTo>
                    <a:pt x="231" y="858"/>
                  </a:lnTo>
                  <a:lnTo>
                    <a:pt x="244" y="838"/>
                  </a:lnTo>
                  <a:lnTo>
                    <a:pt x="257" y="819"/>
                  </a:lnTo>
                  <a:lnTo>
                    <a:pt x="269" y="800"/>
                  </a:lnTo>
                  <a:lnTo>
                    <a:pt x="282" y="781"/>
                  </a:lnTo>
                  <a:lnTo>
                    <a:pt x="295" y="762"/>
                  </a:lnTo>
                  <a:lnTo>
                    <a:pt x="308" y="742"/>
                  </a:lnTo>
                  <a:lnTo>
                    <a:pt x="314" y="723"/>
                  </a:lnTo>
                  <a:lnTo>
                    <a:pt x="321" y="672"/>
                  </a:lnTo>
                  <a:lnTo>
                    <a:pt x="333" y="653"/>
                  </a:lnTo>
                  <a:lnTo>
                    <a:pt x="340" y="595"/>
                  </a:lnTo>
                  <a:lnTo>
                    <a:pt x="346" y="538"/>
                  </a:lnTo>
                  <a:lnTo>
                    <a:pt x="359" y="518"/>
                  </a:lnTo>
                  <a:lnTo>
                    <a:pt x="365" y="499"/>
                  </a:lnTo>
                  <a:lnTo>
                    <a:pt x="385" y="486"/>
                  </a:lnTo>
                  <a:lnTo>
                    <a:pt x="391" y="467"/>
                  </a:lnTo>
                  <a:lnTo>
                    <a:pt x="397" y="448"/>
                  </a:lnTo>
                  <a:lnTo>
                    <a:pt x="410" y="429"/>
                  </a:lnTo>
                  <a:lnTo>
                    <a:pt x="417" y="410"/>
                  </a:lnTo>
                  <a:lnTo>
                    <a:pt x="423" y="390"/>
                  </a:lnTo>
                  <a:lnTo>
                    <a:pt x="423" y="371"/>
                  </a:lnTo>
                  <a:lnTo>
                    <a:pt x="423" y="352"/>
                  </a:lnTo>
                  <a:lnTo>
                    <a:pt x="417" y="333"/>
                  </a:lnTo>
                  <a:lnTo>
                    <a:pt x="417" y="314"/>
                  </a:lnTo>
                  <a:lnTo>
                    <a:pt x="417" y="294"/>
                  </a:lnTo>
                  <a:lnTo>
                    <a:pt x="417" y="275"/>
                  </a:lnTo>
                  <a:lnTo>
                    <a:pt x="423" y="256"/>
                  </a:lnTo>
                  <a:lnTo>
                    <a:pt x="429" y="237"/>
                  </a:lnTo>
                  <a:lnTo>
                    <a:pt x="436" y="218"/>
                  </a:lnTo>
                  <a:lnTo>
                    <a:pt x="442" y="198"/>
                  </a:lnTo>
                  <a:lnTo>
                    <a:pt x="442" y="179"/>
                  </a:lnTo>
                  <a:lnTo>
                    <a:pt x="442" y="160"/>
                  </a:lnTo>
                  <a:lnTo>
                    <a:pt x="442" y="141"/>
                  </a:lnTo>
                  <a:lnTo>
                    <a:pt x="436" y="122"/>
                  </a:lnTo>
                  <a:lnTo>
                    <a:pt x="429" y="102"/>
                  </a:lnTo>
                  <a:lnTo>
                    <a:pt x="423" y="83"/>
                  </a:lnTo>
                  <a:lnTo>
                    <a:pt x="404" y="77"/>
                  </a:lnTo>
                  <a:lnTo>
                    <a:pt x="385" y="64"/>
                  </a:lnTo>
                  <a:lnTo>
                    <a:pt x="365" y="58"/>
                  </a:lnTo>
                  <a:lnTo>
                    <a:pt x="353" y="38"/>
                  </a:lnTo>
                  <a:lnTo>
                    <a:pt x="340" y="19"/>
                  </a:lnTo>
                  <a:lnTo>
                    <a:pt x="3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1673280" y="4581360"/>
              <a:ext cx="1433520" cy="236880"/>
            </a:xfrm>
            <a:custGeom>
              <a:avLst/>
              <a:gdLst/>
              <a:ahLst/>
              <a:rect l="l" t="t" r="r" b="b"/>
              <a:pathLst>
                <a:path w="903" h="149">
                  <a:moveTo>
                    <a:pt x="0" y="148"/>
                  </a:moveTo>
                  <a:lnTo>
                    <a:pt x="19" y="135"/>
                  </a:lnTo>
                  <a:lnTo>
                    <a:pt x="38" y="122"/>
                  </a:lnTo>
                  <a:lnTo>
                    <a:pt x="58" y="109"/>
                  </a:lnTo>
                  <a:lnTo>
                    <a:pt x="77" y="103"/>
                  </a:lnTo>
                  <a:lnTo>
                    <a:pt x="96" y="116"/>
                  </a:lnTo>
                  <a:lnTo>
                    <a:pt x="115" y="116"/>
                  </a:lnTo>
                  <a:lnTo>
                    <a:pt x="134" y="103"/>
                  </a:lnTo>
                  <a:lnTo>
                    <a:pt x="154" y="90"/>
                  </a:lnTo>
                  <a:lnTo>
                    <a:pt x="173" y="84"/>
                  </a:lnTo>
                  <a:lnTo>
                    <a:pt x="192" y="77"/>
                  </a:lnTo>
                  <a:lnTo>
                    <a:pt x="211" y="77"/>
                  </a:lnTo>
                  <a:lnTo>
                    <a:pt x="230" y="77"/>
                  </a:lnTo>
                  <a:lnTo>
                    <a:pt x="250" y="77"/>
                  </a:lnTo>
                  <a:lnTo>
                    <a:pt x="269" y="77"/>
                  </a:lnTo>
                  <a:lnTo>
                    <a:pt x="288" y="77"/>
                  </a:lnTo>
                  <a:lnTo>
                    <a:pt x="307" y="71"/>
                  </a:lnTo>
                  <a:lnTo>
                    <a:pt x="326" y="58"/>
                  </a:lnTo>
                  <a:lnTo>
                    <a:pt x="346" y="52"/>
                  </a:lnTo>
                  <a:lnTo>
                    <a:pt x="365" y="45"/>
                  </a:lnTo>
                  <a:lnTo>
                    <a:pt x="384" y="39"/>
                  </a:lnTo>
                  <a:lnTo>
                    <a:pt x="403" y="32"/>
                  </a:lnTo>
                  <a:lnTo>
                    <a:pt x="422" y="26"/>
                  </a:lnTo>
                  <a:lnTo>
                    <a:pt x="442" y="13"/>
                  </a:lnTo>
                  <a:lnTo>
                    <a:pt x="461" y="7"/>
                  </a:lnTo>
                  <a:lnTo>
                    <a:pt x="480" y="7"/>
                  </a:lnTo>
                  <a:lnTo>
                    <a:pt x="499" y="7"/>
                  </a:lnTo>
                  <a:lnTo>
                    <a:pt x="518" y="0"/>
                  </a:lnTo>
                  <a:lnTo>
                    <a:pt x="538" y="0"/>
                  </a:lnTo>
                  <a:lnTo>
                    <a:pt x="557" y="0"/>
                  </a:lnTo>
                  <a:lnTo>
                    <a:pt x="576" y="0"/>
                  </a:lnTo>
                  <a:lnTo>
                    <a:pt x="595" y="0"/>
                  </a:lnTo>
                  <a:lnTo>
                    <a:pt x="614" y="0"/>
                  </a:lnTo>
                  <a:lnTo>
                    <a:pt x="634" y="7"/>
                  </a:lnTo>
                  <a:lnTo>
                    <a:pt x="653" y="7"/>
                  </a:lnTo>
                  <a:lnTo>
                    <a:pt x="710" y="20"/>
                  </a:lnTo>
                  <a:lnTo>
                    <a:pt x="730" y="32"/>
                  </a:lnTo>
                  <a:lnTo>
                    <a:pt x="749" y="39"/>
                  </a:lnTo>
                  <a:lnTo>
                    <a:pt x="768" y="45"/>
                  </a:lnTo>
                  <a:lnTo>
                    <a:pt x="787" y="52"/>
                  </a:lnTo>
                  <a:lnTo>
                    <a:pt x="806" y="64"/>
                  </a:lnTo>
                  <a:lnTo>
                    <a:pt x="826" y="71"/>
                  </a:lnTo>
                  <a:lnTo>
                    <a:pt x="845" y="84"/>
                  </a:lnTo>
                  <a:lnTo>
                    <a:pt x="864" y="103"/>
                  </a:lnTo>
                  <a:lnTo>
                    <a:pt x="883" y="116"/>
                  </a:lnTo>
                  <a:lnTo>
                    <a:pt x="902" y="12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737000" y="3170160"/>
              <a:ext cx="97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maria</a:t>
              </a:r>
              <a:endParaRPr b="0" lang="en-US" sz="1600" spc="-1" strike="noStrike">
                <a:solidFill>
                  <a:srgbClr val="ffffff"/>
                </a:solidFill>
                <a:latin typeface="Times New Roman"/>
              </a:endParaRPr>
            </a:p>
          </p:txBody>
        </p:sp>
        <p:sp>
          <p:nvSpPr>
            <p:cNvPr id="688" name=""/>
            <p:cNvSpPr/>
            <p:nvPr/>
          </p:nvSpPr>
          <p:spPr>
            <a:xfrm>
              <a:off x="2165400" y="3459240"/>
              <a:ext cx="77760" cy="85680"/>
            </a:xfrm>
            <a:prstGeom prst="star5">
              <a:avLst/>
            </a:prstGeom>
            <a:solidFill>
              <a:srgbClr val="fc0128"/>
            </a:solidFill>
            <a:ln w="12600">
              <a:solidFill>
                <a:srgbClr val="fc0128"/>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689" name=""/>
            <p:cNvSpPr/>
            <p:nvPr/>
          </p:nvSpPr>
          <p:spPr>
            <a:xfrm rot="17160000">
              <a:off x="-374400" y="168228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Times New Roman"/>
              </a:endParaRPr>
            </a:p>
          </p:txBody>
        </p:sp>
      </p:grpSp>
      <p:sp>
        <p:nvSpPr>
          <p:cNvPr id="690" name=""/>
          <p:cNvSpPr/>
          <p:nvPr/>
        </p:nvSpPr>
        <p:spPr>
          <a:xfrm>
            <a:off x="4726080" y="2440080"/>
            <a:ext cx="4340160" cy="191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afd00"/>
                </a:solidFill>
                <a:uFillTx/>
                <a:latin typeface="Arial"/>
              </a:rPr>
              <a:t>Divided Kingdom</a:t>
            </a:r>
            <a:endParaRPr b="0" lang="en-US" sz="6000" spc="-1" strike="noStrike">
              <a:solidFill>
                <a:srgbClr val="ffffff"/>
              </a:solidFill>
              <a:latin typeface="Times New Roman"/>
            </a:endParaRPr>
          </a:p>
        </p:txBody>
      </p:sp>
      <p:sp>
        <p:nvSpPr>
          <p:cNvPr id="691" name="PlaceHolder 1"/>
          <p:cNvSpPr>
            <a:spLocks noGrp="1"/>
          </p:cNvSpPr>
          <p:nvPr>
            <p:ph type="title"/>
          </p:nvPr>
        </p:nvSpPr>
        <p:spPr>
          <a:xfrm>
            <a:off x="7752960" y="609480"/>
            <a:ext cx="114300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Divided Kingdom of Israel</a:t>
            </a:r>
            <a:endParaRPr b="1" lang="en-US" sz="100" spc="-1" strike="noStrike" u="sng">
              <a:solidFill>
                <a:srgbClr val="c0fef9"/>
              </a:solidFill>
              <a:uFillTx/>
              <a:latin typeface="Times New Roman"/>
            </a:endParaRPr>
          </a:p>
        </p:txBody>
      </p:sp>
      <p:sp>
        <p:nvSpPr>
          <p:cNvPr id="692"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693" name=""/>
          <p:cNvGrpSpPr/>
          <p:nvPr/>
        </p:nvGrpSpPr>
        <p:grpSpPr>
          <a:xfrm>
            <a:off x="57240" y="228600"/>
            <a:ext cx="9086760" cy="6307920"/>
            <a:chOff x="57240" y="228600"/>
            <a:chExt cx="9086760" cy="6307920"/>
          </a:xfrm>
        </p:grpSpPr>
        <p:sp>
          <p:nvSpPr>
            <p:cNvPr id="694" name=""/>
            <p:cNvSpPr/>
            <p:nvPr/>
          </p:nvSpPr>
          <p:spPr>
            <a:xfrm>
              <a:off x="63720" y="311040"/>
              <a:ext cx="9055080" cy="60069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631280" y="4654440"/>
              <a:ext cx="1512720" cy="1677960"/>
            </a:xfrm>
            <a:custGeom>
              <a:avLst/>
              <a:gdLst/>
              <a:ahLst/>
              <a:rect l="l" t="t" r="r" b="b"/>
              <a:pathLst>
                <a:path w="953" h="1057">
                  <a:moveTo>
                    <a:pt x="912" y="488"/>
                  </a:moveTo>
                  <a:lnTo>
                    <a:pt x="877" y="469"/>
                  </a:lnTo>
                  <a:lnTo>
                    <a:pt x="845" y="480"/>
                  </a:lnTo>
                  <a:lnTo>
                    <a:pt x="814" y="480"/>
                  </a:lnTo>
                  <a:lnTo>
                    <a:pt x="783" y="469"/>
                  </a:lnTo>
                  <a:lnTo>
                    <a:pt x="751" y="448"/>
                  </a:lnTo>
                  <a:lnTo>
                    <a:pt x="720" y="427"/>
                  </a:lnTo>
                  <a:lnTo>
                    <a:pt x="689" y="407"/>
                  </a:lnTo>
                  <a:lnTo>
                    <a:pt x="657" y="386"/>
                  </a:lnTo>
                  <a:lnTo>
                    <a:pt x="637" y="354"/>
                  </a:lnTo>
                  <a:lnTo>
                    <a:pt x="605" y="334"/>
                  </a:lnTo>
                  <a:lnTo>
                    <a:pt x="584" y="302"/>
                  </a:lnTo>
                  <a:lnTo>
                    <a:pt x="553" y="281"/>
                  </a:lnTo>
                  <a:lnTo>
                    <a:pt x="522" y="281"/>
                  </a:lnTo>
                  <a:lnTo>
                    <a:pt x="490" y="281"/>
                  </a:lnTo>
                  <a:lnTo>
                    <a:pt x="459" y="292"/>
                  </a:lnTo>
                  <a:lnTo>
                    <a:pt x="428" y="292"/>
                  </a:lnTo>
                  <a:lnTo>
                    <a:pt x="397" y="261"/>
                  </a:lnTo>
                  <a:lnTo>
                    <a:pt x="365" y="240"/>
                  </a:lnTo>
                  <a:lnTo>
                    <a:pt x="344" y="208"/>
                  </a:lnTo>
                  <a:lnTo>
                    <a:pt x="313" y="187"/>
                  </a:lnTo>
                  <a:lnTo>
                    <a:pt x="282" y="167"/>
                  </a:lnTo>
                  <a:lnTo>
                    <a:pt x="250" y="146"/>
                  </a:lnTo>
                  <a:lnTo>
                    <a:pt x="219" y="114"/>
                  </a:lnTo>
                  <a:lnTo>
                    <a:pt x="188" y="94"/>
                  </a:lnTo>
                  <a:lnTo>
                    <a:pt x="157" y="73"/>
                  </a:lnTo>
                  <a:lnTo>
                    <a:pt x="125" y="52"/>
                  </a:lnTo>
                  <a:lnTo>
                    <a:pt x="94" y="21"/>
                  </a:lnTo>
                  <a:lnTo>
                    <a:pt x="96" y="8"/>
                  </a:lnTo>
                  <a:lnTo>
                    <a:pt x="63" y="21"/>
                  </a:lnTo>
                  <a:lnTo>
                    <a:pt x="31" y="10"/>
                  </a:lnTo>
                  <a:lnTo>
                    <a:pt x="0" y="0"/>
                  </a:lnTo>
                  <a:lnTo>
                    <a:pt x="0" y="31"/>
                  </a:lnTo>
                  <a:lnTo>
                    <a:pt x="31" y="31"/>
                  </a:lnTo>
                  <a:lnTo>
                    <a:pt x="63" y="41"/>
                  </a:lnTo>
                  <a:lnTo>
                    <a:pt x="94" y="73"/>
                  </a:lnTo>
                  <a:lnTo>
                    <a:pt x="115" y="104"/>
                  </a:lnTo>
                  <a:lnTo>
                    <a:pt x="104" y="135"/>
                  </a:lnTo>
                  <a:lnTo>
                    <a:pt x="94" y="167"/>
                  </a:lnTo>
                  <a:lnTo>
                    <a:pt x="83" y="198"/>
                  </a:lnTo>
                  <a:lnTo>
                    <a:pt x="73" y="229"/>
                  </a:lnTo>
                  <a:lnTo>
                    <a:pt x="73" y="261"/>
                  </a:lnTo>
                  <a:lnTo>
                    <a:pt x="73" y="292"/>
                  </a:lnTo>
                  <a:lnTo>
                    <a:pt x="83" y="323"/>
                  </a:lnTo>
                  <a:lnTo>
                    <a:pt x="94" y="354"/>
                  </a:lnTo>
                  <a:lnTo>
                    <a:pt x="115" y="386"/>
                  </a:lnTo>
                  <a:lnTo>
                    <a:pt x="125" y="417"/>
                  </a:lnTo>
                  <a:lnTo>
                    <a:pt x="146" y="448"/>
                  </a:lnTo>
                  <a:lnTo>
                    <a:pt x="177" y="469"/>
                  </a:lnTo>
                  <a:lnTo>
                    <a:pt x="198" y="501"/>
                  </a:lnTo>
                  <a:lnTo>
                    <a:pt x="209" y="532"/>
                  </a:lnTo>
                  <a:lnTo>
                    <a:pt x="240" y="553"/>
                  </a:lnTo>
                  <a:lnTo>
                    <a:pt x="271" y="574"/>
                  </a:lnTo>
                  <a:lnTo>
                    <a:pt x="303" y="594"/>
                  </a:lnTo>
                  <a:lnTo>
                    <a:pt x="303" y="626"/>
                  </a:lnTo>
                  <a:lnTo>
                    <a:pt x="313" y="657"/>
                  </a:lnTo>
                  <a:lnTo>
                    <a:pt x="323" y="688"/>
                  </a:lnTo>
                  <a:lnTo>
                    <a:pt x="334" y="720"/>
                  </a:lnTo>
                  <a:lnTo>
                    <a:pt x="355" y="751"/>
                  </a:lnTo>
                  <a:lnTo>
                    <a:pt x="376" y="782"/>
                  </a:lnTo>
                  <a:lnTo>
                    <a:pt x="397" y="814"/>
                  </a:lnTo>
                  <a:lnTo>
                    <a:pt x="417" y="845"/>
                  </a:lnTo>
                  <a:lnTo>
                    <a:pt x="438" y="876"/>
                  </a:lnTo>
                  <a:lnTo>
                    <a:pt x="470" y="876"/>
                  </a:lnTo>
                  <a:lnTo>
                    <a:pt x="480" y="845"/>
                  </a:lnTo>
                  <a:lnTo>
                    <a:pt x="511" y="824"/>
                  </a:lnTo>
                  <a:lnTo>
                    <a:pt x="522" y="793"/>
                  </a:lnTo>
                  <a:lnTo>
                    <a:pt x="543" y="761"/>
                  </a:lnTo>
                  <a:lnTo>
                    <a:pt x="563" y="730"/>
                  </a:lnTo>
                  <a:lnTo>
                    <a:pt x="584" y="761"/>
                  </a:lnTo>
                  <a:lnTo>
                    <a:pt x="616" y="782"/>
                  </a:lnTo>
                  <a:lnTo>
                    <a:pt x="637" y="814"/>
                  </a:lnTo>
                  <a:lnTo>
                    <a:pt x="637" y="845"/>
                  </a:lnTo>
                  <a:lnTo>
                    <a:pt x="626" y="876"/>
                  </a:lnTo>
                  <a:lnTo>
                    <a:pt x="605" y="907"/>
                  </a:lnTo>
                  <a:lnTo>
                    <a:pt x="616" y="939"/>
                  </a:lnTo>
                  <a:lnTo>
                    <a:pt x="647" y="960"/>
                  </a:lnTo>
                  <a:lnTo>
                    <a:pt x="668" y="991"/>
                  </a:lnTo>
                  <a:lnTo>
                    <a:pt x="699" y="1012"/>
                  </a:lnTo>
                  <a:lnTo>
                    <a:pt x="730" y="1012"/>
                  </a:lnTo>
                  <a:lnTo>
                    <a:pt x="762" y="1033"/>
                  </a:lnTo>
                  <a:lnTo>
                    <a:pt x="793" y="1054"/>
                  </a:lnTo>
                  <a:lnTo>
                    <a:pt x="824" y="1056"/>
                  </a:lnTo>
                  <a:lnTo>
                    <a:pt x="856" y="1056"/>
                  </a:lnTo>
                  <a:lnTo>
                    <a:pt x="887" y="1056"/>
                  </a:lnTo>
                  <a:lnTo>
                    <a:pt x="918" y="1056"/>
                  </a:lnTo>
                  <a:lnTo>
                    <a:pt x="950" y="1056"/>
                  </a:lnTo>
                  <a:lnTo>
                    <a:pt x="950" y="1022"/>
                  </a:lnTo>
                  <a:lnTo>
                    <a:pt x="950" y="991"/>
                  </a:lnTo>
                  <a:lnTo>
                    <a:pt x="952" y="960"/>
                  </a:lnTo>
                  <a:lnTo>
                    <a:pt x="952" y="928"/>
                  </a:lnTo>
                  <a:lnTo>
                    <a:pt x="952" y="897"/>
                  </a:lnTo>
                  <a:lnTo>
                    <a:pt x="952" y="866"/>
                  </a:lnTo>
                  <a:lnTo>
                    <a:pt x="952" y="834"/>
                  </a:lnTo>
                  <a:lnTo>
                    <a:pt x="952" y="803"/>
                  </a:lnTo>
                  <a:lnTo>
                    <a:pt x="952" y="772"/>
                  </a:lnTo>
                  <a:lnTo>
                    <a:pt x="952" y="741"/>
                  </a:lnTo>
                  <a:lnTo>
                    <a:pt x="952" y="709"/>
                  </a:lnTo>
                  <a:lnTo>
                    <a:pt x="952" y="678"/>
                  </a:lnTo>
                  <a:lnTo>
                    <a:pt x="952" y="647"/>
                  </a:lnTo>
                  <a:lnTo>
                    <a:pt x="952" y="615"/>
                  </a:lnTo>
                  <a:lnTo>
                    <a:pt x="952" y="584"/>
                  </a:lnTo>
                  <a:lnTo>
                    <a:pt x="952" y="553"/>
                  </a:lnTo>
                  <a:lnTo>
                    <a:pt x="939" y="521"/>
                  </a:lnTo>
                  <a:lnTo>
                    <a:pt x="908" y="511"/>
                  </a:lnTo>
                  <a:lnTo>
                    <a:pt x="912" y="488"/>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135760" y="4422600"/>
              <a:ext cx="1574640" cy="1909800"/>
            </a:xfrm>
            <a:custGeom>
              <a:avLst/>
              <a:gdLst/>
              <a:ahLst/>
              <a:rect l="l" t="t" r="r" b="b"/>
              <a:pathLst>
                <a:path w="992" h="1203">
                  <a:moveTo>
                    <a:pt x="29" y="10"/>
                  </a:moveTo>
                  <a:lnTo>
                    <a:pt x="62" y="41"/>
                  </a:lnTo>
                  <a:lnTo>
                    <a:pt x="62" y="73"/>
                  </a:lnTo>
                  <a:lnTo>
                    <a:pt x="73" y="104"/>
                  </a:lnTo>
                  <a:lnTo>
                    <a:pt x="83" y="135"/>
                  </a:lnTo>
                  <a:lnTo>
                    <a:pt x="94" y="167"/>
                  </a:lnTo>
                  <a:lnTo>
                    <a:pt x="115" y="198"/>
                  </a:lnTo>
                  <a:lnTo>
                    <a:pt x="135" y="229"/>
                  </a:lnTo>
                  <a:lnTo>
                    <a:pt x="146" y="260"/>
                  </a:lnTo>
                  <a:lnTo>
                    <a:pt x="167" y="292"/>
                  </a:lnTo>
                  <a:lnTo>
                    <a:pt x="177" y="323"/>
                  </a:lnTo>
                  <a:lnTo>
                    <a:pt x="208" y="344"/>
                  </a:lnTo>
                  <a:lnTo>
                    <a:pt x="219" y="375"/>
                  </a:lnTo>
                  <a:lnTo>
                    <a:pt x="240" y="407"/>
                  </a:lnTo>
                  <a:lnTo>
                    <a:pt x="261" y="438"/>
                  </a:lnTo>
                  <a:lnTo>
                    <a:pt x="271" y="469"/>
                  </a:lnTo>
                  <a:lnTo>
                    <a:pt x="282" y="500"/>
                  </a:lnTo>
                  <a:lnTo>
                    <a:pt x="302" y="532"/>
                  </a:lnTo>
                  <a:lnTo>
                    <a:pt x="323" y="563"/>
                  </a:lnTo>
                  <a:lnTo>
                    <a:pt x="344" y="594"/>
                  </a:lnTo>
                  <a:lnTo>
                    <a:pt x="375" y="626"/>
                  </a:lnTo>
                  <a:lnTo>
                    <a:pt x="396" y="657"/>
                  </a:lnTo>
                  <a:lnTo>
                    <a:pt x="407" y="688"/>
                  </a:lnTo>
                  <a:lnTo>
                    <a:pt x="428" y="720"/>
                  </a:lnTo>
                  <a:lnTo>
                    <a:pt x="448" y="751"/>
                  </a:lnTo>
                  <a:lnTo>
                    <a:pt x="469" y="782"/>
                  </a:lnTo>
                  <a:lnTo>
                    <a:pt x="490" y="813"/>
                  </a:lnTo>
                  <a:lnTo>
                    <a:pt x="522" y="845"/>
                  </a:lnTo>
                  <a:lnTo>
                    <a:pt x="542" y="876"/>
                  </a:lnTo>
                  <a:lnTo>
                    <a:pt x="553" y="907"/>
                  </a:lnTo>
                  <a:lnTo>
                    <a:pt x="553" y="939"/>
                  </a:lnTo>
                  <a:lnTo>
                    <a:pt x="553" y="970"/>
                  </a:lnTo>
                  <a:lnTo>
                    <a:pt x="553" y="1001"/>
                  </a:lnTo>
                  <a:lnTo>
                    <a:pt x="563" y="1033"/>
                  </a:lnTo>
                  <a:lnTo>
                    <a:pt x="563" y="1064"/>
                  </a:lnTo>
                  <a:lnTo>
                    <a:pt x="584" y="1095"/>
                  </a:lnTo>
                  <a:lnTo>
                    <a:pt x="615" y="1127"/>
                  </a:lnTo>
                  <a:lnTo>
                    <a:pt x="636" y="1158"/>
                  </a:lnTo>
                  <a:lnTo>
                    <a:pt x="668" y="1189"/>
                  </a:lnTo>
                  <a:lnTo>
                    <a:pt x="699" y="1202"/>
                  </a:lnTo>
                  <a:lnTo>
                    <a:pt x="730" y="1202"/>
                  </a:lnTo>
                  <a:lnTo>
                    <a:pt x="762" y="1202"/>
                  </a:lnTo>
                  <a:lnTo>
                    <a:pt x="793" y="1202"/>
                  </a:lnTo>
                  <a:lnTo>
                    <a:pt x="824" y="1202"/>
                  </a:lnTo>
                  <a:lnTo>
                    <a:pt x="855" y="1202"/>
                  </a:lnTo>
                  <a:lnTo>
                    <a:pt x="887" y="1202"/>
                  </a:lnTo>
                  <a:lnTo>
                    <a:pt x="918" y="1202"/>
                  </a:lnTo>
                  <a:lnTo>
                    <a:pt x="949" y="1202"/>
                  </a:lnTo>
                  <a:lnTo>
                    <a:pt x="981" y="1202"/>
                  </a:lnTo>
                  <a:lnTo>
                    <a:pt x="991" y="1168"/>
                  </a:lnTo>
                  <a:lnTo>
                    <a:pt x="970" y="1137"/>
                  </a:lnTo>
                  <a:lnTo>
                    <a:pt x="960" y="1106"/>
                  </a:lnTo>
                  <a:lnTo>
                    <a:pt x="949" y="1074"/>
                  </a:lnTo>
                  <a:lnTo>
                    <a:pt x="928" y="1043"/>
                  </a:lnTo>
                  <a:lnTo>
                    <a:pt x="908" y="1012"/>
                  </a:lnTo>
                  <a:lnTo>
                    <a:pt x="887" y="980"/>
                  </a:lnTo>
                  <a:lnTo>
                    <a:pt x="876" y="949"/>
                  </a:lnTo>
                  <a:lnTo>
                    <a:pt x="855" y="918"/>
                  </a:lnTo>
                  <a:lnTo>
                    <a:pt x="824" y="887"/>
                  </a:lnTo>
                  <a:lnTo>
                    <a:pt x="803" y="855"/>
                  </a:lnTo>
                  <a:lnTo>
                    <a:pt x="772" y="824"/>
                  </a:lnTo>
                  <a:lnTo>
                    <a:pt x="741" y="803"/>
                  </a:lnTo>
                  <a:lnTo>
                    <a:pt x="720" y="772"/>
                  </a:lnTo>
                  <a:lnTo>
                    <a:pt x="688" y="751"/>
                  </a:lnTo>
                  <a:lnTo>
                    <a:pt x="668" y="720"/>
                  </a:lnTo>
                  <a:lnTo>
                    <a:pt x="657" y="688"/>
                  </a:lnTo>
                  <a:lnTo>
                    <a:pt x="647" y="657"/>
                  </a:lnTo>
                  <a:lnTo>
                    <a:pt x="636" y="626"/>
                  </a:lnTo>
                  <a:lnTo>
                    <a:pt x="615" y="594"/>
                  </a:lnTo>
                  <a:lnTo>
                    <a:pt x="595" y="563"/>
                  </a:lnTo>
                  <a:lnTo>
                    <a:pt x="574" y="532"/>
                  </a:lnTo>
                  <a:lnTo>
                    <a:pt x="553" y="500"/>
                  </a:lnTo>
                  <a:lnTo>
                    <a:pt x="532" y="469"/>
                  </a:lnTo>
                  <a:lnTo>
                    <a:pt x="511" y="438"/>
                  </a:lnTo>
                  <a:lnTo>
                    <a:pt x="501" y="407"/>
                  </a:lnTo>
                  <a:lnTo>
                    <a:pt x="469" y="386"/>
                  </a:lnTo>
                  <a:lnTo>
                    <a:pt x="438" y="365"/>
                  </a:lnTo>
                  <a:lnTo>
                    <a:pt x="417" y="333"/>
                  </a:lnTo>
                  <a:lnTo>
                    <a:pt x="386" y="313"/>
                  </a:lnTo>
                  <a:lnTo>
                    <a:pt x="355" y="292"/>
                  </a:lnTo>
                  <a:lnTo>
                    <a:pt x="323" y="271"/>
                  </a:lnTo>
                  <a:lnTo>
                    <a:pt x="292" y="250"/>
                  </a:lnTo>
                  <a:lnTo>
                    <a:pt x="261" y="219"/>
                  </a:lnTo>
                  <a:lnTo>
                    <a:pt x="229" y="187"/>
                  </a:lnTo>
                  <a:lnTo>
                    <a:pt x="219" y="156"/>
                  </a:lnTo>
                  <a:lnTo>
                    <a:pt x="219" y="125"/>
                  </a:lnTo>
                  <a:lnTo>
                    <a:pt x="229" y="93"/>
                  </a:lnTo>
                  <a:lnTo>
                    <a:pt x="240" y="62"/>
                  </a:lnTo>
                  <a:lnTo>
                    <a:pt x="250" y="31"/>
                  </a:lnTo>
                  <a:lnTo>
                    <a:pt x="250" y="0"/>
                  </a:lnTo>
                  <a:lnTo>
                    <a:pt x="219" y="10"/>
                  </a:lnTo>
                  <a:lnTo>
                    <a:pt x="198" y="41"/>
                  </a:lnTo>
                  <a:lnTo>
                    <a:pt x="177" y="73"/>
                  </a:lnTo>
                  <a:lnTo>
                    <a:pt x="156" y="104"/>
                  </a:lnTo>
                  <a:lnTo>
                    <a:pt x="156" y="135"/>
                  </a:lnTo>
                  <a:lnTo>
                    <a:pt x="125" y="114"/>
                  </a:lnTo>
                  <a:lnTo>
                    <a:pt x="115" y="83"/>
                  </a:lnTo>
                  <a:lnTo>
                    <a:pt x="94" y="52"/>
                  </a:lnTo>
                  <a:lnTo>
                    <a:pt x="62" y="41"/>
                  </a:lnTo>
                  <a:lnTo>
                    <a:pt x="31" y="20"/>
                  </a:lnTo>
                  <a:lnTo>
                    <a:pt x="0" y="10"/>
                  </a:lnTo>
                  <a:lnTo>
                    <a:pt x="29" y="1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7240" y="304560"/>
              <a:ext cx="6512040" cy="4092840"/>
            </a:xfrm>
            <a:custGeom>
              <a:avLst/>
              <a:gdLst/>
              <a:ahLst/>
              <a:rect l="l" t="t" r="r" b="b"/>
              <a:pathLst>
                <a:path w="4102" h="2578">
                  <a:moveTo>
                    <a:pt x="720" y="0"/>
                  </a:moveTo>
                  <a:lnTo>
                    <a:pt x="751" y="31"/>
                  </a:lnTo>
                  <a:lnTo>
                    <a:pt x="772" y="63"/>
                  </a:lnTo>
                  <a:lnTo>
                    <a:pt x="803" y="83"/>
                  </a:lnTo>
                  <a:lnTo>
                    <a:pt x="824" y="115"/>
                  </a:lnTo>
                  <a:lnTo>
                    <a:pt x="845" y="146"/>
                  </a:lnTo>
                  <a:lnTo>
                    <a:pt x="856" y="177"/>
                  </a:lnTo>
                  <a:lnTo>
                    <a:pt x="866" y="209"/>
                  </a:lnTo>
                  <a:lnTo>
                    <a:pt x="877" y="240"/>
                  </a:lnTo>
                  <a:lnTo>
                    <a:pt x="877" y="271"/>
                  </a:lnTo>
                  <a:lnTo>
                    <a:pt x="877" y="303"/>
                  </a:lnTo>
                  <a:lnTo>
                    <a:pt x="877" y="334"/>
                  </a:lnTo>
                  <a:lnTo>
                    <a:pt x="877" y="365"/>
                  </a:lnTo>
                  <a:lnTo>
                    <a:pt x="866" y="397"/>
                  </a:lnTo>
                  <a:lnTo>
                    <a:pt x="866" y="428"/>
                  </a:lnTo>
                  <a:lnTo>
                    <a:pt x="866" y="459"/>
                  </a:lnTo>
                  <a:lnTo>
                    <a:pt x="866" y="490"/>
                  </a:lnTo>
                  <a:lnTo>
                    <a:pt x="866" y="522"/>
                  </a:lnTo>
                  <a:lnTo>
                    <a:pt x="845" y="553"/>
                  </a:lnTo>
                  <a:lnTo>
                    <a:pt x="814" y="574"/>
                  </a:lnTo>
                  <a:lnTo>
                    <a:pt x="793" y="605"/>
                  </a:lnTo>
                  <a:lnTo>
                    <a:pt x="772" y="637"/>
                  </a:lnTo>
                  <a:lnTo>
                    <a:pt x="741" y="657"/>
                  </a:lnTo>
                  <a:lnTo>
                    <a:pt x="710" y="637"/>
                  </a:lnTo>
                  <a:lnTo>
                    <a:pt x="678" y="616"/>
                  </a:lnTo>
                  <a:lnTo>
                    <a:pt x="647" y="595"/>
                  </a:lnTo>
                  <a:lnTo>
                    <a:pt x="616" y="574"/>
                  </a:lnTo>
                  <a:lnTo>
                    <a:pt x="584" y="563"/>
                  </a:lnTo>
                  <a:lnTo>
                    <a:pt x="553" y="563"/>
                  </a:lnTo>
                  <a:lnTo>
                    <a:pt x="522" y="553"/>
                  </a:lnTo>
                  <a:lnTo>
                    <a:pt x="449" y="553"/>
                  </a:lnTo>
                  <a:lnTo>
                    <a:pt x="417" y="543"/>
                  </a:lnTo>
                  <a:lnTo>
                    <a:pt x="386" y="543"/>
                  </a:lnTo>
                  <a:lnTo>
                    <a:pt x="355" y="543"/>
                  </a:lnTo>
                  <a:lnTo>
                    <a:pt x="323" y="532"/>
                  </a:lnTo>
                  <a:lnTo>
                    <a:pt x="292" y="522"/>
                  </a:lnTo>
                  <a:lnTo>
                    <a:pt x="261" y="511"/>
                  </a:lnTo>
                  <a:lnTo>
                    <a:pt x="230" y="501"/>
                  </a:lnTo>
                  <a:lnTo>
                    <a:pt x="198" y="490"/>
                  </a:lnTo>
                  <a:lnTo>
                    <a:pt x="177" y="522"/>
                  </a:lnTo>
                  <a:lnTo>
                    <a:pt x="177" y="553"/>
                  </a:lnTo>
                  <a:lnTo>
                    <a:pt x="177" y="584"/>
                  </a:lnTo>
                  <a:lnTo>
                    <a:pt x="177" y="616"/>
                  </a:lnTo>
                  <a:lnTo>
                    <a:pt x="177" y="647"/>
                  </a:lnTo>
                  <a:lnTo>
                    <a:pt x="177" y="678"/>
                  </a:lnTo>
                  <a:lnTo>
                    <a:pt x="177" y="710"/>
                  </a:lnTo>
                  <a:lnTo>
                    <a:pt x="177" y="741"/>
                  </a:lnTo>
                  <a:lnTo>
                    <a:pt x="177" y="772"/>
                  </a:lnTo>
                  <a:lnTo>
                    <a:pt x="177" y="803"/>
                  </a:lnTo>
                  <a:lnTo>
                    <a:pt x="177" y="835"/>
                  </a:lnTo>
                  <a:lnTo>
                    <a:pt x="146" y="845"/>
                  </a:lnTo>
                  <a:lnTo>
                    <a:pt x="125" y="877"/>
                  </a:lnTo>
                  <a:lnTo>
                    <a:pt x="94" y="908"/>
                  </a:lnTo>
                  <a:lnTo>
                    <a:pt x="83" y="939"/>
                  </a:lnTo>
                  <a:lnTo>
                    <a:pt x="73" y="970"/>
                  </a:lnTo>
                  <a:lnTo>
                    <a:pt x="73" y="1002"/>
                  </a:lnTo>
                  <a:lnTo>
                    <a:pt x="73" y="1033"/>
                  </a:lnTo>
                  <a:lnTo>
                    <a:pt x="73" y="1064"/>
                  </a:lnTo>
                  <a:lnTo>
                    <a:pt x="73" y="1096"/>
                  </a:lnTo>
                  <a:lnTo>
                    <a:pt x="83" y="1127"/>
                  </a:lnTo>
                  <a:lnTo>
                    <a:pt x="83" y="1158"/>
                  </a:lnTo>
                  <a:lnTo>
                    <a:pt x="94" y="1190"/>
                  </a:lnTo>
                  <a:lnTo>
                    <a:pt x="94" y="1221"/>
                  </a:lnTo>
                  <a:lnTo>
                    <a:pt x="94" y="1252"/>
                  </a:lnTo>
                  <a:lnTo>
                    <a:pt x="94" y="1283"/>
                  </a:lnTo>
                  <a:lnTo>
                    <a:pt x="125" y="1294"/>
                  </a:lnTo>
                  <a:lnTo>
                    <a:pt x="157" y="1304"/>
                  </a:lnTo>
                  <a:lnTo>
                    <a:pt x="188" y="1304"/>
                  </a:lnTo>
                  <a:lnTo>
                    <a:pt x="209" y="1336"/>
                  </a:lnTo>
                  <a:lnTo>
                    <a:pt x="240" y="1367"/>
                  </a:lnTo>
                  <a:lnTo>
                    <a:pt x="261" y="1398"/>
                  </a:lnTo>
                  <a:lnTo>
                    <a:pt x="292" y="1409"/>
                  </a:lnTo>
                  <a:lnTo>
                    <a:pt x="323" y="1409"/>
                  </a:lnTo>
                  <a:lnTo>
                    <a:pt x="355" y="1409"/>
                  </a:lnTo>
                  <a:lnTo>
                    <a:pt x="386" y="1409"/>
                  </a:lnTo>
                  <a:lnTo>
                    <a:pt x="417" y="1409"/>
                  </a:lnTo>
                  <a:lnTo>
                    <a:pt x="449" y="1409"/>
                  </a:lnTo>
                  <a:lnTo>
                    <a:pt x="480" y="1409"/>
                  </a:lnTo>
                  <a:lnTo>
                    <a:pt x="511" y="1409"/>
                  </a:lnTo>
                  <a:lnTo>
                    <a:pt x="543" y="1409"/>
                  </a:lnTo>
                  <a:lnTo>
                    <a:pt x="574" y="1409"/>
                  </a:lnTo>
                  <a:lnTo>
                    <a:pt x="605" y="1409"/>
                  </a:lnTo>
                  <a:lnTo>
                    <a:pt x="637" y="1409"/>
                  </a:lnTo>
                  <a:lnTo>
                    <a:pt x="668" y="1409"/>
                  </a:lnTo>
                  <a:lnTo>
                    <a:pt x="689" y="1377"/>
                  </a:lnTo>
                  <a:lnTo>
                    <a:pt x="720" y="1367"/>
                  </a:lnTo>
                  <a:lnTo>
                    <a:pt x="741" y="1336"/>
                  </a:lnTo>
                  <a:lnTo>
                    <a:pt x="772" y="1315"/>
                  </a:lnTo>
                  <a:lnTo>
                    <a:pt x="803" y="1283"/>
                  </a:lnTo>
                  <a:lnTo>
                    <a:pt x="835" y="1252"/>
                  </a:lnTo>
                  <a:lnTo>
                    <a:pt x="866" y="1231"/>
                  </a:lnTo>
                  <a:lnTo>
                    <a:pt x="866" y="1200"/>
                  </a:lnTo>
                  <a:lnTo>
                    <a:pt x="866" y="1169"/>
                  </a:lnTo>
                  <a:lnTo>
                    <a:pt x="866" y="1075"/>
                  </a:lnTo>
                  <a:lnTo>
                    <a:pt x="887" y="1043"/>
                  </a:lnTo>
                  <a:lnTo>
                    <a:pt x="918" y="1033"/>
                  </a:lnTo>
                  <a:lnTo>
                    <a:pt x="950" y="1023"/>
                  </a:lnTo>
                  <a:lnTo>
                    <a:pt x="981" y="1012"/>
                  </a:lnTo>
                  <a:lnTo>
                    <a:pt x="1012" y="1002"/>
                  </a:lnTo>
                  <a:lnTo>
                    <a:pt x="1043" y="981"/>
                  </a:lnTo>
                  <a:lnTo>
                    <a:pt x="1064" y="950"/>
                  </a:lnTo>
                  <a:lnTo>
                    <a:pt x="1085" y="918"/>
                  </a:lnTo>
                  <a:lnTo>
                    <a:pt x="1096" y="887"/>
                  </a:lnTo>
                  <a:lnTo>
                    <a:pt x="1106" y="856"/>
                  </a:lnTo>
                  <a:lnTo>
                    <a:pt x="1137" y="824"/>
                  </a:lnTo>
                  <a:lnTo>
                    <a:pt x="1158" y="793"/>
                  </a:lnTo>
                  <a:lnTo>
                    <a:pt x="1190" y="783"/>
                  </a:lnTo>
                  <a:lnTo>
                    <a:pt x="1221" y="772"/>
                  </a:lnTo>
                  <a:lnTo>
                    <a:pt x="1252" y="772"/>
                  </a:lnTo>
                  <a:lnTo>
                    <a:pt x="1283" y="783"/>
                  </a:lnTo>
                  <a:lnTo>
                    <a:pt x="1315" y="793"/>
                  </a:lnTo>
                  <a:lnTo>
                    <a:pt x="1346" y="803"/>
                  </a:lnTo>
                  <a:lnTo>
                    <a:pt x="1377" y="814"/>
                  </a:lnTo>
                  <a:lnTo>
                    <a:pt x="1409" y="814"/>
                  </a:lnTo>
                  <a:lnTo>
                    <a:pt x="1440" y="814"/>
                  </a:lnTo>
                  <a:lnTo>
                    <a:pt x="1471" y="814"/>
                  </a:lnTo>
                  <a:lnTo>
                    <a:pt x="1503" y="793"/>
                  </a:lnTo>
                  <a:lnTo>
                    <a:pt x="1534" y="772"/>
                  </a:lnTo>
                  <a:lnTo>
                    <a:pt x="1565" y="762"/>
                  </a:lnTo>
                  <a:lnTo>
                    <a:pt x="1597" y="762"/>
                  </a:lnTo>
                  <a:lnTo>
                    <a:pt x="1628" y="762"/>
                  </a:lnTo>
                  <a:lnTo>
                    <a:pt x="1659" y="762"/>
                  </a:lnTo>
                  <a:lnTo>
                    <a:pt x="1690" y="783"/>
                  </a:lnTo>
                  <a:lnTo>
                    <a:pt x="1722" y="793"/>
                  </a:lnTo>
                  <a:lnTo>
                    <a:pt x="1732" y="824"/>
                  </a:lnTo>
                  <a:lnTo>
                    <a:pt x="1732" y="856"/>
                  </a:lnTo>
                  <a:lnTo>
                    <a:pt x="1732" y="887"/>
                  </a:lnTo>
                  <a:lnTo>
                    <a:pt x="1732" y="918"/>
                  </a:lnTo>
                  <a:lnTo>
                    <a:pt x="1732" y="950"/>
                  </a:lnTo>
                  <a:lnTo>
                    <a:pt x="1743" y="981"/>
                  </a:lnTo>
                  <a:lnTo>
                    <a:pt x="1763" y="1012"/>
                  </a:lnTo>
                  <a:lnTo>
                    <a:pt x="1784" y="1043"/>
                  </a:lnTo>
                  <a:lnTo>
                    <a:pt x="1805" y="1075"/>
                  </a:lnTo>
                  <a:lnTo>
                    <a:pt x="1837" y="1096"/>
                  </a:lnTo>
                  <a:lnTo>
                    <a:pt x="1857" y="1127"/>
                  </a:lnTo>
                  <a:lnTo>
                    <a:pt x="1889" y="1148"/>
                  </a:lnTo>
                  <a:lnTo>
                    <a:pt x="1920" y="1169"/>
                  </a:lnTo>
                  <a:lnTo>
                    <a:pt x="1941" y="1200"/>
                  </a:lnTo>
                  <a:lnTo>
                    <a:pt x="1962" y="1231"/>
                  </a:lnTo>
                  <a:lnTo>
                    <a:pt x="1983" y="1263"/>
                  </a:lnTo>
                  <a:lnTo>
                    <a:pt x="2014" y="1283"/>
                  </a:lnTo>
                  <a:lnTo>
                    <a:pt x="2035" y="1315"/>
                  </a:lnTo>
                  <a:lnTo>
                    <a:pt x="2045" y="1346"/>
                  </a:lnTo>
                  <a:lnTo>
                    <a:pt x="2066" y="1377"/>
                  </a:lnTo>
                  <a:lnTo>
                    <a:pt x="2077" y="1409"/>
                  </a:lnTo>
                  <a:lnTo>
                    <a:pt x="2087" y="1440"/>
                  </a:lnTo>
                  <a:lnTo>
                    <a:pt x="2097" y="1471"/>
                  </a:lnTo>
                  <a:lnTo>
                    <a:pt x="2097" y="1503"/>
                  </a:lnTo>
                  <a:lnTo>
                    <a:pt x="2097" y="1534"/>
                  </a:lnTo>
                  <a:lnTo>
                    <a:pt x="2097" y="1565"/>
                  </a:lnTo>
                  <a:lnTo>
                    <a:pt x="2097" y="1597"/>
                  </a:lnTo>
                  <a:lnTo>
                    <a:pt x="2129" y="1628"/>
                  </a:lnTo>
                  <a:lnTo>
                    <a:pt x="2160" y="1649"/>
                  </a:lnTo>
                  <a:lnTo>
                    <a:pt x="2191" y="1649"/>
                  </a:lnTo>
                  <a:lnTo>
                    <a:pt x="2212" y="1617"/>
                  </a:lnTo>
                  <a:lnTo>
                    <a:pt x="2223" y="1586"/>
                  </a:lnTo>
                  <a:lnTo>
                    <a:pt x="2233" y="1555"/>
                  </a:lnTo>
                  <a:lnTo>
                    <a:pt x="2233" y="1523"/>
                  </a:lnTo>
                  <a:lnTo>
                    <a:pt x="2223" y="1492"/>
                  </a:lnTo>
                  <a:lnTo>
                    <a:pt x="2223" y="1461"/>
                  </a:lnTo>
                  <a:lnTo>
                    <a:pt x="2223" y="1430"/>
                  </a:lnTo>
                  <a:lnTo>
                    <a:pt x="2223" y="1398"/>
                  </a:lnTo>
                  <a:lnTo>
                    <a:pt x="2254" y="1388"/>
                  </a:lnTo>
                  <a:lnTo>
                    <a:pt x="2285" y="1388"/>
                  </a:lnTo>
                  <a:lnTo>
                    <a:pt x="2317" y="1398"/>
                  </a:lnTo>
                  <a:lnTo>
                    <a:pt x="2348" y="1409"/>
                  </a:lnTo>
                  <a:lnTo>
                    <a:pt x="2358" y="1377"/>
                  </a:lnTo>
                  <a:lnTo>
                    <a:pt x="2358" y="1346"/>
                  </a:lnTo>
                  <a:lnTo>
                    <a:pt x="2348" y="1315"/>
                  </a:lnTo>
                  <a:lnTo>
                    <a:pt x="2337" y="1283"/>
                  </a:lnTo>
                  <a:lnTo>
                    <a:pt x="2306" y="1273"/>
                  </a:lnTo>
                  <a:lnTo>
                    <a:pt x="2275" y="1242"/>
                  </a:lnTo>
                  <a:lnTo>
                    <a:pt x="2254" y="1210"/>
                  </a:lnTo>
                  <a:lnTo>
                    <a:pt x="2223" y="1190"/>
                  </a:lnTo>
                  <a:lnTo>
                    <a:pt x="2202" y="1158"/>
                  </a:lnTo>
                  <a:lnTo>
                    <a:pt x="2170" y="1137"/>
                  </a:lnTo>
                  <a:lnTo>
                    <a:pt x="2139" y="1117"/>
                  </a:lnTo>
                  <a:lnTo>
                    <a:pt x="2118" y="1085"/>
                  </a:lnTo>
                  <a:lnTo>
                    <a:pt x="2108" y="1054"/>
                  </a:lnTo>
                  <a:lnTo>
                    <a:pt x="2097" y="1023"/>
                  </a:lnTo>
                  <a:lnTo>
                    <a:pt x="2087" y="991"/>
                  </a:lnTo>
                  <a:lnTo>
                    <a:pt x="2066" y="960"/>
                  </a:lnTo>
                  <a:lnTo>
                    <a:pt x="2045" y="929"/>
                  </a:lnTo>
                  <a:lnTo>
                    <a:pt x="2014" y="897"/>
                  </a:lnTo>
                  <a:lnTo>
                    <a:pt x="2003" y="866"/>
                  </a:lnTo>
                  <a:lnTo>
                    <a:pt x="1983" y="835"/>
                  </a:lnTo>
                  <a:lnTo>
                    <a:pt x="1962" y="803"/>
                  </a:lnTo>
                  <a:lnTo>
                    <a:pt x="1941" y="772"/>
                  </a:lnTo>
                  <a:lnTo>
                    <a:pt x="1920" y="741"/>
                  </a:lnTo>
                  <a:lnTo>
                    <a:pt x="1899" y="710"/>
                  </a:lnTo>
                  <a:lnTo>
                    <a:pt x="1910" y="678"/>
                  </a:lnTo>
                  <a:lnTo>
                    <a:pt x="1941" y="668"/>
                  </a:lnTo>
                  <a:lnTo>
                    <a:pt x="1972" y="668"/>
                  </a:lnTo>
                  <a:lnTo>
                    <a:pt x="2003" y="668"/>
                  </a:lnTo>
                  <a:lnTo>
                    <a:pt x="2035" y="689"/>
                  </a:lnTo>
                  <a:lnTo>
                    <a:pt x="2056" y="720"/>
                  </a:lnTo>
                  <a:lnTo>
                    <a:pt x="2087" y="751"/>
                  </a:lnTo>
                  <a:lnTo>
                    <a:pt x="2108" y="783"/>
                  </a:lnTo>
                  <a:lnTo>
                    <a:pt x="2129" y="814"/>
                  </a:lnTo>
                  <a:lnTo>
                    <a:pt x="2139" y="845"/>
                  </a:lnTo>
                  <a:lnTo>
                    <a:pt x="2160" y="877"/>
                  </a:lnTo>
                  <a:lnTo>
                    <a:pt x="2191" y="908"/>
                  </a:lnTo>
                  <a:lnTo>
                    <a:pt x="2202" y="939"/>
                  </a:lnTo>
                  <a:lnTo>
                    <a:pt x="2233" y="970"/>
                  </a:lnTo>
                  <a:lnTo>
                    <a:pt x="2254" y="1002"/>
                  </a:lnTo>
                  <a:lnTo>
                    <a:pt x="2285" y="1033"/>
                  </a:lnTo>
                  <a:lnTo>
                    <a:pt x="2296" y="1064"/>
                  </a:lnTo>
                  <a:lnTo>
                    <a:pt x="2317" y="1096"/>
                  </a:lnTo>
                  <a:lnTo>
                    <a:pt x="2348" y="1127"/>
                  </a:lnTo>
                  <a:lnTo>
                    <a:pt x="2379" y="1158"/>
                  </a:lnTo>
                  <a:lnTo>
                    <a:pt x="2410" y="1190"/>
                  </a:lnTo>
                  <a:lnTo>
                    <a:pt x="2431" y="1221"/>
                  </a:lnTo>
                  <a:lnTo>
                    <a:pt x="2452" y="1252"/>
                  </a:lnTo>
                  <a:lnTo>
                    <a:pt x="2463" y="1283"/>
                  </a:lnTo>
                  <a:lnTo>
                    <a:pt x="2473" y="1315"/>
                  </a:lnTo>
                  <a:lnTo>
                    <a:pt x="2473" y="1346"/>
                  </a:lnTo>
                  <a:lnTo>
                    <a:pt x="2473" y="1377"/>
                  </a:lnTo>
                  <a:lnTo>
                    <a:pt x="2473" y="1409"/>
                  </a:lnTo>
                  <a:lnTo>
                    <a:pt x="2473" y="1440"/>
                  </a:lnTo>
                  <a:lnTo>
                    <a:pt x="2504" y="1461"/>
                  </a:lnTo>
                  <a:lnTo>
                    <a:pt x="2536" y="1482"/>
                  </a:lnTo>
                  <a:lnTo>
                    <a:pt x="2557" y="1513"/>
                  </a:lnTo>
                  <a:lnTo>
                    <a:pt x="2557" y="1544"/>
                  </a:lnTo>
                  <a:lnTo>
                    <a:pt x="2557" y="1576"/>
                  </a:lnTo>
                  <a:lnTo>
                    <a:pt x="2557" y="1607"/>
                  </a:lnTo>
                  <a:lnTo>
                    <a:pt x="2588" y="1628"/>
                  </a:lnTo>
                  <a:lnTo>
                    <a:pt x="2619" y="1649"/>
                  </a:lnTo>
                  <a:lnTo>
                    <a:pt x="2650" y="1670"/>
                  </a:lnTo>
                  <a:lnTo>
                    <a:pt x="2682" y="1690"/>
                  </a:lnTo>
                  <a:lnTo>
                    <a:pt x="2713" y="1711"/>
                  </a:lnTo>
                  <a:lnTo>
                    <a:pt x="2744" y="1711"/>
                  </a:lnTo>
                  <a:lnTo>
                    <a:pt x="2776" y="1711"/>
                  </a:lnTo>
                  <a:lnTo>
                    <a:pt x="2807" y="1701"/>
                  </a:lnTo>
                  <a:lnTo>
                    <a:pt x="2828" y="1670"/>
                  </a:lnTo>
                  <a:lnTo>
                    <a:pt x="2849" y="1638"/>
                  </a:lnTo>
                  <a:lnTo>
                    <a:pt x="2859" y="1607"/>
                  </a:lnTo>
                  <a:lnTo>
                    <a:pt x="2870" y="1576"/>
                  </a:lnTo>
                  <a:lnTo>
                    <a:pt x="2859" y="1544"/>
                  </a:lnTo>
                  <a:lnTo>
                    <a:pt x="2838" y="1513"/>
                  </a:lnTo>
                  <a:lnTo>
                    <a:pt x="2817" y="1482"/>
                  </a:lnTo>
                  <a:lnTo>
                    <a:pt x="2797" y="1450"/>
                  </a:lnTo>
                  <a:lnTo>
                    <a:pt x="2786" y="1419"/>
                  </a:lnTo>
                  <a:lnTo>
                    <a:pt x="2786" y="1388"/>
                  </a:lnTo>
                  <a:lnTo>
                    <a:pt x="2817" y="1357"/>
                  </a:lnTo>
                  <a:lnTo>
                    <a:pt x="2849" y="1336"/>
                  </a:lnTo>
                  <a:lnTo>
                    <a:pt x="2880" y="1325"/>
                  </a:lnTo>
                  <a:lnTo>
                    <a:pt x="2911" y="1315"/>
                  </a:lnTo>
                  <a:lnTo>
                    <a:pt x="2943" y="1294"/>
                  </a:lnTo>
                  <a:lnTo>
                    <a:pt x="2974" y="1273"/>
                  </a:lnTo>
                  <a:lnTo>
                    <a:pt x="2984" y="1190"/>
                  </a:lnTo>
                  <a:lnTo>
                    <a:pt x="2995" y="1106"/>
                  </a:lnTo>
                  <a:lnTo>
                    <a:pt x="3026" y="1096"/>
                  </a:lnTo>
                  <a:lnTo>
                    <a:pt x="3057" y="1096"/>
                  </a:lnTo>
                  <a:lnTo>
                    <a:pt x="3089" y="1096"/>
                  </a:lnTo>
                  <a:lnTo>
                    <a:pt x="3120" y="1106"/>
                  </a:lnTo>
                  <a:lnTo>
                    <a:pt x="3151" y="1127"/>
                  </a:lnTo>
                  <a:lnTo>
                    <a:pt x="3183" y="1148"/>
                  </a:lnTo>
                  <a:lnTo>
                    <a:pt x="3214" y="1158"/>
                  </a:lnTo>
                  <a:lnTo>
                    <a:pt x="3235" y="1127"/>
                  </a:lnTo>
                  <a:lnTo>
                    <a:pt x="3235" y="1096"/>
                  </a:lnTo>
                  <a:lnTo>
                    <a:pt x="3235" y="1064"/>
                  </a:lnTo>
                  <a:lnTo>
                    <a:pt x="3214" y="1033"/>
                  </a:lnTo>
                  <a:lnTo>
                    <a:pt x="3193" y="1002"/>
                  </a:lnTo>
                  <a:lnTo>
                    <a:pt x="3183" y="970"/>
                  </a:lnTo>
                  <a:lnTo>
                    <a:pt x="3183" y="939"/>
                  </a:lnTo>
                  <a:lnTo>
                    <a:pt x="3183" y="908"/>
                  </a:lnTo>
                  <a:lnTo>
                    <a:pt x="3183" y="877"/>
                  </a:lnTo>
                  <a:lnTo>
                    <a:pt x="3183" y="845"/>
                  </a:lnTo>
                  <a:lnTo>
                    <a:pt x="3183" y="814"/>
                  </a:lnTo>
                  <a:lnTo>
                    <a:pt x="3183" y="783"/>
                  </a:lnTo>
                  <a:lnTo>
                    <a:pt x="3183" y="751"/>
                  </a:lnTo>
                  <a:lnTo>
                    <a:pt x="3193" y="668"/>
                  </a:lnTo>
                  <a:lnTo>
                    <a:pt x="3193" y="637"/>
                  </a:lnTo>
                  <a:lnTo>
                    <a:pt x="3203" y="605"/>
                  </a:lnTo>
                  <a:lnTo>
                    <a:pt x="3235" y="574"/>
                  </a:lnTo>
                  <a:lnTo>
                    <a:pt x="3266" y="563"/>
                  </a:lnTo>
                  <a:lnTo>
                    <a:pt x="3297" y="543"/>
                  </a:lnTo>
                  <a:lnTo>
                    <a:pt x="3329" y="532"/>
                  </a:lnTo>
                  <a:lnTo>
                    <a:pt x="3360" y="522"/>
                  </a:lnTo>
                  <a:lnTo>
                    <a:pt x="3391" y="522"/>
                  </a:lnTo>
                  <a:lnTo>
                    <a:pt x="3423" y="522"/>
                  </a:lnTo>
                  <a:lnTo>
                    <a:pt x="3454" y="553"/>
                  </a:lnTo>
                  <a:lnTo>
                    <a:pt x="3475" y="584"/>
                  </a:lnTo>
                  <a:lnTo>
                    <a:pt x="3475" y="616"/>
                  </a:lnTo>
                  <a:lnTo>
                    <a:pt x="3496" y="647"/>
                  </a:lnTo>
                  <a:lnTo>
                    <a:pt x="3527" y="668"/>
                  </a:lnTo>
                  <a:lnTo>
                    <a:pt x="3558" y="699"/>
                  </a:lnTo>
                  <a:lnTo>
                    <a:pt x="3590" y="710"/>
                  </a:lnTo>
                  <a:lnTo>
                    <a:pt x="3621" y="710"/>
                  </a:lnTo>
                  <a:lnTo>
                    <a:pt x="3652" y="699"/>
                  </a:lnTo>
                  <a:lnTo>
                    <a:pt x="3673" y="668"/>
                  </a:lnTo>
                  <a:lnTo>
                    <a:pt x="3694" y="637"/>
                  </a:lnTo>
                  <a:lnTo>
                    <a:pt x="3704" y="605"/>
                  </a:lnTo>
                  <a:lnTo>
                    <a:pt x="3694" y="574"/>
                  </a:lnTo>
                  <a:lnTo>
                    <a:pt x="3673" y="543"/>
                  </a:lnTo>
                  <a:lnTo>
                    <a:pt x="3652" y="511"/>
                  </a:lnTo>
                  <a:lnTo>
                    <a:pt x="3652" y="480"/>
                  </a:lnTo>
                  <a:lnTo>
                    <a:pt x="3652" y="449"/>
                  </a:lnTo>
                  <a:lnTo>
                    <a:pt x="3673" y="417"/>
                  </a:lnTo>
                  <a:lnTo>
                    <a:pt x="3704" y="397"/>
                  </a:lnTo>
                  <a:lnTo>
                    <a:pt x="3736" y="386"/>
                  </a:lnTo>
                  <a:lnTo>
                    <a:pt x="3767" y="365"/>
                  </a:lnTo>
                  <a:lnTo>
                    <a:pt x="3777" y="397"/>
                  </a:lnTo>
                  <a:lnTo>
                    <a:pt x="3798" y="428"/>
                  </a:lnTo>
                  <a:lnTo>
                    <a:pt x="3819" y="459"/>
                  </a:lnTo>
                  <a:lnTo>
                    <a:pt x="3809" y="490"/>
                  </a:lnTo>
                  <a:lnTo>
                    <a:pt x="3788" y="522"/>
                  </a:lnTo>
                  <a:lnTo>
                    <a:pt x="3767" y="553"/>
                  </a:lnTo>
                  <a:lnTo>
                    <a:pt x="3767" y="584"/>
                  </a:lnTo>
                  <a:lnTo>
                    <a:pt x="3767" y="616"/>
                  </a:lnTo>
                  <a:lnTo>
                    <a:pt x="3798" y="637"/>
                  </a:lnTo>
                  <a:lnTo>
                    <a:pt x="3830" y="668"/>
                  </a:lnTo>
                  <a:lnTo>
                    <a:pt x="3861" y="678"/>
                  </a:lnTo>
                  <a:lnTo>
                    <a:pt x="3892" y="689"/>
                  </a:lnTo>
                  <a:lnTo>
                    <a:pt x="3923" y="710"/>
                  </a:lnTo>
                  <a:lnTo>
                    <a:pt x="3955" y="720"/>
                  </a:lnTo>
                  <a:lnTo>
                    <a:pt x="3986" y="730"/>
                  </a:lnTo>
                  <a:lnTo>
                    <a:pt x="4017" y="751"/>
                  </a:lnTo>
                  <a:lnTo>
                    <a:pt x="4049" y="783"/>
                  </a:lnTo>
                  <a:lnTo>
                    <a:pt x="4070" y="814"/>
                  </a:lnTo>
                  <a:lnTo>
                    <a:pt x="4090" y="845"/>
                  </a:lnTo>
                  <a:lnTo>
                    <a:pt x="4101" y="877"/>
                  </a:lnTo>
                  <a:lnTo>
                    <a:pt x="4080" y="908"/>
                  </a:lnTo>
                  <a:lnTo>
                    <a:pt x="4070" y="939"/>
                  </a:lnTo>
                  <a:lnTo>
                    <a:pt x="4038" y="950"/>
                  </a:lnTo>
                  <a:lnTo>
                    <a:pt x="4007" y="950"/>
                  </a:lnTo>
                  <a:lnTo>
                    <a:pt x="3976" y="950"/>
                  </a:lnTo>
                  <a:lnTo>
                    <a:pt x="3944" y="950"/>
                  </a:lnTo>
                  <a:lnTo>
                    <a:pt x="3913" y="950"/>
                  </a:lnTo>
                  <a:lnTo>
                    <a:pt x="3882" y="950"/>
                  </a:lnTo>
                  <a:lnTo>
                    <a:pt x="3850" y="950"/>
                  </a:lnTo>
                  <a:lnTo>
                    <a:pt x="3819" y="960"/>
                  </a:lnTo>
                  <a:lnTo>
                    <a:pt x="3788" y="960"/>
                  </a:lnTo>
                  <a:lnTo>
                    <a:pt x="3757" y="960"/>
                  </a:lnTo>
                  <a:lnTo>
                    <a:pt x="3725" y="960"/>
                  </a:lnTo>
                  <a:lnTo>
                    <a:pt x="3694" y="970"/>
                  </a:lnTo>
                  <a:lnTo>
                    <a:pt x="3663" y="981"/>
                  </a:lnTo>
                  <a:lnTo>
                    <a:pt x="3631" y="1002"/>
                  </a:lnTo>
                  <a:lnTo>
                    <a:pt x="3600" y="1012"/>
                  </a:lnTo>
                  <a:lnTo>
                    <a:pt x="3569" y="1033"/>
                  </a:lnTo>
                  <a:lnTo>
                    <a:pt x="3537" y="1064"/>
                  </a:lnTo>
                  <a:lnTo>
                    <a:pt x="3506" y="1085"/>
                  </a:lnTo>
                  <a:lnTo>
                    <a:pt x="3475" y="1106"/>
                  </a:lnTo>
                  <a:lnTo>
                    <a:pt x="3454" y="1137"/>
                  </a:lnTo>
                  <a:lnTo>
                    <a:pt x="3423" y="1158"/>
                  </a:lnTo>
                  <a:lnTo>
                    <a:pt x="3391" y="1179"/>
                  </a:lnTo>
                  <a:lnTo>
                    <a:pt x="3360" y="1190"/>
                  </a:lnTo>
                  <a:lnTo>
                    <a:pt x="3329" y="1200"/>
                  </a:lnTo>
                  <a:lnTo>
                    <a:pt x="3297" y="1221"/>
                  </a:lnTo>
                  <a:lnTo>
                    <a:pt x="3266" y="1252"/>
                  </a:lnTo>
                  <a:lnTo>
                    <a:pt x="3235" y="1273"/>
                  </a:lnTo>
                  <a:lnTo>
                    <a:pt x="3203" y="1283"/>
                  </a:lnTo>
                  <a:lnTo>
                    <a:pt x="3172" y="1294"/>
                  </a:lnTo>
                  <a:lnTo>
                    <a:pt x="3141" y="1304"/>
                  </a:lnTo>
                  <a:lnTo>
                    <a:pt x="3120" y="1336"/>
                  </a:lnTo>
                  <a:lnTo>
                    <a:pt x="3089" y="1357"/>
                  </a:lnTo>
                  <a:lnTo>
                    <a:pt x="3078" y="1388"/>
                  </a:lnTo>
                  <a:lnTo>
                    <a:pt x="3057" y="1419"/>
                  </a:lnTo>
                  <a:lnTo>
                    <a:pt x="3057" y="1450"/>
                  </a:lnTo>
                  <a:lnTo>
                    <a:pt x="3068" y="1482"/>
                  </a:lnTo>
                  <a:lnTo>
                    <a:pt x="3078" y="1513"/>
                  </a:lnTo>
                  <a:lnTo>
                    <a:pt x="3089" y="1544"/>
                  </a:lnTo>
                  <a:lnTo>
                    <a:pt x="3120" y="1565"/>
                  </a:lnTo>
                  <a:lnTo>
                    <a:pt x="3130" y="1597"/>
                  </a:lnTo>
                  <a:lnTo>
                    <a:pt x="3151" y="1628"/>
                  </a:lnTo>
                  <a:lnTo>
                    <a:pt x="3172" y="1659"/>
                  </a:lnTo>
                  <a:lnTo>
                    <a:pt x="3203" y="1690"/>
                  </a:lnTo>
                  <a:lnTo>
                    <a:pt x="3235" y="1711"/>
                  </a:lnTo>
                  <a:lnTo>
                    <a:pt x="3245" y="1743"/>
                  </a:lnTo>
                  <a:lnTo>
                    <a:pt x="3277" y="1763"/>
                  </a:lnTo>
                  <a:lnTo>
                    <a:pt x="3308" y="1763"/>
                  </a:lnTo>
                  <a:lnTo>
                    <a:pt x="3339" y="1763"/>
                  </a:lnTo>
                  <a:lnTo>
                    <a:pt x="3370" y="1763"/>
                  </a:lnTo>
                  <a:lnTo>
                    <a:pt x="3402" y="1763"/>
                  </a:lnTo>
                  <a:lnTo>
                    <a:pt x="3433" y="1753"/>
                  </a:lnTo>
                  <a:lnTo>
                    <a:pt x="3464" y="1743"/>
                  </a:lnTo>
                  <a:lnTo>
                    <a:pt x="3496" y="1743"/>
                  </a:lnTo>
                  <a:lnTo>
                    <a:pt x="3527" y="1743"/>
                  </a:lnTo>
                  <a:lnTo>
                    <a:pt x="3558" y="1753"/>
                  </a:lnTo>
                  <a:lnTo>
                    <a:pt x="3590" y="1763"/>
                  </a:lnTo>
                  <a:lnTo>
                    <a:pt x="3621" y="1774"/>
                  </a:lnTo>
                  <a:lnTo>
                    <a:pt x="3652" y="1774"/>
                  </a:lnTo>
                  <a:lnTo>
                    <a:pt x="3683" y="1774"/>
                  </a:lnTo>
                  <a:lnTo>
                    <a:pt x="3704" y="1743"/>
                  </a:lnTo>
                  <a:lnTo>
                    <a:pt x="3725" y="1711"/>
                  </a:lnTo>
                  <a:lnTo>
                    <a:pt x="3736" y="1680"/>
                  </a:lnTo>
                  <a:lnTo>
                    <a:pt x="3757" y="1649"/>
                  </a:lnTo>
                  <a:lnTo>
                    <a:pt x="3788" y="1628"/>
                  </a:lnTo>
                  <a:lnTo>
                    <a:pt x="3819" y="1617"/>
                  </a:lnTo>
                  <a:lnTo>
                    <a:pt x="3830" y="1649"/>
                  </a:lnTo>
                  <a:lnTo>
                    <a:pt x="3830" y="1680"/>
                  </a:lnTo>
                  <a:lnTo>
                    <a:pt x="3819" y="1711"/>
                  </a:lnTo>
                  <a:lnTo>
                    <a:pt x="3809" y="1743"/>
                  </a:lnTo>
                  <a:lnTo>
                    <a:pt x="3830" y="1774"/>
                  </a:lnTo>
                  <a:lnTo>
                    <a:pt x="3861" y="1795"/>
                  </a:lnTo>
                  <a:lnTo>
                    <a:pt x="3882" y="1826"/>
                  </a:lnTo>
                  <a:lnTo>
                    <a:pt x="3892" y="1857"/>
                  </a:lnTo>
                  <a:lnTo>
                    <a:pt x="3913" y="1889"/>
                  </a:lnTo>
                  <a:lnTo>
                    <a:pt x="3913" y="1920"/>
                  </a:lnTo>
                  <a:lnTo>
                    <a:pt x="3913" y="1951"/>
                  </a:lnTo>
                  <a:lnTo>
                    <a:pt x="3903" y="1983"/>
                  </a:lnTo>
                  <a:lnTo>
                    <a:pt x="3903" y="2014"/>
                  </a:lnTo>
                  <a:lnTo>
                    <a:pt x="3903" y="2045"/>
                  </a:lnTo>
                  <a:lnTo>
                    <a:pt x="3882" y="2077"/>
                  </a:lnTo>
                  <a:lnTo>
                    <a:pt x="3850" y="2097"/>
                  </a:lnTo>
                  <a:lnTo>
                    <a:pt x="3819" y="2118"/>
                  </a:lnTo>
                  <a:lnTo>
                    <a:pt x="3788" y="2150"/>
                  </a:lnTo>
                  <a:lnTo>
                    <a:pt x="3757" y="2170"/>
                  </a:lnTo>
                  <a:lnTo>
                    <a:pt x="3725" y="2191"/>
                  </a:lnTo>
                  <a:lnTo>
                    <a:pt x="3694" y="2212"/>
                  </a:lnTo>
                  <a:lnTo>
                    <a:pt x="3663" y="2233"/>
                  </a:lnTo>
                  <a:lnTo>
                    <a:pt x="3631" y="2264"/>
                  </a:lnTo>
                  <a:lnTo>
                    <a:pt x="3600" y="2285"/>
                  </a:lnTo>
                  <a:lnTo>
                    <a:pt x="3590" y="2317"/>
                  </a:lnTo>
                  <a:lnTo>
                    <a:pt x="3569" y="2348"/>
                  </a:lnTo>
                  <a:lnTo>
                    <a:pt x="3548" y="2379"/>
                  </a:lnTo>
                  <a:lnTo>
                    <a:pt x="3527" y="2410"/>
                  </a:lnTo>
                  <a:lnTo>
                    <a:pt x="3506" y="2442"/>
                  </a:lnTo>
                  <a:lnTo>
                    <a:pt x="3485" y="2473"/>
                  </a:lnTo>
                  <a:lnTo>
                    <a:pt x="3475" y="2504"/>
                  </a:lnTo>
                  <a:lnTo>
                    <a:pt x="3443" y="2515"/>
                  </a:lnTo>
                  <a:lnTo>
                    <a:pt x="3412" y="2515"/>
                  </a:lnTo>
                  <a:lnTo>
                    <a:pt x="3381" y="2515"/>
                  </a:lnTo>
                  <a:lnTo>
                    <a:pt x="3350" y="2515"/>
                  </a:lnTo>
                  <a:lnTo>
                    <a:pt x="3318" y="2504"/>
                  </a:lnTo>
                  <a:lnTo>
                    <a:pt x="3287" y="2504"/>
                  </a:lnTo>
                  <a:lnTo>
                    <a:pt x="3256" y="2483"/>
                  </a:lnTo>
                  <a:lnTo>
                    <a:pt x="3224" y="2463"/>
                  </a:lnTo>
                  <a:lnTo>
                    <a:pt x="3193" y="2442"/>
                  </a:lnTo>
                  <a:lnTo>
                    <a:pt x="3162" y="2442"/>
                  </a:lnTo>
                  <a:lnTo>
                    <a:pt x="3130" y="2442"/>
                  </a:lnTo>
                  <a:lnTo>
                    <a:pt x="3099" y="2442"/>
                  </a:lnTo>
                  <a:lnTo>
                    <a:pt x="3068" y="2452"/>
                  </a:lnTo>
                  <a:lnTo>
                    <a:pt x="3047" y="2483"/>
                  </a:lnTo>
                  <a:lnTo>
                    <a:pt x="3016" y="2504"/>
                  </a:lnTo>
                  <a:lnTo>
                    <a:pt x="2984" y="2504"/>
                  </a:lnTo>
                  <a:lnTo>
                    <a:pt x="2901" y="2504"/>
                  </a:lnTo>
                  <a:lnTo>
                    <a:pt x="2870" y="2504"/>
                  </a:lnTo>
                  <a:lnTo>
                    <a:pt x="2838" y="2504"/>
                  </a:lnTo>
                  <a:lnTo>
                    <a:pt x="2807" y="2504"/>
                  </a:lnTo>
                  <a:lnTo>
                    <a:pt x="2776" y="2504"/>
                  </a:lnTo>
                  <a:lnTo>
                    <a:pt x="2744" y="2494"/>
                  </a:lnTo>
                  <a:lnTo>
                    <a:pt x="2713" y="2483"/>
                  </a:lnTo>
                  <a:lnTo>
                    <a:pt x="2682" y="2452"/>
                  </a:lnTo>
                  <a:lnTo>
                    <a:pt x="2650" y="2431"/>
                  </a:lnTo>
                  <a:lnTo>
                    <a:pt x="2619" y="2410"/>
                  </a:lnTo>
                  <a:lnTo>
                    <a:pt x="2588" y="2410"/>
                  </a:lnTo>
                  <a:lnTo>
                    <a:pt x="2557" y="2400"/>
                  </a:lnTo>
                  <a:lnTo>
                    <a:pt x="2525" y="2400"/>
                  </a:lnTo>
                  <a:lnTo>
                    <a:pt x="2494" y="2400"/>
                  </a:lnTo>
                  <a:lnTo>
                    <a:pt x="2463" y="2400"/>
                  </a:lnTo>
                  <a:lnTo>
                    <a:pt x="2379" y="2400"/>
                  </a:lnTo>
                  <a:lnTo>
                    <a:pt x="2348" y="2400"/>
                  </a:lnTo>
                  <a:lnTo>
                    <a:pt x="2317" y="2400"/>
                  </a:lnTo>
                  <a:lnTo>
                    <a:pt x="2285" y="2400"/>
                  </a:lnTo>
                  <a:lnTo>
                    <a:pt x="2254" y="2400"/>
                  </a:lnTo>
                  <a:lnTo>
                    <a:pt x="2223" y="2400"/>
                  </a:lnTo>
                  <a:lnTo>
                    <a:pt x="2191" y="2410"/>
                  </a:lnTo>
                  <a:lnTo>
                    <a:pt x="2160" y="2410"/>
                  </a:lnTo>
                  <a:lnTo>
                    <a:pt x="2129" y="2421"/>
                  </a:lnTo>
                  <a:lnTo>
                    <a:pt x="2097" y="2431"/>
                  </a:lnTo>
                  <a:lnTo>
                    <a:pt x="2087" y="2463"/>
                  </a:lnTo>
                  <a:lnTo>
                    <a:pt x="2087" y="2494"/>
                  </a:lnTo>
                  <a:lnTo>
                    <a:pt x="2087" y="2525"/>
                  </a:lnTo>
                  <a:lnTo>
                    <a:pt x="2087" y="2557"/>
                  </a:lnTo>
                  <a:lnTo>
                    <a:pt x="2056" y="2577"/>
                  </a:lnTo>
                  <a:lnTo>
                    <a:pt x="2024" y="2567"/>
                  </a:lnTo>
                  <a:lnTo>
                    <a:pt x="1993" y="2546"/>
                  </a:lnTo>
                  <a:lnTo>
                    <a:pt x="1972" y="2515"/>
                  </a:lnTo>
                  <a:lnTo>
                    <a:pt x="1951" y="2483"/>
                  </a:lnTo>
                  <a:lnTo>
                    <a:pt x="1920" y="2452"/>
                  </a:lnTo>
                  <a:lnTo>
                    <a:pt x="1889" y="2431"/>
                  </a:lnTo>
                  <a:lnTo>
                    <a:pt x="1857" y="2410"/>
                  </a:lnTo>
                  <a:lnTo>
                    <a:pt x="1826" y="2390"/>
                  </a:lnTo>
                  <a:lnTo>
                    <a:pt x="1805" y="2358"/>
                  </a:lnTo>
                  <a:lnTo>
                    <a:pt x="1774" y="2337"/>
                  </a:lnTo>
                  <a:lnTo>
                    <a:pt x="1743" y="2306"/>
                  </a:lnTo>
                  <a:lnTo>
                    <a:pt x="1722" y="2275"/>
                  </a:lnTo>
                  <a:lnTo>
                    <a:pt x="1690" y="2264"/>
                  </a:lnTo>
                  <a:lnTo>
                    <a:pt x="1659" y="2254"/>
                  </a:lnTo>
                  <a:lnTo>
                    <a:pt x="1628" y="2254"/>
                  </a:lnTo>
                  <a:lnTo>
                    <a:pt x="1597" y="2254"/>
                  </a:lnTo>
                  <a:lnTo>
                    <a:pt x="1513" y="2254"/>
                  </a:lnTo>
                  <a:lnTo>
                    <a:pt x="1482" y="2233"/>
                  </a:lnTo>
                  <a:lnTo>
                    <a:pt x="1471" y="2202"/>
                  </a:lnTo>
                  <a:lnTo>
                    <a:pt x="1471" y="2170"/>
                  </a:lnTo>
                  <a:lnTo>
                    <a:pt x="1461" y="2139"/>
                  </a:lnTo>
                  <a:lnTo>
                    <a:pt x="1461" y="2108"/>
                  </a:lnTo>
                  <a:lnTo>
                    <a:pt x="1461" y="2077"/>
                  </a:lnTo>
                  <a:lnTo>
                    <a:pt x="1461" y="2045"/>
                  </a:lnTo>
                  <a:lnTo>
                    <a:pt x="1461" y="2014"/>
                  </a:lnTo>
                  <a:lnTo>
                    <a:pt x="1461" y="1983"/>
                  </a:lnTo>
                  <a:lnTo>
                    <a:pt x="1461" y="1951"/>
                  </a:lnTo>
                  <a:lnTo>
                    <a:pt x="1450" y="1920"/>
                  </a:lnTo>
                  <a:lnTo>
                    <a:pt x="1440" y="1889"/>
                  </a:lnTo>
                  <a:lnTo>
                    <a:pt x="1440" y="1857"/>
                  </a:lnTo>
                  <a:lnTo>
                    <a:pt x="1419" y="1826"/>
                  </a:lnTo>
                  <a:lnTo>
                    <a:pt x="1388" y="1805"/>
                  </a:lnTo>
                  <a:lnTo>
                    <a:pt x="1357" y="1805"/>
                  </a:lnTo>
                  <a:lnTo>
                    <a:pt x="1325" y="1805"/>
                  </a:lnTo>
                  <a:lnTo>
                    <a:pt x="1294" y="1805"/>
                  </a:lnTo>
                  <a:lnTo>
                    <a:pt x="1210" y="1805"/>
                  </a:lnTo>
                  <a:lnTo>
                    <a:pt x="1179" y="1816"/>
                  </a:lnTo>
                  <a:lnTo>
                    <a:pt x="1096" y="1816"/>
                  </a:lnTo>
                  <a:lnTo>
                    <a:pt x="1064" y="1826"/>
                  </a:lnTo>
                  <a:lnTo>
                    <a:pt x="1033" y="1826"/>
                  </a:lnTo>
                  <a:lnTo>
                    <a:pt x="1002" y="1826"/>
                  </a:lnTo>
                  <a:lnTo>
                    <a:pt x="970" y="1826"/>
                  </a:lnTo>
                  <a:lnTo>
                    <a:pt x="939" y="1826"/>
                  </a:lnTo>
                  <a:lnTo>
                    <a:pt x="908" y="1805"/>
                  </a:lnTo>
                  <a:lnTo>
                    <a:pt x="877" y="1784"/>
                  </a:lnTo>
                  <a:lnTo>
                    <a:pt x="845" y="1763"/>
                  </a:lnTo>
                  <a:lnTo>
                    <a:pt x="814" y="1732"/>
                  </a:lnTo>
                  <a:lnTo>
                    <a:pt x="783" y="1722"/>
                  </a:lnTo>
                  <a:lnTo>
                    <a:pt x="751" y="1711"/>
                  </a:lnTo>
                  <a:lnTo>
                    <a:pt x="678" y="1701"/>
                  </a:lnTo>
                  <a:lnTo>
                    <a:pt x="605" y="1701"/>
                  </a:lnTo>
                  <a:lnTo>
                    <a:pt x="522" y="1690"/>
                  </a:lnTo>
                  <a:lnTo>
                    <a:pt x="490" y="1680"/>
                  </a:lnTo>
                  <a:lnTo>
                    <a:pt x="459" y="1680"/>
                  </a:lnTo>
                  <a:lnTo>
                    <a:pt x="428" y="1649"/>
                  </a:lnTo>
                  <a:lnTo>
                    <a:pt x="407" y="1617"/>
                  </a:lnTo>
                  <a:lnTo>
                    <a:pt x="376" y="1597"/>
                  </a:lnTo>
                  <a:lnTo>
                    <a:pt x="344" y="1576"/>
                  </a:lnTo>
                  <a:lnTo>
                    <a:pt x="313" y="1576"/>
                  </a:lnTo>
                  <a:lnTo>
                    <a:pt x="282" y="1576"/>
                  </a:lnTo>
                  <a:lnTo>
                    <a:pt x="209" y="1576"/>
                  </a:lnTo>
                  <a:lnTo>
                    <a:pt x="177" y="1586"/>
                  </a:lnTo>
                  <a:lnTo>
                    <a:pt x="146" y="1597"/>
                  </a:lnTo>
                  <a:lnTo>
                    <a:pt x="125" y="1628"/>
                  </a:lnTo>
                  <a:lnTo>
                    <a:pt x="104" y="1659"/>
                  </a:lnTo>
                  <a:lnTo>
                    <a:pt x="73" y="1690"/>
                  </a:lnTo>
                  <a:lnTo>
                    <a:pt x="52" y="1722"/>
                  </a:lnTo>
                  <a:lnTo>
                    <a:pt x="21" y="1743"/>
                  </a:lnTo>
                  <a:lnTo>
                    <a:pt x="0" y="1774"/>
                  </a:lnTo>
                  <a:lnTo>
                    <a:pt x="0" y="1743"/>
                  </a:lnTo>
                  <a:lnTo>
                    <a:pt x="0" y="1711"/>
                  </a:lnTo>
                  <a:lnTo>
                    <a:pt x="0" y="1680"/>
                  </a:lnTo>
                  <a:lnTo>
                    <a:pt x="0" y="1649"/>
                  </a:lnTo>
                  <a:lnTo>
                    <a:pt x="0" y="1617"/>
                  </a:lnTo>
                  <a:lnTo>
                    <a:pt x="0" y="1534"/>
                  </a:lnTo>
                  <a:lnTo>
                    <a:pt x="0" y="1440"/>
                  </a:lnTo>
                  <a:lnTo>
                    <a:pt x="0" y="1357"/>
                  </a:lnTo>
                  <a:lnTo>
                    <a:pt x="0" y="1263"/>
                  </a:lnTo>
                  <a:lnTo>
                    <a:pt x="0" y="1169"/>
                  </a:lnTo>
                  <a:lnTo>
                    <a:pt x="0" y="1075"/>
                  </a:lnTo>
                  <a:lnTo>
                    <a:pt x="0" y="1043"/>
                  </a:lnTo>
                  <a:lnTo>
                    <a:pt x="0" y="1012"/>
                  </a:lnTo>
                  <a:lnTo>
                    <a:pt x="0" y="981"/>
                  </a:lnTo>
                  <a:lnTo>
                    <a:pt x="0" y="908"/>
                  </a:lnTo>
                  <a:lnTo>
                    <a:pt x="0" y="814"/>
                  </a:lnTo>
                  <a:lnTo>
                    <a:pt x="0" y="730"/>
                  </a:lnTo>
                  <a:lnTo>
                    <a:pt x="0" y="657"/>
                  </a:lnTo>
                  <a:lnTo>
                    <a:pt x="0" y="584"/>
                  </a:lnTo>
                  <a:lnTo>
                    <a:pt x="0" y="501"/>
                  </a:lnTo>
                  <a:lnTo>
                    <a:pt x="0" y="417"/>
                  </a:lnTo>
                  <a:lnTo>
                    <a:pt x="0" y="323"/>
                  </a:lnTo>
                  <a:lnTo>
                    <a:pt x="0" y="230"/>
                  </a:lnTo>
                  <a:lnTo>
                    <a:pt x="0" y="136"/>
                  </a:lnTo>
                  <a:lnTo>
                    <a:pt x="0" y="104"/>
                  </a:lnTo>
                  <a:lnTo>
                    <a:pt x="0" y="73"/>
                  </a:lnTo>
                  <a:lnTo>
                    <a:pt x="0" y="42"/>
                  </a:lnTo>
                  <a:lnTo>
                    <a:pt x="31" y="21"/>
                  </a:lnTo>
                  <a:lnTo>
                    <a:pt x="63" y="21"/>
                  </a:lnTo>
                  <a:lnTo>
                    <a:pt x="94" y="21"/>
                  </a:lnTo>
                  <a:lnTo>
                    <a:pt x="125" y="21"/>
                  </a:lnTo>
                  <a:lnTo>
                    <a:pt x="157" y="21"/>
                  </a:lnTo>
                  <a:lnTo>
                    <a:pt x="240" y="21"/>
                  </a:lnTo>
                  <a:lnTo>
                    <a:pt x="313" y="21"/>
                  </a:lnTo>
                  <a:lnTo>
                    <a:pt x="397" y="21"/>
                  </a:lnTo>
                  <a:lnTo>
                    <a:pt x="490" y="21"/>
                  </a:lnTo>
                  <a:lnTo>
                    <a:pt x="563" y="21"/>
                  </a:lnTo>
                  <a:lnTo>
                    <a:pt x="647" y="21"/>
                  </a:lnTo>
                  <a:lnTo>
                    <a:pt x="720" y="21"/>
                  </a:lnTo>
                  <a:lnTo>
                    <a:pt x="751" y="21"/>
                  </a:lnTo>
                  <a:lnTo>
                    <a:pt x="783" y="21"/>
                  </a:lnTo>
                  <a:lnTo>
                    <a:pt x="720"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4745160" y="2408040"/>
              <a:ext cx="3414600" cy="3481560"/>
            </a:xfrm>
            <a:custGeom>
              <a:avLst/>
              <a:gdLst/>
              <a:ahLst/>
              <a:rect l="l" t="t" r="r" b="b"/>
              <a:pathLst>
                <a:path w="2151" h="2193">
                  <a:moveTo>
                    <a:pt x="23" y="1171"/>
                  </a:moveTo>
                  <a:lnTo>
                    <a:pt x="21" y="1211"/>
                  </a:lnTo>
                  <a:lnTo>
                    <a:pt x="31" y="1242"/>
                  </a:lnTo>
                  <a:lnTo>
                    <a:pt x="42" y="1273"/>
                  </a:lnTo>
                  <a:lnTo>
                    <a:pt x="42" y="1305"/>
                  </a:lnTo>
                  <a:lnTo>
                    <a:pt x="52" y="1336"/>
                  </a:lnTo>
                  <a:lnTo>
                    <a:pt x="52" y="1367"/>
                  </a:lnTo>
                  <a:lnTo>
                    <a:pt x="52" y="1398"/>
                  </a:lnTo>
                  <a:lnTo>
                    <a:pt x="63" y="1430"/>
                  </a:lnTo>
                  <a:lnTo>
                    <a:pt x="63" y="1461"/>
                  </a:lnTo>
                  <a:lnTo>
                    <a:pt x="73" y="1492"/>
                  </a:lnTo>
                  <a:lnTo>
                    <a:pt x="84" y="1524"/>
                  </a:lnTo>
                  <a:lnTo>
                    <a:pt x="94" y="1555"/>
                  </a:lnTo>
                  <a:lnTo>
                    <a:pt x="94" y="1586"/>
                  </a:lnTo>
                  <a:lnTo>
                    <a:pt x="104" y="1618"/>
                  </a:lnTo>
                  <a:lnTo>
                    <a:pt x="125" y="1649"/>
                  </a:lnTo>
                  <a:lnTo>
                    <a:pt x="136" y="1680"/>
                  </a:lnTo>
                  <a:lnTo>
                    <a:pt x="157" y="1712"/>
                  </a:lnTo>
                  <a:lnTo>
                    <a:pt x="167" y="1743"/>
                  </a:lnTo>
                  <a:lnTo>
                    <a:pt x="188" y="1774"/>
                  </a:lnTo>
                  <a:lnTo>
                    <a:pt x="198" y="1805"/>
                  </a:lnTo>
                  <a:lnTo>
                    <a:pt x="219" y="1837"/>
                  </a:lnTo>
                  <a:lnTo>
                    <a:pt x="230" y="1868"/>
                  </a:lnTo>
                  <a:lnTo>
                    <a:pt x="240" y="1899"/>
                  </a:lnTo>
                  <a:lnTo>
                    <a:pt x="261" y="1931"/>
                  </a:lnTo>
                  <a:lnTo>
                    <a:pt x="282" y="1962"/>
                  </a:lnTo>
                  <a:lnTo>
                    <a:pt x="303" y="1993"/>
                  </a:lnTo>
                  <a:lnTo>
                    <a:pt x="324" y="2025"/>
                  </a:lnTo>
                  <a:lnTo>
                    <a:pt x="355" y="2045"/>
                  </a:lnTo>
                  <a:lnTo>
                    <a:pt x="386" y="2077"/>
                  </a:lnTo>
                  <a:lnTo>
                    <a:pt x="417" y="2098"/>
                  </a:lnTo>
                  <a:lnTo>
                    <a:pt x="449" y="2129"/>
                  </a:lnTo>
                  <a:lnTo>
                    <a:pt x="480" y="2139"/>
                  </a:lnTo>
                  <a:lnTo>
                    <a:pt x="511" y="2150"/>
                  </a:lnTo>
                  <a:lnTo>
                    <a:pt x="543" y="2160"/>
                  </a:lnTo>
                  <a:lnTo>
                    <a:pt x="574" y="2160"/>
                  </a:lnTo>
                  <a:lnTo>
                    <a:pt x="605" y="2171"/>
                  </a:lnTo>
                  <a:lnTo>
                    <a:pt x="637" y="2181"/>
                  </a:lnTo>
                  <a:lnTo>
                    <a:pt x="668" y="2192"/>
                  </a:lnTo>
                  <a:lnTo>
                    <a:pt x="699" y="2192"/>
                  </a:lnTo>
                  <a:lnTo>
                    <a:pt x="730" y="2171"/>
                  </a:lnTo>
                  <a:lnTo>
                    <a:pt x="751" y="2139"/>
                  </a:lnTo>
                  <a:lnTo>
                    <a:pt x="751" y="2108"/>
                  </a:lnTo>
                  <a:lnTo>
                    <a:pt x="762" y="2077"/>
                  </a:lnTo>
                  <a:lnTo>
                    <a:pt x="762" y="2045"/>
                  </a:lnTo>
                  <a:lnTo>
                    <a:pt x="762" y="2014"/>
                  </a:lnTo>
                  <a:lnTo>
                    <a:pt x="741" y="1983"/>
                  </a:lnTo>
                  <a:lnTo>
                    <a:pt x="720" y="1952"/>
                  </a:lnTo>
                  <a:lnTo>
                    <a:pt x="699" y="1920"/>
                  </a:lnTo>
                  <a:lnTo>
                    <a:pt x="689" y="1889"/>
                  </a:lnTo>
                  <a:lnTo>
                    <a:pt x="668" y="1858"/>
                  </a:lnTo>
                  <a:lnTo>
                    <a:pt x="668" y="1826"/>
                  </a:lnTo>
                  <a:lnTo>
                    <a:pt x="657" y="1795"/>
                  </a:lnTo>
                  <a:lnTo>
                    <a:pt x="657" y="1764"/>
                  </a:lnTo>
                  <a:lnTo>
                    <a:pt x="657" y="1732"/>
                  </a:lnTo>
                  <a:lnTo>
                    <a:pt x="657" y="1701"/>
                  </a:lnTo>
                  <a:lnTo>
                    <a:pt x="657" y="1670"/>
                  </a:lnTo>
                  <a:lnTo>
                    <a:pt x="657" y="1638"/>
                  </a:lnTo>
                  <a:lnTo>
                    <a:pt x="657" y="1607"/>
                  </a:lnTo>
                  <a:lnTo>
                    <a:pt x="668" y="1576"/>
                  </a:lnTo>
                  <a:lnTo>
                    <a:pt x="668" y="1545"/>
                  </a:lnTo>
                  <a:lnTo>
                    <a:pt x="678" y="1513"/>
                  </a:lnTo>
                  <a:lnTo>
                    <a:pt x="678" y="1482"/>
                  </a:lnTo>
                  <a:lnTo>
                    <a:pt x="689" y="1451"/>
                  </a:lnTo>
                  <a:lnTo>
                    <a:pt x="699" y="1378"/>
                  </a:lnTo>
                  <a:lnTo>
                    <a:pt x="710" y="1305"/>
                  </a:lnTo>
                  <a:lnTo>
                    <a:pt x="720" y="1273"/>
                  </a:lnTo>
                  <a:lnTo>
                    <a:pt x="741" y="1242"/>
                  </a:lnTo>
                  <a:lnTo>
                    <a:pt x="772" y="1221"/>
                  </a:lnTo>
                  <a:lnTo>
                    <a:pt x="804" y="1200"/>
                  </a:lnTo>
                  <a:lnTo>
                    <a:pt x="835" y="1179"/>
                  </a:lnTo>
                  <a:lnTo>
                    <a:pt x="866" y="1169"/>
                  </a:lnTo>
                  <a:lnTo>
                    <a:pt x="897" y="1158"/>
                  </a:lnTo>
                  <a:lnTo>
                    <a:pt x="929" y="1148"/>
                  </a:lnTo>
                  <a:lnTo>
                    <a:pt x="960" y="1138"/>
                  </a:lnTo>
                  <a:lnTo>
                    <a:pt x="991" y="1138"/>
                  </a:lnTo>
                  <a:lnTo>
                    <a:pt x="1023" y="1127"/>
                  </a:lnTo>
                  <a:lnTo>
                    <a:pt x="1054" y="1127"/>
                  </a:lnTo>
                  <a:lnTo>
                    <a:pt x="1085" y="1127"/>
                  </a:lnTo>
                  <a:lnTo>
                    <a:pt x="1117" y="1127"/>
                  </a:lnTo>
                  <a:lnTo>
                    <a:pt x="1148" y="1127"/>
                  </a:lnTo>
                  <a:lnTo>
                    <a:pt x="1179" y="1127"/>
                  </a:lnTo>
                  <a:lnTo>
                    <a:pt x="1210" y="1127"/>
                  </a:lnTo>
                  <a:lnTo>
                    <a:pt x="1242" y="1127"/>
                  </a:lnTo>
                  <a:lnTo>
                    <a:pt x="1273" y="1148"/>
                  </a:lnTo>
                  <a:lnTo>
                    <a:pt x="1304" y="1158"/>
                  </a:lnTo>
                  <a:lnTo>
                    <a:pt x="1336" y="1169"/>
                  </a:lnTo>
                  <a:lnTo>
                    <a:pt x="1367" y="1190"/>
                  </a:lnTo>
                  <a:lnTo>
                    <a:pt x="1398" y="1211"/>
                  </a:lnTo>
                  <a:lnTo>
                    <a:pt x="1430" y="1232"/>
                  </a:lnTo>
                  <a:lnTo>
                    <a:pt x="1461" y="1252"/>
                  </a:lnTo>
                  <a:lnTo>
                    <a:pt x="1492" y="1284"/>
                  </a:lnTo>
                  <a:lnTo>
                    <a:pt x="1524" y="1305"/>
                  </a:lnTo>
                  <a:lnTo>
                    <a:pt x="1555" y="1325"/>
                  </a:lnTo>
                  <a:lnTo>
                    <a:pt x="1586" y="1346"/>
                  </a:lnTo>
                  <a:lnTo>
                    <a:pt x="1617" y="1367"/>
                  </a:lnTo>
                  <a:lnTo>
                    <a:pt x="1649" y="1388"/>
                  </a:lnTo>
                  <a:lnTo>
                    <a:pt x="1680" y="1398"/>
                  </a:lnTo>
                  <a:lnTo>
                    <a:pt x="1711" y="1430"/>
                  </a:lnTo>
                  <a:lnTo>
                    <a:pt x="1743" y="1461"/>
                  </a:lnTo>
                  <a:lnTo>
                    <a:pt x="1764" y="1492"/>
                  </a:lnTo>
                  <a:lnTo>
                    <a:pt x="1795" y="1513"/>
                  </a:lnTo>
                  <a:lnTo>
                    <a:pt x="1816" y="1545"/>
                  </a:lnTo>
                  <a:lnTo>
                    <a:pt x="1847" y="1565"/>
                  </a:lnTo>
                  <a:lnTo>
                    <a:pt x="1878" y="1597"/>
                  </a:lnTo>
                  <a:lnTo>
                    <a:pt x="1910" y="1618"/>
                  </a:lnTo>
                  <a:lnTo>
                    <a:pt x="1941" y="1638"/>
                  </a:lnTo>
                  <a:lnTo>
                    <a:pt x="1972" y="1659"/>
                  </a:lnTo>
                  <a:lnTo>
                    <a:pt x="2004" y="1680"/>
                  </a:lnTo>
                  <a:lnTo>
                    <a:pt x="2035" y="1691"/>
                  </a:lnTo>
                  <a:lnTo>
                    <a:pt x="2066" y="1670"/>
                  </a:lnTo>
                  <a:lnTo>
                    <a:pt x="2097" y="1649"/>
                  </a:lnTo>
                  <a:lnTo>
                    <a:pt x="2129" y="1628"/>
                  </a:lnTo>
                  <a:lnTo>
                    <a:pt x="2139" y="1597"/>
                  </a:lnTo>
                  <a:lnTo>
                    <a:pt x="2150" y="1565"/>
                  </a:lnTo>
                  <a:lnTo>
                    <a:pt x="2150" y="1534"/>
                  </a:lnTo>
                  <a:lnTo>
                    <a:pt x="2150" y="1503"/>
                  </a:lnTo>
                  <a:lnTo>
                    <a:pt x="2150" y="1472"/>
                  </a:lnTo>
                  <a:lnTo>
                    <a:pt x="2150" y="1440"/>
                  </a:lnTo>
                  <a:lnTo>
                    <a:pt x="2150" y="1409"/>
                  </a:lnTo>
                  <a:lnTo>
                    <a:pt x="2139" y="1378"/>
                  </a:lnTo>
                  <a:lnTo>
                    <a:pt x="2139" y="1346"/>
                  </a:lnTo>
                  <a:lnTo>
                    <a:pt x="2129" y="1315"/>
                  </a:lnTo>
                  <a:lnTo>
                    <a:pt x="2118" y="1284"/>
                  </a:lnTo>
                  <a:lnTo>
                    <a:pt x="2108" y="1252"/>
                  </a:lnTo>
                  <a:lnTo>
                    <a:pt x="2108" y="1221"/>
                  </a:lnTo>
                  <a:lnTo>
                    <a:pt x="2097" y="1190"/>
                  </a:lnTo>
                  <a:lnTo>
                    <a:pt x="2087" y="1158"/>
                  </a:lnTo>
                  <a:lnTo>
                    <a:pt x="2077" y="1127"/>
                  </a:lnTo>
                  <a:lnTo>
                    <a:pt x="2066" y="1096"/>
                  </a:lnTo>
                  <a:lnTo>
                    <a:pt x="2066" y="1065"/>
                  </a:lnTo>
                  <a:lnTo>
                    <a:pt x="2056" y="1033"/>
                  </a:lnTo>
                  <a:lnTo>
                    <a:pt x="2045" y="1002"/>
                  </a:lnTo>
                  <a:lnTo>
                    <a:pt x="2045" y="971"/>
                  </a:lnTo>
                  <a:lnTo>
                    <a:pt x="2045" y="939"/>
                  </a:lnTo>
                  <a:lnTo>
                    <a:pt x="2045" y="908"/>
                  </a:lnTo>
                  <a:lnTo>
                    <a:pt x="2045" y="877"/>
                  </a:lnTo>
                  <a:lnTo>
                    <a:pt x="2045" y="845"/>
                  </a:lnTo>
                  <a:lnTo>
                    <a:pt x="2045" y="814"/>
                  </a:lnTo>
                  <a:lnTo>
                    <a:pt x="2045" y="783"/>
                  </a:lnTo>
                  <a:lnTo>
                    <a:pt x="2045" y="752"/>
                  </a:lnTo>
                  <a:lnTo>
                    <a:pt x="2045" y="720"/>
                  </a:lnTo>
                  <a:lnTo>
                    <a:pt x="2045" y="689"/>
                  </a:lnTo>
                  <a:lnTo>
                    <a:pt x="2045" y="658"/>
                  </a:lnTo>
                  <a:lnTo>
                    <a:pt x="2045" y="626"/>
                  </a:lnTo>
                  <a:lnTo>
                    <a:pt x="2035" y="595"/>
                  </a:lnTo>
                  <a:lnTo>
                    <a:pt x="2024" y="564"/>
                  </a:lnTo>
                  <a:lnTo>
                    <a:pt x="1993" y="553"/>
                  </a:lnTo>
                  <a:lnTo>
                    <a:pt x="1962" y="543"/>
                  </a:lnTo>
                  <a:lnTo>
                    <a:pt x="1930" y="522"/>
                  </a:lnTo>
                  <a:lnTo>
                    <a:pt x="1899" y="512"/>
                  </a:lnTo>
                  <a:lnTo>
                    <a:pt x="1868" y="501"/>
                  </a:lnTo>
                  <a:lnTo>
                    <a:pt x="1837" y="491"/>
                  </a:lnTo>
                  <a:lnTo>
                    <a:pt x="1805" y="480"/>
                  </a:lnTo>
                  <a:lnTo>
                    <a:pt x="1774" y="470"/>
                  </a:lnTo>
                  <a:lnTo>
                    <a:pt x="1743" y="459"/>
                  </a:lnTo>
                  <a:lnTo>
                    <a:pt x="1711" y="449"/>
                  </a:lnTo>
                  <a:lnTo>
                    <a:pt x="1680" y="438"/>
                  </a:lnTo>
                  <a:lnTo>
                    <a:pt x="1649" y="428"/>
                  </a:lnTo>
                  <a:lnTo>
                    <a:pt x="1617" y="407"/>
                  </a:lnTo>
                  <a:lnTo>
                    <a:pt x="1544" y="407"/>
                  </a:lnTo>
                  <a:lnTo>
                    <a:pt x="1461" y="386"/>
                  </a:lnTo>
                  <a:lnTo>
                    <a:pt x="1430" y="376"/>
                  </a:lnTo>
                  <a:lnTo>
                    <a:pt x="1398" y="355"/>
                  </a:lnTo>
                  <a:lnTo>
                    <a:pt x="1388" y="324"/>
                  </a:lnTo>
                  <a:lnTo>
                    <a:pt x="1377" y="292"/>
                  </a:lnTo>
                  <a:lnTo>
                    <a:pt x="1367" y="261"/>
                  </a:lnTo>
                  <a:lnTo>
                    <a:pt x="1357" y="230"/>
                  </a:lnTo>
                  <a:lnTo>
                    <a:pt x="1346" y="198"/>
                  </a:lnTo>
                  <a:lnTo>
                    <a:pt x="1325" y="167"/>
                  </a:lnTo>
                  <a:lnTo>
                    <a:pt x="1315" y="136"/>
                  </a:lnTo>
                  <a:lnTo>
                    <a:pt x="1315" y="105"/>
                  </a:lnTo>
                  <a:lnTo>
                    <a:pt x="1315" y="73"/>
                  </a:lnTo>
                  <a:lnTo>
                    <a:pt x="1284" y="42"/>
                  </a:lnTo>
                  <a:lnTo>
                    <a:pt x="1252" y="21"/>
                  </a:lnTo>
                  <a:lnTo>
                    <a:pt x="1221" y="0"/>
                  </a:lnTo>
                  <a:lnTo>
                    <a:pt x="1190" y="0"/>
                  </a:lnTo>
                  <a:lnTo>
                    <a:pt x="1158" y="0"/>
                  </a:lnTo>
                  <a:lnTo>
                    <a:pt x="1127" y="0"/>
                  </a:lnTo>
                  <a:lnTo>
                    <a:pt x="1096" y="0"/>
                  </a:lnTo>
                  <a:lnTo>
                    <a:pt x="1064" y="0"/>
                  </a:lnTo>
                  <a:lnTo>
                    <a:pt x="1033" y="0"/>
                  </a:lnTo>
                  <a:lnTo>
                    <a:pt x="1002" y="0"/>
                  </a:lnTo>
                  <a:lnTo>
                    <a:pt x="970" y="0"/>
                  </a:lnTo>
                  <a:lnTo>
                    <a:pt x="939" y="0"/>
                  </a:lnTo>
                  <a:lnTo>
                    <a:pt x="908" y="0"/>
                  </a:lnTo>
                  <a:lnTo>
                    <a:pt x="877" y="0"/>
                  </a:lnTo>
                  <a:lnTo>
                    <a:pt x="845" y="0"/>
                  </a:lnTo>
                  <a:lnTo>
                    <a:pt x="814" y="0"/>
                  </a:lnTo>
                  <a:lnTo>
                    <a:pt x="783" y="21"/>
                  </a:lnTo>
                  <a:lnTo>
                    <a:pt x="751" y="21"/>
                  </a:lnTo>
                  <a:lnTo>
                    <a:pt x="720" y="21"/>
                  </a:lnTo>
                  <a:lnTo>
                    <a:pt x="699" y="52"/>
                  </a:lnTo>
                  <a:lnTo>
                    <a:pt x="678" y="84"/>
                  </a:lnTo>
                  <a:lnTo>
                    <a:pt x="657" y="115"/>
                  </a:lnTo>
                  <a:lnTo>
                    <a:pt x="637" y="146"/>
                  </a:lnTo>
                  <a:lnTo>
                    <a:pt x="647" y="178"/>
                  </a:lnTo>
                  <a:lnTo>
                    <a:pt x="657" y="209"/>
                  </a:lnTo>
                  <a:lnTo>
                    <a:pt x="657" y="240"/>
                  </a:lnTo>
                  <a:lnTo>
                    <a:pt x="657" y="272"/>
                  </a:lnTo>
                  <a:lnTo>
                    <a:pt x="657" y="303"/>
                  </a:lnTo>
                  <a:lnTo>
                    <a:pt x="657" y="334"/>
                  </a:lnTo>
                  <a:lnTo>
                    <a:pt x="657" y="365"/>
                  </a:lnTo>
                  <a:lnTo>
                    <a:pt x="657" y="397"/>
                  </a:lnTo>
                  <a:lnTo>
                    <a:pt x="657" y="428"/>
                  </a:lnTo>
                  <a:lnTo>
                    <a:pt x="647" y="459"/>
                  </a:lnTo>
                  <a:lnTo>
                    <a:pt x="626" y="491"/>
                  </a:lnTo>
                  <a:lnTo>
                    <a:pt x="595" y="512"/>
                  </a:lnTo>
                  <a:lnTo>
                    <a:pt x="564" y="543"/>
                  </a:lnTo>
                  <a:lnTo>
                    <a:pt x="543" y="574"/>
                  </a:lnTo>
                  <a:lnTo>
                    <a:pt x="511" y="595"/>
                  </a:lnTo>
                  <a:lnTo>
                    <a:pt x="480" y="616"/>
                  </a:lnTo>
                  <a:lnTo>
                    <a:pt x="449" y="637"/>
                  </a:lnTo>
                  <a:lnTo>
                    <a:pt x="417" y="658"/>
                  </a:lnTo>
                  <a:lnTo>
                    <a:pt x="386" y="678"/>
                  </a:lnTo>
                  <a:lnTo>
                    <a:pt x="355" y="710"/>
                  </a:lnTo>
                  <a:lnTo>
                    <a:pt x="324" y="731"/>
                  </a:lnTo>
                  <a:lnTo>
                    <a:pt x="292" y="752"/>
                  </a:lnTo>
                  <a:lnTo>
                    <a:pt x="261" y="772"/>
                  </a:lnTo>
                  <a:lnTo>
                    <a:pt x="230" y="793"/>
                  </a:lnTo>
                  <a:lnTo>
                    <a:pt x="209" y="825"/>
                  </a:lnTo>
                  <a:lnTo>
                    <a:pt x="188" y="856"/>
                  </a:lnTo>
                  <a:lnTo>
                    <a:pt x="167" y="887"/>
                  </a:lnTo>
                  <a:lnTo>
                    <a:pt x="146" y="918"/>
                  </a:lnTo>
                  <a:lnTo>
                    <a:pt x="125" y="950"/>
                  </a:lnTo>
                  <a:lnTo>
                    <a:pt x="94" y="981"/>
                  </a:lnTo>
                  <a:lnTo>
                    <a:pt x="84" y="1012"/>
                  </a:lnTo>
                  <a:lnTo>
                    <a:pt x="63" y="1044"/>
                  </a:lnTo>
                  <a:lnTo>
                    <a:pt x="42" y="1075"/>
                  </a:lnTo>
                  <a:lnTo>
                    <a:pt x="21" y="1106"/>
                  </a:lnTo>
                  <a:lnTo>
                    <a:pt x="10" y="1138"/>
                  </a:lnTo>
                  <a:lnTo>
                    <a:pt x="0" y="1169"/>
                  </a:lnTo>
                  <a:lnTo>
                    <a:pt x="0" y="1200"/>
                  </a:lnTo>
                  <a:lnTo>
                    <a:pt x="23" y="1171"/>
                  </a:lnTo>
                </a:path>
              </a:pathLst>
            </a:custGeom>
            <a:noFill/>
            <a:ln cap="rnd"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5904000" y="1981080"/>
              <a:ext cx="1692360" cy="2400480"/>
            </a:xfrm>
            <a:custGeom>
              <a:avLst/>
              <a:gdLst/>
              <a:ahLst/>
              <a:rect l="l" t="t" r="r" b="b"/>
              <a:pathLst>
                <a:path w="1066" h="1512">
                  <a:moveTo>
                    <a:pt x="733" y="0"/>
                  </a:moveTo>
                  <a:lnTo>
                    <a:pt x="700" y="8"/>
                  </a:lnTo>
                  <a:lnTo>
                    <a:pt x="668" y="8"/>
                  </a:lnTo>
                  <a:lnTo>
                    <a:pt x="637" y="19"/>
                  </a:lnTo>
                  <a:lnTo>
                    <a:pt x="606" y="29"/>
                  </a:lnTo>
                  <a:lnTo>
                    <a:pt x="574" y="29"/>
                  </a:lnTo>
                  <a:lnTo>
                    <a:pt x="543" y="29"/>
                  </a:lnTo>
                  <a:lnTo>
                    <a:pt x="512" y="29"/>
                  </a:lnTo>
                  <a:lnTo>
                    <a:pt x="480" y="29"/>
                  </a:lnTo>
                  <a:lnTo>
                    <a:pt x="449" y="40"/>
                  </a:lnTo>
                  <a:lnTo>
                    <a:pt x="418" y="50"/>
                  </a:lnTo>
                  <a:lnTo>
                    <a:pt x="387" y="71"/>
                  </a:lnTo>
                  <a:lnTo>
                    <a:pt x="355" y="92"/>
                  </a:lnTo>
                  <a:lnTo>
                    <a:pt x="324" y="113"/>
                  </a:lnTo>
                  <a:lnTo>
                    <a:pt x="293" y="134"/>
                  </a:lnTo>
                  <a:lnTo>
                    <a:pt x="272" y="165"/>
                  </a:lnTo>
                  <a:lnTo>
                    <a:pt x="261" y="196"/>
                  </a:lnTo>
                  <a:lnTo>
                    <a:pt x="240" y="227"/>
                  </a:lnTo>
                  <a:lnTo>
                    <a:pt x="209" y="259"/>
                  </a:lnTo>
                  <a:lnTo>
                    <a:pt x="188" y="290"/>
                  </a:lnTo>
                  <a:lnTo>
                    <a:pt x="157" y="311"/>
                  </a:lnTo>
                  <a:lnTo>
                    <a:pt x="136" y="342"/>
                  </a:lnTo>
                  <a:lnTo>
                    <a:pt x="115" y="374"/>
                  </a:lnTo>
                  <a:lnTo>
                    <a:pt x="105" y="405"/>
                  </a:lnTo>
                  <a:lnTo>
                    <a:pt x="94" y="436"/>
                  </a:lnTo>
                  <a:lnTo>
                    <a:pt x="84" y="467"/>
                  </a:lnTo>
                  <a:lnTo>
                    <a:pt x="63" y="499"/>
                  </a:lnTo>
                  <a:lnTo>
                    <a:pt x="42" y="530"/>
                  </a:lnTo>
                  <a:lnTo>
                    <a:pt x="32" y="561"/>
                  </a:lnTo>
                  <a:lnTo>
                    <a:pt x="11" y="593"/>
                  </a:lnTo>
                  <a:lnTo>
                    <a:pt x="0" y="624"/>
                  </a:lnTo>
                  <a:lnTo>
                    <a:pt x="0" y="655"/>
                  </a:lnTo>
                  <a:lnTo>
                    <a:pt x="0" y="687"/>
                  </a:lnTo>
                  <a:lnTo>
                    <a:pt x="11" y="718"/>
                  </a:lnTo>
                  <a:lnTo>
                    <a:pt x="21" y="749"/>
                  </a:lnTo>
                  <a:lnTo>
                    <a:pt x="42" y="781"/>
                  </a:lnTo>
                  <a:lnTo>
                    <a:pt x="74" y="801"/>
                  </a:lnTo>
                  <a:lnTo>
                    <a:pt x="105" y="812"/>
                  </a:lnTo>
                  <a:lnTo>
                    <a:pt x="136" y="843"/>
                  </a:lnTo>
                  <a:lnTo>
                    <a:pt x="157" y="874"/>
                  </a:lnTo>
                  <a:lnTo>
                    <a:pt x="178" y="906"/>
                  </a:lnTo>
                  <a:lnTo>
                    <a:pt x="209" y="927"/>
                  </a:lnTo>
                  <a:lnTo>
                    <a:pt x="220" y="958"/>
                  </a:lnTo>
                  <a:lnTo>
                    <a:pt x="230" y="989"/>
                  </a:lnTo>
                  <a:lnTo>
                    <a:pt x="230" y="1021"/>
                  </a:lnTo>
                  <a:lnTo>
                    <a:pt x="230" y="1052"/>
                  </a:lnTo>
                  <a:lnTo>
                    <a:pt x="220" y="1083"/>
                  </a:lnTo>
                  <a:lnTo>
                    <a:pt x="220" y="1114"/>
                  </a:lnTo>
                  <a:lnTo>
                    <a:pt x="240" y="1146"/>
                  </a:lnTo>
                  <a:lnTo>
                    <a:pt x="272" y="1167"/>
                  </a:lnTo>
                  <a:lnTo>
                    <a:pt x="303" y="1177"/>
                  </a:lnTo>
                  <a:lnTo>
                    <a:pt x="334" y="1177"/>
                  </a:lnTo>
                  <a:lnTo>
                    <a:pt x="366" y="1167"/>
                  </a:lnTo>
                  <a:lnTo>
                    <a:pt x="397" y="1146"/>
                  </a:lnTo>
                  <a:lnTo>
                    <a:pt x="418" y="1114"/>
                  </a:lnTo>
                  <a:lnTo>
                    <a:pt x="428" y="1083"/>
                  </a:lnTo>
                  <a:lnTo>
                    <a:pt x="439" y="1052"/>
                  </a:lnTo>
                  <a:lnTo>
                    <a:pt x="460" y="1021"/>
                  </a:lnTo>
                  <a:lnTo>
                    <a:pt x="480" y="989"/>
                  </a:lnTo>
                  <a:lnTo>
                    <a:pt x="491" y="958"/>
                  </a:lnTo>
                  <a:lnTo>
                    <a:pt x="522" y="947"/>
                  </a:lnTo>
                  <a:lnTo>
                    <a:pt x="554" y="958"/>
                  </a:lnTo>
                  <a:lnTo>
                    <a:pt x="585" y="979"/>
                  </a:lnTo>
                  <a:lnTo>
                    <a:pt x="595" y="1010"/>
                  </a:lnTo>
                  <a:lnTo>
                    <a:pt x="627" y="1041"/>
                  </a:lnTo>
                  <a:lnTo>
                    <a:pt x="647" y="1073"/>
                  </a:lnTo>
                  <a:lnTo>
                    <a:pt x="647" y="1104"/>
                  </a:lnTo>
                  <a:lnTo>
                    <a:pt x="647" y="1135"/>
                  </a:lnTo>
                  <a:lnTo>
                    <a:pt x="658" y="1167"/>
                  </a:lnTo>
                  <a:lnTo>
                    <a:pt x="658" y="1198"/>
                  </a:lnTo>
                  <a:lnTo>
                    <a:pt x="668" y="1229"/>
                  </a:lnTo>
                  <a:lnTo>
                    <a:pt x="679" y="1261"/>
                  </a:lnTo>
                  <a:lnTo>
                    <a:pt x="689" y="1292"/>
                  </a:lnTo>
                  <a:lnTo>
                    <a:pt x="700" y="1323"/>
                  </a:lnTo>
                  <a:lnTo>
                    <a:pt x="720" y="1354"/>
                  </a:lnTo>
                  <a:lnTo>
                    <a:pt x="731" y="1386"/>
                  </a:lnTo>
                  <a:lnTo>
                    <a:pt x="741" y="1417"/>
                  </a:lnTo>
                  <a:lnTo>
                    <a:pt x="752" y="1448"/>
                  </a:lnTo>
                  <a:lnTo>
                    <a:pt x="773" y="1480"/>
                  </a:lnTo>
                  <a:lnTo>
                    <a:pt x="783" y="1511"/>
                  </a:lnTo>
                  <a:lnTo>
                    <a:pt x="814" y="1511"/>
                  </a:lnTo>
                  <a:lnTo>
                    <a:pt x="846" y="1511"/>
                  </a:lnTo>
                  <a:lnTo>
                    <a:pt x="877" y="1511"/>
                  </a:lnTo>
                  <a:lnTo>
                    <a:pt x="908" y="1511"/>
                  </a:lnTo>
                  <a:lnTo>
                    <a:pt x="940" y="1511"/>
                  </a:lnTo>
                  <a:lnTo>
                    <a:pt x="971" y="1511"/>
                  </a:lnTo>
                  <a:lnTo>
                    <a:pt x="1002" y="1490"/>
                  </a:lnTo>
                  <a:lnTo>
                    <a:pt x="1023" y="1459"/>
                  </a:lnTo>
                  <a:lnTo>
                    <a:pt x="1044" y="1427"/>
                  </a:lnTo>
                  <a:lnTo>
                    <a:pt x="1054" y="1396"/>
                  </a:lnTo>
                  <a:lnTo>
                    <a:pt x="1065" y="1365"/>
                  </a:lnTo>
                  <a:lnTo>
                    <a:pt x="1065" y="1334"/>
                  </a:lnTo>
                  <a:lnTo>
                    <a:pt x="1065" y="1302"/>
                  </a:lnTo>
                  <a:lnTo>
                    <a:pt x="1065" y="1271"/>
                  </a:lnTo>
                  <a:lnTo>
                    <a:pt x="1044" y="1240"/>
                  </a:lnTo>
                  <a:lnTo>
                    <a:pt x="1044" y="1167"/>
                  </a:lnTo>
                  <a:lnTo>
                    <a:pt x="1023" y="1135"/>
                  </a:lnTo>
                  <a:lnTo>
                    <a:pt x="1013" y="1104"/>
                  </a:lnTo>
                  <a:lnTo>
                    <a:pt x="1013" y="1073"/>
                  </a:lnTo>
                  <a:lnTo>
                    <a:pt x="1013" y="1041"/>
                  </a:lnTo>
                  <a:lnTo>
                    <a:pt x="1013" y="1010"/>
                  </a:lnTo>
                  <a:lnTo>
                    <a:pt x="1013" y="979"/>
                  </a:lnTo>
                  <a:lnTo>
                    <a:pt x="1023" y="947"/>
                  </a:lnTo>
                  <a:lnTo>
                    <a:pt x="1023" y="916"/>
                  </a:lnTo>
                  <a:lnTo>
                    <a:pt x="1034" y="885"/>
                  </a:lnTo>
                  <a:lnTo>
                    <a:pt x="1034" y="854"/>
                  </a:lnTo>
                  <a:lnTo>
                    <a:pt x="1034" y="822"/>
                  </a:lnTo>
                  <a:lnTo>
                    <a:pt x="1034" y="791"/>
                  </a:lnTo>
                  <a:lnTo>
                    <a:pt x="1013" y="760"/>
                  </a:lnTo>
                  <a:lnTo>
                    <a:pt x="992" y="728"/>
                  </a:lnTo>
                  <a:lnTo>
                    <a:pt x="971" y="697"/>
                  </a:lnTo>
                  <a:lnTo>
                    <a:pt x="960" y="666"/>
                  </a:lnTo>
                  <a:lnTo>
                    <a:pt x="950" y="634"/>
                  </a:lnTo>
                  <a:lnTo>
                    <a:pt x="940" y="603"/>
                  </a:lnTo>
                  <a:lnTo>
                    <a:pt x="940" y="572"/>
                  </a:lnTo>
                  <a:lnTo>
                    <a:pt x="940" y="499"/>
                  </a:lnTo>
                  <a:lnTo>
                    <a:pt x="940" y="415"/>
                  </a:lnTo>
                  <a:lnTo>
                    <a:pt x="940" y="321"/>
                  </a:lnTo>
                  <a:lnTo>
                    <a:pt x="929" y="290"/>
                  </a:lnTo>
                  <a:lnTo>
                    <a:pt x="919" y="259"/>
                  </a:lnTo>
                  <a:lnTo>
                    <a:pt x="898" y="227"/>
                  </a:lnTo>
                  <a:lnTo>
                    <a:pt x="867" y="196"/>
                  </a:lnTo>
                  <a:lnTo>
                    <a:pt x="846" y="165"/>
                  </a:lnTo>
                  <a:lnTo>
                    <a:pt x="814" y="134"/>
                  </a:lnTo>
                  <a:lnTo>
                    <a:pt x="783" y="102"/>
                  </a:lnTo>
                  <a:lnTo>
                    <a:pt x="762" y="71"/>
                  </a:lnTo>
                  <a:lnTo>
                    <a:pt x="731" y="40"/>
                  </a:lnTo>
                  <a:lnTo>
                    <a:pt x="710" y="8"/>
                  </a:lnTo>
                  <a:lnTo>
                    <a:pt x="733" y="0"/>
                  </a:lnTo>
                </a:path>
              </a:pathLst>
            </a:custGeom>
            <a:noFill/>
            <a:ln cap="rnd" w="3168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444600" y="4724280"/>
              <a:ext cx="1206360" cy="0"/>
            </a:xfrm>
            <a:prstGeom prst="line">
              <a:avLst/>
            </a:prstGeom>
            <a:ln w="316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44600" y="5486400"/>
              <a:ext cx="120636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1793520" y="4419360"/>
              <a:ext cx="1454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824 BC</a:t>
              </a:r>
              <a:endParaRPr b="0" lang="en-US" sz="3600" spc="-1" strike="noStrike">
                <a:solidFill>
                  <a:srgbClr val="ffffff"/>
                </a:solidFill>
                <a:latin typeface="Times New Roman"/>
              </a:endParaRPr>
            </a:p>
          </p:txBody>
        </p:sp>
        <p:sp>
          <p:nvSpPr>
            <p:cNvPr id="703" name=""/>
            <p:cNvSpPr/>
            <p:nvPr/>
          </p:nvSpPr>
          <p:spPr>
            <a:xfrm>
              <a:off x="1717200" y="5181480"/>
              <a:ext cx="1454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640 BC</a:t>
              </a:r>
              <a:endParaRPr b="0" lang="en-US" sz="3600" spc="-1" strike="noStrike">
                <a:solidFill>
                  <a:srgbClr val="ffffff"/>
                </a:solidFill>
                <a:latin typeface="Times New Roman"/>
              </a:endParaRPr>
            </a:p>
          </p:txBody>
        </p:sp>
        <p:sp>
          <p:nvSpPr>
            <p:cNvPr id="704" name=""/>
            <p:cNvSpPr/>
            <p:nvPr/>
          </p:nvSpPr>
          <p:spPr>
            <a:xfrm>
              <a:off x="5298120" y="3247920"/>
              <a:ext cx="2818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Narrow"/>
                </a:rPr>
                <a:t>Assyrian Empire</a:t>
              </a:r>
              <a:endParaRPr b="0" lang="en-US" sz="3200" spc="-1" strike="noStrike">
                <a:solidFill>
                  <a:srgbClr val="ffffff"/>
                </a:solidFill>
                <a:latin typeface="Times New Roman"/>
              </a:endParaRPr>
            </a:p>
          </p:txBody>
        </p:sp>
        <p:sp>
          <p:nvSpPr>
            <p:cNvPr id="705" name=""/>
            <p:cNvSpPr/>
            <p:nvPr/>
          </p:nvSpPr>
          <p:spPr>
            <a:xfrm>
              <a:off x="5683320" y="4019400"/>
              <a:ext cx="168120" cy="203400"/>
            </a:xfrm>
            <a:custGeom>
              <a:avLst/>
              <a:gdLst/>
              <a:ahLst/>
              <a:rect l="l" t="t" r="r" b="b"/>
              <a:pathLst>
                <a:path w="106" h="128">
                  <a:moveTo>
                    <a:pt x="92" y="0"/>
                  </a:moveTo>
                  <a:lnTo>
                    <a:pt x="52" y="23"/>
                  </a:lnTo>
                  <a:lnTo>
                    <a:pt x="21" y="33"/>
                  </a:lnTo>
                  <a:lnTo>
                    <a:pt x="0" y="65"/>
                  </a:lnTo>
                  <a:lnTo>
                    <a:pt x="11" y="96"/>
                  </a:lnTo>
                  <a:lnTo>
                    <a:pt x="21" y="127"/>
                  </a:lnTo>
                  <a:lnTo>
                    <a:pt x="52" y="127"/>
                  </a:lnTo>
                  <a:lnTo>
                    <a:pt x="73" y="96"/>
                  </a:lnTo>
                  <a:lnTo>
                    <a:pt x="94" y="65"/>
                  </a:lnTo>
                  <a:lnTo>
                    <a:pt x="94" y="33"/>
                  </a:lnTo>
                  <a:lnTo>
                    <a:pt x="105" y="2"/>
                  </a:lnTo>
                  <a:lnTo>
                    <a:pt x="92" y="0"/>
                  </a:lnTo>
                </a:path>
              </a:pathLst>
            </a:custGeom>
            <a:solidFill>
              <a:srgbClr val="438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5773320" y="379548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ah</a:t>
              </a:r>
              <a:endParaRPr b="0" lang="en-US" sz="2400" spc="-1" strike="noStrike">
                <a:solidFill>
                  <a:srgbClr val="ffffff"/>
                </a:solidFill>
                <a:latin typeface="Times New Roman"/>
              </a:endParaRPr>
            </a:p>
          </p:txBody>
        </p:sp>
        <p:sp>
          <p:nvSpPr>
            <p:cNvPr id="707" name=""/>
            <p:cNvSpPr/>
            <p:nvPr/>
          </p:nvSpPr>
          <p:spPr>
            <a:xfrm>
              <a:off x="74304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Assyrian Empire</a:t>
              </a:r>
              <a:endParaRPr b="0" lang="en-US" sz="4400" spc="-1" strike="noStrike">
                <a:solidFill>
                  <a:srgbClr val="ffffff"/>
                </a:solidFill>
                <a:latin typeface="Times New Roman"/>
              </a:endParaRPr>
            </a:p>
          </p:txBody>
        </p:sp>
        <p:sp>
          <p:nvSpPr>
            <p:cNvPr id="708" name=""/>
            <p:cNvSpPr/>
            <p:nvPr/>
          </p:nvSpPr>
          <p:spPr>
            <a:xfrm>
              <a:off x="119160" y="6021360"/>
              <a:ext cx="16891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709" name=""/>
            <p:cNvSpPr/>
            <p:nvPr/>
          </p:nvSpPr>
          <p:spPr>
            <a:xfrm>
              <a:off x="4938840" y="4186080"/>
              <a:ext cx="160200" cy="828720"/>
            </a:xfrm>
            <a:custGeom>
              <a:avLst/>
              <a:gdLst/>
              <a:ahLst/>
              <a:rect l="l" t="t" r="r" b="b"/>
              <a:pathLst>
                <a:path w="101" h="585">
                  <a:moveTo>
                    <a:pt x="63" y="0"/>
                  </a:moveTo>
                  <a:cubicBezTo>
                    <a:pt x="54" y="43"/>
                    <a:pt x="53" y="53"/>
                    <a:pt x="72" y="90"/>
                  </a:cubicBezTo>
                  <a:cubicBezTo>
                    <a:pt x="87" y="163"/>
                    <a:pt x="101" y="233"/>
                    <a:pt x="72" y="306"/>
                  </a:cubicBezTo>
                  <a:cubicBezTo>
                    <a:pt x="58" y="341"/>
                    <a:pt x="17" y="361"/>
                    <a:pt x="0" y="396"/>
                  </a:cubicBezTo>
                  <a:cubicBezTo>
                    <a:pt x="10" y="549"/>
                    <a:pt x="9" y="486"/>
                    <a:pt x="9" y="585"/>
                  </a:cubicBezTo>
                </a:path>
              </a:pathLst>
            </a:custGeom>
            <a:noFill/>
            <a:ln w="38160">
              <a:solidFill>
                <a:srgbClr val="114f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4843440" y="448128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ypt</a:t>
              </a:r>
              <a:endParaRPr b="0" lang="en-US" sz="2400" spc="-1" strike="noStrike">
                <a:solidFill>
                  <a:srgbClr val="ffffff"/>
                </a:solidFill>
                <a:latin typeface="Times New Roman"/>
              </a:endParaRPr>
            </a:p>
          </p:txBody>
        </p:sp>
      </p:grpSp>
      <p:sp>
        <p:nvSpPr>
          <p:cNvPr id="711" name="PlaceHolder 1"/>
          <p:cNvSpPr>
            <a:spLocks noGrp="1"/>
          </p:cNvSpPr>
          <p:nvPr>
            <p:ph type="title"/>
          </p:nvPr>
        </p:nvSpPr>
        <p:spPr>
          <a:xfrm>
            <a:off x="7639200" y="609120"/>
            <a:ext cx="125712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Assyrian Empire</a:t>
            </a:r>
            <a:endParaRPr b="1" lang="en-US" sz="100" spc="-1" strike="noStrike" u="sng">
              <a:solidFill>
                <a:srgbClr val="c0fef9"/>
              </a:solidFill>
              <a:uFillTx/>
              <a:latin typeface="Times New Roman"/>
            </a:endParaRPr>
          </a:p>
        </p:txBody>
      </p:sp>
      <p:sp>
        <p:nvSpPr>
          <p:cNvPr id="712"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31680" y="228600"/>
            <a:ext cx="9112320" cy="6103800"/>
            <a:chOff x="31680" y="228600"/>
            <a:chExt cx="9112320" cy="6103800"/>
          </a:xfrm>
        </p:grpSpPr>
        <p:sp>
          <p:nvSpPr>
            <p:cNvPr id="714" name=""/>
            <p:cNvSpPr/>
            <p:nvPr/>
          </p:nvSpPr>
          <p:spPr>
            <a:xfrm>
              <a:off x="38160" y="311040"/>
              <a:ext cx="9055080" cy="60073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594560" y="4654440"/>
              <a:ext cx="1512720" cy="1677960"/>
            </a:xfrm>
            <a:custGeom>
              <a:avLst/>
              <a:gdLst/>
              <a:ahLst/>
              <a:rect l="l" t="t" r="r" b="b"/>
              <a:pathLst>
                <a:path w="953" h="1057">
                  <a:moveTo>
                    <a:pt x="912" y="488"/>
                  </a:moveTo>
                  <a:lnTo>
                    <a:pt x="877" y="469"/>
                  </a:lnTo>
                  <a:lnTo>
                    <a:pt x="845" y="480"/>
                  </a:lnTo>
                  <a:lnTo>
                    <a:pt x="814" y="480"/>
                  </a:lnTo>
                  <a:lnTo>
                    <a:pt x="783" y="469"/>
                  </a:lnTo>
                  <a:lnTo>
                    <a:pt x="751" y="448"/>
                  </a:lnTo>
                  <a:lnTo>
                    <a:pt x="720" y="427"/>
                  </a:lnTo>
                  <a:lnTo>
                    <a:pt x="689" y="407"/>
                  </a:lnTo>
                  <a:lnTo>
                    <a:pt x="657" y="386"/>
                  </a:lnTo>
                  <a:lnTo>
                    <a:pt x="637" y="354"/>
                  </a:lnTo>
                  <a:lnTo>
                    <a:pt x="605" y="334"/>
                  </a:lnTo>
                  <a:lnTo>
                    <a:pt x="584" y="302"/>
                  </a:lnTo>
                  <a:lnTo>
                    <a:pt x="553" y="281"/>
                  </a:lnTo>
                  <a:lnTo>
                    <a:pt x="522" y="281"/>
                  </a:lnTo>
                  <a:lnTo>
                    <a:pt x="490" y="281"/>
                  </a:lnTo>
                  <a:lnTo>
                    <a:pt x="459" y="292"/>
                  </a:lnTo>
                  <a:lnTo>
                    <a:pt x="428" y="292"/>
                  </a:lnTo>
                  <a:lnTo>
                    <a:pt x="397" y="261"/>
                  </a:lnTo>
                  <a:lnTo>
                    <a:pt x="365" y="240"/>
                  </a:lnTo>
                  <a:lnTo>
                    <a:pt x="344" y="208"/>
                  </a:lnTo>
                  <a:lnTo>
                    <a:pt x="313" y="187"/>
                  </a:lnTo>
                  <a:lnTo>
                    <a:pt x="282" y="167"/>
                  </a:lnTo>
                  <a:lnTo>
                    <a:pt x="250" y="146"/>
                  </a:lnTo>
                  <a:lnTo>
                    <a:pt x="219" y="114"/>
                  </a:lnTo>
                  <a:lnTo>
                    <a:pt x="188" y="94"/>
                  </a:lnTo>
                  <a:lnTo>
                    <a:pt x="157" y="73"/>
                  </a:lnTo>
                  <a:lnTo>
                    <a:pt x="125" y="52"/>
                  </a:lnTo>
                  <a:lnTo>
                    <a:pt x="94" y="21"/>
                  </a:lnTo>
                  <a:lnTo>
                    <a:pt x="96" y="8"/>
                  </a:lnTo>
                  <a:lnTo>
                    <a:pt x="63" y="21"/>
                  </a:lnTo>
                  <a:lnTo>
                    <a:pt x="31" y="10"/>
                  </a:lnTo>
                  <a:lnTo>
                    <a:pt x="0" y="0"/>
                  </a:lnTo>
                  <a:lnTo>
                    <a:pt x="0" y="31"/>
                  </a:lnTo>
                  <a:lnTo>
                    <a:pt x="31" y="31"/>
                  </a:lnTo>
                  <a:lnTo>
                    <a:pt x="63" y="41"/>
                  </a:lnTo>
                  <a:lnTo>
                    <a:pt x="94" y="73"/>
                  </a:lnTo>
                  <a:lnTo>
                    <a:pt x="115" y="104"/>
                  </a:lnTo>
                  <a:lnTo>
                    <a:pt x="104" y="135"/>
                  </a:lnTo>
                  <a:lnTo>
                    <a:pt x="94" y="167"/>
                  </a:lnTo>
                  <a:lnTo>
                    <a:pt x="83" y="198"/>
                  </a:lnTo>
                  <a:lnTo>
                    <a:pt x="73" y="229"/>
                  </a:lnTo>
                  <a:lnTo>
                    <a:pt x="73" y="261"/>
                  </a:lnTo>
                  <a:lnTo>
                    <a:pt x="73" y="292"/>
                  </a:lnTo>
                  <a:lnTo>
                    <a:pt x="83" y="323"/>
                  </a:lnTo>
                  <a:lnTo>
                    <a:pt x="94" y="354"/>
                  </a:lnTo>
                  <a:lnTo>
                    <a:pt x="115" y="386"/>
                  </a:lnTo>
                  <a:lnTo>
                    <a:pt x="125" y="417"/>
                  </a:lnTo>
                  <a:lnTo>
                    <a:pt x="146" y="448"/>
                  </a:lnTo>
                  <a:lnTo>
                    <a:pt x="177" y="469"/>
                  </a:lnTo>
                  <a:lnTo>
                    <a:pt x="198" y="501"/>
                  </a:lnTo>
                  <a:lnTo>
                    <a:pt x="209" y="532"/>
                  </a:lnTo>
                  <a:lnTo>
                    <a:pt x="240" y="553"/>
                  </a:lnTo>
                  <a:lnTo>
                    <a:pt x="271" y="574"/>
                  </a:lnTo>
                  <a:lnTo>
                    <a:pt x="303" y="594"/>
                  </a:lnTo>
                  <a:lnTo>
                    <a:pt x="303" y="626"/>
                  </a:lnTo>
                  <a:lnTo>
                    <a:pt x="313" y="657"/>
                  </a:lnTo>
                  <a:lnTo>
                    <a:pt x="323" y="688"/>
                  </a:lnTo>
                  <a:lnTo>
                    <a:pt x="334" y="720"/>
                  </a:lnTo>
                  <a:lnTo>
                    <a:pt x="355" y="751"/>
                  </a:lnTo>
                  <a:lnTo>
                    <a:pt x="376" y="782"/>
                  </a:lnTo>
                  <a:lnTo>
                    <a:pt x="397" y="814"/>
                  </a:lnTo>
                  <a:lnTo>
                    <a:pt x="417" y="845"/>
                  </a:lnTo>
                  <a:lnTo>
                    <a:pt x="438" y="876"/>
                  </a:lnTo>
                  <a:lnTo>
                    <a:pt x="470" y="876"/>
                  </a:lnTo>
                  <a:lnTo>
                    <a:pt x="480" y="845"/>
                  </a:lnTo>
                  <a:lnTo>
                    <a:pt x="511" y="824"/>
                  </a:lnTo>
                  <a:lnTo>
                    <a:pt x="522" y="793"/>
                  </a:lnTo>
                  <a:lnTo>
                    <a:pt x="543" y="761"/>
                  </a:lnTo>
                  <a:lnTo>
                    <a:pt x="563" y="730"/>
                  </a:lnTo>
                  <a:lnTo>
                    <a:pt x="584" y="761"/>
                  </a:lnTo>
                  <a:lnTo>
                    <a:pt x="616" y="782"/>
                  </a:lnTo>
                  <a:lnTo>
                    <a:pt x="637" y="814"/>
                  </a:lnTo>
                  <a:lnTo>
                    <a:pt x="637" y="845"/>
                  </a:lnTo>
                  <a:lnTo>
                    <a:pt x="626" y="876"/>
                  </a:lnTo>
                  <a:lnTo>
                    <a:pt x="605" y="907"/>
                  </a:lnTo>
                  <a:lnTo>
                    <a:pt x="616" y="939"/>
                  </a:lnTo>
                  <a:lnTo>
                    <a:pt x="647" y="960"/>
                  </a:lnTo>
                  <a:lnTo>
                    <a:pt x="668" y="991"/>
                  </a:lnTo>
                  <a:lnTo>
                    <a:pt x="699" y="1012"/>
                  </a:lnTo>
                  <a:lnTo>
                    <a:pt x="730" y="1012"/>
                  </a:lnTo>
                  <a:lnTo>
                    <a:pt x="762" y="1033"/>
                  </a:lnTo>
                  <a:lnTo>
                    <a:pt x="793" y="1054"/>
                  </a:lnTo>
                  <a:lnTo>
                    <a:pt x="824" y="1056"/>
                  </a:lnTo>
                  <a:lnTo>
                    <a:pt x="856" y="1056"/>
                  </a:lnTo>
                  <a:lnTo>
                    <a:pt x="887" y="1056"/>
                  </a:lnTo>
                  <a:lnTo>
                    <a:pt x="918" y="1056"/>
                  </a:lnTo>
                  <a:lnTo>
                    <a:pt x="950" y="1056"/>
                  </a:lnTo>
                  <a:lnTo>
                    <a:pt x="950" y="1022"/>
                  </a:lnTo>
                  <a:lnTo>
                    <a:pt x="950" y="991"/>
                  </a:lnTo>
                  <a:lnTo>
                    <a:pt x="952" y="960"/>
                  </a:lnTo>
                  <a:lnTo>
                    <a:pt x="952" y="928"/>
                  </a:lnTo>
                  <a:lnTo>
                    <a:pt x="952" y="897"/>
                  </a:lnTo>
                  <a:lnTo>
                    <a:pt x="952" y="866"/>
                  </a:lnTo>
                  <a:lnTo>
                    <a:pt x="952" y="834"/>
                  </a:lnTo>
                  <a:lnTo>
                    <a:pt x="952" y="803"/>
                  </a:lnTo>
                  <a:lnTo>
                    <a:pt x="952" y="772"/>
                  </a:lnTo>
                  <a:lnTo>
                    <a:pt x="952" y="741"/>
                  </a:lnTo>
                  <a:lnTo>
                    <a:pt x="952" y="709"/>
                  </a:lnTo>
                  <a:lnTo>
                    <a:pt x="952" y="678"/>
                  </a:lnTo>
                  <a:lnTo>
                    <a:pt x="952" y="647"/>
                  </a:lnTo>
                  <a:lnTo>
                    <a:pt x="952" y="615"/>
                  </a:lnTo>
                  <a:lnTo>
                    <a:pt x="952" y="584"/>
                  </a:lnTo>
                  <a:lnTo>
                    <a:pt x="952" y="553"/>
                  </a:lnTo>
                  <a:lnTo>
                    <a:pt x="939" y="521"/>
                  </a:lnTo>
                  <a:lnTo>
                    <a:pt x="908" y="511"/>
                  </a:lnTo>
                  <a:lnTo>
                    <a:pt x="912" y="488"/>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5167080" y="4422600"/>
              <a:ext cx="1575000" cy="1909800"/>
            </a:xfrm>
            <a:custGeom>
              <a:avLst/>
              <a:gdLst/>
              <a:ahLst/>
              <a:rect l="l" t="t" r="r" b="b"/>
              <a:pathLst>
                <a:path w="992" h="1203">
                  <a:moveTo>
                    <a:pt x="29" y="10"/>
                  </a:moveTo>
                  <a:lnTo>
                    <a:pt x="62" y="41"/>
                  </a:lnTo>
                  <a:lnTo>
                    <a:pt x="62" y="73"/>
                  </a:lnTo>
                  <a:lnTo>
                    <a:pt x="73" y="104"/>
                  </a:lnTo>
                  <a:lnTo>
                    <a:pt x="83" y="135"/>
                  </a:lnTo>
                  <a:lnTo>
                    <a:pt x="94" y="167"/>
                  </a:lnTo>
                  <a:lnTo>
                    <a:pt x="115" y="198"/>
                  </a:lnTo>
                  <a:lnTo>
                    <a:pt x="135" y="229"/>
                  </a:lnTo>
                  <a:lnTo>
                    <a:pt x="146" y="260"/>
                  </a:lnTo>
                  <a:lnTo>
                    <a:pt x="167" y="292"/>
                  </a:lnTo>
                  <a:lnTo>
                    <a:pt x="177" y="323"/>
                  </a:lnTo>
                  <a:lnTo>
                    <a:pt x="208" y="344"/>
                  </a:lnTo>
                  <a:lnTo>
                    <a:pt x="219" y="375"/>
                  </a:lnTo>
                  <a:lnTo>
                    <a:pt x="240" y="407"/>
                  </a:lnTo>
                  <a:lnTo>
                    <a:pt x="261" y="438"/>
                  </a:lnTo>
                  <a:lnTo>
                    <a:pt x="271" y="469"/>
                  </a:lnTo>
                  <a:lnTo>
                    <a:pt x="282" y="500"/>
                  </a:lnTo>
                  <a:lnTo>
                    <a:pt x="302" y="532"/>
                  </a:lnTo>
                  <a:lnTo>
                    <a:pt x="323" y="563"/>
                  </a:lnTo>
                  <a:lnTo>
                    <a:pt x="344" y="594"/>
                  </a:lnTo>
                  <a:lnTo>
                    <a:pt x="375" y="626"/>
                  </a:lnTo>
                  <a:lnTo>
                    <a:pt x="396" y="657"/>
                  </a:lnTo>
                  <a:lnTo>
                    <a:pt x="407" y="688"/>
                  </a:lnTo>
                  <a:lnTo>
                    <a:pt x="428" y="720"/>
                  </a:lnTo>
                  <a:lnTo>
                    <a:pt x="448" y="751"/>
                  </a:lnTo>
                  <a:lnTo>
                    <a:pt x="469" y="782"/>
                  </a:lnTo>
                  <a:lnTo>
                    <a:pt x="490" y="813"/>
                  </a:lnTo>
                  <a:lnTo>
                    <a:pt x="522" y="845"/>
                  </a:lnTo>
                  <a:lnTo>
                    <a:pt x="542" y="876"/>
                  </a:lnTo>
                  <a:lnTo>
                    <a:pt x="553" y="907"/>
                  </a:lnTo>
                  <a:lnTo>
                    <a:pt x="553" y="939"/>
                  </a:lnTo>
                  <a:lnTo>
                    <a:pt x="553" y="970"/>
                  </a:lnTo>
                  <a:lnTo>
                    <a:pt x="553" y="1001"/>
                  </a:lnTo>
                  <a:lnTo>
                    <a:pt x="563" y="1033"/>
                  </a:lnTo>
                  <a:lnTo>
                    <a:pt x="563" y="1064"/>
                  </a:lnTo>
                  <a:lnTo>
                    <a:pt x="584" y="1095"/>
                  </a:lnTo>
                  <a:lnTo>
                    <a:pt x="615" y="1127"/>
                  </a:lnTo>
                  <a:lnTo>
                    <a:pt x="636" y="1158"/>
                  </a:lnTo>
                  <a:lnTo>
                    <a:pt x="668" y="1189"/>
                  </a:lnTo>
                  <a:lnTo>
                    <a:pt x="699" y="1202"/>
                  </a:lnTo>
                  <a:lnTo>
                    <a:pt x="730" y="1202"/>
                  </a:lnTo>
                  <a:lnTo>
                    <a:pt x="762" y="1202"/>
                  </a:lnTo>
                  <a:lnTo>
                    <a:pt x="793" y="1202"/>
                  </a:lnTo>
                  <a:lnTo>
                    <a:pt x="824" y="1202"/>
                  </a:lnTo>
                  <a:lnTo>
                    <a:pt x="855" y="1202"/>
                  </a:lnTo>
                  <a:lnTo>
                    <a:pt x="887" y="1202"/>
                  </a:lnTo>
                  <a:lnTo>
                    <a:pt x="918" y="1202"/>
                  </a:lnTo>
                  <a:lnTo>
                    <a:pt x="949" y="1202"/>
                  </a:lnTo>
                  <a:lnTo>
                    <a:pt x="981" y="1202"/>
                  </a:lnTo>
                  <a:lnTo>
                    <a:pt x="991" y="1168"/>
                  </a:lnTo>
                  <a:lnTo>
                    <a:pt x="970" y="1137"/>
                  </a:lnTo>
                  <a:lnTo>
                    <a:pt x="960" y="1106"/>
                  </a:lnTo>
                  <a:lnTo>
                    <a:pt x="949" y="1074"/>
                  </a:lnTo>
                  <a:lnTo>
                    <a:pt x="928" y="1043"/>
                  </a:lnTo>
                  <a:lnTo>
                    <a:pt x="908" y="1012"/>
                  </a:lnTo>
                  <a:lnTo>
                    <a:pt x="887" y="980"/>
                  </a:lnTo>
                  <a:lnTo>
                    <a:pt x="876" y="949"/>
                  </a:lnTo>
                  <a:lnTo>
                    <a:pt x="855" y="918"/>
                  </a:lnTo>
                  <a:lnTo>
                    <a:pt x="824" y="887"/>
                  </a:lnTo>
                  <a:lnTo>
                    <a:pt x="803" y="855"/>
                  </a:lnTo>
                  <a:lnTo>
                    <a:pt x="772" y="824"/>
                  </a:lnTo>
                  <a:lnTo>
                    <a:pt x="741" y="803"/>
                  </a:lnTo>
                  <a:lnTo>
                    <a:pt x="720" y="772"/>
                  </a:lnTo>
                  <a:lnTo>
                    <a:pt x="688" y="751"/>
                  </a:lnTo>
                  <a:lnTo>
                    <a:pt x="668" y="720"/>
                  </a:lnTo>
                  <a:lnTo>
                    <a:pt x="657" y="688"/>
                  </a:lnTo>
                  <a:lnTo>
                    <a:pt x="647" y="657"/>
                  </a:lnTo>
                  <a:lnTo>
                    <a:pt x="636" y="626"/>
                  </a:lnTo>
                  <a:lnTo>
                    <a:pt x="615" y="594"/>
                  </a:lnTo>
                  <a:lnTo>
                    <a:pt x="595" y="563"/>
                  </a:lnTo>
                  <a:lnTo>
                    <a:pt x="574" y="532"/>
                  </a:lnTo>
                  <a:lnTo>
                    <a:pt x="553" y="500"/>
                  </a:lnTo>
                  <a:lnTo>
                    <a:pt x="532" y="469"/>
                  </a:lnTo>
                  <a:lnTo>
                    <a:pt x="511" y="438"/>
                  </a:lnTo>
                  <a:lnTo>
                    <a:pt x="501" y="407"/>
                  </a:lnTo>
                  <a:lnTo>
                    <a:pt x="469" y="386"/>
                  </a:lnTo>
                  <a:lnTo>
                    <a:pt x="438" y="365"/>
                  </a:lnTo>
                  <a:lnTo>
                    <a:pt x="417" y="333"/>
                  </a:lnTo>
                  <a:lnTo>
                    <a:pt x="386" y="313"/>
                  </a:lnTo>
                  <a:lnTo>
                    <a:pt x="355" y="292"/>
                  </a:lnTo>
                  <a:lnTo>
                    <a:pt x="323" y="271"/>
                  </a:lnTo>
                  <a:lnTo>
                    <a:pt x="292" y="250"/>
                  </a:lnTo>
                  <a:lnTo>
                    <a:pt x="261" y="219"/>
                  </a:lnTo>
                  <a:lnTo>
                    <a:pt x="229" y="187"/>
                  </a:lnTo>
                  <a:lnTo>
                    <a:pt x="219" y="156"/>
                  </a:lnTo>
                  <a:lnTo>
                    <a:pt x="219" y="125"/>
                  </a:lnTo>
                  <a:lnTo>
                    <a:pt x="229" y="93"/>
                  </a:lnTo>
                  <a:lnTo>
                    <a:pt x="240" y="62"/>
                  </a:lnTo>
                  <a:lnTo>
                    <a:pt x="250" y="31"/>
                  </a:lnTo>
                  <a:lnTo>
                    <a:pt x="250" y="0"/>
                  </a:lnTo>
                  <a:lnTo>
                    <a:pt x="219" y="10"/>
                  </a:lnTo>
                  <a:lnTo>
                    <a:pt x="198" y="41"/>
                  </a:lnTo>
                  <a:lnTo>
                    <a:pt x="177" y="73"/>
                  </a:lnTo>
                  <a:lnTo>
                    <a:pt x="156" y="104"/>
                  </a:lnTo>
                  <a:lnTo>
                    <a:pt x="156" y="135"/>
                  </a:lnTo>
                  <a:lnTo>
                    <a:pt x="125" y="114"/>
                  </a:lnTo>
                  <a:lnTo>
                    <a:pt x="115" y="83"/>
                  </a:lnTo>
                  <a:lnTo>
                    <a:pt x="94" y="52"/>
                  </a:lnTo>
                  <a:lnTo>
                    <a:pt x="62" y="41"/>
                  </a:lnTo>
                  <a:lnTo>
                    <a:pt x="31" y="20"/>
                  </a:lnTo>
                  <a:lnTo>
                    <a:pt x="0" y="10"/>
                  </a:lnTo>
                  <a:lnTo>
                    <a:pt x="29" y="1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31680" y="304920"/>
              <a:ext cx="6512040" cy="4092480"/>
            </a:xfrm>
            <a:custGeom>
              <a:avLst/>
              <a:gdLst/>
              <a:ahLst/>
              <a:rect l="l" t="t" r="r" b="b"/>
              <a:pathLst>
                <a:path w="4102" h="2578">
                  <a:moveTo>
                    <a:pt x="720" y="0"/>
                  </a:moveTo>
                  <a:lnTo>
                    <a:pt x="751" y="31"/>
                  </a:lnTo>
                  <a:lnTo>
                    <a:pt x="772" y="63"/>
                  </a:lnTo>
                  <a:lnTo>
                    <a:pt x="803" y="83"/>
                  </a:lnTo>
                  <a:lnTo>
                    <a:pt x="824" y="115"/>
                  </a:lnTo>
                  <a:lnTo>
                    <a:pt x="845" y="146"/>
                  </a:lnTo>
                  <a:lnTo>
                    <a:pt x="856" y="177"/>
                  </a:lnTo>
                  <a:lnTo>
                    <a:pt x="866" y="209"/>
                  </a:lnTo>
                  <a:lnTo>
                    <a:pt x="877" y="240"/>
                  </a:lnTo>
                  <a:lnTo>
                    <a:pt x="877" y="271"/>
                  </a:lnTo>
                  <a:lnTo>
                    <a:pt x="877" y="303"/>
                  </a:lnTo>
                  <a:lnTo>
                    <a:pt x="877" y="334"/>
                  </a:lnTo>
                  <a:lnTo>
                    <a:pt x="877" y="365"/>
                  </a:lnTo>
                  <a:lnTo>
                    <a:pt x="866" y="397"/>
                  </a:lnTo>
                  <a:lnTo>
                    <a:pt x="866" y="428"/>
                  </a:lnTo>
                  <a:lnTo>
                    <a:pt x="866" y="459"/>
                  </a:lnTo>
                  <a:lnTo>
                    <a:pt x="866" y="490"/>
                  </a:lnTo>
                  <a:lnTo>
                    <a:pt x="866" y="522"/>
                  </a:lnTo>
                  <a:lnTo>
                    <a:pt x="845" y="553"/>
                  </a:lnTo>
                  <a:lnTo>
                    <a:pt x="814" y="574"/>
                  </a:lnTo>
                  <a:lnTo>
                    <a:pt x="793" y="605"/>
                  </a:lnTo>
                  <a:lnTo>
                    <a:pt x="772" y="637"/>
                  </a:lnTo>
                  <a:lnTo>
                    <a:pt x="741" y="657"/>
                  </a:lnTo>
                  <a:lnTo>
                    <a:pt x="710" y="637"/>
                  </a:lnTo>
                  <a:lnTo>
                    <a:pt x="678" y="616"/>
                  </a:lnTo>
                  <a:lnTo>
                    <a:pt x="647" y="595"/>
                  </a:lnTo>
                  <a:lnTo>
                    <a:pt x="616" y="574"/>
                  </a:lnTo>
                  <a:lnTo>
                    <a:pt x="584" y="563"/>
                  </a:lnTo>
                  <a:lnTo>
                    <a:pt x="553" y="563"/>
                  </a:lnTo>
                  <a:lnTo>
                    <a:pt x="522" y="553"/>
                  </a:lnTo>
                  <a:lnTo>
                    <a:pt x="449" y="553"/>
                  </a:lnTo>
                  <a:lnTo>
                    <a:pt x="417" y="543"/>
                  </a:lnTo>
                  <a:lnTo>
                    <a:pt x="386" y="543"/>
                  </a:lnTo>
                  <a:lnTo>
                    <a:pt x="355" y="543"/>
                  </a:lnTo>
                  <a:lnTo>
                    <a:pt x="323" y="532"/>
                  </a:lnTo>
                  <a:lnTo>
                    <a:pt x="292" y="522"/>
                  </a:lnTo>
                  <a:lnTo>
                    <a:pt x="261" y="511"/>
                  </a:lnTo>
                  <a:lnTo>
                    <a:pt x="230" y="501"/>
                  </a:lnTo>
                  <a:lnTo>
                    <a:pt x="198" y="490"/>
                  </a:lnTo>
                  <a:lnTo>
                    <a:pt x="177" y="522"/>
                  </a:lnTo>
                  <a:lnTo>
                    <a:pt x="177" y="553"/>
                  </a:lnTo>
                  <a:lnTo>
                    <a:pt x="177" y="584"/>
                  </a:lnTo>
                  <a:lnTo>
                    <a:pt x="177" y="616"/>
                  </a:lnTo>
                  <a:lnTo>
                    <a:pt x="177" y="647"/>
                  </a:lnTo>
                  <a:lnTo>
                    <a:pt x="177" y="678"/>
                  </a:lnTo>
                  <a:lnTo>
                    <a:pt x="177" y="710"/>
                  </a:lnTo>
                  <a:lnTo>
                    <a:pt x="177" y="741"/>
                  </a:lnTo>
                  <a:lnTo>
                    <a:pt x="177" y="772"/>
                  </a:lnTo>
                  <a:lnTo>
                    <a:pt x="177" y="803"/>
                  </a:lnTo>
                  <a:lnTo>
                    <a:pt x="177" y="835"/>
                  </a:lnTo>
                  <a:lnTo>
                    <a:pt x="146" y="845"/>
                  </a:lnTo>
                  <a:lnTo>
                    <a:pt x="125" y="877"/>
                  </a:lnTo>
                  <a:lnTo>
                    <a:pt x="94" y="908"/>
                  </a:lnTo>
                  <a:lnTo>
                    <a:pt x="83" y="939"/>
                  </a:lnTo>
                  <a:lnTo>
                    <a:pt x="73" y="970"/>
                  </a:lnTo>
                  <a:lnTo>
                    <a:pt x="73" y="1002"/>
                  </a:lnTo>
                  <a:lnTo>
                    <a:pt x="73" y="1033"/>
                  </a:lnTo>
                  <a:lnTo>
                    <a:pt x="73" y="1064"/>
                  </a:lnTo>
                  <a:lnTo>
                    <a:pt x="73" y="1096"/>
                  </a:lnTo>
                  <a:lnTo>
                    <a:pt x="83" y="1127"/>
                  </a:lnTo>
                  <a:lnTo>
                    <a:pt x="83" y="1158"/>
                  </a:lnTo>
                  <a:lnTo>
                    <a:pt x="94" y="1190"/>
                  </a:lnTo>
                  <a:lnTo>
                    <a:pt x="94" y="1221"/>
                  </a:lnTo>
                  <a:lnTo>
                    <a:pt x="94" y="1252"/>
                  </a:lnTo>
                  <a:lnTo>
                    <a:pt x="94" y="1283"/>
                  </a:lnTo>
                  <a:lnTo>
                    <a:pt x="125" y="1294"/>
                  </a:lnTo>
                  <a:lnTo>
                    <a:pt x="157" y="1304"/>
                  </a:lnTo>
                  <a:lnTo>
                    <a:pt x="188" y="1304"/>
                  </a:lnTo>
                  <a:lnTo>
                    <a:pt x="209" y="1336"/>
                  </a:lnTo>
                  <a:lnTo>
                    <a:pt x="240" y="1367"/>
                  </a:lnTo>
                  <a:lnTo>
                    <a:pt x="261" y="1398"/>
                  </a:lnTo>
                  <a:lnTo>
                    <a:pt x="292" y="1409"/>
                  </a:lnTo>
                  <a:lnTo>
                    <a:pt x="323" y="1409"/>
                  </a:lnTo>
                  <a:lnTo>
                    <a:pt x="355" y="1409"/>
                  </a:lnTo>
                  <a:lnTo>
                    <a:pt x="386" y="1409"/>
                  </a:lnTo>
                  <a:lnTo>
                    <a:pt x="417" y="1409"/>
                  </a:lnTo>
                  <a:lnTo>
                    <a:pt x="449" y="1409"/>
                  </a:lnTo>
                  <a:lnTo>
                    <a:pt x="480" y="1409"/>
                  </a:lnTo>
                  <a:lnTo>
                    <a:pt x="511" y="1409"/>
                  </a:lnTo>
                  <a:lnTo>
                    <a:pt x="543" y="1409"/>
                  </a:lnTo>
                  <a:lnTo>
                    <a:pt x="574" y="1409"/>
                  </a:lnTo>
                  <a:lnTo>
                    <a:pt x="605" y="1409"/>
                  </a:lnTo>
                  <a:lnTo>
                    <a:pt x="637" y="1409"/>
                  </a:lnTo>
                  <a:lnTo>
                    <a:pt x="668" y="1409"/>
                  </a:lnTo>
                  <a:lnTo>
                    <a:pt x="689" y="1377"/>
                  </a:lnTo>
                  <a:lnTo>
                    <a:pt x="720" y="1367"/>
                  </a:lnTo>
                  <a:lnTo>
                    <a:pt x="741" y="1336"/>
                  </a:lnTo>
                  <a:lnTo>
                    <a:pt x="772" y="1315"/>
                  </a:lnTo>
                  <a:lnTo>
                    <a:pt x="803" y="1283"/>
                  </a:lnTo>
                  <a:lnTo>
                    <a:pt x="835" y="1252"/>
                  </a:lnTo>
                  <a:lnTo>
                    <a:pt x="866" y="1231"/>
                  </a:lnTo>
                  <a:lnTo>
                    <a:pt x="866" y="1200"/>
                  </a:lnTo>
                  <a:lnTo>
                    <a:pt x="866" y="1169"/>
                  </a:lnTo>
                  <a:lnTo>
                    <a:pt x="866" y="1075"/>
                  </a:lnTo>
                  <a:lnTo>
                    <a:pt x="887" y="1043"/>
                  </a:lnTo>
                  <a:lnTo>
                    <a:pt x="918" y="1033"/>
                  </a:lnTo>
                  <a:lnTo>
                    <a:pt x="950" y="1023"/>
                  </a:lnTo>
                  <a:lnTo>
                    <a:pt x="981" y="1012"/>
                  </a:lnTo>
                  <a:lnTo>
                    <a:pt x="1012" y="1002"/>
                  </a:lnTo>
                  <a:lnTo>
                    <a:pt x="1043" y="981"/>
                  </a:lnTo>
                  <a:lnTo>
                    <a:pt x="1064" y="950"/>
                  </a:lnTo>
                  <a:lnTo>
                    <a:pt x="1085" y="918"/>
                  </a:lnTo>
                  <a:lnTo>
                    <a:pt x="1096" y="887"/>
                  </a:lnTo>
                  <a:lnTo>
                    <a:pt x="1106" y="856"/>
                  </a:lnTo>
                  <a:lnTo>
                    <a:pt x="1137" y="824"/>
                  </a:lnTo>
                  <a:lnTo>
                    <a:pt x="1158" y="793"/>
                  </a:lnTo>
                  <a:lnTo>
                    <a:pt x="1190" y="783"/>
                  </a:lnTo>
                  <a:lnTo>
                    <a:pt x="1221" y="772"/>
                  </a:lnTo>
                  <a:lnTo>
                    <a:pt x="1252" y="772"/>
                  </a:lnTo>
                  <a:lnTo>
                    <a:pt x="1283" y="783"/>
                  </a:lnTo>
                  <a:lnTo>
                    <a:pt x="1315" y="793"/>
                  </a:lnTo>
                  <a:lnTo>
                    <a:pt x="1346" y="803"/>
                  </a:lnTo>
                  <a:lnTo>
                    <a:pt x="1377" y="814"/>
                  </a:lnTo>
                  <a:lnTo>
                    <a:pt x="1409" y="814"/>
                  </a:lnTo>
                  <a:lnTo>
                    <a:pt x="1440" y="814"/>
                  </a:lnTo>
                  <a:lnTo>
                    <a:pt x="1471" y="814"/>
                  </a:lnTo>
                  <a:lnTo>
                    <a:pt x="1503" y="793"/>
                  </a:lnTo>
                  <a:lnTo>
                    <a:pt x="1534" y="772"/>
                  </a:lnTo>
                  <a:lnTo>
                    <a:pt x="1565" y="762"/>
                  </a:lnTo>
                  <a:lnTo>
                    <a:pt x="1597" y="762"/>
                  </a:lnTo>
                  <a:lnTo>
                    <a:pt x="1628" y="762"/>
                  </a:lnTo>
                  <a:lnTo>
                    <a:pt x="1659" y="762"/>
                  </a:lnTo>
                  <a:lnTo>
                    <a:pt x="1690" y="783"/>
                  </a:lnTo>
                  <a:lnTo>
                    <a:pt x="1722" y="793"/>
                  </a:lnTo>
                  <a:lnTo>
                    <a:pt x="1732" y="824"/>
                  </a:lnTo>
                  <a:lnTo>
                    <a:pt x="1732" y="856"/>
                  </a:lnTo>
                  <a:lnTo>
                    <a:pt x="1732" y="887"/>
                  </a:lnTo>
                  <a:lnTo>
                    <a:pt x="1732" y="918"/>
                  </a:lnTo>
                  <a:lnTo>
                    <a:pt x="1732" y="950"/>
                  </a:lnTo>
                  <a:lnTo>
                    <a:pt x="1743" y="981"/>
                  </a:lnTo>
                  <a:lnTo>
                    <a:pt x="1763" y="1012"/>
                  </a:lnTo>
                  <a:lnTo>
                    <a:pt x="1784" y="1043"/>
                  </a:lnTo>
                  <a:lnTo>
                    <a:pt x="1805" y="1075"/>
                  </a:lnTo>
                  <a:lnTo>
                    <a:pt x="1837" y="1096"/>
                  </a:lnTo>
                  <a:lnTo>
                    <a:pt x="1857" y="1127"/>
                  </a:lnTo>
                  <a:lnTo>
                    <a:pt x="1889" y="1148"/>
                  </a:lnTo>
                  <a:lnTo>
                    <a:pt x="1920" y="1169"/>
                  </a:lnTo>
                  <a:lnTo>
                    <a:pt x="1941" y="1200"/>
                  </a:lnTo>
                  <a:lnTo>
                    <a:pt x="1962" y="1231"/>
                  </a:lnTo>
                  <a:lnTo>
                    <a:pt x="1983" y="1263"/>
                  </a:lnTo>
                  <a:lnTo>
                    <a:pt x="2014" y="1283"/>
                  </a:lnTo>
                  <a:lnTo>
                    <a:pt x="2035" y="1315"/>
                  </a:lnTo>
                  <a:lnTo>
                    <a:pt x="2045" y="1346"/>
                  </a:lnTo>
                  <a:lnTo>
                    <a:pt x="2066" y="1377"/>
                  </a:lnTo>
                  <a:lnTo>
                    <a:pt x="2077" y="1409"/>
                  </a:lnTo>
                  <a:lnTo>
                    <a:pt x="2087" y="1440"/>
                  </a:lnTo>
                  <a:lnTo>
                    <a:pt x="2097" y="1471"/>
                  </a:lnTo>
                  <a:lnTo>
                    <a:pt x="2097" y="1503"/>
                  </a:lnTo>
                  <a:lnTo>
                    <a:pt x="2097" y="1534"/>
                  </a:lnTo>
                  <a:lnTo>
                    <a:pt x="2097" y="1565"/>
                  </a:lnTo>
                  <a:lnTo>
                    <a:pt x="2097" y="1597"/>
                  </a:lnTo>
                  <a:lnTo>
                    <a:pt x="2129" y="1628"/>
                  </a:lnTo>
                  <a:lnTo>
                    <a:pt x="2160" y="1649"/>
                  </a:lnTo>
                  <a:lnTo>
                    <a:pt x="2191" y="1649"/>
                  </a:lnTo>
                  <a:lnTo>
                    <a:pt x="2212" y="1617"/>
                  </a:lnTo>
                  <a:lnTo>
                    <a:pt x="2223" y="1586"/>
                  </a:lnTo>
                  <a:lnTo>
                    <a:pt x="2233" y="1555"/>
                  </a:lnTo>
                  <a:lnTo>
                    <a:pt x="2233" y="1523"/>
                  </a:lnTo>
                  <a:lnTo>
                    <a:pt x="2223" y="1492"/>
                  </a:lnTo>
                  <a:lnTo>
                    <a:pt x="2223" y="1461"/>
                  </a:lnTo>
                  <a:lnTo>
                    <a:pt x="2223" y="1430"/>
                  </a:lnTo>
                  <a:lnTo>
                    <a:pt x="2223" y="1398"/>
                  </a:lnTo>
                  <a:lnTo>
                    <a:pt x="2254" y="1388"/>
                  </a:lnTo>
                  <a:lnTo>
                    <a:pt x="2285" y="1388"/>
                  </a:lnTo>
                  <a:lnTo>
                    <a:pt x="2317" y="1398"/>
                  </a:lnTo>
                  <a:lnTo>
                    <a:pt x="2348" y="1409"/>
                  </a:lnTo>
                  <a:lnTo>
                    <a:pt x="2358" y="1377"/>
                  </a:lnTo>
                  <a:lnTo>
                    <a:pt x="2358" y="1346"/>
                  </a:lnTo>
                  <a:lnTo>
                    <a:pt x="2348" y="1315"/>
                  </a:lnTo>
                  <a:lnTo>
                    <a:pt x="2337" y="1283"/>
                  </a:lnTo>
                  <a:lnTo>
                    <a:pt x="2306" y="1273"/>
                  </a:lnTo>
                  <a:lnTo>
                    <a:pt x="2275" y="1242"/>
                  </a:lnTo>
                  <a:lnTo>
                    <a:pt x="2254" y="1210"/>
                  </a:lnTo>
                  <a:lnTo>
                    <a:pt x="2223" y="1190"/>
                  </a:lnTo>
                  <a:lnTo>
                    <a:pt x="2202" y="1158"/>
                  </a:lnTo>
                  <a:lnTo>
                    <a:pt x="2170" y="1137"/>
                  </a:lnTo>
                  <a:lnTo>
                    <a:pt x="2139" y="1117"/>
                  </a:lnTo>
                  <a:lnTo>
                    <a:pt x="2118" y="1085"/>
                  </a:lnTo>
                  <a:lnTo>
                    <a:pt x="2108" y="1054"/>
                  </a:lnTo>
                  <a:lnTo>
                    <a:pt x="2097" y="1023"/>
                  </a:lnTo>
                  <a:lnTo>
                    <a:pt x="2087" y="991"/>
                  </a:lnTo>
                  <a:lnTo>
                    <a:pt x="2066" y="960"/>
                  </a:lnTo>
                  <a:lnTo>
                    <a:pt x="2045" y="929"/>
                  </a:lnTo>
                  <a:lnTo>
                    <a:pt x="2014" y="897"/>
                  </a:lnTo>
                  <a:lnTo>
                    <a:pt x="2003" y="866"/>
                  </a:lnTo>
                  <a:lnTo>
                    <a:pt x="1983" y="835"/>
                  </a:lnTo>
                  <a:lnTo>
                    <a:pt x="1962" y="803"/>
                  </a:lnTo>
                  <a:lnTo>
                    <a:pt x="1941" y="772"/>
                  </a:lnTo>
                  <a:lnTo>
                    <a:pt x="1920" y="741"/>
                  </a:lnTo>
                  <a:lnTo>
                    <a:pt x="1899" y="710"/>
                  </a:lnTo>
                  <a:lnTo>
                    <a:pt x="1910" y="678"/>
                  </a:lnTo>
                  <a:lnTo>
                    <a:pt x="1941" y="668"/>
                  </a:lnTo>
                  <a:lnTo>
                    <a:pt x="1972" y="668"/>
                  </a:lnTo>
                  <a:lnTo>
                    <a:pt x="2003" y="668"/>
                  </a:lnTo>
                  <a:lnTo>
                    <a:pt x="2035" y="689"/>
                  </a:lnTo>
                  <a:lnTo>
                    <a:pt x="2056" y="720"/>
                  </a:lnTo>
                  <a:lnTo>
                    <a:pt x="2087" y="751"/>
                  </a:lnTo>
                  <a:lnTo>
                    <a:pt x="2108" y="783"/>
                  </a:lnTo>
                  <a:lnTo>
                    <a:pt x="2129" y="814"/>
                  </a:lnTo>
                  <a:lnTo>
                    <a:pt x="2139" y="845"/>
                  </a:lnTo>
                  <a:lnTo>
                    <a:pt x="2160" y="877"/>
                  </a:lnTo>
                  <a:lnTo>
                    <a:pt x="2191" y="908"/>
                  </a:lnTo>
                  <a:lnTo>
                    <a:pt x="2202" y="939"/>
                  </a:lnTo>
                  <a:lnTo>
                    <a:pt x="2233" y="970"/>
                  </a:lnTo>
                  <a:lnTo>
                    <a:pt x="2254" y="1002"/>
                  </a:lnTo>
                  <a:lnTo>
                    <a:pt x="2285" y="1033"/>
                  </a:lnTo>
                  <a:lnTo>
                    <a:pt x="2296" y="1064"/>
                  </a:lnTo>
                  <a:lnTo>
                    <a:pt x="2317" y="1096"/>
                  </a:lnTo>
                  <a:lnTo>
                    <a:pt x="2348" y="1127"/>
                  </a:lnTo>
                  <a:lnTo>
                    <a:pt x="2379" y="1158"/>
                  </a:lnTo>
                  <a:lnTo>
                    <a:pt x="2410" y="1190"/>
                  </a:lnTo>
                  <a:lnTo>
                    <a:pt x="2431" y="1221"/>
                  </a:lnTo>
                  <a:lnTo>
                    <a:pt x="2452" y="1252"/>
                  </a:lnTo>
                  <a:lnTo>
                    <a:pt x="2463" y="1283"/>
                  </a:lnTo>
                  <a:lnTo>
                    <a:pt x="2473" y="1315"/>
                  </a:lnTo>
                  <a:lnTo>
                    <a:pt x="2473" y="1346"/>
                  </a:lnTo>
                  <a:lnTo>
                    <a:pt x="2473" y="1377"/>
                  </a:lnTo>
                  <a:lnTo>
                    <a:pt x="2473" y="1409"/>
                  </a:lnTo>
                  <a:lnTo>
                    <a:pt x="2473" y="1440"/>
                  </a:lnTo>
                  <a:lnTo>
                    <a:pt x="2504" y="1461"/>
                  </a:lnTo>
                  <a:lnTo>
                    <a:pt x="2536" y="1482"/>
                  </a:lnTo>
                  <a:lnTo>
                    <a:pt x="2557" y="1513"/>
                  </a:lnTo>
                  <a:lnTo>
                    <a:pt x="2557" y="1544"/>
                  </a:lnTo>
                  <a:lnTo>
                    <a:pt x="2557" y="1576"/>
                  </a:lnTo>
                  <a:lnTo>
                    <a:pt x="2557" y="1607"/>
                  </a:lnTo>
                  <a:lnTo>
                    <a:pt x="2588" y="1628"/>
                  </a:lnTo>
                  <a:lnTo>
                    <a:pt x="2619" y="1649"/>
                  </a:lnTo>
                  <a:lnTo>
                    <a:pt x="2650" y="1670"/>
                  </a:lnTo>
                  <a:lnTo>
                    <a:pt x="2682" y="1690"/>
                  </a:lnTo>
                  <a:lnTo>
                    <a:pt x="2713" y="1711"/>
                  </a:lnTo>
                  <a:lnTo>
                    <a:pt x="2744" y="1711"/>
                  </a:lnTo>
                  <a:lnTo>
                    <a:pt x="2776" y="1711"/>
                  </a:lnTo>
                  <a:lnTo>
                    <a:pt x="2807" y="1701"/>
                  </a:lnTo>
                  <a:lnTo>
                    <a:pt x="2828" y="1670"/>
                  </a:lnTo>
                  <a:lnTo>
                    <a:pt x="2849" y="1638"/>
                  </a:lnTo>
                  <a:lnTo>
                    <a:pt x="2859" y="1607"/>
                  </a:lnTo>
                  <a:lnTo>
                    <a:pt x="2870" y="1576"/>
                  </a:lnTo>
                  <a:lnTo>
                    <a:pt x="2859" y="1544"/>
                  </a:lnTo>
                  <a:lnTo>
                    <a:pt x="2838" y="1513"/>
                  </a:lnTo>
                  <a:lnTo>
                    <a:pt x="2817" y="1482"/>
                  </a:lnTo>
                  <a:lnTo>
                    <a:pt x="2797" y="1450"/>
                  </a:lnTo>
                  <a:lnTo>
                    <a:pt x="2786" y="1419"/>
                  </a:lnTo>
                  <a:lnTo>
                    <a:pt x="2786" y="1388"/>
                  </a:lnTo>
                  <a:lnTo>
                    <a:pt x="2817" y="1357"/>
                  </a:lnTo>
                  <a:lnTo>
                    <a:pt x="2849" y="1336"/>
                  </a:lnTo>
                  <a:lnTo>
                    <a:pt x="2880" y="1325"/>
                  </a:lnTo>
                  <a:lnTo>
                    <a:pt x="2911" y="1315"/>
                  </a:lnTo>
                  <a:lnTo>
                    <a:pt x="2943" y="1294"/>
                  </a:lnTo>
                  <a:lnTo>
                    <a:pt x="2974" y="1273"/>
                  </a:lnTo>
                  <a:lnTo>
                    <a:pt x="2984" y="1190"/>
                  </a:lnTo>
                  <a:lnTo>
                    <a:pt x="2995" y="1106"/>
                  </a:lnTo>
                  <a:lnTo>
                    <a:pt x="3026" y="1096"/>
                  </a:lnTo>
                  <a:lnTo>
                    <a:pt x="3057" y="1096"/>
                  </a:lnTo>
                  <a:lnTo>
                    <a:pt x="3089" y="1096"/>
                  </a:lnTo>
                  <a:lnTo>
                    <a:pt x="3120" y="1106"/>
                  </a:lnTo>
                  <a:lnTo>
                    <a:pt x="3151" y="1127"/>
                  </a:lnTo>
                  <a:lnTo>
                    <a:pt x="3183" y="1148"/>
                  </a:lnTo>
                  <a:lnTo>
                    <a:pt x="3214" y="1158"/>
                  </a:lnTo>
                  <a:lnTo>
                    <a:pt x="3235" y="1127"/>
                  </a:lnTo>
                  <a:lnTo>
                    <a:pt x="3235" y="1096"/>
                  </a:lnTo>
                  <a:lnTo>
                    <a:pt x="3235" y="1064"/>
                  </a:lnTo>
                  <a:lnTo>
                    <a:pt x="3214" y="1033"/>
                  </a:lnTo>
                  <a:lnTo>
                    <a:pt x="3193" y="1002"/>
                  </a:lnTo>
                  <a:lnTo>
                    <a:pt x="3183" y="970"/>
                  </a:lnTo>
                  <a:lnTo>
                    <a:pt x="3183" y="939"/>
                  </a:lnTo>
                  <a:lnTo>
                    <a:pt x="3183" y="908"/>
                  </a:lnTo>
                  <a:lnTo>
                    <a:pt x="3183" y="877"/>
                  </a:lnTo>
                  <a:lnTo>
                    <a:pt x="3183" y="845"/>
                  </a:lnTo>
                  <a:lnTo>
                    <a:pt x="3183" y="814"/>
                  </a:lnTo>
                  <a:lnTo>
                    <a:pt x="3183" y="783"/>
                  </a:lnTo>
                  <a:lnTo>
                    <a:pt x="3183" y="751"/>
                  </a:lnTo>
                  <a:lnTo>
                    <a:pt x="3193" y="668"/>
                  </a:lnTo>
                  <a:lnTo>
                    <a:pt x="3193" y="637"/>
                  </a:lnTo>
                  <a:lnTo>
                    <a:pt x="3203" y="605"/>
                  </a:lnTo>
                  <a:lnTo>
                    <a:pt x="3235" y="574"/>
                  </a:lnTo>
                  <a:lnTo>
                    <a:pt x="3266" y="563"/>
                  </a:lnTo>
                  <a:lnTo>
                    <a:pt x="3297" y="543"/>
                  </a:lnTo>
                  <a:lnTo>
                    <a:pt x="3329" y="532"/>
                  </a:lnTo>
                  <a:lnTo>
                    <a:pt x="3360" y="522"/>
                  </a:lnTo>
                  <a:lnTo>
                    <a:pt x="3391" y="522"/>
                  </a:lnTo>
                  <a:lnTo>
                    <a:pt x="3423" y="522"/>
                  </a:lnTo>
                  <a:lnTo>
                    <a:pt x="3454" y="553"/>
                  </a:lnTo>
                  <a:lnTo>
                    <a:pt x="3475" y="584"/>
                  </a:lnTo>
                  <a:lnTo>
                    <a:pt x="3475" y="616"/>
                  </a:lnTo>
                  <a:lnTo>
                    <a:pt x="3496" y="647"/>
                  </a:lnTo>
                  <a:lnTo>
                    <a:pt x="3527" y="668"/>
                  </a:lnTo>
                  <a:lnTo>
                    <a:pt x="3558" y="699"/>
                  </a:lnTo>
                  <a:lnTo>
                    <a:pt x="3590" y="710"/>
                  </a:lnTo>
                  <a:lnTo>
                    <a:pt x="3621" y="710"/>
                  </a:lnTo>
                  <a:lnTo>
                    <a:pt x="3652" y="699"/>
                  </a:lnTo>
                  <a:lnTo>
                    <a:pt x="3673" y="668"/>
                  </a:lnTo>
                  <a:lnTo>
                    <a:pt x="3694" y="637"/>
                  </a:lnTo>
                  <a:lnTo>
                    <a:pt x="3704" y="605"/>
                  </a:lnTo>
                  <a:lnTo>
                    <a:pt x="3694" y="574"/>
                  </a:lnTo>
                  <a:lnTo>
                    <a:pt x="3673" y="543"/>
                  </a:lnTo>
                  <a:lnTo>
                    <a:pt x="3652" y="511"/>
                  </a:lnTo>
                  <a:lnTo>
                    <a:pt x="3652" y="480"/>
                  </a:lnTo>
                  <a:lnTo>
                    <a:pt x="3652" y="449"/>
                  </a:lnTo>
                  <a:lnTo>
                    <a:pt x="3673" y="417"/>
                  </a:lnTo>
                  <a:lnTo>
                    <a:pt x="3704" y="397"/>
                  </a:lnTo>
                  <a:lnTo>
                    <a:pt x="3736" y="386"/>
                  </a:lnTo>
                  <a:lnTo>
                    <a:pt x="3767" y="365"/>
                  </a:lnTo>
                  <a:lnTo>
                    <a:pt x="3777" y="397"/>
                  </a:lnTo>
                  <a:lnTo>
                    <a:pt x="3798" y="428"/>
                  </a:lnTo>
                  <a:lnTo>
                    <a:pt x="3819" y="459"/>
                  </a:lnTo>
                  <a:lnTo>
                    <a:pt x="3809" y="490"/>
                  </a:lnTo>
                  <a:lnTo>
                    <a:pt x="3788" y="522"/>
                  </a:lnTo>
                  <a:lnTo>
                    <a:pt x="3767" y="553"/>
                  </a:lnTo>
                  <a:lnTo>
                    <a:pt x="3767" y="584"/>
                  </a:lnTo>
                  <a:lnTo>
                    <a:pt x="3767" y="616"/>
                  </a:lnTo>
                  <a:lnTo>
                    <a:pt x="3798" y="637"/>
                  </a:lnTo>
                  <a:lnTo>
                    <a:pt x="3830" y="668"/>
                  </a:lnTo>
                  <a:lnTo>
                    <a:pt x="3861" y="678"/>
                  </a:lnTo>
                  <a:lnTo>
                    <a:pt x="3892" y="689"/>
                  </a:lnTo>
                  <a:lnTo>
                    <a:pt x="3923" y="710"/>
                  </a:lnTo>
                  <a:lnTo>
                    <a:pt x="3955" y="720"/>
                  </a:lnTo>
                  <a:lnTo>
                    <a:pt x="3986" y="730"/>
                  </a:lnTo>
                  <a:lnTo>
                    <a:pt x="4017" y="751"/>
                  </a:lnTo>
                  <a:lnTo>
                    <a:pt x="4049" y="783"/>
                  </a:lnTo>
                  <a:lnTo>
                    <a:pt x="4070" y="814"/>
                  </a:lnTo>
                  <a:lnTo>
                    <a:pt x="4090" y="845"/>
                  </a:lnTo>
                  <a:lnTo>
                    <a:pt x="4101" y="877"/>
                  </a:lnTo>
                  <a:lnTo>
                    <a:pt x="4080" y="908"/>
                  </a:lnTo>
                  <a:lnTo>
                    <a:pt x="4070" y="939"/>
                  </a:lnTo>
                  <a:lnTo>
                    <a:pt x="4038" y="950"/>
                  </a:lnTo>
                  <a:lnTo>
                    <a:pt x="4007" y="950"/>
                  </a:lnTo>
                  <a:lnTo>
                    <a:pt x="3976" y="950"/>
                  </a:lnTo>
                  <a:lnTo>
                    <a:pt x="3944" y="950"/>
                  </a:lnTo>
                  <a:lnTo>
                    <a:pt x="3913" y="950"/>
                  </a:lnTo>
                  <a:lnTo>
                    <a:pt x="3882" y="950"/>
                  </a:lnTo>
                  <a:lnTo>
                    <a:pt x="3850" y="950"/>
                  </a:lnTo>
                  <a:lnTo>
                    <a:pt x="3819" y="960"/>
                  </a:lnTo>
                  <a:lnTo>
                    <a:pt x="3788" y="960"/>
                  </a:lnTo>
                  <a:lnTo>
                    <a:pt x="3757" y="960"/>
                  </a:lnTo>
                  <a:lnTo>
                    <a:pt x="3725" y="960"/>
                  </a:lnTo>
                  <a:lnTo>
                    <a:pt x="3694" y="970"/>
                  </a:lnTo>
                  <a:lnTo>
                    <a:pt x="3663" y="981"/>
                  </a:lnTo>
                  <a:lnTo>
                    <a:pt x="3631" y="1002"/>
                  </a:lnTo>
                  <a:lnTo>
                    <a:pt x="3600" y="1012"/>
                  </a:lnTo>
                  <a:lnTo>
                    <a:pt x="3569" y="1033"/>
                  </a:lnTo>
                  <a:lnTo>
                    <a:pt x="3537" y="1064"/>
                  </a:lnTo>
                  <a:lnTo>
                    <a:pt x="3506" y="1085"/>
                  </a:lnTo>
                  <a:lnTo>
                    <a:pt x="3475" y="1106"/>
                  </a:lnTo>
                  <a:lnTo>
                    <a:pt x="3454" y="1137"/>
                  </a:lnTo>
                  <a:lnTo>
                    <a:pt x="3423" y="1158"/>
                  </a:lnTo>
                  <a:lnTo>
                    <a:pt x="3391" y="1179"/>
                  </a:lnTo>
                  <a:lnTo>
                    <a:pt x="3360" y="1190"/>
                  </a:lnTo>
                  <a:lnTo>
                    <a:pt x="3329" y="1200"/>
                  </a:lnTo>
                  <a:lnTo>
                    <a:pt x="3297" y="1221"/>
                  </a:lnTo>
                  <a:lnTo>
                    <a:pt x="3266" y="1252"/>
                  </a:lnTo>
                  <a:lnTo>
                    <a:pt x="3235" y="1273"/>
                  </a:lnTo>
                  <a:lnTo>
                    <a:pt x="3203" y="1283"/>
                  </a:lnTo>
                  <a:lnTo>
                    <a:pt x="3172" y="1294"/>
                  </a:lnTo>
                  <a:lnTo>
                    <a:pt x="3141" y="1304"/>
                  </a:lnTo>
                  <a:lnTo>
                    <a:pt x="3120" y="1336"/>
                  </a:lnTo>
                  <a:lnTo>
                    <a:pt x="3089" y="1357"/>
                  </a:lnTo>
                  <a:lnTo>
                    <a:pt x="3078" y="1388"/>
                  </a:lnTo>
                  <a:lnTo>
                    <a:pt x="3057" y="1419"/>
                  </a:lnTo>
                  <a:lnTo>
                    <a:pt x="3057" y="1450"/>
                  </a:lnTo>
                  <a:lnTo>
                    <a:pt x="3068" y="1482"/>
                  </a:lnTo>
                  <a:lnTo>
                    <a:pt x="3078" y="1513"/>
                  </a:lnTo>
                  <a:lnTo>
                    <a:pt x="3089" y="1544"/>
                  </a:lnTo>
                  <a:lnTo>
                    <a:pt x="3120" y="1565"/>
                  </a:lnTo>
                  <a:lnTo>
                    <a:pt x="3130" y="1597"/>
                  </a:lnTo>
                  <a:lnTo>
                    <a:pt x="3151" y="1628"/>
                  </a:lnTo>
                  <a:lnTo>
                    <a:pt x="3172" y="1659"/>
                  </a:lnTo>
                  <a:lnTo>
                    <a:pt x="3203" y="1690"/>
                  </a:lnTo>
                  <a:lnTo>
                    <a:pt x="3235" y="1711"/>
                  </a:lnTo>
                  <a:lnTo>
                    <a:pt x="3245" y="1743"/>
                  </a:lnTo>
                  <a:lnTo>
                    <a:pt x="3277" y="1763"/>
                  </a:lnTo>
                  <a:lnTo>
                    <a:pt x="3308" y="1763"/>
                  </a:lnTo>
                  <a:lnTo>
                    <a:pt x="3339" y="1763"/>
                  </a:lnTo>
                  <a:lnTo>
                    <a:pt x="3370" y="1763"/>
                  </a:lnTo>
                  <a:lnTo>
                    <a:pt x="3402" y="1763"/>
                  </a:lnTo>
                  <a:lnTo>
                    <a:pt x="3433" y="1753"/>
                  </a:lnTo>
                  <a:lnTo>
                    <a:pt x="3464" y="1743"/>
                  </a:lnTo>
                  <a:lnTo>
                    <a:pt x="3496" y="1743"/>
                  </a:lnTo>
                  <a:lnTo>
                    <a:pt x="3527" y="1743"/>
                  </a:lnTo>
                  <a:lnTo>
                    <a:pt x="3558" y="1753"/>
                  </a:lnTo>
                  <a:lnTo>
                    <a:pt x="3590" y="1763"/>
                  </a:lnTo>
                  <a:lnTo>
                    <a:pt x="3621" y="1774"/>
                  </a:lnTo>
                  <a:lnTo>
                    <a:pt x="3652" y="1774"/>
                  </a:lnTo>
                  <a:lnTo>
                    <a:pt x="3683" y="1774"/>
                  </a:lnTo>
                  <a:lnTo>
                    <a:pt x="3704" y="1743"/>
                  </a:lnTo>
                  <a:lnTo>
                    <a:pt x="3725" y="1711"/>
                  </a:lnTo>
                  <a:lnTo>
                    <a:pt x="3736" y="1680"/>
                  </a:lnTo>
                  <a:lnTo>
                    <a:pt x="3757" y="1649"/>
                  </a:lnTo>
                  <a:lnTo>
                    <a:pt x="3788" y="1628"/>
                  </a:lnTo>
                  <a:lnTo>
                    <a:pt x="3819" y="1617"/>
                  </a:lnTo>
                  <a:lnTo>
                    <a:pt x="3830" y="1649"/>
                  </a:lnTo>
                  <a:lnTo>
                    <a:pt x="3830" y="1680"/>
                  </a:lnTo>
                  <a:lnTo>
                    <a:pt x="3819" y="1711"/>
                  </a:lnTo>
                  <a:lnTo>
                    <a:pt x="3809" y="1743"/>
                  </a:lnTo>
                  <a:lnTo>
                    <a:pt x="3830" y="1774"/>
                  </a:lnTo>
                  <a:lnTo>
                    <a:pt x="3861" y="1795"/>
                  </a:lnTo>
                  <a:lnTo>
                    <a:pt x="3882" y="1826"/>
                  </a:lnTo>
                  <a:lnTo>
                    <a:pt x="3892" y="1857"/>
                  </a:lnTo>
                  <a:lnTo>
                    <a:pt x="3913" y="1889"/>
                  </a:lnTo>
                  <a:lnTo>
                    <a:pt x="3913" y="1920"/>
                  </a:lnTo>
                  <a:lnTo>
                    <a:pt x="3913" y="1951"/>
                  </a:lnTo>
                  <a:lnTo>
                    <a:pt x="3903" y="1983"/>
                  </a:lnTo>
                  <a:lnTo>
                    <a:pt x="3903" y="2014"/>
                  </a:lnTo>
                  <a:lnTo>
                    <a:pt x="3903" y="2045"/>
                  </a:lnTo>
                  <a:lnTo>
                    <a:pt x="3882" y="2077"/>
                  </a:lnTo>
                  <a:lnTo>
                    <a:pt x="3850" y="2097"/>
                  </a:lnTo>
                  <a:lnTo>
                    <a:pt x="3819" y="2118"/>
                  </a:lnTo>
                  <a:lnTo>
                    <a:pt x="3788" y="2150"/>
                  </a:lnTo>
                  <a:lnTo>
                    <a:pt x="3757" y="2170"/>
                  </a:lnTo>
                  <a:lnTo>
                    <a:pt x="3725" y="2191"/>
                  </a:lnTo>
                  <a:lnTo>
                    <a:pt x="3694" y="2212"/>
                  </a:lnTo>
                  <a:lnTo>
                    <a:pt x="3663" y="2233"/>
                  </a:lnTo>
                  <a:lnTo>
                    <a:pt x="3631" y="2264"/>
                  </a:lnTo>
                  <a:lnTo>
                    <a:pt x="3600" y="2285"/>
                  </a:lnTo>
                  <a:lnTo>
                    <a:pt x="3590" y="2317"/>
                  </a:lnTo>
                  <a:lnTo>
                    <a:pt x="3569" y="2348"/>
                  </a:lnTo>
                  <a:lnTo>
                    <a:pt x="3548" y="2379"/>
                  </a:lnTo>
                  <a:lnTo>
                    <a:pt x="3527" y="2410"/>
                  </a:lnTo>
                  <a:lnTo>
                    <a:pt x="3506" y="2442"/>
                  </a:lnTo>
                  <a:lnTo>
                    <a:pt x="3485" y="2473"/>
                  </a:lnTo>
                  <a:lnTo>
                    <a:pt x="3475" y="2504"/>
                  </a:lnTo>
                  <a:lnTo>
                    <a:pt x="3443" y="2515"/>
                  </a:lnTo>
                  <a:lnTo>
                    <a:pt x="3412" y="2515"/>
                  </a:lnTo>
                  <a:lnTo>
                    <a:pt x="3381" y="2515"/>
                  </a:lnTo>
                  <a:lnTo>
                    <a:pt x="3350" y="2515"/>
                  </a:lnTo>
                  <a:lnTo>
                    <a:pt x="3318" y="2504"/>
                  </a:lnTo>
                  <a:lnTo>
                    <a:pt x="3287" y="2504"/>
                  </a:lnTo>
                  <a:lnTo>
                    <a:pt x="3256" y="2483"/>
                  </a:lnTo>
                  <a:lnTo>
                    <a:pt x="3224" y="2463"/>
                  </a:lnTo>
                  <a:lnTo>
                    <a:pt x="3193" y="2442"/>
                  </a:lnTo>
                  <a:lnTo>
                    <a:pt x="3162" y="2442"/>
                  </a:lnTo>
                  <a:lnTo>
                    <a:pt x="3130" y="2442"/>
                  </a:lnTo>
                  <a:lnTo>
                    <a:pt x="3099" y="2442"/>
                  </a:lnTo>
                  <a:lnTo>
                    <a:pt x="3068" y="2452"/>
                  </a:lnTo>
                  <a:lnTo>
                    <a:pt x="3047" y="2483"/>
                  </a:lnTo>
                  <a:lnTo>
                    <a:pt x="3016" y="2504"/>
                  </a:lnTo>
                  <a:lnTo>
                    <a:pt x="2984" y="2504"/>
                  </a:lnTo>
                  <a:lnTo>
                    <a:pt x="2901" y="2504"/>
                  </a:lnTo>
                  <a:lnTo>
                    <a:pt x="2870" y="2504"/>
                  </a:lnTo>
                  <a:lnTo>
                    <a:pt x="2838" y="2504"/>
                  </a:lnTo>
                  <a:lnTo>
                    <a:pt x="2807" y="2504"/>
                  </a:lnTo>
                  <a:lnTo>
                    <a:pt x="2776" y="2504"/>
                  </a:lnTo>
                  <a:lnTo>
                    <a:pt x="2744" y="2494"/>
                  </a:lnTo>
                  <a:lnTo>
                    <a:pt x="2713" y="2483"/>
                  </a:lnTo>
                  <a:lnTo>
                    <a:pt x="2682" y="2452"/>
                  </a:lnTo>
                  <a:lnTo>
                    <a:pt x="2650" y="2431"/>
                  </a:lnTo>
                  <a:lnTo>
                    <a:pt x="2619" y="2410"/>
                  </a:lnTo>
                  <a:lnTo>
                    <a:pt x="2588" y="2410"/>
                  </a:lnTo>
                  <a:lnTo>
                    <a:pt x="2557" y="2400"/>
                  </a:lnTo>
                  <a:lnTo>
                    <a:pt x="2525" y="2400"/>
                  </a:lnTo>
                  <a:lnTo>
                    <a:pt x="2494" y="2400"/>
                  </a:lnTo>
                  <a:lnTo>
                    <a:pt x="2463" y="2400"/>
                  </a:lnTo>
                  <a:lnTo>
                    <a:pt x="2379" y="2400"/>
                  </a:lnTo>
                  <a:lnTo>
                    <a:pt x="2348" y="2400"/>
                  </a:lnTo>
                  <a:lnTo>
                    <a:pt x="2317" y="2400"/>
                  </a:lnTo>
                  <a:lnTo>
                    <a:pt x="2285" y="2400"/>
                  </a:lnTo>
                  <a:lnTo>
                    <a:pt x="2254" y="2400"/>
                  </a:lnTo>
                  <a:lnTo>
                    <a:pt x="2223" y="2400"/>
                  </a:lnTo>
                  <a:lnTo>
                    <a:pt x="2191" y="2410"/>
                  </a:lnTo>
                  <a:lnTo>
                    <a:pt x="2160" y="2410"/>
                  </a:lnTo>
                  <a:lnTo>
                    <a:pt x="2129" y="2421"/>
                  </a:lnTo>
                  <a:lnTo>
                    <a:pt x="2097" y="2431"/>
                  </a:lnTo>
                  <a:lnTo>
                    <a:pt x="2087" y="2463"/>
                  </a:lnTo>
                  <a:lnTo>
                    <a:pt x="2087" y="2494"/>
                  </a:lnTo>
                  <a:lnTo>
                    <a:pt x="2087" y="2525"/>
                  </a:lnTo>
                  <a:lnTo>
                    <a:pt x="2087" y="2557"/>
                  </a:lnTo>
                  <a:lnTo>
                    <a:pt x="2056" y="2577"/>
                  </a:lnTo>
                  <a:lnTo>
                    <a:pt x="2024" y="2567"/>
                  </a:lnTo>
                  <a:lnTo>
                    <a:pt x="1993" y="2546"/>
                  </a:lnTo>
                  <a:lnTo>
                    <a:pt x="1972" y="2515"/>
                  </a:lnTo>
                  <a:lnTo>
                    <a:pt x="1951" y="2483"/>
                  </a:lnTo>
                  <a:lnTo>
                    <a:pt x="1920" y="2452"/>
                  </a:lnTo>
                  <a:lnTo>
                    <a:pt x="1889" y="2431"/>
                  </a:lnTo>
                  <a:lnTo>
                    <a:pt x="1857" y="2410"/>
                  </a:lnTo>
                  <a:lnTo>
                    <a:pt x="1826" y="2390"/>
                  </a:lnTo>
                  <a:lnTo>
                    <a:pt x="1805" y="2358"/>
                  </a:lnTo>
                  <a:lnTo>
                    <a:pt x="1774" y="2337"/>
                  </a:lnTo>
                  <a:lnTo>
                    <a:pt x="1743" y="2306"/>
                  </a:lnTo>
                  <a:lnTo>
                    <a:pt x="1722" y="2275"/>
                  </a:lnTo>
                  <a:lnTo>
                    <a:pt x="1690" y="2264"/>
                  </a:lnTo>
                  <a:lnTo>
                    <a:pt x="1659" y="2254"/>
                  </a:lnTo>
                  <a:lnTo>
                    <a:pt x="1628" y="2254"/>
                  </a:lnTo>
                  <a:lnTo>
                    <a:pt x="1597" y="2254"/>
                  </a:lnTo>
                  <a:lnTo>
                    <a:pt x="1513" y="2254"/>
                  </a:lnTo>
                  <a:lnTo>
                    <a:pt x="1482" y="2233"/>
                  </a:lnTo>
                  <a:lnTo>
                    <a:pt x="1471" y="2202"/>
                  </a:lnTo>
                  <a:lnTo>
                    <a:pt x="1471" y="2170"/>
                  </a:lnTo>
                  <a:lnTo>
                    <a:pt x="1461" y="2139"/>
                  </a:lnTo>
                  <a:lnTo>
                    <a:pt x="1461" y="2108"/>
                  </a:lnTo>
                  <a:lnTo>
                    <a:pt x="1461" y="2077"/>
                  </a:lnTo>
                  <a:lnTo>
                    <a:pt x="1461" y="2045"/>
                  </a:lnTo>
                  <a:lnTo>
                    <a:pt x="1461" y="2014"/>
                  </a:lnTo>
                  <a:lnTo>
                    <a:pt x="1461" y="1983"/>
                  </a:lnTo>
                  <a:lnTo>
                    <a:pt x="1461" y="1951"/>
                  </a:lnTo>
                  <a:lnTo>
                    <a:pt x="1450" y="1920"/>
                  </a:lnTo>
                  <a:lnTo>
                    <a:pt x="1440" y="1889"/>
                  </a:lnTo>
                  <a:lnTo>
                    <a:pt x="1440" y="1857"/>
                  </a:lnTo>
                  <a:lnTo>
                    <a:pt x="1419" y="1826"/>
                  </a:lnTo>
                  <a:lnTo>
                    <a:pt x="1388" y="1805"/>
                  </a:lnTo>
                  <a:lnTo>
                    <a:pt x="1357" y="1805"/>
                  </a:lnTo>
                  <a:lnTo>
                    <a:pt x="1325" y="1805"/>
                  </a:lnTo>
                  <a:lnTo>
                    <a:pt x="1294" y="1805"/>
                  </a:lnTo>
                  <a:lnTo>
                    <a:pt x="1210" y="1805"/>
                  </a:lnTo>
                  <a:lnTo>
                    <a:pt x="1179" y="1816"/>
                  </a:lnTo>
                  <a:lnTo>
                    <a:pt x="1096" y="1816"/>
                  </a:lnTo>
                  <a:lnTo>
                    <a:pt x="1064" y="1826"/>
                  </a:lnTo>
                  <a:lnTo>
                    <a:pt x="1033" y="1826"/>
                  </a:lnTo>
                  <a:lnTo>
                    <a:pt x="1002" y="1826"/>
                  </a:lnTo>
                  <a:lnTo>
                    <a:pt x="970" y="1826"/>
                  </a:lnTo>
                  <a:lnTo>
                    <a:pt x="939" y="1826"/>
                  </a:lnTo>
                  <a:lnTo>
                    <a:pt x="908" y="1805"/>
                  </a:lnTo>
                  <a:lnTo>
                    <a:pt x="877" y="1784"/>
                  </a:lnTo>
                  <a:lnTo>
                    <a:pt x="845" y="1763"/>
                  </a:lnTo>
                  <a:lnTo>
                    <a:pt x="814" y="1732"/>
                  </a:lnTo>
                  <a:lnTo>
                    <a:pt x="783" y="1722"/>
                  </a:lnTo>
                  <a:lnTo>
                    <a:pt x="751" y="1711"/>
                  </a:lnTo>
                  <a:lnTo>
                    <a:pt x="678" y="1701"/>
                  </a:lnTo>
                  <a:lnTo>
                    <a:pt x="605" y="1701"/>
                  </a:lnTo>
                  <a:lnTo>
                    <a:pt x="522" y="1690"/>
                  </a:lnTo>
                  <a:lnTo>
                    <a:pt x="490" y="1680"/>
                  </a:lnTo>
                  <a:lnTo>
                    <a:pt x="459" y="1680"/>
                  </a:lnTo>
                  <a:lnTo>
                    <a:pt x="428" y="1649"/>
                  </a:lnTo>
                  <a:lnTo>
                    <a:pt x="407" y="1617"/>
                  </a:lnTo>
                  <a:lnTo>
                    <a:pt x="376" y="1597"/>
                  </a:lnTo>
                  <a:lnTo>
                    <a:pt x="344" y="1576"/>
                  </a:lnTo>
                  <a:lnTo>
                    <a:pt x="313" y="1576"/>
                  </a:lnTo>
                  <a:lnTo>
                    <a:pt x="282" y="1576"/>
                  </a:lnTo>
                  <a:lnTo>
                    <a:pt x="209" y="1576"/>
                  </a:lnTo>
                  <a:lnTo>
                    <a:pt x="177" y="1586"/>
                  </a:lnTo>
                  <a:lnTo>
                    <a:pt x="146" y="1597"/>
                  </a:lnTo>
                  <a:lnTo>
                    <a:pt x="125" y="1628"/>
                  </a:lnTo>
                  <a:lnTo>
                    <a:pt x="104" y="1659"/>
                  </a:lnTo>
                  <a:lnTo>
                    <a:pt x="73" y="1690"/>
                  </a:lnTo>
                  <a:lnTo>
                    <a:pt x="52" y="1722"/>
                  </a:lnTo>
                  <a:lnTo>
                    <a:pt x="21" y="1743"/>
                  </a:lnTo>
                  <a:lnTo>
                    <a:pt x="0" y="1774"/>
                  </a:lnTo>
                  <a:lnTo>
                    <a:pt x="0" y="1743"/>
                  </a:lnTo>
                  <a:lnTo>
                    <a:pt x="0" y="1711"/>
                  </a:lnTo>
                  <a:lnTo>
                    <a:pt x="0" y="1680"/>
                  </a:lnTo>
                  <a:lnTo>
                    <a:pt x="0" y="1649"/>
                  </a:lnTo>
                  <a:lnTo>
                    <a:pt x="0" y="1617"/>
                  </a:lnTo>
                  <a:lnTo>
                    <a:pt x="0" y="1534"/>
                  </a:lnTo>
                  <a:lnTo>
                    <a:pt x="0" y="1440"/>
                  </a:lnTo>
                  <a:lnTo>
                    <a:pt x="0" y="1357"/>
                  </a:lnTo>
                  <a:lnTo>
                    <a:pt x="0" y="1263"/>
                  </a:lnTo>
                  <a:lnTo>
                    <a:pt x="0" y="1169"/>
                  </a:lnTo>
                  <a:lnTo>
                    <a:pt x="0" y="1075"/>
                  </a:lnTo>
                  <a:lnTo>
                    <a:pt x="0" y="1043"/>
                  </a:lnTo>
                  <a:lnTo>
                    <a:pt x="0" y="1012"/>
                  </a:lnTo>
                  <a:lnTo>
                    <a:pt x="0" y="981"/>
                  </a:lnTo>
                  <a:lnTo>
                    <a:pt x="0" y="908"/>
                  </a:lnTo>
                  <a:lnTo>
                    <a:pt x="0" y="814"/>
                  </a:lnTo>
                  <a:lnTo>
                    <a:pt x="0" y="730"/>
                  </a:lnTo>
                  <a:lnTo>
                    <a:pt x="0" y="657"/>
                  </a:lnTo>
                  <a:lnTo>
                    <a:pt x="0" y="584"/>
                  </a:lnTo>
                  <a:lnTo>
                    <a:pt x="0" y="501"/>
                  </a:lnTo>
                  <a:lnTo>
                    <a:pt x="0" y="417"/>
                  </a:lnTo>
                  <a:lnTo>
                    <a:pt x="0" y="323"/>
                  </a:lnTo>
                  <a:lnTo>
                    <a:pt x="0" y="230"/>
                  </a:lnTo>
                  <a:lnTo>
                    <a:pt x="0" y="136"/>
                  </a:lnTo>
                  <a:lnTo>
                    <a:pt x="0" y="104"/>
                  </a:lnTo>
                  <a:lnTo>
                    <a:pt x="0" y="73"/>
                  </a:lnTo>
                  <a:lnTo>
                    <a:pt x="0" y="42"/>
                  </a:lnTo>
                  <a:lnTo>
                    <a:pt x="31" y="21"/>
                  </a:lnTo>
                  <a:lnTo>
                    <a:pt x="63" y="21"/>
                  </a:lnTo>
                  <a:lnTo>
                    <a:pt x="94" y="21"/>
                  </a:lnTo>
                  <a:lnTo>
                    <a:pt x="125" y="21"/>
                  </a:lnTo>
                  <a:lnTo>
                    <a:pt x="157" y="21"/>
                  </a:lnTo>
                  <a:lnTo>
                    <a:pt x="240" y="21"/>
                  </a:lnTo>
                  <a:lnTo>
                    <a:pt x="313" y="21"/>
                  </a:lnTo>
                  <a:lnTo>
                    <a:pt x="397" y="21"/>
                  </a:lnTo>
                  <a:lnTo>
                    <a:pt x="490" y="21"/>
                  </a:lnTo>
                  <a:lnTo>
                    <a:pt x="563" y="21"/>
                  </a:lnTo>
                  <a:lnTo>
                    <a:pt x="647" y="21"/>
                  </a:lnTo>
                  <a:lnTo>
                    <a:pt x="720" y="21"/>
                  </a:lnTo>
                  <a:lnTo>
                    <a:pt x="751" y="21"/>
                  </a:lnTo>
                  <a:lnTo>
                    <a:pt x="783" y="21"/>
                  </a:lnTo>
                  <a:lnTo>
                    <a:pt x="720"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5614920" y="4076640"/>
              <a:ext cx="168120" cy="203400"/>
            </a:xfrm>
            <a:custGeom>
              <a:avLst/>
              <a:gdLst/>
              <a:ahLst/>
              <a:rect l="l" t="t" r="r" b="b"/>
              <a:pathLst>
                <a:path w="106" h="128">
                  <a:moveTo>
                    <a:pt x="92" y="0"/>
                  </a:moveTo>
                  <a:lnTo>
                    <a:pt x="52" y="23"/>
                  </a:lnTo>
                  <a:lnTo>
                    <a:pt x="21" y="33"/>
                  </a:lnTo>
                  <a:lnTo>
                    <a:pt x="0" y="65"/>
                  </a:lnTo>
                  <a:lnTo>
                    <a:pt x="11" y="96"/>
                  </a:lnTo>
                  <a:lnTo>
                    <a:pt x="21" y="127"/>
                  </a:lnTo>
                  <a:lnTo>
                    <a:pt x="52" y="127"/>
                  </a:lnTo>
                  <a:lnTo>
                    <a:pt x="73" y="96"/>
                  </a:lnTo>
                  <a:lnTo>
                    <a:pt x="94" y="65"/>
                  </a:lnTo>
                  <a:lnTo>
                    <a:pt x="94" y="33"/>
                  </a:lnTo>
                  <a:lnTo>
                    <a:pt x="105" y="2"/>
                  </a:lnTo>
                  <a:lnTo>
                    <a:pt x="92" y="0"/>
                  </a:lnTo>
                </a:path>
              </a:pathLst>
            </a:custGeom>
            <a:solidFill>
              <a:srgbClr val="438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5704920" y="389088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ah</a:t>
              </a:r>
              <a:endParaRPr b="0" lang="en-US" sz="2400" spc="-1" strike="noStrike">
                <a:solidFill>
                  <a:srgbClr val="ffffff"/>
                </a:solidFill>
                <a:latin typeface="Times New Roman"/>
              </a:endParaRPr>
            </a:p>
          </p:txBody>
        </p:sp>
        <p:sp>
          <p:nvSpPr>
            <p:cNvPr id="720" name=""/>
            <p:cNvSpPr/>
            <p:nvPr/>
          </p:nvSpPr>
          <p:spPr>
            <a:xfrm>
              <a:off x="5234040" y="2459160"/>
              <a:ext cx="2651040" cy="3263760"/>
            </a:xfrm>
            <a:custGeom>
              <a:avLst/>
              <a:gdLst/>
              <a:ahLst/>
              <a:rect l="l" t="t" r="r" b="b"/>
              <a:pathLst>
                <a:path w="1670" h="2056">
                  <a:moveTo>
                    <a:pt x="83" y="1139"/>
                  </a:moveTo>
                  <a:lnTo>
                    <a:pt x="104" y="1179"/>
                  </a:lnTo>
                  <a:lnTo>
                    <a:pt x="114" y="1210"/>
                  </a:lnTo>
                  <a:lnTo>
                    <a:pt x="83" y="1220"/>
                  </a:lnTo>
                  <a:lnTo>
                    <a:pt x="52" y="1231"/>
                  </a:lnTo>
                  <a:lnTo>
                    <a:pt x="20" y="1241"/>
                  </a:lnTo>
                  <a:lnTo>
                    <a:pt x="0" y="1273"/>
                  </a:lnTo>
                  <a:lnTo>
                    <a:pt x="10" y="1304"/>
                  </a:lnTo>
                  <a:lnTo>
                    <a:pt x="31" y="1335"/>
                  </a:lnTo>
                  <a:lnTo>
                    <a:pt x="52" y="1366"/>
                  </a:lnTo>
                  <a:lnTo>
                    <a:pt x="83" y="1398"/>
                  </a:lnTo>
                  <a:lnTo>
                    <a:pt x="104" y="1429"/>
                  </a:lnTo>
                  <a:lnTo>
                    <a:pt x="135" y="1460"/>
                  </a:lnTo>
                  <a:lnTo>
                    <a:pt x="156" y="1492"/>
                  </a:lnTo>
                  <a:lnTo>
                    <a:pt x="177" y="1523"/>
                  </a:lnTo>
                  <a:lnTo>
                    <a:pt x="187" y="1554"/>
                  </a:lnTo>
                  <a:lnTo>
                    <a:pt x="208" y="1586"/>
                  </a:lnTo>
                  <a:lnTo>
                    <a:pt x="229" y="1617"/>
                  </a:lnTo>
                  <a:lnTo>
                    <a:pt x="250" y="1648"/>
                  </a:lnTo>
                  <a:lnTo>
                    <a:pt x="281" y="1669"/>
                  </a:lnTo>
                  <a:lnTo>
                    <a:pt x="302" y="1700"/>
                  </a:lnTo>
                  <a:lnTo>
                    <a:pt x="333" y="1721"/>
                  </a:lnTo>
                  <a:lnTo>
                    <a:pt x="344" y="1753"/>
                  </a:lnTo>
                  <a:lnTo>
                    <a:pt x="365" y="1784"/>
                  </a:lnTo>
                  <a:lnTo>
                    <a:pt x="386" y="1815"/>
                  </a:lnTo>
                  <a:lnTo>
                    <a:pt x="406" y="1846"/>
                  </a:lnTo>
                  <a:lnTo>
                    <a:pt x="427" y="1878"/>
                  </a:lnTo>
                  <a:lnTo>
                    <a:pt x="448" y="1909"/>
                  </a:lnTo>
                  <a:lnTo>
                    <a:pt x="469" y="1940"/>
                  </a:lnTo>
                  <a:lnTo>
                    <a:pt x="500" y="1972"/>
                  </a:lnTo>
                  <a:lnTo>
                    <a:pt x="521" y="2003"/>
                  </a:lnTo>
                  <a:lnTo>
                    <a:pt x="542" y="2034"/>
                  </a:lnTo>
                  <a:lnTo>
                    <a:pt x="573" y="2055"/>
                  </a:lnTo>
                  <a:lnTo>
                    <a:pt x="605" y="2055"/>
                  </a:lnTo>
                  <a:lnTo>
                    <a:pt x="636" y="2034"/>
                  </a:lnTo>
                  <a:lnTo>
                    <a:pt x="667" y="2013"/>
                  </a:lnTo>
                  <a:lnTo>
                    <a:pt x="699" y="2003"/>
                  </a:lnTo>
                  <a:lnTo>
                    <a:pt x="730" y="2003"/>
                  </a:lnTo>
                  <a:lnTo>
                    <a:pt x="761" y="1993"/>
                  </a:lnTo>
                  <a:lnTo>
                    <a:pt x="793" y="1982"/>
                  </a:lnTo>
                  <a:lnTo>
                    <a:pt x="824" y="1972"/>
                  </a:lnTo>
                  <a:lnTo>
                    <a:pt x="855" y="1961"/>
                  </a:lnTo>
                  <a:lnTo>
                    <a:pt x="886" y="1951"/>
                  </a:lnTo>
                  <a:lnTo>
                    <a:pt x="918" y="1940"/>
                  </a:lnTo>
                  <a:lnTo>
                    <a:pt x="949" y="1930"/>
                  </a:lnTo>
                  <a:lnTo>
                    <a:pt x="980" y="1930"/>
                  </a:lnTo>
                  <a:lnTo>
                    <a:pt x="1012" y="1920"/>
                  </a:lnTo>
                  <a:lnTo>
                    <a:pt x="1043" y="1909"/>
                  </a:lnTo>
                  <a:lnTo>
                    <a:pt x="1074" y="1899"/>
                  </a:lnTo>
                  <a:lnTo>
                    <a:pt x="1106" y="1888"/>
                  </a:lnTo>
                  <a:lnTo>
                    <a:pt x="1137" y="1878"/>
                  </a:lnTo>
                  <a:lnTo>
                    <a:pt x="1168" y="1867"/>
                  </a:lnTo>
                  <a:lnTo>
                    <a:pt x="1200" y="1857"/>
                  </a:lnTo>
                  <a:lnTo>
                    <a:pt x="1231" y="1836"/>
                  </a:lnTo>
                  <a:lnTo>
                    <a:pt x="1325" y="1815"/>
                  </a:lnTo>
                  <a:lnTo>
                    <a:pt x="1356" y="1805"/>
                  </a:lnTo>
                  <a:lnTo>
                    <a:pt x="1387" y="1784"/>
                  </a:lnTo>
                  <a:lnTo>
                    <a:pt x="1419" y="1763"/>
                  </a:lnTo>
                  <a:lnTo>
                    <a:pt x="1440" y="1732"/>
                  </a:lnTo>
                  <a:lnTo>
                    <a:pt x="1471" y="1711"/>
                  </a:lnTo>
                  <a:lnTo>
                    <a:pt x="1502" y="1690"/>
                  </a:lnTo>
                  <a:lnTo>
                    <a:pt x="1533" y="1680"/>
                  </a:lnTo>
                  <a:lnTo>
                    <a:pt x="1565" y="1659"/>
                  </a:lnTo>
                  <a:lnTo>
                    <a:pt x="1596" y="1648"/>
                  </a:lnTo>
                  <a:lnTo>
                    <a:pt x="1627" y="1627"/>
                  </a:lnTo>
                  <a:lnTo>
                    <a:pt x="1659" y="1596"/>
                  </a:lnTo>
                  <a:lnTo>
                    <a:pt x="1669" y="1565"/>
                  </a:lnTo>
                  <a:lnTo>
                    <a:pt x="1659" y="1533"/>
                  </a:lnTo>
                  <a:lnTo>
                    <a:pt x="1638" y="1502"/>
                  </a:lnTo>
                  <a:lnTo>
                    <a:pt x="1617" y="1471"/>
                  </a:lnTo>
                  <a:lnTo>
                    <a:pt x="1617" y="1440"/>
                  </a:lnTo>
                  <a:lnTo>
                    <a:pt x="1606" y="1408"/>
                  </a:lnTo>
                  <a:lnTo>
                    <a:pt x="1586" y="1377"/>
                  </a:lnTo>
                  <a:lnTo>
                    <a:pt x="1586" y="1346"/>
                  </a:lnTo>
                  <a:lnTo>
                    <a:pt x="1586" y="1314"/>
                  </a:lnTo>
                  <a:lnTo>
                    <a:pt x="1575" y="1283"/>
                  </a:lnTo>
                  <a:lnTo>
                    <a:pt x="1565" y="1210"/>
                  </a:lnTo>
                  <a:lnTo>
                    <a:pt x="1554" y="1179"/>
                  </a:lnTo>
                  <a:lnTo>
                    <a:pt x="1544" y="1147"/>
                  </a:lnTo>
                  <a:lnTo>
                    <a:pt x="1533" y="1116"/>
                  </a:lnTo>
                  <a:lnTo>
                    <a:pt x="1513" y="1085"/>
                  </a:lnTo>
                  <a:lnTo>
                    <a:pt x="1502" y="1053"/>
                  </a:lnTo>
                  <a:lnTo>
                    <a:pt x="1492" y="960"/>
                  </a:lnTo>
                  <a:lnTo>
                    <a:pt x="1481" y="928"/>
                  </a:lnTo>
                  <a:lnTo>
                    <a:pt x="1471" y="897"/>
                  </a:lnTo>
                  <a:lnTo>
                    <a:pt x="1460" y="866"/>
                  </a:lnTo>
                  <a:lnTo>
                    <a:pt x="1450" y="834"/>
                  </a:lnTo>
                  <a:lnTo>
                    <a:pt x="1440" y="803"/>
                  </a:lnTo>
                  <a:lnTo>
                    <a:pt x="1419" y="709"/>
                  </a:lnTo>
                  <a:lnTo>
                    <a:pt x="1408" y="615"/>
                  </a:lnTo>
                  <a:lnTo>
                    <a:pt x="1387" y="584"/>
                  </a:lnTo>
                  <a:lnTo>
                    <a:pt x="1356" y="553"/>
                  </a:lnTo>
                  <a:lnTo>
                    <a:pt x="1356" y="480"/>
                  </a:lnTo>
                  <a:lnTo>
                    <a:pt x="1325" y="459"/>
                  </a:lnTo>
                  <a:lnTo>
                    <a:pt x="1304" y="427"/>
                  </a:lnTo>
                  <a:lnTo>
                    <a:pt x="1283" y="396"/>
                  </a:lnTo>
                  <a:lnTo>
                    <a:pt x="1252" y="375"/>
                  </a:lnTo>
                  <a:lnTo>
                    <a:pt x="1231" y="344"/>
                  </a:lnTo>
                  <a:lnTo>
                    <a:pt x="1210" y="313"/>
                  </a:lnTo>
                  <a:lnTo>
                    <a:pt x="1179" y="281"/>
                  </a:lnTo>
                  <a:lnTo>
                    <a:pt x="1106" y="260"/>
                  </a:lnTo>
                  <a:lnTo>
                    <a:pt x="1095" y="187"/>
                  </a:lnTo>
                  <a:lnTo>
                    <a:pt x="1074" y="104"/>
                  </a:lnTo>
                  <a:lnTo>
                    <a:pt x="1001" y="93"/>
                  </a:lnTo>
                  <a:lnTo>
                    <a:pt x="980" y="62"/>
                  </a:lnTo>
                  <a:lnTo>
                    <a:pt x="949" y="31"/>
                  </a:lnTo>
                  <a:lnTo>
                    <a:pt x="918" y="10"/>
                  </a:lnTo>
                  <a:lnTo>
                    <a:pt x="886" y="10"/>
                  </a:lnTo>
                  <a:lnTo>
                    <a:pt x="855" y="0"/>
                  </a:lnTo>
                  <a:lnTo>
                    <a:pt x="824" y="0"/>
                  </a:lnTo>
                  <a:lnTo>
                    <a:pt x="793" y="10"/>
                  </a:lnTo>
                  <a:lnTo>
                    <a:pt x="761" y="10"/>
                  </a:lnTo>
                  <a:lnTo>
                    <a:pt x="730" y="10"/>
                  </a:lnTo>
                  <a:lnTo>
                    <a:pt x="699" y="20"/>
                  </a:lnTo>
                  <a:lnTo>
                    <a:pt x="667" y="31"/>
                  </a:lnTo>
                  <a:lnTo>
                    <a:pt x="636" y="31"/>
                  </a:lnTo>
                  <a:lnTo>
                    <a:pt x="605" y="52"/>
                  </a:lnTo>
                  <a:lnTo>
                    <a:pt x="573" y="83"/>
                  </a:lnTo>
                  <a:lnTo>
                    <a:pt x="542" y="104"/>
                  </a:lnTo>
                  <a:lnTo>
                    <a:pt x="511" y="125"/>
                  </a:lnTo>
                  <a:lnTo>
                    <a:pt x="480" y="156"/>
                  </a:lnTo>
                  <a:lnTo>
                    <a:pt x="448" y="187"/>
                  </a:lnTo>
                  <a:lnTo>
                    <a:pt x="417" y="208"/>
                  </a:lnTo>
                  <a:lnTo>
                    <a:pt x="396" y="240"/>
                  </a:lnTo>
                  <a:lnTo>
                    <a:pt x="365" y="271"/>
                  </a:lnTo>
                  <a:lnTo>
                    <a:pt x="333" y="292"/>
                  </a:lnTo>
                  <a:lnTo>
                    <a:pt x="313" y="323"/>
                  </a:lnTo>
                  <a:lnTo>
                    <a:pt x="292" y="354"/>
                  </a:lnTo>
                  <a:lnTo>
                    <a:pt x="271" y="386"/>
                  </a:lnTo>
                  <a:lnTo>
                    <a:pt x="260" y="417"/>
                  </a:lnTo>
                  <a:lnTo>
                    <a:pt x="250" y="448"/>
                  </a:lnTo>
                  <a:lnTo>
                    <a:pt x="240" y="480"/>
                  </a:lnTo>
                  <a:lnTo>
                    <a:pt x="271" y="490"/>
                  </a:lnTo>
                  <a:lnTo>
                    <a:pt x="302" y="490"/>
                  </a:lnTo>
                  <a:lnTo>
                    <a:pt x="333" y="500"/>
                  </a:lnTo>
                  <a:lnTo>
                    <a:pt x="365" y="511"/>
                  </a:lnTo>
                  <a:lnTo>
                    <a:pt x="396" y="511"/>
                  </a:lnTo>
                  <a:lnTo>
                    <a:pt x="427" y="511"/>
                  </a:lnTo>
                  <a:lnTo>
                    <a:pt x="459" y="521"/>
                  </a:lnTo>
                  <a:lnTo>
                    <a:pt x="490" y="542"/>
                  </a:lnTo>
                  <a:lnTo>
                    <a:pt x="490" y="573"/>
                  </a:lnTo>
                  <a:lnTo>
                    <a:pt x="469" y="605"/>
                  </a:lnTo>
                  <a:lnTo>
                    <a:pt x="448" y="636"/>
                  </a:lnTo>
                  <a:lnTo>
                    <a:pt x="417" y="646"/>
                  </a:lnTo>
                  <a:lnTo>
                    <a:pt x="386" y="667"/>
                  </a:lnTo>
                  <a:lnTo>
                    <a:pt x="354" y="688"/>
                  </a:lnTo>
                  <a:lnTo>
                    <a:pt x="323" y="699"/>
                  </a:lnTo>
                  <a:lnTo>
                    <a:pt x="292" y="720"/>
                  </a:lnTo>
                  <a:lnTo>
                    <a:pt x="260" y="740"/>
                  </a:lnTo>
                  <a:lnTo>
                    <a:pt x="229" y="772"/>
                  </a:lnTo>
                  <a:lnTo>
                    <a:pt x="208" y="803"/>
                  </a:lnTo>
                  <a:lnTo>
                    <a:pt x="187" y="834"/>
                  </a:lnTo>
                  <a:lnTo>
                    <a:pt x="156" y="855"/>
                  </a:lnTo>
                  <a:lnTo>
                    <a:pt x="146" y="886"/>
                  </a:lnTo>
                  <a:lnTo>
                    <a:pt x="114" y="918"/>
                  </a:lnTo>
                  <a:lnTo>
                    <a:pt x="93" y="949"/>
                  </a:lnTo>
                  <a:lnTo>
                    <a:pt x="83" y="980"/>
                  </a:lnTo>
                  <a:lnTo>
                    <a:pt x="83" y="1012"/>
                  </a:lnTo>
                  <a:lnTo>
                    <a:pt x="73" y="1043"/>
                  </a:lnTo>
                  <a:lnTo>
                    <a:pt x="62" y="1074"/>
                  </a:lnTo>
                  <a:lnTo>
                    <a:pt x="52" y="1106"/>
                  </a:lnTo>
                  <a:lnTo>
                    <a:pt x="83" y="1139"/>
                  </a:lnTo>
                </a:path>
              </a:pathLst>
            </a:custGeom>
            <a:noFill/>
            <a:ln cap="rnd"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656320" y="4238640"/>
              <a:ext cx="2070000" cy="9169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Narrow"/>
                </a:rPr>
                <a:t>Babylonian Empire</a:t>
              </a:r>
              <a:endParaRPr b="0" lang="en-US" sz="3200" spc="-1" strike="noStrike">
                <a:solidFill>
                  <a:srgbClr val="ffffff"/>
                </a:solidFill>
                <a:latin typeface="Times New Roman"/>
              </a:endParaRPr>
            </a:p>
          </p:txBody>
        </p:sp>
        <p:sp>
          <p:nvSpPr>
            <p:cNvPr id="722" name=""/>
            <p:cNvSpPr/>
            <p:nvPr/>
          </p:nvSpPr>
          <p:spPr>
            <a:xfrm>
              <a:off x="6939000" y="785880"/>
              <a:ext cx="946080" cy="1342800"/>
            </a:xfrm>
            <a:custGeom>
              <a:avLst/>
              <a:gdLst/>
              <a:ahLst/>
              <a:rect l="l" t="t" r="r" b="b"/>
              <a:pathLst>
                <a:path w="596" h="846">
                  <a:moveTo>
                    <a:pt x="209" y="33"/>
                  </a:moveTo>
                  <a:lnTo>
                    <a:pt x="178" y="62"/>
                  </a:lnTo>
                  <a:lnTo>
                    <a:pt x="146" y="83"/>
                  </a:lnTo>
                  <a:lnTo>
                    <a:pt x="115" y="104"/>
                  </a:lnTo>
                  <a:lnTo>
                    <a:pt x="84" y="104"/>
                  </a:lnTo>
                  <a:lnTo>
                    <a:pt x="52" y="104"/>
                  </a:lnTo>
                  <a:lnTo>
                    <a:pt x="32" y="135"/>
                  </a:lnTo>
                  <a:lnTo>
                    <a:pt x="11" y="167"/>
                  </a:lnTo>
                  <a:lnTo>
                    <a:pt x="11" y="198"/>
                  </a:lnTo>
                  <a:lnTo>
                    <a:pt x="0" y="229"/>
                  </a:lnTo>
                  <a:lnTo>
                    <a:pt x="0" y="260"/>
                  </a:lnTo>
                  <a:lnTo>
                    <a:pt x="0" y="292"/>
                  </a:lnTo>
                  <a:lnTo>
                    <a:pt x="11" y="323"/>
                  </a:lnTo>
                  <a:lnTo>
                    <a:pt x="21" y="354"/>
                  </a:lnTo>
                  <a:lnTo>
                    <a:pt x="42" y="386"/>
                  </a:lnTo>
                  <a:lnTo>
                    <a:pt x="63" y="417"/>
                  </a:lnTo>
                  <a:lnTo>
                    <a:pt x="94" y="448"/>
                  </a:lnTo>
                  <a:lnTo>
                    <a:pt x="126" y="469"/>
                  </a:lnTo>
                  <a:lnTo>
                    <a:pt x="157" y="490"/>
                  </a:lnTo>
                  <a:lnTo>
                    <a:pt x="188" y="511"/>
                  </a:lnTo>
                  <a:lnTo>
                    <a:pt x="219" y="521"/>
                  </a:lnTo>
                  <a:lnTo>
                    <a:pt x="251" y="542"/>
                  </a:lnTo>
                  <a:lnTo>
                    <a:pt x="282" y="563"/>
                  </a:lnTo>
                  <a:lnTo>
                    <a:pt x="251" y="594"/>
                  </a:lnTo>
                  <a:lnTo>
                    <a:pt x="240" y="626"/>
                  </a:lnTo>
                  <a:lnTo>
                    <a:pt x="240" y="657"/>
                  </a:lnTo>
                  <a:lnTo>
                    <a:pt x="240" y="688"/>
                  </a:lnTo>
                  <a:lnTo>
                    <a:pt x="240" y="720"/>
                  </a:lnTo>
                  <a:lnTo>
                    <a:pt x="251" y="751"/>
                  </a:lnTo>
                  <a:lnTo>
                    <a:pt x="282" y="782"/>
                  </a:lnTo>
                  <a:lnTo>
                    <a:pt x="313" y="803"/>
                  </a:lnTo>
                  <a:lnTo>
                    <a:pt x="345" y="824"/>
                  </a:lnTo>
                  <a:lnTo>
                    <a:pt x="376" y="834"/>
                  </a:lnTo>
                  <a:lnTo>
                    <a:pt x="407" y="845"/>
                  </a:lnTo>
                  <a:lnTo>
                    <a:pt x="439" y="845"/>
                  </a:lnTo>
                  <a:lnTo>
                    <a:pt x="470" y="845"/>
                  </a:lnTo>
                  <a:lnTo>
                    <a:pt x="501" y="834"/>
                  </a:lnTo>
                  <a:lnTo>
                    <a:pt x="532" y="814"/>
                  </a:lnTo>
                  <a:lnTo>
                    <a:pt x="553" y="782"/>
                  </a:lnTo>
                  <a:lnTo>
                    <a:pt x="574" y="751"/>
                  </a:lnTo>
                  <a:lnTo>
                    <a:pt x="585" y="720"/>
                  </a:lnTo>
                  <a:lnTo>
                    <a:pt x="585" y="688"/>
                  </a:lnTo>
                  <a:lnTo>
                    <a:pt x="595" y="657"/>
                  </a:lnTo>
                  <a:lnTo>
                    <a:pt x="595" y="626"/>
                  </a:lnTo>
                  <a:lnTo>
                    <a:pt x="595" y="594"/>
                  </a:lnTo>
                  <a:lnTo>
                    <a:pt x="595" y="563"/>
                  </a:lnTo>
                  <a:lnTo>
                    <a:pt x="595" y="532"/>
                  </a:lnTo>
                  <a:lnTo>
                    <a:pt x="564" y="511"/>
                  </a:lnTo>
                  <a:lnTo>
                    <a:pt x="532" y="511"/>
                  </a:lnTo>
                  <a:lnTo>
                    <a:pt x="501" y="511"/>
                  </a:lnTo>
                  <a:lnTo>
                    <a:pt x="480" y="480"/>
                  </a:lnTo>
                  <a:lnTo>
                    <a:pt x="512" y="459"/>
                  </a:lnTo>
                  <a:lnTo>
                    <a:pt x="543" y="459"/>
                  </a:lnTo>
                  <a:lnTo>
                    <a:pt x="574" y="448"/>
                  </a:lnTo>
                  <a:lnTo>
                    <a:pt x="585" y="417"/>
                  </a:lnTo>
                  <a:lnTo>
                    <a:pt x="585" y="386"/>
                  </a:lnTo>
                  <a:lnTo>
                    <a:pt x="585" y="354"/>
                  </a:lnTo>
                  <a:lnTo>
                    <a:pt x="585" y="323"/>
                  </a:lnTo>
                  <a:lnTo>
                    <a:pt x="553" y="313"/>
                  </a:lnTo>
                  <a:lnTo>
                    <a:pt x="522" y="313"/>
                  </a:lnTo>
                  <a:lnTo>
                    <a:pt x="491" y="334"/>
                  </a:lnTo>
                  <a:lnTo>
                    <a:pt x="470" y="365"/>
                  </a:lnTo>
                  <a:lnTo>
                    <a:pt x="449" y="396"/>
                  </a:lnTo>
                  <a:lnTo>
                    <a:pt x="428" y="365"/>
                  </a:lnTo>
                  <a:lnTo>
                    <a:pt x="407" y="334"/>
                  </a:lnTo>
                  <a:lnTo>
                    <a:pt x="376" y="323"/>
                  </a:lnTo>
                  <a:lnTo>
                    <a:pt x="345" y="302"/>
                  </a:lnTo>
                  <a:lnTo>
                    <a:pt x="313" y="281"/>
                  </a:lnTo>
                  <a:lnTo>
                    <a:pt x="303" y="250"/>
                  </a:lnTo>
                  <a:lnTo>
                    <a:pt x="313" y="219"/>
                  </a:lnTo>
                  <a:lnTo>
                    <a:pt x="345" y="198"/>
                  </a:lnTo>
                  <a:lnTo>
                    <a:pt x="376" y="187"/>
                  </a:lnTo>
                  <a:lnTo>
                    <a:pt x="407" y="167"/>
                  </a:lnTo>
                  <a:lnTo>
                    <a:pt x="428" y="135"/>
                  </a:lnTo>
                  <a:lnTo>
                    <a:pt x="428" y="52"/>
                  </a:lnTo>
                  <a:lnTo>
                    <a:pt x="428" y="20"/>
                  </a:lnTo>
                  <a:lnTo>
                    <a:pt x="397" y="10"/>
                  </a:lnTo>
                  <a:lnTo>
                    <a:pt x="366" y="0"/>
                  </a:lnTo>
                  <a:lnTo>
                    <a:pt x="334" y="0"/>
                  </a:lnTo>
                  <a:lnTo>
                    <a:pt x="303" y="0"/>
                  </a:lnTo>
                  <a:lnTo>
                    <a:pt x="272" y="10"/>
                  </a:lnTo>
                  <a:lnTo>
                    <a:pt x="240" y="31"/>
                  </a:lnTo>
                  <a:lnTo>
                    <a:pt x="209" y="31"/>
                  </a:lnTo>
                  <a:lnTo>
                    <a:pt x="209" y="33"/>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8364600" y="685800"/>
              <a:ext cx="382320" cy="581040"/>
            </a:xfrm>
            <a:custGeom>
              <a:avLst/>
              <a:gdLst/>
              <a:ahLst/>
              <a:rect l="l" t="t" r="r" b="b"/>
              <a:pathLst>
                <a:path w="241" h="366">
                  <a:moveTo>
                    <a:pt x="127" y="0"/>
                  </a:moveTo>
                  <a:lnTo>
                    <a:pt x="94" y="0"/>
                  </a:lnTo>
                  <a:lnTo>
                    <a:pt x="73" y="31"/>
                  </a:lnTo>
                  <a:lnTo>
                    <a:pt x="41" y="63"/>
                  </a:lnTo>
                  <a:lnTo>
                    <a:pt x="10" y="83"/>
                  </a:lnTo>
                  <a:lnTo>
                    <a:pt x="0" y="115"/>
                  </a:lnTo>
                  <a:lnTo>
                    <a:pt x="10" y="146"/>
                  </a:lnTo>
                  <a:lnTo>
                    <a:pt x="21" y="177"/>
                  </a:lnTo>
                  <a:lnTo>
                    <a:pt x="21" y="209"/>
                  </a:lnTo>
                  <a:lnTo>
                    <a:pt x="41" y="240"/>
                  </a:lnTo>
                  <a:lnTo>
                    <a:pt x="62" y="271"/>
                  </a:lnTo>
                  <a:lnTo>
                    <a:pt x="94" y="271"/>
                  </a:lnTo>
                  <a:lnTo>
                    <a:pt x="125" y="271"/>
                  </a:lnTo>
                  <a:lnTo>
                    <a:pt x="156" y="271"/>
                  </a:lnTo>
                  <a:lnTo>
                    <a:pt x="156" y="303"/>
                  </a:lnTo>
                  <a:lnTo>
                    <a:pt x="167" y="334"/>
                  </a:lnTo>
                  <a:lnTo>
                    <a:pt x="177" y="365"/>
                  </a:lnTo>
                  <a:lnTo>
                    <a:pt x="198" y="334"/>
                  </a:lnTo>
                  <a:lnTo>
                    <a:pt x="219" y="303"/>
                  </a:lnTo>
                  <a:lnTo>
                    <a:pt x="240" y="271"/>
                  </a:lnTo>
                  <a:lnTo>
                    <a:pt x="240" y="240"/>
                  </a:lnTo>
                  <a:lnTo>
                    <a:pt x="240" y="209"/>
                  </a:lnTo>
                  <a:lnTo>
                    <a:pt x="229" y="177"/>
                  </a:lnTo>
                  <a:lnTo>
                    <a:pt x="219" y="146"/>
                  </a:lnTo>
                  <a:lnTo>
                    <a:pt x="219" y="115"/>
                  </a:lnTo>
                  <a:lnTo>
                    <a:pt x="208" y="83"/>
                  </a:lnTo>
                  <a:lnTo>
                    <a:pt x="198" y="52"/>
                  </a:lnTo>
                  <a:lnTo>
                    <a:pt x="177" y="21"/>
                  </a:lnTo>
                  <a:lnTo>
                    <a:pt x="146" y="21"/>
                  </a:lnTo>
                  <a:lnTo>
                    <a:pt x="127"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862600" y="1697040"/>
              <a:ext cx="3281400" cy="4010040"/>
            </a:xfrm>
            <a:custGeom>
              <a:avLst/>
              <a:gdLst/>
              <a:ahLst/>
              <a:rect l="l" t="t" r="r" b="b"/>
              <a:pathLst>
                <a:path w="2067" h="2526">
                  <a:moveTo>
                    <a:pt x="119" y="611"/>
                  </a:moveTo>
                  <a:lnTo>
                    <a:pt x="84" y="584"/>
                  </a:lnTo>
                  <a:lnTo>
                    <a:pt x="52" y="563"/>
                  </a:lnTo>
                  <a:lnTo>
                    <a:pt x="21" y="532"/>
                  </a:lnTo>
                  <a:lnTo>
                    <a:pt x="10" y="500"/>
                  </a:lnTo>
                  <a:lnTo>
                    <a:pt x="10" y="469"/>
                  </a:lnTo>
                  <a:lnTo>
                    <a:pt x="0" y="438"/>
                  </a:lnTo>
                  <a:lnTo>
                    <a:pt x="0" y="406"/>
                  </a:lnTo>
                  <a:lnTo>
                    <a:pt x="0" y="375"/>
                  </a:lnTo>
                  <a:lnTo>
                    <a:pt x="0" y="344"/>
                  </a:lnTo>
                  <a:lnTo>
                    <a:pt x="0" y="313"/>
                  </a:lnTo>
                  <a:lnTo>
                    <a:pt x="10" y="281"/>
                  </a:lnTo>
                  <a:lnTo>
                    <a:pt x="31" y="250"/>
                  </a:lnTo>
                  <a:lnTo>
                    <a:pt x="31" y="219"/>
                  </a:lnTo>
                  <a:lnTo>
                    <a:pt x="52" y="187"/>
                  </a:lnTo>
                  <a:lnTo>
                    <a:pt x="84" y="166"/>
                  </a:lnTo>
                  <a:lnTo>
                    <a:pt x="94" y="135"/>
                  </a:lnTo>
                  <a:lnTo>
                    <a:pt x="94" y="104"/>
                  </a:lnTo>
                  <a:lnTo>
                    <a:pt x="104" y="73"/>
                  </a:lnTo>
                  <a:lnTo>
                    <a:pt x="136" y="41"/>
                  </a:lnTo>
                  <a:lnTo>
                    <a:pt x="167" y="20"/>
                  </a:lnTo>
                  <a:lnTo>
                    <a:pt x="198" y="10"/>
                  </a:lnTo>
                  <a:lnTo>
                    <a:pt x="230" y="10"/>
                  </a:lnTo>
                  <a:lnTo>
                    <a:pt x="261" y="10"/>
                  </a:lnTo>
                  <a:lnTo>
                    <a:pt x="292" y="10"/>
                  </a:lnTo>
                  <a:lnTo>
                    <a:pt x="324" y="10"/>
                  </a:lnTo>
                  <a:lnTo>
                    <a:pt x="355" y="10"/>
                  </a:lnTo>
                  <a:lnTo>
                    <a:pt x="386" y="10"/>
                  </a:lnTo>
                  <a:lnTo>
                    <a:pt x="417" y="10"/>
                  </a:lnTo>
                  <a:lnTo>
                    <a:pt x="449" y="10"/>
                  </a:lnTo>
                  <a:lnTo>
                    <a:pt x="480" y="10"/>
                  </a:lnTo>
                  <a:lnTo>
                    <a:pt x="511" y="0"/>
                  </a:lnTo>
                  <a:lnTo>
                    <a:pt x="543" y="0"/>
                  </a:lnTo>
                  <a:lnTo>
                    <a:pt x="574" y="0"/>
                  </a:lnTo>
                  <a:lnTo>
                    <a:pt x="605" y="0"/>
                  </a:lnTo>
                  <a:lnTo>
                    <a:pt x="637" y="0"/>
                  </a:lnTo>
                  <a:lnTo>
                    <a:pt x="668" y="10"/>
                  </a:lnTo>
                  <a:lnTo>
                    <a:pt x="699" y="10"/>
                  </a:lnTo>
                  <a:lnTo>
                    <a:pt x="783" y="20"/>
                  </a:lnTo>
                  <a:lnTo>
                    <a:pt x="814" y="31"/>
                  </a:lnTo>
                  <a:lnTo>
                    <a:pt x="845" y="41"/>
                  </a:lnTo>
                  <a:lnTo>
                    <a:pt x="877" y="41"/>
                  </a:lnTo>
                  <a:lnTo>
                    <a:pt x="908" y="52"/>
                  </a:lnTo>
                  <a:lnTo>
                    <a:pt x="939" y="62"/>
                  </a:lnTo>
                  <a:lnTo>
                    <a:pt x="970" y="73"/>
                  </a:lnTo>
                  <a:lnTo>
                    <a:pt x="1002" y="73"/>
                  </a:lnTo>
                  <a:lnTo>
                    <a:pt x="1096" y="73"/>
                  </a:lnTo>
                  <a:lnTo>
                    <a:pt x="1127" y="73"/>
                  </a:lnTo>
                  <a:lnTo>
                    <a:pt x="1158" y="73"/>
                  </a:lnTo>
                  <a:lnTo>
                    <a:pt x="1190" y="73"/>
                  </a:lnTo>
                  <a:lnTo>
                    <a:pt x="1221" y="83"/>
                  </a:lnTo>
                  <a:lnTo>
                    <a:pt x="1252" y="93"/>
                  </a:lnTo>
                  <a:lnTo>
                    <a:pt x="1284" y="104"/>
                  </a:lnTo>
                  <a:lnTo>
                    <a:pt x="1315" y="104"/>
                  </a:lnTo>
                  <a:lnTo>
                    <a:pt x="1346" y="104"/>
                  </a:lnTo>
                  <a:lnTo>
                    <a:pt x="1419" y="104"/>
                  </a:lnTo>
                  <a:lnTo>
                    <a:pt x="1450" y="104"/>
                  </a:lnTo>
                  <a:lnTo>
                    <a:pt x="1482" y="104"/>
                  </a:lnTo>
                  <a:lnTo>
                    <a:pt x="1513" y="93"/>
                  </a:lnTo>
                  <a:lnTo>
                    <a:pt x="1597" y="83"/>
                  </a:lnTo>
                  <a:lnTo>
                    <a:pt x="1680" y="83"/>
                  </a:lnTo>
                  <a:lnTo>
                    <a:pt x="1753" y="83"/>
                  </a:lnTo>
                  <a:lnTo>
                    <a:pt x="1837" y="73"/>
                  </a:lnTo>
                  <a:lnTo>
                    <a:pt x="1910" y="73"/>
                  </a:lnTo>
                  <a:lnTo>
                    <a:pt x="1993" y="73"/>
                  </a:lnTo>
                  <a:lnTo>
                    <a:pt x="2024" y="73"/>
                  </a:lnTo>
                  <a:lnTo>
                    <a:pt x="2056" y="73"/>
                  </a:lnTo>
                  <a:lnTo>
                    <a:pt x="2066" y="104"/>
                  </a:lnTo>
                  <a:lnTo>
                    <a:pt x="2066" y="135"/>
                  </a:lnTo>
                  <a:lnTo>
                    <a:pt x="2066" y="166"/>
                  </a:lnTo>
                  <a:lnTo>
                    <a:pt x="2066" y="198"/>
                  </a:lnTo>
                  <a:lnTo>
                    <a:pt x="2066" y="229"/>
                  </a:lnTo>
                  <a:lnTo>
                    <a:pt x="2066" y="260"/>
                  </a:lnTo>
                  <a:lnTo>
                    <a:pt x="2066" y="292"/>
                  </a:lnTo>
                  <a:lnTo>
                    <a:pt x="2066" y="323"/>
                  </a:lnTo>
                  <a:lnTo>
                    <a:pt x="2066" y="354"/>
                  </a:lnTo>
                  <a:lnTo>
                    <a:pt x="2066" y="386"/>
                  </a:lnTo>
                  <a:lnTo>
                    <a:pt x="2066" y="469"/>
                  </a:lnTo>
                  <a:lnTo>
                    <a:pt x="2066" y="563"/>
                  </a:lnTo>
                  <a:lnTo>
                    <a:pt x="2066" y="646"/>
                  </a:lnTo>
                  <a:lnTo>
                    <a:pt x="2066" y="720"/>
                  </a:lnTo>
                  <a:lnTo>
                    <a:pt x="2066" y="803"/>
                  </a:lnTo>
                  <a:lnTo>
                    <a:pt x="2066" y="876"/>
                  </a:lnTo>
                  <a:lnTo>
                    <a:pt x="2066" y="960"/>
                  </a:lnTo>
                  <a:lnTo>
                    <a:pt x="2066" y="1033"/>
                  </a:lnTo>
                  <a:lnTo>
                    <a:pt x="2066" y="1064"/>
                  </a:lnTo>
                  <a:lnTo>
                    <a:pt x="2066" y="1095"/>
                  </a:lnTo>
                  <a:lnTo>
                    <a:pt x="2066" y="1189"/>
                  </a:lnTo>
                  <a:lnTo>
                    <a:pt x="2066" y="1283"/>
                  </a:lnTo>
                  <a:lnTo>
                    <a:pt x="2066" y="1314"/>
                  </a:lnTo>
                  <a:lnTo>
                    <a:pt x="2066" y="1398"/>
                  </a:lnTo>
                  <a:lnTo>
                    <a:pt x="2066" y="1429"/>
                  </a:lnTo>
                  <a:lnTo>
                    <a:pt x="2066" y="1502"/>
                  </a:lnTo>
                  <a:lnTo>
                    <a:pt x="2066" y="1596"/>
                  </a:lnTo>
                  <a:lnTo>
                    <a:pt x="2066" y="1627"/>
                  </a:lnTo>
                  <a:lnTo>
                    <a:pt x="2066" y="1700"/>
                  </a:lnTo>
                  <a:lnTo>
                    <a:pt x="2066" y="1732"/>
                  </a:lnTo>
                  <a:lnTo>
                    <a:pt x="2066" y="1763"/>
                  </a:lnTo>
                  <a:lnTo>
                    <a:pt x="2066" y="1794"/>
                  </a:lnTo>
                  <a:lnTo>
                    <a:pt x="2066" y="1826"/>
                  </a:lnTo>
                  <a:lnTo>
                    <a:pt x="2066" y="1857"/>
                  </a:lnTo>
                  <a:lnTo>
                    <a:pt x="2066" y="1888"/>
                  </a:lnTo>
                  <a:lnTo>
                    <a:pt x="2066" y="1920"/>
                  </a:lnTo>
                  <a:lnTo>
                    <a:pt x="2066" y="1951"/>
                  </a:lnTo>
                  <a:lnTo>
                    <a:pt x="2066" y="1982"/>
                  </a:lnTo>
                  <a:lnTo>
                    <a:pt x="2066" y="2013"/>
                  </a:lnTo>
                  <a:lnTo>
                    <a:pt x="2066" y="2107"/>
                  </a:lnTo>
                  <a:lnTo>
                    <a:pt x="2066" y="2139"/>
                  </a:lnTo>
                  <a:lnTo>
                    <a:pt x="2066" y="2170"/>
                  </a:lnTo>
                  <a:lnTo>
                    <a:pt x="2066" y="2201"/>
                  </a:lnTo>
                  <a:lnTo>
                    <a:pt x="2066" y="2233"/>
                  </a:lnTo>
                  <a:lnTo>
                    <a:pt x="2066" y="2264"/>
                  </a:lnTo>
                  <a:lnTo>
                    <a:pt x="2066" y="2295"/>
                  </a:lnTo>
                  <a:lnTo>
                    <a:pt x="2066" y="2326"/>
                  </a:lnTo>
                  <a:lnTo>
                    <a:pt x="2066" y="2358"/>
                  </a:lnTo>
                  <a:lnTo>
                    <a:pt x="2066" y="2389"/>
                  </a:lnTo>
                  <a:lnTo>
                    <a:pt x="2066" y="2420"/>
                  </a:lnTo>
                  <a:lnTo>
                    <a:pt x="2066" y="2452"/>
                  </a:lnTo>
                  <a:lnTo>
                    <a:pt x="2066" y="2483"/>
                  </a:lnTo>
                  <a:lnTo>
                    <a:pt x="2035" y="2504"/>
                  </a:lnTo>
                  <a:lnTo>
                    <a:pt x="2004" y="2514"/>
                  </a:lnTo>
                  <a:lnTo>
                    <a:pt x="1972" y="2525"/>
                  </a:lnTo>
                  <a:lnTo>
                    <a:pt x="1941" y="2525"/>
                  </a:lnTo>
                  <a:lnTo>
                    <a:pt x="1910" y="2525"/>
                  </a:lnTo>
                  <a:lnTo>
                    <a:pt x="1878" y="2525"/>
                  </a:lnTo>
                  <a:lnTo>
                    <a:pt x="1847" y="2514"/>
                  </a:lnTo>
                  <a:lnTo>
                    <a:pt x="1816" y="2504"/>
                  </a:lnTo>
                  <a:lnTo>
                    <a:pt x="1784" y="2493"/>
                  </a:lnTo>
                  <a:lnTo>
                    <a:pt x="1753" y="2462"/>
                  </a:lnTo>
                  <a:lnTo>
                    <a:pt x="1722" y="2441"/>
                  </a:lnTo>
                  <a:lnTo>
                    <a:pt x="1690" y="2420"/>
                  </a:lnTo>
                  <a:lnTo>
                    <a:pt x="1659" y="2400"/>
                  </a:lnTo>
                  <a:lnTo>
                    <a:pt x="1628" y="2379"/>
                  </a:lnTo>
                  <a:lnTo>
                    <a:pt x="1597" y="2358"/>
                  </a:lnTo>
                  <a:lnTo>
                    <a:pt x="1565" y="2337"/>
                  </a:lnTo>
                  <a:lnTo>
                    <a:pt x="1534" y="2326"/>
                  </a:lnTo>
                  <a:lnTo>
                    <a:pt x="1503" y="2306"/>
                  </a:lnTo>
                  <a:lnTo>
                    <a:pt x="1471" y="2285"/>
                  </a:lnTo>
                  <a:lnTo>
                    <a:pt x="1440" y="2264"/>
                  </a:lnTo>
                  <a:lnTo>
                    <a:pt x="1409" y="2243"/>
                  </a:lnTo>
                  <a:lnTo>
                    <a:pt x="1377" y="2212"/>
                  </a:lnTo>
                  <a:lnTo>
                    <a:pt x="1346" y="2180"/>
                  </a:lnTo>
                  <a:lnTo>
                    <a:pt x="1315" y="2160"/>
                  </a:lnTo>
                  <a:lnTo>
                    <a:pt x="1304" y="2128"/>
                  </a:lnTo>
                  <a:lnTo>
                    <a:pt x="1273" y="2118"/>
                  </a:lnTo>
                  <a:lnTo>
                    <a:pt x="1252" y="2086"/>
                  </a:lnTo>
                  <a:lnTo>
                    <a:pt x="1252" y="2055"/>
                  </a:lnTo>
                  <a:lnTo>
                    <a:pt x="1252" y="2024"/>
                  </a:lnTo>
                  <a:lnTo>
                    <a:pt x="1252" y="1993"/>
                  </a:lnTo>
                  <a:lnTo>
                    <a:pt x="1221" y="1982"/>
                  </a:lnTo>
                  <a:lnTo>
                    <a:pt x="1190" y="1961"/>
                  </a:lnTo>
                  <a:lnTo>
                    <a:pt x="1169" y="1930"/>
                  </a:lnTo>
                  <a:lnTo>
                    <a:pt x="1169" y="1899"/>
                  </a:lnTo>
                  <a:lnTo>
                    <a:pt x="1169" y="1867"/>
                  </a:lnTo>
                  <a:lnTo>
                    <a:pt x="1169" y="1836"/>
                  </a:lnTo>
                  <a:lnTo>
                    <a:pt x="1169" y="1805"/>
                  </a:lnTo>
                  <a:lnTo>
                    <a:pt x="1169" y="1773"/>
                  </a:lnTo>
                  <a:lnTo>
                    <a:pt x="1158" y="1742"/>
                  </a:lnTo>
                  <a:lnTo>
                    <a:pt x="1158" y="1711"/>
                  </a:lnTo>
                  <a:lnTo>
                    <a:pt x="1148" y="1680"/>
                  </a:lnTo>
                  <a:lnTo>
                    <a:pt x="1137" y="1648"/>
                  </a:lnTo>
                  <a:lnTo>
                    <a:pt x="1127" y="1617"/>
                  </a:lnTo>
                  <a:lnTo>
                    <a:pt x="1117" y="1586"/>
                  </a:lnTo>
                  <a:lnTo>
                    <a:pt x="1117" y="1554"/>
                  </a:lnTo>
                  <a:lnTo>
                    <a:pt x="1106" y="1523"/>
                  </a:lnTo>
                  <a:lnTo>
                    <a:pt x="1096" y="1492"/>
                  </a:lnTo>
                  <a:lnTo>
                    <a:pt x="1085" y="1460"/>
                  </a:lnTo>
                  <a:lnTo>
                    <a:pt x="1075" y="1429"/>
                  </a:lnTo>
                  <a:lnTo>
                    <a:pt x="1064" y="1398"/>
                  </a:lnTo>
                  <a:lnTo>
                    <a:pt x="1064" y="1366"/>
                  </a:lnTo>
                  <a:lnTo>
                    <a:pt x="1064" y="1335"/>
                  </a:lnTo>
                  <a:lnTo>
                    <a:pt x="1064" y="1304"/>
                  </a:lnTo>
                  <a:lnTo>
                    <a:pt x="1064" y="1273"/>
                  </a:lnTo>
                  <a:lnTo>
                    <a:pt x="1044" y="1241"/>
                  </a:lnTo>
                  <a:lnTo>
                    <a:pt x="1033" y="1210"/>
                  </a:lnTo>
                  <a:lnTo>
                    <a:pt x="1023" y="1179"/>
                  </a:lnTo>
                  <a:lnTo>
                    <a:pt x="1012" y="1147"/>
                  </a:lnTo>
                  <a:lnTo>
                    <a:pt x="1002" y="1116"/>
                  </a:lnTo>
                  <a:lnTo>
                    <a:pt x="991" y="1085"/>
                  </a:lnTo>
                  <a:lnTo>
                    <a:pt x="981" y="1053"/>
                  </a:lnTo>
                  <a:lnTo>
                    <a:pt x="981" y="1022"/>
                  </a:lnTo>
                  <a:lnTo>
                    <a:pt x="970" y="991"/>
                  </a:lnTo>
                  <a:lnTo>
                    <a:pt x="950" y="960"/>
                  </a:lnTo>
                  <a:lnTo>
                    <a:pt x="929" y="928"/>
                  </a:lnTo>
                  <a:lnTo>
                    <a:pt x="908" y="897"/>
                  </a:lnTo>
                  <a:lnTo>
                    <a:pt x="887" y="866"/>
                  </a:lnTo>
                  <a:lnTo>
                    <a:pt x="866" y="834"/>
                  </a:lnTo>
                  <a:lnTo>
                    <a:pt x="835" y="813"/>
                  </a:lnTo>
                  <a:lnTo>
                    <a:pt x="804" y="793"/>
                  </a:lnTo>
                  <a:lnTo>
                    <a:pt x="772" y="772"/>
                  </a:lnTo>
                  <a:lnTo>
                    <a:pt x="741" y="761"/>
                  </a:lnTo>
                  <a:lnTo>
                    <a:pt x="710" y="740"/>
                  </a:lnTo>
                  <a:lnTo>
                    <a:pt x="689" y="709"/>
                  </a:lnTo>
                  <a:lnTo>
                    <a:pt x="689" y="678"/>
                  </a:lnTo>
                  <a:lnTo>
                    <a:pt x="689" y="646"/>
                  </a:lnTo>
                  <a:lnTo>
                    <a:pt x="689" y="615"/>
                  </a:lnTo>
                  <a:lnTo>
                    <a:pt x="657" y="605"/>
                  </a:lnTo>
                  <a:lnTo>
                    <a:pt x="626" y="594"/>
                  </a:lnTo>
                  <a:lnTo>
                    <a:pt x="595" y="573"/>
                  </a:lnTo>
                  <a:lnTo>
                    <a:pt x="564" y="553"/>
                  </a:lnTo>
                  <a:lnTo>
                    <a:pt x="532" y="532"/>
                  </a:lnTo>
                  <a:lnTo>
                    <a:pt x="501" y="511"/>
                  </a:lnTo>
                  <a:lnTo>
                    <a:pt x="470" y="490"/>
                  </a:lnTo>
                  <a:lnTo>
                    <a:pt x="438" y="480"/>
                  </a:lnTo>
                  <a:lnTo>
                    <a:pt x="407" y="469"/>
                  </a:lnTo>
                  <a:lnTo>
                    <a:pt x="376" y="469"/>
                  </a:lnTo>
                  <a:lnTo>
                    <a:pt x="344" y="469"/>
                  </a:lnTo>
                  <a:lnTo>
                    <a:pt x="313" y="469"/>
                  </a:lnTo>
                  <a:lnTo>
                    <a:pt x="282" y="490"/>
                  </a:lnTo>
                  <a:lnTo>
                    <a:pt x="250" y="500"/>
                  </a:lnTo>
                  <a:lnTo>
                    <a:pt x="219" y="511"/>
                  </a:lnTo>
                  <a:lnTo>
                    <a:pt x="188" y="521"/>
                  </a:lnTo>
                  <a:lnTo>
                    <a:pt x="157" y="532"/>
                  </a:lnTo>
                  <a:lnTo>
                    <a:pt x="146" y="563"/>
                  </a:lnTo>
                  <a:lnTo>
                    <a:pt x="125" y="594"/>
                  </a:lnTo>
                  <a:lnTo>
                    <a:pt x="119" y="611"/>
                  </a:lnTo>
                </a:path>
              </a:pathLst>
            </a:custGeom>
            <a:noFill/>
            <a:ln cap="rnd" w="3168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301520" y="2217600"/>
              <a:ext cx="1580400" cy="96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dian</a:t>
              </a: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pire</a:t>
              </a:r>
              <a:endParaRPr b="0" lang="en-US" sz="3200" spc="-1" strike="noStrike">
                <a:solidFill>
                  <a:srgbClr val="ffffff"/>
                </a:solidFill>
                <a:latin typeface="Times New Roman"/>
              </a:endParaRPr>
            </a:p>
          </p:txBody>
        </p:sp>
        <p:sp>
          <p:nvSpPr>
            <p:cNvPr id="726" name=""/>
            <p:cNvSpPr/>
            <p:nvPr/>
          </p:nvSpPr>
          <p:spPr>
            <a:xfrm>
              <a:off x="3560760" y="3998880"/>
              <a:ext cx="2552760" cy="1940040"/>
            </a:xfrm>
            <a:custGeom>
              <a:avLst/>
              <a:gdLst/>
              <a:ahLst/>
              <a:rect l="l" t="t" r="r" b="b"/>
              <a:pathLst>
                <a:path w="1608" h="1222">
                  <a:moveTo>
                    <a:pt x="81" y="73"/>
                  </a:moveTo>
                  <a:lnTo>
                    <a:pt x="83" y="104"/>
                  </a:lnTo>
                  <a:lnTo>
                    <a:pt x="83" y="136"/>
                  </a:lnTo>
                  <a:lnTo>
                    <a:pt x="73" y="167"/>
                  </a:lnTo>
                  <a:lnTo>
                    <a:pt x="52" y="198"/>
                  </a:lnTo>
                  <a:lnTo>
                    <a:pt x="41" y="230"/>
                  </a:lnTo>
                  <a:lnTo>
                    <a:pt x="31" y="261"/>
                  </a:lnTo>
                  <a:lnTo>
                    <a:pt x="10" y="292"/>
                  </a:lnTo>
                  <a:lnTo>
                    <a:pt x="0" y="323"/>
                  </a:lnTo>
                  <a:lnTo>
                    <a:pt x="31" y="344"/>
                  </a:lnTo>
                  <a:lnTo>
                    <a:pt x="62" y="355"/>
                  </a:lnTo>
                  <a:lnTo>
                    <a:pt x="94" y="365"/>
                  </a:lnTo>
                  <a:lnTo>
                    <a:pt x="125" y="376"/>
                  </a:lnTo>
                  <a:lnTo>
                    <a:pt x="156" y="386"/>
                  </a:lnTo>
                  <a:lnTo>
                    <a:pt x="229" y="386"/>
                  </a:lnTo>
                  <a:lnTo>
                    <a:pt x="260" y="396"/>
                  </a:lnTo>
                  <a:lnTo>
                    <a:pt x="292" y="407"/>
                  </a:lnTo>
                  <a:lnTo>
                    <a:pt x="323" y="417"/>
                  </a:lnTo>
                  <a:lnTo>
                    <a:pt x="354" y="428"/>
                  </a:lnTo>
                  <a:lnTo>
                    <a:pt x="386" y="449"/>
                  </a:lnTo>
                  <a:lnTo>
                    <a:pt x="417" y="470"/>
                  </a:lnTo>
                  <a:lnTo>
                    <a:pt x="448" y="490"/>
                  </a:lnTo>
                  <a:lnTo>
                    <a:pt x="480" y="511"/>
                  </a:lnTo>
                  <a:lnTo>
                    <a:pt x="511" y="543"/>
                  </a:lnTo>
                  <a:lnTo>
                    <a:pt x="542" y="563"/>
                  </a:lnTo>
                  <a:lnTo>
                    <a:pt x="563" y="595"/>
                  </a:lnTo>
                  <a:lnTo>
                    <a:pt x="594" y="616"/>
                  </a:lnTo>
                  <a:lnTo>
                    <a:pt x="615" y="647"/>
                  </a:lnTo>
                  <a:lnTo>
                    <a:pt x="647" y="678"/>
                  </a:lnTo>
                  <a:lnTo>
                    <a:pt x="678" y="710"/>
                  </a:lnTo>
                  <a:lnTo>
                    <a:pt x="699" y="741"/>
                  </a:lnTo>
                  <a:lnTo>
                    <a:pt x="720" y="772"/>
                  </a:lnTo>
                  <a:lnTo>
                    <a:pt x="730" y="803"/>
                  </a:lnTo>
                  <a:lnTo>
                    <a:pt x="751" y="835"/>
                  </a:lnTo>
                  <a:lnTo>
                    <a:pt x="761" y="866"/>
                  </a:lnTo>
                  <a:lnTo>
                    <a:pt x="782" y="897"/>
                  </a:lnTo>
                  <a:lnTo>
                    <a:pt x="793" y="929"/>
                  </a:lnTo>
                  <a:lnTo>
                    <a:pt x="803" y="960"/>
                  </a:lnTo>
                  <a:lnTo>
                    <a:pt x="814" y="991"/>
                  </a:lnTo>
                  <a:lnTo>
                    <a:pt x="814" y="1023"/>
                  </a:lnTo>
                  <a:lnTo>
                    <a:pt x="814" y="1054"/>
                  </a:lnTo>
                  <a:lnTo>
                    <a:pt x="824" y="1085"/>
                  </a:lnTo>
                  <a:lnTo>
                    <a:pt x="824" y="1116"/>
                  </a:lnTo>
                  <a:lnTo>
                    <a:pt x="834" y="1148"/>
                  </a:lnTo>
                  <a:lnTo>
                    <a:pt x="845" y="1179"/>
                  </a:lnTo>
                  <a:lnTo>
                    <a:pt x="876" y="1210"/>
                  </a:lnTo>
                  <a:lnTo>
                    <a:pt x="907" y="1221"/>
                  </a:lnTo>
                  <a:lnTo>
                    <a:pt x="939" y="1221"/>
                  </a:lnTo>
                  <a:lnTo>
                    <a:pt x="970" y="1221"/>
                  </a:lnTo>
                  <a:lnTo>
                    <a:pt x="1001" y="1221"/>
                  </a:lnTo>
                  <a:lnTo>
                    <a:pt x="1033" y="1221"/>
                  </a:lnTo>
                  <a:lnTo>
                    <a:pt x="1064" y="1210"/>
                  </a:lnTo>
                  <a:lnTo>
                    <a:pt x="1095" y="1210"/>
                  </a:lnTo>
                  <a:lnTo>
                    <a:pt x="1127" y="1200"/>
                  </a:lnTo>
                  <a:lnTo>
                    <a:pt x="1158" y="1190"/>
                  </a:lnTo>
                  <a:lnTo>
                    <a:pt x="1189" y="1179"/>
                  </a:lnTo>
                  <a:lnTo>
                    <a:pt x="1220" y="1179"/>
                  </a:lnTo>
                  <a:lnTo>
                    <a:pt x="1304" y="1169"/>
                  </a:lnTo>
                  <a:lnTo>
                    <a:pt x="1377" y="1169"/>
                  </a:lnTo>
                  <a:lnTo>
                    <a:pt x="1408" y="1158"/>
                  </a:lnTo>
                  <a:lnTo>
                    <a:pt x="1440" y="1158"/>
                  </a:lnTo>
                  <a:lnTo>
                    <a:pt x="1471" y="1158"/>
                  </a:lnTo>
                  <a:lnTo>
                    <a:pt x="1502" y="1148"/>
                  </a:lnTo>
                  <a:lnTo>
                    <a:pt x="1534" y="1137"/>
                  </a:lnTo>
                  <a:lnTo>
                    <a:pt x="1565" y="1127"/>
                  </a:lnTo>
                  <a:lnTo>
                    <a:pt x="1596" y="1127"/>
                  </a:lnTo>
                  <a:lnTo>
                    <a:pt x="1607" y="1096"/>
                  </a:lnTo>
                  <a:lnTo>
                    <a:pt x="1607" y="1064"/>
                  </a:lnTo>
                  <a:lnTo>
                    <a:pt x="1575" y="1043"/>
                  </a:lnTo>
                  <a:lnTo>
                    <a:pt x="1565" y="1012"/>
                  </a:lnTo>
                  <a:lnTo>
                    <a:pt x="1544" y="981"/>
                  </a:lnTo>
                  <a:lnTo>
                    <a:pt x="1523" y="950"/>
                  </a:lnTo>
                  <a:lnTo>
                    <a:pt x="1502" y="918"/>
                  </a:lnTo>
                  <a:lnTo>
                    <a:pt x="1481" y="887"/>
                  </a:lnTo>
                  <a:lnTo>
                    <a:pt x="1450" y="866"/>
                  </a:lnTo>
                  <a:lnTo>
                    <a:pt x="1419" y="845"/>
                  </a:lnTo>
                  <a:lnTo>
                    <a:pt x="1398" y="814"/>
                  </a:lnTo>
                  <a:lnTo>
                    <a:pt x="1387" y="783"/>
                  </a:lnTo>
                  <a:lnTo>
                    <a:pt x="1367" y="751"/>
                  </a:lnTo>
                  <a:lnTo>
                    <a:pt x="1346" y="720"/>
                  </a:lnTo>
                  <a:lnTo>
                    <a:pt x="1325" y="689"/>
                  </a:lnTo>
                  <a:lnTo>
                    <a:pt x="1314" y="657"/>
                  </a:lnTo>
                  <a:lnTo>
                    <a:pt x="1283" y="636"/>
                  </a:lnTo>
                  <a:lnTo>
                    <a:pt x="1262" y="605"/>
                  </a:lnTo>
                  <a:lnTo>
                    <a:pt x="1231" y="584"/>
                  </a:lnTo>
                  <a:lnTo>
                    <a:pt x="1210" y="553"/>
                  </a:lnTo>
                  <a:lnTo>
                    <a:pt x="1189" y="522"/>
                  </a:lnTo>
                  <a:lnTo>
                    <a:pt x="1168" y="490"/>
                  </a:lnTo>
                  <a:lnTo>
                    <a:pt x="1147" y="459"/>
                  </a:lnTo>
                  <a:lnTo>
                    <a:pt x="1127" y="428"/>
                  </a:lnTo>
                  <a:lnTo>
                    <a:pt x="1106" y="396"/>
                  </a:lnTo>
                  <a:lnTo>
                    <a:pt x="1085" y="365"/>
                  </a:lnTo>
                  <a:lnTo>
                    <a:pt x="1064" y="334"/>
                  </a:lnTo>
                  <a:lnTo>
                    <a:pt x="1043" y="303"/>
                  </a:lnTo>
                  <a:lnTo>
                    <a:pt x="1074" y="282"/>
                  </a:lnTo>
                  <a:lnTo>
                    <a:pt x="1106" y="271"/>
                  </a:lnTo>
                  <a:lnTo>
                    <a:pt x="1137" y="261"/>
                  </a:lnTo>
                  <a:lnTo>
                    <a:pt x="1168" y="261"/>
                  </a:lnTo>
                  <a:lnTo>
                    <a:pt x="1179" y="230"/>
                  </a:lnTo>
                  <a:lnTo>
                    <a:pt x="1158" y="198"/>
                  </a:lnTo>
                  <a:lnTo>
                    <a:pt x="1137" y="167"/>
                  </a:lnTo>
                  <a:lnTo>
                    <a:pt x="1106" y="156"/>
                  </a:lnTo>
                  <a:lnTo>
                    <a:pt x="1095" y="125"/>
                  </a:lnTo>
                  <a:lnTo>
                    <a:pt x="1064" y="104"/>
                  </a:lnTo>
                  <a:lnTo>
                    <a:pt x="1033" y="94"/>
                  </a:lnTo>
                  <a:lnTo>
                    <a:pt x="1001" y="73"/>
                  </a:lnTo>
                  <a:lnTo>
                    <a:pt x="970" y="63"/>
                  </a:lnTo>
                  <a:lnTo>
                    <a:pt x="939" y="63"/>
                  </a:lnTo>
                  <a:lnTo>
                    <a:pt x="907" y="63"/>
                  </a:lnTo>
                  <a:lnTo>
                    <a:pt x="876" y="63"/>
                  </a:lnTo>
                  <a:lnTo>
                    <a:pt x="845" y="63"/>
                  </a:lnTo>
                  <a:lnTo>
                    <a:pt x="814" y="73"/>
                  </a:lnTo>
                  <a:lnTo>
                    <a:pt x="782" y="83"/>
                  </a:lnTo>
                  <a:lnTo>
                    <a:pt x="751" y="94"/>
                  </a:lnTo>
                  <a:lnTo>
                    <a:pt x="667" y="94"/>
                  </a:lnTo>
                  <a:lnTo>
                    <a:pt x="636" y="94"/>
                  </a:lnTo>
                  <a:lnTo>
                    <a:pt x="605" y="94"/>
                  </a:lnTo>
                  <a:lnTo>
                    <a:pt x="574" y="94"/>
                  </a:lnTo>
                  <a:lnTo>
                    <a:pt x="542" y="83"/>
                  </a:lnTo>
                  <a:lnTo>
                    <a:pt x="511" y="63"/>
                  </a:lnTo>
                  <a:lnTo>
                    <a:pt x="480" y="42"/>
                  </a:lnTo>
                  <a:lnTo>
                    <a:pt x="448" y="31"/>
                  </a:lnTo>
                  <a:lnTo>
                    <a:pt x="354" y="21"/>
                  </a:lnTo>
                  <a:lnTo>
                    <a:pt x="281" y="21"/>
                  </a:lnTo>
                  <a:lnTo>
                    <a:pt x="250" y="10"/>
                  </a:lnTo>
                  <a:lnTo>
                    <a:pt x="219" y="0"/>
                  </a:lnTo>
                  <a:lnTo>
                    <a:pt x="187" y="0"/>
                  </a:lnTo>
                  <a:lnTo>
                    <a:pt x="156" y="0"/>
                  </a:lnTo>
                  <a:lnTo>
                    <a:pt x="125" y="0"/>
                  </a:lnTo>
                  <a:lnTo>
                    <a:pt x="94" y="0"/>
                  </a:lnTo>
                  <a:lnTo>
                    <a:pt x="83" y="31"/>
                  </a:lnTo>
                  <a:lnTo>
                    <a:pt x="81" y="73"/>
                  </a:lnTo>
                </a:path>
              </a:pathLst>
            </a:custGeom>
            <a:noFill/>
            <a:ln cap="rnd" w="316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2606400" y="317196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terranean</a:t>
              </a:r>
              <a:endParaRPr b="0" lang="en-US" sz="3200" spc="-1" strike="noStrike">
                <a:solidFill>
                  <a:srgbClr val="ffffff"/>
                </a:solidFill>
                <a:latin typeface="Times New Roman"/>
              </a:endParaRPr>
            </a:p>
          </p:txBody>
        </p:sp>
        <p:sp>
          <p:nvSpPr>
            <p:cNvPr id="728" name=""/>
            <p:cNvSpPr/>
            <p:nvPr/>
          </p:nvSpPr>
          <p:spPr>
            <a:xfrm>
              <a:off x="793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afd00"/>
                  </a:solidFill>
                  <a:uFillTx/>
                  <a:latin typeface="Arial"/>
                </a:rPr>
                <a:t>Babylonian Empire</a:t>
              </a:r>
              <a:endParaRPr b="0" lang="en-US" sz="5400" spc="-1" strike="noStrike">
                <a:solidFill>
                  <a:srgbClr val="ffffff"/>
                </a:solidFill>
                <a:latin typeface="Times New Roman"/>
              </a:endParaRPr>
            </a:p>
          </p:txBody>
        </p:sp>
        <p:sp>
          <p:nvSpPr>
            <p:cNvPr id="729" name=""/>
            <p:cNvSpPr/>
            <p:nvPr/>
          </p:nvSpPr>
          <p:spPr>
            <a:xfrm>
              <a:off x="93600" y="602136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730" name=""/>
            <p:cNvSpPr/>
            <p:nvPr/>
          </p:nvSpPr>
          <p:spPr>
            <a:xfrm>
              <a:off x="4913280" y="4186080"/>
              <a:ext cx="160200" cy="828720"/>
            </a:xfrm>
            <a:custGeom>
              <a:avLst/>
              <a:gdLst/>
              <a:ahLst/>
              <a:rect l="l" t="t" r="r" b="b"/>
              <a:pathLst>
                <a:path w="101" h="585">
                  <a:moveTo>
                    <a:pt x="63" y="0"/>
                  </a:moveTo>
                  <a:cubicBezTo>
                    <a:pt x="54" y="43"/>
                    <a:pt x="53" y="53"/>
                    <a:pt x="72" y="90"/>
                  </a:cubicBezTo>
                  <a:cubicBezTo>
                    <a:pt x="87" y="163"/>
                    <a:pt x="101" y="233"/>
                    <a:pt x="72" y="306"/>
                  </a:cubicBezTo>
                  <a:cubicBezTo>
                    <a:pt x="58" y="341"/>
                    <a:pt x="17" y="361"/>
                    <a:pt x="0" y="396"/>
                  </a:cubicBezTo>
                  <a:cubicBezTo>
                    <a:pt x="10" y="549"/>
                    <a:pt x="9" y="486"/>
                    <a:pt x="9" y="585"/>
                  </a:cubicBezTo>
                </a:path>
              </a:pathLst>
            </a:custGeom>
            <a:noFill/>
            <a:ln w="38160">
              <a:solidFill>
                <a:srgbClr val="114f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4130640" y="4314960"/>
              <a:ext cx="103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gypt</a:t>
              </a:r>
              <a:endParaRPr b="0" lang="en-US" sz="3200" spc="-1" strike="noStrike">
                <a:solidFill>
                  <a:srgbClr val="ffffff"/>
                </a:solidFill>
                <a:latin typeface="Times New Roman"/>
              </a:endParaRPr>
            </a:p>
          </p:txBody>
        </p:sp>
      </p:grpSp>
      <p:sp>
        <p:nvSpPr>
          <p:cNvPr id="732" name="PlaceHolder 1"/>
          <p:cNvSpPr>
            <a:spLocks noGrp="1"/>
          </p:cNvSpPr>
          <p:nvPr>
            <p:ph type="title"/>
          </p:nvPr>
        </p:nvSpPr>
        <p:spPr>
          <a:xfrm>
            <a:off x="7924320" y="609120"/>
            <a:ext cx="971640" cy="171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Babylonian Empire</a:t>
            </a:r>
            <a:endParaRPr b="1" lang="en-US" sz="100" spc="-1" strike="noStrike" u="sng">
              <a:solidFill>
                <a:srgbClr val="c0fef9"/>
              </a:solidFill>
              <a:uFillTx/>
              <a:latin typeface="Times New Roman"/>
            </a:endParaRPr>
          </a:p>
        </p:txBody>
      </p:sp>
      <p:sp>
        <p:nvSpPr>
          <p:cNvPr id="733"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657920" y="495000"/>
            <a:ext cx="1143000" cy="114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Persian Empire</a:t>
            </a:r>
            <a:endParaRPr b="1" lang="en-US" sz="100" spc="-1" strike="noStrike" u="sng">
              <a:solidFill>
                <a:srgbClr val="c0fef9"/>
              </a:solidFill>
              <a:uFillTx/>
              <a:latin typeface="Times New Roman"/>
            </a:endParaRPr>
          </a:p>
        </p:txBody>
      </p:sp>
      <p:sp>
        <p:nvSpPr>
          <p:cNvPr id="735"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736" name=""/>
          <p:cNvGrpSpPr/>
          <p:nvPr/>
        </p:nvGrpSpPr>
        <p:grpSpPr>
          <a:xfrm>
            <a:off x="12600" y="857160"/>
            <a:ext cx="9131400" cy="5200920"/>
            <a:chOff x="12600" y="857160"/>
            <a:chExt cx="9131400" cy="5200920"/>
          </a:xfrm>
        </p:grpSpPr>
        <p:sp>
          <p:nvSpPr>
            <p:cNvPr id="737" name=""/>
            <p:cNvSpPr/>
            <p:nvPr/>
          </p:nvSpPr>
          <p:spPr>
            <a:xfrm>
              <a:off x="15840" y="1028880"/>
              <a:ext cx="9086760" cy="50292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1711440" y="2855880"/>
              <a:ext cx="9504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600" y="3575160"/>
              <a:ext cx="4346640" cy="2463840"/>
            </a:xfrm>
            <a:custGeom>
              <a:avLst/>
              <a:gdLst/>
              <a:ahLst/>
              <a:rect l="l" t="t" r="r" b="b"/>
              <a:pathLst>
                <a:path w="2738" h="1552">
                  <a:moveTo>
                    <a:pt x="2738" y="1552"/>
                  </a:moveTo>
                  <a:lnTo>
                    <a:pt x="2702" y="1228"/>
                  </a:lnTo>
                  <a:lnTo>
                    <a:pt x="2414" y="976"/>
                  </a:lnTo>
                  <a:lnTo>
                    <a:pt x="2486" y="724"/>
                  </a:lnTo>
                  <a:lnTo>
                    <a:pt x="2414" y="580"/>
                  </a:lnTo>
                  <a:lnTo>
                    <a:pt x="2342" y="652"/>
                  </a:lnTo>
                  <a:lnTo>
                    <a:pt x="2270" y="616"/>
                  </a:lnTo>
                  <a:lnTo>
                    <a:pt x="2162" y="652"/>
                  </a:lnTo>
                  <a:lnTo>
                    <a:pt x="1730" y="472"/>
                  </a:lnTo>
                  <a:lnTo>
                    <a:pt x="1594" y="516"/>
                  </a:lnTo>
                  <a:lnTo>
                    <a:pt x="1582" y="624"/>
                  </a:lnTo>
                  <a:lnTo>
                    <a:pt x="1046" y="400"/>
                  </a:lnTo>
                  <a:lnTo>
                    <a:pt x="1006" y="156"/>
                  </a:lnTo>
                  <a:lnTo>
                    <a:pt x="650" y="184"/>
                  </a:lnTo>
                  <a:lnTo>
                    <a:pt x="258" y="0"/>
                  </a:lnTo>
                  <a:lnTo>
                    <a:pt x="0" y="96"/>
                  </a:lnTo>
                  <a:lnTo>
                    <a:pt x="0" y="432"/>
                  </a:lnTo>
                  <a:lnTo>
                    <a:pt x="0" y="804"/>
                  </a:lnTo>
                  <a:lnTo>
                    <a:pt x="0" y="1164"/>
                  </a:lnTo>
                  <a:lnTo>
                    <a:pt x="0" y="1284"/>
                  </a:lnTo>
                  <a:lnTo>
                    <a:pt x="0" y="1548"/>
                  </a:lnTo>
                  <a:lnTo>
                    <a:pt x="72" y="154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73080" y="1009800"/>
              <a:ext cx="9067680" cy="5029200"/>
            </a:xfrm>
            <a:custGeom>
              <a:avLst/>
              <a:gdLst/>
              <a:ahLst/>
              <a:rect l="l" t="t" r="r" b="b"/>
              <a:pathLst>
                <a:path w="5712" h="3168">
                  <a:moveTo>
                    <a:pt x="5712" y="3132"/>
                  </a:moveTo>
                  <a:lnTo>
                    <a:pt x="4824" y="2916"/>
                  </a:lnTo>
                  <a:lnTo>
                    <a:pt x="4320" y="2916"/>
                  </a:lnTo>
                  <a:lnTo>
                    <a:pt x="3528" y="2520"/>
                  </a:lnTo>
                  <a:lnTo>
                    <a:pt x="3528" y="2916"/>
                  </a:lnTo>
                  <a:lnTo>
                    <a:pt x="3996" y="3168"/>
                  </a:lnTo>
                  <a:lnTo>
                    <a:pt x="2916" y="3168"/>
                  </a:lnTo>
                  <a:lnTo>
                    <a:pt x="2448" y="2448"/>
                  </a:lnTo>
                  <a:lnTo>
                    <a:pt x="2412" y="2268"/>
                  </a:lnTo>
                  <a:lnTo>
                    <a:pt x="2592" y="2160"/>
                  </a:lnTo>
                  <a:lnTo>
                    <a:pt x="2700" y="2036"/>
                  </a:lnTo>
                  <a:lnTo>
                    <a:pt x="2748" y="1904"/>
                  </a:lnTo>
                  <a:lnTo>
                    <a:pt x="2700" y="1620"/>
                  </a:lnTo>
                  <a:lnTo>
                    <a:pt x="2520" y="1700"/>
                  </a:lnTo>
                  <a:lnTo>
                    <a:pt x="2124" y="1656"/>
                  </a:lnTo>
                  <a:lnTo>
                    <a:pt x="2148" y="1448"/>
                  </a:lnTo>
                  <a:lnTo>
                    <a:pt x="2232" y="1404"/>
                  </a:lnTo>
                  <a:lnTo>
                    <a:pt x="2448" y="1260"/>
                  </a:lnTo>
                  <a:lnTo>
                    <a:pt x="3048" y="1184"/>
                  </a:lnTo>
                  <a:lnTo>
                    <a:pt x="3084" y="1052"/>
                  </a:lnTo>
                  <a:lnTo>
                    <a:pt x="2664" y="900"/>
                  </a:lnTo>
                  <a:lnTo>
                    <a:pt x="2700" y="756"/>
                  </a:lnTo>
                  <a:lnTo>
                    <a:pt x="2604" y="920"/>
                  </a:lnTo>
                  <a:lnTo>
                    <a:pt x="2484" y="920"/>
                  </a:lnTo>
                  <a:lnTo>
                    <a:pt x="2412" y="944"/>
                  </a:lnTo>
                  <a:lnTo>
                    <a:pt x="2280" y="1064"/>
                  </a:lnTo>
                  <a:lnTo>
                    <a:pt x="2364" y="1244"/>
                  </a:lnTo>
                  <a:lnTo>
                    <a:pt x="2304" y="1260"/>
                  </a:lnTo>
                  <a:lnTo>
                    <a:pt x="2256" y="1256"/>
                  </a:lnTo>
                  <a:lnTo>
                    <a:pt x="2160" y="1388"/>
                  </a:lnTo>
                  <a:lnTo>
                    <a:pt x="1944" y="1400"/>
                  </a:lnTo>
                  <a:lnTo>
                    <a:pt x="1944" y="1548"/>
                  </a:lnTo>
                  <a:lnTo>
                    <a:pt x="1944" y="1656"/>
                  </a:lnTo>
                  <a:lnTo>
                    <a:pt x="1848" y="1772"/>
                  </a:lnTo>
                  <a:lnTo>
                    <a:pt x="1764" y="1728"/>
                  </a:lnTo>
                  <a:lnTo>
                    <a:pt x="1764" y="1476"/>
                  </a:lnTo>
                  <a:lnTo>
                    <a:pt x="1764" y="1404"/>
                  </a:lnTo>
                  <a:lnTo>
                    <a:pt x="1440" y="944"/>
                  </a:lnTo>
                  <a:lnTo>
                    <a:pt x="1368" y="1016"/>
                  </a:lnTo>
                  <a:lnTo>
                    <a:pt x="1392" y="1136"/>
                  </a:lnTo>
                  <a:lnTo>
                    <a:pt x="1575" y="1389"/>
                  </a:lnTo>
                  <a:lnTo>
                    <a:pt x="1557" y="1452"/>
                  </a:lnTo>
                  <a:lnTo>
                    <a:pt x="1488" y="1388"/>
                  </a:lnTo>
                  <a:lnTo>
                    <a:pt x="1485" y="1479"/>
                  </a:lnTo>
                  <a:lnTo>
                    <a:pt x="1440" y="1551"/>
                  </a:lnTo>
                  <a:lnTo>
                    <a:pt x="1422" y="1533"/>
                  </a:lnTo>
                  <a:lnTo>
                    <a:pt x="1413" y="1407"/>
                  </a:lnTo>
                  <a:lnTo>
                    <a:pt x="1296" y="1260"/>
                  </a:lnTo>
                  <a:lnTo>
                    <a:pt x="1116" y="1008"/>
                  </a:lnTo>
                  <a:lnTo>
                    <a:pt x="792" y="1008"/>
                  </a:lnTo>
                  <a:lnTo>
                    <a:pt x="396" y="1548"/>
                  </a:lnTo>
                  <a:lnTo>
                    <a:pt x="252" y="1548"/>
                  </a:lnTo>
                  <a:lnTo>
                    <a:pt x="36" y="1368"/>
                  </a:lnTo>
                  <a:lnTo>
                    <a:pt x="0" y="1044"/>
                  </a:lnTo>
                  <a:lnTo>
                    <a:pt x="72" y="828"/>
                  </a:lnTo>
                  <a:lnTo>
                    <a:pt x="252" y="828"/>
                  </a:lnTo>
                  <a:lnTo>
                    <a:pt x="468" y="936"/>
                  </a:lnTo>
                  <a:lnTo>
                    <a:pt x="612" y="756"/>
                  </a:lnTo>
                  <a:lnTo>
                    <a:pt x="468" y="504"/>
                  </a:lnTo>
                  <a:lnTo>
                    <a:pt x="792" y="504"/>
                  </a:lnTo>
                  <a:lnTo>
                    <a:pt x="828" y="360"/>
                  </a:lnTo>
                  <a:lnTo>
                    <a:pt x="1080" y="180"/>
                  </a:lnTo>
                  <a:lnTo>
                    <a:pt x="1296" y="108"/>
                  </a:lnTo>
                  <a:lnTo>
                    <a:pt x="1274" y="16"/>
                  </a:lnTo>
                  <a:lnTo>
                    <a:pt x="1382" y="16"/>
                  </a:lnTo>
                  <a:lnTo>
                    <a:pt x="1404" y="108"/>
                  </a:lnTo>
                  <a:lnTo>
                    <a:pt x="1620" y="252"/>
                  </a:lnTo>
                  <a:lnTo>
                    <a:pt x="1728" y="0"/>
                  </a:lnTo>
                  <a:lnTo>
                    <a:pt x="5712"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300960" y="564372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742" name=""/>
            <p:cNvSpPr/>
            <p:nvPr/>
          </p:nvSpPr>
          <p:spPr>
            <a:xfrm>
              <a:off x="1701720" y="3133800"/>
              <a:ext cx="114480" cy="31428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2016000" y="3476520"/>
              <a:ext cx="257400" cy="23184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2992320" y="3938760"/>
              <a:ext cx="223920" cy="9360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4073400" y="3876840"/>
              <a:ext cx="171720" cy="15552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615960" y="1035000"/>
              <a:ext cx="799920" cy="698400"/>
            </a:xfrm>
            <a:custGeom>
              <a:avLst/>
              <a:gdLst/>
              <a:ahLst/>
              <a:rect l="l" t="t" r="r" b="b"/>
              <a:pathLst>
                <a:path w="504" h="440">
                  <a:moveTo>
                    <a:pt x="0" y="386"/>
                  </a:moveTo>
                  <a:lnTo>
                    <a:pt x="54" y="440"/>
                  </a:lnTo>
                  <a:lnTo>
                    <a:pt x="198" y="368"/>
                  </a:lnTo>
                  <a:lnTo>
                    <a:pt x="396" y="386"/>
                  </a:lnTo>
                  <a:lnTo>
                    <a:pt x="504" y="278"/>
                  </a:lnTo>
                  <a:lnTo>
                    <a:pt x="342" y="62"/>
                  </a:lnTo>
                  <a:lnTo>
                    <a:pt x="332" y="0"/>
                  </a:lnTo>
                  <a:lnTo>
                    <a:pt x="188" y="0"/>
                  </a:lnTo>
                  <a:lnTo>
                    <a:pt x="180" y="152"/>
                  </a:lnTo>
                  <a:lnTo>
                    <a:pt x="108" y="152"/>
                  </a:lnTo>
                  <a:lnTo>
                    <a:pt x="126" y="260"/>
                  </a:lnTo>
                  <a:lnTo>
                    <a:pt x="0" y="386"/>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30120" y="1038240"/>
              <a:ext cx="39996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1273320" y="85716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Persian Empire</a:t>
              </a:r>
              <a:endParaRPr b="0" lang="en-US" sz="4400" spc="-1" strike="noStrike">
                <a:solidFill>
                  <a:srgbClr val="ffffff"/>
                </a:solidFill>
                <a:latin typeface="Times New Roman"/>
              </a:endParaRPr>
            </a:p>
          </p:txBody>
        </p:sp>
        <p:sp>
          <p:nvSpPr>
            <p:cNvPr id="749" name=""/>
            <p:cNvSpPr/>
            <p:nvPr/>
          </p:nvSpPr>
          <p:spPr>
            <a:xfrm>
              <a:off x="5546880" y="3025800"/>
              <a:ext cx="238212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Arial"/>
                </a:rPr>
                <a:t>Persian</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Arial"/>
                </a:rPr>
                <a:t>Empire</a:t>
              </a:r>
              <a:endParaRPr b="0" lang="en-US" sz="4800" spc="-1" strike="noStrike">
                <a:solidFill>
                  <a:srgbClr val="ffffff"/>
                </a:solidFill>
                <a:latin typeface="Times New Roman"/>
              </a:endParaRPr>
            </a:p>
          </p:txBody>
        </p:sp>
        <p:sp>
          <p:nvSpPr>
            <p:cNvPr id="750" name=""/>
            <p:cNvSpPr/>
            <p:nvPr/>
          </p:nvSpPr>
          <p:spPr>
            <a:xfrm>
              <a:off x="4054320" y="4290840"/>
              <a:ext cx="382680" cy="328680"/>
            </a:xfrm>
            <a:custGeom>
              <a:avLst/>
              <a:gdLst/>
              <a:ahLst/>
              <a:rect l="l" t="t" r="r" b="b"/>
              <a:pathLst>
                <a:path w="241" h="207">
                  <a:moveTo>
                    <a:pt x="234" y="0"/>
                  </a:moveTo>
                  <a:lnTo>
                    <a:pt x="189" y="9"/>
                  </a:lnTo>
                  <a:lnTo>
                    <a:pt x="153" y="45"/>
                  </a:lnTo>
                  <a:lnTo>
                    <a:pt x="99" y="108"/>
                  </a:lnTo>
                  <a:lnTo>
                    <a:pt x="0" y="153"/>
                  </a:lnTo>
                  <a:lnTo>
                    <a:pt x="36" y="207"/>
                  </a:lnTo>
                  <a:lnTo>
                    <a:pt x="162" y="153"/>
                  </a:lnTo>
                  <a:lnTo>
                    <a:pt x="180" y="108"/>
                  </a:lnTo>
                  <a:lnTo>
                    <a:pt x="207" y="81"/>
                  </a:lnTo>
                  <a:lnTo>
                    <a:pt x="234" y="63"/>
                  </a:lnTo>
                  <a:lnTo>
                    <a:pt x="241" y="59"/>
                  </a:lnTo>
                  <a:lnTo>
                    <a:pt x="225" y="0"/>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4174560" y="398628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ah</a:t>
              </a:r>
              <a:endParaRPr b="0" lang="en-US" sz="2400" spc="-1" strike="noStrike">
                <a:solidFill>
                  <a:srgbClr val="ffffff"/>
                </a:solidFill>
                <a:latin typeface="Times New Roman"/>
              </a:endParaRPr>
            </a:p>
          </p:txBody>
        </p:sp>
        <p:sp>
          <p:nvSpPr>
            <p:cNvPr id="752" name=""/>
            <p:cNvSpPr/>
            <p:nvPr/>
          </p:nvSpPr>
          <p:spPr>
            <a:xfrm>
              <a:off x="3105360" y="4734000"/>
              <a:ext cx="103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gypt</a:t>
              </a:r>
              <a:endParaRPr b="0" lang="en-US" sz="3200" spc="-1" strike="noStrike">
                <a:solidFill>
                  <a:srgbClr val="ffffff"/>
                </a:solidFill>
                <a:latin typeface="Times New Roman"/>
              </a:endParaRPr>
            </a:p>
          </p:txBody>
        </p:sp>
        <p:sp>
          <p:nvSpPr>
            <p:cNvPr id="753" name=""/>
            <p:cNvSpPr/>
            <p:nvPr/>
          </p:nvSpPr>
          <p:spPr>
            <a:xfrm>
              <a:off x="3956040" y="4654440"/>
              <a:ext cx="127080" cy="26064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4" name=""/>
            <p:cNvSpPr/>
            <p:nvPr/>
          </p:nvSpPr>
          <p:spPr>
            <a:xfrm>
              <a:off x="5149800" y="218448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5" name=""/>
            <p:cNvSpPr/>
            <p:nvPr/>
          </p:nvSpPr>
          <p:spPr>
            <a:xfrm>
              <a:off x="2357280" y="2152800"/>
              <a:ext cx="6786720" cy="3886200"/>
            </a:xfrm>
            <a:custGeom>
              <a:avLst/>
              <a:gdLst/>
              <a:ahLst/>
              <a:rect l="l" t="t" r="r" b="b"/>
              <a:pathLst>
                <a:path w="4275" h="2448">
                  <a:moveTo>
                    <a:pt x="1228" y="2160"/>
                  </a:moveTo>
                  <a:lnTo>
                    <a:pt x="819" y="2160"/>
                  </a:lnTo>
                  <a:lnTo>
                    <a:pt x="716" y="2058"/>
                  </a:lnTo>
                  <a:lnTo>
                    <a:pt x="573" y="1956"/>
                  </a:lnTo>
                  <a:lnTo>
                    <a:pt x="491" y="1813"/>
                  </a:lnTo>
                  <a:lnTo>
                    <a:pt x="328" y="1711"/>
                  </a:lnTo>
                  <a:lnTo>
                    <a:pt x="62" y="1567"/>
                  </a:lnTo>
                  <a:lnTo>
                    <a:pt x="0" y="1445"/>
                  </a:lnTo>
                  <a:lnTo>
                    <a:pt x="123" y="1281"/>
                  </a:lnTo>
                  <a:lnTo>
                    <a:pt x="450" y="1199"/>
                  </a:lnTo>
                  <a:lnTo>
                    <a:pt x="655" y="1158"/>
                  </a:lnTo>
                  <a:lnTo>
                    <a:pt x="716" y="1036"/>
                  </a:lnTo>
                  <a:lnTo>
                    <a:pt x="614" y="974"/>
                  </a:lnTo>
                  <a:lnTo>
                    <a:pt x="627" y="828"/>
                  </a:lnTo>
                  <a:lnTo>
                    <a:pt x="411" y="792"/>
                  </a:lnTo>
                  <a:lnTo>
                    <a:pt x="411" y="612"/>
                  </a:lnTo>
                  <a:lnTo>
                    <a:pt x="663" y="612"/>
                  </a:lnTo>
                  <a:lnTo>
                    <a:pt x="819" y="218"/>
                  </a:lnTo>
                  <a:lnTo>
                    <a:pt x="941" y="197"/>
                  </a:lnTo>
                  <a:lnTo>
                    <a:pt x="1167" y="324"/>
                  </a:lnTo>
                  <a:lnTo>
                    <a:pt x="1491" y="360"/>
                  </a:lnTo>
                  <a:lnTo>
                    <a:pt x="1671" y="360"/>
                  </a:lnTo>
                  <a:lnTo>
                    <a:pt x="1995" y="288"/>
                  </a:lnTo>
                  <a:lnTo>
                    <a:pt x="2211" y="396"/>
                  </a:lnTo>
                  <a:lnTo>
                    <a:pt x="2391" y="36"/>
                  </a:lnTo>
                  <a:lnTo>
                    <a:pt x="2751" y="0"/>
                  </a:lnTo>
                  <a:lnTo>
                    <a:pt x="2905" y="177"/>
                  </a:lnTo>
                  <a:lnTo>
                    <a:pt x="3723" y="468"/>
                  </a:lnTo>
                  <a:lnTo>
                    <a:pt x="4275" y="648"/>
                  </a:lnTo>
                  <a:lnTo>
                    <a:pt x="4275" y="2385"/>
                  </a:lnTo>
                  <a:lnTo>
                    <a:pt x="4119" y="2448"/>
                  </a:lnTo>
                  <a:lnTo>
                    <a:pt x="3478" y="2385"/>
                  </a:lnTo>
                  <a:lnTo>
                    <a:pt x="3212" y="2304"/>
                  </a:lnTo>
                  <a:lnTo>
                    <a:pt x="2884" y="2304"/>
                  </a:lnTo>
                  <a:lnTo>
                    <a:pt x="2455" y="1976"/>
                  </a:lnTo>
                  <a:lnTo>
                    <a:pt x="2067" y="1800"/>
                  </a:lnTo>
                  <a:lnTo>
                    <a:pt x="1707" y="1692"/>
                  </a:lnTo>
                  <a:lnTo>
                    <a:pt x="1555" y="1465"/>
                  </a:lnTo>
                  <a:lnTo>
                    <a:pt x="1347" y="1656"/>
                  </a:lnTo>
                  <a:lnTo>
                    <a:pt x="1146" y="1690"/>
                  </a:lnTo>
                  <a:lnTo>
                    <a:pt x="1125" y="1874"/>
                  </a:lnTo>
                  <a:lnTo>
                    <a:pt x="1269" y="2058"/>
                  </a:lnTo>
                  <a:lnTo>
                    <a:pt x="1228" y="2160"/>
                  </a:lnTo>
                  <a:close/>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1352160" y="343836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terranean</a:t>
              </a:r>
              <a:endParaRPr b="0" lang="en-US" sz="32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38640" y="609480"/>
            <a:ext cx="2857320" cy="114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Bible Lands Overview</a:t>
            </a:r>
            <a:endParaRPr b="1" lang="en-US" sz="100" spc="-1" strike="noStrike" u="sng">
              <a:solidFill>
                <a:srgbClr val="c0fef9"/>
              </a:solidFill>
              <a:uFillTx/>
              <a:latin typeface="Times New Roman"/>
            </a:endParaRPr>
          </a:p>
        </p:txBody>
      </p:sp>
      <p:sp>
        <p:nvSpPr>
          <p:cNvPr id="96"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97" name=""/>
          <p:cNvGrpSpPr/>
          <p:nvPr/>
        </p:nvGrpSpPr>
        <p:grpSpPr>
          <a:xfrm>
            <a:off x="685800" y="609480"/>
            <a:ext cx="7856640" cy="5810400"/>
            <a:chOff x="685800" y="609480"/>
            <a:chExt cx="7856640" cy="5810400"/>
          </a:xfrm>
        </p:grpSpPr>
        <p:grpSp>
          <p:nvGrpSpPr>
            <p:cNvPr id="98" name=""/>
            <p:cNvGrpSpPr/>
            <p:nvPr/>
          </p:nvGrpSpPr>
          <p:grpSpPr>
            <a:xfrm>
              <a:off x="5191200" y="3192480"/>
              <a:ext cx="3351240" cy="3227400"/>
              <a:chOff x="5191200" y="3192480"/>
              <a:chExt cx="3351240" cy="3227400"/>
            </a:xfrm>
          </p:grpSpPr>
          <p:sp>
            <p:nvSpPr>
              <p:cNvPr id="99" name=""/>
              <p:cNvSpPr/>
              <p:nvPr/>
            </p:nvSpPr>
            <p:spPr>
              <a:xfrm>
                <a:off x="5191200" y="3219480"/>
                <a:ext cx="3343320" cy="3200400"/>
              </a:xfrm>
              <a:custGeom>
                <a:avLst/>
                <a:gdLst/>
                <a:ahLst/>
                <a:rect l="l" t="t" r="r" b="b"/>
                <a:pathLst>
                  <a:path w="2106" h="2016">
                    <a:moveTo>
                      <a:pt x="144" y="2016"/>
                    </a:moveTo>
                    <a:lnTo>
                      <a:pt x="90" y="1890"/>
                    </a:lnTo>
                    <a:lnTo>
                      <a:pt x="54" y="1746"/>
                    </a:lnTo>
                    <a:lnTo>
                      <a:pt x="18" y="1620"/>
                    </a:lnTo>
                    <a:lnTo>
                      <a:pt x="18" y="1440"/>
                    </a:lnTo>
                    <a:lnTo>
                      <a:pt x="0" y="1278"/>
                    </a:lnTo>
                    <a:lnTo>
                      <a:pt x="36" y="936"/>
                    </a:lnTo>
                    <a:lnTo>
                      <a:pt x="108" y="720"/>
                    </a:lnTo>
                    <a:lnTo>
                      <a:pt x="216" y="450"/>
                    </a:lnTo>
                    <a:lnTo>
                      <a:pt x="306" y="288"/>
                    </a:lnTo>
                    <a:lnTo>
                      <a:pt x="432" y="108"/>
                    </a:lnTo>
                    <a:lnTo>
                      <a:pt x="504" y="0"/>
                    </a:lnTo>
                    <a:lnTo>
                      <a:pt x="2106" y="0"/>
                    </a:lnTo>
                    <a:lnTo>
                      <a:pt x="2106" y="1998"/>
                    </a:lnTo>
                    <a:lnTo>
                      <a:pt x="108" y="1998"/>
                    </a:lnTo>
                  </a:path>
                </a:pathLst>
              </a:custGeom>
              <a:solidFill>
                <a:srgbClr val="0000ff"/>
              </a:solid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200640" y="4692600"/>
                <a:ext cx="57240" cy="66600"/>
              </a:xfrm>
              <a:custGeom>
                <a:avLst/>
                <a:gdLst/>
                <a:ahLst/>
                <a:rect l="l" t="t" r="r" b="b"/>
                <a:pathLst>
                  <a:path w="36" h="42">
                    <a:moveTo>
                      <a:pt x="0" y="6"/>
                    </a:moveTo>
                    <a:lnTo>
                      <a:pt x="18" y="0"/>
                    </a:lnTo>
                    <a:lnTo>
                      <a:pt x="30" y="12"/>
                    </a:lnTo>
                    <a:lnTo>
                      <a:pt x="36" y="24"/>
                    </a:lnTo>
                    <a:lnTo>
                      <a:pt x="30" y="42"/>
                    </a:lnTo>
                    <a:lnTo>
                      <a:pt x="12" y="24"/>
                    </a:lnTo>
                    <a:lnTo>
                      <a:pt x="0" y="6"/>
                    </a:lnTo>
                    <a:close/>
                  </a:path>
                </a:pathLst>
              </a:custGeom>
              <a:solidFill>
                <a:srgbClr val="008000"/>
              </a:solidFill>
              <a:ln w="255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01" name=""/>
              <p:cNvSpPr/>
              <p:nvPr/>
            </p:nvSpPr>
            <p:spPr>
              <a:xfrm>
                <a:off x="6086520" y="4578480"/>
                <a:ext cx="38160" cy="75960"/>
              </a:xfrm>
              <a:custGeom>
                <a:avLst/>
                <a:gdLst/>
                <a:ahLst/>
                <a:rect l="l" t="t" r="r" b="b"/>
                <a:pathLst>
                  <a:path w="24" h="48">
                    <a:moveTo>
                      <a:pt x="0" y="18"/>
                    </a:moveTo>
                    <a:lnTo>
                      <a:pt x="18" y="0"/>
                    </a:lnTo>
                    <a:lnTo>
                      <a:pt x="24" y="12"/>
                    </a:lnTo>
                    <a:lnTo>
                      <a:pt x="24" y="48"/>
                    </a:lnTo>
                    <a:lnTo>
                      <a:pt x="0" y="48"/>
                    </a:lnTo>
                    <a:lnTo>
                      <a:pt x="0" y="18"/>
                    </a:lnTo>
                    <a:close/>
                  </a:path>
                </a:pathLst>
              </a:custGeom>
              <a:solidFill>
                <a:srgbClr val="008000"/>
              </a:solidFill>
              <a:ln w="2556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02" name=""/>
              <p:cNvSpPr/>
              <p:nvPr/>
            </p:nvSpPr>
            <p:spPr>
              <a:xfrm>
                <a:off x="6095880" y="4511520"/>
                <a:ext cx="19080" cy="47880"/>
              </a:xfrm>
              <a:custGeom>
                <a:avLst/>
                <a:gdLst/>
                <a:ahLst/>
                <a:rect l="l" t="t" r="r" b="b"/>
                <a:pathLst>
                  <a:path w="12" h="30">
                    <a:moveTo>
                      <a:pt x="0" y="6"/>
                    </a:moveTo>
                    <a:lnTo>
                      <a:pt x="12" y="0"/>
                    </a:lnTo>
                    <a:lnTo>
                      <a:pt x="12" y="24"/>
                    </a:lnTo>
                    <a:lnTo>
                      <a:pt x="0" y="30"/>
                    </a:lnTo>
                    <a:lnTo>
                      <a:pt x="0" y="6"/>
                    </a:lnTo>
                    <a:close/>
                  </a:path>
                </a:pathLst>
              </a:custGeom>
              <a:solidFill>
                <a:srgbClr val="008000"/>
              </a:solidFill>
              <a:ln w="2556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03" name=""/>
              <p:cNvSpPr/>
              <p:nvPr/>
            </p:nvSpPr>
            <p:spPr>
              <a:xfrm>
                <a:off x="5781600" y="3978360"/>
                <a:ext cx="114480" cy="123840"/>
              </a:xfrm>
              <a:custGeom>
                <a:avLst/>
                <a:gdLst/>
                <a:ahLst/>
                <a:rect l="l" t="t" r="r" b="b"/>
                <a:pathLst>
                  <a:path w="72" h="78">
                    <a:moveTo>
                      <a:pt x="6" y="54"/>
                    </a:moveTo>
                    <a:lnTo>
                      <a:pt x="60" y="0"/>
                    </a:lnTo>
                    <a:lnTo>
                      <a:pt x="72" y="0"/>
                    </a:lnTo>
                    <a:lnTo>
                      <a:pt x="72" y="12"/>
                    </a:lnTo>
                    <a:lnTo>
                      <a:pt x="54" y="30"/>
                    </a:lnTo>
                    <a:lnTo>
                      <a:pt x="60" y="48"/>
                    </a:lnTo>
                    <a:lnTo>
                      <a:pt x="48" y="72"/>
                    </a:lnTo>
                    <a:lnTo>
                      <a:pt x="36" y="72"/>
                    </a:lnTo>
                    <a:lnTo>
                      <a:pt x="0" y="78"/>
                    </a:lnTo>
                    <a:lnTo>
                      <a:pt x="6" y="54"/>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854680" y="3886200"/>
                <a:ext cx="190440" cy="314280"/>
              </a:xfrm>
              <a:custGeom>
                <a:avLst/>
                <a:gdLst/>
                <a:ahLst/>
                <a:rect l="l" t="t" r="r" b="b"/>
                <a:pathLst>
                  <a:path w="120" h="198">
                    <a:moveTo>
                      <a:pt x="12" y="198"/>
                    </a:moveTo>
                    <a:cubicBezTo>
                      <a:pt x="27" y="193"/>
                      <a:pt x="38" y="186"/>
                      <a:pt x="54" y="186"/>
                    </a:cubicBezTo>
                    <a:lnTo>
                      <a:pt x="96" y="186"/>
                    </a:lnTo>
                    <a:lnTo>
                      <a:pt x="120" y="162"/>
                    </a:lnTo>
                    <a:lnTo>
                      <a:pt x="84" y="114"/>
                    </a:lnTo>
                    <a:lnTo>
                      <a:pt x="84" y="48"/>
                    </a:lnTo>
                    <a:lnTo>
                      <a:pt x="114" y="24"/>
                    </a:lnTo>
                    <a:lnTo>
                      <a:pt x="78" y="24"/>
                    </a:lnTo>
                    <a:lnTo>
                      <a:pt x="96" y="0"/>
                    </a:lnTo>
                    <a:lnTo>
                      <a:pt x="72" y="0"/>
                    </a:lnTo>
                    <a:lnTo>
                      <a:pt x="36" y="36"/>
                    </a:lnTo>
                    <a:lnTo>
                      <a:pt x="42" y="96"/>
                    </a:lnTo>
                    <a:lnTo>
                      <a:pt x="48" y="132"/>
                    </a:lnTo>
                    <a:lnTo>
                      <a:pt x="24" y="132"/>
                    </a:lnTo>
                    <a:lnTo>
                      <a:pt x="30" y="156"/>
                    </a:lnTo>
                    <a:lnTo>
                      <a:pt x="0" y="192"/>
                    </a:lnTo>
                    <a:lnTo>
                      <a:pt x="12" y="198"/>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684760" y="3192480"/>
                <a:ext cx="2857680" cy="2811600"/>
              </a:xfrm>
              <a:custGeom>
                <a:avLst/>
                <a:gdLst/>
                <a:ahLst/>
                <a:rect l="l" t="t" r="r" b="b"/>
                <a:pathLst>
                  <a:path w="1800" h="1771">
                    <a:moveTo>
                      <a:pt x="1800" y="1383"/>
                    </a:moveTo>
                    <a:lnTo>
                      <a:pt x="1742" y="1383"/>
                    </a:lnTo>
                    <a:lnTo>
                      <a:pt x="1613" y="1555"/>
                    </a:lnTo>
                    <a:lnTo>
                      <a:pt x="1627" y="1656"/>
                    </a:lnTo>
                    <a:lnTo>
                      <a:pt x="1584" y="1771"/>
                    </a:lnTo>
                    <a:lnTo>
                      <a:pt x="1541" y="1771"/>
                    </a:lnTo>
                    <a:lnTo>
                      <a:pt x="1397" y="1512"/>
                    </a:lnTo>
                    <a:lnTo>
                      <a:pt x="1397" y="1397"/>
                    </a:lnTo>
                    <a:lnTo>
                      <a:pt x="1353" y="1426"/>
                    </a:lnTo>
                    <a:lnTo>
                      <a:pt x="1281" y="1426"/>
                    </a:lnTo>
                    <a:lnTo>
                      <a:pt x="1325" y="1354"/>
                    </a:lnTo>
                    <a:lnTo>
                      <a:pt x="1195" y="1267"/>
                    </a:lnTo>
                    <a:lnTo>
                      <a:pt x="1065" y="1267"/>
                    </a:lnTo>
                    <a:lnTo>
                      <a:pt x="878" y="1167"/>
                    </a:lnTo>
                    <a:lnTo>
                      <a:pt x="878" y="1267"/>
                    </a:lnTo>
                    <a:lnTo>
                      <a:pt x="993" y="1325"/>
                    </a:lnTo>
                    <a:lnTo>
                      <a:pt x="1037" y="1325"/>
                    </a:lnTo>
                    <a:lnTo>
                      <a:pt x="921" y="1426"/>
                    </a:lnTo>
                    <a:lnTo>
                      <a:pt x="792" y="1483"/>
                    </a:lnTo>
                    <a:lnTo>
                      <a:pt x="792" y="1411"/>
                    </a:lnTo>
                    <a:lnTo>
                      <a:pt x="677" y="1239"/>
                    </a:lnTo>
                    <a:lnTo>
                      <a:pt x="590" y="1123"/>
                    </a:lnTo>
                    <a:lnTo>
                      <a:pt x="619" y="1095"/>
                    </a:lnTo>
                    <a:lnTo>
                      <a:pt x="691" y="1051"/>
                    </a:lnTo>
                    <a:lnTo>
                      <a:pt x="677" y="1008"/>
                    </a:lnTo>
                    <a:lnTo>
                      <a:pt x="677" y="951"/>
                    </a:lnTo>
                    <a:lnTo>
                      <a:pt x="633" y="979"/>
                    </a:lnTo>
                    <a:lnTo>
                      <a:pt x="576" y="965"/>
                    </a:lnTo>
                    <a:lnTo>
                      <a:pt x="533" y="951"/>
                    </a:lnTo>
                    <a:lnTo>
                      <a:pt x="533" y="879"/>
                    </a:lnTo>
                    <a:lnTo>
                      <a:pt x="561" y="893"/>
                    </a:lnTo>
                    <a:lnTo>
                      <a:pt x="619" y="850"/>
                    </a:lnTo>
                    <a:lnTo>
                      <a:pt x="734" y="821"/>
                    </a:lnTo>
                    <a:lnTo>
                      <a:pt x="662" y="763"/>
                    </a:lnTo>
                    <a:lnTo>
                      <a:pt x="662" y="720"/>
                    </a:lnTo>
                    <a:lnTo>
                      <a:pt x="648" y="763"/>
                    </a:lnTo>
                    <a:lnTo>
                      <a:pt x="619" y="763"/>
                    </a:lnTo>
                    <a:lnTo>
                      <a:pt x="590" y="735"/>
                    </a:lnTo>
                    <a:lnTo>
                      <a:pt x="561" y="763"/>
                    </a:lnTo>
                    <a:lnTo>
                      <a:pt x="561" y="807"/>
                    </a:lnTo>
                    <a:lnTo>
                      <a:pt x="547" y="835"/>
                    </a:lnTo>
                    <a:lnTo>
                      <a:pt x="561" y="864"/>
                    </a:lnTo>
                    <a:lnTo>
                      <a:pt x="533" y="864"/>
                    </a:lnTo>
                    <a:lnTo>
                      <a:pt x="489" y="922"/>
                    </a:lnTo>
                    <a:lnTo>
                      <a:pt x="489" y="965"/>
                    </a:lnTo>
                    <a:lnTo>
                      <a:pt x="461" y="994"/>
                    </a:lnTo>
                    <a:lnTo>
                      <a:pt x="446" y="951"/>
                    </a:lnTo>
                    <a:lnTo>
                      <a:pt x="446" y="907"/>
                    </a:lnTo>
                    <a:lnTo>
                      <a:pt x="432" y="879"/>
                    </a:lnTo>
                    <a:lnTo>
                      <a:pt x="374" y="807"/>
                    </a:lnTo>
                    <a:lnTo>
                      <a:pt x="360" y="778"/>
                    </a:lnTo>
                    <a:lnTo>
                      <a:pt x="331" y="792"/>
                    </a:lnTo>
                    <a:lnTo>
                      <a:pt x="331" y="821"/>
                    </a:lnTo>
                    <a:lnTo>
                      <a:pt x="403" y="907"/>
                    </a:lnTo>
                    <a:lnTo>
                      <a:pt x="374" y="936"/>
                    </a:lnTo>
                    <a:lnTo>
                      <a:pt x="374" y="965"/>
                    </a:lnTo>
                    <a:lnTo>
                      <a:pt x="360" y="922"/>
                    </a:lnTo>
                    <a:lnTo>
                      <a:pt x="331" y="879"/>
                    </a:lnTo>
                    <a:lnTo>
                      <a:pt x="317" y="835"/>
                    </a:lnTo>
                    <a:lnTo>
                      <a:pt x="273" y="792"/>
                    </a:lnTo>
                    <a:lnTo>
                      <a:pt x="187" y="807"/>
                    </a:lnTo>
                    <a:lnTo>
                      <a:pt x="86" y="936"/>
                    </a:lnTo>
                    <a:lnTo>
                      <a:pt x="57" y="936"/>
                    </a:lnTo>
                    <a:lnTo>
                      <a:pt x="0" y="893"/>
                    </a:lnTo>
                    <a:lnTo>
                      <a:pt x="0" y="850"/>
                    </a:lnTo>
                    <a:lnTo>
                      <a:pt x="0" y="807"/>
                    </a:lnTo>
                    <a:lnTo>
                      <a:pt x="14" y="749"/>
                    </a:lnTo>
                    <a:lnTo>
                      <a:pt x="72" y="749"/>
                    </a:lnTo>
                    <a:lnTo>
                      <a:pt x="115" y="778"/>
                    </a:lnTo>
                    <a:lnTo>
                      <a:pt x="144" y="735"/>
                    </a:lnTo>
                    <a:lnTo>
                      <a:pt x="144" y="706"/>
                    </a:lnTo>
                    <a:lnTo>
                      <a:pt x="129" y="663"/>
                    </a:lnTo>
                    <a:lnTo>
                      <a:pt x="187" y="663"/>
                    </a:lnTo>
                    <a:lnTo>
                      <a:pt x="273" y="576"/>
                    </a:lnTo>
                    <a:lnTo>
                      <a:pt x="317" y="576"/>
                    </a:lnTo>
                    <a:lnTo>
                      <a:pt x="317" y="519"/>
                    </a:lnTo>
                    <a:lnTo>
                      <a:pt x="345" y="533"/>
                    </a:lnTo>
                    <a:lnTo>
                      <a:pt x="345" y="562"/>
                    </a:lnTo>
                    <a:lnTo>
                      <a:pt x="403" y="591"/>
                    </a:lnTo>
                    <a:lnTo>
                      <a:pt x="417" y="562"/>
                    </a:lnTo>
                    <a:lnTo>
                      <a:pt x="475" y="504"/>
                    </a:lnTo>
                    <a:lnTo>
                      <a:pt x="533" y="475"/>
                    </a:lnTo>
                    <a:lnTo>
                      <a:pt x="475" y="461"/>
                    </a:lnTo>
                    <a:lnTo>
                      <a:pt x="461" y="403"/>
                    </a:lnTo>
                    <a:lnTo>
                      <a:pt x="518" y="303"/>
                    </a:lnTo>
                    <a:lnTo>
                      <a:pt x="504" y="274"/>
                    </a:lnTo>
                    <a:lnTo>
                      <a:pt x="403" y="403"/>
                    </a:lnTo>
                    <a:lnTo>
                      <a:pt x="417" y="475"/>
                    </a:lnTo>
                    <a:lnTo>
                      <a:pt x="403" y="504"/>
                    </a:lnTo>
                    <a:lnTo>
                      <a:pt x="374" y="547"/>
                    </a:lnTo>
                    <a:lnTo>
                      <a:pt x="360" y="461"/>
                    </a:lnTo>
                    <a:lnTo>
                      <a:pt x="317" y="490"/>
                    </a:lnTo>
                    <a:lnTo>
                      <a:pt x="288" y="490"/>
                    </a:lnTo>
                    <a:lnTo>
                      <a:pt x="288" y="403"/>
                    </a:lnTo>
                    <a:lnTo>
                      <a:pt x="446" y="202"/>
                    </a:lnTo>
                    <a:lnTo>
                      <a:pt x="547" y="159"/>
                    </a:lnTo>
                    <a:lnTo>
                      <a:pt x="648" y="187"/>
                    </a:lnTo>
                    <a:lnTo>
                      <a:pt x="662" y="259"/>
                    </a:lnTo>
                    <a:lnTo>
                      <a:pt x="619" y="259"/>
                    </a:lnTo>
                    <a:lnTo>
                      <a:pt x="677" y="346"/>
                    </a:lnTo>
                    <a:lnTo>
                      <a:pt x="864" y="245"/>
                    </a:lnTo>
                    <a:lnTo>
                      <a:pt x="835" y="187"/>
                    </a:lnTo>
                    <a:lnTo>
                      <a:pt x="921" y="87"/>
                    </a:lnTo>
                    <a:lnTo>
                      <a:pt x="979" y="87"/>
                    </a:lnTo>
                    <a:lnTo>
                      <a:pt x="893" y="130"/>
                    </a:lnTo>
                    <a:lnTo>
                      <a:pt x="893" y="231"/>
                    </a:lnTo>
                    <a:lnTo>
                      <a:pt x="993" y="303"/>
                    </a:lnTo>
                    <a:lnTo>
                      <a:pt x="1123" y="130"/>
                    </a:lnTo>
                    <a:lnTo>
                      <a:pt x="1425" y="0"/>
                    </a:lnTo>
                    <a:lnTo>
                      <a:pt x="1800"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267160" y="4695840"/>
                <a:ext cx="1957680" cy="1700280"/>
              </a:xfrm>
              <a:custGeom>
                <a:avLst/>
                <a:gdLst/>
                <a:ahLst/>
                <a:rect l="l" t="t" r="r" b="b"/>
                <a:pathLst>
                  <a:path w="1233" h="1071">
                    <a:moveTo>
                      <a:pt x="522" y="1071"/>
                    </a:moveTo>
                    <a:cubicBezTo>
                      <a:pt x="516" y="1065"/>
                      <a:pt x="510" y="1059"/>
                      <a:pt x="504" y="1053"/>
                    </a:cubicBezTo>
                    <a:cubicBezTo>
                      <a:pt x="501" y="1050"/>
                      <a:pt x="513" y="1044"/>
                      <a:pt x="513" y="1044"/>
                    </a:cubicBezTo>
                    <a:lnTo>
                      <a:pt x="459" y="882"/>
                    </a:lnTo>
                    <a:lnTo>
                      <a:pt x="450" y="792"/>
                    </a:lnTo>
                    <a:lnTo>
                      <a:pt x="468" y="729"/>
                    </a:lnTo>
                    <a:lnTo>
                      <a:pt x="342" y="693"/>
                    </a:lnTo>
                    <a:lnTo>
                      <a:pt x="189" y="693"/>
                    </a:lnTo>
                    <a:lnTo>
                      <a:pt x="162" y="729"/>
                    </a:lnTo>
                    <a:lnTo>
                      <a:pt x="90" y="666"/>
                    </a:lnTo>
                    <a:lnTo>
                      <a:pt x="0" y="531"/>
                    </a:lnTo>
                    <a:lnTo>
                      <a:pt x="18" y="477"/>
                    </a:lnTo>
                    <a:lnTo>
                      <a:pt x="36" y="423"/>
                    </a:lnTo>
                    <a:lnTo>
                      <a:pt x="36" y="351"/>
                    </a:lnTo>
                    <a:lnTo>
                      <a:pt x="90" y="243"/>
                    </a:lnTo>
                    <a:lnTo>
                      <a:pt x="117" y="234"/>
                    </a:lnTo>
                    <a:lnTo>
                      <a:pt x="144" y="198"/>
                    </a:lnTo>
                    <a:lnTo>
                      <a:pt x="171" y="126"/>
                    </a:lnTo>
                    <a:lnTo>
                      <a:pt x="315" y="0"/>
                    </a:lnTo>
                    <a:lnTo>
                      <a:pt x="414" y="54"/>
                    </a:lnTo>
                    <a:lnTo>
                      <a:pt x="504" y="36"/>
                    </a:lnTo>
                    <a:lnTo>
                      <a:pt x="522" y="117"/>
                    </a:lnTo>
                    <a:lnTo>
                      <a:pt x="576" y="117"/>
                    </a:lnTo>
                    <a:lnTo>
                      <a:pt x="630" y="162"/>
                    </a:lnTo>
                    <a:lnTo>
                      <a:pt x="684" y="135"/>
                    </a:lnTo>
                    <a:lnTo>
                      <a:pt x="783" y="171"/>
                    </a:lnTo>
                    <a:lnTo>
                      <a:pt x="855" y="171"/>
                    </a:lnTo>
                    <a:lnTo>
                      <a:pt x="873" y="171"/>
                    </a:lnTo>
                    <a:lnTo>
                      <a:pt x="864" y="261"/>
                    </a:lnTo>
                    <a:lnTo>
                      <a:pt x="927" y="324"/>
                    </a:lnTo>
                    <a:lnTo>
                      <a:pt x="954" y="441"/>
                    </a:lnTo>
                    <a:lnTo>
                      <a:pt x="981" y="468"/>
                    </a:lnTo>
                    <a:lnTo>
                      <a:pt x="1026" y="513"/>
                    </a:lnTo>
                    <a:lnTo>
                      <a:pt x="1062" y="531"/>
                    </a:lnTo>
                    <a:lnTo>
                      <a:pt x="1053" y="576"/>
                    </a:lnTo>
                    <a:lnTo>
                      <a:pt x="1116" y="612"/>
                    </a:lnTo>
                    <a:lnTo>
                      <a:pt x="1215" y="558"/>
                    </a:lnTo>
                    <a:lnTo>
                      <a:pt x="1233" y="585"/>
                    </a:lnTo>
                    <a:lnTo>
                      <a:pt x="1161" y="756"/>
                    </a:lnTo>
                    <a:lnTo>
                      <a:pt x="1035" y="846"/>
                    </a:lnTo>
                    <a:lnTo>
                      <a:pt x="1044" y="873"/>
                    </a:lnTo>
                    <a:lnTo>
                      <a:pt x="1044" y="918"/>
                    </a:lnTo>
                    <a:lnTo>
                      <a:pt x="981" y="981"/>
                    </a:lnTo>
                    <a:lnTo>
                      <a:pt x="1008" y="1008"/>
                    </a:lnTo>
                    <a:lnTo>
                      <a:pt x="1035" y="1071"/>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394320" y="4753080"/>
                <a:ext cx="47880" cy="19080"/>
              </a:xfrm>
              <a:custGeom>
                <a:avLst/>
                <a:gdLst/>
                <a:ahLst/>
                <a:rect l="l" t="t" r="r" b="b"/>
                <a:pathLst>
                  <a:path w="30" h="12">
                    <a:moveTo>
                      <a:pt x="0" y="0"/>
                    </a:moveTo>
                    <a:lnTo>
                      <a:pt x="24" y="0"/>
                    </a:lnTo>
                    <a:lnTo>
                      <a:pt x="30" y="12"/>
                    </a:lnTo>
                    <a:lnTo>
                      <a:pt x="18" y="12"/>
                    </a:lnTo>
                    <a:lnTo>
                      <a:pt x="6" y="12"/>
                    </a:lnTo>
                  </a:path>
                </a:pathLst>
              </a:custGeom>
              <a:solidFill>
                <a:srgbClr val="008000"/>
              </a:solidFill>
              <a:ln w="2556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a:off x="6689880" y="4770360"/>
                <a:ext cx="37800" cy="20880"/>
              </a:xfrm>
              <a:custGeom>
                <a:avLst/>
                <a:gdLst/>
                <a:ahLst/>
                <a:rect l="l" t="t" r="r" b="b"/>
                <a:pathLst>
                  <a:path w="24" h="13">
                    <a:moveTo>
                      <a:pt x="0" y="7"/>
                    </a:moveTo>
                    <a:cubicBezTo>
                      <a:pt x="20" y="0"/>
                      <a:pt x="12" y="1"/>
                      <a:pt x="24" y="1"/>
                    </a:cubicBezTo>
                    <a:lnTo>
                      <a:pt x="18" y="13"/>
                    </a:lnTo>
                    <a:lnTo>
                      <a:pt x="0" y="7"/>
                    </a:lnTo>
                    <a:close/>
                  </a:path>
                </a:pathLst>
              </a:custGeom>
              <a:solidFill>
                <a:srgbClr val="008000"/>
              </a:solidFill>
              <a:ln w="255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grpSp>
        <p:sp>
          <p:nvSpPr>
            <p:cNvPr id="10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afd00"/>
                  </a:solidFill>
                  <a:uFillTx/>
                  <a:latin typeface="Arial"/>
                </a:rPr>
                <a:t>Bible Lands</a:t>
              </a:r>
              <a:endParaRPr b="0" lang="en-US" sz="6000" spc="-1" strike="noStrike">
                <a:solidFill>
                  <a:srgbClr val="ffffff"/>
                </a:solidFill>
                <a:latin typeface="Times New Roman"/>
              </a:endParaRPr>
            </a:p>
          </p:txBody>
        </p:sp>
        <p:sp>
          <p:nvSpPr>
            <p:cNvPr id="11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   </a:t>
              </a:r>
              <a:r>
                <a:rPr b="1" lang="en-US" sz="4800" spc="-1" strike="noStrike">
                  <a:solidFill>
                    <a:srgbClr val="ffffff"/>
                  </a:solidFill>
                  <a:latin typeface="Times New Roman"/>
                </a:rPr>
                <a:t>Southern Europe</a:t>
              </a:r>
              <a:endParaRPr b="0" lang="en-US" sz="4800" spc="-1" strike="noStrike">
                <a:solidFill>
                  <a:srgbClr val="ffffff"/>
                </a:solidFill>
                <a:latin typeface="Times New Roman"/>
              </a:endParaRPr>
            </a:p>
            <a:p>
              <a:pPr marL="343080" indent="-343080">
                <a:spcBef>
                  <a:spcPts val="11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   </a:t>
              </a:r>
              <a:r>
                <a:rPr b="1" lang="en-US" sz="4800" spc="-1" strike="noStrike">
                  <a:solidFill>
                    <a:srgbClr val="ffffff"/>
                  </a:solidFill>
                  <a:latin typeface="Times New Roman"/>
                </a:rPr>
                <a:t>Middle East</a:t>
              </a:r>
              <a:endParaRPr b="0" lang="en-US" sz="4800" spc="-1" strike="noStrike">
                <a:solidFill>
                  <a:srgbClr val="ffffff"/>
                </a:solidFill>
                <a:latin typeface="Times New Roman"/>
              </a:endParaRPr>
            </a:p>
            <a:p>
              <a:pPr marL="343080" indent="-343080">
                <a:spcBef>
                  <a:spcPts val="11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   </a:t>
              </a:r>
              <a:r>
                <a:rPr b="1" lang="en-US" sz="4800" spc="-1" strike="noStrike">
                  <a:solidFill>
                    <a:srgbClr val="ffffff"/>
                  </a:solidFill>
                  <a:latin typeface="Times New Roman"/>
                </a:rPr>
                <a:t>Asia Minor</a:t>
              </a:r>
              <a:endParaRPr b="0" lang="en-US" sz="4800" spc="-1" strike="noStrike">
                <a:solidFill>
                  <a:srgbClr val="ffffff"/>
                </a:solidFill>
                <a:latin typeface="Times New Roman"/>
              </a:endParaRPr>
            </a:p>
            <a:p>
              <a:pPr marL="343080" indent="-343080">
                <a:spcBef>
                  <a:spcPts val="11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   </a:t>
              </a:r>
              <a:r>
                <a:rPr b="1" lang="en-US" sz="4800" spc="-1" strike="noStrike">
                  <a:solidFill>
                    <a:srgbClr val="ffffff"/>
                  </a:solidFill>
                  <a:latin typeface="Times New Roman"/>
                </a:rPr>
                <a:t>North Africa</a:t>
              </a:r>
              <a:endParaRPr b="0" lang="en-US" sz="4800" spc="-1" strike="noStrike">
                <a:solidFill>
                  <a:srgbClr val="ffffff"/>
                </a:solidFill>
                <a:latin typeface="Times New Roman"/>
              </a:endParaRPr>
            </a:p>
          </p:txBody>
        </p:sp>
        <p:sp>
          <p:nvSpPr>
            <p:cNvPr id="111" name=""/>
            <p:cNvSpPr/>
            <p:nvPr/>
          </p:nvSpPr>
          <p:spPr>
            <a:xfrm>
              <a:off x="899640" y="604368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112" name=""/>
            <p:cNvSpPr/>
            <p:nvPr/>
          </p:nvSpPr>
          <p:spPr>
            <a:xfrm>
              <a:off x="5721480" y="4254480"/>
              <a:ext cx="1511280" cy="10540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Alexander the Great </a:t>
            </a:r>
            <a:endParaRPr b="1" lang="en-US" sz="100" spc="-1" strike="noStrike" u="sng">
              <a:solidFill>
                <a:srgbClr val="c0fef9"/>
              </a:solidFill>
              <a:uFillTx/>
              <a:latin typeface="Times New Roman"/>
            </a:endParaRPr>
          </a:p>
        </p:txBody>
      </p:sp>
      <p:sp>
        <p:nvSpPr>
          <p:cNvPr id="758"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759" name=""/>
          <p:cNvGrpSpPr/>
          <p:nvPr/>
        </p:nvGrpSpPr>
        <p:grpSpPr>
          <a:xfrm>
            <a:off x="0" y="895320"/>
            <a:ext cx="9067680" cy="5143680"/>
            <a:chOff x="0" y="895320"/>
            <a:chExt cx="9067680" cy="5143680"/>
          </a:xfrm>
        </p:grpSpPr>
        <p:sp>
          <p:nvSpPr>
            <p:cNvPr id="760" name=""/>
            <p:cNvSpPr/>
            <p:nvPr/>
          </p:nvSpPr>
          <p:spPr>
            <a:xfrm>
              <a:off x="57240" y="1028880"/>
              <a:ext cx="8972640" cy="497196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1638360" y="2855880"/>
              <a:ext cx="9504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50760" y="3575160"/>
              <a:ext cx="4235400" cy="2463840"/>
            </a:xfrm>
            <a:custGeom>
              <a:avLst/>
              <a:gdLst/>
              <a:ahLst/>
              <a:rect l="l" t="t" r="r" b="b"/>
              <a:pathLst>
                <a:path w="2668" h="1552">
                  <a:moveTo>
                    <a:pt x="2668" y="1552"/>
                  </a:moveTo>
                  <a:lnTo>
                    <a:pt x="2632" y="1228"/>
                  </a:lnTo>
                  <a:lnTo>
                    <a:pt x="2344" y="976"/>
                  </a:lnTo>
                  <a:lnTo>
                    <a:pt x="2416" y="724"/>
                  </a:lnTo>
                  <a:lnTo>
                    <a:pt x="2344" y="580"/>
                  </a:lnTo>
                  <a:lnTo>
                    <a:pt x="2272" y="652"/>
                  </a:lnTo>
                  <a:lnTo>
                    <a:pt x="2200" y="616"/>
                  </a:lnTo>
                  <a:lnTo>
                    <a:pt x="2092" y="652"/>
                  </a:lnTo>
                  <a:lnTo>
                    <a:pt x="1660" y="472"/>
                  </a:lnTo>
                  <a:lnTo>
                    <a:pt x="1524" y="516"/>
                  </a:lnTo>
                  <a:lnTo>
                    <a:pt x="1512" y="624"/>
                  </a:lnTo>
                  <a:lnTo>
                    <a:pt x="976" y="400"/>
                  </a:lnTo>
                  <a:lnTo>
                    <a:pt x="936" y="156"/>
                  </a:lnTo>
                  <a:lnTo>
                    <a:pt x="580" y="184"/>
                  </a:lnTo>
                  <a:lnTo>
                    <a:pt x="188" y="0"/>
                  </a:lnTo>
                  <a:lnTo>
                    <a:pt x="0" y="108"/>
                  </a:lnTo>
                  <a:lnTo>
                    <a:pt x="0" y="432"/>
                  </a:lnTo>
                  <a:lnTo>
                    <a:pt x="0" y="768"/>
                  </a:lnTo>
                  <a:lnTo>
                    <a:pt x="0" y="1152"/>
                  </a:lnTo>
                  <a:lnTo>
                    <a:pt x="0" y="1284"/>
                  </a:lnTo>
                  <a:lnTo>
                    <a:pt x="0" y="1344"/>
                  </a:lnTo>
                  <a:lnTo>
                    <a:pt x="0" y="1428"/>
                  </a:lnTo>
                  <a:lnTo>
                    <a:pt x="0" y="154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0" y="1009800"/>
              <a:ext cx="9067680" cy="5029200"/>
            </a:xfrm>
            <a:custGeom>
              <a:avLst/>
              <a:gdLst/>
              <a:ahLst/>
              <a:rect l="l" t="t" r="r" b="b"/>
              <a:pathLst>
                <a:path w="5712" h="3168">
                  <a:moveTo>
                    <a:pt x="5712" y="3132"/>
                  </a:moveTo>
                  <a:lnTo>
                    <a:pt x="4824" y="2916"/>
                  </a:lnTo>
                  <a:lnTo>
                    <a:pt x="4320" y="2916"/>
                  </a:lnTo>
                  <a:lnTo>
                    <a:pt x="3528" y="2520"/>
                  </a:lnTo>
                  <a:lnTo>
                    <a:pt x="3528" y="2916"/>
                  </a:lnTo>
                  <a:lnTo>
                    <a:pt x="3996" y="3168"/>
                  </a:lnTo>
                  <a:lnTo>
                    <a:pt x="2916" y="3168"/>
                  </a:lnTo>
                  <a:lnTo>
                    <a:pt x="2448" y="2448"/>
                  </a:lnTo>
                  <a:lnTo>
                    <a:pt x="2412" y="2268"/>
                  </a:lnTo>
                  <a:lnTo>
                    <a:pt x="2592" y="2160"/>
                  </a:lnTo>
                  <a:lnTo>
                    <a:pt x="2700" y="2036"/>
                  </a:lnTo>
                  <a:lnTo>
                    <a:pt x="2748" y="1904"/>
                  </a:lnTo>
                  <a:lnTo>
                    <a:pt x="2700" y="1620"/>
                  </a:lnTo>
                  <a:lnTo>
                    <a:pt x="2520" y="1700"/>
                  </a:lnTo>
                  <a:lnTo>
                    <a:pt x="2124" y="1656"/>
                  </a:lnTo>
                  <a:lnTo>
                    <a:pt x="2148" y="1448"/>
                  </a:lnTo>
                  <a:lnTo>
                    <a:pt x="2232" y="1404"/>
                  </a:lnTo>
                  <a:lnTo>
                    <a:pt x="2448" y="1260"/>
                  </a:lnTo>
                  <a:lnTo>
                    <a:pt x="3048" y="1184"/>
                  </a:lnTo>
                  <a:lnTo>
                    <a:pt x="3084" y="1052"/>
                  </a:lnTo>
                  <a:lnTo>
                    <a:pt x="2664" y="900"/>
                  </a:lnTo>
                  <a:lnTo>
                    <a:pt x="2700" y="756"/>
                  </a:lnTo>
                  <a:lnTo>
                    <a:pt x="2604" y="920"/>
                  </a:lnTo>
                  <a:lnTo>
                    <a:pt x="2484" y="920"/>
                  </a:lnTo>
                  <a:lnTo>
                    <a:pt x="2412" y="944"/>
                  </a:lnTo>
                  <a:lnTo>
                    <a:pt x="2280" y="1064"/>
                  </a:lnTo>
                  <a:lnTo>
                    <a:pt x="2364" y="1244"/>
                  </a:lnTo>
                  <a:lnTo>
                    <a:pt x="2304" y="1260"/>
                  </a:lnTo>
                  <a:lnTo>
                    <a:pt x="2256" y="1256"/>
                  </a:lnTo>
                  <a:lnTo>
                    <a:pt x="2160" y="1388"/>
                  </a:lnTo>
                  <a:lnTo>
                    <a:pt x="1944" y="1400"/>
                  </a:lnTo>
                  <a:lnTo>
                    <a:pt x="1944" y="1548"/>
                  </a:lnTo>
                  <a:lnTo>
                    <a:pt x="1944" y="1656"/>
                  </a:lnTo>
                  <a:lnTo>
                    <a:pt x="1848" y="1772"/>
                  </a:lnTo>
                  <a:lnTo>
                    <a:pt x="1764" y="1728"/>
                  </a:lnTo>
                  <a:lnTo>
                    <a:pt x="1764" y="1476"/>
                  </a:lnTo>
                  <a:lnTo>
                    <a:pt x="1764" y="1404"/>
                  </a:lnTo>
                  <a:lnTo>
                    <a:pt x="1440" y="944"/>
                  </a:lnTo>
                  <a:lnTo>
                    <a:pt x="1368" y="1016"/>
                  </a:lnTo>
                  <a:lnTo>
                    <a:pt x="1392" y="1136"/>
                  </a:lnTo>
                  <a:lnTo>
                    <a:pt x="1575" y="1389"/>
                  </a:lnTo>
                  <a:lnTo>
                    <a:pt x="1557" y="1452"/>
                  </a:lnTo>
                  <a:lnTo>
                    <a:pt x="1488" y="1388"/>
                  </a:lnTo>
                  <a:lnTo>
                    <a:pt x="1485" y="1479"/>
                  </a:lnTo>
                  <a:lnTo>
                    <a:pt x="1440" y="1551"/>
                  </a:lnTo>
                  <a:lnTo>
                    <a:pt x="1422" y="1533"/>
                  </a:lnTo>
                  <a:lnTo>
                    <a:pt x="1413" y="1407"/>
                  </a:lnTo>
                  <a:lnTo>
                    <a:pt x="1296" y="1260"/>
                  </a:lnTo>
                  <a:lnTo>
                    <a:pt x="1116" y="1008"/>
                  </a:lnTo>
                  <a:lnTo>
                    <a:pt x="792" y="1008"/>
                  </a:lnTo>
                  <a:lnTo>
                    <a:pt x="396" y="1548"/>
                  </a:lnTo>
                  <a:lnTo>
                    <a:pt x="252" y="1548"/>
                  </a:lnTo>
                  <a:lnTo>
                    <a:pt x="36" y="1368"/>
                  </a:lnTo>
                  <a:lnTo>
                    <a:pt x="0" y="1044"/>
                  </a:lnTo>
                  <a:lnTo>
                    <a:pt x="72" y="828"/>
                  </a:lnTo>
                  <a:lnTo>
                    <a:pt x="252" y="828"/>
                  </a:lnTo>
                  <a:lnTo>
                    <a:pt x="468" y="936"/>
                  </a:lnTo>
                  <a:lnTo>
                    <a:pt x="612" y="756"/>
                  </a:lnTo>
                  <a:lnTo>
                    <a:pt x="468" y="504"/>
                  </a:lnTo>
                  <a:lnTo>
                    <a:pt x="792" y="504"/>
                  </a:lnTo>
                  <a:lnTo>
                    <a:pt x="828" y="360"/>
                  </a:lnTo>
                  <a:lnTo>
                    <a:pt x="1080" y="180"/>
                  </a:lnTo>
                  <a:lnTo>
                    <a:pt x="1296" y="108"/>
                  </a:lnTo>
                  <a:lnTo>
                    <a:pt x="1268" y="8"/>
                  </a:lnTo>
                  <a:lnTo>
                    <a:pt x="1364" y="8"/>
                  </a:lnTo>
                  <a:lnTo>
                    <a:pt x="1404" y="108"/>
                  </a:lnTo>
                  <a:lnTo>
                    <a:pt x="1620" y="252"/>
                  </a:lnTo>
                  <a:lnTo>
                    <a:pt x="1728" y="0"/>
                  </a:lnTo>
                  <a:lnTo>
                    <a:pt x="5712"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27880" y="564372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765" name=""/>
            <p:cNvSpPr/>
            <p:nvPr/>
          </p:nvSpPr>
          <p:spPr>
            <a:xfrm>
              <a:off x="1628640" y="3133800"/>
              <a:ext cx="114480" cy="31428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1943280" y="3476520"/>
              <a:ext cx="257040" cy="23184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2919240" y="3938760"/>
              <a:ext cx="223920" cy="9360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4000680" y="3876840"/>
              <a:ext cx="171360" cy="15552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542880" y="1038240"/>
              <a:ext cx="800280" cy="714240"/>
            </a:xfrm>
            <a:custGeom>
              <a:avLst/>
              <a:gdLst/>
              <a:ahLst/>
              <a:rect l="l" t="t" r="r" b="b"/>
              <a:pathLst>
                <a:path w="504" h="450">
                  <a:moveTo>
                    <a:pt x="0" y="396"/>
                  </a:moveTo>
                  <a:lnTo>
                    <a:pt x="54" y="450"/>
                  </a:lnTo>
                  <a:lnTo>
                    <a:pt x="198" y="378"/>
                  </a:lnTo>
                  <a:lnTo>
                    <a:pt x="396" y="396"/>
                  </a:lnTo>
                  <a:lnTo>
                    <a:pt x="504" y="288"/>
                  </a:lnTo>
                  <a:lnTo>
                    <a:pt x="342" y="72"/>
                  </a:lnTo>
                  <a:lnTo>
                    <a:pt x="342" y="0"/>
                  </a:lnTo>
                  <a:lnTo>
                    <a:pt x="180" y="0"/>
                  </a:lnTo>
                  <a:lnTo>
                    <a:pt x="180" y="162"/>
                  </a:lnTo>
                  <a:lnTo>
                    <a:pt x="108" y="162"/>
                  </a:lnTo>
                  <a:lnTo>
                    <a:pt x="126" y="270"/>
                  </a:lnTo>
                  <a:lnTo>
                    <a:pt x="0" y="396"/>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57040" y="1038240"/>
              <a:ext cx="40032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3981600" y="4290840"/>
              <a:ext cx="382320" cy="328680"/>
            </a:xfrm>
            <a:custGeom>
              <a:avLst/>
              <a:gdLst/>
              <a:ahLst/>
              <a:rect l="l" t="t" r="r" b="b"/>
              <a:pathLst>
                <a:path w="241" h="207">
                  <a:moveTo>
                    <a:pt x="234" y="0"/>
                  </a:moveTo>
                  <a:lnTo>
                    <a:pt x="189" y="9"/>
                  </a:lnTo>
                  <a:lnTo>
                    <a:pt x="153" y="45"/>
                  </a:lnTo>
                  <a:lnTo>
                    <a:pt x="99" y="108"/>
                  </a:lnTo>
                  <a:lnTo>
                    <a:pt x="0" y="153"/>
                  </a:lnTo>
                  <a:lnTo>
                    <a:pt x="36" y="207"/>
                  </a:lnTo>
                  <a:lnTo>
                    <a:pt x="162" y="153"/>
                  </a:lnTo>
                  <a:lnTo>
                    <a:pt x="180" y="108"/>
                  </a:lnTo>
                  <a:lnTo>
                    <a:pt x="207" y="81"/>
                  </a:lnTo>
                  <a:lnTo>
                    <a:pt x="234" y="63"/>
                  </a:lnTo>
                  <a:lnTo>
                    <a:pt x="241" y="59"/>
                  </a:lnTo>
                  <a:lnTo>
                    <a:pt x="225" y="0"/>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4101480" y="398628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ah</a:t>
              </a:r>
              <a:endParaRPr b="0" lang="en-US" sz="2400" spc="-1" strike="noStrike">
                <a:solidFill>
                  <a:srgbClr val="ffffff"/>
                </a:solidFill>
                <a:latin typeface="Times New Roman"/>
              </a:endParaRPr>
            </a:p>
          </p:txBody>
        </p:sp>
        <p:sp>
          <p:nvSpPr>
            <p:cNvPr id="773" name=""/>
            <p:cNvSpPr/>
            <p:nvPr/>
          </p:nvSpPr>
          <p:spPr>
            <a:xfrm>
              <a:off x="1041480" y="8953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afd00"/>
                  </a:solidFill>
                  <a:uFillTx/>
                  <a:latin typeface="Arial"/>
                </a:rPr>
                <a:t>Alexander The Great</a:t>
              </a:r>
              <a:endParaRPr b="0" lang="en-US" sz="4800" spc="-1" strike="noStrike">
                <a:solidFill>
                  <a:srgbClr val="ffffff"/>
                </a:solidFill>
                <a:latin typeface="Times New Roman"/>
              </a:endParaRPr>
            </a:p>
          </p:txBody>
        </p:sp>
        <p:sp>
          <p:nvSpPr>
            <p:cNvPr id="774" name=""/>
            <p:cNvSpPr/>
            <p:nvPr/>
          </p:nvSpPr>
          <p:spPr>
            <a:xfrm>
              <a:off x="1046160" y="3695760"/>
              <a:ext cx="480960" cy="372960"/>
            </a:xfrm>
            <a:custGeom>
              <a:avLst/>
              <a:gdLst/>
              <a:ahLst/>
              <a:rect l="l" t="t" r="r" b="b"/>
              <a:pathLst>
                <a:path w="303" h="235">
                  <a:moveTo>
                    <a:pt x="273" y="0"/>
                  </a:moveTo>
                  <a:lnTo>
                    <a:pt x="240" y="15"/>
                  </a:lnTo>
                  <a:lnTo>
                    <a:pt x="208" y="15"/>
                  </a:lnTo>
                  <a:lnTo>
                    <a:pt x="177" y="15"/>
                  </a:lnTo>
                  <a:lnTo>
                    <a:pt x="146" y="15"/>
                  </a:lnTo>
                  <a:lnTo>
                    <a:pt x="114" y="25"/>
                  </a:lnTo>
                  <a:lnTo>
                    <a:pt x="83" y="46"/>
                  </a:lnTo>
                  <a:lnTo>
                    <a:pt x="52" y="67"/>
                  </a:lnTo>
                  <a:lnTo>
                    <a:pt x="20" y="77"/>
                  </a:lnTo>
                  <a:lnTo>
                    <a:pt x="0" y="109"/>
                  </a:lnTo>
                  <a:lnTo>
                    <a:pt x="0" y="140"/>
                  </a:lnTo>
                  <a:lnTo>
                    <a:pt x="0" y="171"/>
                  </a:lnTo>
                  <a:lnTo>
                    <a:pt x="0" y="202"/>
                  </a:lnTo>
                  <a:lnTo>
                    <a:pt x="31" y="213"/>
                  </a:lnTo>
                  <a:lnTo>
                    <a:pt x="62" y="213"/>
                  </a:lnTo>
                  <a:lnTo>
                    <a:pt x="94" y="223"/>
                  </a:lnTo>
                  <a:lnTo>
                    <a:pt x="125" y="223"/>
                  </a:lnTo>
                  <a:lnTo>
                    <a:pt x="156" y="234"/>
                  </a:lnTo>
                  <a:lnTo>
                    <a:pt x="187" y="234"/>
                  </a:lnTo>
                  <a:lnTo>
                    <a:pt x="219" y="202"/>
                  </a:lnTo>
                  <a:lnTo>
                    <a:pt x="250" y="182"/>
                  </a:lnTo>
                  <a:lnTo>
                    <a:pt x="281" y="161"/>
                  </a:lnTo>
                  <a:lnTo>
                    <a:pt x="302" y="129"/>
                  </a:lnTo>
                  <a:lnTo>
                    <a:pt x="302" y="98"/>
                  </a:lnTo>
                  <a:lnTo>
                    <a:pt x="292" y="67"/>
                  </a:lnTo>
                  <a:lnTo>
                    <a:pt x="281" y="35"/>
                  </a:lnTo>
                  <a:lnTo>
                    <a:pt x="273" y="0"/>
                  </a:lnTo>
                </a:path>
              </a:pathLst>
            </a:custGeom>
            <a:noFill/>
            <a:ln cap="rnd"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3064320" y="3041640"/>
              <a:ext cx="508716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Narrow"/>
                </a:rPr>
                <a:t>The Empire of Alexander</a:t>
              </a:r>
              <a:endParaRPr b="0" lang="en-US" sz="4000" spc="-1" strike="noStrike">
                <a:solidFill>
                  <a:srgbClr val="ffffff"/>
                </a:solidFill>
                <a:latin typeface="Times New Roman"/>
              </a:endParaRPr>
            </a:p>
          </p:txBody>
        </p:sp>
        <p:sp>
          <p:nvSpPr>
            <p:cNvPr id="776" name=""/>
            <p:cNvSpPr/>
            <p:nvPr/>
          </p:nvSpPr>
          <p:spPr>
            <a:xfrm>
              <a:off x="6876000" y="4908600"/>
              <a:ext cx="1246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a</a:t>
              </a:r>
              <a:endParaRPr b="0" lang="en-US" sz="3600" spc="-1" strike="noStrike">
                <a:solidFill>
                  <a:srgbClr val="ffffff"/>
                </a:solidFill>
                <a:latin typeface="Times New Roman"/>
              </a:endParaRPr>
            </a:p>
          </p:txBody>
        </p:sp>
        <p:sp>
          <p:nvSpPr>
            <p:cNvPr id="777" name=""/>
            <p:cNvSpPr/>
            <p:nvPr/>
          </p:nvSpPr>
          <p:spPr>
            <a:xfrm>
              <a:off x="3898800" y="4597560"/>
              <a:ext cx="127080" cy="26028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78" name=""/>
            <p:cNvSpPr/>
            <p:nvPr/>
          </p:nvSpPr>
          <p:spPr>
            <a:xfrm>
              <a:off x="4978440" y="189864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79" name=""/>
            <p:cNvSpPr/>
            <p:nvPr/>
          </p:nvSpPr>
          <p:spPr>
            <a:xfrm>
              <a:off x="2647800" y="2095560"/>
              <a:ext cx="6400800" cy="3886200"/>
            </a:xfrm>
            <a:custGeom>
              <a:avLst/>
              <a:gdLst/>
              <a:ahLst/>
              <a:rect l="l" t="t" r="r" b="b"/>
              <a:pathLst>
                <a:path w="4032" h="2448">
                  <a:moveTo>
                    <a:pt x="4032" y="1836"/>
                  </a:moveTo>
                  <a:lnTo>
                    <a:pt x="3852" y="2448"/>
                  </a:lnTo>
                  <a:lnTo>
                    <a:pt x="3564" y="2448"/>
                  </a:lnTo>
                  <a:lnTo>
                    <a:pt x="3348" y="2448"/>
                  </a:lnTo>
                  <a:lnTo>
                    <a:pt x="3012" y="2448"/>
                  </a:lnTo>
                  <a:lnTo>
                    <a:pt x="2580" y="2304"/>
                  </a:lnTo>
                  <a:lnTo>
                    <a:pt x="2112" y="2232"/>
                  </a:lnTo>
                  <a:lnTo>
                    <a:pt x="1692" y="1944"/>
                  </a:lnTo>
                  <a:lnTo>
                    <a:pt x="1368" y="1728"/>
                  </a:lnTo>
                  <a:lnTo>
                    <a:pt x="1296" y="1404"/>
                  </a:lnTo>
                  <a:lnTo>
                    <a:pt x="972" y="1620"/>
                  </a:lnTo>
                  <a:lnTo>
                    <a:pt x="600" y="1800"/>
                  </a:lnTo>
                  <a:lnTo>
                    <a:pt x="744" y="2016"/>
                  </a:lnTo>
                  <a:lnTo>
                    <a:pt x="816" y="2124"/>
                  </a:lnTo>
                  <a:lnTo>
                    <a:pt x="888" y="2196"/>
                  </a:lnTo>
                  <a:lnTo>
                    <a:pt x="744" y="2304"/>
                  </a:lnTo>
                  <a:lnTo>
                    <a:pt x="600" y="2304"/>
                  </a:lnTo>
                  <a:lnTo>
                    <a:pt x="420" y="1980"/>
                  </a:lnTo>
                  <a:lnTo>
                    <a:pt x="312" y="1908"/>
                  </a:lnTo>
                  <a:lnTo>
                    <a:pt x="0" y="1656"/>
                  </a:lnTo>
                  <a:lnTo>
                    <a:pt x="144" y="1548"/>
                  </a:lnTo>
                  <a:lnTo>
                    <a:pt x="348" y="1476"/>
                  </a:lnTo>
                  <a:lnTo>
                    <a:pt x="492" y="1332"/>
                  </a:lnTo>
                  <a:lnTo>
                    <a:pt x="348" y="1224"/>
                  </a:lnTo>
                  <a:lnTo>
                    <a:pt x="180" y="1224"/>
                  </a:lnTo>
                  <a:lnTo>
                    <a:pt x="72" y="1188"/>
                  </a:lnTo>
                  <a:lnTo>
                    <a:pt x="72" y="1044"/>
                  </a:lnTo>
                  <a:lnTo>
                    <a:pt x="0" y="972"/>
                  </a:lnTo>
                  <a:lnTo>
                    <a:pt x="180" y="828"/>
                  </a:lnTo>
                  <a:lnTo>
                    <a:pt x="144" y="720"/>
                  </a:lnTo>
                  <a:lnTo>
                    <a:pt x="0" y="648"/>
                  </a:lnTo>
                  <a:lnTo>
                    <a:pt x="252" y="504"/>
                  </a:lnTo>
                  <a:lnTo>
                    <a:pt x="576" y="252"/>
                  </a:lnTo>
                  <a:lnTo>
                    <a:pt x="720" y="252"/>
                  </a:lnTo>
                  <a:lnTo>
                    <a:pt x="720" y="504"/>
                  </a:lnTo>
                  <a:lnTo>
                    <a:pt x="972" y="648"/>
                  </a:lnTo>
                  <a:lnTo>
                    <a:pt x="1044" y="504"/>
                  </a:lnTo>
                  <a:lnTo>
                    <a:pt x="1188" y="504"/>
                  </a:lnTo>
                  <a:lnTo>
                    <a:pt x="1188" y="612"/>
                  </a:lnTo>
                  <a:lnTo>
                    <a:pt x="1584" y="432"/>
                  </a:lnTo>
                  <a:lnTo>
                    <a:pt x="1836" y="360"/>
                  </a:lnTo>
                  <a:lnTo>
                    <a:pt x="2160" y="432"/>
                  </a:lnTo>
                  <a:lnTo>
                    <a:pt x="2724" y="288"/>
                  </a:lnTo>
                  <a:lnTo>
                    <a:pt x="3096" y="288"/>
                  </a:lnTo>
                  <a:lnTo>
                    <a:pt x="3564" y="0"/>
                  </a:lnTo>
                  <a:lnTo>
                    <a:pt x="3420" y="324"/>
                  </a:lnTo>
                  <a:lnTo>
                    <a:pt x="3528" y="648"/>
                  </a:lnTo>
                  <a:lnTo>
                    <a:pt x="4032" y="900"/>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1564920" y="366696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terranean</a:t>
              </a:r>
              <a:endParaRPr b="0" lang="en-US" sz="3200" spc="-1" strike="noStrike">
                <a:solidFill>
                  <a:srgbClr val="ffffff"/>
                </a:solidFill>
                <a:latin typeface="Times New Roman"/>
              </a:endParaRPr>
            </a:p>
          </p:txBody>
        </p:sp>
        <p:sp>
          <p:nvSpPr>
            <p:cNvPr id="781" name=""/>
            <p:cNvSpPr/>
            <p:nvPr/>
          </p:nvSpPr>
          <p:spPr>
            <a:xfrm>
              <a:off x="3032280" y="4734000"/>
              <a:ext cx="103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gypt</a:t>
              </a:r>
              <a:endParaRPr b="0" lang="en-US" sz="3200" spc="-1" strike="noStrike">
                <a:solidFill>
                  <a:srgbClr val="ffffff"/>
                </a:solidFill>
                <a:latin typeface="Times New Roman"/>
              </a:endParaRPr>
            </a:p>
          </p:txBody>
        </p:sp>
      </p:grpSp>
      <p:sp>
        <p:nvSpPr>
          <p:cNvPr id="782" name=""/>
          <p:cNvSpPr/>
          <p:nvPr/>
        </p:nvSpPr>
        <p:spPr>
          <a:xfrm>
            <a:off x="8191440" y="5010120"/>
            <a:ext cx="723960" cy="457200"/>
          </a:xfrm>
          <a:prstGeom prst="rightArrow">
            <a:avLst>
              <a:gd name="adj1" fmla="val 50000"/>
              <a:gd name="adj2" fmla="val 39587"/>
            </a:avLst>
          </a:prstGeom>
          <a:solidFill>
            <a:srgbClr val="fafd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783" name=""/>
          <p:cNvGrpSpPr/>
          <p:nvPr/>
        </p:nvGrpSpPr>
        <p:grpSpPr>
          <a:xfrm>
            <a:off x="11160" y="668160"/>
            <a:ext cx="9132480" cy="6190200"/>
            <a:chOff x="11160" y="668160"/>
            <a:chExt cx="9132480" cy="6190200"/>
          </a:xfrm>
        </p:grpSpPr>
        <p:grpSp>
          <p:nvGrpSpPr>
            <p:cNvPr id="784" name=""/>
            <p:cNvGrpSpPr/>
            <p:nvPr/>
          </p:nvGrpSpPr>
          <p:grpSpPr>
            <a:xfrm>
              <a:off x="11160" y="668160"/>
              <a:ext cx="9132480" cy="6190200"/>
              <a:chOff x="11160" y="668160"/>
              <a:chExt cx="9132480" cy="6190200"/>
            </a:xfrm>
          </p:grpSpPr>
          <p:grpSp>
            <p:nvGrpSpPr>
              <p:cNvPr id="785" name=""/>
              <p:cNvGrpSpPr/>
              <p:nvPr/>
            </p:nvGrpSpPr>
            <p:grpSpPr>
              <a:xfrm>
                <a:off x="11160" y="668160"/>
                <a:ext cx="9132480" cy="6190200"/>
                <a:chOff x="11160" y="668160"/>
                <a:chExt cx="9132480" cy="6190200"/>
              </a:xfrm>
            </p:grpSpPr>
            <p:grpSp>
              <p:nvGrpSpPr>
                <p:cNvPr id="786" name=""/>
                <p:cNvGrpSpPr/>
                <p:nvPr/>
              </p:nvGrpSpPr>
              <p:grpSpPr>
                <a:xfrm>
                  <a:off x="11160" y="668160"/>
                  <a:ext cx="9132480" cy="6190200"/>
                  <a:chOff x="11160" y="668160"/>
                  <a:chExt cx="9132480" cy="6190200"/>
                </a:xfrm>
              </p:grpSpPr>
              <p:grpSp>
                <p:nvGrpSpPr>
                  <p:cNvPr id="787" name=""/>
                  <p:cNvGrpSpPr/>
                  <p:nvPr/>
                </p:nvGrpSpPr>
                <p:grpSpPr>
                  <a:xfrm>
                    <a:off x="11160" y="668160"/>
                    <a:ext cx="9132480" cy="6141960"/>
                    <a:chOff x="11160" y="668160"/>
                    <a:chExt cx="9132480" cy="6141960"/>
                  </a:xfrm>
                </p:grpSpPr>
                <p:sp>
                  <p:nvSpPr>
                    <p:cNvPr id="788" name=""/>
                    <p:cNvSpPr/>
                    <p:nvPr/>
                  </p:nvSpPr>
                  <p:spPr>
                    <a:xfrm>
                      <a:off x="696600" y="668160"/>
                      <a:ext cx="8381880" cy="1162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Book Antiqua"/>
                        </a:rPr>
                        <a:t>Click to add title</a:t>
                      </a:r>
                      <a:endParaRPr b="0" lang="en-US" sz="5400" spc="-1" strike="noStrike">
                        <a:solidFill>
                          <a:srgbClr val="ffffff"/>
                        </a:solidFill>
                        <a:latin typeface="Times New Roman"/>
                      </a:endParaRPr>
                    </a:p>
                  </p:txBody>
                </p:sp>
                <p:sp>
                  <p:nvSpPr>
                    <p:cNvPr id="789" name=""/>
                    <p:cNvSpPr/>
                    <p:nvPr/>
                  </p:nvSpPr>
                  <p:spPr>
                    <a:xfrm>
                      <a:off x="772920" y="2058840"/>
                      <a:ext cx="8305560" cy="4133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c0fe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add text</a:t>
                      </a:r>
                      <a:endParaRPr b="0" lang="en-US" sz="3600" spc="-1" strike="noStrike">
                        <a:solidFill>
                          <a:srgbClr val="ffffff"/>
                        </a:solidFill>
                        <a:latin typeface="Times New Roman"/>
                      </a:endParaRPr>
                    </a:p>
                  </p:txBody>
                </p:sp>
                <p:sp>
                  <p:nvSpPr>
                    <p:cNvPr id="790" name=""/>
                    <p:cNvSpPr/>
                    <p:nvPr/>
                  </p:nvSpPr>
                  <p:spPr>
                    <a:xfrm>
                      <a:off x="4827240" y="3003480"/>
                      <a:ext cx="4680" cy="13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flipH="1" flipV="1">
                      <a:off x="4827240" y="2945880"/>
                      <a:ext cx="196560" cy="52200"/>
                    </a:xfrm>
                    <a:prstGeom prst="line">
                      <a:avLst/>
                    </a:prstGeom>
                    <a:ln w="50760">
                      <a:solidFill>
                        <a:srgbClr val="fafd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792" name=""/>
                    <p:cNvSpPr/>
                    <p:nvPr/>
                  </p:nvSpPr>
                  <p:spPr>
                    <a:xfrm>
                      <a:off x="80640" y="793440"/>
                      <a:ext cx="9054720" cy="60073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2891880" y="3462120"/>
                      <a:ext cx="1161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Israel</a:t>
                      </a:r>
                      <a:endParaRPr b="0" lang="en-US" sz="3600" spc="-1" strike="noStrike">
                        <a:solidFill>
                          <a:srgbClr val="ffffff"/>
                        </a:solidFill>
                        <a:latin typeface="Times New Roman"/>
                      </a:endParaRPr>
                    </a:p>
                  </p:txBody>
                </p:sp>
                <p:sp>
                  <p:nvSpPr>
                    <p:cNvPr id="794" name=""/>
                    <p:cNvSpPr/>
                    <p:nvPr/>
                  </p:nvSpPr>
                  <p:spPr>
                    <a:xfrm>
                      <a:off x="7630920" y="5132160"/>
                      <a:ext cx="1512720" cy="1677960"/>
                    </a:xfrm>
                    <a:custGeom>
                      <a:avLst/>
                      <a:gdLst/>
                      <a:ahLst/>
                      <a:rect l="l" t="t" r="r" b="b"/>
                      <a:pathLst>
                        <a:path w="953" h="1057">
                          <a:moveTo>
                            <a:pt x="912" y="488"/>
                          </a:moveTo>
                          <a:lnTo>
                            <a:pt x="877" y="469"/>
                          </a:lnTo>
                          <a:lnTo>
                            <a:pt x="845" y="480"/>
                          </a:lnTo>
                          <a:lnTo>
                            <a:pt x="814" y="480"/>
                          </a:lnTo>
                          <a:lnTo>
                            <a:pt x="783" y="469"/>
                          </a:lnTo>
                          <a:lnTo>
                            <a:pt x="751" y="448"/>
                          </a:lnTo>
                          <a:lnTo>
                            <a:pt x="720" y="427"/>
                          </a:lnTo>
                          <a:lnTo>
                            <a:pt x="689" y="407"/>
                          </a:lnTo>
                          <a:lnTo>
                            <a:pt x="657" y="386"/>
                          </a:lnTo>
                          <a:lnTo>
                            <a:pt x="637" y="354"/>
                          </a:lnTo>
                          <a:lnTo>
                            <a:pt x="605" y="334"/>
                          </a:lnTo>
                          <a:lnTo>
                            <a:pt x="584" y="302"/>
                          </a:lnTo>
                          <a:lnTo>
                            <a:pt x="553" y="281"/>
                          </a:lnTo>
                          <a:lnTo>
                            <a:pt x="522" y="281"/>
                          </a:lnTo>
                          <a:lnTo>
                            <a:pt x="490" y="281"/>
                          </a:lnTo>
                          <a:lnTo>
                            <a:pt x="459" y="292"/>
                          </a:lnTo>
                          <a:lnTo>
                            <a:pt x="428" y="292"/>
                          </a:lnTo>
                          <a:lnTo>
                            <a:pt x="397" y="261"/>
                          </a:lnTo>
                          <a:lnTo>
                            <a:pt x="365" y="240"/>
                          </a:lnTo>
                          <a:lnTo>
                            <a:pt x="344" y="208"/>
                          </a:lnTo>
                          <a:lnTo>
                            <a:pt x="313" y="187"/>
                          </a:lnTo>
                          <a:lnTo>
                            <a:pt x="282" y="167"/>
                          </a:lnTo>
                          <a:lnTo>
                            <a:pt x="250" y="146"/>
                          </a:lnTo>
                          <a:lnTo>
                            <a:pt x="219" y="114"/>
                          </a:lnTo>
                          <a:lnTo>
                            <a:pt x="188" y="94"/>
                          </a:lnTo>
                          <a:lnTo>
                            <a:pt x="157" y="73"/>
                          </a:lnTo>
                          <a:lnTo>
                            <a:pt x="125" y="52"/>
                          </a:lnTo>
                          <a:lnTo>
                            <a:pt x="94" y="21"/>
                          </a:lnTo>
                          <a:lnTo>
                            <a:pt x="96" y="8"/>
                          </a:lnTo>
                          <a:lnTo>
                            <a:pt x="63" y="21"/>
                          </a:lnTo>
                          <a:lnTo>
                            <a:pt x="31" y="10"/>
                          </a:lnTo>
                          <a:lnTo>
                            <a:pt x="0" y="0"/>
                          </a:lnTo>
                          <a:lnTo>
                            <a:pt x="0" y="31"/>
                          </a:lnTo>
                          <a:lnTo>
                            <a:pt x="31" y="31"/>
                          </a:lnTo>
                          <a:lnTo>
                            <a:pt x="63" y="41"/>
                          </a:lnTo>
                          <a:lnTo>
                            <a:pt x="94" y="73"/>
                          </a:lnTo>
                          <a:lnTo>
                            <a:pt x="115" y="104"/>
                          </a:lnTo>
                          <a:lnTo>
                            <a:pt x="104" y="135"/>
                          </a:lnTo>
                          <a:lnTo>
                            <a:pt x="94" y="167"/>
                          </a:lnTo>
                          <a:lnTo>
                            <a:pt x="83" y="198"/>
                          </a:lnTo>
                          <a:lnTo>
                            <a:pt x="73" y="229"/>
                          </a:lnTo>
                          <a:lnTo>
                            <a:pt x="73" y="261"/>
                          </a:lnTo>
                          <a:lnTo>
                            <a:pt x="73" y="292"/>
                          </a:lnTo>
                          <a:lnTo>
                            <a:pt x="83" y="323"/>
                          </a:lnTo>
                          <a:lnTo>
                            <a:pt x="94" y="354"/>
                          </a:lnTo>
                          <a:lnTo>
                            <a:pt x="115" y="386"/>
                          </a:lnTo>
                          <a:lnTo>
                            <a:pt x="125" y="417"/>
                          </a:lnTo>
                          <a:lnTo>
                            <a:pt x="146" y="448"/>
                          </a:lnTo>
                          <a:lnTo>
                            <a:pt x="177" y="469"/>
                          </a:lnTo>
                          <a:lnTo>
                            <a:pt x="198" y="501"/>
                          </a:lnTo>
                          <a:lnTo>
                            <a:pt x="209" y="532"/>
                          </a:lnTo>
                          <a:lnTo>
                            <a:pt x="240" y="553"/>
                          </a:lnTo>
                          <a:lnTo>
                            <a:pt x="271" y="574"/>
                          </a:lnTo>
                          <a:lnTo>
                            <a:pt x="303" y="594"/>
                          </a:lnTo>
                          <a:lnTo>
                            <a:pt x="303" y="626"/>
                          </a:lnTo>
                          <a:lnTo>
                            <a:pt x="313" y="657"/>
                          </a:lnTo>
                          <a:lnTo>
                            <a:pt x="323" y="688"/>
                          </a:lnTo>
                          <a:lnTo>
                            <a:pt x="334" y="720"/>
                          </a:lnTo>
                          <a:lnTo>
                            <a:pt x="355" y="751"/>
                          </a:lnTo>
                          <a:lnTo>
                            <a:pt x="376" y="782"/>
                          </a:lnTo>
                          <a:lnTo>
                            <a:pt x="397" y="814"/>
                          </a:lnTo>
                          <a:lnTo>
                            <a:pt x="417" y="845"/>
                          </a:lnTo>
                          <a:lnTo>
                            <a:pt x="438" y="876"/>
                          </a:lnTo>
                          <a:lnTo>
                            <a:pt x="470" y="876"/>
                          </a:lnTo>
                          <a:lnTo>
                            <a:pt x="480" y="845"/>
                          </a:lnTo>
                          <a:lnTo>
                            <a:pt x="511" y="824"/>
                          </a:lnTo>
                          <a:lnTo>
                            <a:pt x="522" y="793"/>
                          </a:lnTo>
                          <a:lnTo>
                            <a:pt x="543" y="761"/>
                          </a:lnTo>
                          <a:lnTo>
                            <a:pt x="563" y="730"/>
                          </a:lnTo>
                          <a:lnTo>
                            <a:pt x="584" y="761"/>
                          </a:lnTo>
                          <a:lnTo>
                            <a:pt x="616" y="782"/>
                          </a:lnTo>
                          <a:lnTo>
                            <a:pt x="637" y="814"/>
                          </a:lnTo>
                          <a:lnTo>
                            <a:pt x="637" y="845"/>
                          </a:lnTo>
                          <a:lnTo>
                            <a:pt x="626" y="876"/>
                          </a:lnTo>
                          <a:lnTo>
                            <a:pt x="605" y="907"/>
                          </a:lnTo>
                          <a:lnTo>
                            <a:pt x="616" y="939"/>
                          </a:lnTo>
                          <a:lnTo>
                            <a:pt x="647" y="960"/>
                          </a:lnTo>
                          <a:lnTo>
                            <a:pt x="668" y="991"/>
                          </a:lnTo>
                          <a:lnTo>
                            <a:pt x="699" y="1012"/>
                          </a:lnTo>
                          <a:lnTo>
                            <a:pt x="730" y="1012"/>
                          </a:lnTo>
                          <a:lnTo>
                            <a:pt x="762" y="1033"/>
                          </a:lnTo>
                          <a:lnTo>
                            <a:pt x="793" y="1054"/>
                          </a:lnTo>
                          <a:lnTo>
                            <a:pt x="824" y="1056"/>
                          </a:lnTo>
                          <a:lnTo>
                            <a:pt x="856" y="1056"/>
                          </a:lnTo>
                          <a:lnTo>
                            <a:pt x="887" y="1056"/>
                          </a:lnTo>
                          <a:lnTo>
                            <a:pt x="918" y="1056"/>
                          </a:lnTo>
                          <a:lnTo>
                            <a:pt x="950" y="1056"/>
                          </a:lnTo>
                          <a:lnTo>
                            <a:pt x="950" y="1022"/>
                          </a:lnTo>
                          <a:lnTo>
                            <a:pt x="950" y="991"/>
                          </a:lnTo>
                          <a:lnTo>
                            <a:pt x="952" y="960"/>
                          </a:lnTo>
                          <a:lnTo>
                            <a:pt x="952" y="928"/>
                          </a:lnTo>
                          <a:lnTo>
                            <a:pt x="952" y="897"/>
                          </a:lnTo>
                          <a:lnTo>
                            <a:pt x="952" y="866"/>
                          </a:lnTo>
                          <a:lnTo>
                            <a:pt x="952" y="834"/>
                          </a:lnTo>
                          <a:lnTo>
                            <a:pt x="952" y="803"/>
                          </a:lnTo>
                          <a:lnTo>
                            <a:pt x="952" y="772"/>
                          </a:lnTo>
                          <a:lnTo>
                            <a:pt x="952" y="741"/>
                          </a:lnTo>
                          <a:lnTo>
                            <a:pt x="952" y="709"/>
                          </a:lnTo>
                          <a:lnTo>
                            <a:pt x="952" y="678"/>
                          </a:lnTo>
                          <a:lnTo>
                            <a:pt x="952" y="647"/>
                          </a:lnTo>
                          <a:lnTo>
                            <a:pt x="952" y="615"/>
                          </a:lnTo>
                          <a:lnTo>
                            <a:pt x="952" y="584"/>
                          </a:lnTo>
                          <a:lnTo>
                            <a:pt x="952" y="553"/>
                          </a:lnTo>
                          <a:lnTo>
                            <a:pt x="939" y="521"/>
                          </a:lnTo>
                          <a:lnTo>
                            <a:pt x="908" y="511"/>
                          </a:lnTo>
                          <a:lnTo>
                            <a:pt x="912" y="488"/>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11160" y="839520"/>
                      <a:ext cx="6511680" cy="4092840"/>
                    </a:xfrm>
                    <a:custGeom>
                      <a:avLst/>
                      <a:gdLst/>
                      <a:ahLst/>
                      <a:rect l="l" t="t" r="r" b="b"/>
                      <a:pathLst>
                        <a:path w="4102" h="2578">
                          <a:moveTo>
                            <a:pt x="720" y="0"/>
                          </a:moveTo>
                          <a:lnTo>
                            <a:pt x="751" y="31"/>
                          </a:lnTo>
                          <a:lnTo>
                            <a:pt x="772" y="63"/>
                          </a:lnTo>
                          <a:lnTo>
                            <a:pt x="803" y="83"/>
                          </a:lnTo>
                          <a:lnTo>
                            <a:pt x="824" y="115"/>
                          </a:lnTo>
                          <a:lnTo>
                            <a:pt x="845" y="146"/>
                          </a:lnTo>
                          <a:lnTo>
                            <a:pt x="856" y="177"/>
                          </a:lnTo>
                          <a:lnTo>
                            <a:pt x="866" y="209"/>
                          </a:lnTo>
                          <a:lnTo>
                            <a:pt x="877" y="240"/>
                          </a:lnTo>
                          <a:lnTo>
                            <a:pt x="877" y="271"/>
                          </a:lnTo>
                          <a:lnTo>
                            <a:pt x="877" y="303"/>
                          </a:lnTo>
                          <a:lnTo>
                            <a:pt x="877" y="334"/>
                          </a:lnTo>
                          <a:lnTo>
                            <a:pt x="877" y="365"/>
                          </a:lnTo>
                          <a:lnTo>
                            <a:pt x="866" y="397"/>
                          </a:lnTo>
                          <a:lnTo>
                            <a:pt x="866" y="428"/>
                          </a:lnTo>
                          <a:lnTo>
                            <a:pt x="866" y="459"/>
                          </a:lnTo>
                          <a:lnTo>
                            <a:pt x="866" y="490"/>
                          </a:lnTo>
                          <a:lnTo>
                            <a:pt x="866" y="522"/>
                          </a:lnTo>
                          <a:lnTo>
                            <a:pt x="845" y="553"/>
                          </a:lnTo>
                          <a:lnTo>
                            <a:pt x="814" y="574"/>
                          </a:lnTo>
                          <a:lnTo>
                            <a:pt x="793" y="605"/>
                          </a:lnTo>
                          <a:lnTo>
                            <a:pt x="772" y="637"/>
                          </a:lnTo>
                          <a:lnTo>
                            <a:pt x="741" y="657"/>
                          </a:lnTo>
                          <a:lnTo>
                            <a:pt x="710" y="637"/>
                          </a:lnTo>
                          <a:lnTo>
                            <a:pt x="678" y="616"/>
                          </a:lnTo>
                          <a:lnTo>
                            <a:pt x="647" y="595"/>
                          </a:lnTo>
                          <a:lnTo>
                            <a:pt x="616" y="574"/>
                          </a:lnTo>
                          <a:lnTo>
                            <a:pt x="584" y="563"/>
                          </a:lnTo>
                          <a:lnTo>
                            <a:pt x="553" y="563"/>
                          </a:lnTo>
                          <a:lnTo>
                            <a:pt x="522" y="553"/>
                          </a:lnTo>
                          <a:lnTo>
                            <a:pt x="449" y="553"/>
                          </a:lnTo>
                          <a:lnTo>
                            <a:pt x="417" y="543"/>
                          </a:lnTo>
                          <a:lnTo>
                            <a:pt x="386" y="543"/>
                          </a:lnTo>
                          <a:lnTo>
                            <a:pt x="355" y="543"/>
                          </a:lnTo>
                          <a:lnTo>
                            <a:pt x="323" y="532"/>
                          </a:lnTo>
                          <a:lnTo>
                            <a:pt x="292" y="522"/>
                          </a:lnTo>
                          <a:lnTo>
                            <a:pt x="261" y="511"/>
                          </a:lnTo>
                          <a:lnTo>
                            <a:pt x="230" y="501"/>
                          </a:lnTo>
                          <a:lnTo>
                            <a:pt x="198" y="490"/>
                          </a:lnTo>
                          <a:lnTo>
                            <a:pt x="177" y="522"/>
                          </a:lnTo>
                          <a:lnTo>
                            <a:pt x="177" y="553"/>
                          </a:lnTo>
                          <a:lnTo>
                            <a:pt x="177" y="584"/>
                          </a:lnTo>
                          <a:lnTo>
                            <a:pt x="177" y="616"/>
                          </a:lnTo>
                          <a:lnTo>
                            <a:pt x="177" y="647"/>
                          </a:lnTo>
                          <a:lnTo>
                            <a:pt x="177" y="678"/>
                          </a:lnTo>
                          <a:lnTo>
                            <a:pt x="177" y="710"/>
                          </a:lnTo>
                          <a:lnTo>
                            <a:pt x="177" y="741"/>
                          </a:lnTo>
                          <a:lnTo>
                            <a:pt x="177" y="772"/>
                          </a:lnTo>
                          <a:lnTo>
                            <a:pt x="177" y="803"/>
                          </a:lnTo>
                          <a:lnTo>
                            <a:pt x="177" y="835"/>
                          </a:lnTo>
                          <a:lnTo>
                            <a:pt x="146" y="845"/>
                          </a:lnTo>
                          <a:lnTo>
                            <a:pt x="125" y="877"/>
                          </a:lnTo>
                          <a:lnTo>
                            <a:pt x="94" y="908"/>
                          </a:lnTo>
                          <a:lnTo>
                            <a:pt x="83" y="939"/>
                          </a:lnTo>
                          <a:lnTo>
                            <a:pt x="73" y="970"/>
                          </a:lnTo>
                          <a:lnTo>
                            <a:pt x="73" y="1002"/>
                          </a:lnTo>
                          <a:lnTo>
                            <a:pt x="73" y="1033"/>
                          </a:lnTo>
                          <a:lnTo>
                            <a:pt x="73" y="1064"/>
                          </a:lnTo>
                          <a:lnTo>
                            <a:pt x="73" y="1096"/>
                          </a:lnTo>
                          <a:lnTo>
                            <a:pt x="83" y="1127"/>
                          </a:lnTo>
                          <a:lnTo>
                            <a:pt x="83" y="1158"/>
                          </a:lnTo>
                          <a:lnTo>
                            <a:pt x="94" y="1190"/>
                          </a:lnTo>
                          <a:lnTo>
                            <a:pt x="94" y="1221"/>
                          </a:lnTo>
                          <a:lnTo>
                            <a:pt x="94" y="1252"/>
                          </a:lnTo>
                          <a:lnTo>
                            <a:pt x="94" y="1283"/>
                          </a:lnTo>
                          <a:lnTo>
                            <a:pt x="125" y="1294"/>
                          </a:lnTo>
                          <a:lnTo>
                            <a:pt x="157" y="1304"/>
                          </a:lnTo>
                          <a:lnTo>
                            <a:pt x="188" y="1304"/>
                          </a:lnTo>
                          <a:lnTo>
                            <a:pt x="209" y="1336"/>
                          </a:lnTo>
                          <a:lnTo>
                            <a:pt x="240" y="1367"/>
                          </a:lnTo>
                          <a:lnTo>
                            <a:pt x="261" y="1398"/>
                          </a:lnTo>
                          <a:lnTo>
                            <a:pt x="292" y="1409"/>
                          </a:lnTo>
                          <a:lnTo>
                            <a:pt x="323" y="1409"/>
                          </a:lnTo>
                          <a:lnTo>
                            <a:pt x="355" y="1409"/>
                          </a:lnTo>
                          <a:lnTo>
                            <a:pt x="386" y="1409"/>
                          </a:lnTo>
                          <a:lnTo>
                            <a:pt x="417" y="1409"/>
                          </a:lnTo>
                          <a:lnTo>
                            <a:pt x="449" y="1409"/>
                          </a:lnTo>
                          <a:lnTo>
                            <a:pt x="480" y="1409"/>
                          </a:lnTo>
                          <a:lnTo>
                            <a:pt x="511" y="1409"/>
                          </a:lnTo>
                          <a:lnTo>
                            <a:pt x="543" y="1409"/>
                          </a:lnTo>
                          <a:lnTo>
                            <a:pt x="574" y="1409"/>
                          </a:lnTo>
                          <a:lnTo>
                            <a:pt x="605" y="1409"/>
                          </a:lnTo>
                          <a:lnTo>
                            <a:pt x="637" y="1409"/>
                          </a:lnTo>
                          <a:lnTo>
                            <a:pt x="668" y="1409"/>
                          </a:lnTo>
                          <a:lnTo>
                            <a:pt x="689" y="1377"/>
                          </a:lnTo>
                          <a:lnTo>
                            <a:pt x="720" y="1367"/>
                          </a:lnTo>
                          <a:lnTo>
                            <a:pt x="741" y="1336"/>
                          </a:lnTo>
                          <a:lnTo>
                            <a:pt x="772" y="1315"/>
                          </a:lnTo>
                          <a:lnTo>
                            <a:pt x="803" y="1283"/>
                          </a:lnTo>
                          <a:lnTo>
                            <a:pt x="835" y="1252"/>
                          </a:lnTo>
                          <a:lnTo>
                            <a:pt x="866" y="1231"/>
                          </a:lnTo>
                          <a:lnTo>
                            <a:pt x="866" y="1200"/>
                          </a:lnTo>
                          <a:lnTo>
                            <a:pt x="866" y="1169"/>
                          </a:lnTo>
                          <a:lnTo>
                            <a:pt x="866" y="1075"/>
                          </a:lnTo>
                          <a:lnTo>
                            <a:pt x="887" y="1043"/>
                          </a:lnTo>
                          <a:lnTo>
                            <a:pt x="918" y="1033"/>
                          </a:lnTo>
                          <a:lnTo>
                            <a:pt x="950" y="1023"/>
                          </a:lnTo>
                          <a:lnTo>
                            <a:pt x="981" y="1012"/>
                          </a:lnTo>
                          <a:lnTo>
                            <a:pt x="1012" y="1002"/>
                          </a:lnTo>
                          <a:lnTo>
                            <a:pt x="1043" y="981"/>
                          </a:lnTo>
                          <a:lnTo>
                            <a:pt x="1064" y="950"/>
                          </a:lnTo>
                          <a:lnTo>
                            <a:pt x="1085" y="918"/>
                          </a:lnTo>
                          <a:lnTo>
                            <a:pt x="1096" y="887"/>
                          </a:lnTo>
                          <a:lnTo>
                            <a:pt x="1106" y="856"/>
                          </a:lnTo>
                          <a:lnTo>
                            <a:pt x="1137" y="824"/>
                          </a:lnTo>
                          <a:lnTo>
                            <a:pt x="1158" y="793"/>
                          </a:lnTo>
                          <a:lnTo>
                            <a:pt x="1190" y="783"/>
                          </a:lnTo>
                          <a:lnTo>
                            <a:pt x="1221" y="772"/>
                          </a:lnTo>
                          <a:lnTo>
                            <a:pt x="1252" y="772"/>
                          </a:lnTo>
                          <a:lnTo>
                            <a:pt x="1283" y="783"/>
                          </a:lnTo>
                          <a:lnTo>
                            <a:pt x="1315" y="793"/>
                          </a:lnTo>
                          <a:lnTo>
                            <a:pt x="1346" y="803"/>
                          </a:lnTo>
                          <a:lnTo>
                            <a:pt x="1377" y="814"/>
                          </a:lnTo>
                          <a:lnTo>
                            <a:pt x="1409" y="814"/>
                          </a:lnTo>
                          <a:lnTo>
                            <a:pt x="1440" y="814"/>
                          </a:lnTo>
                          <a:lnTo>
                            <a:pt x="1471" y="814"/>
                          </a:lnTo>
                          <a:lnTo>
                            <a:pt x="1503" y="793"/>
                          </a:lnTo>
                          <a:lnTo>
                            <a:pt x="1534" y="772"/>
                          </a:lnTo>
                          <a:lnTo>
                            <a:pt x="1565" y="762"/>
                          </a:lnTo>
                          <a:lnTo>
                            <a:pt x="1597" y="762"/>
                          </a:lnTo>
                          <a:lnTo>
                            <a:pt x="1628" y="762"/>
                          </a:lnTo>
                          <a:lnTo>
                            <a:pt x="1659" y="762"/>
                          </a:lnTo>
                          <a:lnTo>
                            <a:pt x="1690" y="783"/>
                          </a:lnTo>
                          <a:lnTo>
                            <a:pt x="1722" y="793"/>
                          </a:lnTo>
                          <a:lnTo>
                            <a:pt x="1732" y="824"/>
                          </a:lnTo>
                          <a:lnTo>
                            <a:pt x="1732" y="856"/>
                          </a:lnTo>
                          <a:lnTo>
                            <a:pt x="1732" y="887"/>
                          </a:lnTo>
                          <a:lnTo>
                            <a:pt x="1732" y="918"/>
                          </a:lnTo>
                          <a:lnTo>
                            <a:pt x="1732" y="950"/>
                          </a:lnTo>
                          <a:lnTo>
                            <a:pt x="1743" y="981"/>
                          </a:lnTo>
                          <a:lnTo>
                            <a:pt x="1763" y="1012"/>
                          </a:lnTo>
                          <a:lnTo>
                            <a:pt x="1784" y="1043"/>
                          </a:lnTo>
                          <a:lnTo>
                            <a:pt x="1805" y="1075"/>
                          </a:lnTo>
                          <a:lnTo>
                            <a:pt x="1837" y="1096"/>
                          </a:lnTo>
                          <a:lnTo>
                            <a:pt x="1857" y="1127"/>
                          </a:lnTo>
                          <a:lnTo>
                            <a:pt x="1889" y="1148"/>
                          </a:lnTo>
                          <a:lnTo>
                            <a:pt x="1920" y="1169"/>
                          </a:lnTo>
                          <a:lnTo>
                            <a:pt x="1941" y="1200"/>
                          </a:lnTo>
                          <a:lnTo>
                            <a:pt x="1962" y="1231"/>
                          </a:lnTo>
                          <a:lnTo>
                            <a:pt x="1983" y="1263"/>
                          </a:lnTo>
                          <a:lnTo>
                            <a:pt x="2014" y="1283"/>
                          </a:lnTo>
                          <a:lnTo>
                            <a:pt x="2035" y="1315"/>
                          </a:lnTo>
                          <a:lnTo>
                            <a:pt x="2045" y="1346"/>
                          </a:lnTo>
                          <a:lnTo>
                            <a:pt x="2066" y="1377"/>
                          </a:lnTo>
                          <a:lnTo>
                            <a:pt x="2077" y="1409"/>
                          </a:lnTo>
                          <a:lnTo>
                            <a:pt x="2087" y="1440"/>
                          </a:lnTo>
                          <a:lnTo>
                            <a:pt x="2097" y="1471"/>
                          </a:lnTo>
                          <a:lnTo>
                            <a:pt x="2097" y="1503"/>
                          </a:lnTo>
                          <a:lnTo>
                            <a:pt x="2097" y="1534"/>
                          </a:lnTo>
                          <a:lnTo>
                            <a:pt x="2097" y="1565"/>
                          </a:lnTo>
                          <a:lnTo>
                            <a:pt x="2097" y="1597"/>
                          </a:lnTo>
                          <a:lnTo>
                            <a:pt x="2129" y="1628"/>
                          </a:lnTo>
                          <a:lnTo>
                            <a:pt x="2160" y="1649"/>
                          </a:lnTo>
                          <a:lnTo>
                            <a:pt x="2191" y="1649"/>
                          </a:lnTo>
                          <a:lnTo>
                            <a:pt x="2212" y="1617"/>
                          </a:lnTo>
                          <a:lnTo>
                            <a:pt x="2223" y="1586"/>
                          </a:lnTo>
                          <a:lnTo>
                            <a:pt x="2233" y="1555"/>
                          </a:lnTo>
                          <a:lnTo>
                            <a:pt x="2233" y="1523"/>
                          </a:lnTo>
                          <a:lnTo>
                            <a:pt x="2223" y="1492"/>
                          </a:lnTo>
                          <a:lnTo>
                            <a:pt x="2223" y="1461"/>
                          </a:lnTo>
                          <a:lnTo>
                            <a:pt x="2223" y="1430"/>
                          </a:lnTo>
                          <a:lnTo>
                            <a:pt x="2223" y="1398"/>
                          </a:lnTo>
                          <a:lnTo>
                            <a:pt x="2254" y="1388"/>
                          </a:lnTo>
                          <a:lnTo>
                            <a:pt x="2285" y="1388"/>
                          </a:lnTo>
                          <a:lnTo>
                            <a:pt x="2317" y="1398"/>
                          </a:lnTo>
                          <a:lnTo>
                            <a:pt x="2348" y="1409"/>
                          </a:lnTo>
                          <a:lnTo>
                            <a:pt x="2358" y="1377"/>
                          </a:lnTo>
                          <a:lnTo>
                            <a:pt x="2358" y="1346"/>
                          </a:lnTo>
                          <a:lnTo>
                            <a:pt x="2348" y="1315"/>
                          </a:lnTo>
                          <a:lnTo>
                            <a:pt x="2337" y="1283"/>
                          </a:lnTo>
                          <a:lnTo>
                            <a:pt x="2306" y="1273"/>
                          </a:lnTo>
                          <a:lnTo>
                            <a:pt x="2275" y="1242"/>
                          </a:lnTo>
                          <a:lnTo>
                            <a:pt x="2254" y="1210"/>
                          </a:lnTo>
                          <a:lnTo>
                            <a:pt x="2223" y="1190"/>
                          </a:lnTo>
                          <a:lnTo>
                            <a:pt x="2202" y="1158"/>
                          </a:lnTo>
                          <a:lnTo>
                            <a:pt x="2170" y="1137"/>
                          </a:lnTo>
                          <a:lnTo>
                            <a:pt x="2139" y="1117"/>
                          </a:lnTo>
                          <a:lnTo>
                            <a:pt x="2118" y="1085"/>
                          </a:lnTo>
                          <a:lnTo>
                            <a:pt x="2108" y="1054"/>
                          </a:lnTo>
                          <a:lnTo>
                            <a:pt x="2097" y="1023"/>
                          </a:lnTo>
                          <a:lnTo>
                            <a:pt x="2087" y="991"/>
                          </a:lnTo>
                          <a:lnTo>
                            <a:pt x="2066" y="960"/>
                          </a:lnTo>
                          <a:lnTo>
                            <a:pt x="2045" y="929"/>
                          </a:lnTo>
                          <a:lnTo>
                            <a:pt x="2014" y="897"/>
                          </a:lnTo>
                          <a:lnTo>
                            <a:pt x="2003" y="866"/>
                          </a:lnTo>
                          <a:lnTo>
                            <a:pt x="1983" y="835"/>
                          </a:lnTo>
                          <a:lnTo>
                            <a:pt x="1962" y="803"/>
                          </a:lnTo>
                          <a:lnTo>
                            <a:pt x="1941" y="772"/>
                          </a:lnTo>
                          <a:lnTo>
                            <a:pt x="1920" y="741"/>
                          </a:lnTo>
                          <a:lnTo>
                            <a:pt x="1899" y="710"/>
                          </a:lnTo>
                          <a:lnTo>
                            <a:pt x="1910" y="678"/>
                          </a:lnTo>
                          <a:lnTo>
                            <a:pt x="1941" y="668"/>
                          </a:lnTo>
                          <a:lnTo>
                            <a:pt x="1972" y="668"/>
                          </a:lnTo>
                          <a:lnTo>
                            <a:pt x="2003" y="668"/>
                          </a:lnTo>
                          <a:lnTo>
                            <a:pt x="2035" y="689"/>
                          </a:lnTo>
                          <a:lnTo>
                            <a:pt x="2056" y="720"/>
                          </a:lnTo>
                          <a:lnTo>
                            <a:pt x="2087" y="751"/>
                          </a:lnTo>
                          <a:lnTo>
                            <a:pt x="2108" y="783"/>
                          </a:lnTo>
                          <a:lnTo>
                            <a:pt x="2129" y="814"/>
                          </a:lnTo>
                          <a:lnTo>
                            <a:pt x="2139" y="845"/>
                          </a:lnTo>
                          <a:lnTo>
                            <a:pt x="2160" y="877"/>
                          </a:lnTo>
                          <a:lnTo>
                            <a:pt x="2191" y="908"/>
                          </a:lnTo>
                          <a:lnTo>
                            <a:pt x="2202" y="939"/>
                          </a:lnTo>
                          <a:lnTo>
                            <a:pt x="2233" y="970"/>
                          </a:lnTo>
                          <a:lnTo>
                            <a:pt x="2254" y="1002"/>
                          </a:lnTo>
                          <a:lnTo>
                            <a:pt x="2285" y="1033"/>
                          </a:lnTo>
                          <a:lnTo>
                            <a:pt x="2296" y="1064"/>
                          </a:lnTo>
                          <a:lnTo>
                            <a:pt x="2317" y="1096"/>
                          </a:lnTo>
                          <a:lnTo>
                            <a:pt x="2348" y="1127"/>
                          </a:lnTo>
                          <a:lnTo>
                            <a:pt x="2379" y="1158"/>
                          </a:lnTo>
                          <a:lnTo>
                            <a:pt x="2410" y="1190"/>
                          </a:lnTo>
                          <a:lnTo>
                            <a:pt x="2431" y="1221"/>
                          </a:lnTo>
                          <a:lnTo>
                            <a:pt x="2452" y="1252"/>
                          </a:lnTo>
                          <a:lnTo>
                            <a:pt x="2463" y="1283"/>
                          </a:lnTo>
                          <a:lnTo>
                            <a:pt x="2473" y="1315"/>
                          </a:lnTo>
                          <a:lnTo>
                            <a:pt x="2473" y="1346"/>
                          </a:lnTo>
                          <a:lnTo>
                            <a:pt x="2473" y="1377"/>
                          </a:lnTo>
                          <a:lnTo>
                            <a:pt x="2473" y="1409"/>
                          </a:lnTo>
                          <a:lnTo>
                            <a:pt x="2473" y="1440"/>
                          </a:lnTo>
                          <a:lnTo>
                            <a:pt x="2504" y="1461"/>
                          </a:lnTo>
                          <a:lnTo>
                            <a:pt x="2536" y="1482"/>
                          </a:lnTo>
                          <a:lnTo>
                            <a:pt x="2557" y="1513"/>
                          </a:lnTo>
                          <a:lnTo>
                            <a:pt x="2557" y="1544"/>
                          </a:lnTo>
                          <a:lnTo>
                            <a:pt x="2557" y="1576"/>
                          </a:lnTo>
                          <a:lnTo>
                            <a:pt x="2557" y="1607"/>
                          </a:lnTo>
                          <a:lnTo>
                            <a:pt x="2588" y="1628"/>
                          </a:lnTo>
                          <a:lnTo>
                            <a:pt x="2619" y="1649"/>
                          </a:lnTo>
                          <a:lnTo>
                            <a:pt x="2650" y="1670"/>
                          </a:lnTo>
                          <a:lnTo>
                            <a:pt x="2682" y="1690"/>
                          </a:lnTo>
                          <a:lnTo>
                            <a:pt x="2713" y="1711"/>
                          </a:lnTo>
                          <a:lnTo>
                            <a:pt x="2744" y="1711"/>
                          </a:lnTo>
                          <a:lnTo>
                            <a:pt x="2776" y="1711"/>
                          </a:lnTo>
                          <a:lnTo>
                            <a:pt x="2807" y="1701"/>
                          </a:lnTo>
                          <a:lnTo>
                            <a:pt x="2828" y="1670"/>
                          </a:lnTo>
                          <a:lnTo>
                            <a:pt x="2849" y="1638"/>
                          </a:lnTo>
                          <a:lnTo>
                            <a:pt x="2859" y="1607"/>
                          </a:lnTo>
                          <a:lnTo>
                            <a:pt x="2870" y="1576"/>
                          </a:lnTo>
                          <a:lnTo>
                            <a:pt x="2859" y="1544"/>
                          </a:lnTo>
                          <a:lnTo>
                            <a:pt x="2838" y="1513"/>
                          </a:lnTo>
                          <a:lnTo>
                            <a:pt x="2817" y="1482"/>
                          </a:lnTo>
                          <a:lnTo>
                            <a:pt x="2797" y="1450"/>
                          </a:lnTo>
                          <a:lnTo>
                            <a:pt x="2786" y="1419"/>
                          </a:lnTo>
                          <a:lnTo>
                            <a:pt x="2786" y="1388"/>
                          </a:lnTo>
                          <a:lnTo>
                            <a:pt x="2817" y="1357"/>
                          </a:lnTo>
                          <a:lnTo>
                            <a:pt x="2849" y="1336"/>
                          </a:lnTo>
                          <a:lnTo>
                            <a:pt x="2880" y="1325"/>
                          </a:lnTo>
                          <a:lnTo>
                            <a:pt x="2911" y="1315"/>
                          </a:lnTo>
                          <a:lnTo>
                            <a:pt x="2943" y="1294"/>
                          </a:lnTo>
                          <a:lnTo>
                            <a:pt x="2974" y="1273"/>
                          </a:lnTo>
                          <a:lnTo>
                            <a:pt x="2984" y="1190"/>
                          </a:lnTo>
                          <a:lnTo>
                            <a:pt x="2995" y="1106"/>
                          </a:lnTo>
                          <a:lnTo>
                            <a:pt x="3026" y="1096"/>
                          </a:lnTo>
                          <a:lnTo>
                            <a:pt x="3057" y="1096"/>
                          </a:lnTo>
                          <a:lnTo>
                            <a:pt x="3089" y="1096"/>
                          </a:lnTo>
                          <a:lnTo>
                            <a:pt x="3120" y="1106"/>
                          </a:lnTo>
                          <a:lnTo>
                            <a:pt x="3151" y="1127"/>
                          </a:lnTo>
                          <a:lnTo>
                            <a:pt x="3183" y="1148"/>
                          </a:lnTo>
                          <a:lnTo>
                            <a:pt x="3214" y="1158"/>
                          </a:lnTo>
                          <a:lnTo>
                            <a:pt x="3235" y="1127"/>
                          </a:lnTo>
                          <a:lnTo>
                            <a:pt x="3235" y="1096"/>
                          </a:lnTo>
                          <a:lnTo>
                            <a:pt x="3235" y="1064"/>
                          </a:lnTo>
                          <a:lnTo>
                            <a:pt x="3214" y="1033"/>
                          </a:lnTo>
                          <a:lnTo>
                            <a:pt x="3193" y="1002"/>
                          </a:lnTo>
                          <a:lnTo>
                            <a:pt x="3183" y="970"/>
                          </a:lnTo>
                          <a:lnTo>
                            <a:pt x="3183" y="939"/>
                          </a:lnTo>
                          <a:lnTo>
                            <a:pt x="3183" y="908"/>
                          </a:lnTo>
                          <a:lnTo>
                            <a:pt x="3183" y="877"/>
                          </a:lnTo>
                          <a:lnTo>
                            <a:pt x="3183" y="845"/>
                          </a:lnTo>
                          <a:lnTo>
                            <a:pt x="3183" y="814"/>
                          </a:lnTo>
                          <a:lnTo>
                            <a:pt x="3183" y="783"/>
                          </a:lnTo>
                          <a:lnTo>
                            <a:pt x="3183" y="751"/>
                          </a:lnTo>
                          <a:lnTo>
                            <a:pt x="3193" y="668"/>
                          </a:lnTo>
                          <a:lnTo>
                            <a:pt x="3193" y="637"/>
                          </a:lnTo>
                          <a:lnTo>
                            <a:pt x="3203" y="605"/>
                          </a:lnTo>
                          <a:lnTo>
                            <a:pt x="3235" y="574"/>
                          </a:lnTo>
                          <a:lnTo>
                            <a:pt x="3266" y="563"/>
                          </a:lnTo>
                          <a:lnTo>
                            <a:pt x="3297" y="543"/>
                          </a:lnTo>
                          <a:lnTo>
                            <a:pt x="3329" y="532"/>
                          </a:lnTo>
                          <a:lnTo>
                            <a:pt x="3360" y="522"/>
                          </a:lnTo>
                          <a:lnTo>
                            <a:pt x="3391" y="522"/>
                          </a:lnTo>
                          <a:lnTo>
                            <a:pt x="3423" y="522"/>
                          </a:lnTo>
                          <a:lnTo>
                            <a:pt x="3454" y="553"/>
                          </a:lnTo>
                          <a:lnTo>
                            <a:pt x="3475" y="584"/>
                          </a:lnTo>
                          <a:lnTo>
                            <a:pt x="3475" y="616"/>
                          </a:lnTo>
                          <a:lnTo>
                            <a:pt x="3496" y="647"/>
                          </a:lnTo>
                          <a:lnTo>
                            <a:pt x="3527" y="668"/>
                          </a:lnTo>
                          <a:lnTo>
                            <a:pt x="3558" y="699"/>
                          </a:lnTo>
                          <a:lnTo>
                            <a:pt x="3590" y="710"/>
                          </a:lnTo>
                          <a:lnTo>
                            <a:pt x="3621" y="710"/>
                          </a:lnTo>
                          <a:lnTo>
                            <a:pt x="3652" y="699"/>
                          </a:lnTo>
                          <a:lnTo>
                            <a:pt x="3673" y="668"/>
                          </a:lnTo>
                          <a:lnTo>
                            <a:pt x="3694" y="637"/>
                          </a:lnTo>
                          <a:lnTo>
                            <a:pt x="3704" y="605"/>
                          </a:lnTo>
                          <a:lnTo>
                            <a:pt x="3694" y="574"/>
                          </a:lnTo>
                          <a:lnTo>
                            <a:pt x="3673" y="543"/>
                          </a:lnTo>
                          <a:lnTo>
                            <a:pt x="3652" y="511"/>
                          </a:lnTo>
                          <a:lnTo>
                            <a:pt x="3652" y="480"/>
                          </a:lnTo>
                          <a:lnTo>
                            <a:pt x="3652" y="449"/>
                          </a:lnTo>
                          <a:lnTo>
                            <a:pt x="3673" y="417"/>
                          </a:lnTo>
                          <a:lnTo>
                            <a:pt x="3704" y="397"/>
                          </a:lnTo>
                          <a:lnTo>
                            <a:pt x="3736" y="386"/>
                          </a:lnTo>
                          <a:lnTo>
                            <a:pt x="3767" y="365"/>
                          </a:lnTo>
                          <a:lnTo>
                            <a:pt x="3777" y="397"/>
                          </a:lnTo>
                          <a:lnTo>
                            <a:pt x="3798" y="428"/>
                          </a:lnTo>
                          <a:lnTo>
                            <a:pt x="3819" y="459"/>
                          </a:lnTo>
                          <a:lnTo>
                            <a:pt x="3809" y="490"/>
                          </a:lnTo>
                          <a:lnTo>
                            <a:pt x="3788" y="522"/>
                          </a:lnTo>
                          <a:lnTo>
                            <a:pt x="3767" y="553"/>
                          </a:lnTo>
                          <a:lnTo>
                            <a:pt x="3767" y="584"/>
                          </a:lnTo>
                          <a:lnTo>
                            <a:pt x="3767" y="616"/>
                          </a:lnTo>
                          <a:lnTo>
                            <a:pt x="3798" y="637"/>
                          </a:lnTo>
                          <a:lnTo>
                            <a:pt x="3830" y="668"/>
                          </a:lnTo>
                          <a:lnTo>
                            <a:pt x="3861" y="678"/>
                          </a:lnTo>
                          <a:lnTo>
                            <a:pt x="3892" y="689"/>
                          </a:lnTo>
                          <a:lnTo>
                            <a:pt x="3923" y="710"/>
                          </a:lnTo>
                          <a:lnTo>
                            <a:pt x="3955" y="720"/>
                          </a:lnTo>
                          <a:lnTo>
                            <a:pt x="3986" y="730"/>
                          </a:lnTo>
                          <a:lnTo>
                            <a:pt x="4017" y="751"/>
                          </a:lnTo>
                          <a:lnTo>
                            <a:pt x="4049" y="783"/>
                          </a:lnTo>
                          <a:lnTo>
                            <a:pt x="4070" y="814"/>
                          </a:lnTo>
                          <a:lnTo>
                            <a:pt x="4090" y="845"/>
                          </a:lnTo>
                          <a:lnTo>
                            <a:pt x="4101" y="877"/>
                          </a:lnTo>
                          <a:lnTo>
                            <a:pt x="4080" y="908"/>
                          </a:lnTo>
                          <a:lnTo>
                            <a:pt x="4070" y="939"/>
                          </a:lnTo>
                          <a:lnTo>
                            <a:pt x="4038" y="950"/>
                          </a:lnTo>
                          <a:lnTo>
                            <a:pt x="4007" y="950"/>
                          </a:lnTo>
                          <a:lnTo>
                            <a:pt x="3976" y="950"/>
                          </a:lnTo>
                          <a:lnTo>
                            <a:pt x="3944" y="950"/>
                          </a:lnTo>
                          <a:lnTo>
                            <a:pt x="3913" y="950"/>
                          </a:lnTo>
                          <a:lnTo>
                            <a:pt x="3882" y="950"/>
                          </a:lnTo>
                          <a:lnTo>
                            <a:pt x="3850" y="950"/>
                          </a:lnTo>
                          <a:lnTo>
                            <a:pt x="3819" y="960"/>
                          </a:lnTo>
                          <a:lnTo>
                            <a:pt x="3788" y="960"/>
                          </a:lnTo>
                          <a:lnTo>
                            <a:pt x="3757" y="960"/>
                          </a:lnTo>
                          <a:lnTo>
                            <a:pt x="3725" y="960"/>
                          </a:lnTo>
                          <a:lnTo>
                            <a:pt x="3694" y="970"/>
                          </a:lnTo>
                          <a:lnTo>
                            <a:pt x="3663" y="981"/>
                          </a:lnTo>
                          <a:lnTo>
                            <a:pt x="3631" y="1002"/>
                          </a:lnTo>
                          <a:lnTo>
                            <a:pt x="3600" y="1012"/>
                          </a:lnTo>
                          <a:lnTo>
                            <a:pt x="3569" y="1033"/>
                          </a:lnTo>
                          <a:lnTo>
                            <a:pt x="3537" y="1064"/>
                          </a:lnTo>
                          <a:lnTo>
                            <a:pt x="3506" y="1085"/>
                          </a:lnTo>
                          <a:lnTo>
                            <a:pt x="3475" y="1106"/>
                          </a:lnTo>
                          <a:lnTo>
                            <a:pt x="3454" y="1137"/>
                          </a:lnTo>
                          <a:lnTo>
                            <a:pt x="3423" y="1158"/>
                          </a:lnTo>
                          <a:lnTo>
                            <a:pt x="3391" y="1179"/>
                          </a:lnTo>
                          <a:lnTo>
                            <a:pt x="3360" y="1190"/>
                          </a:lnTo>
                          <a:lnTo>
                            <a:pt x="3329" y="1200"/>
                          </a:lnTo>
                          <a:lnTo>
                            <a:pt x="3297" y="1221"/>
                          </a:lnTo>
                          <a:lnTo>
                            <a:pt x="3266" y="1252"/>
                          </a:lnTo>
                          <a:lnTo>
                            <a:pt x="3235" y="1273"/>
                          </a:lnTo>
                          <a:lnTo>
                            <a:pt x="3203" y="1283"/>
                          </a:lnTo>
                          <a:lnTo>
                            <a:pt x="3172" y="1294"/>
                          </a:lnTo>
                          <a:lnTo>
                            <a:pt x="3141" y="1304"/>
                          </a:lnTo>
                          <a:lnTo>
                            <a:pt x="3120" y="1336"/>
                          </a:lnTo>
                          <a:lnTo>
                            <a:pt x="3089" y="1357"/>
                          </a:lnTo>
                          <a:lnTo>
                            <a:pt x="3078" y="1388"/>
                          </a:lnTo>
                          <a:lnTo>
                            <a:pt x="3057" y="1419"/>
                          </a:lnTo>
                          <a:lnTo>
                            <a:pt x="3057" y="1450"/>
                          </a:lnTo>
                          <a:lnTo>
                            <a:pt x="3068" y="1482"/>
                          </a:lnTo>
                          <a:lnTo>
                            <a:pt x="3078" y="1513"/>
                          </a:lnTo>
                          <a:lnTo>
                            <a:pt x="3089" y="1544"/>
                          </a:lnTo>
                          <a:lnTo>
                            <a:pt x="3120" y="1565"/>
                          </a:lnTo>
                          <a:lnTo>
                            <a:pt x="3130" y="1597"/>
                          </a:lnTo>
                          <a:lnTo>
                            <a:pt x="3151" y="1628"/>
                          </a:lnTo>
                          <a:lnTo>
                            <a:pt x="3172" y="1659"/>
                          </a:lnTo>
                          <a:lnTo>
                            <a:pt x="3203" y="1690"/>
                          </a:lnTo>
                          <a:lnTo>
                            <a:pt x="3235" y="1711"/>
                          </a:lnTo>
                          <a:lnTo>
                            <a:pt x="3245" y="1743"/>
                          </a:lnTo>
                          <a:lnTo>
                            <a:pt x="3277" y="1763"/>
                          </a:lnTo>
                          <a:lnTo>
                            <a:pt x="3308" y="1763"/>
                          </a:lnTo>
                          <a:lnTo>
                            <a:pt x="3339" y="1763"/>
                          </a:lnTo>
                          <a:lnTo>
                            <a:pt x="3370" y="1763"/>
                          </a:lnTo>
                          <a:lnTo>
                            <a:pt x="3402" y="1763"/>
                          </a:lnTo>
                          <a:lnTo>
                            <a:pt x="3433" y="1753"/>
                          </a:lnTo>
                          <a:lnTo>
                            <a:pt x="3464" y="1743"/>
                          </a:lnTo>
                          <a:lnTo>
                            <a:pt x="3496" y="1743"/>
                          </a:lnTo>
                          <a:lnTo>
                            <a:pt x="3527" y="1743"/>
                          </a:lnTo>
                          <a:lnTo>
                            <a:pt x="3558" y="1753"/>
                          </a:lnTo>
                          <a:lnTo>
                            <a:pt x="3590" y="1763"/>
                          </a:lnTo>
                          <a:lnTo>
                            <a:pt x="3621" y="1774"/>
                          </a:lnTo>
                          <a:lnTo>
                            <a:pt x="3652" y="1774"/>
                          </a:lnTo>
                          <a:lnTo>
                            <a:pt x="3683" y="1774"/>
                          </a:lnTo>
                          <a:lnTo>
                            <a:pt x="3704" y="1743"/>
                          </a:lnTo>
                          <a:lnTo>
                            <a:pt x="3725" y="1711"/>
                          </a:lnTo>
                          <a:lnTo>
                            <a:pt x="3736" y="1680"/>
                          </a:lnTo>
                          <a:lnTo>
                            <a:pt x="3757" y="1649"/>
                          </a:lnTo>
                          <a:lnTo>
                            <a:pt x="3788" y="1628"/>
                          </a:lnTo>
                          <a:lnTo>
                            <a:pt x="3819" y="1617"/>
                          </a:lnTo>
                          <a:lnTo>
                            <a:pt x="3830" y="1649"/>
                          </a:lnTo>
                          <a:lnTo>
                            <a:pt x="3830" y="1680"/>
                          </a:lnTo>
                          <a:lnTo>
                            <a:pt x="3819" y="1711"/>
                          </a:lnTo>
                          <a:lnTo>
                            <a:pt x="3809" y="1743"/>
                          </a:lnTo>
                          <a:lnTo>
                            <a:pt x="3830" y="1774"/>
                          </a:lnTo>
                          <a:lnTo>
                            <a:pt x="3861" y="1795"/>
                          </a:lnTo>
                          <a:lnTo>
                            <a:pt x="3882" y="1826"/>
                          </a:lnTo>
                          <a:lnTo>
                            <a:pt x="3892" y="1857"/>
                          </a:lnTo>
                          <a:lnTo>
                            <a:pt x="3913" y="1889"/>
                          </a:lnTo>
                          <a:lnTo>
                            <a:pt x="3913" y="1920"/>
                          </a:lnTo>
                          <a:lnTo>
                            <a:pt x="3913" y="1951"/>
                          </a:lnTo>
                          <a:lnTo>
                            <a:pt x="3903" y="1983"/>
                          </a:lnTo>
                          <a:lnTo>
                            <a:pt x="3903" y="2014"/>
                          </a:lnTo>
                          <a:lnTo>
                            <a:pt x="3903" y="2045"/>
                          </a:lnTo>
                          <a:lnTo>
                            <a:pt x="3882" y="2077"/>
                          </a:lnTo>
                          <a:lnTo>
                            <a:pt x="3850" y="2097"/>
                          </a:lnTo>
                          <a:lnTo>
                            <a:pt x="3819" y="2118"/>
                          </a:lnTo>
                          <a:lnTo>
                            <a:pt x="3788" y="2150"/>
                          </a:lnTo>
                          <a:lnTo>
                            <a:pt x="3757" y="2170"/>
                          </a:lnTo>
                          <a:lnTo>
                            <a:pt x="3725" y="2191"/>
                          </a:lnTo>
                          <a:lnTo>
                            <a:pt x="3694" y="2212"/>
                          </a:lnTo>
                          <a:lnTo>
                            <a:pt x="3663" y="2233"/>
                          </a:lnTo>
                          <a:lnTo>
                            <a:pt x="3631" y="2264"/>
                          </a:lnTo>
                          <a:lnTo>
                            <a:pt x="3600" y="2285"/>
                          </a:lnTo>
                          <a:lnTo>
                            <a:pt x="3590" y="2317"/>
                          </a:lnTo>
                          <a:lnTo>
                            <a:pt x="3569" y="2348"/>
                          </a:lnTo>
                          <a:lnTo>
                            <a:pt x="3548" y="2379"/>
                          </a:lnTo>
                          <a:lnTo>
                            <a:pt x="3527" y="2410"/>
                          </a:lnTo>
                          <a:lnTo>
                            <a:pt x="3506" y="2442"/>
                          </a:lnTo>
                          <a:lnTo>
                            <a:pt x="3485" y="2473"/>
                          </a:lnTo>
                          <a:lnTo>
                            <a:pt x="3475" y="2504"/>
                          </a:lnTo>
                          <a:lnTo>
                            <a:pt x="3443" y="2515"/>
                          </a:lnTo>
                          <a:lnTo>
                            <a:pt x="3412" y="2515"/>
                          </a:lnTo>
                          <a:lnTo>
                            <a:pt x="3381" y="2515"/>
                          </a:lnTo>
                          <a:lnTo>
                            <a:pt x="3350" y="2515"/>
                          </a:lnTo>
                          <a:lnTo>
                            <a:pt x="3318" y="2504"/>
                          </a:lnTo>
                          <a:lnTo>
                            <a:pt x="3287" y="2504"/>
                          </a:lnTo>
                          <a:lnTo>
                            <a:pt x="3256" y="2483"/>
                          </a:lnTo>
                          <a:lnTo>
                            <a:pt x="3224" y="2463"/>
                          </a:lnTo>
                          <a:lnTo>
                            <a:pt x="3193" y="2442"/>
                          </a:lnTo>
                          <a:lnTo>
                            <a:pt x="3162" y="2442"/>
                          </a:lnTo>
                          <a:lnTo>
                            <a:pt x="3130" y="2442"/>
                          </a:lnTo>
                          <a:lnTo>
                            <a:pt x="3099" y="2442"/>
                          </a:lnTo>
                          <a:lnTo>
                            <a:pt x="3068" y="2452"/>
                          </a:lnTo>
                          <a:lnTo>
                            <a:pt x="3047" y="2483"/>
                          </a:lnTo>
                          <a:lnTo>
                            <a:pt x="3016" y="2504"/>
                          </a:lnTo>
                          <a:lnTo>
                            <a:pt x="2984" y="2504"/>
                          </a:lnTo>
                          <a:lnTo>
                            <a:pt x="2901" y="2504"/>
                          </a:lnTo>
                          <a:lnTo>
                            <a:pt x="2870" y="2504"/>
                          </a:lnTo>
                          <a:lnTo>
                            <a:pt x="2838" y="2504"/>
                          </a:lnTo>
                          <a:lnTo>
                            <a:pt x="2807" y="2504"/>
                          </a:lnTo>
                          <a:lnTo>
                            <a:pt x="2776" y="2504"/>
                          </a:lnTo>
                          <a:lnTo>
                            <a:pt x="2744" y="2494"/>
                          </a:lnTo>
                          <a:lnTo>
                            <a:pt x="2713" y="2483"/>
                          </a:lnTo>
                          <a:lnTo>
                            <a:pt x="2682" y="2452"/>
                          </a:lnTo>
                          <a:lnTo>
                            <a:pt x="2650" y="2431"/>
                          </a:lnTo>
                          <a:lnTo>
                            <a:pt x="2619" y="2410"/>
                          </a:lnTo>
                          <a:lnTo>
                            <a:pt x="2588" y="2410"/>
                          </a:lnTo>
                          <a:lnTo>
                            <a:pt x="2557" y="2400"/>
                          </a:lnTo>
                          <a:lnTo>
                            <a:pt x="2525" y="2400"/>
                          </a:lnTo>
                          <a:lnTo>
                            <a:pt x="2494" y="2400"/>
                          </a:lnTo>
                          <a:lnTo>
                            <a:pt x="2463" y="2400"/>
                          </a:lnTo>
                          <a:lnTo>
                            <a:pt x="2379" y="2400"/>
                          </a:lnTo>
                          <a:lnTo>
                            <a:pt x="2348" y="2400"/>
                          </a:lnTo>
                          <a:lnTo>
                            <a:pt x="2317" y="2400"/>
                          </a:lnTo>
                          <a:lnTo>
                            <a:pt x="2285" y="2400"/>
                          </a:lnTo>
                          <a:lnTo>
                            <a:pt x="2254" y="2400"/>
                          </a:lnTo>
                          <a:lnTo>
                            <a:pt x="2223" y="2400"/>
                          </a:lnTo>
                          <a:lnTo>
                            <a:pt x="2191" y="2410"/>
                          </a:lnTo>
                          <a:lnTo>
                            <a:pt x="2160" y="2410"/>
                          </a:lnTo>
                          <a:lnTo>
                            <a:pt x="2129" y="2421"/>
                          </a:lnTo>
                          <a:lnTo>
                            <a:pt x="2097" y="2431"/>
                          </a:lnTo>
                          <a:lnTo>
                            <a:pt x="2087" y="2463"/>
                          </a:lnTo>
                          <a:lnTo>
                            <a:pt x="2087" y="2494"/>
                          </a:lnTo>
                          <a:lnTo>
                            <a:pt x="2087" y="2525"/>
                          </a:lnTo>
                          <a:lnTo>
                            <a:pt x="2087" y="2557"/>
                          </a:lnTo>
                          <a:lnTo>
                            <a:pt x="2056" y="2577"/>
                          </a:lnTo>
                          <a:lnTo>
                            <a:pt x="2024" y="2567"/>
                          </a:lnTo>
                          <a:lnTo>
                            <a:pt x="1993" y="2546"/>
                          </a:lnTo>
                          <a:lnTo>
                            <a:pt x="1972" y="2515"/>
                          </a:lnTo>
                          <a:lnTo>
                            <a:pt x="1951" y="2483"/>
                          </a:lnTo>
                          <a:lnTo>
                            <a:pt x="1920" y="2452"/>
                          </a:lnTo>
                          <a:lnTo>
                            <a:pt x="1889" y="2431"/>
                          </a:lnTo>
                          <a:lnTo>
                            <a:pt x="1857" y="2410"/>
                          </a:lnTo>
                          <a:lnTo>
                            <a:pt x="1826" y="2390"/>
                          </a:lnTo>
                          <a:lnTo>
                            <a:pt x="1805" y="2358"/>
                          </a:lnTo>
                          <a:lnTo>
                            <a:pt x="1774" y="2337"/>
                          </a:lnTo>
                          <a:lnTo>
                            <a:pt x="1743" y="2306"/>
                          </a:lnTo>
                          <a:lnTo>
                            <a:pt x="1722" y="2275"/>
                          </a:lnTo>
                          <a:lnTo>
                            <a:pt x="1690" y="2264"/>
                          </a:lnTo>
                          <a:lnTo>
                            <a:pt x="1659" y="2254"/>
                          </a:lnTo>
                          <a:lnTo>
                            <a:pt x="1628" y="2254"/>
                          </a:lnTo>
                          <a:lnTo>
                            <a:pt x="1597" y="2254"/>
                          </a:lnTo>
                          <a:lnTo>
                            <a:pt x="1513" y="2254"/>
                          </a:lnTo>
                          <a:lnTo>
                            <a:pt x="1482" y="2233"/>
                          </a:lnTo>
                          <a:lnTo>
                            <a:pt x="1471" y="2202"/>
                          </a:lnTo>
                          <a:lnTo>
                            <a:pt x="1471" y="2170"/>
                          </a:lnTo>
                          <a:lnTo>
                            <a:pt x="1461" y="2139"/>
                          </a:lnTo>
                          <a:lnTo>
                            <a:pt x="1461" y="2108"/>
                          </a:lnTo>
                          <a:lnTo>
                            <a:pt x="1461" y="2077"/>
                          </a:lnTo>
                          <a:lnTo>
                            <a:pt x="1461" y="2045"/>
                          </a:lnTo>
                          <a:lnTo>
                            <a:pt x="1461" y="2014"/>
                          </a:lnTo>
                          <a:lnTo>
                            <a:pt x="1461" y="1983"/>
                          </a:lnTo>
                          <a:lnTo>
                            <a:pt x="1461" y="1951"/>
                          </a:lnTo>
                          <a:lnTo>
                            <a:pt x="1450" y="1920"/>
                          </a:lnTo>
                          <a:lnTo>
                            <a:pt x="1440" y="1889"/>
                          </a:lnTo>
                          <a:lnTo>
                            <a:pt x="1440" y="1857"/>
                          </a:lnTo>
                          <a:lnTo>
                            <a:pt x="1419" y="1826"/>
                          </a:lnTo>
                          <a:lnTo>
                            <a:pt x="1388" y="1805"/>
                          </a:lnTo>
                          <a:lnTo>
                            <a:pt x="1357" y="1805"/>
                          </a:lnTo>
                          <a:lnTo>
                            <a:pt x="1325" y="1805"/>
                          </a:lnTo>
                          <a:lnTo>
                            <a:pt x="1294" y="1805"/>
                          </a:lnTo>
                          <a:lnTo>
                            <a:pt x="1210" y="1805"/>
                          </a:lnTo>
                          <a:lnTo>
                            <a:pt x="1179" y="1816"/>
                          </a:lnTo>
                          <a:lnTo>
                            <a:pt x="1096" y="1816"/>
                          </a:lnTo>
                          <a:lnTo>
                            <a:pt x="1064" y="1826"/>
                          </a:lnTo>
                          <a:lnTo>
                            <a:pt x="1033" y="1826"/>
                          </a:lnTo>
                          <a:lnTo>
                            <a:pt x="1002" y="1826"/>
                          </a:lnTo>
                          <a:lnTo>
                            <a:pt x="970" y="1826"/>
                          </a:lnTo>
                          <a:lnTo>
                            <a:pt x="939" y="1826"/>
                          </a:lnTo>
                          <a:lnTo>
                            <a:pt x="908" y="1805"/>
                          </a:lnTo>
                          <a:lnTo>
                            <a:pt x="877" y="1784"/>
                          </a:lnTo>
                          <a:lnTo>
                            <a:pt x="845" y="1763"/>
                          </a:lnTo>
                          <a:lnTo>
                            <a:pt x="814" y="1732"/>
                          </a:lnTo>
                          <a:lnTo>
                            <a:pt x="783" y="1722"/>
                          </a:lnTo>
                          <a:lnTo>
                            <a:pt x="751" y="1711"/>
                          </a:lnTo>
                          <a:lnTo>
                            <a:pt x="678" y="1701"/>
                          </a:lnTo>
                          <a:lnTo>
                            <a:pt x="605" y="1701"/>
                          </a:lnTo>
                          <a:lnTo>
                            <a:pt x="522" y="1690"/>
                          </a:lnTo>
                          <a:lnTo>
                            <a:pt x="490" y="1680"/>
                          </a:lnTo>
                          <a:lnTo>
                            <a:pt x="459" y="1680"/>
                          </a:lnTo>
                          <a:lnTo>
                            <a:pt x="428" y="1649"/>
                          </a:lnTo>
                          <a:lnTo>
                            <a:pt x="407" y="1617"/>
                          </a:lnTo>
                          <a:lnTo>
                            <a:pt x="376" y="1597"/>
                          </a:lnTo>
                          <a:lnTo>
                            <a:pt x="344" y="1576"/>
                          </a:lnTo>
                          <a:lnTo>
                            <a:pt x="313" y="1576"/>
                          </a:lnTo>
                          <a:lnTo>
                            <a:pt x="282" y="1576"/>
                          </a:lnTo>
                          <a:lnTo>
                            <a:pt x="209" y="1576"/>
                          </a:lnTo>
                          <a:lnTo>
                            <a:pt x="177" y="1586"/>
                          </a:lnTo>
                          <a:lnTo>
                            <a:pt x="146" y="1597"/>
                          </a:lnTo>
                          <a:lnTo>
                            <a:pt x="125" y="1628"/>
                          </a:lnTo>
                          <a:lnTo>
                            <a:pt x="104" y="1659"/>
                          </a:lnTo>
                          <a:lnTo>
                            <a:pt x="73" y="1690"/>
                          </a:lnTo>
                          <a:lnTo>
                            <a:pt x="52" y="1722"/>
                          </a:lnTo>
                          <a:lnTo>
                            <a:pt x="21" y="1743"/>
                          </a:lnTo>
                          <a:lnTo>
                            <a:pt x="0" y="1774"/>
                          </a:lnTo>
                          <a:lnTo>
                            <a:pt x="0" y="1743"/>
                          </a:lnTo>
                          <a:lnTo>
                            <a:pt x="0" y="1711"/>
                          </a:lnTo>
                          <a:lnTo>
                            <a:pt x="0" y="1680"/>
                          </a:lnTo>
                          <a:lnTo>
                            <a:pt x="0" y="1649"/>
                          </a:lnTo>
                          <a:lnTo>
                            <a:pt x="0" y="1617"/>
                          </a:lnTo>
                          <a:lnTo>
                            <a:pt x="0" y="1534"/>
                          </a:lnTo>
                          <a:lnTo>
                            <a:pt x="0" y="1440"/>
                          </a:lnTo>
                          <a:lnTo>
                            <a:pt x="0" y="1357"/>
                          </a:lnTo>
                          <a:lnTo>
                            <a:pt x="0" y="1263"/>
                          </a:lnTo>
                          <a:lnTo>
                            <a:pt x="0" y="1169"/>
                          </a:lnTo>
                          <a:lnTo>
                            <a:pt x="0" y="1075"/>
                          </a:lnTo>
                          <a:lnTo>
                            <a:pt x="0" y="1043"/>
                          </a:lnTo>
                          <a:lnTo>
                            <a:pt x="0" y="1012"/>
                          </a:lnTo>
                          <a:lnTo>
                            <a:pt x="0" y="981"/>
                          </a:lnTo>
                          <a:lnTo>
                            <a:pt x="0" y="908"/>
                          </a:lnTo>
                          <a:lnTo>
                            <a:pt x="0" y="814"/>
                          </a:lnTo>
                          <a:lnTo>
                            <a:pt x="0" y="730"/>
                          </a:lnTo>
                          <a:lnTo>
                            <a:pt x="0" y="657"/>
                          </a:lnTo>
                          <a:lnTo>
                            <a:pt x="0" y="584"/>
                          </a:lnTo>
                          <a:lnTo>
                            <a:pt x="0" y="501"/>
                          </a:lnTo>
                          <a:lnTo>
                            <a:pt x="0" y="417"/>
                          </a:lnTo>
                          <a:lnTo>
                            <a:pt x="0" y="323"/>
                          </a:lnTo>
                          <a:lnTo>
                            <a:pt x="0" y="230"/>
                          </a:lnTo>
                          <a:lnTo>
                            <a:pt x="0" y="136"/>
                          </a:lnTo>
                          <a:lnTo>
                            <a:pt x="0" y="104"/>
                          </a:lnTo>
                          <a:lnTo>
                            <a:pt x="0" y="73"/>
                          </a:lnTo>
                          <a:lnTo>
                            <a:pt x="0" y="42"/>
                          </a:lnTo>
                          <a:lnTo>
                            <a:pt x="31" y="21"/>
                          </a:lnTo>
                          <a:lnTo>
                            <a:pt x="63" y="21"/>
                          </a:lnTo>
                          <a:lnTo>
                            <a:pt x="94" y="21"/>
                          </a:lnTo>
                          <a:lnTo>
                            <a:pt x="125" y="21"/>
                          </a:lnTo>
                          <a:lnTo>
                            <a:pt x="157" y="21"/>
                          </a:lnTo>
                          <a:lnTo>
                            <a:pt x="240" y="21"/>
                          </a:lnTo>
                          <a:lnTo>
                            <a:pt x="313" y="21"/>
                          </a:lnTo>
                          <a:lnTo>
                            <a:pt x="397" y="21"/>
                          </a:lnTo>
                          <a:lnTo>
                            <a:pt x="490" y="21"/>
                          </a:lnTo>
                          <a:lnTo>
                            <a:pt x="563" y="21"/>
                          </a:lnTo>
                          <a:lnTo>
                            <a:pt x="647" y="21"/>
                          </a:lnTo>
                          <a:lnTo>
                            <a:pt x="720" y="21"/>
                          </a:lnTo>
                          <a:lnTo>
                            <a:pt x="751" y="21"/>
                          </a:lnTo>
                          <a:lnTo>
                            <a:pt x="783" y="21"/>
                          </a:lnTo>
                          <a:lnTo>
                            <a:pt x="720"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4964040" y="4725720"/>
                      <a:ext cx="229680" cy="1549440"/>
                    </a:xfrm>
                    <a:custGeom>
                      <a:avLst/>
                      <a:gdLst/>
                      <a:ahLst/>
                      <a:rect l="l" t="t" r="r" b="b"/>
                      <a:pathLst>
                        <a:path w="145" h="976">
                          <a:moveTo>
                            <a:pt x="0" y="0"/>
                          </a:moveTo>
                          <a:lnTo>
                            <a:pt x="14" y="35"/>
                          </a:lnTo>
                          <a:lnTo>
                            <a:pt x="29" y="67"/>
                          </a:lnTo>
                          <a:lnTo>
                            <a:pt x="29" y="98"/>
                          </a:lnTo>
                          <a:lnTo>
                            <a:pt x="29" y="129"/>
                          </a:lnTo>
                          <a:lnTo>
                            <a:pt x="29" y="161"/>
                          </a:lnTo>
                          <a:lnTo>
                            <a:pt x="21" y="192"/>
                          </a:lnTo>
                          <a:lnTo>
                            <a:pt x="21" y="223"/>
                          </a:lnTo>
                          <a:lnTo>
                            <a:pt x="21" y="255"/>
                          </a:lnTo>
                          <a:lnTo>
                            <a:pt x="21" y="286"/>
                          </a:lnTo>
                          <a:lnTo>
                            <a:pt x="21" y="317"/>
                          </a:lnTo>
                          <a:lnTo>
                            <a:pt x="21" y="349"/>
                          </a:lnTo>
                          <a:lnTo>
                            <a:pt x="21" y="380"/>
                          </a:lnTo>
                          <a:lnTo>
                            <a:pt x="21" y="411"/>
                          </a:lnTo>
                          <a:lnTo>
                            <a:pt x="29" y="442"/>
                          </a:lnTo>
                          <a:lnTo>
                            <a:pt x="29" y="474"/>
                          </a:lnTo>
                          <a:lnTo>
                            <a:pt x="29" y="505"/>
                          </a:lnTo>
                          <a:lnTo>
                            <a:pt x="36" y="536"/>
                          </a:lnTo>
                          <a:lnTo>
                            <a:pt x="43" y="568"/>
                          </a:lnTo>
                          <a:lnTo>
                            <a:pt x="50" y="599"/>
                          </a:lnTo>
                          <a:lnTo>
                            <a:pt x="65" y="630"/>
                          </a:lnTo>
                          <a:lnTo>
                            <a:pt x="79" y="662"/>
                          </a:lnTo>
                          <a:lnTo>
                            <a:pt x="94" y="693"/>
                          </a:lnTo>
                          <a:lnTo>
                            <a:pt x="94" y="724"/>
                          </a:lnTo>
                          <a:lnTo>
                            <a:pt x="101" y="755"/>
                          </a:lnTo>
                          <a:lnTo>
                            <a:pt x="108" y="787"/>
                          </a:lnTo>
                          <a:lnTo>
                            <a:pt x="122" y="818"/>
                          </a:lnTo>
                          <a:lnTo>
                            <a:pt x="136" y="849"/>
                          </a:lnTo>
                          <a:lnTo>
                            <a:pt x="144" y="881"/>
                          </a:lnTo>
                          <a:lnTo>
                            <a:pt x="144" y="912"/>
                          </a:lnTo>
                          <a:lnTo>
                            <a:pt x="144" y="943"/>
                          </a:lnTo>
                          <a:lnTo>
                            <a:pt x="144" y="975"/>
                          </a:lnTo>
                          <a:lnTo>
                            <a:pt x="132" y="864"/>
                          </a:lnTo>
                        </a:path>
                      </a:pathLst>
                    </a:custGeom>
                    <a:solidFill>
                      <a:srgbClr val="114ffb"/>
                    </a:solidFill>
                    <a:ln cap="rnd"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5089320" y="4900320"/>
                      <a:ext cx="1574640" cy="1909800"/>
                    </a:xfrm>
                    <a:custGeom>
                      <a:avLst/>
                      <a:gdLst/>
                      <a:ahLst/>
                      <a:rect l="l" t="t" r="r" b="b"/>
                      <a:pathLst>
                        <a:path w="992" h="1203">
                          <a:moveTo>
                            <a:pt x="29" y="10"/>
                          </a:moveTo>
                          <a:lnTo>
                            <a:pt x="62" y="41"/>
                          </a:lnTo>
                          <a:lnTo>
                            <a:pt x="62" y="73"/>
                          </a:lnTo>
                          <a:lnTo>
                            <a:pt x="73" y="104"/>
                          </a:lnTo>
                          <a:lnTo>
                            <a:pt x="83" y="135"/>
                          </a:lnTo>
                          <a:lnTo>
                            <a:pt x="94" y="167"/>
                          </a:lnTo>
                          <a:lnTo>
                            <a:pt x="115" y="198"/>
                          </a:lnTo>
                          <a:lnTo>
                            <a:pt x="135" y="229"/>
                          </a:lnTo>
                          <a:lnTo>
                            <a:pt x="146" y="260"/>
                          </a:lnTo>
                          <a:lnTo>
                            <a:pt x="167" y="292"/>
                          </a:lnTo>
                          <a:lnTo>
                            <a:pt x="177" y="323"/>
                          </a:lnTo>
                          <a:lnTo>
                            <a:pt x="208" y="344"/>
                          </a:lnTo>
                          <a:lnTo>
                            <a:pt x="219" y="375"/>
                          </a:lnTo>
                          <a:lnTo>
                            <a:pt x="240" y="407"/>
                          </a:lnTo>
                          <a:lnTo>
                            <a:pt x="261" y="438"/>
                          </a:lnTo>
                          <a:lnTo>
                            <a:pt x="271" y="469"/>
                          </a:lnTo>
                          <a:lnTo>
                            <a:pt x="282" y="500"/>
                          </a:lnTo>
                          <a:lnTo>
                            <a:pt x="302" y="532"/>
                          </a:lnTo>
                          <a:lnTo>
                            <a:pt x="323" y="563"/>
                          </a:lnTo>
                          <a:lnTo>
                            <a:pt x="344" y="594"/>
                          </a:lnTo>
                          <a:lnTo>
                            <a:pt x="375" y="626"/>
                          </a:lnTo>
                          <a:lnTo>
                            <a:pt x="396" y="657"/>
                          </a:lnTo>
                          <a:lnTo>
                            <a:pt x="407" y="688"/>
                          </a:lnTo>
                          <a:lnTo>
                            <a:pt x="428" y="720"/>
                          </a:lnTo>
                          <a:lnTo>
                            <a:pt x="448" y="751"/>
                          </a:lnTo>
                          <a:lnTo>
                            <a:pt x="469" y="782"/>
                          </a:lnTo>
                          <a:lnTo>
                            <a:pt x="490" y="813"/>
                          </a:lnTo>
                          <a:lnTo>
                            <a:pt x="522" y="845"/>
                          </a:lnTo>
                          <a:lnTo>
                            <a:pt x="542" y="876"/>
                          </a:lnTo>
                          <a:lnTo>
                            <a:pt x="553" y="907"/>
                          </a:lnTo>
                          <a:lnTo>
                            <a:pt x="553" y="939"/>
                          </a:lnTo>
                          <a:lnTo>
                            <a:pt x="553" y="970"/>
                          </a:lnTo>
                          <a:lnTo>
                            <a:pt x="553" y="1001"/>
                          </a:lnTo>
                          <a:lnTo>
                            <a:pt x="563" y="1033"/>
                          </a:lnTo>
                          <a:lnTo>
                            <a:pt x="563" y="1064"/>
                          </a:lnTo>
                          <a:lnTo>
                            <a:pt x="584" y="1095"/>
                          </a:lnTo>
                          <a:lnTo>
                            <a:pt x="615" y="1127"/>
                          </a:lnTo>
                          <a:lnTo>
                            <a:pt x="636" y="1158"/>
                          </a:lnTo>
                          <a:lnTo>
                            <a:pt x="668" y="1189"/>
                          </a:lnTo>
                          <a:lnTo>
                            <a:pt x="699" y="1202"/>
                          </a:lnTo>
                          <a:lnTo>
                            <a:pt x="730" y="1202"/>
                          </a:lnTo>
                          <a:lnTo>
                            <a:pt x="762" y="1202"/>
                          </a:lnTo>
                          <a:lnTo>
                            <a:pt x="793" y="1202"/>
                          </a:lnTo>
                          <a:lnTo>
                            <a:pt x="824" y="1202"/>
                          </a:lnTo>
                          <a:lnTo>
                            <a:pt x="855" y="1202"/>
                          </a:lnTo>
                          <a:lnTo>
                            <a:pt x="887" y="1202"/>
                          </a:lnTo>
                          <a:lnTo>
                            <a:pt x="918" y="1202"/>
                          </a:lnTo>
                          <a:lnTo>
                            <a:pt x="949" y="1202"/>
                          </a:lnTo>
                          <a:lnTo>
                            <a:pt x="981" y="1202"/>
                          </a:lnTo>
                          <a:lnTo>
                            <a:pt x="991" y="1168"/>
                          </a:lnTo>
                          <a:lnTo>
                            <a:pt x="970" y="1137"/>
                          </a:lnTo>
                          <a:lnTo>
                            <a:pt x="960" y="1106"/>
                          </a:lnTo>
                          <a:lnTo>
                            <a:pt x="949" y="1074"/>
                          </a:lnTo>
                          <a:lnTo>
                            <a:pt x="928" y="1043"/>
                          </a:lnTo>
                          <a:lnTo>
                            <a:pt x="908" y="1012"/>
                          </a:lnTo>
                          <a:lnTo>
                            <a:pt x="887" y="980"/>
                          </a:lnTo>
                          <a:lnTo>
                            <a:pt x="876" y="949"/>
                          </a:lnTo>
                          <a:lnTo>
                            <a:pt x="855" y="918"/>
                          </a:lnTo>
                          <a:lnTo>
                            <a:pt x="824" y="887"/>
                          </a:lnTo>
                          <a:lnTo>
                            <a:pt x="803" y="855"/>
                          </a:lnTo>
                          <a:lnTo>
                            <a:pt x="772" y="824"/>
                          </a:lnTo>
                          <a:lnTo>
                            <a:pt x="741" y="803"/>
                          </a:lnTo>
                          <a:lnTo>
                            <a:pt x="720" y="772"/>
                          </a:lnTo>
                          <a:lnTo>
                            <a:pt x="688" y="751"/>
                          </a:lnTo>
                          <a:lnTo>
                            <a:pt x="668" y="720"/>
                          </a:lnTo>
                          <a:lnTo>
                            <a:pt x="657" y="688"/>
                          </a:lnTo>
                          <a:lnTo>
                            <a:pt x="647" y="657"/>
                          </a:lnTo>
                          <a:lnTo>
                            <a:pt x="636" y="626"/>
                          </a:lnTo>
                          <a:lnTo>
                            <a:pt x="615" y="594"/>
                          </a:lnTo>
                          <a:lnTo>
                            <a:pt x="595" y="563"/>
                          </a:lnTo>
                          <a:lnTo>
                            <a:pt x="574" y="532"/>
                          </a:lnTo>
                          <a:lnTo>
                            <a:pt x="553" y="500"/>
                          </a:lnTo>
                          <a:lnTo>
                            <a:pt x="532" y="469"/>
                          </a:lnTo>
                          <a:lnTo>
                            <a:pt x="511" y="438"/>
                          </a:lnTo>
                          <a:lnTo>
                            <a:pt x="501" y="407"/>
                          </a:lnTo>
                          <a:lnTo>
                            <a:pt x="469" y="386"/>
                          </a:lnTo>
                          <a:lnTo>
                            <a:pt x="438" y="365"/>
                          </a:lnTo>
                          <a:lnTo>
                            <a:pt x="417" y="333"/>
                          </a:lnTo>
                          <a:lnTo>
                            <a:pt x="386" y="313"/>
                          </a:lnTo>
                          <a:lnTo>
                            <a:pt x="355" y="292"/>
                          </a:lnTo>
                          <a:lnTo>
                            <a:pt x="323" y="271"/>
                          </a:lnTo>
                          <a:lnTo>
                            <a:pt x="292" y="250"/>
                          </a:lnTo>
                          <a:lnTo>
                            <a:pt x="261" y="219"/>
                          </a:lnTo>
                          <a:lnTo>
                            <a:pt x="229" y="187"/>
                          </a:lnTo>
                          <a:lnTo>
                            <a:pt x="219" y="156"/>
                          </a:lnTo>
                          <a:lnTo>
                            <a:pt x="219" y="125"/>
                          </a:lnTo>
                          <a:lnTo>
                            <a:pt x="229" y="93"/>
                          </a:lnTo>
                          <a:lnTo>
                            <a:pt x="240" y="62"/>
                          </a:lnTo>
                          <a:lnTo>
                            <a:pt x="250" y="31"/>
                          </a:lnTo>
                          <a:lnTo>
                            <a:pt x="250" y="0"/>
                          </a:lnTo>
                          <a:lnTo>
                            <a:pt x="219" y="10"/>
                          </a:lnTo>
                          <a:lnTo>
                            <a:pt x="198" y="41"/>
                          </a:lnTo>
                          <a:lnTo>
                            <a:pt x="177" y="73"/>
                          </a:lnTo>
                          <a:lnTo>
                            <a:pt x="156" y="104"/>
                          </a:lnTo>
                          <a:lnTo>
                            <a:pt x="156" y="135"/>
                          </a:lnTo>
                          <a:lnTo>
                            <a:pt x="125" y="114"/>
                          </a:lnTo>
                          <a:lnTo>
                            <a:pt x="115" y="83"/>
                          </a:lnTo>
                          <a:lnTo>
                            <a:pt x="94" y="52"/>
                          </a:lnTo>
                          <a:lnTo>
                            <a:pt x="62" y="41"/>
                          </a:lnTo>
                          <a:lnTo>
                            <a:pt x="31" y="20"/>
                          </a:lnTo>
                          <a:lnTo>
                            <a:pt x="0" y="10"/>
                          </a:lnTo>
                          <a:lnTo>
                            <a:pt x="29" y="1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1747800" y="5257800"/>
                      <a:ext cx="43509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99" name=""/>
                  <p:cNvSpPr/>
                  <p:nvPr/>
                </p:nvSpPr>
                <p:spPr>
                  <a:xfrm>
                    <a:off x="72720" y="6556320"/>
                    <a:ext cx="16887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grpSp>
            <p:sp>
              <p:nvSpPr>
                <p:cNvPr id="800" name=""/>
                <p:cNvSpPr/>
                <p:nvPr/>
              </p:nvSpPr>
              <p:spPr>
                <a:xfrm>
                  <a:off x="2697120" y="3335400"/>
                  <a:ext cx="22860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afd00"/>
                      </a:solidFill>
                      <a:uFillTx/>
                      <a:latin typeface="Arial"/>
                    </a:rPr>
                    <a:t>Roman Empire</a:t>
                  </a:r>
                  <a:endParaRPr b="0" lang="en-US" sz="4800" spc="-1" strike="noStrike">
                    <a:solidFill>
                      <a:srgbClr val="ffffff"/>
                    </a:solidFill>
                    <a:latin typeface="Times New Roman"/>
                  </a:endParaRPr>
                </a:p>
              </p:txBody>
            </p:sp>
            <p:sp>
              <p:nvSpPr>
                <p:cNvPr id="801" name=""/>
                <p:cNvSpPr/>
                <p:nvPr/>
              </p:nvSpPr>
              <p:spPr>
                <a:xfrm>
                  <a:off x="2188080" y="2120760"/>
                  <a:ext cx="102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me</a:t>
                  </a:r>
                  <a:endParaRPr b="0" lang="en-US" sz="2400" spc="-1" strike="noStrike">
                    <a:solidFill>
                      <a:srgbClr val="ffffff"/>
                    </a:solidFill>
                    <a:latin typeface="Times New Roman"/>
                  </a:endParaRPr>
                </a:p>
              </p:txBody>
            </p:sp>
            <p:sp>
              <p:nvSpPr>
                <p:cNvPr id="802" name=""/>
                <p:cNvSpPr/>
                <p:nvPr/>
              </p:nvSpPr>
              <p:spPr>
                <a:xfrm>
                  <a:off x="2970360" y="2427120"/>
                  <a:ext cx="215640" cy="216000"/>
                </a:xfrm>
                <a:prstGeom prst="star5">
                  <a:avLst/>
                </a:prstGeom>
                <a:solidFill>
                  <a:srgbClr val="fc0128"/>
                </a:solidFill>
                <a:ln w="12600">
                  <a:solidFill>
                    <a:srgbClr val="fc0128"/>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03" name=""/>
                <p:cNvSpPr/>
                <p:nvPr/>
              </p:nvSpPr>
              <p:spPr>
                <a:xfrm>
                  <a:off x="5637240" y="4478400"/>
                  <a:ext cx="168120" cy="203040"/>
                </a:xfrm>
                <a:custGeom>
                  <a:avLst/>
                  <a:gdLst/>
                  <a:ahLst/>
                  <a:rect l="l" t="t" r="r" b="b"/>
                  <a:pathLst>
                    <a:path w="106" h="128">
                      <a:moveTo>
                        <a:pt x="92" y="0"/>
                      </a:moveTo>
                      <a:lnTo>
                        <a:pt x="52" y="23"/>
                      </a:lnTo>
                      <a:lnTo>
                        <a:pt x="21" y="33"/>
                      </a:lnTo>
                      <a:lnTo>
                        <a:pt x="0" y="65"/>
                      </a:lnTo>
                      <a:lnTo>
                        <a:pt x="11" y="96"/>
                      </a:lnTo>
                      <a:lnTo>
                        <a:pt x="21" y="127"/>
                      </a:lnTo>
                      <a:lnTo>
                        <a:pt x="52" y="127"/>
                      </a:lnTo>
                      <a:lnTo>
                        <a:pt x="73" y="96"/>
                      </a:lnTo>
                      <a:lnTo>
                        <a:pt x="94" y="65"/>
                      </a:lnTo>
                      <a:lnTo>
                        <a:pt x="94" y="33"/>
                      </a:lnTo>
                      <a:lnTo>
                        <a:pt x="105" y="2"/>
                      </a:lnTo>
                      <a:lnTo>
                        <a:pt x="92" y="0"/>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5769000" y="402588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dah</a:t>
                  </a:r>
                  <a:endParaRPr b="0" lang="en-US" sz="2400" spc="-1" strike="noStrike">
                    <a:solidFill>
                      <a:srgbClr val="ffffff"/>
                    </a:solidFill>
                    <a:latin typeface="Times New Roman"/>
                  </a:endParaRPr>
                </a:p>
              </p:txBody>
            </p:sp>
            <p:sp>
              <p:nvSpPr>
                <p:cNvPr id="805" name=""/>
                <p:cNvSpPr/>
                <p:nvPr/>
              </p:nvSpPr>
              <p:spPr>
                <a:xfrm>
                  <a:off x="106200" y="781200"/>
                  <a:ext cx="7037640" cy="5773680"/>
                </a:xfrm>
                <a:custGeom>
                  <a:avLst/>
                  <a:gdLst/>
                  <a:ahLst/>
                  <a:rect l="l" t="t" r="r" b="b"/>
                  <a:pathLst>
                    <a:path w="4433" h="3637">
                      <a:moveTo>
                        <a:pt x="1409" y="0"/>
                      </a:moveTo>
                      <a:lnTo>
                        <a:pt x="1481" y="144"/>
                      </a:lnTo>
                      <a:lnTo>
                        <a:pt x="1404" y="433"/>
                      </a:lnTo>
                      <a:lnTo>
                        <a:pt x="1476" y="541"/>
                      </a:lnTo>
                      <a:lnTo>
                        <a:pt x="1769" y="432"/>
                      </a:lnTo>
                      <a:lnTo>
                        <a:pt x="2052" y="541"/>
                      </a:lnTo>
                      <a:lnTo>
                        <a:pt x="2237" y="540"/>
                      </a:lnTo>
                      <a:lnTo>
                        <a:pt x="2273" y="720"/>
                      </a:lnTo>
                      <a:lnTo>
                        <a:pt x="2597" y="1008"/>
                      </a:lnTo>
                      <a:lnTo>
                        <a:pt x="2777" y="1008"/>
                      </a:lnTo>
                      <a:lnTo>
                        <a:pt x="3137" y="828"/>
                      </a:lnTo>
                      <a:lnTo>
                        <a:pt x="3137" y="576"/>
                      </a:lnTo>
                      <a:lnTo>
                        <a:pt x="3348" y="505"/>
                      </a:lnTo>
                      <a:lnTo>
                        <a:pt x="3564" y="505"/>
                      </a:lnTo>
                      <a:lnTo>
                        <a:pt x="3672" y="397"/>
                      </a:lnTo>
                      <a:lnTo>
                        <a:pt x="3780" y="433"/>
                      </a:lnTo>
                      <a:lnTo>
                        <a:pt x="3708" y="613"/>
                      </a:lnTo>
                      <a:lnTo>
                        <a:pt x="3929" y="756"/>
                      </a:lnTo>
                      <a:lnTo>
                        <a:pt x="4181" y="684"/>
                      </a:lnTo>
                      <a:lnTo>
                        <a:pt x="4361" y="720"/>
                      </a:lnTo>
                      <a:lnTo>
                        <a:pt x="4397" y="792"/>
                      </a:lnTo>
                      <a:lnTo>
                        <a:pt x="4433" y="864"/>
                      </a:lnTo>
                      <a:lnTo>
                        <a:pt x="4289" y="1008"/>
                      </a:lnTo>
                      <a:lnTo>
                        <a:pt x="4217" y="1152"/>
                      </a:lnTo>
                      <a:lnTo>
                        <a:pt x="4001" y="1368"/>
                      </a:lnTo>
                      <a:lnTo>
                        <a:pt x="3965" y="1584"/>
                      </a:lnTo>
                      <a:lnTo>
                        <a:pt x="4037" y="1800"/>
                      </a:lnTo>
                      <a:lnTo>
                        <a:pt x="4109" y="1944"/>
                      </a:lnTo>
                      <a:lnTo>
                        <a:pt x="4037" y="2268"/>
                      </a:lnTo>
                      <a:lnTo>
                        <a:pt x="3749" y="2520"/>
                      </a:lnTo>
                      <a:lnTo>
                        <a:pt x="3420" y="2845"/>
                      </a:lnTo>
                      <a:lnTo>
                        <a:pt x="3353" y="2952"/>
                      </a:lnTo>
                      <a:lnTo>
                        <a:pt x="3605" y="3348"/>
                      </a:lnTo>
                      <a:lnTo>
                        <a:pt x="3636" y="3529"/>
                      </a:lnTo>
                      <a:lnTo>
                        <a:pt x="3492" y="3529"/>
                      </a:lnTo>
                      <a:lnTo>
                        <a:pt x="3420" y="3601"/>
                      </a:lnTo>
                      <a:lnTo>
                        <a:pt x="3132" y="3637"/>
                      </a:lnTo>
                      <a:lnTo>
                        <a:pt x="3060" y="3637"/>
                      </a:lnTo>
                      <a:lnTo>
                        <a:pt x="2700" y="2989"/>
                      </a:lnTo>
                      <a:lnTo>
                        <a:pt x="2340" y="2953"/>
                      </a:lnTo>
                      <a:lnTo>
                        <a:pt x="2052" y="2917"/>
                      </a:lnTo>
                      <a:lnTo>
                        <a:pt x="1584" y="2737"/>
                      </a:lnTo>
                      <a:lnTo>
                        <a:pt x="1188" y="2665"/>
                      </a:lnTo>
                      <a:lnTo>
                        <a:pt x="1080" y="2521"/>
                      </a:lnTo>
                      <a:lnTo>
                        <a:pt x="1008" y="2197"/>
                      </a:lnTo>
                      <a:lnTo>
                        <a:pt x="72" y="1981"/>
                      </a:lnTo>
                      <a:lnTo>
                        <a:pt x="108" y="1405"/>
                      </a:lnTo>
                      <a:lnTo>
                        <a:pt x="36" y="1261"/>
                      </a:lnTo>
                      <a:lnTo>
                        <a:pt x="0" y="1117"/>
                      </a:lnTo>
                      <a:lnTo>
                        <a:pt x="36" y="937"/>
                      </a:lnTo>
                      <a:lnTo>
                        <a:pt x="108" y="793"/>
                      </a:lnTo>
                      <a:lnTo>
                        <a:pt x="77" y="522"/>
                      </a:lnTo>
                      <a:lnTo>
                        <a:pt x="569" y="594"/>
                      </a:lnTo>
                      <a:lnTo>
                        <a:pt x="684" y="721"/>
                      </a:lnTo>
                      <a:lnTo>
                        <a:pt x="756" y="613"/>
                      </a:lnTo>
                      <a:lnTo>
                        <a:pt x="792" y="361"/>
                      </a:lnTo>
                      <a:lnTo>
                        <a:pt x="756" y="181"/>
                      </a:lnTo>
                      <a:lnTo>
                        <a:pt x="504" y="37"/>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06" name=""/>
              <p:cNvSpPr/>
              <p:nvPr/>
            </p:nvSpPr>
            <p:spPr>
              <a:xfrm>
                <a:off x="1368720" y="1211400"/>
                <a:ext cx="98748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itain</a:t>
                </a:r>
                <a:endParaRPr b="0" lang="en-US" sz="2000" spc="-1" strike="noStrike">
                  <a:solidFill>
                    <a:srgbClr val="ffffff"/>
                  </a:solidFill>
                  <a:latin typeface="Times New Roman"/>
                </a:endParaRPr>
              </a:p>
            </p:txBody>
          </p:sp>
          <p:sp>
            <p:nvSpPr>
              <p:cNvPr id="807" name=""/>
              <p:cNvSpPr/>
              <p:nvPr/>
            </p:nvSpPr>
            <p:spPr>
              <a:xfrm rot="20757600">
                <a:off x="1633320" y="919080"/>
                <a:ext cx="218880" cy="314280"/>
              </a:xfrm>
              <a:prstGeom prst="upArrow">
                <a:avLst>
                  <a:gd name="adj1" fmla="val 50000"/>
                  <a:gd name="adj2" fmla="val 35896"/>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808" name=""/>
            <p:cNvSpPr/>
            <p:nvPr/>
          </p:nvSpPr>
          <p:spPr>
            <a:xfrm>
              <a:off x="6978600" y="138420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809" name=""/>
          <p:cNvSpPr/>
          <p:nvPr/>
        </p:nvSpPr>
        <p:spPr>
          <a:xfrm>
            <a:off x="171360" y="38160"/>
            <a:ext cx="8724960" cy="914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700"/>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man Empire spread from Great Britain to Israel and included Spain and Asia Minor.</a:t>
            </a:r>
            <a:endParaRPr b="0" lang="en-US" sz="2800" spc="-1" strike="noStrike">
              <a:solidFill>
                <a:srgbClr val="ffffff"/>
              </a:solidFill>
              <a:latin typeface="Times New Roman"/>
            </a:endParaRPr>
          </a:p>
        </p:txBody>
      </p:sp>
      <p:sp>
        <p:nvSpPr>
          <p:cNvPr id="810" name="PlaceHolder 1"/>
          <p:cNvSpPr>
            <a:spLocks noGrp="1"/>
          </p:cNvSpPr>
          <p:nvPr>
            <p:ph type="title"/>
          </p:nvPr>
        </p:nvSpPr>
        <p:spPr>
          <a:xfrm>
            <a:off x="7581600" y="609480"/>
            <a:ext cx="131436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Roman Empire</a:t>
            </a:r>
            <a:endParaRPr b="1" lang="en-US" sz="100" spc="-1" strike="noStrike" u="sng">
              <a:solidFill>
                <a:srgbClr val="c0fef9"/>
              </a:solidFill>
              <a:uFillTx/>
              <a:latin typeface="Times New Roman"/>
            </a:endParaRPr>
          </a:p>
        </p:txBody>
      </p:sp>
      <p:sp>
        <p:nvSpPr>
          <p:cNvPr id="811"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12" name=""/>
          <p:cNvSpPr/>
          <p:nvPr/>
        </p:nvSpPr>
        <p:spPr>
          <a:xfrm>
            <a:off x="5715000" y="1685880"/>
            <a:ext cx="3352680" cy="4181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1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  </a:t>
            </a:r>
            <a:r>
              <a:rPr b="1" lang="en-US" sz="4400" spc="-1" strike="noStrike">
                <a:solidFill>
                  <a:srgbClr val="fafd00"/>
                </a:solidFill>
                <a:latin typeface="Book Antiqua"/>
              </a:rPr>
              <a:t>Israel in the New Testament</a:t>
            </a:r>
            <a:endParaRPr b="0" lang="en-US" sz="4400" spc="-1" strike="noStrike">
              <a:solidFill>
                <a:srgbClr val="ffffff"/>
              </a:solidFill>
              <a:latin typeface="Times New Roman"/>
            </a:endParaRPr>
          </a:p>
        </p:txBody>
      </p:sp>
      <p:grpSp>
        <p:nvGrpSpPr>
          <p:cNvPr id="813" name=""/>
          <p:cNvGrpSpPr/>
          <p:nvPr/>
        </p:nvGrpSpPr>
        <p:grpSpPr>
          <a:xfrm>
            <a:off x="0" y="0"/>
            <a:ext cx="5392800" cy="6898320"/>
            <a:chOff x="0" y="0"/>
            <a:chExt cx="5392800" cy="6898320"/>
          </a:xfrm>
        </p:grpSpPr>
        <p:pic>
          <p:nvPicPr>
            <p:cNvPr id="814" name="" descr=""/>
            <p:cNvPicPr/>
            <p:nvPr/>
          </p:nvPicPr>
          <p:blipFill>
            <a:blip r:embed="rId1"/>
            <a:srcRect l="1058" t="18878" r="9384" b="3960"/>
            <a:stretch/>
          </p:blipFill>
          <p:spPr>
            <a:xfrm>
              <a:off x="0" y="0"/>
              <a:ext cx="5362560" cy="6835680"/>
            </a:xfrm>
            <a:prstGeom prst="rect">
              <a:avLst/>
            </a:prstGeom>
            <a:ln w="0">
              <a:noFill/>
            </a:ln>
          </p:spPr>
        </p:pic>
        <p:sp>
          <p:nvSpPr>
            <p:cNvPr id="815" name=""/>
            <p:cNvSpPr/>
            <p:nvPr/>
          </p:nvSpPr>
          <p:spPr>
            <a:xfrm>
              <a:off x="3406680" y="901800"/>
              <a:ext cx="29232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16" name=""/>
            <p:cNvSpPr/>
            <p:nvPr/>
          </p:nvSpPr>
          <p:spPr>
            <a:xfrm>
              <a:off x="2784600" y="5327640"/>
              <a:ext cx="29196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17" name=""/>
            <p:cNvSpPr/>
            <p:nvPr/>
          </p:nvSpPr>
          <p:spPr>
            <a:xfrm>
              <a:off x="1222200" y="5305320"/>
              <a:ext cx="29232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18" name=""/>
            <p:cNvSpPr/>
            <p:nvPr/>
          </p:nvSpPr>
          <p:spPr>
            <a:xfrm>
              <a:off x="2938320" y="4384800"/>
              <a:ext cx="29232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19" name=""/>
            <p:cNvSpPr/>
            <p:nvPr/>
          </p:nvSpPr>
          <p:spPr>
            <a:xfrm>
              <a:off x="3311640" y="4035600"/>
              <a:ext cx="29196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20" name=""/>
            <p:cNvSpPr/>
            <p:nvPr/>
          </p:nvSpPr>
          <p:spPr>
            <a:xfrm>
              <a:off x="1469880" y="3703680"/>
              <a:ext cx="29232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21" name=""/>
            <p:cNvSpPr/>
            <p:nvPr/>
          </p:nvSpPr>
          <p:spPr>
            <a:xfrm>
              <a:off x="2529000" y="2868480"/>
              <a:ext cx="29196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22" name=""/>
            <p:cNvSpPr/>
            <p:nvPr/>
          </p:nvSpPr>
          <p:spPr>
            <a:xfrm>
              <a:off x="1565280" y="2190600"/>
              <a:ext cx="29196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23" name=""/>
            <p:cNvSpPr/>
            <p:nvPr/>
          </p:nvSpPr>
          <p:spPr>
            <a:xfrm>
              <a:off x="2722680" y="1649520"/>
              <a:ext cx="29196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24" name=""/>
            <p:cNvSpPr/>
            <p:nvPr/>
          </p:nvSpPr>
          <p:spPr>
            <a:xfrm>
              <a:off x="3705840" y="59832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thsaida</a:t>
              </a:r>
              <a:endParaRPr b="0" lang="en-US" sz="2400" spc="-1" strike="noStrike">
                <a:solidFill>
                  <a:srgbClr val="ffffff"/>
                </a:solidFill>
                <a:latin typeface="Times New Roman"/>
              </a:endParaRPr>
            </a:p>
          </p:txBody>
        </p:sp>
        <p:sp>
          <p:nvSpPr>
            <p:cNvPr id="825" name=""/>
            <p:cNvSpPr/>
            <p:nvPr/>
          </p:nvSpPr>
          <p:spPr>
            <a:xfrm>
              <a:off x="2027160" y="1257480"/>
              <a:ext cx="1333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zareth</a:t>
              </a:r>
              <a:endParaRPr b="0" lang="en-US" sz="2400" spc="-1" strike="noStrike">
                <a:solidFill>
                  <a:srgbClr val="ffffff"/>
                </a:solidFill>
                <a:latin typeface="Times New Roman"/>
              </a:endParaRPr>
            </a:p>
          </p:txBody>
        </p:sp>
        <p:sp>
          <p:nvSpPr>
            <p:cNvPr id="826" name=""/>
            <p:cNvSpPr/>
            <p:nvPr/>
          </p:nvSpPr>
          <p:spPr>
            <a:xfrm>
              <a:off x="1715760" y="1860480"/>
              <a:ext cx="1350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esarea</a:t>
              </a:r>
              <a:endParaRPr b="0" lang="en-US" sz="2400" spc="-1" strike="noStrike">
                <a:solidFill>
                  <a:srgbClr val="ffffff"/>
                </a:solidFill>
                <a:latin typeface="Times New Roman"/>
              </a:endParaRPr>
            </a:p>
          </p:txBody>
        </p:sp>
        <p:sp>
          <p:nvSpPr>
            <p:cNvPr id="827" name=""/>
            <p:cNvSpPr/>
            <p:nvPr/>
          </p:nvSpPr>
          <p:spPr>
            <a:xfrm>
              <a:off x="2389680" y="2538360"/>
              <a:ext cx="124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amaria</a:t>
              </a:r>
              <a:endParaRPr b="0" lang="en-US" sz="2400" spc="-1" strike="noStrike">
                <a:solidFill>
                  <a:srgbClr val="ffffff"/>
                </a:solidFill>
                <a:latin typeface="Times New Roman"/>
              </a:endParaRPr>
            </a:p>
          </p:txBody>
        </p:sp>
        <p:sp>
          <p:nvSpPr>
            <p:cNvPr id="828" name=""/>
            <p:cNvSpPr/>
            <p:nvPr/>
          </p:nvSpPr>
          <p:spPr>
            <a:xfrm>
              <a:off x="1593720" y="333540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oppa</a:t>
              </a:r>
              <a:endParaRPr b="0" lang="en-US" sz="2400" spc="-1" strike="noStrike">
                <a:solidFill>
                  <a:srgbClr val="ffffff"/>
                </a:solidFill>
                <a:latin typeface="Times New Roman"/>
              </a:endParaRPr>
            </a:p>
          </p:txBody>
        </p:sp>
        <p:sp>
          <p:nvSpPr>
            <p:cNvPr id="829" name=""/>
            <p:cNvSpPr/>
            <p:nvPr/>
          </p:nvSpPr>
          <p:spPr>
            <a:xfrm>
              <a:off x="2770920" y="3699000"/>
              <a:ext cx="1130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ericho</a:t>
              </a:r>
              <a:endParaRPr b="0" lang="en-US" sz="2400" spc="-1" strike="noStrike">
                <a:solidFill>
                  <a:srgbClr val="ffffff"/>
                </a:solidFill>
                <a:latin typeface="Times New Roman"/>
              </a:endParaRPr>
            </a:p>
          </p:txBody>
        </p:sp>
        <p:sp>
          <p:nvSpPr>
            <p:cNvPr id="830" name=""/>
            <p:cNvSpPr/>
            <p:nvPr/>
          </p:nvSpPr>
          <p:spPr>
            <a:xfrm>
              <a:off x="1732320" y="4033800"/>
              <a:ext cx="1702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Jerusalem</a:t>
              </a:r>
              <a:endParaRPr b="0" lang="en-US" sz="2800" spc="-1" strike="noStrike">
                <a:solidFill>
                  <a:srgbClr val="ffffff"/>
                </a:solidFill>
                <a:latin typeface="Times New Roman"/>
              </a:endParaRPr>
            </a:p>
          </p:txBody>
        </p:sp>
        <p:sp>
          <p:nvSpPr>
            <p:cNvPr id="831" name=""/>
            <p:cNvSpPr/>
            <p:nvPr/>
          </p:nvSpPr>
          <p:spPr>
            <a:xfrm>
              <a:off x="2215440" y="4946760"/>
              <a:ext cx="1147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ebron</a:t>
              </a:r>
              <a:endParaRPr b="0" lang="en-US" sz="2400" spc="-1" strike="noStrike">
                <a:solidFill>
                  <a:srgbClr val="ffffff"/>
                </a:solidFill>
                <a:latin typeface="Times New Roman"/>
              </a:endParaRPr>
            </a:p>
          </p:txBody>
        </p:sp>
        <p:sp>
          <p:nvSpPr>
            <p:cNvPr id="832" name=""/>
            <p:cNvSpPr/>
            <p:nvPr/>
          </p:nvSpPr>
          <p:spPr>
            <a:xfrm>
              <a:off x="1401840" y="5257800"/>
              <a:ext cx="91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aza</a:t>
              </a:r>
              <a:endParaRPr b="0" lang="en-US" sz="2400" spc="-1" strike="noStrike">
                <a:solidFill>
                  <a:srgbClr val="ffffff"/>
                </a:solidFill>
                <a:latin typeface="Times New Roman"/>
              </a:endParaRPr>
            </a:p>
          </p:txBody>
        </p:sp>
        <p:sp>
          <p:nvSpPr>
            <p:cNvPr id="833" name=""/>
            <p:cNvSpPr/>
            <p:nvPr/>
          </p:nvSpPr>
          <p:spPr>
            <a:xfrm>
              <a:off x="3379680" y="1122480"/>
              <a:ext cx="2013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a of Galilee</a:t>
              </a:r>
              <a:endParaRPr b="0" lang="en-US" sz="2200" spc="-1" strike="noStrike">
                <a:solidFill>
                  <a:srgbClr val="ffffff"/>
                </a:solidFill>
                <a:latin typeface="Times New Roman"/>
              </a:endParaRPr>
            </a:p>
          </p:txBody>
        </p:sp>
        <p:sp>
          <p:nvSpPr>
            <p:cNvPr id="834" name=""/>
            <p:cNvSpPr/>
            <p:nvPr/>
          </p:nvSpPr>
          <p:spPr>
            <a:xfrm>
              <a:off x="3673080" y="4944960"/>
              <a:ext cx="155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d Sea</a:t>
              </a:r>
              <a:endParaRPr b="0" lang="en-US" sz="2400" spc="-1" strike="noStrike">
                <a:solidFill>
                  <a:srgbClr val="ffffff"/>
                </a:solidFill>
                <a:latin typeface="Times New Roman"/>
              </a:endParaRPr>
            </a:p>
          </p:txBody>
        </p:sp>
        <p:sp>
          <p:nvSpPr>
            <p:cNvPr id="835" name=""/>
            <p:cNvSpPr/>
            <p:nvPr/>
          </p:nvSpPr>
          <p:spPr>
            <a:xfrm rot="16200000">
              <a:off x="2892600" y="2448720"/>
              <a:ext cx="190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rdan River</a:t>
              </a:r>
              <a:endParaRPr b="0" lang="en-US" sz="2400" spc="-1" strike="noStrike">
                <a:solidFill>
                  <a:srgbClr val="ffffff"/>
                </a:solidFill>
                <a:latin typeface="Times New Roman"/>
              </a:endParaRPr>
            </a:p>
          </p:txBody>
        </p:sp>
        <p:sp>
          <p:nvSpPr>
            <p:cNvPr id="836" name=""/>
            <p:cNvSpPr/>
            <p:nvPr/>
          </p:nvSpPr>
          <p:spPr>
            <a:xfrm rot="17340000">
              <a:off x="-764640" y="2566440"/>
              <a:ext cx="3307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Mediterranean</a:t>
              </a:r>
              <a:endParaRPr b="0" lang="en-US" sz="3600" spc="-1" strike="noStrike">
                <a:solidFill>
                  <a:srgbClr val="ffffff"/>
                </a:solidFill>
                <a:latin typeface="Times New Roman"/>
              </a:endParaRPr>
            </a:p>
          </p:txBody>
        </p:sp>
        <p:sp>
          <p:nvSpPr>
            <p:cNvPr id="837" name=""/>
            <p:cNvSpPr/>
            <p:nvPr/>
          </p:nvSpPr>
          <p:spPr>
            <a:xfrm>
              <a:off x="3846600" y="6566040"/>
              <a:ext cx="15127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 PHOTO</a:t>
              </a:r>
              <a:endParaRPr b="0" lang="en-US" sz="1600" spc="-1" strike="noStrike">
                <a:solidFill>
                  <a:srgbClr val="ffffff"/>
                </a:solidFill>
                <a:latin typeface="Times New Roman"/>
              </a:endParaRPr>
            </a:p>
          </p:txBody>
        </p:sp>
        <p:sp>
          <p:nvSpPr>
            <p:cNvPr id="838" name=""/>
            <p:cNvSpPr/>
            <p:nvPr/>
          </p:nvSpPr>
          <p:spPr>
            <a:xfrm>
              <a:off x="123840" y="6634080"/>
              <a:ext cx="2390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BibleTeacher.com  </a:t>
              </a:r>
              <a:endParaRPr b="0" lang="en-US" sz="1000" spc="-1" strike="noStrike">
                <a:solidFill>
                  <a:srgbClr val="ffffff"/>
                </a:solidFill>
                <a:latin typeface="Times New Roman"/>
              </a:endParaRPr>
            </a:p>
          </p:txBody>
        </p:sp>
        <p:sp>
          <p:nvSpPr>
            <p:cNvPr id="839" name=""/>
            <p:cNvSpPr/>
            <p:nvPr/>
          </p:nvSpPr>
          <p:spPr>
            <a:xfrm>
              <a:off x="3611160" y="1440"/>
              <a:ext cx="1350360" cy="6735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esare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hilippi</a:t>
              </a:r>
              <a:endParaRPr b="0" lang="en-US" sz="2400" spc="-1" strike="noStrike">
                <a:solidFill>
                  <a:srgbClr val="ffffff"/>
                </a:solidFill>
                <a:latin typeface="Times New Roman"/>
              </a:endParaRPr>
            </a:p>
          </p:txBody>
        </p:sp>
        <p:sp>
          <p:nvSpPr>
            <p:cNvPr id="840" name=""/>
            <p:cNvSpPr/>
            <p:nvPr/>
          </p:nvSpPr>
          <p:spPr>
            <a:xfrm>
              <a:off x="3227400" y="851040"/>
              <a:ext cx="29196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41" name=""/>
            <p:cNvSpPr/>
            <p:nvPr/>
          </p:nvSpPr>
          <p:spPr>
            <a:xfrm>
              <a:off x="2109960" y="6480"/>
              <a:ext cx="29196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42" name=""/>
            <p:cNvSpPr/>
            <p:nvPr/>
          </p:nvSpPr>
          <p:spPr>
            <a:xfrm>
              <a:off x="2289240" y="144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don</a:t>
              </a:r>
              <a:endParaRPr b="0" lang="en-US" sz="2400" spc="-1" strike="noStrike">
                <a:solidFill>
                  <a:srgbClr val="ffffff"/>
                </a:solidFill>
                <a:latin typeface="Times New Roman"/>
              </a:endParaRPr>
            </a:p>
          </p:txBody>
        </p:sp>
        <p:sp>
          <p:nvSpPr>
            <p:cNvPr id="843" name=""/>
            <p:cNvSpPr/>
            <p:nvPr/>
          </p:nvSpPr>
          <p:spPr>
            <a:xfrm>
              <a:off x="1920960" y="290520"/>
              <a:ext cx="29196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44" name=""/>
            <p:cNvSpPr/>
            <p:nvPr/>
          </p:nvSpPr>
          <p:spPr>
            <a:xfrm>
              <a:off x="1191600" y="204840"/>
              <a:ext cx="75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yre</a:t>
              </a:r>
              <a:endParaRPr b="0" lang="en-US" sz="2400" spc="-1" strike="noStrike">
                <a:solidFill>
                  <a:srgbClr val="ffffff"/>
                </a:solidFill>
                <a:latin typeface="Times New Roman"/>
              </a:endParaRPr>
            </a:p>
          </p:txBody>
        </p:sp>
        <p:sp>
          <p:nvSpPr>
            <p:cNvPr id="845" name=""/>
            <p:cNvSpPr/>
            <p:nvPr/>
          </p:nvSpPr>
          <p:spPr>
            <a:xfrm>
              <a:off x="3346560" y="255600"/>
              <a:ext cx="29196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46" name=""/>
            <p:cNvSpPr/>
            <p:nvPr/>
          </p:nvSpPr>
          <p:spPr>
            <a:xfrm>
              <a:off x="1670040" y="635040"/>
              <a:ext cx="1671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pernaum</a:t>
              </a:r>
              <a:endParaRPr b="0" lang="en-US" sz="2400" spc="-1" strike="noStrike">
                <a:solidFill>
                  <a:srgbClr val="ffffff"/>
                </a:solidFill>
                <a:latin typeface="Times New Roman"/>
              </a:endParaRPr>
            </a:p>
          </p:txBody>
        </p:sp>
        <p:sp>
          <p:nvSpPr>
            <p:cNvPr id="847" name=""/>
            <p:cNvSpPr/>
            <p:nvPr/>
          </p:nvSpPr>
          <p:spPr>
            <a:xfrm>
              <a:off x="862560" y="6066000"/>
              <a:ext cx="4335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Arial"/>
                </a:rPr>
                <a:t>New Testament Israel</a:t>
              </a:r>
              <a:endParaRPr b="0" lang="en-US" sz="3200" spc="-1" strike="noStrike">
                <a:solidFill>
                  <a:srgbClr val="ffffff"/>
                </a:solidFill>
                <a:latin typeface="Times New Roman"/>
              </a:endParaRPr>
            </a:p>
          </p:txBody>
        </p:sp>
      </p:grpSp>
      <p:sp>
        <p:nvSpPr>
          <p:cNvPr id="848" name="PlaceHolder 1"/>
          <p:cNvSpPr>
            <a:spLocks noGrp="1"/>
          </p:cNvSpPr>
          <p:nvPr>
            <p:ph type="title"/>
          </p:nvPr>
        </p:nvSpPr>
        <p:spPr>
          <a:xfrm>
            <a:off x="7524720" y="609120"/>
            <a:ext cx="137160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Israel in the New Testament</a:t>
            </a:r>
            <a:endParaRPr b="1" lang="en-US" sz="100" spc="-1" strike="noStrike" u="sng">
              <a:solidFill>
                <a:srgbClr val="c0fef9"/>
              </a:solidFill>
              <a:uFillTx/>
              <a:latin typeface="Times New Roman"/>
            </a:endParaRPr>
          </a:p>
        </p:txBody>
      </p:sp>
      <p:sp>
        <p:nvSpPr>
          <p:cNvPr id="849"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50" name=""/>
          <p:cNvSpPr/>
          <p:nvPr/>
        </p:nvSpPr>
        <p:spPr>
          <a:xfrm>
            <a:off x="5715000" y="1685880"/>
            <a:ext cx="3352680" cy="41814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Black"/>
              </a:rPr>
              <a:t>The Childhood of Jesus</a:t>
            </a:r>
            <a:endParaRPr b="0" lang="en-US" sz="4000" spc="-1" strike="noStrike">
              <a:solidFill>
                <a:srgbClr val="ffffff"/>
              </a:solidFill>
              <a:latin typeface="Times New Roman"/>
            </a:endParaRPr>
          </a:p>
        </p:txBody>
      </p:sp>
      <p:grpSp>
        <p:nvGrpSpPr>
          <p:cNvPr id="851" name=""/>
          <p:cNvGrpSpPr/>
          <p:nvPr/>
        </p:nvGrpSpPr>
        <p:grpSpPr>
          <a:xfrm>
            <a:off x="0" y="0"/>
            <a:ext cx="5392800" cy="6898320"/>
            <a:chOff x="0" y="0"/>
            <a:chExt cx="5392800" cy="6898320"/>
          </a:xfrm>
        </p:grpSpPr>
        <p:pic>
          <p:nvPicPr>
            <p:cNvPr id="852" name="" descr=""/>
            <p:cNvPicPr/>
            <p:nvPr/>
          </p:nvPicPr>
          <p:blipFill>
            <a:blip r:embed="rId1"/>
            <a:srcRect l="1058" t="18878" r="9384" b="3960"/>
            <a:stretch/>
          </p:blipFill>
          <p:spPr>
            <a:xfrm>
              <a:off x="0" y="0"/>
              <a:ext cx="5362560" cy="6835680"/>
            </a:xfrm>
            <a:prstGeom prst="rect">
              <a:avLst/>
            </a:prstGeom>
            <a:ln w="0">
              <a:noFill/>
            </a:ln>
          </p:spPr>
        </p:pic>
        <p:sp>
          <p:nvSpPr>
            <p:cNvPr id="853" name=""/>
            <p:cNvSpPr/>
            <p:nvPr/>
          </p:nvSpPr>
          <p:spPr>
            <a:xfrm>
              <a:off x="2938320" y="4384800"/>
              <a:ext cx="29232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54" name=""/>
            <p:cNvSpPr/>
            <p:nvPr/>
          </p:nvSpPr>
          <p:spPr>
            <a:xfrm>
              <a:off x="2951280" y="1649520"/>
              <a:ext cx="29196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55" name=""/>
            <p:cNvSpPr/>
            <p:nvPr/>
          </p:nvSpPr>
          <p:spPr>
            <a:xfrm>
              <a:off x="2027160" y="1257480"/>
              <a:ext cx="1333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zareth</a:t>
              </a:r>
              <a:endParaRPr b="0" lang="en-US" sz="2400" spc="-1" strike="noStrike">
                <a:solidFill>
                  <a:srgbClr val="ffffff"/>
                </a:solidFill>
                <a:latin typeface="Times New Roman"/>
              </a:endParaRPr>
            </a:p>
          </p:txBody>
        </p:sp>
        <p:sp>
          <p:nvSpPr>
            <p:cNvPr id="856" name=""/>
            <p:cNvSpPr/>
            <p:nvPr/>
          </p:nvSpPr>
          <p:spPr>
            <a:xfrm>
              <a:off x="1018080" y="573876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gypt</a:t>
              </a:r>
              <a:endParaRPr b="0" lang="en-US" sz="2400" spc="-1" strike="noStrike">
                <a:solidFill>
                  <a:srgbClr val="ffffff"/>
                </a:solidFill>
                <a:latin typeface="Times New Roman"/>
              </a:endParaRPr>
            </a:p>
          </p:txBody>
        </p:sp>
        <p:sp>
          <p:nvSpPr>
            <p:cNvPr id="857" name=""/>
            <p:cNvSpPr/>
            <p:nvPr/>
          </p:nvSpPr>
          <p:spPr>
            <a:xfrm>
              <a:off x="1732320" y="3919680"/>
              <a:ext cx="1702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Jerusalem</a:t>
              </a:r>
              <a:endParaRPr b="0" lang="en-US" sz="2800" spc="-1" strike="noStrike">
                <a:solidFill>
                  <a:srgbClr val="ffffff"/>
                </a:solidFill>
                <a:latin typeface="Times New Roman"/>
              </a:endParaRPr>
            </a:p>
          </p:txBody>
        </p:sp>
        <p:sp>
          <p:nvSpPr>
            <p:cNvPr id="858" name=""/>
            <p:cNvSpPr/>
            <p:nvPr/>
          </p:nvSpPr>
          <p:spPr>
            <a:xfrm>
              <a:off x="1642320" y="4813200"/>
              <a:ext cx="1537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thlehem</a:t>
              </a:r>
              <a:endParaRPr b="0" lang="en-US" sz="2400" spc="-1" strike="noStrike">
                <a:solidFill>
                  <a:srgbClr val="ffffff"/>
                </a:solidFill>
                <a:latin typeface="Times New Roman"/>
              </a:endParaRPr>
            </a:p>
          </p:txBody>
        </p:sp>
        <p:sp>
          <p:nvSpPr>
            <p:cNvPr id="859" name=""/>
            <p:cNvSpPr/>
            <p:nvPr/>
          </p:nvSpPr>
          <p:spPr>
            <a:xfrm>
              <a:off x="3379680" y="1122480"/>
              <a:ext cx="2013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a of Galilee</a:t>
              </a:r>
              <a:endParaRPr b="0" lang="en-US" sz="2200" spc="-1" strike="noStrike">
                <a:solidFill>
                  <a:srgbClr val="ffffff"/>
                </a:solidFill>
                <a:latin typeface="Times New Roman"/>
              </a:endParaRPr>
            </a:p>
          </p:txBody>
        </p:sp>
        <p:sp>
          <p:nvSpPr>
            <p:cNvPr id="860" name=""/>
            <p:cNvSpPr/>
            <p:nvPr/>
          </p:nvSpPr>
          <p:spPr>
            <a:xfrm>
              <a:off x="3673080" y="4944960"/>
              <a:ext cx="155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d Sea</a:t>
              </a:r>
              <a:endParaRPr b="0" lang="en-US" sz="2400" spc="-1" strike="noStrike">
                <a:solidFill>
                  <a:srgbClr val="ffffff"/>
                </a:solidFill>
                <a:latin typeface="Times New Roman"/>
              </a:endParaRPr>
            </a:p>
          </p:txBody>
        </p:sp>
        <p:sp>
          <p:nvSpPr>
            <p:cNvPr id="861" name=""/>
            <p:cNvSpPr/>
            <p:nvPr/>
          </p:nvSpPr>
          <p:spPr>
            <a:xfrm rot="16200000">
              <a:off x="2892600" y="2448720"/>
              <a:ext cx="190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rdan River</a:t>
              </a:r>
              <a:endParaRPr b="0" lang="en-US" sz="2400" spc="-1" strike="noStrike">
                <a:solidFill>
                  <a:srgbClr val="ffffff"/>
                </a:solidFill>
                <a:latin typeface="Times New Roman"/>
              </a:endParaRPr>
            </a:p>
          </p:txBody>
        </p:sp>
        <p:sp>
          <p:nvSpPr>
            <p:cNvPr id="862" name=""/>
            <p:cNvSpPr/>
            <p:nvPr/>
          </p:nvSpPr>
          <p:spPr>
            <a:xfrm rot="17340000">
              <a:off x="-764640" y="2563560"/>
              <a:ext cx="3307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Mediterranean</a:t>
              </a:r>
              <a:endParaRPr b="0" lang="en-US" sz="3600" spc="-1" strike="noStrike">
                <a:solidFill>
                  <a:srgbClr val="ffffff"/>
                </a:solidFill>
                <a:latin typeface="Times New Roman"/>
              </a:endParaRPr>
            </a:p>
          </p:txBody>
        </p:sp>
        <p:sp>
          <p:nvSpPr>
            <p:cNvPr id="863" name=""/>
            <p:cNvSpPr/>
            <p:nvPr/>
          </p:nvSpPr>
          <p:spPr>
            <a:xfrm>
              <a:off x="3846600" y="6566040"/>
              <a:ext cx="15127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 PHOTO</a:t>
              </a:r>
              <a:endParaRPr b="0" lang="en-US" sz="1600" spc="-1" strike="noStrike">
                <a:solidFill>
                  <a:srgbClr val="ffffff"/>
                </a:solidFill>
                <a:latin typeface="Times New Roman"/>
              </a:endParaRPr>
            </a:p>
          </p:txBody>
        </p:sp>
        <p:sp>
          <p:nvSpPr>
            <p:cNvPr id="864" name=""/>
            <p:cNvSpPr/>
            <p:nvPr/>
          </p:nvSpPr>
          <p:spPr>
            <a:xfrm>
              <a:off x="123840" y="6634080"/>
              <a:ext cx="2390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taylor@midwest.net  </a:t>
              </a:r>
              <a:endParaRPr b="0" lang="en-US" sz="1000" spc="-1" strike="noStrike">
                <a:solidFill>
                  <a:srgbClr val="ffffff"/>
                </a:solidFill>
                <a:latin typeface="Times New Roman"/>
              </a:endParaRPr>
            </a:p>
          </p:txBody>
        </p:sp>
        <p:sp>
          <p:nvSpPr>
            <p:cNvPr id="865" name=""/>
            <p:cNvSpPr/>
            <p:nvPr/>
          </p:nvSpPr>
          <p:spPr>
            <a:xfrm>
              <a:off x="1096200" y="6110280"/>
              <a:ext cx="41713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afd00"/>
                  </a:solidFill>
                  <a:uFillTx/>
                  <a:latin typeface="Arial"/>
                </a:rPr>
                <a:t>Jesus’ Childhood Israel</a:t>
              </a:r>
              <a:endParaRPr b="0" lang="en-US" sz="2800" spc="-1" strike="noStrike">
                <a:solidFill>
                  <a:srgbClr val="ffffff"/>
                </a:solidFill>
                <a:latin typeface="Times New Roman"/>
              </a:endParaRPr>
            </a:p>
          </p:txBody>
        </p:sp>
        <p:sp>
          <p:nvSpPr>
            <p:cNvPr id="866" name=""/>
            <p:cNvSpPr/>
            <p:nvPr/>
          </p:nvSpPr>
          <p:spPr>
            <a:xfrm>
              <a:off x="2862360" y="4556160"/>
              <a:ext cx="291960" cy="21600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867" name=""/>
            <p:cNvSpPr/>
            <p:nvPr/>
          </p:nvSpPr>
          <p:spPr>
            <a:xfrm flipH="1" rot="18480000">
              <a:off x="687960" y="6254280"/>
              <a:ext cx="520200" cy="216360"/>
            </a:xfrm>
            <a:prstGeom prst="rightArrow">
              <a:avLst>
                <a:gd name="adj1" fmla="val 50000"/>
                <a:gd name="adj2" fmla="val 120227"/>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8" name="PlaceHolder 1"/>
          <p:cNvSpPr>
            <a:spLocks noGrp="1"/>
          </p:cNvSpPr>
          <p:nvPr>
            <p:ph type="title"/>
          </p:nvPr>
        </p:nvSpPr>
        <p:spPr>
          <a:xfrm>
            <a:off x="7752960" y="609120"/>
            <a:ext cx="114300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Childhood of Jesus</a:t>
            </a:r>
            <a:endParaRPr b="1" lang="en-US" sz="100" spc="-1" strike="noStrike" u="sng">
              <a:solidFill>
                <a:srgbClr val="c0fef9"/>
              </a:solidFill>
              <a:uFillTx/>
              <a:latin typeface="Times New Roman"/>
            </a:endParaRPr>
          </a:p>
        </p:txBody>
      </p:sp>
      <p:sp>
        <p:nvSpPr>
          <p:cNvPr id="869"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870" name=""/>
          <p:cNvGrpSpPr/>
          <p:nvPr/>
        </p:nvGrpSpPr>
        <p:grpSpPr>
          <a:xfrm>
            <a:off x="0" y="0"/>
            <a:ext cx="11701080" cy="6845400"/>
            <a:chOff x="0" y="0"/>
            <a:chExt cx="11701080" cy="6845400"/>
          </a:xfrm>
        </p:grpSpPr>
        <p:grpSp>
          <p:nvGrpSpPr>
            <p:cNvPr id="871" name=""/>
            <p:cNvGrpSpPr/>
            <p:nvPr/>
          </p:nvGrpSpPr>
          <p:grpSpPr>
            <a:xfrm>
              <a:off x="0" y="0"/>
              <a:ext cx="11701080" cy="6845400"/>
              <a:chOff x="0" y="0"/>
              <a:chExt cx="11701080" cy="6845400"/>
            </a:xfrm>
          </p:grpSpPr>
          <p:pic>
            <p:nvPicPr>
              <p:cNvPr id="872" name="" descr=""/>
              <p:cNvPicPr/>
              <p:nvPr/>
            </p:nvPicPr>
            <p:blipFill>
              <a:blip r:embed="rId1"/>
              <a:stretch/>
            </p:blipFill>
            <p:spPr>
              <a:xfrm>
                <a:off x="0" y="0"/>
                <a:ext cx="9131400" cy="6845400"/>
              </a:xfrm>
              <a:prstGeom prst="rect">
                <a:avLst/>
              </a:prstGeom>
              <a:ln w="0">
                <a:noFill/>
              </a:ln>
            </p:spPr>
          </p:pic>
          <p:sp>
            <p:nvSpPr>
              <p:cNvPr id="873" name=""/>
              <p:cNvSpPr/>
              <p:nvPr/>
            </p:nvSpPr>
            <p:spPr>
              <a:xfrm>
                <a:off x="1658880" y="2487600"/>
                <a:ext cx="149400" cy="177840"/>
              </a:xfrm>
              <a:prstGeom prst="star5">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874" name=""/>
              <p:cNvSpPr/>
              <p:nvPr/>
            </p:nvSpPr>
            <p:spPr>
              <a:xfrm>
                <a:off x="1756800" y="2305080"/>
                <a:ext cx="1542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conium</a:t>
                </a:r>
                <a:endParaRPr b="0" lang="en-US" sz="2800" spc="-1" strike="noStrike">
                  <a:solidFill>
                    <a:srgbClr val="ffffff"/>
                  </a:solidFill>
                  <a:latin typeface="Times New Roman"/>
                </a:endParaRPr>
              </a:p>
            </p:txBody>
          </p:sp>
          <p:sp>
            <p:nvSpPr>
              <p:cNvPr id="875" name=""/>
              <p:cNvSpPr/>
              <p:nvPr/>
            </p:nvSpPr>
            <p:spPr>
              <a:xfrm>
                <a:off x="6330960" y="4121280"/>
                <a:ext cx="216000" cy="215640"/>
              </a:xfrm>
              <a:prstGeom prst="star5">
                <a:avLst/>
              </a:prstGeom>
              <a:solidFill>
                <a:srgbClr val="fc0128"/>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76" name=""/>
              <p:cNvSpPr/>
              <p:nvPr/>
            </p:nvSpPr>
            <p:spPr>
              <a:xfrm>
                <a:off x="1281960" y="1852560"/>
                <a:ext cx="320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ioch (Pisidian)</a:t>
                </a:r>
                <a:endParaRPr b="0" lang="en-US" sz="2800" spc="-1" strike="noStrike">
                  <a:solidFill>
                    <a:srgbClr val="ffffff"/>
                  </a:solidFill>
                  <a:latin typeface="Times New Roman"/>
                </a:endParaRPr>
              </a:p>
            </p:txBody>
          </p:sp>
          <p:sp>
            <p:nvSpPr>
              <p:cNvPr id="877" name=""/>
              <p:cNvSpPr/>
              <p:nvPr/>
            </p:nvSpPr>
            <p:spPr>
              <a:xfrm>
                <a:off x="6609240" y="3803760"/>
                <a:ext cx="188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tioch</a:t>
                </a:r>
                <a:endParaRPr b="0" lang="en-US" sz="3600" spc="-1" strike="noStrike">
                  <a:solidFill>
                    <a:srgbClr val="ffffff"/>
                  </a:solidFill>
                  <a:latin typeface="Times New Roman"/>
                </a:endParaRPr>
              </a:p>
            </p:txBody>
          </p:sp>
          <p:sp>
            <p:nvSpPr>
              <p:cNvPr id="878" name=""/>
              <p:cNvSpPr/>
              <p:nvPr/>
            </p:nvSpPr>
            <p:spPr>
              <a:xfrm>
                <a:off x="1434960" y="2763720"/>
                <a:ext cx="173160" cy="173160"/>
              </a:xfrm>
              <a:prstGeom prst="star5">
                <a:avLst/>
              </a:prstGeom>
              <a:solidFill>
                <a:srgbClr val="fc0128"/>
              </a:solidFill>
              <a:ln w="1260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879" name=""/>
              <p:cNvSpPr/>
              <p:nvPr/>
            </p:nvSpPr>
            <p:spPr>
              <a:xfrm>
                <a:off x="1565640" y="275112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ystra</a:t>
                </a:r>
                <a:endParaRPr b="0" lang="en-US" sz="2400" spc="-1" strike="noStrike">
                  <a:solidFill>
                    <a:srgbClr val="ffffff"/>
                  </a:solidFill>
                  <a:latin typeface="Times New Roman"/>
                </a:endParaRPr>
              </a:p>
            </p:txBody>
          </p:sp>
          <p:sp>
            <p:nvSpPr>
              <p:cNvPr id="880" name=""/>
              <p:cNvSpPr/>
              <p:nvPr/>
            </p:nvSpPr>
            <p:spPr>
              <a:xfrm>
                <a:off x="1801800" y="3192480"/>
                <a:ext cx="139680" cy="139680"/>
              </a:xfrm>
              <a:prstGeom prst="star5">
                <a:avLst/>
              </a:prstGeom>
              <a:solidFill>
                <a:srgbClr val="fc0128"/>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81" name=""/>
              <p:cNvSpPr/>
              <p:nvPr/>
            </p:nvSpPr>
            <p:spPr>
              <a:xfrm>
                <a:off x="1899720" y="316548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be</a:t>
                </a:r>
                <a:endParaRPr b="0" lang="en-US" sz="2400" spc="-1" strike="noStrike">
                  <a:solidFill>
                    <a:srgbClr val="ffffff"/>
                  </a:solidFill>
                  <a:latin typeface="Times New Roman"/>
                </a:endParaRPr>
              </a:p>
            </p:txBody>
          </p:sp>
          <p:sp>
            <p:nvSpPr>
              <p:cNvPr id="882" name=""/>
              <p:cNvSpPr/>
              <p:nvPr/>
            </p:nvSpPr>
            <p:spPr>
              <a:xfrm flipH="1">
                <a:off x="6006960" y="4356000"/>
                <a:ext cx="330480" cy="20340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flipH="1">
                <a:off x="1359000" y="4584600"/>
                <a:ext cx="4673520" cy="119376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flipH="1" flipV="1">
                <a:off x="216000" y="5702400"/>
                <a:ext cx="1092240" cy="10152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V="1">
                <a:off x="165240" y="3215880"/>
                <a:ext cx="7920" cy="235908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flipV="1">
                <a:off x="227160" y="3001680"/>
                <a:ext cx="117360" cy="16812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flipV="1">
                <a:off x="1211040" y="2120400"/>
                <a:ext cx="515880" cy="43524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H="1">
                <a:off x="372600" y="2212920"/>
                <a:ext cx="839880" cy="68904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1139760" y="2049480"/>
                <a:ext cx="182520" cy="173160"/>
              </a:xfrm>
              <a:prstGeom prst="star5">
                <a:avLst/>
              </a:prstGeom>
              <a:solidFill>
                <a:srgbClr val="fc0128"/>
              </a:solidFill>
              <a:ln w="1260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890" name=""/>
              <p:cNvSpPr/>
              <p:nvPr/>
            </p:nvSpPr>
            <p:spPr>
              <a:xfrm>
                <a:off x="586440" y="4351320"/>
                <a:ext cx="4072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Mediterranean Sea</a:t>
                </a:r>
                <a:endParaRPr b="0" lang="en-US" sz="3600" spc="-1" strike="noStrike">
                  <a:solidFill>
                    <a:srgbClr val="ffffff"/>
                  </a:solidFill>
                  <a:latin typeface="Times New Roman"/>
                </a:endParaRPr>
              </a:p>
            </p:txBody>
          </p:sp>
          <p:sp>
            <p:nvSpPr>
              <p:cNvPr id="891" name=""/>
              <p:cNvSpPr/>
              <p:nvPr/>
            </p:nvSpPr>
            <p:spPr>
              <a:xfrm>
                <a:off x="54720" y="5937120"/>
                <a:ext cx="1757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yprus</a:t>
                </a:r>
                <a:endParaRPr b="0" lang="en-US" sz="3600" spc="-1" strike="noStrike">
                  <a:solidFill>
                    <a:srgbClr val="ffffff"/>
                  </a:solidFill>
                  <a:latin typeface="Times New Roman"/>
                </a:endParaRPr>
              </a:p>
            </p:txBody>
          </p:sp>
          <p:sp>
            <p:nvSpPr>
              <p:cNvPr id="892" name=""/>
              <p:cNvSpPr/>
              <p:nvPr/>
            </p:nvSpPr>
            <p:spPr>
              <a:xfrm>
                <a:off x="6026040" y="4425840"/>
                <a:ext cx="216000" cy="139680"/>
              </a:xfrm>
              <a:prstGeom prst="star5">
                <a:avLst/>
              </a:prstGeom>
              <a:solidFill>
                <a:srgbClr val="fc0128"/>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93" name=""/>
              <p:cNvSpPr/>
              <p:nvPr/>
            </p:nvSpPr>
            <p:spPr>
              <a:xfrm>
                <a:off x="6151680" y="4475160"/>
                <a:ext cx="141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ucia</a:t>
                </a:r>
                <a:endParaRPr b="0" lang="en-US" sz="2400" spc="-1" strike="noStrike">
                  <a:solidFill>
                    <a:srgbClr val="ffffff"/>
                  </a:solidFill>
                  <a:latin typeface="Times New Roman"/>
                </a:endParaRPr>
              </a:p>
            </p:txBody>
          </p:sp>
          <p:sp>
            <p:nvSpPr>
              <p:cNvPr id="894" name=""/>
              <p:cNvSpPr/>
              <p:nvPr/>
            </p:nvSpPr>
            <p:spPr>
              <a:xfrm>
                <a:off x="1225440" y="5721480"/>
                <a:ext cx="216000" cy="139680"/>
              </a:xfrm>
              <a:prstGeom prst="star5">
                <a:avLst/>
              </a:prstGeom>
              <a:solidFill>
                <a:srgbClr val="fc0128"/>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95" name=""/>
              <p:cNvSpPr/>
              <p:nvPr/>
            </p:nvSpPr>
            <p:spPr>
              <a:xfrm>
                <a:off x="1428120" y="5770440"/>
                <a:ext cx="141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amas</a:t>
                </a:r>
                <a:endParaRPr b="0" lang="en-US" sz="2400" spc="-1" strike="noStrike">
                  <a:solidFill>
                    <a:srgbClr val="ffffff"/>
                  </a:solidFill>
                  <a:latin typeface="Times New Roman"/>
                </a:endParaRPr>
              </a:p>
            </p:txBody>
          </p:sp>
          <p:sp>
            <p:nvSpPr>
              <p:cNvPr id="896" name=""/>
              <p:cNvSpPr/>
              <p:nvPr/>
            </p:nvSpPr>
            <p:spPr>
              <a:xfrm>
                <a:off x="6480" y="5645160"/>
                <a:ext cx="215640" cy="139680"/>
              </a:xfrm>
              <a:prstGeom prst="star5">
                <a:avLst/>
              </a:prstGeom>
              <a:solidFill>
                <a:srgbClr val="fc0128"/>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97" name=""/>
              <p:cNvSpPr/>
              <p:nvPr/>
            </p:nvSpPr>
            <p:spPr>
              <a:xfrm>
                <a:off x="132120" y="5313240"/>
                <a:ext cx="1280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phos</a:t>
                </a:r>
                <a:endParaRPr b="0" lang="en-US" sz="2400" spc="-1" strike="noStrike">
                  <a:solidFill>
                    <a:srgbClr val="ffffff"/>
                  </a:solidFill>
                  <a:latin typeface="Times New Roman"/>
                </a:endParaRPr>
              </a:p>
            </p:txBody>
          </p:sp>
          <p:sp>
            <p:nvSpPr>
              <p:cNvPr id="898" name=""/>
              <p:cNvSpPr/>
              <p:nvPr/>
            </p:nvSpPr>
            <p:spPr>
              <a:xfrm>
                <a:off x="207360" y="3103560"/>
                <a:ext cx="1114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lia</a:t>
                </a:r>
                <a:endParaRPr b="0" lang="en-US" sz="2400" spc="-1" strike="noStrike">
                  <a:solidFill>
                    <a:srgbClr val="ffffff"/>
                  </a:solidFill>
                  <a:latin typeface="Times New Roman"/>
                </a:endParaRPr>
              </a:p>
            </p:txBody>
          </p:sp>
          <p:sp>
            <p:nvSpPr>
              <p:cNvPr id="899" name=""/>
              <p:cNvSpPr/>
              <p:nvPr/>
            </p:nvSpPr>
            <p:spPr>
              <a:xfrm>
                <a:off x="82440" y="3130560"/>
                <a:ext cx="216000" cy="139680"/>
              </a:xfrm>
              <a:prstGeom prst="star5">
                <a:avLst/>
              </a:prstGeom>
              <a:solidFill>
                <a:srgbClr val="fc0128"/>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00" name=""/>
              <p:cNvSpPr/>
              <p:nvPr/>
            </p:nvSpPr>
            <p:spPr>
              <a:xfrm>
                <a:off x="389520" y="2712960"/>
                <a:ext cx="102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ga</a:t>
                </a:r>
                <a:endParaRPr b="0" lang="en-US" sz="2400" spc="-1" strike="noStrike">
                  <a:solidFill>
                    <a:srgbClr val="ffffff"/>
                  </a:solidFill>
                  <a:latin typeface="Times New Roman"/>
                </a:endParaRPr>
              </a:p>
            </p:txBody>
          </p:sp>
          <p:sp>
            <p:nvSpPr>
              <p:cNvPr id="901" name=""/>
              <p:cNvSpPr/>
              <p:nvPr/>
            </p:nvSpPr>
            <p:spPr>
              <a:xfrm>
                <a:off x="263520" y="2868480"/>
                <a:ext cx="216000" cy="139680"/>
              </a:xfrm>
              <a:prstGeom prst="star5">
                <a:avLst/>
              </a:prstGeom>
              <a:solidFill>
                <a:srgbClr val="fc0128"/>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02" name=""/>
              <p:cNvSpPr/>
              <p:nvPr/>
            </p:nvSpPr>
            <p:spPr>
              <a:xfrm flipV="1">
                <a:off x="1550880" y="2639880"/>
                <a:ext cx="117720" cy="16848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H="1" flipV="1">
                <a:off x="1521000" y="2887200"/>
                <a:ext cx="320400" cy="382680"/>
              </a:xfrm>
              <a:prstGeom prst="line">
                <a:avLst/>
              </a:prstGeom>
              <a:ln w="25560">
                <a:solidFill>
                  <a:srgbClr val="fafd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239760" y="3400200"/>
                <a:ext cx="11461320" cy="10602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afd00"/>
                </a:solidFill>
                <a:custDash>
                  <a:ds d="499000" sp="201000"/>
                  <a:ds d="1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4613040" y="60480"/>
                <a:ext cx="4256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st Missionary Journey</a:t>
                </a:r>
                <a:endParaRPr b="0" lang="en-US" sz="3200" spc="-1" strike="noStrike">
                  <a:solidFill>
                    <a:srgbClr val="ffffff"/>
                  </a:solidFill>
                  <a:latin typeface="Times New Roman"/>
                </a:endParaRPr>
              </a:p>
            </p:txBody>
          </p:sp>
          <p:sp>
            <p:nvSpPr>
              <p:cNvPr id="906" name=""/>
              <p:cNvSpPr/>
              <p:nvPr/>
            </p:nvSpPr>
            <p:spPr>
              <a:xfrm>
                <a:off x="5528880" y="426960"/>
                <a:ext cx="2412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s 13 &amp; 14</a:t>
                </a:r>
                <a:endParaRPr b="0" lang="en-US" sz="3200" spc="-1" strike="noStrike">
                  <a:solidFill>
                    <a:srgbClr val="ffffff"/>
                  </a:solidFill>
                  <a:latin typeface="Times New Roman"/>
                </a:endParaRPr>
              </a:p>
            </p:txBody>
          </p:sp>
          <p:sp>
            <p:nvSpPr>
              <p:cNvPr id="907" name=""/>
              <p:cNvSpPr/>
              <p:nvPr/>
            </p:nvSpPr>
            <p:spPr>
              <a:xfrm>
                <a:off x="5055840" y="1539720"/>
                <a:ext cx="40172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Modern Day Turkey</a:t>
                </a:r>
                <a:endParaRPr b="0" lang="en-US" sz="3600" spc="-1" strike="noStrike">
                  <a:solidFill>
                    <a:srgbClr val="ffffff"/>
                  </a:solidFill>
                  <a:latin typeface="Times New Roman"/>
                </a:endParaRPr>
              </a:p>
            </p:txBody>
          </p:sp>
          <p:sp>
            <p:nvSpPr>
              <p:cNvPr id="908" name=""/>
              <p:cNvSpPr/>
              <p:nvPr/>
            </p:nvSpPr>
            <p:spPr>
              <a:xfrm flipH="1">
                <a:off x="3200400" y="5283360"/>
                <a:ext cx="177840" cy="12600"/>
              </a:xfrm>
              <a:prstGeom prst="line">
                <a:avLst/>
              </a:prstGeom>
              <a:ln w="25560">
                <a:solidFill>
                  <a:srgbClr val="fafd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09" name=""/>
              <p:cNvSpPr/>
              <p:nvPr/>
            </p:nvSpPr>
            <p:spPr>
              <a:xfrm flipH="1">
                <a:off x="558720" y="5753160"/>
                <a:ext cx="17784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V="1">
                <a:off x="165240" y="4660560"/>
                <a:ext cx="0" cy="15228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2387520" y="4343400"/>
                <a:ext cx="127080" cy="12600"/>
              </a:xfrm>
              <a:prstGeom prst="line">
                <a:avLst/>
              </a:prstGeom>
              <a:ln w="25560">
                <a:solidFill>
                  <a:srgbClr val="fafd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12" name=""/>
              <p:cNvSpPr/>
              <p:nvPr/>
            </p:nvSpPr>
            <p:spPr>
              <a:xfrm>
                <a:off x="5725800" y="6269040"/>
                <a:ext cx="200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ellite Image - NASA</a:t>
                </a:r>
                <a:endParaRPr b="0" lang="en-US" sz="1400" spc="-1" strike="noStrike">
                  <a:solidFill>
                    <a:srgbClr val="ffffff"/>
                  </a:solidFill>
                  <a:latin typeface="Times New Roman"/>
                </a:endParaRPr>
              </a:p>
            </p:txBody>
          </p:sp>
        </p:grpSp>
        <p:sp>
          <p:nvSpPr>
            <p:cNvPr id="913" name=""/>
            <p:cNvSpPr/>
            <p:nvPr/>
          </p:nvSpPr>
          <p:spPr>
            <a:xfrm>
              <a:off x="0" y="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EBibleTeacher.com  </a:t>
              </a:r>
              <a:endParaRPr b="0" lang="en-US" sz="1400" spc="-1" strike="noStrike">
                <a:solidFill>
                  <a:srgbClr val="ffffff"/>
                </a:solidFill>
                <a:latin typeface="Times New Roman"/>
              </a:endParaRPr>
            </a:p>
          </p:txBody>
        </p:sp>
      </p:grpSp>
      <p:sp>
        <p:nvSpPr>
          <p:cNvPr id="914" name="PlaceHolder 1"/>
          <p:cNvSpPr>
            <a:spLocks noGrp="1"/>
          </p:cNvSpPr>
          <p:nvPr>
            <p:ph type="title"/>
          </p:nvPr>
        </p:nvSpPr>
        <p:spPr>
          <a:xfrm>
            <a:off x="7867440" y="609480"/>
            <a:ext cx="102852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Paul-1st Missionary Journey</a:t>
            </a:r>
            <a:endParaRPr b="1" lang="en-US" sz="100" spc="-1" strike="noStrike" u="sng">
              <a:solidFill>
                <a:srgbClr val="c0fef9"/>
              </a:solidFill>
              <a:uFillTx/>
              <a:latin typeface="Times New Roman"/>
            </a:endParaRPr>
          </a:p>
        </p:txBody>
      </p:sp>
      <p:sp>
        <p:nvSpPr>
          <p:cNvPr id="915"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981920" y="609120"/>
            <a:ext cx="914400" cy="228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Paul-2nd Missionary Journey</a:t>
            </a:r>
            <a:endParaRPr b="1" lang="en-US" sz="100" spc="-1" strike="noStrike" u="sng">
              <a:solidFill>
                <a:srgbClr val="c0fef9"/>
              </a:solidFill>
              <a:uFillTx/>
              <a:latin typeface="Times New Roman"/>
            </a:endParaRPr>
          </a:p>
        </p:txBody>
      </p:sp>
      <p:sp>
        <p:nvSpPr>
          <p:cNvPr id="917"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918" name=""/>
          <p:cNvGrpSpPr/>
          <p:nvPr/>
        </p:nvGrpSpPr>
        <p:grpSpPr>
          <a:xfrm>
            <a:off x="11160" y="228600"/>
            <a:ext cx="9124920" cy="6124680"/>
            <a:chOff x="11160" y="228600"/>
            <a:chExt cx="9124920" cy="6124680"/>
          </a:xfrm>
        </p:grpSpPr>
        <p:grpSp>
          <p:nvGrpSpPr>
            <p:cNvPr id="919" name=""/>
            <p:cNvGrpSpPr/>
            <p:nvPr/>
          </p:nvGrpSpPr>
          <p:grpSpPr>
            <a:xfrm>
              <a:off x="11160" y="228600"/>
              <a:ext cx="9124920" cy="6124680"/>
              <a:chOff x="11160" y="228600"/>
              <a:chExt cx="9124920" cy="6124680"/>
            </a:xfrm>
          </p:grpSpPr>
          <p:grpSp>
            <p:nvGrpSpPr>
              <p:cNvPr id="920" name=""/>
              <p:cNvGrpSpPr/>
              <p:nvPr/>
            </p:nvGrpSpPr>
            <p:grpSpPr>
              <a:xfrm>
                <a:off x="11160" y="228600"/>
                <a:ext cx="9124920" cy="6124680"/>
                <a:chOff x="11160" y="228600"/>
                <a:chExt cx="9124920" cy="6124680"/>
              </a:xfrm>
            </p:grpSpPr>
            <p:sp>
              <p:nvSpPr>
                <p:cNvPr id="921" name=""/>
                <p:cNvSpPr/>
                <p:nvPr/>
              </p:nvSpPr>
              <p:spPr>
                <a:xfrm>
                  <a:off x="81000" y="338040"/>
                  <a:ext cx="9055080" cy="60073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2892240" y="2890800"/>
                  <a:ext cx="1161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Israel</a:t>
                  </a:r>
                  <a:endParaRPr b="0" lang="en-US" sz="3600" spc="-1" strike="noStrike">
                    <a:solidFill>
                      <a:srgbClr val="ffffff"/>
                    </a:solidFill>
                    <a:latin typeface="Times New Roman"/>
                  </a:endParaRPr>
                </a:p>
              </p:txBody>
            </p:sp>
            <p:sp>
              <p:nvSpPr>
                <p:cNvPr id="923" name=""/>
                <p:cNvSpPr/>
                <p:nvPr/>
              </p:nvSpPr>
              <p:spPr>
                <a:xfrm>
                  <a:off x="11160" y="268200"/>
                  <a:ext cx="6512040" cy="4092840"/>
                </a:xfrm>
                <a:custGeom>
                  <a:avLst/>
                  <a:gdLst/>
                  <a:ahLst/>
                  <a:rect l="l" t="t" r="r" b="b"/>
                  <a:pathLst>
                    <a:path w="4102" h="2578">
                      <a:moveTo>
                        <a:pt x="720" y="0"/>
                      </a:moveTo>
                      <a:lnTo>
                        <a:pt x="751" y="31"/>
                      </a:lnTo>
                      <a:lnTo>
                        <a:pt x="772" y="63"/>
                      </a:lnTo>
                      <a:lnTo>
                        <a:pt x="803" y="83"/>
                      </a:lnTo>
                      <a:lnTo>
                        <a:pt x="824" y="115"/>
                      </a:lnTo>
                      <a:lnTo>
                        <a:pt x="845" y="146"/>
                      </a:lnTo>
                      <a:lnTo>
                        <a:pt x="856" y="177"/>
                      </a:lnTo>
                      <a:lnTo>
                        <a:pt x="866" y="209"/>
                      </a:lnTo>
                      <a:lnTo>
                        <a:pt x="877" y="240"/>
                      </a:lnTo>
                      <a:lnTo>
                        <a:pt x="877" y="271"/>
                      </a:lnTo>
                      <a:lnTo>
                        <a:pt x="877" y="303"/>
                      </a:lnTo>
                      <a:lnTo>
                        <a:pt x="877" y="334"/>
                      </a:lnTo>
                      <a:lnTo>
                        <a:pt x="877" y="365"/>
                      </a:lnTo>
                      <a:lnTo>
                        <a:pt x="866" y="397"/>
                      </a:lnTo>
                      <a:lnTo>
                        <a:pt x="866" y="428"/>
                      </a:lnTo>
                      <a:lnTo>
                        <a:pt x="866" y="459"/>
                      </a:lnTo>
                      <a:lnTo>
                        <a:pt x="866" y="490"/>
                      </a:lnTo>
                      <a:lnTo>
                        <a:pt x="866" y="522"/>
                      </a:lnTo>
                      <a:lnTo>
                        <a:pt x="845" y="553"/>
                      </a:lnTo>
                      <a:lnTo>
                        <a:pt x="814" y="574"/>
                      </a:lnTo>
                      <a:lnTo>
                        <a:pt x="793" y="605"/>
                      </a:lnTo>
                      <a:lnTo>
                        <a:pt x="772" y="637"/>
                      </a:lnTo>
                      <a:lnTo>
                        <a:pt x="741" y="657"/>
                      </a:lnTo>
                      <a:lnTo>
                        <a:pt x="710" y="637"/>
                      </a:lnTo>
                      <a:lnTo>
                        <a:pt x="678" y="616"/>
                      </a:lnTo>
                      <a:lnTo>
                        <a:pt x="647" y="595"/>
                      </a:lnTo>
                      <a:lnTo>
                        <a:pt x="616" y="574"/>
                      </a:lnTo>
                      <a:lnTo>
                        <a:pt x="584" y="563"/>
                      </a:lnTo>
                      <a:lnTo>
                        <a:pt x="553" y="563"/>
                      </a:lnTo>
                      <a:lnTo>
                        <a:pt x="522" y="553"/>
                      </a:lnTo>
                      <a:lnTo>
                        <a:pt x="449" y="553"/>
                      </a:lnTo>
                      <a:lnTo>
                        <a:pt x="417" y="543"/>
                      </a:lnTo>
                      <a:lnTo>
                        <a:pt x="386" y="543"/>
                      </a:lnTo>
                      <a:lnTo>
                        <a:pt x="355" y="543"/>
                      </a:lnTo>
                      <a:lnTo>
                        <a:pt x="323" y="532"/>
                      </a:lnTo>
                      <a:lnTo>
                        <a:pt x="292" y="522"/>
                      </a:lnTo>
                      <a:lnTo>
                        <a:pt x="261" y="511"/>
                      </a:lnTo>
                      <a:lnTo>
                        <a:pt x="230" y="501"/>
                      </a:lnTo>
                      <a:lnTo>
                        <a:pt x="198" y="490"/>
                      </a:lnTo>
                      <a:lnTo>
                        <a:pt x="177" y="522"/>
                      </a:lnTo>
                      <a:lnTo>
                        <a:pt x="177" y="553"/>
                      </a:lnTo>
                      <a:lnTo>
                        <a:pt x="177" y="584"/>
                      </a:lnTo>
                      <a:lnTo>
                        <a:pt x="177" y="616"/>
                      </a:lnTo>
                      <a:lnTo>
                        <a:pt x="177" y="647"/>
                      </a:lnTo>
                      <a:lnTo>
                        <a:pt x="177" y="678"/>
                      </a:lnTo>
                      <a:lnTo>
                        <a:pt x="177" y="710"/>
                      </a:lnTo>
                      <a:lnTo>
                        <a:pt x="177" y="741"/>
                      </a:lnTo>
                      <a:lnTo>
                        <a:pt x="177" y="772"/>
                      </a:lnTo>
                      <a:lnTo>
                        <a:pt x="177" y="803"/>
                      </a:lnTo>
                      <a:lnTo>
                        <a:pt x="177" y="835"/>
                      </a:lnTo>
                      <a:lnTo>
                        <a:pt x="146" y="845"/>
                      </a:lnTo>
                      <a:lnTo>
                        <a:pt x="125" y="877"/>
                      </a:lnTo>
                      <a:lnTo>
                        <a:pt x="94" y="908"/>
                      </a:lnTo>
                      <a:lnTo>
                        <a:pt x="83" y="939"/>
                      </a:lnTo>
                      <a:lnTo>
                        <a:pt x="73" y="970"/>
                      </a:lnTo>
                      <a:lnTo>
                        <a:pt x="73" y="1002"/>
                      </a:lnTo>
                      <a:lnTo>
                        <a:pt x="73" y="1033"/>
                      </a:lnTo>
                      <a:lnTo>
                        <a:pt x="73" y="1064"/>
                      </a:lnTo>
                      <a:lnTo>
                        <a:pt x="73" y="1096"/>
                      </a:lnTo>
                      <a:lnTo>
                        <a:pt x="83" y="1127"/>
                      </a:lnTo>
                      <a:lnTo>
                        <a:pt x="83" y="1158"/>
                      </a:lnTo>
                      <a:lnTo>
                        <a:pt x="94" y="1190"/>
                      </a:lnTo>
                      <a:lnTo>
                        <a:pt x="94" y="1221"/>
                      </a:lnTo>
                      <a:lnTo>
                        <a:pt x="94" y="1252"/>
                      </a:lnTo>
                      <a:lnTo>
                        <a:pt x="94" y="1283"/>
                      </a:lnTo>
                      <a:lnTo>
                        <a:pt x="125" y="1294"/>
                      </a:lnTo>
                      <a:lnTo>
                        <a:pt x="157" y="1304"/>
                      </a:lnTo>
                      <a:lnTo>
                        <a:pt x="188" y="1304"/>
                      </a:lnTo>
                      <a:lnTo>
                        <a:pt x="209" y="1336"/>
                      </a:lnTo>
                      <a:lnTo>
                        <a:pt x="240" y="1367"/>
                      </a:lnTo>
                      <a:lnTo>
                        <a:pt x="261" y="1398"/>
                      </a:lnTo>
                      <a:lnTo>
                        <a:pt x="292" y="1409"/>
                      </a:lnTo>
                      <a:lnTo>
                        <a:pt x="323" y="1409"/>
                      </a:lnTo>
                      <a:lnTo>
                        <a:pt x="355" y="1409"/>
                      </a:lnTo>
                      <a:lnTo>
                        <a:pt x="386" y="1409"/>
                      </a:lnTo>
                      <a:lnTo>
                        <a:pt x="417" y="1409"/>
                      </a:lnTo>
                      <a:lnTo>
                        <a:pt x="449" y="1409"/>
                      </a:lnTo>
                      <a:lnTo>
                        <a:pt x="480" y="1409"/>
                      </a:lnTo>
                      <a:lnTo>
                        <a:pt x="511" y="1409"/>
                      </a:lnTo>
                      <a:lnTo>
                        <a:pt x="543" y="1409"/>
                      </a:lnTo>
                      <a:lnTo>
                        <a:pt x="574" y="1409"/>
                      </a:lnTo>
                      <a:lnTo>
                        <a:pt x="605" y="1409"/>
                      </a:lnTo>
                      <a:lnTo>
                        <a:pt x="637" y="1409"/>
                      </a:lnTo>
                      <a:lnTo>
                        <a:pt x="668" y="1409"/>
                      </a:lnTo>
                      <a:lnTo>
                        <a:pt x="689" y="1377"/>
                      </a:lnTo>
                      <a:lnTo>
                        <a:pt x="720" y="1367"/>
                      </a:lnTo>
                      <a:lnTo>
                        <a:pt x="741" y="1336"/>
                      </a:lnTo>
                      <a:lnTo>
                        <a:pt x="772" y="1315"/>
                      </a:lnTo>
                      <a:lnTo>
                        <a:pt x="803" y="1283"/>
                      </a:lnTo>
                      <a:lnTo>
                        <a:pt x="835" y="1252"/>
                      </a:lnTo>
                      <a:lnTo>
                        <a:pt x="866" y="1231"/>
                      </a:lnTo>
                      <a:lnTo>
                        <a:pt x="866" y="1200"/>
                      </a:lnTo>
                      <a:lnTo>
                        <a:pt x="866" y="1169"/>
                      </a:lnTo>
                      <a:lnTo>
                        <a:pt x="866" y="1075"/>
                      </a:lnTo>
                      <a:lnTo>
                        <a:pt x="887" y="1043"/>
                      </a:lnTo>
                      <a:lnTo>
                        <a:pt x="918" y="1033"/>
                      </a:lnTo>
                      <a:lnTo>
                        <a:pt x="950" y="1023"/>
                      </a:lnTo>
                      <a:lnTo>
                        <a:pt x="981" y="1012"/>
                      </a:lnTo>
                      <a:lnTo>
                        <a:pt x="1012" y="1002"/>
                      </a:lnTo>
                      <a:lnTo>
                        <a:pt x="1043" y="981"/>
                      </a:lnTo>
                      <a:lnTo>
                        <a:pt x="1064" y="950"/>
                      </a:lnTo>
                      <a:lnTo>
                        <a:pt x="1085" y="918"/>
                      </a:lnTo>
                      <a:lnTo>
                        <a:pt x="1096" y="887"/>
                      </a:lnTo>
                      <a:lnTo>
                        <a:pt x="1106" y="856"/>
                      </a:lnTo>
                      <a:lnTo>
                        <a:pt x="1137" y="824"/>
                      </a:lnTo>
                      <a:lnTo>
                        <a:pt x="1158" y="793"/>
                      </a:lnTo>
                      <a:lnTo>
                        <a:pt x="1190" y="783"/>
                      </a:lnTo>
                      <a:lnTo>
                        <a:pt x="1221" y="772"/>
                      </a:lnTo>
                      <a:lnTo>
                        <a:pt x="1252" y="772"/>
                      </a:lnTo>
                      <a:lnTo>
                        <a:pt x="1283" y="783"/>
                      </a:lnTo>
                      <a:lnTo>
                        <a:pt x="1315" y="793"/>
                      </a:lnTo>
                      <a:lnTo>
                        <a:pt x="1346" y="803"/>
                      </a:lnTo>
                      <a:lnTo>
                        <a:pt x="1377" y="814"/>
                      </a:lnTo>
                      <a:lnTo>
                        <a:pt x="1409" y="814"/>
                      </a:lnTo>
                      <a:lnTo>
                        <a:pt x="1440" y="814"/>
                      </a:lnTo>
                      <a:lnTo>
                        <a:pt x="1471" y="814"/>
                      </a:lnTo>
                      <a:lnTo>
                        <a:pt x="1503" y="793"/>
                      </a:lnTo>
                      <a:lnTo>
                        <a:pt x="1534" y="772"/>
                      </a:lnTo>
                      <a:lnTo>
                        <a:pt x="1565" y="762"/>
                      </a:lnTo>
                      <a:lnTo>
                        <a:pt x="1597" y="762"/>
                      </a:lnTo>
                      <a:lnTo>
                        <a:pt x="1628" y="762"/>
                      </a:lnTo>
                      <a:lnTo>
                        <a:pt x="1659" y="762"/>
                      </a:lnTo>
                      <a:lnTo>
                        <a:pt x="1690" y="783"/>
                      </a:lnTo>
                      <a:lnTo>
                        <a:pt x="1722" y="793"/>
                      </a:lnTo>
                      <a:lnTo>
                        <a:pt x="1732" y="824"/>
                      </a:lnTo>
                      <a:lnTo>
                        <a:pt x="1732" y="856"/>
                      </a:lnTo>
                      <a:lnTo>
                        <a:pt x="1732" y="887"/>
                      </a:lnTo>
                      <a:lnTo>
                        <a:pt x="1732" y="918"/>
                      </a:lnTo>
                      <a:lnTo>
                        <a:pt x="1732" y="950"/>
                      </a:lnTo>
                      <a:lnTo>
                        <a:pt x="1743" y="981"/>
                      </a:lnTo>
                      <a:lnTo>
                        <a:pt x="1763" y="1012"/>
                      </a:lnTo>
                      <a:lnTo>
                        <a:pt x="1784" y="1043"/>
                      </a:lnTo>
                      <a:lnTo>
                        <a:pt x="1805" y="1075"/>
                      </a:lnTo>
                      <a:lnTo>
                        <a:pt x="1837" y="1096"/>
                      </a:lnTo>
                      <a:lnTo>
                        <a:pt x="1857" y="1127"/>
                      </a:lnTo>
                      <a:lnTo>
                        <a:pt x="1889" y="1148"/>
                      </a:lnTo>
                      <a:lnTo>
                        <a:pt x="1920" y="1169"/>
                      </a:lnTo>
                      <a:lnTo>
                        <a:pt x="1941" y="1200"/>
                      </a:lnTo>
                      <a:lnTo>
                        <a:pt x="1962" y="1231"/>
                      </a:lnTo>
                      <a:lnTo>
                        <a:pt x="1983" y="1263"/>
                      </a:lnTo>
                      <a:lnTo>
                        <a:pt x="2014" y="1283"/>
                      </a:lnTo>
                      <a:lnTo>
                        <a:pt x="2035" y="1315"/>
                      </a:lnTo>
                      <a:lnTo>
                        <a:pt x="2045" y="1346"/>
                      </a:lnTo>
                      <a:lnTo>
                        <a:pt x="2066" y="1377"/>
                      </a:lnTo>
                      <a:lnTo>
                        <a:pt x="2077" y="1409"/>
                      </a:lnTo>
                      <a:lnTo>
                        <a:pt x="2087" y="1440"/>
                      </a:lnTo>
                      <a:lnTo>
                        <a:pt x="2097" y="1471"/>
                      </a:lnTo>
                      <a:lnTo>
                        <a:pt x="2097" y="1503"/>
                      </a:lnTo>
                      <a:lnTo>
                        <a:pt x="2097" y="1534"/>
                      </a:lnTo>
                      <a:lnTo>
                        <a:pt x="2097" y="1565"/>
                      </a:lnTo>
                      <a:lnTo>
                        <a:pt x="2097" y="1597"/>
                      </a:lnTo>
                      <a:lnTo>
                        <a:pt x="2129" y="1628"/>
                      </a:lnTo>
                      <a:lnTo>
                        <a:pt x="2160" y="1649"/>
                      </a:lnTo>
                      <a:lnTo>
                        <a:pt x="2191" y="1649"/>
                      </a:lnTo>
                      <a:lnTo>
                        <a:pt x="2212" y="1617"/>
                      </a:lnTo>
                      <a:lnTo>
                        <a:pt x="2223" y="1586"/>
                      </a:lnTo>
                      <a:lnTo>
                        <a:pt x="2233" y="1555"/>
                      </a:lnTo>
                      <a:lnTo>
                        <a:pt x="2233" y="1523"/>
                      </a:lnTo>
                      <a:lnTo>
                        <a:pt x="2223" y="1492"/>
                      </a:lnTo>
                      <a:lnTo>
                        <a:pt x="2223" y="1461"/>
                      </a:lnTo>
                      <a:lnTo>
                        <a:pt x="2223" y="1430"/>
                      </a:lnTo>
                      <a:lnTo>
                        <a:pt x="2223" y="1398"/>
                      </a:lnTo>
                      <a:lnTo>
                        <a:pt x="2254" y="1388"/>
                      </a:lnTo>
                      <a:lnTo>
                        <a:pt x="2285" y="1388"/>
                      </a:lnTo>
                      <a:lnTo>
                        <a:pt x="2317" y="1398"/>
                      </a:lnTo>
                      <a:lnTo>
                        <a:pt x="2348" y="1409"/>
                      </a:lnTo>
                      <a:lnTo>
                        <a:pt x="2358" y="1377"/>
                      </a:lnTo>
                      <a:lnTo>
                        <a:pt x="2358" y="1346"/>
                      </a:lnTo>
                      <a:lnTo>
                        <a:pt x="2348" y="1315"/>
                      </a:lnTo>
                      <a:lnTo>
                        <a:pt x="2337" y="1283"/>
                      </a:lnTo>
                      <a:lnTo>
                        <a:pt x="2306" y="1273"/>
                      </a:lnTo>
                      <a:lnTo>
                        <a:pt x="2275" y="1242"/>
                      </a:lnTo>
                      <a:lnTo>
                        <a:pt x="2254" y="1210"/>
                      </a:lnTo>
                      <a:lnTo>
                        <a:pt x="2223" y="1190"/>
                      </a:lnTo>
                      <a:lnTo>
                        <a:pt x="2202" y="1158"/>
                      </a:lnTo>
                      <a:lnTo>
                        <a:pt x="2170" y="1137"/>
                      </a:lnTo>
                      <a:lnTo>
                        <a:pt x="2139" y="1117"/>
                      </a:lnTo>
                      <a:lnTo>
                        <a:pt x="2118" y="1085"/>
                      </a:lnTo>
                      <a:lnTo>
                        <a:pt x="2108" y="1054"/>
                      </a:lnTo>
                      <a:lnTo>
                        <a:pt x="2097" y="1023"/>
                      </a:lnTo>
                      <a:lnTo>
                        <a:pt x="2087" y="991"/>
                      </a:lnTo>
                      <a:lnTo>
                        <a:pt x="2066" y="960"/>
                      </a:lnTo>
                      <a:lnTo>
                        <a:pt x="2045" y="929"/>
                      </a:lnTo>
                      <a:lnTo>
                        <a:pt x="2014" y="897"/>
                      </a:lnTo>
                      <a:lnTo>
                        <a:pt x="2003" y="866"/>
                      </a:lnTo>
                      <a:lnTo>
                        <a:pt x="1983" y="835"/>
                      </a:lnTo>
                      <a:lnTo>
                        <a:pt x="1962" y="803"/>
                      </a:lnTo>
                      <a:lnTo>
                        <a:pt x="1941" y="772"/>
                      </a:lnTo>
                      <a:lnTo>
                        <a:pt x="1920" y="741"/>
                      </a:lnTo>
                      <a:lnTo>
                        <a:pt x="1899" y="710"/>
                      </a:lnTo>
                      <a:lnTo>
                        <a:pt x="1910" y="678"/>
                      </a:lnTo>
                      <a:lnTo>
                        <a:pt x="1941" y="668"/>
                      </a:lnTo>
                      <a:lnTo>
                        <a:pt x="1972" y="668"/>
                      </a:lnTo>
                      <a:lnTo>
                        <a:pt x="2003" y="668"/>
                      </a:lnTo>
                      <a:lnTo>
                        <a:pt x="2035" y="689"/>
                      </a:lnTo>
                      <a:lnTo>
                        <a:pt x="2056" y="720"/>
                      </a:lnTo>
                      <a:lnTo>
                        <a:pt x="2087" y="751"/>
                      </a:lnTo>
                      <a:lnTo>
                        <a:pt x="2108" y="783"/>
                      </a:lnTo>
                      <a:lnTo>
                        <a:pt x="2129" y="814"/>
                      </a:lnTo>
                      <a:lnTo>
                        <a:pt x="2139" y="845"/>
                      </a:lnTo>
                      <a:lnTo>
                        <a:pt x="2160" y="877"/>
                      </a:lnTo>
                      <a:lnTo>
                        <a:pt x="2191" y="908"/>
                      </a:lnTo>
                      <a:lnTo>
                        <a:pt x="2202" y="939"/>
                      </a:lnTo>
                      <a:lnTo>
                        <a:pt x="2233" y="970"/>
                      </a:lnTo>
                      <a:lnTo>
                        <a:pt x="2254" y="1002"/>
                      </a:lnTo>
                      <a:lnTo>
                        <a:pt x="2285" y="1033"/>
                      </a:lnTo>
                      <a:lnTo>
                        <a:pt x="2296" y="1064"/>
                      </a:lnTo>
                      <a:lnTo>
                        <a:pt x="2317" y="1096"/>
                      </a:lnTo>
                      <a:lnTo>
                        <a:pt x="2348" y="1127"/>
                      </a:lnTo>
                      <a:lnTo>
                        <a:pt x="2379" y="1158"/>
                      </a:lnTo>
                      <a:lnTo>
                        <a:pt x="2410" y="1190"/>
                      </a:lnTo>
                      <a:lnTo>
                        <a:pt x="2431" y="1221"/>
                      </a:lnTo>
                      <a:lnTo>
                        <a:pt x="2452" y="1252"/>
                      </a:lnTo>
                      <a:lnTo>
                        <a:pt x="2463" y="1283"/>
                      </a:lnTo>
                      <a:lnTo>
                        <a:pt x="2473" y="1315"/>
                      </a:lnTo>
                      <a:lnTo>
                        <a:pt x="2473" y="1346"/>
                      </a:lnTo>
                      <a:lnTo>
                        <a:pt x="2473" y="1377"/>
                      </a:lnTo>
                      <a:lnTo>
                        <a:pt x="2473" y="1409"/>
                      </a:lnTo>
                      <a:lnTo>
                        <a:pt x="2473" y="1440"/>
                      </a:lnTo>
                      <a:lnTo>
                        <a:pt x="2504" y="1461"/>
                      </a:lnTo>
                      <a:lnTo>
                        <a:pt x="2536" y="1482"/>
                      </a:lnTo>
                      <a:lnTo>
                        <a:pt x="2557" y="1513"/>
                      </a:lnTo>
                      <a:lnTo>
                        <a:pt x="2557" y="1544"/>
                      </a:lnTo>
                      <a:lnTo>
                        <a:pt x="2557" y="1576"/>
                      </a:lnTo>
                      <a:lnTo>
                        <a:pt x="2557" y="1607"/>
                      </a:lnTo>
                      <a:lnTo>
                        <a:pt x="2588" y="1628"/>
                      </a:lnTo>
                      <a:lnTo>
                        <a:pt x="2619" y="1649"/>
                      </a:lnTo>
                      <a:lnTo>
                        <a:pt x="2650" y="1670"/>
                      </a:lnTo>
                      <a:lnTo>
                        <a:pt x="2682" y="1690"/>
                      </a:lnTo>
                      <a:lnTo>
                        <a:pt x="2713" y="1711"/>
                      </a:lnTo>
                      <a:lnTo>
                        <a:pt x="2744" y="1711"/>
                      </a:lnTo>
                      <a:lnTo>
                        <a:pt x="2776" y="1711"/>
                      </a:lnTo>
                      <a:lnTo>
                        <a:pt x="2807" y="1701"/>
                      </a:lnTo>
                      <a:lnTo>
                        <a:pt x="2828" y="1670"/>
                      </a:lnTo>
                      <a:lnTo>
                        <a:pt x="2849" y="1638"/>
                      </a:lnTo>
                      <a:lnTo>
                        <a:pt x="2859" y="1607"/>
                      </a:lnTo>
                      <a:lnTo>
                        <a:pt x="2870" y="1576"/>
                      </a:lnTo>
                      <a:lnTo>
                        <a:pt x="2859" y="1544"/>
                      </a:lnTo>
                      <a:lnTo>
                        <a:pt x="2838" y="1513"/>
                      </a:lnTo>
                      <a:lnTo>
                        <a:pt x="2817" y="1482"/>
                      </a:lnTo>
                      <a:lnTo>
                        <a:pt x="2797" y="1450"/>
                      </a:lnTo>
                      <a:lnTo>
                        <a:pt x="2786" y="1419"/>
                      </a:lnTo>
                      <a:lnTo>
                        <a:pt x="2786" y="1388"/>
                      </a:lnTo>
                      <a:lnTo>
                        <a:pt x="2817" y="1357"/>
                      </a:lnTo>
                      <a:lnTo>
                        <a:pt x="2849" y="1336"/>
                      </a:lnTo>
                      <a:lnTo>
                        <a:pt x="2880" y="1325"/>
                      </a:lnTo>
                      <a:lnTo>
                        <a:pt x="2911" y="1315"/>
                      </a:lnTo>
                      <a:lnTo>
                        <a:pt x="2943" y="1294"/>
                      </a:lnTo>
                      <a:lnTo>
                        <a:pt x="2974" y="1273"/>
                      </a:lnTo>
                      <a:lnTo>
                        <a:pt x="2984" y="1190"/>
                      </a:lnTo>
                      <a:lnTo>
                        <a:pt x="2995" y="1106"/>
                      </a:lnTo>
                      <a:lnTo>
                        <a:pt x="3026" y="1096"/>
                      </a:lnTo>
                      <a:lnTo>
                        <a:pt x="3057" y="1096"/>
                      </a:lnTo>
                      <a:lnTo>
                        <a:pt x="3089" y="1096"/>
                      </a:lnTo>
                      <a:lnTo>
                        <a:pt x="3120" y="1106"/>
                      </a:lnTo>
                      <a:lnTo>
                        <a:pt x="3151" y="1127"/>
                      </a:lnTo>
                      <a:lnTo>
                        <a:pt x="3183" y="1148"/>
                      </a:lnTo>
                      <a:lnTo>
                        <a:pt x="3214" y="1158"/>
                      </a:lnTo>
                      <a:lnTo>
                        <a:pt x="3235" y="1127"/>
                      </a:lnTo>
                      <a:lnTo>
                        <a:pt x="3235" y="1096"/>
                      </a:lnTo>
                      <a:lnTo>
                        <a:pt x="3235" y="1064"/>
                      </a:lnTo>
                      <a:lnTo>
                        <a:pt x="3214" y="1033"/>
                      </a:lnTo>
                      <a:lnTo>
                        <a:pt x="3193" y="1002"/>
                      </a:lnTo>
                      <a:lnTo>
                        <a:pt x="3183" y="970"/>
                      </a:lnTo>
                      <a:lnTo>
                        <a:pt x="3183" y="939"/>
                      </a:lnTo>
                      <a:lnTo>
                        <a:pt x="3183" y="908"/>
                      </a:lnTo>
                      <a:lnTo>
                        <a:pt x="3183" y="877"/>
                      </a:lnTo>
                      <a:lnTo>
                        <a:pt x="3183" y="845"/>
                      </a:lnTo>
                      <a:lnTo>
                        <a:pt x="3183" y="814"/>
                      </a:lnTo>
                      <a:lnTo>
                        <a:pt x="3183" y="783"/>
                      </a:lnTo>
                      <a:lnTo>
                        <a:pt x="3183" y="751"/>
                      </a:lnTo>
                      <a:lnTo>
                        <a:pt x="3193" y="668"/>
                      </a:lnTo>
                      <a:lnTo>
                        <a:pt x="3193" y="637"/>
                      </a:lnTo>
                      <a:lnTo>
                        <a:pt x="3203" y="605"/>
                      </a:lnTo>
                      <a:lnTo>
                        <a:pt x="3235" y="574"/>
                      </a:lnTo>
                      <a:lnTo>
                        <a:pt x="3266" y="563"/>
                      </a:lnTo>
                      <a:lnTo>
                        <a:pt x="3297" y="543"/>
                      </a:lnTo>
                      <a:lnTo>
                        <a:pt x="3329" y="532"/>
                      </a:lnTo>
                      <a:lnTo>
                        <a:pt x="3360" y="522"/>
                      </a:lnTo>
                      <a:lnTo>
                        <a:pt x="3391" y="522"/>
                      </a:lnTo>
                      <a:lnTo>
                        <a:pt x="3423" y="522"/>
                      </a:lnTo>
                      <a:lnTo>
                        <a:pt x="3454" y="553"/>
                      </a:lnTo>
                      <a:lnTo>
                        <a:pt x="3475" y="584"/>
                      </a:lnTo>
                      <a:lnTo>
                        <a:pt x="3475" y="616"/>
                      </a:lnTo>
                      <a:lnTo>
                        <a:pt x="3496" y="647"/>
                      </a:lnTo>
                      <a:lnTo>
                        <a:pt x="3527" y="668"/>
                      </a:lnTo>
                      <a:lnTo>
                        <a:pt x="3558" y="699"/>
                      </a:lnTo>
                      <a:lnTo>
                        <a:pt x="3590" y="710"/>
                      </a:lnTo>
                      <a:lnTo>
                        <a:pt x="3621" y="710"/>
                      </a:lnTo>
                      <a:lnTo>
                        <a:pt x="3652" y="699"/>
                      </a:lnTo>
                      <a:lnTo>
                        <a:pt x="3673" y="668"/>
                      </a:lnTo>
                      <a:lnTo>
                        <a:pt x="3694" y="637"/>
                      </a:lnTo>
                      <a:lnTo>
                        <a:pt x="3704" y="605"/>
                      </a:lnTo>
                      <a:lnTo>
                        <a:pt x="3694" y="574"/>
                      </a:lnTo>
                      <a:lnTo>
                        <a:pt x="3673" y="543"/>
                      </a:lnTo>
                      <a:lnTo>
                        <a:pt x="3652" y="511"/>
                      </a:lnTo>
                      <a:lnTo>
                        <a:pt x="3652" y="480"/>
                      </a:lnTo>
                      <a:lnTo>
                        <a:pt x="3652" y="449"/>
                      </a:lnTo>
                      <a:lnTo>
                        <a:pt x="3673" y="417"/>
                      </a:lnTo>
                      <a:lnTo>
                        <a:pt x="3704" y="397"/>
                      </a:lnTo>
                      <a:lnTo>
                        <a:pt x="3736" y="386"/>
                      </a:lnTo>
                      <a:lnTo>
                        <a:pt x="3767" y="365"/>
                      </a:lnTo>
                      <a:lnTo>
                        <a:pt x="3777" y="397"/>
                      </a:lnTo>
                      <a:lnTo>
                        <a:pt x="3798" y="428"/>
                      </a:lnTo>
                      <a:lnTo>
                        <a:pt x="3819" y="459"/>
                      </a:lnTo>
                      <a:lnTo>
                        <a:pt x="3809" y="490"/>
                      </a:lnTo>
                      <a:lnTo>
                        <a:pt x="3788" y="522"/>
                      </a:lnTo>
                      <a:lnTo>
                        <a:pt x="3767" y="553"/>
                      </a:lnTo>
                      <a:lnTo>
                        <a:pt x="3767" y="584"/>
                      </a:lnTo>
                      <a:lnTo>
                        <a:pt x="3767" y="616"/>
                      </a:lnTo>
                      <a:lnTo>
                        <a:pt x="3798" y="637"/>
                      </a:lnTo>
                      <a:lnTo>
                        <a:pt x="3830" y="668"/>
                      </a:lnTo>
                      <a:lnTo>
                        <a:pt x="3861" y="678"/>
                      </a:lnTo>
                      <a:lnTo>
                        <a:pt x="3892" y="689"/>
                      </a:lnTo>
                      <a:lnTo>
                        <a:pt x="3923" y="710"/>
                      </a:lnTo>
                      <a:lnTo>
                        <a:pt x="3955" y="720"/>
                      </a:lnTo>
                      <a:lnTo>
                        <a:pt x="3986" y="730"/>
                      </a:lnTo>
                      <a:lnTo>
                        <a:pt x="4017" y="751"/>
                      </a:lnTo>
                      <a:lnTo>
                        <a:pt x="4049" y="783"/>
                      </a:lnTo>
                      <a:lnTo>
                        <a:pt x="4070" y="814"/>
                      </a:lnTo>
                      <a:lnTo>
                        <a:pt x="4090" y="845"/>
                      </a:lnTo>
                      <a:lnTo>
                        <a:pt x="4101" y="877"/>
                      </a:lnTo>
                      <a:lnTo>
                        <a:pt x="4080" y="908"/>
                      </a:lnTo>
                      <a:lnTo>
                        <a:pt x="4070" y="939"/>
                      </a:lnTo>
                      <a:lnTo>
                        <a:pt x="4038" y="950"/>
                      </a:lnTo>
                      <a:lnTo>
                        <a:pt x="4007" y="950"/>
                      </a:lnTo>
                      <a:lnTo>
                        <a:pt x="3976" y="950"/>
                      </a:lnTo>
                      <a:lnTo>
                        <a:pt x="3944" y="950"/>
                      </a:lnTo>
                      <a:lnTo>
                        <a:pt x="3913" y="950"/>
                      </a:lnTo>
                      <a:lnTo>
                        <a:pt x="3882" y="950"/>
                      </a:lnTo>
                      <a:lnTo>
                        <a:pt x="3850" y="950"/>
                      </a:lnTo>
                      <a:lnTo>
                        <a:pt x="3819" y="960"/>
                      </a:lnTo>
                      <a:lnTo>
                        <a:pt x="3788" y="960"/>
                      </a:lnTo>
                      <a:lnTo>
                        <a:pt x="3757" y="960"/>
                      </a:lnTo>
                      <a:lnTo>
                        <a:pt x="3725" y="960"/>
                      </a:lnTo>
                      <a:lnTo>
                        <a:pt x="3694" y="970"/>
                      </a:lnTo>
                      <a:lnTo>
                        <a:pt x="3663" y="981"/>
                      </a:lnTo>
                      <a:lnTo>
                        <a:pt x="3631" y="1002"/>
                      </a:lnTo>
                      <a:lnTo>
                        <a:pt x="3600" y="1012"/>
                      </a:lnTo>
                      <a:lnTo>
                        <a:pt x="3569" y="1033"/>
                      </a:lnTo>
                      <a:lnTo>
                        <a:pt x="3537" y="1064"/>
                      </a:lnTo>
                      <a:lnTo>
                        <a:pt x="3506" y="1085"/>
                      </a:lnTo>
                      <a:lnTo>
                        <a:pt x="3475" y="1106"/>
                      </a:lnTo>
                      <a:lnTo>
                        <a:pt x="3454" y="1137"/>
                      </a:lnTo>
                      <a:lnTo>
                        <a:pt x="3423" y="1158"/>
                      </a:lnTo>
                      <a:lnTo>
                        <a:pt x="3391" y="1179"/>
                      </a:lnTo>
                      <a:lnTo>
                        <a:pt x="3360" y="1190"/>
                      </a:lnTo>
                      <a:lnTo>
                        <a:pt x="3329" y="1200"/>
                      </a:lnTo>
                      <a:lnTo>
                        <a:pt x="3297" y="1221"/>
                      </a:lnTo>
                      <a:lnTo>
                        <a:pt x="3266" y="1252"/>
                      </a:lnTo>
                      <a:lnTo>
                        <a:pt x="3235" y="1273"/>
                      </a:lnTo>
                      <a:lnTo>
                        <a:pt x="3203" y="1283"/>
                      </a:lnTo>
                      <a:lnTo>
                        <a:pt x="3172" y="1294"/>
                      </a:lnTo>
                      <a:lnTo>
                        <a:pt x="3141" y="1304"/>
                      </a:lnTo>
                      <a:lnTo>
                        <a:pt x="3120" y="1336"/>
                      </a:lnTo>
                      <a:lnTo>
                        <a:pt x="3089" y="1357"/>
                      </a:lnTo>
                      <a:lnTo>
                        <a:pt x="3078" y="1388"/>
                      </a:lnTo>
                      <a:lnTo>
                        <a:pt x="3057" y="1419"/>
                      </a:lnTo>
                      <a:lnTo>
                        <a:pt x="3057" y="1450"/>
                      </a:lnTo>
                      <a:lnTo>
                        <a:pt x="3068" y="1482"/>
                      </a:lnTo>
                      <a:lnTo>
                        <a:pt x="3078" y="1513"/>
                      </a:lnTo>
                      <a:lnTo>
                        <a:pt x="3089" y="1544"/>
                      </a:lnTo>
                      <a:lnTo>
                        <a:pt x="3120" y="1565"/>
                      </a:lnTo>
                      <a:lnTo>
                        <a:pt x="3130" y="1597"/>
                      </a:lnTo>
                      <a:lnTo>
                        <a:pt x="3151" y="1628"/>
                      </a:lnTo>
                      <a:lnTo>
                        <a:pt x="3172" y="1659"/>
                      </a:lnTo>
                      <a:lnTo>
                        <a:pt x="3203" y="1690"/>
                      </a:lnTo>
                      <a:lnTo>
                        <a:pt x="3235" y="1711"/>
                      </a:lnTo>
                      <a:lnTo>
                        <a:pt x="3245" y="1743"/>
                      </a:lnTo>
                      <a:lnTo>
                        <a:pt x="3277" y="1763"/>
                      </a:lnTo>
                      <a:lnTo>
                        <a:pt x="3308" y="1763"/>
                      </a:lnTo>
                      <a:lnTo>
                        <a:pt x="3339" y="1763"/>
                      </a:lnTo>
                      <a:lnTo>
                        <a:pt x="3370" y="1763"/>
                      </a:lnTo>
                      <a:lnTo>
                        <a:pt x="3402" y="1763"/>
                      </a:lnTo>
                      <a:lnTo>
                        <a:pt x="3433" y="1753"/>
                      </a:lnTo>
                      <a:lnTo>
                        <a:pt x="3464" y="1743"/>
                      </a:lnTo>
                      <a:lnTo>
                        <a:pt x="3496" y="1743"/>
                      </a:lnTo>
                      <a:lnTo>
                        <a:pt x="3527" y="1743"/>
                      </a:lnTo>
                      <a:lnTo>
                        <a:pt x="3558" y="1753"/>
                      </a:lnTo>
                      <a:lnTo>
                        <a:pt x="3590" y="1763"/>
                      </a:lnTo>
                      <a:lnTo>
                        <a:pt x="3621" y="1774"/>
                      </a:lnTo>
                      <a:lnTo>
                        <a:pt x="3652" y="1774"/>
                      </a:lnTo>
                      <a:lnTo>
                        <a:pt x="3683" y="1774"/>
                      </a:lnTo>
                      <a:lnTo>
                        <a:pt x="3704" y="1743"/>
                      </a:lnTo>
                      <a:lnTo>
                        <a:pt x="3725" y="1711"/>
                      </a:lnTo>
                      <a:lnTo>
                        <a:pt x="3736" y="1680"/>
                      </a:lnTo>
                      <a:lnTo>
                        <a:pt x="3757" y="1649"/>
                      </a:lnTo>
                      <a:lnTo>
                        <a:pt x="3788" y="1628"/>
                      </a:lnTo>
                      <a:lnTo>
                        <a:pt x="3819" y="1617"/>
                      </a:lnTo>
                      <a:lnTo>
                        <a:pt x="3830" y="1649"/>
                      </a:lnTo>
                      <a:lnTo>
                        <a:pt x="3830" y="1680"/>
                      </a:lnTo>
                      <a:lnTo>
                        <a:pt x="3819" y="1711"/>
                      </a:lnTo>
                      <a:lnTo>
                        <a:pt x="3809" y="1743"/>
                      </a:lnTo>
                      <a:lnTo>
                        <a:pt x="3830" y="1774"/>
                      </a:lnTo>
                      <a:lnTo>
                        <a:pt x="3861" y="1795"/>
                      </a:lnTo>
                      <a:lnTo>
                        <a:pt x="3882" y="1826"/>
                      </a:lnTo>
                      <a:lnTo>
                        <a:pt x="3892" y="1857"/>
                      </a:lnTo>
                      <a:lnTo>
                        <a:pt x="3913" y="1889"/>
                      </a:lnTo>
                      <a:lnTo>
                        <a:pt x="3913" y="1920"/>
                      </a:lnTo>
                      <a:lnTo>
                        <a:pt x="3913" y="1951"/>
                      </a:lnTo>
                      <a:lnTo>
                        <a:pt x="3903" y="1983"/>
                      </a:lnTo>
                      <a:lnTo>
                        <a:pt x="3903" y="2014"/>
                      </a:lnTo>
                      <a:lnTo>
                        <a:pt x="3903" y="2045"/>
                      </a:lnTo>
                      <a:lnTo>
                        <a:pt x="3882" y="2077"/>
                      </a:lnTo>
                      <a:lnTo>
                        <a:pt x="3850" y="2097"/>
                      </a:lnTo>
                      <a:lnTo>
                        <a:pt x="3819" y="2118"/>
                      </a:lnTo>
                      <a:lnTo>
                        <a:pt x="3788" y="2150"/>
                      </a:lnTo>
                      <a:lnTo>
                        <a:pt x="3757" y="2170"/>
                      </a:lnTo>
                      <a:lnTo>
                        <a:pt x="3725" y="2191"/>
                      </a:lnTo>
                      <a:lnTo>
                        <a:pt x="3694" y="2212"/>
                      </a:lnTo>
                      <a:lnTo>
                        <a:pt x="3663" y="2233"/>
                      </a:lnTo>
                      <a:lnTo>
                        <a:pt x="3631" y="2264"/>
                      </a:lnTo>
                      <a:lnTo>
                        <a:pt x="3600" y="2285"/>
                      </a:lnTo>
                      <a:lnTo>
                        <a:pt x="3590" y="2317"/>
                      </a:lnTo>
                      <a:lnTo>
                        <a:pt x="3569" y="2348"/>
                      </a:lnTo>
                      <a:lnTo>
                        <a:pt x="3548" y="2379"/>
                      </a:lnTo>
                      <a:lnTo>
                        <a:pt x="3527" y="2410"/>
                      </a:lnTo>
                      <a:lnTo>
                        <a:pt x="3506" y="2442"/>
                      </a:lnTo>
                      <a:lnTo>
                        <a:pt x="3485" y="2473"/>
                      </a:lnTo>
                      <a:lnTo>
                        <a:pt x="3475" y="2504"/>
                      </a:lnTo>
                      <a:lnTo>
                        <a:pt x="3443" y="2515"/>
                      </a:lnTo>
                      <a:lnTo>
                        <a:pt x="3412" y="2515"/>
                      </a:lnTo>
                      <a:lnTo>
                        <a:pt x="3381" y="2515"/>
                      </a:lnTo>
                      <a:lnTo>
                        <a:pt x="3350" y="2515"/>
                      </a:lnTo>
                      <a:lnTo>
                        <a:pt x="3318" y="2504"/>
                      </a:lnTo>
                      <a:lnTo>
                        <a:pt x="3287" y="2504"/>
                      </a:lnTo>
                      <a:lnTo>
                        <a:pt x="3256" y="2483"/>
                      </a:lnTo>
                      <a:lnTo>
                        <a:pt x="3224" y="2463"/>
                      </a:lnTo>
                      <a:lnTo>
                        <a:pt x="3193" y="2442"/>
                      </a:lnTo>
                      <a:lnTo>
                        <a:pt x="3162" y="2442"/>
                      </a:lnTo>
                      <a:lnTo>
                        <a:pt x="3130" y="2442"/>
                      </a:lnTo>
                      <a:lnTo>
                        <a:pt x="3099" y="2442"/>
                      </a:lnTo>
                      <a:lnTo>
                        <a:pt x="3068" y="2452"/>
                      </a:lnTo>
                      <a:lnTo>
                        <a:pt x="3047" y="2483"/>
                      </a:lnTo>
                      <a:lnTo>
                        <a:pt x="3016" y="2504"/>
                      </a:lnTo>
                      <a:lnTo>
                        <a:pt x="2984" y="2504"/>
                      </a:lnTo>
                      <a:lnTo>
                        <a:pt x="2901" y="2504"/>
                      </a:lnTo>
                      <a:lnTo>
                        <a:pt x="2870" y="2504"/>
                      </a:lnTo>
                      <a:lnTo>
                        <a:pt x="2838" y="2504"/>
                      </a:lnTo>
                      <a:lnTo>
                        <a:pt x="2807" y="2504"/>
                      </a:lnTo>
                      <a:lnTo>
                        <a:pt x="2776" y="2504"/>
                      </a:lnTo>
                      <a:lnTo>
                        <a:pt x="2744" y="2494"/>
                      </a:lnTo>
                      <a:lnTo>
                        <a:pt x="2713" y="2483"/>
                      </a:lnTo>
                      <a:lnTo>
                        <a:pt x="2682" y="2452"/>
                      </a:lnTo>
                      <a:lnTo>
                        <a:pt x="2650" y="2431"/>
                      </a:lnTo>
                      <a:lnTo>
                        <a:pt x="2619" y="2410"/>
                      </a:lnTo>
                      <a:lnTo>
                        <a:pt x="2588" y="2410"/>
                      </a:lnTo>
                      <a:lnTo>
                        <a:pt x="2557" y="2400"/>
                      </a:lnTo>
                      <a:lnTo>
                        <a:pt x="2525" y="2400"/>
                      </a:lnTo>
                      <a:lnTo>
                        <a:pt x="2494" y="2400"/>
                      </a:lnTo>
                      <a:lnTo>
                        <a:pt x="2463" y="2400"/>
                      </a:lnTo>
                      <a:lnTo>
                        <a:pt x="2379" y="2400"/>
                      </a:lnTo>
                      <a:lnTo>
                        <a:pt x="2348" y="2400"/>
                      </a:lnTo>
                      <a:lnTo>
                        <a:pt x="2317" y="2400"/>
                      </a:lnTo>
                      <a:lnTo>
                        <a:pt x="2285" y="2400"/>
                      </a:lnTo>
                      <a:lnTo>
                        <a:pt x="2254" y="2400"/>
                      </a:lnTo>
                      <a:lnTo>
                        <a:pt x="2223" y="2400"/>
                      </a:lnTo>
                      <a:lnTo>
                        <a:pt x="2191" y="2410"/>
                      </a:lnTo>
                      <a:lnTo>
                        <a:pt x="2160" y="2410"/>
                      </a:lnTo>
                      <a:lnTo>
                        <a:pt x="2129" y="2421"/>
                      </a:lnTo>
                      <a:lnTo>
                        <a:pt x="2097" y="2431"/>
                      </a:lnTo>
                      <a:lnTo>
                        <a:pt x="2087" y="2463"/>
                      </a:lnTo>
                      <a:lnTo>
                        <a:pt x="2087" y="2494"/>
                      </a:lnTo>
                      <a:lnTo>
                        <a:pt x="2087" y="2525"/>
                      </a:lnTo>
                      <a:lnTo>
                        <a:pt x="2087" y="2557"/>
                      </a:lnTo>
                      <a:lnTo>
                        <a:pt x="2056" y="2577"/>
                      </a:lnTo>
                      <a:lnTo>
                        <a:pt x="2024" y="2567"/>
                      </a:lnTo>
                      <a:lnTo>
                        <a:pt x="1993" y="2546"/>
                      </a:lnTo>
                      <a:lnTo>
                        <a:pt x="1972" y="2515"/>
                      </a:lnTo>
                      <a:lnTo>
                        <a:pt x="1951" y="2483"/>
                      </a:lnTo>
                      <a:lnTo>
                        <a:pt x="1920" y="2452"/>
                      </a:lnTo>
                      <a:lnTo>
                        <a:pt x="1889" y="2431"/>
                      </a:lnTo>
                      <a:lnTo>
                        <a:pt x="1857" y="2410"/>
                      </a:lnTo>
                      <a:lnTo>
                        <a:pt x="1826" y="2390"/>
                      </a:lnTo>
                      <a:lnTo>
                        <a:pt x="1805" y="2358"/>
                      </a:lnTo>
                      <a:lnTo>
                        <a:pt x="1774" y="2337"/>
                      </a:lnTo>
                      <a:lnTo>
                        <a:pt x="1743" y="2306"/>
                      </a:lnTo>
                      <a:lnTo>
                        <a:pt x="1722" y="2275"/>
                      </a:lnTo>
                      <a:lnTo>
                        <a:pt x="1690" y="2264"/>
                      </a:lnTo>
                      <a:lnTo>
                        <a:pt x="1659" y="2254"/>
                      </a:lnTo>
                      <a:lnTo>
                        <a:pt x="1628" y="2254"/>
                      </a:lnTo>
                      <a:lnTo>
                        <a:pt x="1597" y="2254"/>
                      </a:lnTo>
                      <a:lnTo>
                        <a:pt x="1513" y="2254"/>
                      </a:lnTo>
                      <a:lnTo>
                        <a:pt x="1482" y="2233"/>
                      </a:lnTo>
                      <a:lnTo>
                        <a:pt x="1471" y="2202"/>
                      </a:lnTo>
                      <a:lnTo>
                        <a:pt x="1471" y="2170"/>
                      </a:lnTo>
                      <a:lnTo>
                        <a:pt x="1461" y="2139"/>
                      </a:lnTo>
                      <a:lnTo>
                        <a:pt x="1461" y="2108"/>
                      </a:lnTo>
                      <a:lnTo>
                        <a:pt x="1461" y="2077"/>
                      </a:lnTo>
                      <a:lnTo>
                        <a:pt x="1461" y="2045"/>
                      </a:lnTo>
                      <a:lnTo>
                        <a:pt x="1461" y="2014"/>
                      </a:lnTo>
                      <a:lnTo>
                        <a:pt x="1461" y="1983"/>
                      </a:lnTo>
                      <a:lnTo>
                        <a:pt x="1461" y="1951"/>
                      </a:lnTo>
                      <a:lnTo>
                        <a:pt x="1450" y="1920"/>
                      </a:lnTo>
                      <a:lnTo>
                        <a:pt x="1440" y="1889"/>
                      </a:lnTo>
                      <a:lnTo>
                        <a:pt x="1440" y="1857"/>
                      </a:lnTo>
                      <a:lnTo>
                        <a:pt x="1419" y="1826"/>
                      </a:lnTo>
                      <a:lnTo>
                        <a:pt x="1388" y="1805"/>
                      </a:lnTo>
                      <a:lnTo>
                        <a:pt x="1357" y="1805"/>
                      </a:lnTo>
                      <a:lnTo>
                        <a:pt x="1325" y="1805"/>
                      </a:lnTo>
                      <a:lnTo>
                        <a:pt x="1294" y="1805"/>
                      </a:lnTo>
                      <a:lnTo>
                        <a:pt x="1210" y="1805"/>
                      </a:lnTo>
                      <a:lnTo>
                        <a:pt x="1179" y="1816"/>
                      </a:lnTo>
                      <a:lnTo>
                        <a:pt x="1096" y="1816"/>
                      </a:lnTo>
                      <a:lnTo>
                        <a:pt x="1064" y="1826"/>
                      </a:lnTo>
                      <a:lnTo>
                        <a:pt x="1033" y="1826"/>
                      </a:lnTo>
                      <a:lnTo>
                        <a:pt x="1002" y="1826"/>
                      </a:lnTo>
                      <a:lnTo>
                        <a:pt x="970" y="1826"/>
                      </a:lnTo>
                      <a:lnTo>
                        <a:pt x="939" y="1826"/>
                      </a:lnTo>
                      <a:lnTo>
                        <a:pt x="908" y="1805"/>
                      </a:lnTo>
                      <a:lnTo>
                        <a:pt x="877" y="1784"/>
                      </a:lnTo>
                      <a:lnTo>
                        <a:pt x="845" y="1763"/>
                      </a:lnTo>
                      <a:lnTo>
                        <a:pt x="814" y="1732"/>
                      </a:lnTo>
                      <a:lnTo>
                        <a:pt x="783" y="1722"/>
                      </a:lnTo>
                      <a:lnTo>
                        <a:pt x="751" y="1711"/>
                      </a:lnTo>
                      <a:lnTo>
                        <a:pt x="678" y="1701"/>
                      </a:lnTo>
                      <a:lnTo>
                        <a:pt x="605" y="1701"/>
                      </a:lnTo>
                      <a:lnTo>
                        <a:pt x="522" y="1690"/>
                      </a:lnTo>
                      <a:lnTo>
                        <a:pt x="490" y="1680"/>
                      </a:lnTo>
                      <a:lnTo>
                        <a:pt x="459" y="1680"/>
                      </a:lnTo>
                      <a:lnTo>
                        <a:pt x="428" y="1649"/>
                      </a:lnTo>
                      <a:lnTo>
                        <a:pt x="407" y="1617"/>
                      </a:lnTo>
                      <a:lnTo>
                        <a:pt x="376" y="1597"/>
                      </a:lnTo>
                      <a:lnTo>
                        <a:pt x="344" y="1576"/>
                      </a:lnTo>
                      <a:lnTo>
                        <a:pt x="313" y="1576"/>
                      </a:lnTo>
                      <a:lnTo>
                        <a:pt x="282" y="1576"/>
                      </a:lnTo>
                      <a:lnTo>
                        <a:pt x="209" y="1576"/>
                      </a:lnTo>
                      <a:lnTo>
                        <a:pt x="177" y="1586"/>
                      </a:lnTo>
                      <a:lnTo>
                        <a:pt x="146" y="1597"/>
                      </a:lnTo>
                      <a:lnTo>
                        <a:pt x="125" y="1628"/>
                      </a:lnTo>
                      <a:lnTo>
                        <a:pt x="104" y="1659"/>
                      </a:lnTo>
                      <a:lnTo>
                        <a:pt x="73" y="1690"/>
                      </a:lnTo>
                      <a:lnTo>
                        <a:pt x="52" y="1722"/>
                      </a:lnTo>
                      <a:lnTo>
                        <a:pt x="21" y="1743"/>
                      </a:lnTo>
                      <a:lnTo>
                        <a:pt x="0" y="1774"/>
                      </a:lnTo>
                      <a:lnTo>
                        <a:pt x="0" y="1743"/>
                      </a:lnTo>
                      <a:lnTo>
                        <a:pt x="0" y="1711"/>
                      </a:lnTo>
                      <a:lnTo>
                        <a:pt x="0" y="1680"/>
                      </a:lnTo>
                      <a:lnTo>
                        <a:pt x="0" y="1649"/>
                      </a:lnTo>
                      <a:lnTo>
                        <a:pt x="0" y="1617"/>
                      </a:lnTo>
                      <a:lnTo>
                        <a:pt x="0" y="1534"/>
                      </a:lnTo>
                      <a:lnTo>
                        <a:pt x="0" y="1440"/>
                      </a:lnTo>
                      <a:lnTo>
                        <a:pt x="0" y="1357"/>
                      </a:lnTo>
                      <a:lnTo>
                        <a:pt x="0" y="1263"/>
                      </a:lnTo>
                      <a:lnTo>
                        <a:pt x="0" y="1169"/>
                      </a:lnTo>
                      <a:lnTo>
                        <a:pt x="0" y="1075"/>
                      </a:lnTo>
                      <a:lnTo>
                        <a:pt x="0" y="1043"/>
                      </a:lnTo>
                      <a:lnTo>
                        <a:pt x="0" y="1012"/>
                      </a:lnTo>
                      <a:lnTo>
                        <a:pt x="0" y="981"/>
                      </a:lnTo>
                      <a:lnTo>
                        <a:pt x="0" y="908"/>
                      </a:lnTo>
                      <a:lnTo>
                        <a:pt x="0" y="814"/>
                      </a:lnTo>
                      <a:lnTo>
                        <a:pt x="0" y="730"/>
                      </a:lnTo>
                      <a:lnTo>
                        <a:pt x="0" y="657"/>
                      </a:lnTo>
                      <a:lnTo>
                        <a:pt x="0" y="584"/>
                      </a:lnTo>
                      <a:lnTo>
                        <a:pt x="0" y="501"/>
                      </a:lnTo>
                      <a:lnTo>
                        <a:pt x="0" y="417"/>
                      </a:lnTo>
                      <a:lnTo>
                        <a:pt x="0" y="323"/>
                      </a:lnTo>
                      <a:lnTo>
                        <a:pt x="0" y="230"/>
                      </a:lnTo>
                      <a:lnTo>
                        <a:pt x="0" y="136"/>
                      </a:lnTo>
                      <a:lnTo>
                        <a:pt x="0" y="104"/>
                      </a:lnTo>
                      <a:lnTo>
                        <a:pt x="0" y="73"/>
                      </a:lnTo>
                      <a:lnTo>
                        <a:pt x="0" y="42"/>
                      </a:lnTo>
                      <a:lnTo>
                        <a:pt x="31" y="21"/>
                      </a:lnTo>
                      <a:lnTo>
                        <a:pt x="63" y="21"/>
                      </a:lnTo>
                      <a:lnTo>
                        <a:pt x="94" y="21"/>
                      </a:lnTo>
                      <a:lnTo>
                        <a:pt x="125" y="21"/>
                      </a:lnTo>
                      <a:lnTo>
                        <a:pt x="157" y="21"/>
                      </a:lnTo>
                      <a:lnTo>
                        <a:pt x="240" y="21"/>
                      </a:lnTo>
                      <a:lnTo>
                        <a:pt x="313" y="21"/>
                      </a:lnTo>
                      <a:lnTo>
                        <a:pt x="397" y="21"/>
                      </a:lnTo>
                      <a:lnTo>
                        <a:pt x="490" y="21"/>
                      </a:lnTo>
                      <a:lnTo>
                        <a:pt x="563" y="21"/>
                      </a:lnTo>
                      <a:lnTo>
                        <a:pt x="647" y="21"/>
                      </a:lnTo>
                      <a:lnTo>
                        <a:pt x="720" y="21"/>
                      </a:lnTo>
                      <a:lnTo>
                        <a:pt x="751" y="21"/>
                      </a:lnTo>
                      <a:lnTo>
                        <a:pt x="783" y="21"/>
                      </a:lnTo>
                      <a:lnTo>
                        <a:pt x="720"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4964040" y="4154400"/>
                  <a:ext cx="333360" cy="1549440"/>
                </a:xfrm>
                <a:custGeom>
                  <a:avLst/>
                  <a:gdLst/>
                  <a:ahLst/>
                  <a:rect l="l" t="t" r="r" b="b"/>
                  <a:pathLst>
                    <a:path w="210" h="976">
                      <a:moveTo>
                        <a:pt x="0" y="0"/>
                      </a:moveTo>
                      <a:lnTo>
                        <a:pt x="21" y="35"/>
                      </a:lnTo>
                      <a:lnTo>
                        <a:pt x="42" y="67"/>
                      </a:lnTo>
                      <a:lnTo>
                        <a:pt x="42" y="98"/>
                      </a:lnTo>
                      <a:lnTo>
                        <a:pt x="42" y="129"/>
                      </a:lnTo>
                      <a:lnTo>
                        <a:pt x="42" y="161"/>
                      </a:lnTo>
                      <a:lnTo>
                        <a:pt x="31" y="192"/>
                      </a:lnTo>
                      <a:lnTo>
                        <a:pt x="31" y="223"/>
                      </a:lnTo>
                      <a:lnTo>
                        <a:pt x="31" y="255"/>
                      </a:lnTo>
                      <a:lnTo>
                        <a:pt x="31" y="286"/>
                      </a:lnTo>
                      <a:lnTo>
                        <a:pt x="31" y="317"/>
                      </a:lnTo>
                      <a:lnTo>
                        <a:pt x="31" y="349"/>
                      </a:lnTo>
                      <a:lnTo>
                        <a:pt x="31" y="380"/>
                      </a:lnTo>
                      <a:lnTo>
                        <a:pt x="31" y="411"/>
                      </a:lnTo>
                      <a:lnTo>
                        <a:pt x="42" y="442"/>
                      </a:lnTo>
                      <a:lnTo>
                        <a:pt x="42" y="474"/>
                      </a:lnTo>
                      <a:lnTo>
                        <a:pt x="42" y="505"/>
                      </a:lnTo>
                      <a:lnTo>
                        <a:pt x="52" y="536"/>
                      </a:lnTo>
                      <a:lnTo>
                        <a:pt x="63" y="568"/>
                      </a:lnTo>
                      <a:lnTo>
                        <a:pt x="73" y="599"/>
                      </a:lnTo>
                      <a:lnTo>
                        <a:pt x="94" y="630"/>
                      </a:lnTo>
                      <a:lnTo>
                        <a:pt x="115" y="662"/>
                      </a:lnTo>
                      <a:lnTo>
                        <a:pt x="136" y="693"/>
                      </a:lnTo>
                      <a:lnTo>
                        <a:pt x="136" y="724"/>
                      </a:lnTo>
                      <a:lnTo>
                        <a:pt x="146" y="755"/>
                      </a:lnTo>
                      <a:lnTo>
                        <a:pt x="157" y="787"/>
                      </a:lnTo>
                      <a:lnTo>
                        <a:pt x="177" y="818"/>
                      </a:lnTo>
                      <a:lnTo>
                        <a:pt x="198" y="849"/>
                      </a:lnTo>
                      <a:lnTo>
                        <a:pt x="209" y="881"/>
                      </a:lnTo>
                      <a:lnTo>
                        <a:pt x="209" y="912"/>
                      </a:lnTo>
                      <a:lnTo>
                        <a:pt x="209" y="943"/>
                      </a:lnTo>
                      <a:lnTo>
                        <a:pt x="209" y="975"/>
                      </a:lnTo>
                      <a:lnTo>
                        <a:pt x="192" y="864"/>
                      </a:lnTo>
                    </a:path>
                  </a:pathLst>
                </a:custGeom>
                <a:solidFill>
                  <a:srgbClr val="114ffb"/>
                </a:solidFill>
                <a:ln cap="rnd"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5146560" y="4443480"/>
                  <a:ext cx="1575000" cy="1909800"/>
                </a:xfrm>
                <a:custGeom>
                  <a:avLst/>
                  <a:gdLst/>
                  <a:ahLst/>
                  <a:rect l="l" t="t" r="r" b="b"/>
                  <a:pathLst>
                    <a:path w="992" h="1203">
                      <a:moveTo>
                        <a:pt x="29" y="10"/>
                      </a:moveTo>
                      <a:lnTo>
                        <a:pt x="62" y="41"/>
                      </a:lnTo>
                      <a:lnTo>
                        <a:pt x="62" y="73"/>
                      </a:lnTo>
                      <a:lnTo>
                        <a:pt x="73" y="104"/>
                      </a:lnTo>
                      <a:lnTo>
                        <a:pt x="83" y="135"/>
                      </a:lnTo>
                      <a:lnTo>
                        <a:pt x="94" y="167"/>
                      </a:lnTo>
                      <a:lnTo>
                        <a:pt x="115" y="198"/>
                      </a:lnTo>
                      <a:lnTo>
                        <a:pt x="135" y="229"/>
                      </a:lnTo>
                      <a:lnTo>
                        <a:pt x="146" y="260"/>
                      </a:lnTo>
                      <a:lnTo>
                        <a:pt x="167" y="292"/>
                      </a:lnTo>
                      <a:lnTo>
                        <a:pt x="177" y="323"/>
                      </a:lnTo>
                      <a:lnTo>
                        <a:pt x="208" y="344"/>
                      </a:lnTo>
                      <a:lnTo>
                        <a:pt x="219" y="375"/>
                      </a:lnTo>
                      <a:lnTo>
                        <a:pt x="240" y="407"/>
                      </a:lnTo>
                      <a:lnTo>
                        <a:pt x="261" y="438"/>
                      </a:lnTo>
                      <a:lnTo>
                        <a:pt x="271" y="469"/>
                      </a:lnTo>
                      <a:lnTo>
                        <a:pt x="282" y="500"/>
                      </a:lnTo>
                      <a:lnTo>
                        <a:pt x="302" y="532"/>
                      </a:lnTo>
                      <a:lnTo>
                        <a:pt x="323" y="563"/>
                      </a:lnTo>
                      <a:lnTo>
                        <a:pt x="344" y="594"/>
                      </a:lnTo>
                      <a:lnTo>
                        <a:pt x="375" y="626"/>
                      </a:lnTo>
                      <a:lnTo>
                        <a:pt x="396" y="657"/>
                      </a:lnTo>
                      <a:lnTo>
                        <a:pt x="407" y="688"/>
                      </a:lnTo>
                      <a:lnTo>
                        <a:pt x="428" y="720"/>
                      </a:lnTo>
                      <a:lnTo>
                        <a:pt x="448" y="751"/>
                      </a:lnTo>
                      <a:lnTo>
                        <a:pt x="469" y="782"/>
                      </a:lnTo>
                      <a:lnTo>
                        <a:pt x="490" y="813"/>
                      </a:lnTo>
                      <a:lnTo>
                        <a:pt x="522" y="845"/>
                      </a:lnTo>
                      <a:lnTo>
                        <a:pt x="542" y="876"/>
                      </a:lnTo>
                      <a:lnTo>
                        <a:pt x="553" y="907"/>
                      </a:lnTo>
                      <a:lnTo>
                        <a:pt x="553" y="939"/>
                      </a:lnTo>
                      <a:lnTo>
                        <a:pt x="553" y="970"/>
                      </a:lnTo>
                      <a:lnTo>
                        <a:pt x="553" y="1001"/>
                      </a:lnTo>
                      <a:lnTo>
                        <a:pt x="563" y="1033"/>
                      </a:lnTo>
                      <a:lnTo>
                        <a:pt x="563" y="1064"/>
                      </a:lnTo>
                      <a:lnTo>
                        <a:pt x="584" y="1095"/>
                      </a:lnTo>
                      <a:lnTo>
                        <a:pt x="615" y="1127"/>
                      </a:lnTo>
                      <a:lnTo>
                        <a:pt x="636" y="1158"/>
                      </a:lnTo>
                      <a:lnTo>
                        <a:pt x="668" y="1189"/>
                      </a:lnTo>
                      <a:lnTo>
                        <a:pt x="699" y="1202"/>
                      </a:lnTo>
                      <a:lnTo>
                        <a:pt x="730" y="1202"/>
                      </a:lnTo>
                      <a:lnTo>
                        <a:pt x="762" y="1202"/>
                      </a:lnTo>
                      <a:lnTo>
                        <a:pt x="793" y="1202"/>
                      </a:lnTo>
                      <a:lnTo>
                        <a:pt x="824" y="1202"/>
                      </a:lnTo>
                      <a:lnTo>
                        <a:pt x="855" y="1202"/>
                      </a:lnTo>
                      <a:lnTo>
                        <a:pt x="887" y="1202"/>
                      </a:lnTo>
                      <a:lnTo>
                        <a:pt x="918" y="1202"/>
                      </a:lnTo>
                      <a:lnTo>
                        <a:pt x="949" y="1202"/>
                      </a:lnTo>
                      <a:lnTo>
                        <a:pt x="981" y="1202"/>
                      </a:lnTo>
                      <a:lnTo>
                        <a:pt x="991" y="1168"/>
                      </a:lnTo>
                      <a:lnTo>
                        <a:pt x="970" y="1137"/>
                      </a:lnTo>
                      <a:lnTo>
                        <a:pt x="960" y="1106"/>
                      </a:lnTo>
                      <a:lnTo>
                        <a:pt x="949" y="1074"/>
                      </a:lnTo>
                      <a:lnTo>
                        <a:pt x="928" y="1043"/>
                      </a:lnTo>
                      <a:lnTo>
                        <a:pt x="908" y="1012"/>
                      </a:lnTo>
                      <a:lnTo>
                        <a:pt x="887" y="980"/>
                      </a:lnTo>
                      <a:lnTo>
                        <a:pt x="876" y="949"/>
                      </a:lnTo>
                      <a:lnTo>
                        <a:pt x="855" y="918"/>
                      </a:lnTo>
                      <a:lnTo>
                        <a:pt x="824" y="887"/>
                      </a:lnTo>
                      <a:lnTo>
                        <a:pt x="803" y="855"/>
                      </a:lnTo>
                      <a:lnTo>
                        <a:pt x="772" y="824"/>
                      </a:lnTo>
                      <a:lnTo>
                        <a:pt x="741" y="803"/>
                      </a:lnTo>
                      <a:lnTo>
                        <a:pt x="720" y="772"/>
                      </a:lnTo>
                      <a:lnTo>
                        <a:pt x="688" y="751"/>
                      </a:lnTo>
                      <a:lnTo>
                        <a:pt x="668" y="720"/>
                      </a:lnTo>
                      <a:lnTo>
                        <a:pt x="657" y="688"/>
                      </a:lnTo>
                      <a:lnTo>
                        <a:pt x="647" y="657"/>
                      </a:lnTo>
                      <a:lnTo>
                        <a:pt x="636" y="626"/>
                      </a:lnTo>
                      <a:lnTo>
                        <a:pt x="615" y="594"/>
                      </a:lnTo>
                      <a:lnTo>
                        <a:pt x="595" y="563"/>
                      </a:lnTo>
                      <a:lnTo>
                        <a:pt x="574" y="532"/>
                      </a:lnTo>
                      <a:lnTo>
                        <a:pt x="553" y="500"/>
                      </a:lnTo>
                      <a:lnTo>
                        <a:pt x="532" y="469"/>
                      </a:lnTo>
                      <a:lnTo>
                        <a:pt x="511" y="438"/>
                      </a:lnTo>
                      <a:lnTo>
                        <a:pt x="501" y="407"/>
                      </a:lnTo>
                      <a:lnTo>
                        <a:pt x="469" y="386"/>
                      </a:lnTo>
                      <a:lnTo>
                        <a:pt x="438" y="365"/>
                      </a:lnTo>
                      <a:lnTo>
                        <a:pt x="417" y="333"/>
                      </a:lnTo>
                      <a:lnTo>
                        <a:pt x="386" y="313"/>
                      </a:lnTo>
                      <a:lnTo>
                        <a:pt x="355" y="292"/>
                      </a:lnTo>
                      <a:lnTo>
                        <a:pt x="323" y="271"/>
                      </a:lnTo>
                      <a:lnTo>
                        <a:pt x="292" y="250"/>
                      </a:lnTo>
                      <a:lnTo>
                        <a:pt x="261" y="219"/>
                      </a:lnTo>
                      <a:lnTo>
                        <a:pt x="229" y="187"/>
                      </a:lnTo>
                      <a:lnTo>
                        <a:pt x="219" y="156"/>
                      </a:lnTo>
                      <a:lnTo>
                        <a:pt x="219" y="125"/>
                      </a:lnTo>
                      <a:lnTo>
                        <a:pt x="229" y="93"/>
                      </a:lnTo>
                      <a:lnTo>
                        <a:pt x="240" y="62"/>
                      </a:lnTo>
                      <a:lnTo>
                        <a:pt x="250" y="31"/>
                      </a:lnTo>
                      <a:lnTo>
                        <a:pt x="250" y="0"/>
                      </a:lnTo>
                      <a:lnTo>
                        <a:pt x="219" y="10"/>
                      </a:lnTo>
                      <a:lnTo>
                        <a:pt x="198" y="41"/>
                      </a:lnTo>
                      <a:lnTo>
                        <a:pt x="177" y="73"/>
                      </a:lnTo>
                      <a:lnTo>
                        <a:pt x="156" y="104"/>
                      </a:lnTo>
                      <a:lnTo>
                        <a:pt x="156" y="135"/>
                      </a:lnTo>
                      <a:lnTo>
                        <a:pt x="125" y="114"/>
                      </a:lnTo>
                      <a:lnTo>
                        <a:pt x="115" y="83"/>
                      </a:lnTo>
                      <a:lnTo>
                        <a:pt x="94" y="52"/>
                      </a:lnTo>
                      <a:lnTo>
                        <a:pt x="62" y="41"/>
                      </a:lnTo>
                      <a:lnTo>
                        <a:pt x="31" y="20"/>
                      </a:lnTo>
                      <a:lnTo>
                        <a:pt x="0" y="10"/>
                      </a:lnTo>
                      <a:lnTo>
                        <a:pt x="29" y="1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417600" y="5678640"/>
                  <a:ext cx="1168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1747800" y="4686480"/>
                  <a:ext cx="435132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1671840" y="5373720"/>
                  <a:ext cx="4471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eb9"/>
                      </a:solidFill>
                      <a:latin typeface="Arial Narrow"/>
                    </a:rPr>
                    <a:t>2nd Missionary Journey</a:t>
                  </a:r>
                  <a:endParaRPr b="0" lang="en-US" sz="3600" spc="-1" strike="noStrike">
                    <a:solidFill>
                      <a:srgbClr val="ffffff"/>
                    </a:solidFill>
                    <a:latin typeface="Times New Roman"/>
                  </a:endParaRPr>
                </a:p>
              </p:txBody>
            </p:sp>
            <p:sp>
              <p:nvSpPr>
                <p:cNvPr id="929" name=""/>
                <p:cNvSpPr/>
                <p:nvPr/>
              </p:nvSpPr>
              <p:spPr>
                <a:xfrm>
                  <a:off x="5713560" y="3868560"/>
                  <a:ext cx="168120" cy="203400"/>
                </a:xfrm>
                <a:custGeom>
                  <a:avLst/>
                  <a:gdLst/>
                  <a:ahLst/>
                  <a:rect l="l" t="t" r="r" b="b"/>
                  <a:pathLst>
                    <a:path w="106" h="128">
                      <a:moveTo>
                        <a:pt x="92" y="0"/>
                      </a:moveTo>
                      <a:lnTo>
                        <a:pt x="52" y="23"/>
                      </a:lnTo>
                      <a:lnTo>
                        <a:pt x="21" y="33"/>
                      </a:lnTo>
                      <a:lnTo>
                        <a:pt x="0" y="65"/>
                      </a:lnTo>
                      <a:lnTo>
                        <a:pt x="11" y="96"/>
                      </a:lnTo>
                      <a:lnTo>
                        <a:pt x="21" y="127"/>
                      </a:lnTo>
                      <a:lnTo>
                        <a:pt x="52" y="127"/>
                      </a:lnTo>
                      <a:lnTo>
                        <a:pt x="73" y="96"/>
                      </a:lnTo>
                      <a:lnTo>
                        <a:pt x="94" y="65"/>
                      </a:lnTo>
                      <a:lnTo>
                        <a:pt x="94" y="33"/>
                      </a:lnTo>
                      <a:lnTo>
                        <a:pt x="105" y="2"/>
                      </a:lnTo>
                      <a:lnTo>
                        <a:pt x="92" y="0"/>
                      </a:lnTo>
                    </a:path>
                  </a:pathLst>
                </a:custGeom>
                <a:solidFill>
                  <a:srgbClr val="008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5862600" y="3973680"/>
                  <a:ext cx="2055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rPr>
                    <a:t>Jerusalem</a:t>
                  </a:r>
                  <a:endParaRPr b="0" lang="en-US" sz="3200" spc="-1" strike="noStrike">
                    <a:solidFill>
                      <a:srgbClr val="ffffff"/>
                    </a:solidFill>
                    <a:latin typeface="Times New Roman"/>
                  </a:endParaRPr>
                </a:p>
              </p:txBody>
            </p:sp>
            <p:sp>
              <p:nvSpPr>
                <p:cNvPr id="931" name=""/>
                <p:cNvSpPr/>
                <p:nvPr/>
              </p:nvSpPr>
              <p:spPr>
                <a:xfrm>
                  <a:off x="4797360" y="444492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gypt</a:t>
                  </a:r>
                  <a:endParaRPr b="0" lang="en-US" sz="2400" spc="-1" strike="noStrike">
                    <a:solidFill>
                      <a:srgbClr val="ffffff"/>
                    </a:solidFill>
                    <a:latin typeface="Times New Roman"/>
                  </a:endParaRPr>
                </a:p>
              </p:txBody>
            </p:sp>
            <p:sp>
              <p:nvSpPr>
                <p:cNvPr id="932" name=""/>
                <p:cNvSpPr/>
                <p:nvPr/>
              </p:nvSpPr>
              <p:spPr>
                <a:xfrm>
                  <a:off x="665280" y="228600"/>
                  <a:ext cx="8381880" cy="1162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6bf69"/>
                      </a:solidFill>
                      <a:uFillTx/>
                      <a:latin typeface="Book Antiqua"/>
                    </a:rPr>
                    <a:t>Paul’s Journeys</a:t>
                  </a:r>
                  <a:endParaRPr b="0" lang="en-US" sz="6000" spc="-1" strike="noStrike">
                    <a:solidFill>
                      <a:srgbClr val="ffffff"/>
                    </a:solidFill>
                    <a:latin typeface="Times New Roman"/>
                  </a:endParaRPr>
                </a:p>
              </p:txBody>
            </p:sp>
            <p:sp>
              <p:nvSpPr>
                <p:cNvPr id="933" name=""/>
                <p:cNvSpPr/>
                <p:nvPr/>
              </p:nvSpPr>
              <p:spPr>
                <a:xfrm>
                  <a:off x="3065400" y="195120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34" name=""/>
                <p:cNvSpPr/>
                <p:nvPr/>
              </p:nvSpPr>
              <p:spPr>
                <a:xfrm>
                  <a:off x="1596240" y="1487520"/>
                  <a:ext cx="145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eb9"/>
                      </a:solidFill>
                      <a:latin typeface="Arial"/>
                    </a:rPr>
                    <a:t>Rome</a:t>
                  </a:r>
                  <a:endParaRPr b="0" lang="en-US" sz="3600" spc="-1" strike="noStrike">
                    <a:solidFill>
                      <a:srgbClr val="ffffff"/>
                    </a:solidFill>
                    <a:latin typeface="Times New Roman"/>
                  </a:endParaRPr>
                </a:p>
              </p:txBody>
            </p:sp>
            <p:sp>
              <p:nvSpPr>
                <p:cNvPr id="935" name=""/>
                <p:cNvSpPr/>
                <p:nvPr/>
              </p:nvSpPr>
              <p:spPr>
                <a:xfrm>
                  <a:off x="4513320" y="202716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36" name=""/>
                <p:cNvSpPr/>
                <p:nvPr/>
              </p:nvSpPr>
              <p:spPr>
                <a:xfrm>
                  <a:off x="4361040" y="2332080"/>
                  <a:ext cx="21564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37" name=""/>
                <p:cNvSpPr/>
                <p:nvPr/>
              </p:nvSpPr>
              <p:spPr>
                <a:xfrm>
                  <a:off x="4398840" y="275112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38" name=""/>
                <p:cNvSpPr/>
                <p:nvPr/>
              </p:nvSpPr>
              <p:spPr>
                <a:xfrm>
                  <a:off x="4647960" y="1716120"/>
                  <a:ext cx="1406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Phillipi</a:t>
                  </a:r>
                  <a:endParaRPr b="0" lang="en-US" sz="3600" spc="-1" strike="noStrike">
                    <a:solidFill>
                      <a:srgbClr val="ffffff"/>
                    </a:solidFill>
                    <a:latin typeface="Times New Roman"/>
                  </a:endParaRPr>
                </a:p>
              </p:txBody>
            </p:sp>
            <p:sp>
              <p:nvSpPr>
                <p:cNvPr id="939" name=""/>
                <p:cNvSpPr/>
                <p:nvPr/>
              </p:nvSpPr>
              <p:spPr>
                <a:xfrm>
                  <a:off x="2968560" y="2935440"/>
                  <a:ext cx="1513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Corinth</a:t>
                  </a:r>
                  <a:endParaRPr b="0" lang="en-US" sz="3600" spc="-1" strike="noStrike">
                    <a:solidFill>
                      <a:srgbClr val="ffffff"/>
                    </a:solidFill>
                    <a:latin typeface="Times New Roman"/>
                  </a:endParaRPr>
                </a:p>
              </p:txBody>
            </p:sp>
            <p:sp>
              <p:nvSpPr>
                <p:cNvPr id="940" name=""/>
                <p:cNvSpPr/>
                <p:nvPr/>
              </p:nvSpPr>
              <p:spPr>
                <a:xfrm>
                  <a:off x="3272040" y="2021040"/>
                  <a:ext cx="1265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Thess</a:t>
                  </a:r>
                  <a:endParaRPr b="0" lang="en-US" sz="3600" spc="-1" strike="noStrike">
                    <a:solidFill>
                      <a:srgbClr val="ffffff"/>
                    </a:solidFill>
                    <a:latin typeface="Times New Roman"/>
                  </a:endParaRPr>
                </a:p>
              </p:txBody>
            </p:sp>
            <p:sp>
              <p:nvSpPr>
                <p:cNvPr id="941" name=""/>
                <p:cNvSpPr/>
                <p:nvPr/>
              </p:nvSpPr>
              <p:spPr>
                <a:xfrm>
                  <a:off x="2967120" y="2325600"/>
                  <a:ext cx="145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Athens</a:t>
                  </a:r>
                  <a:endParaRPr b="0" lang="en-US" sz="3600" spc="-1" strike="noStrike">
                    <a:solidFill>
                      <a:srgbClr val="ffffff"/>
                    </a:solidFill>
                    <a:latin typeface="Times New Roman"/>
                  </a:endParaRPr>
                </a:p>
              </p:txBody>
            </p:sp>
            <p:sp>
              <p:nvSpPr>
                <p:cNvPr id="942" name=""/>
                <p:cNvSpPr/>
                <p:nvPr/>
              </p:nvSpPr>
              <p:spPr>
                <a:xfrm>
                  <a:off x="4208400" y="294156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43" name=""/>
                <p:cNvSpPr/>
                <p:nvPr/>
              </p:nvSpPr>
              <p:spPr>
                <a:xfrm flipH="1">
                  <a:off x="6081840" y="3112920"/>
                  <a:ext cx="126720" cy="1018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H="1" flipV="1">
                  <a:off x="6157800" y="3061800"/>
                  <a:ext cx="177840" cy="1429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3978000" y="3584520"/>
                  <a:ext cx="1851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Caesarea</a:t>
                  </a:r>
                  <a:endParaRPr b="0" lang="en-US" sz="3600" spc="-1" strike="noStrike">
                    <a:solidFill>
                      <a:srgbClr val="ffffff"/>
                    </a:solidFill>
                    <a:latin typeface="Times New Roman"/>
                  </a:endParaRPr>
                </a:p>
              </p:txBody>
            </p:sp>
            <p:sp>
              <p:nvSpPr>
                <p:cNvPr id="946" name=""/>
                <p:cNvSpPr/>
                <p:nvPr/>
              </p:nvSpPr>
              <p:spPr>
                <a:xfrm>
                  <a:off x="5751360" y="377496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47" name=""/>
                <p:cNvSpPr/>
                <p:nvPr/>
              </p:nvSpPr>
              <p:spPr>
                <a:xfrm>
                  <a:off x="4351320" y="2173320"/>
                  <a:ext cx="1906560" cy="1839960"/>
                </a:xfrm>
                <a:custGeom>
                  <a:avLst/>
                  <a:gdLst/>
                  <a:ahLst/>
                  <a:rect l="l" t="t" r="r" b="b"/>
                  <a:pathLst>
                    <a:path w="1201" h="1159">
                      <a:moveTo>
                        <a:pt x="960" y="1158"/>
                      </a:moveTo>
                      <a:lnTo>
                        <a:pt x="991" y="1137"/>
                      </a:lnTo>
                      <a:lnTo>
                        <a:pt x="1012" y="1106"/>
                      </a:lnTo>
                      <a:lnTo>
                        <a:pt x="1043" y="1075"/>
                      </a:lnTo>
                      <a:lnTo>
                        <a:pt x="1054" y="1043"/>
                      </a:lnTo>
                      <a:lnTo>
                        <a:pt x="1085" y="1023"/>
                      </a:lnTo>
                      <a:lnTo>
                        <a:pt x="1106" y="991"/>
                      </a:lnTo>
                      <a:lnTo>
                        <a:pt x="1137" y="970"/>
                      </a:lnTo>
                      <a:lnTo>
                        <a:pt x="1158" y="939"/>
                      </a:lnTo>
                      <a:lnTo>
                        <a:pt x="1179" y="908"/>
                      </a:lnTo>
                      <a:lnTo>
                        <a:pt x="1200" y="877"/>
                      </a:lnTo>
                      <a:lnTo>
                        <a:pt x="1200" y="845"/>
                      </a:lnTo>
                      <a:lnTo>
                        <a:pt x="1200" y="814"/>
                      </a:lnTo>
                      <a:lnTo>
                        <a:pt x="1189" y="783"/>
                      </a:lnTo>
                      <a:lnTo>
                        <a:pt x="1189" y="751"/>
                      </a:lnTo>
                      <a:lnTo>
                        <a:pt x="1179" y="720"/>
                      </a:lnTo>
                      <a:lnTo>
                        <a:pt x="1169" y="689"/>
                      </a:lnTo>
                      <a:lnTo>
                        <a:pt x="1158" y="657"/>
                      </a:lnTo>
                      <a:lnTo>
                        <a:pt x="1158" y="626"/>
                      </a:lnTo>
                      <a:lnTo>
                        <a:pt x="1158" y="595"/>
                      </a:lnTo>
                      <a:lnTo>
                        <a:pt x="1137" y="563"/>
                      </a:lnTo>
                      <a:lnTo>
                        <a:pt x="1137" y="532"/>
                      </a:lnTo>
                      <a:lnTo>
                        <a:pt x="1127" y="501"/>
                      </a:lnTo>
                      <a:lnTo>
                        <a:pt x="1127" y="470"/>
                      </a:lnTo>
                      <a:lnTo>
                        <a:pt x="1116" y="438"/>
                      </a:lnTo>
                      <a:lnTo>
                        <a:pt x="1085" y="407"/>
                      </a:lnTo>
                      <a:lnTo>
                        <a:pt x="1064" y="376"/>
                      </a:lnTo>
                      <a:lnTo>
                        <a:pt x="1033" y="365"/>
                      </a:lnTo>
                      <a:lnTo>
                        <a:pt x="1012" y="397"/>
                      </a:lnTo>
                      <a:lnTo>
                        <a:pt x="981" y="417"/>
                      </a:lnTo>
                      <a:lnTo>
                        <a:pt x="960" y="449"/>
                      </a:lnTo>
                      <a:lnTo>
                        <a:pt x="960" y="417"/>
                      </a:lnTo>
                      <a:lnTo>
                        <a:pt x="929" y="397"/>
                      </a:lnTo>
                      <a:lnTo>
                        <a:pt x="897" y="365"/>
                      </a:lnTo>
                      <a:lnTo>
                        <a:pt x="866" y="355"/>
                      </a:lnTo>
                      <a:lnTo>
                        <a:pt x="835" y="344"/>
                      </a:lnTo>
                      <a:lnTo>
                        <a:pt x="803" y="344"/>
                      </a:lnTo>
                      <a:lnTo>
                        <a:pt x="772" y="344"/>
                      </a:lnTo>
                      <a:lnTo>
                        <a:pt x="741" y="344"/>
                      </a:lnTo>
                      <a:lnTo>
                        <a:pt x="709" y="344"/>
                      </a:lnTo>
                      <a:lnTo>
                        <a:pt x="678" y="334"/>
                      </a:lnTo>
                      <a:lnTo>
                        <a:pt x="657" y="303"/>
                      </a:lnTo>
                      <a:lnTo>
                        <a:pt x="626" y="282"/>
                      </a:lnTo>
                      <a:lnTo>
                        <a:pt x="595" y="261"/>
                      </a:lnTo>
                      <a:lnTo>
                        <a:pt x="563" y="240"/>
                      </a:lnTo>
                      <a:lnTo>
                        <a:pt x="532" y="240"/>
                      </a:lnTo>
                      <a:lnTo>
                        <a:pt x="501" y="230"/>
                      </a:lnTo>
                      <a:lnTo>
                        <a:pt x="469" y="219"/>
                      </a:lnTo>
                      <a:lnTo>
                        <a:pt x="438" y="209"/>
                      </a:lnTo>
                      <a:lnTo>
                        <a:pt x="407" y="198"/>
                      </a:lnTo>
                      <a:lnTo>
                        <a:pt x="376" y="188"/>
                      </a:lnTo>
                      <a:lnTo>
                        <a:pt x="355" y="157"/>
                      </a:lnTo>
                      <a:lnTo>
                        <a:pt x="344" y="125"/>
                      </a:lnTo>
                      <a:lnTo>
                        <a:pt x="323" y="94"/>
                      </a:lnTo>
                      <a:lnTo>
                        <a:pt x="303" y="63"/>
                      </a:lnTo>
                      <a:lnTo>
                        <a:pt x="271" y="42"/>
                      </a:lnTo>
                      <a:lnTo>
                        <a:pt x="250" y="10"/>
                      </a:lnTo>
                      <a:lnTo>
                        <a:pt x="219" y="10"/>
                      </a:lnTo>
                      <a:lnTo>
                        <a:pt x="188" y="0"/>
                      </a:lnTo>
                      <a:lnTo>
                        <a:pt x="156" y="0"/>
                      </a:lnTo>
                      <a:lnTo>
                        <a:pt x="136" y="31"/>
                      </a:lnTo>
                      <a:lnTo>
                        <a:pt x="136" y="63"/>
                      </a:lnTo>
                      <a:lnTo>
                        <a:pt x="125" y="94"/>
                      </a:lnTo>
                      <a:lnTo>
                        <a:pt x="94" y="115"/>
                      </a:lnTo>
                      <a:lnTo>
                        <a:pt x="63" y="136"/>
                      </a:lnTo>
                      <a:lnTo>
                        <a:pt x="42" y="167"/>
                      </a:lnTo>
                      <a:lnTo>
                        <a:pt x="63" y="198"/>
                      </a:lnTo>
                      <a:lnTo>
                        <a:pt x="83" y="230"/>
                      </a:lnTo>
                      <a:lnTo>
                        <a:pt x="115" y="261"/>
                      </a:lnTo>
                      <a:lnTo>
                        <a:pt x="125" y="292"/>
                      </a:lnTo>
                      <a:lnTo>
                        <a:pt x="125" y="323"/>
                      </a:lnTo>
                      <a:lnTo>
                        <a:pt x="94" y="344"/>
                      </a:lnTo>
                      <a:lnTo>
                        <a:pt x="63" y="355"/>
                      </a:lnTo>
                      <a:lnTo>
                        <a:pt x="31" y="376"/>
                      </a:lnTo>
                      <a:lnTo>
                        <a:pt x="21" y="407"/>
                      </a:lnTo>
                      <a:lnTo>
                        <a:pt x="21" y="438"/>
                      </a:lnTo>
                      <a:lnTo>
                        <a:pt x="10" y="470"/>
                      </a:lnTo>
                      <a:lnTo>
                        <a:pt x="10" y="501"/>
                      </a:lnTo>
                      <a:lnTo>
                        <a:pt x="0" y="532"/>
                      </a:lnTo>
                      <a:lnTo>
                        <a:pt x="0" y="563"/>
                      </a:lnTo>
                      <a:lnTo>
                        <a:pt x="31" y="584"/>
                      </a:lnTo>
                      <a:lnTo>
                        <a:pt x="63" y="563"/>
                      </a:lnTo>
                      <a:lnTo>
                        <a:pt x="94" y="543"/>
                      </a:lnTo>
                      <a:lnTo>
                        <a:pt x="125" y="532"/>
                      </a:lnTo>
                      <a:lnTo>
                        <a:pt x="156" y="522"/>
                      </a:lnTo>
                      <a:lnTo>
                        <a:pt x="188" y="522"/>
                      </a:lnTo>
                      <a:lnTo>
                        <a:pt x="219" y="522"/>
                      </a:lnTo>
                      <a:lnTo>
                        <a:pt x="250" y="511"/>
                      </a:lnTo>
                      <a:lnTo>
                        <a:pt x="282" y="501"/>
                      </a:lnTo>
                      <a:lnTo>
                        <a:pt x="313" y="490"/>
                      </a:lnTo>
                      <a:lnTo>
                        <a:pt x="344" y="470"/>
                      </a:lnTo>
                      <a:lnTo>
                        <a:pt x="376" y="449"/>
                      </a:lnTo>
                      <a:lnTo>
                        <a:pt x="407" y="449"/>
                      </a:lnTo>
                      <a:lnTo>
                        <a:pt x="438" y="438"/>
                      </a:lnTo>
                      <a:lnTo>
                        <a:pt x="459" y="470"/>
                      </a:lnTo>
                      <a:lnTo>
                        <a:pt x="438" y="501"/>
                      </a:lnTo>
                      <a:lnTo>
                        <a:pt x="428" y="532"/>
                      </a:lnTo>
                      <a:lnTo>
                        <a:pt x="428" y="563"/>
                      </a:lnTo>
                      <a:lnTo>
                        <a:pt x="438" y="595"/>
                      </a:lnTo>
                      <a:lnTo>
                        <a:pt x="459" y="626"/>
                      </a:lnTo>
                      <a:lnTo>
                        <a:pt x="490" y="647"/>
                      </a:lnTo>
                      <a:lnTo>
                        <a:pt x="522" y="657"/>
                      </a:lnTo>
                      <a:lnTo>
                        <a:pt x="553" y="657"/>
                      </a:lnTo>
                      <a:lnTo>
                        <a:pt x="584" y="668"/>
                      </a:lnTo>
                      <a:lnTo>
                        <a:pt x="616" y="689"/>
                      </a:lnTo>
                      <a:lnTo>
                        <a:pt x="647" y="720"/>
                      </a:lnTo>
                      <a:lnTo>
                        <a:pt x="678" y="741"/>
                      </a:lnTo>
                      <a:lnTo>
                        <a:pt x="709" y="762"/>
                      </a:lnTo>
                      <a:lnTo>
                        <a:pt x="720" y="793"/>
                      </a:lnTo>
                      <a:lnTo>
                        <a:pt x="751" y="814"/>
                      </a:lnTo>
                      <a:lnTo>
                        <a:pt x="783" y="845"/>
                      </a:lnTo>
                      <a:lnTo>
                        <a:pt x="803" y="877"/>
                      </a:lnTo>
                      <a:lnTo>
                        <a:pt x="835" y="908"/>
                      </a:lnTo>
                      <a:lnTo>
                        <a:pt x="866" y="929"/>
                      </a:lnTo>
                      <a:lnTo>
                        <a:pt x="887" y="960"/>
                      </a:lnTo>
                      <a:lnTo>
                        <a:pt x="918" y="991"/>
                      </a:lnTo>
                      <a:lnTo>
                        <a:pt x="939" y="1023"/>
                      </a:lnTo>
                      <a:lnTo>
                        <a:pt x="949" y="1054"/>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5040360" y="276696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49" name=""/>
                <p:cNvSpPr/>
                <p:nvPr/>
              </p:nvSpPr>
              <p:spPr>
                <a:xfrm>
                  <a:off x="5240880" y="2789280"/>
                  <a:ext cx="1743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Ephesus</a:t>
                  </a:r>
                  <a:endParaRPr b="0" lang="en-US" sz="3600" spc="-1" strike="noStrike">
                    <a:solidFill>
                      <a:srgbClr val="ffffff"/>
                    </a:solidFill>
                    <a:latin typeface="Times New Roman"/>
                  </a:endParaRPr>
                </a:p>
              </p:txBody>
            </p:sp>
            <p:sp>
              <p:nvSpPr>
                <p:cNvPr id="950" name=""/>
                <p:cNvSpPr/>
                <p:nvPr/>
              </p:nvSpPr>
              <p:spPr>
                <a:xfrm>
                  <a:off x="6016320" y="3468600"/>
                  <a:ext cx="1161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Arial Narrow"/>
                    </a:rPr>
                    <a:t>Israel</a:t>
                  </a:r>
                  <a:endParaRPr b="0" lang="en-US" sz="3600" spc="-1" strike="noStrike">
                    <a:solidFill>
                      <a:srgbClr val="ffffff"/>
                    </a:solidFill>
                    <a:latin typeface="Times New Roman"/>
                  </a:endParaRPr>
                </a:p>
              </p:txBody>
            </p:sp>
            <p:sp>
              <p:nvSpPr>
                <p:cNvPr id="951" name=""/>
                <p:cNvSpPr/>
                <p:nvPr/>
              </p:nvSpPr>
              <p:spPr>
                <a:xfrm>
                  <a:off x="73080" y="598500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952" name=""/>
                <p:cNvSpPr/>
                <p:nvPr/>
              </p:nvSpPr>
              <p:spPr>
                <a:xfrm rot="17336400">
                  <a:off x="5010840" y="242604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953" name=""/>
                <p:cNvSpPr/>
                <p:nvPr/>
              </p:nvSpPr>
              <p:spPr>
                <a:xfrm rot="4263000">
                  <a:off x="4686840" y="288360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954" name=""/>
                <p:cNvSpPr/>
                <p:nvPr/>
              </p:nvSpPr>
              <p:spPr>
                <a:xfrm rot="21338400">
                  <a:off x="6173640" y="337824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955" name=""/>
                <p:cNvSpPr/>
                <p:nvPr/>
              </p:nvSpPr>
              <p:spPr>
                <a:xfrm rot="7998000">
                  <a:off x="5487120" y="341676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sp>
            <p:nvSpPr>
              <p:cNvPr id="956" name=""/>
              <p:cNvSpPr/>
              <p:nvPr/>
            </p:nvSpPr>
            <p:spPr>
              <a:xfrm>
                <a:off x="6750000" y="121284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957" name=""/>
            <p:cNvSpPr/>
            <p:nvPr/>
          </p:nvSpPr>
          <p:spPr>
            <a:xfrm>
              <a:off x="7581960" y="4762440"/>
              <a:ext cx="1542960" cy="1590840"/>
            </a:xfrm>
            <a:custGeom>
              <a:avLst/>
              <a:gdLst/>
              <a:ahLst/>
              <a:rect l="l" t="t" r="r" b="b"/>
              <a:pathLst>
                <a:path w="972" h="1002">
                  <a:moveTo>
                    <a:pt x="972" y="504"/>
                  </a:moveTo>
                  <a:lnTo>
                    <a:pt x="940" y="420"/>
                  </a:lnTo>
                  <a:lnTo>
                    <a:pt x="892" y="396"/>
                  </a:lnTo>
                  <a:lnTo>
                    <a:pt x="736" y="468"/>
                  </a:lnTo>
                  <a:lnTo>
                    <a:pt x="652" y="348"/>
                  </a:lnTo>
                  <a:lnTo>
                    <a:pt x="556" y="252"/>
                  </a:lnTo>
                  <a:lnTo>
                    <a:pt x="448" y="216"/>
                  </a:lnTo>
                  <a:lnTo>
                    <a:pt x="364" y="144"/>
                  </a:lnTo>
                  <a:lnTo>
                    <a:pt x="252" y="0"/>
                  </a:lnTo>
                  <a:lnTo>
                    <a:pt x="160" y="12"/>
                  </a:lnTo>
                  <a:lnTo>
                    <a:pt x="112" y="60"/>
                  </a:lnTo>
                  <a:lnTo>
                    <a:pt x="0" y="72"/>
                  </a:lnTo>
                  <a:lnTo>
                    <a:pt x="64" y="240"/>
                  </a:lnTo>
                  <a:lnTo>
                    <a:pt x="196" y="372"/>
                  </a:lnTo>
                  <a:lnTo>
                    <a:pt x="252" y="504"/>
                  </a:lnTo>
                  <a:lnTo>
                    <a:pt x="252" y="576"/>
                  </a:lnTo>
                  <a:lnTo>
                    <a:pt x="268" y="624"/>
                  </a:lnTo>
                  <a:lnTo>
                    <a:pt x="324" y="540"/>
                  </a:lnTo>
                  <a:lnTo>
                    <a:pt x="364" y="552"/>
                  </a:lnTo>
                  <a:lnTo>
                    <a:pt x="360" y="612"/>
                  </a:lnTo>
                  <a:lnTo>
                    <a:pt x="388" y="744"/>
                  </a:lnTo>
                  <a:lnTo>
                    <a:pt x="640" y="756"/>
                  </a:lnTo>
                  <a:lnTo>
                    <a:pt x="788" y="660"/>
                  </a:lnTo>
                  <a:lnTo>
                    <a:pt x="720" y="900"/>
                  </a:lnTo>
                  <a:lnTo>
                    <a:pt x="816" y="1002"/>
                  </a:lnTo>
                  <a:lnTo>
                    <a:pt x="972" y="1002"/>
                  </a:lnTo>
                </a:path>
              </a:pathLst>
            </a:custGeom>
            <a:solidFill>
              <a:srgbClr val="114ffb"/>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Paul-3rd Missionary Journey</a:t>
            </a:r>
            <a:endParaRPr b="1" lang="en-US" sz="100" spc="-1" strike="noStrike" u="sng">
              <a:solidFill>
                <a:srgbClr val="c0fef9"/>
              </a:solidFill>
              <a:uFillTx/>
              <a:latin typeface="Times New Roman"/>
            </a:endParaRPr>
          </a:p>
        </p:txBody>
      </p:sp>
      <p:sp>
        <p:nvSpPr>
          <p:cNvPr id="959" name=""/>
          <p:cNvSpPr/>
          <p:nvPr/>
        </p:nvSpPr>
        <p:spPr>
          <a:xfrm>
            <a:off x="7086600" y="304920"/>
            <a:ext cx="1981080" cy="476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66"/>
                </a:solidFill>
                <a:latin typeface="Book Antiqua"/>
              </a:rPr>
              <a:t>Paul’s 3rd Journey</a:t>
            </a:r>
            <a:endParaRPr b="0" lang="en-US" sz="500" spc="-1" strike="noStrike">
              <a:solidFill>
                <a:srgbClr val="ffffff"/>
              </a:solidFill>
              <a:latin typeface="Times New Roman"/>
            </a:endParaRPr>
          </a:p>
        </p:txBody>
      </p:sp>
      <p:sp>
        <p:nvSpPr>
          <p:cNvPr id="960"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961" name=""/>
          <p:cNvGrpSpPr/>
          <p:nvPr/>
        </p:nvGrpSpPr>
        <p:grpSpPr>
          <a:xfrm>
            <a:off x="0" y="285840"/>
            <a:ext cx="9124920" cy="6099120"/>
            <a:chOff x="0" y="285840"/>
            <a:chExt cx="9124920" cy="6099120"/>
          </a:xfrm>
        </p:grpSpPr>
        <p:grpSp>
          <p:nvGrpSpPr>
            <p:cNvPr id="962" name=""/>
            <p:cNvGrpSpPr/>
            <p:nvPr/>
          </p:nvGrpSpPr>
          <p:grpSpPr>
            <a:xfrm>
              <a:off x="0" y="285840"/>
              <a:ext cx="9067680" cy="6099120"/>
              <a:chOff x="0" y="285840"/>
              <a:chExt cx="9067680" cy="6099120"/>
            </a:xfrm>
          </p:grpSpPr>
          <p:grpSp>
            <p:nvGrpSpPr>
              <p:cNvPr id="963" name=""/>
              <p:cNvGrpSpPr/>
              <p:nvPr/>
            </p:nvGrpSpPr>
            <p:grpSpPr>
              <a:xfrm>
                <a:off x="0" y="285840"/>
                <a:ext cx="9067680" cy="6099120"/>
                <a:chOff x="0" y="285840"/>
                <a:chExt cx="9067680" cy="6099120"/>
              </a:xfrm>
            </p:grpSpPr>
            <p:sp>
              <p:nvSpPr>
                <p:cNvPr id="964" name=""/>
                <p:cNvSpPr/>
                <p:nvPr/>
              </p:nvSpPr>
              <p:spPr>
                <a:xfrm>
                  <a:off x="762120" y="1576440"/>
                  <a:ext cx="8305560" cy="4133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c0fe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add text</a:t>
                  </a:r>
                  <a:endParaRPr b="0" lang="en-US" sz="3600" spc="-1" strike="noStrike">
                    <a:solidFill>
                      <a:srgbClr val="ffffff"/>
                    </a:solidFill>
                    <a:latin typeface="Times New Roman"/>
                  </a:endParaRPr>
                </a:p>
              </p:txBody>
            </p:sp>
            <p:sp>
              <p:nvSpPr>
                <p:cNvPr id="965" name=""/>
                <p:cNvSpPr/>
                <p:nvPr/>
              </p:nvSpPr>
              <p:spPr>
                <a:xfrm>
                  <a:off x="6480" y="363600"/>
                  <a:ext cx="9055080" cy="60069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6934320" y="1576440"/>
                  <a:ext cx="2133360" cy="4133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4952880" y="4243320"/>
                  <a:ext cx="333360" cy="1549440"/>
                </a:xfrm>
                <a:custGeom>
                  <a:avLst/>
                  <a:gdLst/>
                  <a:ahLst/>
                  <a:rect l="l" t="t" r="r" b="b"/>
                  <a:pathLst>
                    <a:path w="210" h="976">
                      <a:moveTo>
                        <a:pt x="0" y="0"/>
                      </a:moveTo>
                      <a:lnTo>
                        <a:pt x="21" y="35"/>
                      </a:lnTo>
                      <a:lnTo>
                        <a:pt x="42" y="67"/>
                      </a:lnTo>
                      <a:lnTo>
                        <a:pt x="42" y="98"/>
                      </a:lnTo>
                      <a:lnTo>
                        <a:pt x="42" y="129"/>
                      </a:lnTo>
                      <a:lnTo>
                        <a:pt x="42" y="161"/>
                      </a:lnTo>
                      <a:lnTo>
                        <a:pt x="31" y="192"/>
                      </a:lnTo>
                      <a:lnTo>
                        <a:pt x="31" y="223"/>
                      </a:lnTo>
                      <a:lnTo>
                        <a:pt x="31" y="255"/>
                      </a:lnTo>
                      <a:lnTo>
                        <a:pt x="31" y="286"/>
                      </a:lnTo>
                      <a:lnTo>
                        <a:pt x="31" y="317"/>
                      </a:lnTo>
                      <a:lnTo>
                        <a:pt x="31" y="349"/>
                      </a:lnTo>
                      <a:lnTo>
                        <a:pt x="31" y="380"/>
                      </a:lnTo>
                      <a:lnTo>
                        <a:pt x="31" y="411"/>
                      </a:lnTo>
                      <a:lnTo>
                        <a:pt x="42" y="442"/>
                      </a:lnTo>
                      <a:lnTo>
                        <a:pt x="42" y="474"/>
                      </a:lnTo>
                      <a:lnTo>
                        <a:pt x="42" y="505"/>
                      </a:lnTo>
                      <a:lnTo>
                        <a:pt x="52" y="536"/>
                      </a:lnTo>
                      <a:lnTo>
                        <a:pt x="63" y="568"/>
                      </a:lnTo>
                      <a:lnTo>
                        <a:pt x="73" y="599"/>
                      </a:lnTo>
                      <a:lnTo>
                        <a:pt x="94" y="630"/>
                      </a:lnTo>
                      <a:lnTo>
                        <a:pt x="115" y="662"/>
                      </a:lnTo>
                      <a:lnTo>
                        <a:pt x="136" y="693"/>
                      </a:lnTo>
                      <a:lnTo>
                        <a:pt x="136" y="724"/>
                      </a:lnTo>
                      <a:lnTo>
                        <a:pt x="146" y="755"/>
                      </a:lnTo>
                      <a:lnTo>
                        <a:pt x="157" y="787"/>
                      </a:lnTo>
                      <a:lnTo>
                        <a:pt x="177" y="818"/>
                      </a:lnTo>
                      <a:lnTo>
                        <a:pt x="198" y="849"/>
                      </a:lnTo>
                      <a:lnTo>
                        <a:pt x="209" y="881"/>
                      </a:lnTo>
                      <a:lnTo>
                        <a:pt x="209" y="912"/>
                      </a:lnTo>
                      <a:lnTo>
                        <a:pt x="209" y="943"/>
                      </a:lnTo>
                      <a:lnTo>
                        <a:pt x="209" y="975"/>
                      </a:lnTo>
                      <a:lnTo>
                        <a:pt x="192" y="864"/>
                      </a:lnTo>
                    </a:path>
                  </a:pathLst>
                </a:custGeom>
                <a:noFill/>
                <a:ln cap="rnd"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135400" y="4475160"/>
                  <a:ext cx="1575000" cy="1909800"/>
                </a:xfrm>
                <a:custGeom>
                  <a:avLst/>
                  <a:gdLst/>
                  <a:ahLst/>
                  <a:rect l="l" t="t" r="r" b="b"/>
                  <a:pathLst>
                    <a:path w="992" h="1203">
                      <a:moveTo>
                        <a:pt x="29" y="10"/>
                      </a:moveTo>
                      <a:lnTo>
                        <a:pt x="62" y="41"/>
                      </a:lnTo>
                      <a:lnTo>
                        <a:pt x="62" y="73"/>
                      </a:lnTo>
                      <a:lnTo>
                        <a:pt x="73" y="104"/>
                      </a:lnTo>
                      <a:lnTo>
                        <a:pt x="83" y="135"/>
                      </a:lnTo>
                      <a:lnTo>
                        <a:pt x="94" y="167"/>
                      </a:lnTo>
                      <a:lnTo>
                        <a:pt x="115" y="198"/>
                      </a:lnTo>
                      <a:lnTo>
                        <a:pt x="135" y="229"/>
                      </a:lnTo>
                      <a:lnTo>
                        <a:pt x="146" y="260"/>
                      </a:lnTo>
                      <a:lnTo>
                        <a:pt x="167" y="292"/>
                      </a:lnTo>
                      <a:lnTo>
                        <a:pt x="177" y="323"/>
                      </a:lnTo>
                      <a:lnTo>
                        <a:pt x="208" y="344"/>
                      </a:lnTo>
                      <a:lnTo>
                        <a:pt x="219" y="375"/>
                      </a:lnTo>
                      <a:lnTo>
                        <a:pt x="240" y="407"/>
                      </a:lnTo>
                      <a:lnTo>
                        <a:pt x="261" y="438"/>
                      </a:lnTo>
                      <a:lnTo>
                        <a:pt x="271" y="469"/>
                      </a:lnTo>
                      <a:lnTo>
                        <a:pt x="282" y="500"/>
                      </a:lnTo>
                      <a:lnTo>
                        <a:pt x="302" y="532"/>
                      </a:lnTo>
                      <a:lnTo>
                        <a:pt x="323" y="563"/>
                      </a:lnTo>
                      <a:lnTo>
                        <a:pt x="344" y="594"/>
                      </a:lnTo>
                      <a:lnTo>
                        <a:pt x="375" y="626"/>
                      </a:lnTo>
                      <a:lnTo>
                        <a:pt x="396" y="657"/>
                      </a:lnTo>
                      <a:lnTo>
                        <a:pt x="407" y="688"/>
                      </a:lnTo>
                      <a:lnTo>
                        <a:pt x="428" y="720"/>
                      </a:lnTo>
                      <a:lnTo>
                        <a:pt x="448" y="751"/>
                      </a:lnTo>
                      <a:lnTo>
                        <a:pt x="469" y="782"/>
                      </a:lnTo>
                      <a:lnTo>
                        <a:pt x="490" y="813"/>
                      </a:lnTo>
                      <a:lnTo>
                        <a:pt x="522" y="845"/>
                      </a:lnTo>
                      <a:lnTo>
                        <a:pt x="542" y="876"/>
                      </a:lnTo>
                      <a:lnTo>
                        <a:pt x="553" y="907"/>
                      </a:lnTo>
                      <a:lnTo>
                        <a:pt x="553" y="939"/>
                      </a:lnTo>
                      <a:lnTo>
                        <a:pt x="553" y="970"/>
                      </a:lnTo>
                      <a:lnTo>
                        <a:pt x="553" y="1001"/>
                      </a:lnTo>
                      <a:lnTo>
                        <a:pt x="563" y="1033"/>
                      </a:lnTo>
                      <a:lnTo>
                        <a:pt x="563" y="1064"/>
                      </a:lnTo>
                      <a:lnTo>
                        <a:pt x="584" y="1095"/>
                      </a:lnTo>
                      <a:lnTo>
                        <a:pt x="615" y="1127"/>
                      </a:lnTo>
                      <a:lnTo>
                        <a:pt x="636" y="1158"/>
                      </a:lnTo>
                      <a:lnTo>
                        <a:pt x="668" y="1189"/>
                      </a:lnTo>
                      <a:lnTo>
                        <a:pt x="699" y="1202"/>
                      </a:lnTo>
                      <a:lnTo>
                        <a:pt x="730" y="1202"/>
                      </a:lnTo>
                      <a:lnTo>
                        <a:pt x="762" y="1202"/>
                      </a:lnTo>
                      <a:lnTo>
                        <a:pt x="793" y="1202"/>
                      </a:lnTo>
                      <a:lnTo>
                        <a:pt x="824" y="1202"/>
                      </a:lnTo>
                      <a:lnTo>
                        <a:pt x="855" y="1202"/>
                      </a:lnTo>
                      <a:lnTo>
                        <a:pt x="887" y="1202"/>
                      </a:lnTo>
                      <a:lnTo>
                        <a:pt x="918" y="1202"/>
                      </a:lnTo>
                      <a:lnTo>
                        <a:pt x="949" y="1202"/>
                      </a:lnTo>
                      <a:lnTo>
                        <a:pt x="981" y="1202"/>
                      </a:lnTo>
                      <a:lnTo>
                        <a:pt x="991" y="1168"/>
                      </a:lnTo>
                      <a:lnTo>
                        <a:pt x="970" y="1137"/>
                      </a:lnTo>
                      <a:lnTo>
                        <a:pt x="960" y="1106"/>
                      </a:lnTo>
                      <a:lnTo>
                        <a:pt x="949" y="1074"/>
                      </a:lnTo>
                      <a:lnTo>
                        <a:pt x="928" y="1043"/>
                      </a:lnTo>
                      <a:lnTo>
                        <a:pt x="908" y="1012"/>
                      </a:lnTo>
                      <a:lnTo>
                        <a:pt x="887" y="980"/>
                      </a:lnTo>
                      <a:lnTo>
                        <a:pt x="876" y="949"/>
                      </a:lnTo>
                      <a:lnTo>
                        <a:pt x="855" y="918"/>
                      </a:lnTo>
                      <a:lnTo>
                        <a:pt x="824" y="887"/>
                      </a:lnTo>
                      <a:lnTo>
                        <a:pt x="803" y="855"/>
                      </a:lnTo>
                      <a:lnTo>
                        <a:pt x="772" y="824"/>
                      </a:lnTo>
                      <a:lnTo>
                        <a:pt x="741" y="803"/>
                      </a:lnTo>
                      <a:lnTo>
                        <a:pt x="720" y="772"/>
                      </a:lnTo>
                      <a:lnTo>
                        <a:pt x="688" y="751"/>
                      </a:lnTo>
                      <a:lnTo>
                        <a:pt x="668" y="720"/>
                      </a:lnTo>
                      <a:lnTo>
                        <a:pt x="657" y="688"/>
                      </a:lnTo>
                      <a:lnTo>
                        <a:pt x="647" y="657"/>
                      </a:lnTo>
                      <a:lnTo>
                        <a:pt x="636" y="626"/>
                      </a:lnTo>
                      <a:lnTo>
                        <a:pt x="615" y="594"/>
                      </a:lnTo>
                      <a:lnTo>
                        <a:pt x="595" y="563"/>
                      </a:lnTo>
                      <a:lnTo>
                        <a:pt x="574" y="532"/>
                      </a:lnTo>
                      <a:lnTo>
                        <a:pt x="553" y="500"/>
                      </a:lnTo>
                      <a:lnTo>
                        <a:pt x="532" y="469"/>
                      </a:lnTo>
                      <a:lnTo>
                        <a:pt x="511" y="438"/>
                      </a:lnTo>
                      <a:lnTo>
                        <a:pt x="501" y="407"/>
                      </a:lnTo>
                      <a:lnTo>
                        <a:pt x="469" y="386"/>
                      </a:lnTo>
                      <a:lnTo>
                        <a:pt x="438" y="365"/>
                      </a:lnTo>
                      <a:lnTo>
                        <a:pt x="417" y="333"/>
                      </a:lnTo>
                      <a:lnTo>
                        <a:pt x="386" y="313"/>
                      </a:lnTo>
                      <a:lnTo>
                        <a:pt x="355" y="292"/>
                      </a:lnTo>
                      <a:lnTo>
                        <a:pt x="323" y="271"/>
                      </a:lnTo>
                      <a:lnTo>
                        <a:pt x="292" y="250"/>
                      </a:lnTo>
                      <a:lnTo>
                        <a:pt x="261" y="219"/>
                      </a:lnTo>
                      <a:lnTo>
                        <a:pt x="229" y="187"/>
                      </a:lnTo>
                      <a:lnTo>
                        <a:pt x="219" y="156"/>
                      </a:lnTo>
                      <a:lnTo>
                        <a:pt x="219" y="125"/>
                      </a:lnTo>
                      <a:lnTo>
                        <a:pt x="229" y="93"/>
                      </a:lnTo>
                      <a:lnTo>
                        <a:pt x="240" y="62"/>
                      </a:lnTo>
                      <a:lnTo>
                        <a:pt x="250" y="31"/>
                      </a:lnTo>
                      <a:lnTo>
                        <a:pt x="250" y="0"/>
                      </a:lnTo>
                      <a:lnTo>
                        <a:pt x="219" y="10"/>
                      </a:lnTo>
                      <a:lnTo>
                        <a:pt x="198" y="41"/>
                      </a:lnTo>
                      <a:lnTo>
                        <a:pt x="177" y="73"/>
                      </a:lnTo>
                      <a:lnTo>
                        <a:pt x="156" y="104"/>
                      </a:lnTo>
                      <a:lnTo>
                        <a:pt x="156" y="135"/>
                      </a:lnTo>
                      <a:lnTo>
                        <a:pt x="125" y="114"/>
                      </a:lnTo>
                      <a:lnTo>
                        <a:pt x="115" y="83"/>
                      </a:lnTo>
                      <a:lnTo>
                        <a:pt x="94" y="52"/>
                      </a:lnTo>
                      <a:lnTo>
                        <a:pt x="62" y="41"/>
                      </a:lnTo>
                      <a:lnTo>
                        <a:pt x="31" y="20"/>
                      </a:lnTo>
                      <a:lnTo>
                        <a:pt x="0" y="10"/>
                      </a:lnTo>
                      <a:lnTo>
                        <a:pt x="29" y="1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0" y="357120"/>
                  <a:ext cx="6512040" cy="4092480"/>
                </a:xfrm>
                <a:custGeom>
                  <a:avLst/>
                  <a:gdLst/>
                  <a:ahLst/>
                  <a:rect l="l" t="t" r="r" b="b"/>
                  <a:pathLst>
                    <a:path w="4102" h="2578">
                      <a:moveTo>
                        <a:pt x="720" y="0"/>
                      </a:moveTo>
                      <a:lnTo>
                        <a:pt x="751" y="31"/>
                      </a:lnTo>
                      <a:lnTo>
                        <a:pt x="772" y="63"/>
                      </a:lnTo>
                      <a:lnTo>
                        <a:pt x="803" y="83"/>
                      </a:lnTo>
                      <a:lnTo>
                        <a:pt x="824" y="115"/>
                      </a:lnTo>
                      <a:lnTo>
                        <a:pt x="845" y="146"/>
                      </a:lnTo>
                      <a:lnTo>
                        <a:pt x="856" y="177"/>
                      </a:lnTo>
                      <a:lnTo>
                        <a:pt x="866" y="209"/>
                      </a:lnTo>
                      <a:lnTo>
                        <a:pt x="877" y="240"/>
                      </a:lnTo>
                      <a:lnTo>
                        <a:pt x="877" y="271"/>
                      </a:lnTo>
                      <a:lnTo>
                        <a:pt x="877" y="303"/>
                      </a:lnTo>
                      <a:lnTo>
                        <a:pt x="877" y="334"/>
                      </a:lnTo>
                      <a:lnTo>
                        <a:pt x="877" y="365"/>
                      </a:lnTo>
                      <a:lnTo>
                        <a:pt x="866" y="397"/>
                      </a:lnTo>
                      <a:lnTo>
                        <a:pt x="866" y="428"/>
                      </a:lnTo>
                      <a:lnTo>
                        <a:pt x="866" y="459"/>
                      </a:lnTo>
                      <a:lnTo>
                        <a:pt x="866" y="490"/>
                      </a:lnTo>
                      <a:lnTo>
                        <a:pt x="866" y="522"/>
                      </a:lnTo>
                      <a:lnTo>
                        <a:pt x="845" y="553"/>
                      </a:lnTo>
                      <a:lnTo>
                        <a:pt x="814" y="574"/>
                      </a:lnTo>
                      <a:lnTo>
                        <a:pt x="793" y="605"/>
                      </a:lnTo>
                      <a:lnTo>
                        <a:pt x="772" y="637"/>
                      </a:lnTo>
                      <a:lnTo>
                        <a:pt x="741" y="657"/>
                      </a:lnTo>
                      <a:lnTo>
                        <a:pt x="710" y="637"/>
                      </a:lnTo>
                      <a:lnTo>
                        <a:pt x="678" y="616"/>
                      </a:lnTo>
                      <a:lnTo>
                        <a:pt x="647" y="595"/>
                      </a:lnTo>
                      <a:lnTo>
                        <a:pt x="616" y="574"/>
                      </a:lnTo>
                      <a:lnTo>
                        <a:pt x="584" y="563"/>
                      </a:lnTo>
                      <a:lnTo>
                        <a:pt x="553" y="563"/>
                      </a:lnTo>
                      <a:lnTo>
                        <a:pt x="522" y="553"/>
                      </a:lnTo>
                      <a:lnTo>
                        <a:pt x="449" y="553"/>
                      </a:lnTo>
                      <a:lnTo>
                        <a:pt x="417" y="543"/>
                      </a:lnTo>
                      <a:lnTo>
                        <a:pt x="386" y="543"/>
                      </a:lnTo>
                      <a:lnTo>
                        <a:pt x="355" y="543"/>
                      </a:lnTo>
                      <a:lnTo>
                        <a:pt x="323" y="532"/>
                      </a:lnTo>
                      <a:lnTo>
                        <a:pt x="292" y="522"/>
                      </a:lnTo>
                      <a:lnTo>
                        <a:pt x="261" y="511"/>
                      </a:lnTo>
                      <a:lnTo>
                        <a:pt x="230" y="501"/>
                      </a:lnTo>
                      <a:lnTo>
                        <a:pt x="198" y="490"/>
                      </a:lnTo>
                      <a:lnTo>
                        <a:pt x="177" y="522"/>
                      </a:lnTo>
                      <a:lnTo>
                        <a:pt x="177" y="553"/>
                      </a:lnTo>
                      <a:lnTo>
                        <a:pt x="177" y="584"/>
                      </a:lnTo>
                      <a:lnTo>
                        <a:pt x="177" y="616"/>
                      </a:lnTo>
                      <a:lnTo>
                        <a:pt x="177" y="647"/>
                      </a:lnTo>
                      <a:lnTo>
                        <a:pt x="177" y="678"/>
                      </a:lnTo>
                      <a:lnTo>
                        <a:pt x="177" y="710"/>
                      </a:lnTo>
                      <a:lnTo>
                        <a:pt x="177" y="741"/>
                      </a:lnTo>
                      <a:lnTo>
                        <a:pt x="177" y="772"/>
                      </a:lnTo>
                      <a:lnTo>
                        <a:pt x="177" y="803"/>
                      </a:lnTo>
                      <a:lnTo>
                        <a:pt x="177" y="835"/>
                      </a:lnTo>
                      <a:lnTo>
                        <a:pt x="146" y="845"/>
                      </a:lnTo>
                      <a:lnTo>
                        <a:pt x="125" y="877"/>
                      </a:lnTo>
                      <a:lnTo>
                        <a:pt x="94" y="908"/>
                      </a:lnTo>
                      <a:lnTo>
                        <a:pt x="83" y="939"/>
                      </a:lnTo>
                      <a:lnTo>
                        <a:pt x="73" y="970"/>
                      </a:lnTo>
                      <a:lnTo>
                        <a:pt x="73" y="1002"/>
                      </a:lnTo>
                      <a:lnTo>
                        <a:pt x="73" y="1033"/>
                      </a:lnTo>
                      <a:lnTo>
                        <a:pt x="73" y="1064"/>
                      </a:lnTo>
                      <a:lnTo>
                        <a:pt x="73" y="1096"/>
                      </a:lnTo>
                      <a:lnTo>
                        <a:pt x="83" y="1127"/>
                      </a:lnTo>
                      <a:lnTo>
                        <a:pt x="83" y="1158"/>
                      </a:lnTo>
                      <a:lnTo>
                        <a:pt x="94" y="1190"/>
                      </a:lnTo>
                      <a:lnTo>
                        <a:pt x="94" y="1221"/>
                      </a:lnTo>
                      <a:lnTo>
                        <a:pt x="94" y="1252"/>
                      </a:lnTo>
                      <a:lnTo>
                        <a:pt x="94" y="1283"/>
                      </a:lnTo>
                      <a:lnTo>
                        <a:pt x="125" y="1294"/>
                      </a:lnTo>
                      <a:lnTo>
                        <a:pt x="157" y="1304"/>
                      </a:lnTo>
                      <a:lnTo>
                        <a:pt x="188" y="1304"/>
                      </a:lnTo>
                      <a:lnTo>
                        <a:pt x="209" y="1336"/>
                      </a:lnTo>
                      <a:lnTo>
                        <a:pt x="240" y="1367"/>
                      </a:lnTo>
                      <a:lnTo>
                        <a:pt x="261" y="1398"/>
                      </a:lnTo>
                      <a:lnTo>
                        <a:pt x="292" y="1409"/>
                      </a:lnTo>
                      <a:lnTo>
                        <a:pt x="323" y="1409"/>
                      </a:lnTo>
                      <a:lnTo>
                        <a:pt x="355" y="1409"/>
                      </a:lnTo>
                      <a:lnTo>
                        <a:pt x="386" y="1409"/>
                      </a:lnTo>
                      <a:lnTo>
                        <a:pt x="417" y="1409"/>
                      </a:lnTo>
                      <a:lnTo>
                        <a:pt x="449" y="1409"/>
                      </a:lnTo>
                      <a:lnTo>
                        <a:pt x="480" y="1409"/>
                      </a:lnTo>
                      <a:lnTo>
                        <a:pt x="511" y="1409"/>
                      </a:lnTo>
                      <a:lnTo>
                        <a:pt x="543" y="1409"/>
                      </a:lnTo>
                      <a:lnTo>
                        <a:pt x="574" y="1409"/>
                      </a:lnTo>
                      <a:lnTo>
                        <a:pt x="605" y="1409"/>
                      </a:lnTo>
                      <a:lnTo>
                        <a:pt x="637" y="1409"/>
                      </a:lnTo>
                      <a:lnTo>
                        <a:pt x="668" y="1409"/>
                      </a:lnTo>
                      <a:lnTo>
                        <a:pt x="689" y="1377"/>
                      </a:lnTo>
                      <a:lnTo>
                        <a:pt x="720" y="1367"/>
                      </a:lnTo>
                      <a:lnTo>
                        <a:pt x="741" y="1336"/>
                      </a:lnTo>
                      <a:lnTo>
                        <a:pt x="772" y="1315"/>
                      </a:lnTo>
                      <a:lnTo>
                        <a:pt x="803" y="1283"/>
                      </a:lnTo>
                      <a:lnTo>
                        <a:pt x="835" y="1252"/>
                      </a:lnTo>
                      <a:lnTo>
                        <a:pt x="866" y="1231"/>
                      </a:lnTo>
                      <a:lnTo>
                        <a:pt x="866" y="1200"/>
                      </a:lnTo>
                      <a:lnTo>
                        <a:pt x="866" y="1169"/>
                      </a:lnTo>
                      <a:lnTo>
                        <a:pt x="866" y="1075"/>
                      </a:lnTo>
                      <a:lnTo>
                        <a:pt x="887" y="1043"/>
                      </a:lnTo>
                      <a:lnTo>
                        <a:pt x="918" y="1033"/>
                      </a:lnTo>
                      <a:lnTo>
                        <a:pt x="950" y="1023"/>
                      </a:lnTo>
                      <a:lnTo>
                        <a:pt x="981" y="1012"/>
                      </a:lnTo>
                      <a:lnTo>
                        <a:pt x="1012" y="1002"/>
                      </a:lnTo>
                      <a:lnTo>
                        <a:pt x="1043" y="981"/>
                      </a:lnTo>
                      <a:lnTo>
                        <a:pt x="1064" y="950"/>
                      </a:lnTo>
                      <a:lnTo>
                        <a:pt x="1085" y="918"/>
                      </a:lnTo>
                      <a:lnTo>
                        <a:pt x="1096" y="887"/>
                      </a:lnTo>
                      <a:lnTo>
                        <a:pt x="1106" y="856"/>
                      </a:lnTo>
                      <a:lnTo>
                        <a:pt x="1137" y="824"/>
                      </a:lnTo>
                      <a:lnTo>
                        <a:pt x="1158" y="793"/>
                      </a:lnTo>
                      <a:lnTo>
                        <a:pt x="1190" y="783"/>
                      </a:lnTo>
                      <a:lnTo>
                        <a:pt x="1221" y="772"/>
                      </a:lnTo>
                      <a:lnTo>
                        <a:pt x="1252" y="772"/>
                      </a:lnTo>
                      <a:lnTo>
                        <a:pt x="1283" y="783"/>
                      </a:lnTo>
                      <a:lnTo>
                        <a:pt x="1315" y="793"/>
                      </a:lnTo>
                      <a:lnTo>
                        <a:pt x="1346" y="803"/>
                      </a:lnTo>
                      <a:lnTo>
                        <a:pt x="1377" y="814"/>
                      </a:lnTo>
                      <a:lnTo>
                        <a:pt x="1409" y="814"/>
                      </a:lnTo>
                      <a:lnTo>
                        <a:pt x="1440" y="814"/>
                      </a:lnTo>
                      <a:lnTo>
                        <a:pt x="1471" y="814"/>
                      </a:lnTo>
                      <a:lnTo>
                        <a:pt x="1503" y="793"/>
                      </a:lnTo>
                      <a:lnTo>
                        <a:pt x="1534" y="772"/>
                      </a:lnTo>
                      <a:lnTo>
                        <a:pt x="1565" y="762"/>
                      </a:lnTo>
                      <a:lnTo>
                        <a:pt x="1597" y="762"/>
                      </a:lnTo>
                      <a:lnTo>
                        <a:pt x="1628" y="762"/>
                      </a:lnTo>
                      <a:lnTo>
                        <a:pt x="1659" y="762"/>
                      </a:lnTo>
                      <a:lnTo>
                        <a:pt x="1690" y="783"/>
                      </a:lnTo>
                      <a:lnTo>
                        <a:pt x="1722" y="793"/>
                      </a:lnTo>
                      <a:lnTo>
                        <a:pt x="1732" y="824"/>
                      </a:lnTo>
                      <a:lnTo>
                        <a:pt x="1732" y="856"/>
                      </a:lnTo>
                      <a:lnTo>
                        <a:pt x="1732" y="887"/>
                      </a:lnTo>
                      <a:lnTo>
                        <a:pt x="1732" y="918"/>
                      </a:lnTo>
                      <a:lnTo>
                        <a:pt x="1732" y="950"/>
                      </a:lnTo>
                      <a:lnTo>
                        <a:pt x="1743" y="981"/>
                      </a:lnTo>
                      <a:lnTo>
                        <a:pt x="1763" y="1012"/>
                      </a:lnTo>
                      <a:lnTo>
                        <a:pt x="1784" y="1043"/>
                      </a:lnTo>
                      <a:lnTo>
                        <a:pt x="1805" y="1075"/>
                      </a:lnTo>
                      <a:lnTo>
                        <a:pt x="1837" y="1096"/>
                      </a:lnTo>
                      <a:lnTo>
                        <a:pt x="1857" y="1127"/>
                      </a:lnTo>
                      <a:lnTo>
                        <a:pt x="1889" y="1148"/>
                      </a:lnTo>
                      <a:lnTo>
                        <a:pt x="1920" y="1169"/>
                      </a:lnTo>
                      <a:lnTo>
                        <a:pt x="1941" y="1200"/>
                      </a:lnTo>
                      <a:lnTo>
                        <a:pt x="1962" y="1231"/>
                      </a:lnTo>
                      <a:lnTo>
                        <a:pt x="1983" y="1263"/>
                      </a:lnTo>
                      <a:lnTo>
                        <a:pt x="2014" y="1283"/>
                      </a:lnTo>
                      <a:lnTo>
                        <a:pt x="2035" y="1315"/>
                      </a:lnTo>
                      <a:lnTo>
                        <a:pt x="2045" y="1346"/>
                      </a:lnTo>
                      <a:lnTo>
                        <a:pt x="2066" y="1377"/>
                      </a:lnTo>
                      <a:lnTo>
                        <a:pt x="2077" y="1409"/>
                      </a:lnTo>
                      <a:lnTo>
                        <a:pt x="2087" y="1440"/>
                      </a:lnTo>
                      <a:lnTo>
                        <a:pt x="2097" y="1471"/>
                      </a:lnTo>
                      <a:lnTo>
                        <a:pt x="2097" y="1503"/>
                      </a:lnTo>
                      <a:lnTo>
                        <a:pt x="2097" y="1534"/>
                      </a:lnTo>
                      <a:lnTo>
                        <a:pt x="2097" y="1565"/>
                      </a:lnTo>
                      <a:lnTo>
                        <a:pt x="2097" y="1597"/>
                      </a:lnTo>
                      <a:lnTo>
                        <a:pt x="2129" y="1628"/>
                      </a:lnTo>
                      <a:lnTo>
                        <a:pt x="2160" y="1649"/>
                      </a:lnTo>
                      <a:lnTo>
                        <a:pt x="2191" y="1649"/>
                      </a:lnTo>
                      <a:lnTo>
                        <a:pt x="2212" y="1617"/>
                      </a:lnTo>
                      <a:lnTo>
                        <a:pt x="2223" y="1586"/>
                      </a:lnTo>
                      <a:lnTo>
                        <a:pt x="2233" y="1555"/>
                      </a:lnTo>
                      <a:lnTo>
                        <a:pt x="2233" y="1523"/>
                      </a:lnTo>
                      <a:lnTo>
                        <a:pt x="2223" y="1492"/>
                      </a:lnTo>
                      <a:lnTo>
                        <a:pt x="2223" y="1461"/>
                      </a:lnTo>
                      <a:lnTo>
                        <a:pt x="2223" y="1430"/>
                      </a:lnTo>
                      <a:lnTo>
                        <a:pt x="2223" y="1398"/>
                      </a:lnTo>
                      <a:lnTo>
                        <a:pt x="2254" y="1388"/>
                      </a:lnTo>
                      <a:lnTo>
                        <a:pt x="2285" y="1388"/>
                      </a:lnTo>
                      <a:lnTo>
                        <a:pt x="2317" y="1398"/>
                      </a:lnTo>
                      <a:lnTo>
                        <a:pt x="2348" y="1409"/>
                      </a:lnTo>
                      <a:lnTo>
                        <a:pt x="2358" y="1377"/>
                      </a:lnTo>
                      <a:lnTo>
                        <a:pt x="2358" y="1346"/>
                      </a:lnTo>
                      <a:lnTo>
                        <a:pt x="2348" y="1315"/>
                      </a:lnTo>
                      <a:lnTo>
                        <a:pt x="2337" y="1283"/>
                      </a:lnTo>
                      <a:lnTo>
                        <a:pt x="2306" y="1273"/>
                      </a:lnTo>
                      <a:lnTo>
                        <a:pt x="2275" y="1242"/>
                      </a:lnTo>
                      <a:lnTo>
                        <a:pt x="2254" y="1210"/>
                      </a:lnTo>
                      <a:lnTo>
                        <a:pt x="2223" y="1190"/>
                      </a:lnTo>
                      <a:lnTo>
                        <a:pt x="2202" y="1158"/>
                      </a:lnTo>
                      <a:lnTo>
                        <a:pt x="2170" y="1137"/>
                      </a:lnTo>
                      <a:lnTo>
                        <a:pt x="2139" y="1117"/>
                      </a:lnTo>
                      <a:lnTo>
                        <a:pt x="2118" y="1085"/>
                      </a:lnTo>
                      <a:lnTo>
                        <a:pt x="2108" y="1054"/>
                      </a:lnTo>
                      <a:lnTo>
                        <a:pt x="2097" y="1023"/>
                      </a:lnTo>
                      <a:lnTo>
                        <a:pt x="2087" y="991"/>
                      </a:lnTo>
                      <a:lnTo>
                        <a:pt x="2066" y="960"/>
                      </a:lnTo>
                      <a:lnTo>
                        <a:pt x="2045" y="929"/>
                      </a:lnTo>
                      <a:lnTo>
                        <a:pt x="2014" y="897"/>
                      </a:lnTo>
                      <a:lnTo>
                        <a:pt x="2003" y="866"/>
                      </a:lnTo>
                      <a:lnTo>
                        <a:pt x="1983" y="835"/>
                      </a:lnTo>
                      <a:lnTo>
                        <a:pt x="1962" y="803"/>
                      </a:lnTo>
                      <a:lnTo>
                        <a:pt x="1941" y="772"/>
                      </a:lnTo>
                      <a:lnTo>
                        <a:pt x="1920" y="741"/>
                      </a:lnTo>
                      <a:lnTo>
                        <a:pt x="1899" y="710"/>
                      </a:lnTo>
                      <a:lnTo>
                        <a:pt x="1910" y="678"/>
                      </a:lnTo>
                      <a:lnTo>
                        <a:pt x="1941" y="668"/>
                      </a:lnTo>
                      <a:lnTo>
                        <a:pt x="1972" y="668"/>
                      </a:lnTo>
                      <a:lnTo>
                        <a:pt x="2003" y="668"/>
                      </a:lnTo>
                      <a:lnTo>
                        <a:pt x="2035" y="689"/>
                      </a:lnTo>
                      <a:lnTo>
                        <a:pt x="2056" y="720"/>
                      </a:lnTo>
                      <a:lnTo>
                        <a:pt x="2087" y="751"/>
                      </a:lnTo>
                      <a:lnTo>
                        <a:pt x="2108" y="783"/>
                      </a:lnTo>
                      <a:lnTo>
                        <a:pt x="2129" y="814"/>
                      </a:lnTo>
                      <a:lnTo>
                        <a:pt x="2139" y="845"/>
                      </a:lnTo>
                      <a:lnTo>
                        <a:pt x="2160" y="877"/>
                      </a:lnTo>
                      <a:lnTo>
                        <a:pt x="2191" y="908"/>
                      </a:lnTo>
                      <a:lnTo>
                        <a:pt x="2202" y="939"/>
                      </a:lnTo>
                      <a:lnTo>
                        <a:pt x="2233" y="970"/>
                      </a:lnTo>
                      <a:lnTo>
                        <a:pt x="2254" y="1002"/>
                      </a:lnTo>
                      <a:lnTo>
                        <a:pt x="2285" y="1033"/>
                      </a:lnTo>
                      <a:lnTo>
                        <a:pt x="2296" y="1064"/>
                      </a:lnTo>
                      <a:lnTo>
                        <a:pt x="2317" y="1096"/>
                      </a:lnTo>
                      <a:lnTo>
                        <a:pt x="2348" y="1127"/>
                      </a:lnTo>
                      <a:lnTo>
                        <a:pt x="2379" y="1158"/>
                      </a:lnTo>
                      <a:lnTo>
                        <a:pt x="2410" y="1190"/>
                      </a:lnTo>
                      <a:lnTo>
                        <a:pt x="2431" y="1221"/>
                      </a:lnTo>
                      <a:lnTo>
                        <a:pt x="2452" y="1252"/>
                      </a:lnTo>
                      <a:lnTo>
                        <a:pt x="2463" y="1283"/>
                      </a:lnTo>
                      <a:lnTo>
                        <a:pt x="2473" y="1315"/>
                      </a:lnTo>
                      <a:lnTo>
                        <a:pt x="2473" y="1346"/>
                      </a:lnTo>
                      <a:lnTo>
                        <a:pt x="2473" y="1377"/>
                      </a:lnTo>
                      <a:lnTo>
                        <a:pt x="2473" y="1409"/>
                      </a:lnTo>
                      <a:lnTo>
                        <a:pt x="2473" y="1440"/>
                      </a:lnTo>
                      <a:lnTo>
                        <a:pt x="2504" y="1461"/>
                      </a:lnTo>
                      <a:lnTo>
                        <a:pt x="2536" y="1482"/>
                      </a:lnTo>
                      <a:lnTo>
                        <a:pt x="2557" y="1513"/>
                      </a:lnTo>
                      <a:lnTo>
                        <a:pt x="2557" y="1544"/>
                      </a:lnTo>
                      <a:lnTo>
                        <a:pt x="2557" y="1576"/>
                      </a:lnTo>
                      <a:lnTo>
                        <a:pt x="2557" y="1607"/>
                      </a:lnTo>
                      <a:lnTo>
                        <a:pt x="2588" y="1628"/>
                      </a:lnTo>
                      <a:lnTo>
                        <a:pt x="2619" y="1649"/>
                      </a:lnTo>
                      <a:lnTo>
                        <a:pt x="2650" y="1670"/>
                      </a:lnTo>
                      <a:lnTo>
                        <a:pt x="2682" y="1690"/>
                      </a:lnTo>
                      <a:lnTo>
                        <a:pt x="2713" y="1711"/>
                      </a:lnTo>
                      <a:lnTo>
                        <a:pt x="2744" y="1711"/>
                      </a:lnTo>
                      <a:lnTo>
                        <a:pt x="2776" y="1711"/>
                      </a:lnTo>
                      <a:lnTo>
                        <a:pt x="2807" y="1701"/>
                      </a:lnTo>
                      <a:lnTo>
                        <a:pt x="2828" y="1670"/>
                      </a:lnTo>
                      <a:lnTo>
                        <a:pt x="2849" y="1638"/>
                      </a:lnTo>
                      <a:lnTo>
                        <a:pt x="2859" y="1607"/>
                      </a:lnTo>
                      <a:lnTo>
                        <a:pt x="2870" y="1576"/>
                      </a:lnTo>
                      <a:lnTo>
                        <a:pt x="2859" y="1544"/>
                      </a:lnTo>
                      <a:lnTo>
                        <a:pt x="2838" y="1513"/>
                      </a:lnTo>
                      <a:lnTo>
                        <a:pt x="2817" y="1482"/>
                      </a:lnTo>
                      <a:lnTo>
                        <a:pt x="2797" y="1450"/>
                      </a:lnTo>
                      <a:lnTo>
                        <a:pt x="2786" y="1419"/>
                      </a:lnTo>
                      <a:lnTo>
                        <a:pt x="2786" y="1388"/>
                      </a:lnTo>
                      <a:lnTo>
                        <a:pt x="2817" y="1357"/>
                      </a:lnTo>
                      <a:lnTo>
                        <a:pt x="2849" y="1336"/>
                      </a:lnTo>
                      <a:lnTo>
                        <a:pt x="2880" y="1325"/>
                      </a:lnTo>
                      <a:lnTo>
                        <a:pt x="2911" y="1315"/>
                      </a:lnTo>
                      <a:lnTo>
                        <a:pt x="2943" y="1294"/>
                      </a:lnTo>
                      <a:lnTo>
                        <a:pt x="2974" y="1273"/>
                      </a:lnTo>
                      <a:lnTo>
                        <a:pt x="2984" y="1190"/>
                      </a:lnTo>
                      <a:lnTo>
                        <a:pt x="2995" y="1106"/>
                      </a:lnTo>
                      <a:lnTo>
                        <a:pt x="3026" y="1096"/>
                      </a:lnTo>
                      <a:lnTo>
                        <a:pt x="3057" y="1096"/>
                      </a:lnTo>
                      <a:lnTo>
                        <a:pt x="3089" y="1096"/>
                      </a:lnTo>
                      <a:lnTo>
                        <a:pt x="3120" y="1106"/>
                      </a:lnTo>
                      <a:lnTo>
                        <a:pt x="3151" y="1127"/>
                      </a:lnTo>
                      <a:lnTo>
                        <a:pt x="3183" y="1148"/>
                      </a:lnTo>
                      <a:lnTo>
                        <a:pt x="3214" y="1158"/>
                      </a:lnTo>
                      <a:lnTo>
                        <a:pt x="3235" y="1127"/>
                      </a:lnTo>
                      <a:lnTo>
                        <a:pt x="3235" y="1096"/>
                      </a:lnTo>
                      <a:lnTo>
                        <a:pt x="3235" y="1064"/>
                      </a:lnTo>
                      <a:lnTo>
                        <a:pt x="3214" y="1033"/>
                      </a:lnTo>
                      <a:lnTo>
                        <a:pt x="3193" y="1002"/>
                      </a:lnTo>
                      <a:lnTo>
                        <a:pt x="3183" y="970"/>
                      </a:lnTo>
                      <a:lnTo>
                        <a:pt x="3183" y="939"/>
                      </a:lnTo>
                      <a:lnTo>
                        <a:pt x="3183" y="908"/>
                      </a:lnTo>
                      <a:lnTo>
                        <a:pt x="3183" y="877"/>
                      </a:lnTo>
                      <a:lnTo>
                        <a:pt x="3183" y="845"/>
                      </a:lnTo>
                      <a:lnTo>
                        <a:pt x="3183" y="814"/>
                      </a:lnTo>
                      <a:lnTo>
                        <a:pt x="3183" y="783"/>
                      </a:lnTo>
                      <a:lnTo>
                        <a:pt x="3183" y="751"/>
                      </a:lnTo>
                      <a:lnTo>
                        <a:pt x="3193" y="668"/>
                      </a:lnTo>
                      <a:lnTo>
                        <a:pt x="3193" y="637"/>
                      </a:lnTo>
                      <a:lnTo>
                        <a:pt x="3203" y="605"/>
                      </a:lnTo>
                      <a:lnTo>
                        <a:pt x="3235" y="574"/>
                      </a:lnTo>
                      <a:lnTo>
                        <a:pt x="3266" y="563"/>
                      </a:lnTo>
                      <a:lnTo>
                        <a:pt x="3297" y="543"/>
                      </a:lnTo>
                      <a:lnTo>
                        <a:pt x="3329" y="532"/>
                      </a:lnTo>
                      <a:lnTo>
                        <a:pt x="3360" y="522"/>
                      </a:lnTo>
                      <a:lnTo>
                        <a:pt x="3391" y="522"/>
                      </a:lnTo>
                      <a:lnTo>
                        <a:pt x="3423" y="522"/>
                      </a:lnTo>
                      <a:lnTo>
                        <a:pt x="3454" y="553"/>
                      </a:lnTo>
                      <a:lnTo>
                        <a:pt x="3475" y="584"/>
                      </a:lnTo>
                      <a:lnTo>
                        <a:pt x="3475" y="616"/>
                      </a:lnTo>
                      <a:lnTo>
                        <a:pt x="3496" y="647"/>
                      </a:lnTo>
                      <a:lnTo>
                        <a:pt x="3527" y="668"/>
                      </a:lnTo>
                      <a:lnTo>
                        <a:pt x="3558" y="699"/>
                      </a:lnTo>
                      <a:lnTo>
                        <a:pt x="3590" y="710"/>
                      </a:lnTo>
                      <a:lnTo>
                        <a:pt x="3621" y="710"/>
                      </a:lnTo>
                      <a:lnTo>
                        <a:pt x="3652" y="699"/>
                      </a:lnTo>
                      <a:lnTo>
                        <a:pt x="3673" y="668"/>
                      </a:lnTo>
                      <a:lnTo>
                        <a:pt x="3694" y="637"/>
                      </a:lnTo>
                      <a:lnTo>
                        <a:pt x="3704" y="605"/>
                      </a:lnTo>
                      <a:lnTo>
                        <a:pt x="3694" y="574"/>
                      </a:lnTo>
                      <a:lnTo>
                        <a:pt x="3673" y="543"/>
                      </a:lnTo>
                      <a:lnTo>
                        <a:pt x="3652" y="511"/>
                      </a:lnTo>
                      <a:lnTo>
                        <a:pt x="3652" y="480"/>
                      </a:lnTo>
                      <a:lnTo>
                        <a:pt x="3652" y="449"/>
                      </a:lnTo>
                      <a:lnTo>
                        <a:pt x="3673" y="417"/>
                      </a:lnTo>
                      <a:lnTo>
                        <a:pt x="3704" y="397"/>
                      </a:lnTo>
                      <a:lnTo>
                        <a:pt x="3736" y="386"/>
                      </a:lnTo>
                      <a:lnTo>
                        <a:pt x="3767" y="365"/>
                      </a:lnTo>
                      <a:lnTo>
                        <a:pt x="3777" y="397"/>
                      </a:lnTo>
                      <a:lnTo>
                        <a:pt x="3798" y="428"/>
                      </a:lnTo>
                      <a:lnTo>
                        <a:pt x="3819" y="459"/>
                      </a:lnTo>
                      <a:lnTo>
                        <a:pt x="3809" y="490"/>
                      </a:lnTo>
                      <a:lnTo>
                        <a:pt x="3788" y="522"/>
                      </a:lnTo>
                      <a:lnTo>
                        <a:pt x="3767" y="553"/>
                      </a:lnTo>
                      <a:lnTo>
                        <a:pt x="3767" y="584"/>
                      </a:lnTo>
                      <a:lnTo>
                        <a:pt x="3767" y="616"/>
                      </a:lnTo>
                      <a:lnTo>
                        <a:pt x="3798" y="637"/>
                      </a:lnTo>
                      <a:lnTo>
                        <a:pt x="3830" y="668"/>
                      </a:lnTo>
                      <a:lnTo>
                        <a:pt x="3861" y="678"/>
                      </a:lnTo>
                      <a:lnTo>
                        <a:pt x="3892" y="689"/>
                      </a:lnTo>
                      <a:lnTo>
                        <a:pt x="3923" y="710"/>
                      </a:lnTo>
                      <a:lnTo>
                        <a:pt x="3955" y="720"/>
                      </a:lnTo>
                      <a:lnTo>
                        <a:pt x="3986" y="730"/>
                      </a:lnTo>
                      <a:lnTo>
                        <a:pt x="4017" y="751"/>
                      </a:lnTo>
                      <a:lnTo>
                        <a:pt x="4049" y="783"/>
                      </a:lnTo>
                      <a:lnTo>
                        <a:pt x="4070" y="814"/>
                      </a:lnTo>
                      <a:lnTo>
                        <a:pt x="4090" y="845"/>
                      </a:lnTo>
                      <a:lnTo>
                        <a:pt x="4101" y="877"/>
                      </a:lnTo>
                      <a:lnTo>
                        <a:pt x="4080" y="908"/>
                      </a:lnTo>
                      <a:lnTo>
                        <a:pt x="4070" y="939"/>
                      </a:lnTo>
                      <a:lnTo>
                        <a:pt x="4038" y="950"/>
                      </a:lnTo>
                      <a:lnTo>
                        <a:pt x="4007" y="950"/>
                      </a:lnTo>
                      <a:lnTo>
                        <a:pt x="3976" y="950"/>
                      </a:lnTo>
                      <a:lnTo>
                        <a:pt x="3944" y="950"/>
                      </a:lnTo>
                      <a:lnTo>
                        <a:pt x="3913" y="950"/>
                      </a:lnTo>
                      <a:lnTo>
                        <a:pt x="3882" y="950"/>
                      </a:lnTo>
                      <a:lnTo>
                        <a:pt x="3850" y="950"/>
                      </a:lnTo>
                      <a:lnTo>
                        <a:pt x="3819" y="960"/>
                      </a:lnTo>
                      <a:lnTo>
                        <a:pt x="3788" y="960"/>
                      </a:lnTo>
                      <a:lnTo>
                        <a:pt x="3757" y="960"/>
                      </a:lnTo>
                      <a:lnTo>
                        <a:pt x="3725" y="960"/>
                      </a:lnTo>
                      <a:lnTo>
                        <a:pt x="3694" y="970"/>
                      </a:lnTo>
                      <a:lnTo>
                        <a:pt x="3663" y="981"/>
                      </a:lnTo>
                      <a:lnTo>
                        <a:pt x="3631" y="1002"/>
                      </a:lnTo>
                      <a:lnTo>
                        <a:pt x="3600" y="1012"/>
                      </a:lnTo>
                      <a:lnTo>
                        <a:pt x="3569" y="1033"/>
                      </a:lnTo>
                      <a:lnTo>
                        <a:pt x="3537" y="1064"/>
                      </a:lnTo>
                      <a:lnTo>
                        <a:pt x="3506" y="1085"/>
                      </a:lnTo>
                      <a:lnTo>
                        <a:pt x="3475" y="1106"/>
                      </a:lnTo>
                      <a:lnTo>
                        <a:pt x="3454" y="1137"/>
                      </a:lnTo>
                      <a:lnTo>
                        <a:pt x="3423" y="1158"/>
                      </a:lnTo>
                      <a:lnTo>
                        <a:pt x="3391" y="1179"/>
                      </a:lnTo>
                      <a:lnTo>
                        <a:pt x="3360" y="1190"/>
                      </a:lnTo>
                      <a:lnTo>
                        <a:pt x="3329" y="1200"/>
                      </a:lnTo>
                      <a:lnTo>
                        <a:pt x="3297" y="1221"/>
                      </a:lnTo>
                      <a:lnTo>
                        <a:pt x="3266" y="1252"/>
                      </a:lnTo>
                      <a:lnTo>
                        <a:pt x="3235" y="1273"/>
                      </a:lnTo>
                      <a:lnTo>
                        <a:pt x="3203" y="1283"/>
                      </a:lnTo>
                      <a:lnTo>
                        <a:pt x="3172" y="1294"/>
                      </a:lnTo>
                      <a:lnTo>
                        <a:pt x="3141" y="1304"/>
                      </a:lnTo>
                      <a:lnTo>
                        <a:pt x="3120" y="1336"/>
                      </a:lnTo>
                      <a:lnTo>
                        <a:pt x="3089" y="1357"/>
                      </a:lnTo>
                      <a:lnTo>
                        <a:pt x="3078" y="1388"/>
                      </a:lnTo>
                      <a:lnTo>
                        <a:pt x="3057" y="1419"/>
                      </a:lnTo>
                      <a:lnTo>
                        <a:pt x="3057" y="1450"/>
                      </a:lnTo>
                      <a:lnTo>
                        <a:pt x="3068" y="1482"/>
                      </a:lnTo>
                      <a:lnTo>
                        <a:pt x="3078" y="1513"/>
                      </a:lnTo>
                      <a:lnTo>
                        <a:pt x="3089" y="1544"/>
                      </a:lnTo>
                      <a:lnTo>
                        <a:pt x="3120" y="1565"/>
                      </a:lnTo>
                      <a:lnTo>
                        <a:pt x="3130" y="1597"/>
                      </a:lnTo>
                      <a:lnTo>
                        <a:pt x="3151" y="1628"/>
                      </a:lnTo>
                      <a:lnTo>
                        <a:pt x="3172" y="1659"/>
                      </a:lnTo>
                      <a:lnTo>
                        <a:pt x="3203" y="1690"/>
                      </a:lnTo>
                      <a:lnTo>
                        <a:pt x="3235" y="1711"/>
                      </a:lnTo>
                      <a:lnTo>
                        <a:pt x="3245" y="1743"/>
                      </a:lnTo>
                      <a:lnTo>
                        <a:pt x="3277" y="1763"/>
                      </a:lnTo>
                      <a:lnTo>
                        <a:pt x="3308" y="1763"/>
                      </a:lnTo>
                      <a:lnTo>
                        <a:pt x="3339" y="1763"/>
                      </a:lnTo>
                      <a:lnTo>
                        <a:pt x="3370" y="1763"/>
                      </a:lnTo>
                      <a:lnTo>
                        <a:pt x="3402" y="1763"/>
                      </a:lnTo>
                      <a:lnTo>
                        <a:pt x="3433" y="1753"/>
                      </a:lnTo>
                      <a:lnTo>
                        <a:pt x="3464" y="1743"/>
                      </a:lnTo>
                      <a:lnTo>
                        <a:pt x="3496" y="1743"/>
                      </a:lnTo>
                      <a:lnTo>
                        <a:pt x="3527" y="1743"/>
                      </a:lnTo>
                      <a:lnTo>
                        <a:pt x="3558" y="1753"/>
                      </a:lnTo>
                      <a:lnTo>
                        <a:pt x="3590" y="1763"/>
                      </a:lnTo>
                      <a:lnTo>
                        <a:pt x="3621" y="1774"/>
                      </a:lnTo>
                      <a:lnTo>
                        <a:pt x="3652" y="1774"/>
                      </a:lnTo>
                      <a:lnTo>
                        <a:pt x="3683" y="1774"/>
                      </a:lnTo>
                      <a:lnTo>
                        <a:pt x="3704" y="1743"/>
                      </a:lnTo>
                      <a:lnTo>
                        <a:pt x="3725" y="1711"/>
                      </a:lnTo>
                      <a:lnTo>
                        <a:pt x="3736" y="1680"/>
                      </a:lnTo>
                      <a:lnTo>
                        <a:pt x="3757" y="1649"/>
                      </a:lnTo>
                      <a:lnTo>
                        <a:pt x="3788" y="1628"/>
                      </a:lnTo>
                      <a:lnTo>
                        <a:pt x="3819" y="1617"/>
                      </a:lnTo>
                      <a:lnTo>
                        <a:pt x="3830" y="1649"/>
                      </a:lnTo>
                      <a:lnTo>
                        <a:pt x="3830" y="1680"/>
                      </a:lnTo>
                      <a:lnTo>
                        <a:pt x="3819" y="1711"/>
                      </a:lnTo>
                      <a:lnTo>
                        <a:pt x="3809" y="1743"/>
                      </a:lnTo>
                      <a:lnTo>
                        <a:pt x="3830" y="1774"/>
                      </a:lnTo>
                      <a:lnTo>
                        <a:pt x="3861" y="1795"/>
                      </a:lnTo>
                      <a:lnTo>
                        <a:pt x="3882" y="1826"/>
                      </a:lnTo>
                      <a:lnTo>
                        <a:pt x="3892" y="1857"/>
                      </a:lnTo>
                      <a:lnTo>
                        <a:pt x="3913" y="1889"/>
                      </a:lnTo>
                      <a:lnTo>
                        <a:pt x="3913" y="1920"/>
                      </a:lnTo>
                      <a:lnTo>
                        <a:pt x="3913" y="1951"/>
                      </a:lnTo>
                      <a:lnTo>
                        <a:pt x="3903" y="1983"/>
                      </a:lnTo>
                      <a:lnTo>
                        <a:pt x="3903" y="2014"/>
                      </a:lnTo>
                      <a:lnTo>
                        <a:pt x="3903" y="2045"/>
                      </a:lnTo>
                      <a:lnTo>
                        <a:pt x="3882" y="2077"/>
                      </a:lnTo>
                      <a:lnTo>
                        <a:pt x="3850" y="2097"/>
                      </a:lnTo>
                      <a:lnTo>
                        <a:pt x="3819" y="2118"/>
                      </a:lnTo>
                      <a:lnTo>
                        <a:pt x="3788" y="2150"/>
                      </a:lnTo>
                      <a:lnTo>
                        <a:pt x="3757" y="2170"/>
                      </a:lnTo>
                      <a:lnTo>
                        <a:pt x="3725" y="2191"/>
                      </a:lnTo>
                      <a:lnTo>
                        <a:pt x="3694" y="2212"/>
                      </a:lnTo>
                      <a:lnTo>
                        <a:pt x="3663" y="2233"/>
                      </a:lnTo>
                      <a:lnTo>
                        <a:pt x="3631" y="2264"/>
                      </a:lnTo>
                      <a:lnTo>
                        <a:pt x="3600" y="2285"/>
                      </a:lnTo>
                      <a:lnTo>
                        <a:pt x="3590" y="2317"/>
                      </a:lnTo>
                      <a:lnTo>
                        <a:pt x="3569" y="2348"/>
                      </a:lnTo>
                      <a:lnTo>
                        <a:pt x="3548" y="2379"/>
                      </a:lnTo>
                      <a:lnTo>
                        <a:pt x="3527" y="2410"/>
                      </a:lnTo>
                      <a:lnTo>
                        <a:pt x="3506" y="2442"/>
                      </a:lnTo>
                      <a:lnTo>
                        <a:pt x="3485" y="2473"/>
                      </a:lnTo>
                      <a:lnTo>
                        <a:pt x="3475" y="2504"/>
                      </a:lnTo>
                      <a:lnTo>
                        <a:pt x="3443" y="2515"/>
                      </a:lnTo>
                      <a:lnTo>
                        <a:pt x="3412" y="2515"/>
                      </a:lnTo>
                      <a:lnTo>
                        <a:pt x="3381" y="2515"/>
                      </a:lnTo>
                      <a:lnTo>
                        <a:pt x="3350" y="2515"/>
                      </a:lnTo>
                      <a:lnTo>
                        <a:pt x="3318" y="2504"/>
                      </a:lnTo>
                      <a:lnTo>
                        <a:pt x="3287" y="2504"/>
                      </a:lnTo>
                      <a:lnTo>
                        <a:pt x="3256" y="2483"/>
                      </a:lnTo>
                      <a:lnTo>
                        <a:pt x="3224" y="2463"/>
                      </a:lnTo>
                      <a:lnTo>
                        <a:pt x="3193" y="2442"/>
                      </a:lnTo>
                      <a:lnTo>
                        <a:pt x="3162" y="2442"/>
                      </a:lnTo>
                      <a:lnTo>
                        <a:pt x="3130" y="2442"/>
                      </a:lnTo>
                      <a:lnTo>
                        <a:pt x="3099" y="2442"/>
                      </a:lnTo>
                      <a:lnTo>
                        <a:pt x="3068" y="2452"/>
                      </a:lnTo>
                      <a:lnTo>
                        <a:pt x="3047" y="2483"/>
                      </a:lnTo>
                      <a:lnTo>
                        <a:pt x="3016" y="2504"/>
                      </a:lnTo>
                      <a:lnTo>
                        <a:pt x="2984" y="2504"/>
                      </a:lnTo>
                      <a:lnTo>
                        <a:pt x="2901" y="2504"/>
                      </a:lnTo>
                      <a:lnTo>
                        <a:pt x="2870" y="2504"/>
                      </a:lnTo>
                      <a:lnTo>
                        <a:pt x="2838" y="2504"/>
                      </a:lnTo>
                      <a:lnTo>
                        <a:pt x="2807" y="2504"/>
                      </a:lnTo>
                      <a:lnTo>
                        <a:pt x="2776" y="2504"/>
                      </a:lnTo>
                      <a:lnTo>
                        <a:pt x="2744" y="2494"/>
                      </a:lnTo>
                      <a:lnTo>
                        <a:pt x="2713" y="2483"/>
                      </a:lnTo>
                      <a:lnTo>
                        <a:pt x="2682" y="2452"/>
                      </a:lnTo>
                      <a:lnTo>
                        <a:pt x="2650" y="2431"/>
                      </a:lnTo>
                      <a:lnTo>
                        <a:pt x="2619" y="2410"/>
                      </a:lnTo>
                      <a:lnTo>
                        <a:pt x="2588" y="2410"/>
                      </a:lnTo>
                      <a:lnTo>
                        <a:pt x="2557" y="2400"/>
                      </a:lnTo>
                      <a:lnTo>
                        <a:pt x="2525" y="2400"/>
                      </a:lnTo>
                      <a:lnTo>
                        <a:pt x="2494" y="2400"/>
                      </a:lnTo>
                      <a:lnTo>
                        <a:pt x="2463" y="2400"/>
                      </a:lnTo>
                      <a:lnTo>
                        <a:pt x="2379" y="2400"/>
                      </a:lnTo>
                      <a:lnTo>
                        <a:pt x="2348" y="2400"/>
                      </a:lnTo>
                      <a:lnTo>
                        <a:pt x="2317" y="2400"/>
                      </a:lnTo>
                      <a:lnTo>
                        <a:pt x="2285" y="2400"/>
                      </a:lnTo>
                      <a:lnTo>
                        <a:pt x="2254" y="2400"/>
                      </a:lnTo>
                      <a:lnTo>
                        <a:pt x="2223" y="2400"/>
                      </a:lnTo>
                      <a:lnTo>
                        <a:pt x="2191" y="2410"/>
                      </a:lnTo>
                      <a:lnTo>
                        <a:pt x="2160" y="2410"/>
                      </a:lnTo>
                      <a:lnTo>
                        <a:pt x="2129" y="2421"/>
                      </a:lnTo>
                      <a:lnTo>
                        <a:pt x="2097" y="2431"/>
                      </a:lnTo>
                      <a:lnTo>
                        <a:pt x="2087" y="2463"/>
                      </a:lnTo>
                      <a:lnTo>
                        <a:pt x="2087" y="2494"/>
                      </a:lnTo>
                      <a:lnTo>
                        <a:pt x="2087" y="2525"/>
                      </a:lnTo>
                      <a:lnTo>
                        <a:pt x="2087" y="2557"/>
                      </a:lnTo>
                      <a:lnTo>
                        <a:pt x="2056" y="2577"/>
                      </a:lnTo>
                      <a:lnTo>
                        <a:pt x="2024" y="2567"/>
                      </a:lnTo>
                      <a:lnTo>
                        <a:pt x="1993" y="2546"/>
                      </a:lnTo>
                      <a:lnTo>
                        <a:pt x="1972" y="2515"/>
                      </a:lnTo>
                      <a:lnTo>
                        <a:pt x="1951" y="2483"/>
                      </a:lnTo>
                      <a:lnTo>
                        <a:pt x="1920" y="2452"/>
                      </a:lnTo>
                      <a:lnTo>
                        <a:pt x="1889" y="2431"/>
                      </a:lnTo>
                      <a:lnTo>
                        <a:pt x="1857" y="2410"/>
                      </a:lnTo>
                      <a:lnTo>
                        <a:pt x="1826" y="2390"/>
                      </a:lnTo>
                      <a:lnTo>
                        <a:pt x="1805" y="2358"/>
                      </a:lnTo>
                      <a:lnTo>
                        <a:pt x="1774" y="2337"/>
                      </a:lnTo>
                      <a:lnTo>
                        <a:pt x="1743" y="2306"/>
                      </a:lnTo>
                      <a:lnTo>
                        <a:pt x="1722" y="2275"/>
                      </a:lnTo>
                      <a:lnTo>
                        <a:pt x="1690" y="2264"/>
                      </a:lnTo>
                      <a:lnTo>
                        <a:pt x="1659" y="2254"/>
                      </a:lnTo>
                      <a:lnTo>
                        <a:pt x="1628" y="2254"/>
                      </a:lnTo>
                      <a:lnTo>
                        <a:pt x="1597" y="2254"/>
                      </a:lnTo>
                      <a:lnTo>
                        <a:pt x="1513" y="2254"/>
                      </a:lnTo>
                      <a:lnTo>
                        <a:pt x="1482" y="2233"/>
                      </a:lnTo>
                      <a:lnTo>
                        <a:pt x="1471" y="2202"/>
                      </a:lnTo>
                      <a:lnTo>
                        <a:pt x="1471" y="2170"/>
                      </a:lnTo>
                      <a:lnTo>
                        <a:pt x="1461" y="2139"/>
                      </a:lnTo>
                      <a:lnTo>
                        <a:pt x="1461" y="2108"/>
                      </a:lnTo>
                      <a:lnTo>
                        <a:pt x="1461" y="2077"/>
                      </a:lnTo>
                      <a:lnTo>
                        <a:pt x="1461" y="2045"/>
                      </a:lnTo>
                      <a:lnTo>
                        <a:pt x="1461" y="2014"/>
                      </a:lnTo>
                      <a:lnTo>
                        <a:pt x="1461" y="1983"/>
                      </a:lnTo>
                      <a:lnTo>
                        <a:pt x="1461" y="1951"/>
                      </a:lnTo>
                      <a:lnTo>
                        <a:pt x="1450" y="1920"/>
                      </a:lnTo>
                      <a:lnTo>
                        <a:pt x="1440" y="1889"/>
                      </a:lnTo>
                      <a:lnTo>
                        <a:pt x="1440" y="1857"/>
                      </a:lnTo>
                      <a:lnTo>
                        <a:pt x="1419" y="1826"/>
                      </a:lnTo>
                      <a:lnTo>
                        <a:pt x="1388" y="1805"/>
                      </a:lnTo>
                      <a:lnTo>
                        <a:pt x="1357" y="1805"/>
                      </a:lnTo>
                      <a:lnTo>
                        <a:pt x="1325" y="1805"/>
                      </a:lnTo>
                      <a:lnTo>
                        <a:pt x="1294" y="1805"/>
                      </a:lnTo>
                      <a:lnTo>
                        <a:pt x="1210" y="1805"/>
                      </a:lnTo>
                      <a:lnTo>
                        <a:pt x="1179" y="1816"/>
                      </a:lnTo>
                      <a:lnTo>
                        <a:pt x="1096" y="1816"/>
                      </a:lnTo>
                      <a:lnTo>
                        <a:pt x="1064" y="1826"/>
                      </a:lnTo>
                      <a:lnTo>
                        <a:pt x="1033" y="1826"/>
                      </a:lnTo>
                      <a:lnTo>
                        <a:pt x="1002" y="1826"/>
                      </a:lnTo>
                      <a:lnTo>
                        <a:pt x="970" y="1826"/>
                      </a:lnTo>
                      <a:lnTo>
                        <a:pt x="939" y="1826"/>
                      </a:lnTo>
                      <a:lnTo>
                        <a:pt x="908" y="1805"/>
                      </a:lnTo>
                      <a:lnTo>
                        <a:pt x="877" y="1784"/>
                      </a:lnTo>
                      <a:lnTo>
                        <a:pt x="845" y="1763"/>
                      </a:lnTo>
                      <a:lnTo>
                        <a:pt x="814" y="1732"/>
                      </a:lnTo>
                      <a:lnTo>
                        <a:pt x="783" y="1722"/>
                      </a:lnTo>
                      <a:lnTo>
                        <a:pt x="751" y="1711"/>
                      </a:lnTo>
                      <a:lnTo>
                        <a:pt x="678" y="1701"/>
                      </a:lnTo>
                      <a:lnTo>
                        <a:pt x="605" y="1701"/>
                      </a:lnTo>
                      <a:lnTo>
                        <a:pt x="522" y="1690"/>
                      </a:lnTo>
                      <a:lnTo>
                        <a:pt x="490" y="1680"/>
                      </a:lnTo>
                      <a:lnTo>
                        <a:pt x="459" y="1680"/>
                      </a:lnTo>
                      <a:lnTo>
                        <a:pt x="428" y="1649"/>
                      </a:lnTo>
                      <a:lnTo>
                        <a:pt x="407" y="1617"/>
                      </a:lnTo>
                      <a:lnTo>
                        <a:pt x="376" y="1597"/>
                      </a:lnTo>
                      <a:lnTo>
                        <a:pt x="344" y="1576"/>
                      </a:lnTo>
                      <a:lnTo>
                        <a:pt x="313" y="1576"/>
                      </a:lnTo>
                      <a:lnTo>
                        <a:pt x="282" y="1576"/>
                      </a:lnTo>
                      <a:lnTo>
                        <a:pt x="209" y="1576"/>
                      </a:lnTo>
                      <a:lnTo>
                        <a:pt x="177" y="1586"/>
                      </a:lnTo>
                      <a:lnTo>
                        <a:pt x="146" y="1597"/>
                      </a:lnTo>
                      <a:lnTo>
                        <a:pt x="125" y="1628"/>
                      </a:lnTo>
                      <a:lnTo>
                        <a:pt x="104" y="1659"/>
                      </a:lnTo>
                      <a:lnTo>
                        <a:pt x="73" y="1690"/>
                      </a:lnTo>
                      <a:lnTo>
                        <a:pt x="52" y="1722"/>
                      </a:lnTo>
                      <a:lnTo>
                        <a:pt x="21" y="1743"/>
                      </a:lnTo>
                      <a:lnTo>
                        <a:pt x="0" y="1774"/>
                      </a:lnTo>
                      <a:lnTo>
                        <a:pt x="0" y="1743"/>
                      </a:lnTo>
                      <a:lnTo>
                        <a:pt x="0" y="1711"/>
                      </a:lnTo>
                      <a:lnTo>
                        <a:pt x="0" y="1680"/>
                      </a:lnTo>
                      <a:lnTo>
                        <a:pt x="0" y="1649"/>
                      </a:lnTo>
                      <a:lnTo>
                        <a:pt x="0" y="1617"/>
                      </a:lnTo>
                      <a:lnTo>
                        <a:pt x="0" y="1534"/>
                      </a:lnTo>
                      <a:lnTo>
                        <a:pt x="0" y="1440"/>
                      </a:lnTo>
                      <a:lnTo>
                        <a:pt x="0" y="1357"/>
                      </a:lnTo>
                      <a:lnTo>
                        <a:pt x="0" y="1263"/>
                      </a:lnTo>
                      <a:lnTo>
                        <a:pt x="0" y="1169"/>
                      </a:lnTo>
                      <a:lnTo>
                        <a:pt x="0" y="1075"/>
                      </a:lnTo>
                      <a:lnTo>
                        <a:pt x="0" y="1043"/>
                      </a:lnTo>
                      <a:lnTo>
                        <a:pt x="0" y="1012"/>
                      </a:lnTo>
                      <a:lnTo>
                        <a:pt x="0" y="981"/>
                      </a:lnTo>
                      <a:lnTo>
                        <a:pt x="0" y="908"/>
                      </a:lnTo>
                      <a:lnTo>
                        <a:pt x="0" y="814"/>
                      </a:lnTo>
                      <a:lnTo>
                        <a:pt x="0" y="730"/>
                      </a:lnTo>
                      <a:lnTo>
                        <a:pt x="0" y="657"/>
                      </a:lnTo>
                      <a:lnTo>
                        <a:pt x="0" y="584"/>
                      </a:lnTo>
                      <a:lnTo>
                        <a:pt x="0" y="501"/>
                      </a:lnTo>
                      <a:lnTo>
                        <a:pt x="0" y="417"/>
                      </a:lnTo>
                      <a:lnTo>
                        <a:pt x="0" y="323"/>
                      </a:lnTo>
                      <a:lnTo>
                        <a:pt x="0" y="230"/>
                      </a:lnTo>
                      <a:lnTo>
                        <a:pt x="0" y="136"/>
                      </a:lnTo>
                      <a:lnTo>
                        <a:pt x="0" y="104"/>
                      </a:lnTo>
                      <a:lnTo>
                        <a:pt x="0" y="73"/>
                      </a:lnTo>
                      <a:lnTo>
                        <a:pt x="0" y="42"/>
                      </a:lnTo>
                      <a:lnTo>
                        <a:pt x="31" y="21"/>
                      </a:lnTo>
                      <a:lnTo>
                        <a:pt x="63" y="21"/>
                      </a:lnTo>
                      <a:lnTo>
                        <a:pt x="94" y="21"/>
                      </a:lnTo>
                      <a:lnTo>
                        <a:pt x="125" y="21"/>
                      </a:lnTo>
                      <a:lnTo>
                        <a:pt x="157" y="21"/>
                      </a:lnTo>
                      <a:lnTo>
                        <a:pt x="240" y="21"/>
                      </a:lnTo>
                      <a:lnTo>
                        <a:pt x="313" y="21"/>
                      </a:lnTo>
                      <a:lnTo>
                        <a:pt x="397" y="21"/>
                      </a:lnTo>
                      <a:lnTo>
                        <a:pt x="490" y="21"/>
                      </a:lnTo>
                      <a:lnTo>
                        <a:pt x="563" y="21"/>
                      </a:lnTo>
                      <a:lnTo>
                        <a:pt x="647" y="21"/>
                      </a:lnTo>
                      <a:lnTo>
                        <a:pt x="720" y="21"/>
                      </a:lnTo>
                      <a:lnTo>
                        <a:pt x="751" y="21"/>
                      </a:lnTo>
                      <a:lnTo>
                        <a:pt x="783" y="21"/>
                      </a:lnTo>
                      <a:lnTo>
                        <a:pt x="720"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387360" y="5767560"/>
                  <a:ext cx="1206360" cy="0"/>
                </a:xfrm>
                <a:prstGeom prst="line">
                  <a:avLst/>
                </a:prstGeom>
                <a:ln w="316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1736640" y="4775040"/>
                  <a:ext cx="435132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1660680" y="5462640"/>
                  <a:ext cx="4389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3rd Missionary Journey</a:t>
                  </a:r>
                  <a:endParaRPr b="0" lang="en-US" sz="3600" spc="-1" strike="noStrike">
                    <a:solidFill>
                      <a:srgbClr val="ffffff"/>
                    </a:solidFill>
                    <a:latin typeface="Times New Roman"/>
                  </a:endParaRPr>
                </a:p>
              </p:txBody>
            </p:sp>
            <p:sp>
              <p:nvSpPr>
                <p:cNvPr id="973" name=""/>
                <p:cNvSpPr/>
                <p:nvPr/>
              </p:nvSpPr>
              <p:spPr>
                <a:xfrm>
                  <a:off x="6005160" y="3405240"/>
                  <a:ext cx="1161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Arial Narrow"/>
                    </a:rPr>
                    <a:t>Israel</a:t>
                  </a:r>
                  <a:endParaRPr b="0" lang="en-US" sz="3600" spc="-1" strike="noStrike">
                    <a:solidFill>
                      <a:srgbClr val="ffffff"/>
                    </a:solidFill>
                    <a:latin typeface="Times New Roman"/>
                  </a:endParaRPr>
                </a:p>
              </p:txBody>
            </p:sp>
            <p:sp>
              <p:nvSpPr>
                <p:cNvPr id="974" name=""/>
                <p:cNvSpPr/>
                <p:nvPr/>
              </p:nvSpPr>
              <p:spPr>
                <a:xfrm>
                  <a:off x="5927760" y="3873600"/>
                  <a:ext cx="2055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Jerusalem</a:t>
                  </a:r>
                  <a:endParaRPr b="0" lang="en-US" sz="3200" spc="-1" strike="noStrike">
                    <a:solidFill>
                      <a:srgbClr val="ffffff"/>
                    </a:solidFill>
                    <a:latin typeface="Times New Roman"/>
                  </a:endParaRPr>
                </a:p>
              </p:txBody>
            </p:sp>
            <p:sp>
              <p:nvSpPr>
                <p:cNvPr id="975" name=""/>
                <p:cNvSpPr/>
                <p:nvPr/>
              </p:nvSpPr>
              <p:spPr>
                <a:xfrm>
                  <a:off x="4786200" y="453384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ypt</a:t>
                  </a:r>
                  <a:endParaRPr b="0" lang="en-US" sz="2400" spc="-1" strike="noStrike">
                    <a:solidFill>
                      <a:srgbClr val="ffffff"/>
                    </a:solidFill>
                    <a:latin typeface="Times New Roman"/>
                  </a:endParaRPr>
                </a:p>
              </p:txBody>
            </p:sp>
            <p:sp>
              <p:nvSpPr>
                <p:cNvPr id="976" name=""/>
                <p:cNvSpPr/>
                <p:nvPr/>
              </p:nvSpPr>
              <p:spPr>
                <a:xfrm>
                  <a:off x="685800" y="285840"/>
                  <a:ext cx="8381880" cy="1162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6bf69"/>
                      </a:solidFill>
                      <a:uFillTx/>
                      <a:latin typeface="Book Antiqua"/>
                    </a:rPr>
                    <a:t>Paul’s Journeys</a:t>
                  </a:r>
                  <a:endParaRPr b="0" lang="en-US" sz="6000" spc="-1" strike="noStrike">
                    <a:solidFill>
                      <a:srgbClr val="ffffff"/>
                    </a:solidFill>
                    <a:latin typeface="Times New Roman"/>
                  </a:endParaRPr>
                </a:p>
              </p:txBody>
            </p:sp>
            <p:sp>
              <p:nvSpPr>
                <p:cNvPr id="977" name=""/>
                <p:cNvSpPr/>
                <p:nvPr/>
              </p:nvSpPr>
              <p:spPr>
                <a:xfrm>
                  <a:off x="3054240" y="2039760"/>
                  <a:ext cx="216000" cy="140040"/>
                </a:xfrm>
                <a:prstGeom prst="star5">
                  <a:avLst/>
                </a:prstGeom>
                <a:solidFill>
                  <a:srgbClr val="00b7a5"/>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78" name=""/>
                <p:cNvSpPr/>
                <p:nvPr/>
              </p:nvSpPr>
              <p:spPr>
                <a:xfrm>
                  <a:off x="1598040" y="1469880"/>
                  <a:ext cx="145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me</a:t>
                  </a:r>
                  <a:endParaRPr b="0" lang="en-US" sz="3600" spc="-1" strike="noStrike">
                    <a:solidFill>
                      <a:srgbClr val="ffffff"/>
                    </a:solidFill>
                    <a:latin typeface="Times New Roman"/>
                  </a:endParaRPr>
                </a:p>
              </p:txBody>
            </p:sp>
            <p:sp>
              <p:nvSpPr>
                <p:cNvPr id="979" name=""/>
                <p:cNvSpPr/>
                <p:nvPr/>
              </p:nvSpPr>
              <p:spPr>
                <a:xfrm>
                  <a:off x="6392160" y="2482920"/>
                  <a:ext cx="1576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Antioch</a:t>
                  </a:r>
                  <a:endParaRPr b="0" lang="en-US" sz="3600" spc="-1" strike="noStrike">
                    <a:solidFill>
                      <a:srgbClr val="ffffff"/>
                    </a:solidFill>
                    <a:latin typeface="Times New Roman"/>
                  </a:endParaRPr>
                </a:p>
              </p:txBody>
            </p:sp>
            <p:sp>
              <p:nvSpPr>
                <p:cNvPr id="980" name=""/>
                <p:cNvSpPr/>
                <p:nvPr/>
              </p:nvSpPr>
              <p:spPr>
                <a:xfrm>
                  <a:off x="5721480" y="3919680"/>
                  <a:ext cx="168120" cy="203040"/>
                </a:xfrm>
                <a:custGeom>
                  <a:avLst/>
                  <a:gdLst/>
                  <a:ahLst/>
                  <a:rect l="l" t="t" r="r" b="b"/>
                  <a:pathLst>
                    <a:path w="106" h="128">
                      <a:moveTo>
                        <a:pt x="92" y="0"/>
                      </a:moveTo>
                      <a:lnTo>
                        <a:pt x="52" y="23"/>
                      </a:lnTo>
                      <a:lnTo>
                        <a:pt x="21" y="33"/>
                      </a:lnTo>
                      <a:lnTo>
                        <a:pt x="0" y="65"/>
                      </a:lnTo>
                      <a:lnTo>
                        <a:pt x="11" y="96"/>
                      </a:lnTo>
                      <a:lnTo>
                        <a:pt x="21" y="127"/>
                      </a:lnTo>
                      <a:lnTo>
                        <a:pt x="52" y="127"/>
                      </a:lnTo>
                      <a:lnTo>
                        <a:pt x="73" y="96"/>
                      </a:lnTo>
                      <a:lnTo>
                        <a:pt x="94" y="65"/>
                      </a:lnTo>
                      <a:lnTo>
                        <a:pt x="94" y="33"/>
                      </a:lnTo>
                      <a:lnTo>
                        <a:pt x="105" y="2"/>
                      </a:lnTo>
                      <a:lnTo>
                        <a:pt x="92" y="0"/>
                      </a:lnTo>
                    </a:path>
                  </a:pathLst>
                </a:custGeom>
                <a:solidFill>
                  <a:srgbClr val="008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3054240" y="2039760"/>
                  <a:ext cx="216000" cy="14004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82" name=""/>
                <p:cNvSpPr/>
                <p:nvPr/>
              </p:nvSpPr>
              <p:spPr>
                <a:xfrm>
                  <a:off x="4502160" y="211608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83" name=""/>
                <p:cNvSpPr/>
                <p:nvPr/>
              </p:nvSpPr>
              <p:spPr>
                <a:xfrm>
                  <a:off x="4349880" y="2421000"/>
                  <a:ext cx="21564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84" name=""/>
                <p:cNvSpPr/>
                <p:nvPr/>
              </p:nvSpPr>
              <p:spPr>
                <a:xfrm>
                  <a:off x="4330800" y="2840040"/>
                  <a:ext cx="21564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85" name=""/>
                <p:cNvSpPr/>
                <p:nvPr/>
              </p:nvSpPr>
              <p:spPr>
                <a:xfrm>
                  <a:off x="4636800" y="1805040"/>
                  <a:ext cx="1406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Phillipi</a:t>
                  </a:r>
                  <a:endParaRPr b="0" lang="en-US" sz="3600" spc="-1" strike="noStrike">
                    <a:solidFill>
                      <a:srgbClr val="ffffff"/>
                    </a:solidFill>
                    <a:latin typeface="Times New Roman"/>
                  </a:endParaRPr>
                </a:p>
              </p:txBody>
            </p:sp>
            <p:sp>
              <p:nvSpPr>
                <p:cNvPr id="986" name=""/>
                <p:cNvSpPr/>
                <p:nvPr/>
              </p:nvSpPr>
              <p:spPr>
                <a:xfrm>
                  <a:off x="2839680" y="3090960"/>
                  <a:ext cx="1513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Corinth</a:t>
                  </a:r>
                  <a:endParaRPr b="0" lang="en-US" sz="3600" spc="-1" strike="noStrike">
                    <a:solidFill>
                      <a:srgbClr val="ffffff"/>
                    </a:solidFill>
                    <a:latin typeface="Times New Roman"/>
                  </a:endParaRPr>
                </a:p>
              </p:txBody>
            </p:sp>
            <p:sp>
              <p:nvSpPr>
                <p:cNvPr id="987" name=""/>
                <p:cNvSpPr/>
                <p:nvPr/>
              </p:nvSpPr>
              <p:spPr>
                <a:xfrm>
                  <a:off x="3260880" y="2109960"/>
                  <a:ext cx="1265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Thess</a:t>
                  </a:r>
                  <a:endParaRPr b="0" lang="en-US" sz="3600" spc="-1" strike="noStrike">
                    <a:solidFill>
                      <a:srgbClr val="ffffff"/>
                    </a:solidFill>
                    <a:latin typeface="Times New Roman"/>
                  </a:endParaRPr>
                </a:p>
              </p:txBody>
            </p:sp>
            <p:sp>
              <p:nvSpPr>
                <p:cNvPr id="988" name=""/>
                <p:cNvSpPr/>
                <p:nvPr/>
              </p:nvSpPr>
              <p:spPr>
                <a:xfrm>
                  <a:off x="2955960" y="2414520"/>
                  <a:ext cx="145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Athens</a:t>
                  </a:r>
                  <a:endParaRPr b="0" lang="en-US" sz="3600" spc="-1" strike="noStrike">
                    <a:solidFill>
                      <a:srgbClr val="ffffff"/>
                    </a:solidFill>
                    <a:latin typeface="Times New Roman"/>
                  </a:endParaRPr>
                </a:p>
              </p:txBody>
            </p:sp>
            <p:sp>
              <p:nvSpPr>
                <p:cNvPr id="989" name=""/>
                <p:cNvSpPr/>
                <p:nvPr/>
              </p:nvSpPr>
              <p:spPr>
                <a:xfrm>
                  <a:off x="4197240" y="303048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90" name=""/>
                <p:cNvSpPr/>
                <p:nvPr/>
              </p:nvSpPr>
              <p:spPr>
                <a:xfrm flipH="1">
                  <a:off x="6070320" y="3201840"/>
                  <a:ext cx="127080" cy="1018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flipH="1" flipV="1">
                  <a:off x="6146640" y="3150720"/>
                  <a:ext cx="177840" cy="1429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3966840" y="3673440"/>
                  <a:ext cx="1851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Caesarea</a:t>
                  </a:r>
                  <a:endParaRPr b="0" lang="en-US" sz="3600" spc="-1" strike="noStrike">
                    <a:solidFill>
                      <a:srgbClr val="ffffff"/>
                    </a:solidFill>
                    <a:latin typeface="Times New Roman"/>
                  </a:endParaRPr>
                </a:p>
              </p:txBody>
            </p:sp>
            <p:sp>
              <p:nvSpPr>
                <p:cNvPr id="993" name=""/>
                <p:cNvSpPr/>
                <p:nvPr/>
              </p:nvSpPr>
              <p:spPr>
                <a:xfrm>
                  <a:off x="5740560" y="3863880"/>
                  <a:ext cx="21564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94" name=""/>
                <p:cNvSpPr/>
                <p:nvPr/>
              </p:nvSpPr>
              <p:spPr>
                <a:xfrm>
                  <a:off x="5029200" y="285588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95" name=""/>
                <p:cNvSpPr/>
                <p:nvPr/>
              </p:nvSpPr>
              <p:spPr>
                <a:xfrm>
                  <a:off x="5230080" y="2878200"/>
                  <a:ext cx="1743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Ephesus</a:t>
                  </a:r>
                  <a:endParaRPr b="0" lang="en-US" sz="3600" spc="-1" strike="noStrike">
                    <a:solidFill>
                      <a:srgbClr val="ffffff"/>
                    </a:solidFill>
                    <a:latin typeface="Times New Roman"/>
                  </a:endParaRPr>
                </a:p>
              </p:txBody>
            </p:sp>
            <p:sp>
              <p:nvSpPr>
                <p:cNvPr id="996" name=""/>
                <p:cNvSpPr/>
                <p:nvPr/>
              </p:nvSpPr>
              <p:spPr>
                <a:xfrm>
                  <a:off x="4322880" y="2228760"/>
                  <a:ext cx="1855800" cy="1741680"/>
                </a:xfrm>
                <a:custGeom>
                  <a:avLst/>
                  <a:gdLst/>
                  <a:ahLst/>
                  <a:rect l="l" t="t" r="r" b="b"/>
                  <a:pathLst>
                    <a:path w="1169" h="1097">
                      <a:moveTo>
                        <a:pt x="1169" y="595"/>
                      </a:moveTo>
                      <a:lnTo>
                        <a:pt x="1169" y="564"/>
                      </a:lnTo>
                      <a:lnTo>
                        <a:pt x="1169" y="532"/>
                      </a:lnTo>
                      <a:lnTo>
                        <a:pt x="1169" y="501"/>
                      </a:lnTo>
                      <a:lnTo>
                        <a:pt x="1148" y="470"/>
                      </a:lnTo>
                      <a:lnTo>
                        <a:pt x="1117" y="449"/>
                      </a:lnTo>
                      <a:lnTo>
                        <a:pt x="1096" y="418"/>
                      </a:lnTo>
                      <a:lnTo>
                        <a:pt x="1065" y="386"/>
                      </a:lnTo>
                      <a:lnTo>
                        <a:pt x="1034" y="418"/>
                      </a:lnTo>
                      <a:lnTo>
                        <a:pt x="1013" y="449"/>
                      </a:lnTo>
                      <a:lnTo>
                        <a:pt x="992" y="480"/>
                      </a:lnTo>
                      <a:lnTo>
                        <a:pt x="960" y="470"/>
                      </a:lnTo>
                      <a:lnTo>
                        <a:pt x="929" y="449"/>
                      </a:lnTo>
                      <a:lnTo>
                        <a:pt x="898" y="438"/>
                      </a:lnTo>
                      <a:lnTo>
                        <a:pt x="867" y="438"/>
                      </a:lnTo>
                      <a:lnTo>
                        <a:pt x="835" y="449"/>
                      </a:lnTo>
                      <a:lnTo>
                        <a:pt x="825" y="418"/>
                      </a:lnTo>
                      <a:lnTo>
                        <a:pt x="825" y="386"/>
                      </a:lnTo>
                      <a:lnTo>
                        <a:pt x="825" y="355"/>
                      </a:lnTo>
                      <a:lnTo>
                        <a:pt x="794" y="355"/>
                      </a:lnTo>
                      <a:lnTo>
                        <a:pt x="762" y="355"/>
                      </a:lnTo>
                      <a:lnTo>
                        <a:pt x="731" y="334"/>
                      </a:lnTo>
                      <a:lnTo>
                        <a:pt x="700" y="355"/>
                      </a:lnTo>
                      <a:lnTo>
                        <a:pt x="668" y="376"/>
                      </a:lnTo>
                      <a:lnTo>
                        <a:pt x="637" y="397"/>
                      </a:lnTo>
                      <a:lnTo>
                        <a:pt x="606" y="407"/>
                      </a:lnTo>
                      <a:lnTo>
                        <a:pt x="574" y="438"/>
                      </a:lnTo>
                      <a:lnTo>
                        <a:pt x="543" y="470"/>
                      </a:lnTo>
                      <a:lnTo>
                        <a:pt x="512" y="480"/>
                      </a:lnTo>
                      <a:lnTo>
                        <a:pt x="480" y="480"/>
                      </a:lnTo>
                      <a:lnTo>
                        <a:pt x="449" y="480"/>
                      </a:lnTo>
                      <a:lnTo>
                        <a:pt x="418" y="470"/>
                      </a:lnTo>
                      <a:lnTo>
                        <a:pt x="387" y="449"/>
                      </a:lnTo>
                      <a:lnTo>
                        <a:pt x="355" y="428"/>
                      </a:lnTo>
                      <a:lnTo>
                        <a:pt x="355" y="397"/>
                      </a:lnTo>
                      <a:lnTo>
                        <a:pt x="366" y="365"/>
                      </a:lnTo>
                      <a:lnTo>
                        <a:pt x="376" y="334"/>
                      </a:lnTo>
                      <a:lnTo>
                        <a:pt x="387" y="303"/>
                      </a:lnTo>
                      <a:lnTo>
                        <a:pt x="387" y="271"/>
                      </a:lnTo>
                      <a:lnTo>
                        <a:pt x="376" y="240"/>
                      </a:lnTo>
                      <a:lnTo>
                        <a:pt x="345" y="209"/>
                      </a:lnTo>
                      <a:lnTo>
                        <a:pt x="324" y="178"/>
                      </a:lnTo>
                      <a:lnTo>
                        <a:pt x="303" y="146"/>
                      </a:lnTo>
                      <a:lnTo>
                        <a:pt x="282" y="115"/>
                      </a:lnTo>
                      <a:lnTo>
                        <a:pt x="261" y="84"/>
                      </a:lnTo>
                      <a:lnTo>
                        <a:pt x="240" y="52"/>
                      </a:lnTo>
                      <a:lnTo>
                        <a:pt x="209" y="42"/>
                      </a:lnTo>
                      <a:lnTo>
                        <a:pt x="178" y="31"/>
                      </a:lnTo>
                      <a:lnTo>
                        <a:pt x="167" y="63"/>
                      </a:lnTo>
                      <a:lnTo>
                        <a:pt x="157" y="94"/>
                      </a:lnTo>
                      <a:lnTo>
                        <a:pt x="136" y="125"/>
                      </a:lnTo>
                      <a:lnTo>
                        <a:pt x="126" y="157"/>
                      </a:lnTo>
                      <a:lnTo>
                        <a:pt x="105" y="188"/>
                      </a:lnTo>
                      <a:lnTo>
                        <a:pt x="105" y="219"/>
                      </a:lnTo>
                      <a:lnTo>
                        <a:pt x="74" y="230"/>
                      </a:lnTo>
                      <a:lnTo>
                        <a:pt x="42" y="209"/>
                      </a:lnTo>
                      <a:lnTo>
                        <a:pt x="32" y="240"/>
                      </a:lnTo>
                      <a:lnTo>
                        <a:pt x="32" y="271"/>
                      </a:lnTo>
                      <a:lnTo>
                        <a:pt x="32" y="303"/>
                      </a:lnTo>
                      <a:lnTo>
                        <a:pt x="32" y="334"/>
                      </a:lnTo>
                      <a:lnTo>
                        <a:pt x="32" y="365"/>
                      </a:lnTo>
                      <a:lnTo>
                        <a:pt x="42" y="397"/>
                      </a:lnTo>
                      <a:lnTo>
                        <a:pt x="53" y="428"/>
                      </a:lnTo>
                      <a:lnTo>
                        <a:pt x="53" y="459"/>
                      </a:lnTo>
                      <a:lnTo>
                        <a:pt x="53" y="491"/>
                      </a:lnTo>
                      <a:lnTo>
                        <a:pt x="42" y="522"/>
                      </a:lnTo>
                      <a:lnTo>
                        <a:pt x="21" y="553"/>
                      </a:lnTo>
                      <a:lnTo>
                        <a:pt x="0" y="584"/>
                      </a:lnTo>
                      <a:lnTo>
                        <a:pt x="21" y="553"/>
                      </a:lnTo>
                      <a:lnTo>
                        <a:pt x="32" y="522"/>
                      </a:lnTo>
                      <a:lnTo>
                        <a:pt x="53" y="491"/>
                      </a:lnTo>
                      <a:lnTo>
                        <a:pt x="53" y="459"/>
                      </a:lnTo>
                      <a:lnTo>
                        <a:pt x="42" y="428"/>
                      </a:lnTo>
                      <a:lnTo>
                        <a:pt x="42" y="397"/>
                      </a:lnTo>
                      <a:lnTo>
                        <a:pt x="32" y="365"/>
                      </a:lnTo>
                      <a:lnTo>
                        <a:pt x="32" y="334"/>
                      </a:lnTo>
                      <a:lnTo>
                        <a:pt x="32" y="303"/>
                      </a:lnTo>
                      <a:lnTo>
                        <a:pt x="42" y="271"/>
                      </a:lnTo>
                      <a:lnTo>
                        <a:pt x="63" y="240"/>
                      </a:lnTo>
                      <a:lnTo>
                        <a:pt x="63" y="209"/>
                      </a:lnTo>
                      <a:lnTo>
                        <a:pt x="74" y="178"/>
                      </a:lnTo>
                      <a:lnTo>
                        <a:pt x="105" y="157"/>
                      </a:lnTo>
                      <a:lnTo>
                        <a:pt x="136" y="157"/>
                      </a:lnTo>
                      <a:lnTo>
                        <a:pt x="147" y="125"/>
                      </a:lnTo>
                      <a:lnTo>
                        <a:pt x="157" y="94"/>
                      </a:lnTo>
                      <a:lnTo>
                        <a:pt x="167" y="63"/>
                      </a:lnTo>
                      <a:lnTo>
                        <a:pt x="178" y="31"/>
                      </a:lnTo>
                      <a:lnTo>
                        <a:pt x="188" y="0"/>
                      </a:lnTo>
                      <a:lnTo>
                        <a:pt x="220" y="0"/>
                      </a:lnTo>
                      <a:lnTo>
                        <a:pt x="251" y="31"/>
                      </a:lnTo>
                      <a:lnTo>
                        <a:pt x="282" y="63"/>
                      </a:lnTo>
                      <a:lnTo>
                        <a:pt x="293" y="94"/>
                      </a:lnTo>
                      <a:lnTo>
                        <a:pt x="303" y="125"/>
                      </a:lnTo>
                      <a:lnTo>
                        <a:pt x="324" y="157"/>
                      </a:lnTo>
                      <a:lnTo>
                        <a:pt x="345" y="188"/>
                      </a:lnTo>
                      <a:lnTo>
                        <a:pt x="355" y="219"/>
                      </a:lnTo>
                      <a:lnTo>
                        <a:pt x="366" y="251"/>
                      </a:lnTo>
                      <a:lnTo>
                        <a:pt x="355" y="282"/>
                      </a:lnTo>
                      <a:lnTo>
                        <a:pt x="345" y="313"/>
                      </a:lnTo>
                      <a:lnTo>
                        <a:pt x="334" y="344"/>
                      </a:lnTo>
                      <a:lnTo>
                        <a:pt x="324" y="376"/>
                      </a:lnTo>
                      <a:lnTo>
                        <a:pt x="324" y="407"/>
                      </a:lnTo>
                      <a:lnTo>
                        <a:pt x="324" y="438"/>
                      </a:lnTo>
                      <a:lnTo>
                        <a:pt x="334" y="470"/>
                      </a:lnTo>
                      <a:lnTo>
                        <a:pt x="355" y="501"/>
                      </a:lnTo>
                      <a:lnTo>
                        <a:pt x="387" y="522"/>
                      </a:lnTo>
                      <a:lnTo>
                        <a:pt x="418" y="553"/>
                      </a:lnTo>
                      <a:lnTo>
                        <a:pt x="449" y="564"/>
                      </a:lnTo>
                      <a:lnTo>
                        <a:pt x="480" y="584"/>
                      </a:lnTo>
                      <a:lnTo>
                        <a:pt x="512" y="584"/>
                      </a:lnTo>
                      <a:lnTo>
                        <a:pt x="543" y="584"/>
                      </a:lnTo>
                      <a:lnTo>
                        <a:pt x="543" y="616"/>
                      </a:lnTo>
                      <a:lnTo>
                        <a:pt x="564" y="647"/>
                      </a:lnTo>
                      <a:lnTo>
                        <a:pt x="564" y="678"/>
                      </a:lnTo>
                      <a:lnTo>
                        <a:pt x="574" y="710"/>
                      </a:lnTo>
                      <a:lnTo>
                        <a:pt x="585" y="741"/>
                      </a:lnTo>
                      <a:lnTo>
                        <a:pt x="616" y="772"/>
                      </a:lnTo>
                      <a:lnTo>
                        <a:pt x="647" y="793"/>
                      </a:lnTo>
                      <a:lnTo>
                        <a:pt x="668" y="824"/>
                      </a:lnTo>
                      <a:lnTo>
                        <a:pt x="700" y="845"/>
                      </a:lnTo>
                      <a:lnTo>
                        <a:pt x="731" y="866"/>
                      </a:lnTo>
                      <a:lnTo>
                        <a:pt x="762" y="898"/>
                      </a:lnTo>
                      <a:lnTo>
                        <a:pt x="794" y="918"/>
                      </a:lnTo>
                      <a:lnTo>
                        <a:pt x="814" y="950"/>
                      </a:lnTo>
                      <a:lnTo>
                        <a:pt x="846" y="971"/>
                      </a:lnTo>
                      <a:lnTo>
                        <a:pt x="867" y="1002"/>
                      </a:lnTo>
                      <a:lnTo>
                        <a:pt x="898" y="1023"/>
                      </a:lnTo>
                      <a:lnTo>
                        <a:pt x="929" y="1044"/>
                      </a:lnTo>
                      <a:lnTo>
                        <a:pt x="960" y="1064"/>
                      </a:lnTo>
                      <a:lnTo>
                        <a:pt x="981" y="1096"/>
                      </a:lnTo>
                      <a:lnTo>
                        <a:pt x="981" y="1097"/>
                      </a:lnTo>
                      <a:lnTo>
                        <a:pt x="981" y="1085"/>
                      </a:lnTo>
                      <a:lnTo>
                        <a:pt x="969" y="1061"/>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6221520" y="2936880"/>
                  <a:ext cx="21564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98" name=""/>
                <p:cNvSpPr/>
                <p:nvPr/>
              </p:nvSpPr>
              <p:spPr>
                <a:xfrm>
                  <a:off x="61920" y="607392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999" name=""/>
                <p:cNvSpPr/>
                <p:nvPr/>
              </p:nvSpPr>
              <p:spPr>
                <a:xfrm rot="17336400">
                  <a:off x="5666400" y="283860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000" name=""/>
                <p:cNvSpPr/>
                <p:nvPr/>
              </p:nvSpPr>
              <p:spPr>
                <a:xfrm rot="7870800">
                  <a:off x="5380560" y="350568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001" name=""/>
                <p:cNvSpPr/>
                <p:nvPr/>
              </p:nvSpPr>
              <p:spPr>
                <a:xfrm rot="17336400">
                  <a:off x="4885200" y="285768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sp>
            <p:nvSpPr>
              <p:cNvPr id="1002" name=""/>
              <p:cNvSpPr/>
              <p:nvPr/>
            </p:nvSpPr>
            <p:spPr>
              <a:xfrm>
                <a:off x="6635880" y="127008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1003" name=""/>
            <p:cNvSpPr/>
            <p:nvPr/>
          </p:nvSpPr>
          <p:spPr>
            <a:xfrm>
              <a:off x="7581960" y="4762440"/>
              <a:ext cx="1542960" cy="1590840"/>
            </a:xfrm>
            <a:custGeom>
              <a:avLst/>
              <a:gdLst/>
              <a:ahLst/>
              <a:rect l="l" t="t" r="r" b="b"/>
              <a:pathLst>
                <a:path w="972" h="1002">
                  <a:moveTo>
                    <a:pt x="972" y="504"/>
                  </a:moveTo>
                  <a:lnTo>
                    <a:pt x="940" y="420"/>
                  </a:lnTo>
                  <a:lnTo>
                    <a:pt x="892" y="396"/>
                  </a:lnTo>
                  <a:lnTo>
                    <a:pt x="736" y="468"/>
                  </a:lnTo>
                  <a:lnTo>
                    <a:pt x="652" y="348"/>
                  </a:lnTo>
                  <a:lnTo>
                    <a:pt x="556" y="252"/>
                  </a:lnTo>
                  <a:lnTo>
                    <a:pt x="448" y="216"/>
                  </a:lnTo>
                  <a:lnTo>
                    <a:pt x="364" y="144"/>
                  </a:lnTo>
                  <a:lnTo>
                    <a:pt x="252" y="0"/>
                  </a:lnTo>
                  <a:lnTo>
                    <a:pt x="160" y="12"/>
                  </a:lnTo>
                  <a:lnTo>
                    <a:pt x="112" y="60"/>
                  </a:lnTo>
                  <a:lnTo>
                    <a:pt x="0" y="72"/>
                  </a:lnTo>
                  <a:lnTo>
                    <a:pt x="64" y="240"/>
                  </a:lnTo>
                  <a:lnTo>
                    <a:pt x="196" y="372"/>
                  </a:lnTo>
                  <a:lnTo>
                    <a:pt x="252" y="504"/>
                  </a:lnTo>
                  <a:lnTo>
                    <a:pt x="252" y="576"/>
                  </a:lnTo>
                  <a:lnTo>
                    <a:pt x="268" y="624"/>
                  </a:lnTo>
                  <a:lnTo>
                    <a:pt x="324" y="540"/>
                  </a:lnTo>
                  <a:lnTo>
                    <a:pt x="364" y="552"/>
                  </a:lnTo>
                  <a:lnTo>
                    <a:pt x="360" y="612"/>
                  </a:lnTo>
                  <a:lnTo>
                    <a:pt x="388" y="744"/>
                  </a:lnTo>
                  <a:lnTo>
                    <a:pt x="640" y="756"/>
                  </a:lnTo>
                  <a:lnTo>
                    <a:pt x="788" y="660"/>
                  </a:lnTo>
                  <a:lnTo>
                    <a:pt x="720" y="900"/>
                  </a:lnTo>
                  <a:lnTo>
                    <a:pt x="816" y="1002"/>
                  </a:lnTo>
                  <a:lnTo>
                    <a:pt x="972" y="1002"/>
                  </a:lnTo>
                </a:path>
              </a:pathLst>
            </a:custGeom>
            <a:solidFill>
              <a:srgbClr val="114ffb"/>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004" name=""/>
          <p:cNvGrpSpPr/>
          <p:nvPr/>
        </p:nvGrpSpPr>
        <p:grpSpPr>
          <a:xfrm>
            <a:off x="368280" y="514440"/>
            <a:ext cx="8590320" cy="6191280"/>
            <a:chOff x="368280" y="514440"/>
            <a:chExt cx="8590320" cy="6191280"/>
          </a:xfrm>
        </p:grpSpPr>
        <p:grpSp>
          <p:nvGrpSpPr>
            <p:cNvPr id="1005" name=""/>
            <p:cNvGrpSpPr/>
            <p:nvPr/>
          </p:nvGrpSpPr>
          <p:grpSpPr>
            <a:xfrm>
              <a:off x="368280" y="514440"/>
              <a:ext cx="8590320" cy="6191280"/>
              <a:chOff x="368280" y="514440"/>
              <a:chExt cx="8590320" cy="6191280"/>
            </a:xfrm>
          </p:grpSpPr>
          <p:pic>
            <p:nvPicPr>
              <p:cNvPr id="1006" name="" descr=""/>
              <p:cNvPicPr/>
              <p:nvPr/>
            </p:nvPicPr>
            <p:blipFill>
              <a:blip r:embed="rId1"/>
              <a:srcRect l="5242" t="18241" r="0" b="0"/>
              <a:stretch/>
            </p:blipFill>
            <p:spPr>
              <a:xfrm>
                <a:off x="371520" y="514440"/>
                <a:ext cx="6713640" cy="6191280"/>
              </a:xfrm>
              <a:prstGeom prst="rect">
                <a:avLst/>
              </a:prstGeom>
              <a:ln w="0">
                <a:noFill/>
              </a:ln>
            </p:spPr>
          </p:pic>
          <p:sp>
            <p:nvSpPr>
              <p:cNvPr id="1007" name=""/>
              <p:cNvSpPr/>
              <p:nvPr/>
            </p:nvSpPr>
            <p:spPr>
              <a:xfrm>
                <a:off x="2157480" y="2022480"/>
                <a:ext cx="412560" cy="276120"/>
              </a:xfrm>
              <a:prstGeom prst="star5">
                <a:avLst/>
              </a:prstGeom>
              <a:solidFill>
                <a:srgbClr val="ff500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008" name=""/>
              <p:cNvSpPr/>
              <p:nvPr/>
            </p:nvSpPr>
            <p:spPr>
              <a:xfrm>
                <a:off x="3790800" y="4048200"/>
                <a:ext cx="24987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Jerusalem</a:t>
                </a:r>
                <a:endParaRPr b="0" lang="en-US" sz="3600" spc="-1" strike="noStrike">
                  <a:solidFill>
                    <a:srgbClr val="ffffff"/>
                  </a:solidFill>
                  <a:latin typeface="Times New Roman"/>
                </a:endParaRPr>
              </a:p>
            </p:txBody>
          </p:sp>
          <p:sp>
            <p:nvSpPr>
              <p:cNvPr id="1009" name=""/>
              <p:cNvSpPr/>
              <p:nvPr/>
            </p:nvSpPr>
            <p:spPr>
              <a:xfrm>
                <a:off x="2282760" y="1452600"/>
                <a:ext cx="20336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aesarea</a:t>
                </a:r>
                <a:endParaRPr b="0" lang="en-US" sz="3200" spc="-1" strike="noStrike">
                  <a:solidFill>
                    <a:srgbClr val="ffffff"/>
                  </a:solidFill>
                  <a:latin typeface="Times New Roman"/>
                </a:endParaRPr>
              </a:p>
            </p:txBody>
          </p:sp>
          <p:sp>
            <p:nvSpPr>
              <p:cNvPr id="1010" name=""/>
              <p:cNvSpPr/>
              <p:nvPr/>
            </p:nvSpPr>
            <p:spPr>
              <a:xfrm rot="17280000">
                <a:off x="-696960" y="2209320"/>
                <a:ext cx="404496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diteranean</a:t>
                </a:r>
                <a:endParaRPr b="0" lang="en-US" sz="4000" spc="-1" strike="noStrike">
                  <a:solidFill>
                    <a:srgbClr val="ffffff"/>
                  </a:solidFill>
                  <a:latin typeface="Times New Roman"/>
                </a:endParaRPr>
              </a:p>
            </p:txBody>
          </p:sp>
          <p:sp>
            <p:nvSpPr>
              <p:cNvPr id="1011" name=""/>
              <p:cNvSpPr/>
              <p:nvPr/>
            </p:nvSpPr>
            <p:spPr>
              <a:xfrm>
                <a:off x="4379760" y="960480"/>
                <a:ext cx="254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 of Galilee</a:t>
                </a:r>
                <a:endParaRPr b="0" lang="en-US" sz="2400" spc="-1" strike="noStrike">
                  <a:solidFill>
                    <a:srgbClr val="ffffff"/>
                  </a:solidFill>
                  <a:latin typeface="Times New Roman"/>
                </a:endParaRPr>
              </a:p>
            </p:txBody>
          </p:sp>
          <p:sp>
            <p:nvSpPr>
              <p:cNvPr id="1012" name=""/>
              <p:cNvSpPr/>
              <p:nvPr/>
            </p:nvSpPr>
            <p:spPr>
              <a:xfrm>
                <a:off x="4530600" y="5202360"/>
                <a:ext cx="20844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d Sea</a:t>
                </a:r>
                <a:endParaRPr b="0" lang="en-US" sz="2800" spc="-1" strike="noStrike">
                  <a:solidFill>
                    <a:srgbClr val="ffffff"/>
                  </a:solidFill>
                  <a:latin typeface="Times New Roman"/>
                </a:endParaRPr>
              </a:p>
            </p:txBody>
          </p:sp>
          <p:sp>
            <p:nvSpPr>
              <p:cNvPr id="1013" name=""/>
              <p:cNvSpPr/>
              <p:nvPr/>
            </p:nvSpPr>
            <p:spPr>
              <a:xfrm rot="16200000">
                <a:off x="3483360" y="2569320"/>
                <a:ext cx="2390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rdan River</a:t>
                </a:r>
                <a:endParaRPr b="0" lang="en-US" sz="2400" spc="-1" strike="noStrike">
                  <a:solidFill>
                    <a:srgbClr val="ffffff"/>
                  </a:solidFill>
                  <a:latin typeface="Times New Roman"/>
                </a:endParaRPr>
              </a:p>
            </p:txBody>
          </p:sp>
          <p:sp>
            <p:nvSpPr>
              <p:cNvPr id="1014" name=""/>
              <p:cNvSpPr/>
              <p:nvPr/>
            </p:nvSpPr>
            <p:spPr>
              <a:xfrm>
                <a:off x="1368360" y="3565440"/>
                <a:ext cx="19224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ntipatris</a:t>
                </a:r>
                <a:endParaRPr b="0" lang="en-US" sz="2800" spc="-1" strike="noStrike">
                  <a:solidFill>
                    <a:srgbClr val="ffffff"/>
                  </a:solidFill>
                  <a:latin typeface="Times New Roman"/>
                </a:endParaRPr>
              </a:p>
            </p:txBody>
          </p:sp>
          <p:sp>
            <p:nvSpPr>
              <p:cNvPr id="1015" name=""/>
              <p:cNvSpPr/>
              <p:nvPr/>
            </p:nvSpPr>
            <p:spPr>
              <a:xfrm flipH="1" flipV="1">
                <a:off x="2412720" y="2143080"/>
                <a:ext cx="406440" cy="138744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flipH="1" flipV="1">
                <a:off x="2717280" y="3327480"/>
                <a:ext cx="1041480" cy="119376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2557440" y="3154320"/>
                <a:ext cx="390600" cy="344520"/>
              </a:xfrm>
              <a:prstGeom prst="star5">
                <a:avLst/>
              </a:prstGeom>
              <a:solidFill>
                <a:srgbClr val="ff500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3435480" y="4365720"/>
                <a:ext cx="522000" cy="428400"/>
              </a:xfrm>
              <a:prstGeom prst="star5">
                <a:avLst/>
              </a:prstGeom>
              <a:solidFill>
                <a:srgbClr val="ff500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6019920" y="2057400"/>
                <a:ext cx="2892240" cy="225972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49fff"/>
                    </a:solidFill>
                    <a:latin typeface="Arial"/>
                  </a:rPr>
                  <a:t>Paul’s </a:t>
                </a:r>
                <a:endParaRPr b="0" lang="en-US" sz="4000" spc="-1" strike="noStrike">
                  <a:solidFill>
                    <a:srgbClr val="ffffff"/>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49fff"/>
                    </a:solidFill>
                    <a:latin typeface="Arial"/>
                  </a:rPr>
                  <a:t>Journey </a:t>
                </a:r>
                <a:endParaRPr b="0" lang="en-US" sz="4000" spc="-1" strike="noStrike">
                  <a:solidFill>
                    <a:srgbClr val="ffffff"/>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49fff"/>
                    </a:solidFill>
                    <a:latin typeface="Arial"/>
                  </a:rPr>
                  <a:t>to</a:t>
                </a:r>
                <a:endParaRPr b="0" lang="en-US" sz="4000" spc="-1" strike="noStrike">
                  <a:solidFill>
                    <a:srgbClr val="ffffff"/>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49fff"/>
                    </a:solidFill>
                    <a:latin typeface="Arial"/>
                  </a:rPr>
                  <a:t>Caesarea</a:t>
                </a:r>
                <a:endParaRPr b="0" lang="en-US" sz="4000" spc="-1" strike="noStrike">
                  <a:solidFill>
                    <a:srgbClr val="ffffff"/>
                  </a:solidFill>
                  <a:latin typeface="Times New Roman"/>
                </a:endParaRPr>
              </a:p>
            </p:txBody>
          </p:sp>
          <p:sp>
            <p:nvSpPr>
              <p:cNvPr id="1020" name=""/>
              <p:cNvSpPr/>
              <p:nvPr/>
            </p:nvSpPr>
            <p:spPr>
              <a:xfrm>
                <a:off x="6384600" y="4848120"/>
                <a:ext cx="2574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s 23:1-35</a:t>
                </a:r>
                <a:endParaRPr b="0" lang="en-US" sz="3200" spc="-1" strike="noStrike">
                  <a:solidFill>
                    <a:srgbClr val="ffffff"/>
                  </a:solidFill>
                  <a:latin typeface="Times New Roman"/>
                </a:endParaRPr>
              </a:p>
            </p:txBody>
          </p:sp>
          <p:sp>
            <p:nvSpPr>
              <p:cNvPr id="1021" name=""/>
              <p:cNvSpPr/>
              <p:nvPr/>
            </p:nvSpPr>
            <p:spPr>
              <a:xfrm rot="3000000">
                <a:off x="2688480" y="3441960"/>
                <a:ext cx="1170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8 Miles</a:t>
                </a:r>
                <a:endParaRPr b="0" lang="en-US" sz="2000" spc="-1" strike="noStrike">
                  <a:solidFill>
                    <a:srgbClr val="ffffff"/>
                  </a:solidFill>
                  <a:latin typeface="Times New Roman"/>
                </a:endParaRPr>
              </a:p>
            </p:txBody>
          </p:sp>
          <p:sp>
            <p:nvSpPr>
              <p:cNvPr id="1022" name=""/>
              <p:cNvSpPr/>
              <p:nvPr/>
            </p:nvSpPr>
            <p:spPr>
              <a:xfrm rot="4200000">
                <a:off x="2268360" y="2431080"/>
                <a:ext cx="1170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6 Miles</a:t>
                </a:r>
                <a:endParaRPr b="0" lang="en-US" sz="2000" spc="-1" strike="noStrike">
                  <a:solidFill>
                    <a:srgbClr val="ffffff"/>
                  </a:solidFill>
                  <a:latin typeface="Times New Roman"/>
                </a:endParaRPr>
              </a:p>
            </p:txBody>
          </p:sp>
        </p:grpSp>
        <p:sp>
          <p:nvSpPr>
            <p:cNvPr id="1023" name=""/>
            <p:cNvSpPr/>
            <p:nvPr/>
          </p:nvSpPr>
          <p:spPr>
            <a:xfrm>
              <a:off x="461880" y="624528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grpSp>
      <p:sp>
        <p:nvSpPr>
          <p:cNvPr id="1024" name=""/>
          <p:cNvSpPr/>
          <p:nvPr/>
        </p:nvSpPr>
        <p:spPr>
          <a:xfrm>
            <a:off x="8288280" y="649116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Heavy"/>
              </a:rPr>
              <a:t>INDEX</a:t>
            </a:r>
            <a:endParaRPr b="0" lang="en-US" sz="1800" spc="-1" strike="noStrike">
              <a:solidFill>
                <a:srgbClr val="ffffff"/>
              </a:solidFill>
              <a:latin typeface="Times New Roman"/>
            </a:endParaRPr>
          </a:p>
        </p:txBody>
      </p:sp>
      <p:sp>
        <p:nvSpPr>
          <p:cNvPr id="1025" name="PlaceHolder 1"/>
          <p:cNvSpPr>
            <a:spLocks noGrp="1"/>
          </p:cNvSpPr>
          <p:nvPr>
            <p:ph type="title"/>
          </p:nvPr>
        </p:nvSpPr>
        <p:spPr>
          <a:xfrm>
            <a:off x="7752960" y="609480"/>
            <a:ext cx="1143000" cy="4572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aul to Caesarea</a:t>
            </a:r>
            <a:endParaRPr b="1" lang="en-US" sz="500" spc="-1" strike="noStrike" u="sng">
              <a:solidFill>
                <a:srgbClr val="c0fef9"/>
              </a:solidFill>
              <a:uFillTx/>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Paul- Journey to Rome</a:t>
            </a:r>
            <a:endParaRPr b="1" lang="en-US" sz="100" spc="-1" strike="noStrike" u="sng">
              <a:solidFill>
                <a:srgbClr val="c0fef9"/>
              </a:solidFill>
              <a:uFillTx/>
              <a:latin typeface="Times New Roman"/>
            </a:endParaRPr>
          </a:p>
        </p:txBody>
      </p:sp>
      <p:sp>
        <p:nvSpPr>
          <p:cNvPr id="1027" name=""/>
          <p:cNvSpPr/>
          <p:nvPr/>
        </p:nvSpPr>
        <p:spPr>
          <a:xfrm>
            <a:off x="7372440" y="247680"/>
            <a:ext cx="1695240" cy="361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66"/>
                </a:solidFill>
                <a:latin typeface="Book Antiqua"/>
              </a:rPr>
              <a:t>Paul’s Journey to Rome</a:t>
            </a:r>
            <a:endParaRPr b="0" lang="en-US" sz="500" spc="-1" strike="noStrike">
              <a:solidFill>
                <a:srgbClr val="ffffff"/>
              </a:solidFill>
              <a:latin typeface="Times New Roman"/>
            </a:endParaRPr>
          </a:p>
        </p:txBody>
      </p:sp>
      <p:sp>
        <p:nvSpPr>
          <p:cNvPr id="1028"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1029" name=""/>
          <p:cNvGrpSpPr/>
          <p:nvPr/>
        </p:nvGrpSpPr>
        <p:grpSpPr>
          <a:xfrm>
            <a:off x="11160" y="343080"/>
            <a:ext cx="9124920" cy="6064560"/>
            <a:chOff x="11160" y="343080"/>
            <a:chExt cx="9124920" cy="6064560"/>
          </a:xfrm>
        </p:grpSpPr>
        <p:grpSp>
          <p:nvGrpSpPr>
            <p:cNvPr id="1030" name=""/>
            <p:cNvGrpSpPr/>
            <p:nvPr/>
          </p:nvGrpSpPr>
          <p:grpSpPr>
            <a:xfrm>
              <a:off x="11160" y="343080"/>
              <a:ext cx="9124920" cy="6064560"/>
              <a:chOff x="11160" y="343080"/>
              <a:chExt cx="9124920" cy="6064560"/>
            </a:xfrm>
          </p:grpSpPr>
          <p:grpSp>
            <p:nvGrpSpPr>
              <p:cNvPr id="1031" name=""/>
              <p:cNvGrpSpPr/>
              <p:nvPr/>
            </p:nvGrpSpPr>
            <p:grpSpPr>
              <a:xfrm>
                <a:off x="11160" y="343080"/>
                <a:ext cx="9124920" cy="6064560"/>
                <a:chOff x="11160" y="343080"/>
                <a:chExt cx="9124920" cy="6064560"/>
              </a:xfrm>
            </p:grpSpPr>
            <p:sp>
              <p:nvSpPr>
                <p:cNvPr id="1032" name=""/>
                <p:cNvSpPr/>
                <p:nvPr/>
              </p:nvSpPr>
              <p:spPr>
                <a:xfrm>
                  <a:off x="773280" y="1608120"/>
                  <a:ext cx="8305560" cy="4133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c0fe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add text</a:t>
                  </a:r>
                  <a:endParaRPr b="0" lang="en-US" sz="3600" spc="-1" strike="noStrike">
                    <a:solidFill>
                      <a:srgbClr val="ffffff"/>
                    </a:solidFill>
                    <a:latin typeface="Times New Roman"/>
                  </a:endParaRPr>
                </a:p>
              </p:txBody>
            </p:sp>
            <p:sp>
              <p:nvSpPr>
                <p:cNvPr id="1033" name=""/>
                <p:cNvSpPr/>
                <p:nvPr/>
              </p:nvSpPr>
              <p:spPr>
                <a:xfrm>
                  <a:off x="4827600" y="2552760"/>
                  <a:ext cx="4680" cy="13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flipV="1">
                  <a:off x="4827240" y="2495520"/>
                  <a:ext cx="196920" cy="52560"/>
                </a:xfrm>
                <a:prstGeom prst="line">
                  <a:avLst/>
                </a:prstGeom>
                <a:ln w="50760">
                  <a:solidFill>
                    <a:srgbClr val="fafd00"/>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1035" name=""/>
                <p:cNvSpPr/>
                <p:nvPr/>
              </p:nvSpPr>
              <p:spPr>
                <a:xfrm>
                  <a:off x="81000" y="343080"/>
                  <a:ext cx="9055080" cy="60069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2892240" y="3011400"/>
                  <a:ext cx="1161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Israel</a:t>
                  </a:r>
                  <a:endParaRPr b="0" lang="en-US" sz="3600" spc="-1" strike="noStrike">
                    <a:solidFill>
                      <a:srgbClr val="ffffff"/>
                    </a:solidFill>
                    <a:latin typeface="Times New Roman"/>
                  </a:endParaRPr>
                </a:p>
              </p:txBody>
            </p:sp>
            <p:sp>
              <p:nvSpPr>
                <p:cNvPr id="1037" name=""/>
                <p:cNvSpPr/>
                <p:nvPr/>
              </p:nvSpPr>
              <p:spPr>
                <a:xfrm>
                  <a:off x="11160" y="388800"/>
                  <a:ext cx="6512040" cy="4092840"/>
                </a:xfrm>
                <a:custGeom>
                  <a:avLst/>
                  <a:gdLst/>
                  <a:ahLst/>
                  <a:rect l="l" t="t" r="r" b="b"/>
                  <a:pathLst>
                    <a:path w="4102" h="2578">
                      <a:moveTo>
                        <a:pt x="720" y="0"/>
                      </a:moveTo>
                      <a:lnTo>
                        <a:pt x="751" y="31"/>
                      </a:lnTo>
                      <a:lnTo>
                        <a:pt x="772" y="63"/>
                      </a:lnTo>
                      <a:lnTo>
                        <a:pt x="803" y="83"/>
                      </a:lnTo>
                      <a:lnTo>
                        <a:pt x="824" y="115"/>
                      </a:lnTo>
                      <a:lnTo>
                        <a:pt x="845" y="146"/>
                      </a:lnTo>
                      <a:lnTo>
                        <a:pt x="856" y="177"/>
                      </a:lnTo>
                      <a:lnTo>
                        <a:pt x="866" y="209"/>
                      </a:lnTo>
                      <a:lnTo>
                        <a:pt x="877" y="240"/>
                      </a:lnTo>
                      <a:lnTo>
                        <a:pt x="877" y="271"/>
                      </a:lnTo>
                      <a:lnTo>
                        <a:pt x="877" y="303"/>
                      </a:lnTo>
                      <a:lnTo>
                        <a:pt x="877" y="334"/>
                      </a:lnTo>
                      <a:lnTo>
                        <a:pt x="877" y="365"/>
                      </a:lnTo>
                      <a:lnTo>
                        <a:pt x="866" y="397"/>
                      </a:lnTo>
                      <a:lnTo>
                        <a:pt x="866" y="428"/>
                      </a:lnTo>
                      <a:lnTo>
                        <a:pt x="866" y="459"/>
                      </a:lnTo>
                      <a:lnTo>
                        <a:pt x="866" y="490"/>
                      </a:lnTo>
                      <a:lnTo>
                        <a:pt x="866" y="522"/>
                      </a:lnTo>
                      <a:lnTo>
                        <a:pt x="845" y="553"/>
                      </a:lnTo>
                      <a:lnTo>
                        <a:pt x="814" y="574"/>
                      </a:lnTo>
                      <a:lnTo>
                        <a:pt x="793" y="605"/>
                      </a:lnTo>
                      <a:lnTo>
                        <a:pt x="772" y="637"/>
                      </a:lnTo>
                      <a:lnTo>
                        <a:pt x="741" y="657"/>
                      </a:lnTo>
                      <a:lnTo>
                        <a:pt x="710" y="637"/>
                      </a:lnTo>
                      <a:lnTo>
                        <a:pt x="678" y="616"/>
                      </a:lnTo>
                      <a:lnTo>
                        <a:pt x="647" y="595"/>
                      </a:lnTo>
                      <a:lnTo>
                        <a:pt x="616" y="574"/>
                      </a:lnTo>
                      <a:lnTo>
                        <a:pt x="584" y="563"/>
                      </a:lnTo>
                      <a:lnTo>
                        <a:pt x="553" y="563"/>
                      </a:lnTo>
                      <a:lnTo>
                        <a:pt x="522" y="553"/>
                      </a:lnTo>
                      <a:lnTo>
                        <a:pt x="449" y="553"/>
                      </a:lnTo>
                      <a:lnTo>
                        <a:pt x="417" y="543"/>
                      </a:lnTo>
                      <a:lnTo>
                        <a:pt x="386" y="543"/>
                      </a:lnTo>
                      <a:lnTo>
                        <a:pt x="355" y="543"/>
                      </a:lnTo>
                      <a:lnTo>
                        <a:pt x="323" y="532"/>
                      </a:lnTo>
                      <a:lnTo>
                        <a:pt x="292" y="522"/>
                      </a:lnTo>
                      <a:lnTo>
                        <a:pt x="261" y="511"/>
                      </a:lnTo>
                      <a:lnTo>
                        <a:pt x="230" y="501"/>
                      </a:lnTo>
                      <a:lnTo>
                        <a:pt x="198" y="490"/>
                      </a:lnTo>
                      <a:lnTo>
                        <a:pt x="177" y="522"/>
                      </a:lnTo>
                      <a:lnTo>
                        <a:pt x="177" y="553"/>
                      </a:lnTo>
                      <a:lnTo>
                        <a:pt x="177" y="584"/>
                      </a:lnTo>
                      <a:lnTo>
                        <a:pt x="177" y="616"/>
                      </a:lnTo>
                      <a:lnTo>
                        <a:pt x="177" y="647"/>
                      </a:lnTo>
                      <a:lnTo>
                        <a:pt x="177" y="678"/>
                      </a:lnTo>
                      <a:lnTo>
                        <a:pt x="177" y="710"/>
                      </a:lnTo>
                      <a:lnTo>
                        <a:pt x="177" y="741"/>
                      </a:lnTo>
                      <a:lnTo>
                        <a:pt x="177" y="772"/>
                      </a:lnTo>
                      <a:lnTo>
                        <a:pt x="177" y="803"/>
                      </a:lnTo>
                      <a:lnTo>
                        <a:pt x="177" y="835"/>
                      </a:lnTo>
                      <a:lnTo>
                        <a:pt x="146" y="845"/>
                      </a:lnTo>
                      <a:lnTo>
                        <a:pt x="125" y="877"/>
                      </a:lnTo>
                      <a:lnTo>
                        <a:pt x="94" y="908"/>
                      </a:lnTo>
                      <a:lnTo>
                        <a:pt x="83" y="939"/>
                      </a:lnTo>
                      <a:lnTo>
                        <a:pt x="73" y="970"/>
                      </a:lnTo>
                      <a:lnTo>
                        <a:pt x="73" y="1002"/>
                      </a:lnTo>
                      <a:lnTo>
                        <a:pt x="73" y="1033"/>
                      </a:lnTo>
                      <a:lnTo>
                        <a:pt x="73" y="1064"/>
                      </a:lnTo>
                      <a:lnTo>
                        <a:pt x="73" y="1096"/>
                      </a:lnTo>
                      <a:lnTo>
                        <a:pt x="83" y="1127"/>
                      </a:lnTo>
                      <a:lnTo>
                        <a:pt x="83" y="1158"/>
                      </a:lnTo>
                      <a:lnTo>
                        <a:pt x="94" y="1190"/>
                      </a:lnTo>
                      <a:lnTo>
                        <a:pt x="94" y="1221"/>
                      </a:lnTo>
                      <a:lnTo>
                        <a:pt x="94" y="1252"/>
                      </a:lnTo>
                      <a:lnTo>
                        <a:pt x="94" y="1283"/>
                      </a:lnTo>
                      <a:lnTo>
                        <a:pt x="125" y="1294"/>
                      </a:lnTo>
                      <a:lnTo>
                        <a:pt x="157" y="1304"/>
                      </a:lnTo>
                      <a:lnTo>
                        <a:pt x="188" y="1304"/>
                      </a:lnTo>
                      <a:lnTo>
                        <a:pt x="209" y="1336"/>
                      </a:lnTo>
                      <a:lnTo>
                        <a:pt x="240" y="1367"/>
                      </a:lnTo>
                      <a:lnTo>
                        <a:pt x="261" y="1398"/>
                      </a:lnTo>
                      <a:lnTo>
                        <a:pt x="292" y="1409"/>
                      </a:lnTo>
                      <a:lnTo>
                        <a:pt x="323" y="1409"/>
                      </a:lnTo>
                      <a:lnTo>
                        <a:pt x="355" y="1409"/>
                      </a:lnTo>
                      <a:lnTo>
                        <a:pt x="386" y="1409"/>
                      </a:lnTo>
                      <a:lnTo>
                        <a:pt x="417" y="1409"/>
                      </a:lnTo>
                      <a:lnTo>
                        <a:pt x="449" y="1409"/>
                      </a:lnTo>
                      <a:lnTo>
                        <a:pt x="480" y="1409"/>
                      </a:lnTo>
                      <a:lnTo>
                        <a:pt x="511" y="1409"/>
                      </a:lnTo>
                      <a:lnTo>
                        <a:pt x="543" y="1409"/>
                      </a:lnTo>
                      <a:lnTo>
                        <a:pt x="574" y="1409"/>
                      </a:lnTo>
                      <a:lnTo>
                        <a:pt x="605" y="1409"/>
                      </a:lnTo>
                      <a:lnTo>
                        <a:pt x="637" y="1409"/>
                      </a:lnTo>
                      <a:lnTo>
                        <a:pt x="668" y="1409"/>
                      </a:lnTo>
                      <a:lnTo>
                        <a:pt x="689" y="1377"/>
                      </a:lnTo>
                      <a:lnTo>
                        <a:pt x="720" y="1367"/>
                      </a:lnTo>
                      <a:lnTo>
                        <a:pt x="741" y="1336"/>
                      </a:lnTo>
                      <a:lnTo>
                        <a:pt x="772" y="1315"/>
                      </a:lnTo>
                      <a:lnTo>
                        <a:pt x="803" y="1283"/>
                      </a:lnTo>
                      <a:lnTo>
                        <a:pt x="835" y="1252"/>
                      </a:lnTo>
                      <a:lnTo>
                        <a:pt x="866" y="1231"/>
                      </a:lnTo>
                      <a:lnTo>
                        <a:pt x="866" y="1200"/>
                      </a:lnTo>
                      <a:lnTo>
                        <a:pt x="866" y="1169"/>
                      </a:lnTo>
                      <a:lnTo>
                        <a:pt x="866" y="1075"/>
                      </a:lnTo>
                      <a:lnTo>
                        <a:pt x="887" y="1043"/>
                      </a:lnTo>
                      <a:lnTo>
                        <a:pt x="918" y="1033"/>
                      </a:lnTo>
                      <a:lnTo>
                        <a:pt x="950" y="1023"/>
                      </a:lnTo>
                      <a:lnTo>
                        <a:pt x="981" y="1012"/>
                      </a:lnTo>
                      <a:lnTo>
                        <a:pt x="1012" y="1002"/>
                      </a:lnTo>
                      <a:lnTo>
                        <a:pt x="1043" y="981"/>
                      </a:lnTo>
                      <a:lnTo>
                        <a:pt x="1064" y="950"/>
                      </a:lnTo>
                      <a:lnTo>
                        <a:pt x="1085" y="918"/>
                      </a:lnTo>
                      <a:lnTo>
                        <a:pt x="1096" y="887"/>
                      </a:lnTo>
                      <a:lnTo>
                        <a:pt x="1106" y="856"/>
                      </a:lnTo>
                      <a:lnTo>
                        <a:pt x="1137" y="824"/>
                      </a:lnTo>
                      <a:lnTo>
                        <a:pt x="1158" y="793"/>
                      </a:lnTo>
                      <a:lnTo>
                        <a:pt x="1190" y="783"/>
                      </a:lnTo>
                      <a:lnTo>
                        <a:pt x="1221" y="772"/>
                      </a:lnTo>
                      <a:lnTo>
                        <a:pt x="1252" y="772"/>
                      </a:lnTo>
                      <a:lnTo>
                        <a:pt x="1283" y="783"/>
                      </a:lnTo>
                      <a:lnTo>
                        <a:pt x="1315" y="793"/>
                      </a:lnTo>
                      <a:lnTo>
                        <a:pt x="1346" y="803"/>
                      </a:lnTo>
                      <a:lnTo>
                        <a:pt x="1377" y="814"/>
                      </a:lnTo>
                      <a:lnTo>
                        <a:pt x="1409" y="814"/>
                      </a:lnTo>
                      <a:lnTo>
                        <a:pt x="1440" y="814"/>
                      </a:lnTo>
                      <a:lnTo>
                        <a:pt x="1471" y="814"/>
                      </a:lnTo>
                      <a:lnTo>
                        <a:pt x="1503" y="793"/>
                      </a:lnTo>
                      <a:lnTo>
                        <a:pt x="1534" y="772"/>
                      </a:lnTo>
                      <a:lnTo>
                        <a:pt x="1565" y="762"/>
                      </a:lnTo>
                      <a:lnTo>
                        <a:pt x="1597" y="762"/>
                      </a:lnTo>
                      <a:lnTo>
                        <a:pt x="1628" y="762"/>
                      </a:lnTo>
                      <a:lnTo>
                        <a:pt x="1659" y="762"/>
                      </a:lnTo>
                      <a:lnTo>
                        <a:pt x="1690" y="783"/>
                      </a:lnTo>
                      <a:lnTo>
                        <a:pt x="1722" y="793"/>
                      </a:lnTo>
                      <a:lnTo>
                        <a:pt x="1732" y="824"/>
                      </a:lnTo>
                      <a:lnTo>
                        <a:pt x="1732" y="856"/>
                      </a:lnTo>
                      <a:lnTo>
                        <a:pt x="1732" y="887"/>
                      </a:lnTo>
                      <a:lnTo>
                        <a:pt x="1732" y="918"/>
                      </a:lnTo>
                      <a:lnTo>
                        <a:pt x="1732" y="950"/>
                      </a:lnTo>
                      <a:lnTo>
                        <a:pt x="1743" y="981"/>
                      </a:lnTo>
                      <a:lnTo>
                        <a:pt x="1763" y="1012"/>
                      </a:lnTo>
                      <a:lnTo>
                        <a:pt x="1784" y="1043"/>
                      </a:lnTo>
                      <a:lnTo>
                        <a:pt x="1805" y="1075"/>
                      </a:lnTo>
                      <a:lnTo>
                        <a:pt x="1837" y="1096"/>
                      </a:lnTo>
                      <a:lnTo>
                        <a:pt x="1857" y="1127"/>
                      </a:lnTo>
                      <a:lnTo>
                        <a:pt x="1889" y="1148"/>
                      </a:lnTo>
                      <a:lnTo>
                        <a:pt x="1920" y="1169"/>
                      </a:lnTo>
                      <a:lnTo>
                        <a:pt x="1941" y="1200"/>
                      </a:lnTo>
                      <a:lnTo>
                        <a:pt x="1962" y="1231"/>
                      </a:lnTo>
                      <a:lnTo>
                        <a:pt x="1983" y="1263"/>
                      </a:lnTo>
                      <a:lnTo>
                        <a:pt x="2014" y="1283"/>
                      </a:lnTo>
                      <a:lnTo>
                        <a:pt x="2035" y="1315"/>
                      </a:lnTo>
                      <a:lnTo>
                        <a:pt x="2045" y="1346"/>
                      </a:lnTo>
                      <a:lnTo>
                        <a:pt x="2066" y="1377"/>
                      </a:lnTo>
                      <a:lnTo>
                        <a:pt x="2077" y="1409"/>
                      </a:lnTo>
                      <a:lnTo>
                        <a:pt x="2087" y="1440"/>
                      </a:lnTo>
                      <a:lnTo>
                        <a:pt x="2097" y="1471"/>
                      </a:lnTo>
                      <a:lnTo>
                        <a:pt x="2097" y="1503"/>
                      </a:lnTo>
                      <a:lnTo>
                        <a:pt x="2097" y="1534"/>
                      </a:lnTo>
                      <a:lnTo>
                        <a:pt x="2097" y="1565"/>
                      </a:lnTo>
                      <a:lnTo>
                        <a:pt x="2097" y="1597"/>
                      </a:lnTo>
                      <a:lnTo>
                        <a:pt x="2129" y="1628"/>
                      </a:lnTo>
                      <a:lnTo>
                        <a:pt x="2160" y="1649"/>
                      </a:lnTo>
                      <a:lnTo>
                        <a:pt x="2191" y="1649"/>
                      </a:lnTo>
                      <a:lnTo>
                        <a:pt x="2212" y="1617"/>
                      </a:lnTo>
                      <a:lnTo>
                        <a:pt x="2223" y="1586"/>
                      </a:lnTo>
                      <a:lnTo>
                        <a:pt x="2233" y="1555"/>
                      </a:lnTo>
                      <a:lnTo>
                        <a:pt x="2233" y="1523"/>
                      </a:lnTo>
                      <a:lnTo>
                        <a:pt x="2223" y="1492"/>
                      </a:lnTo>
                      <a:lnTo>
                        <a:pt x="2223" y="1461"/>
                      </a:lnTo>
                      <a:lnTo>
                        <a:pt x="2223" y="1430"/>
                      </a:lnTo>
                      <a:lnTo>
                        <a:pt x="2223" y="1398"/>
                      </a:lnTo>
                      <a:lnTo>
                        <a:pt x="2254" y="1388"/>
                      </a:lnTo>
                      <a:lnTo>
                        <a:pt x="2285" y="1388"/>
                      </a:lnTo>
                      <a:lnTo>
                        <a:pt x="2317" y="1398"/>
                      </a:lnTo>
                      <a:lnTo>
                        <a:pt x="2348" y="1409"/>
                      </a:lnTo>
                      <a:lnTo>
                        <a:pt x="2358" y="1377"/>
                      </a:lnTo>
                      <a:lnTo>
                        <a:pt x="2358" y="1346"/>
                      </a:lnTo>
                      <a:lnTo>
                        <a:pt x="2348" y="1315"/>
                      </a:lnTo>
                      <a:lnTo>
                        <a:pt x="2337" y="1283"/>
                      </a:lnTo>
                      <a:lnTo>
                        <a:pt x="2306" y="1273"/>
                      </a:lnTo>
                      <a:lnTo>
                        <a:pt x="2275" y="1242"/>
                      </a:lnTo>
                      <a:lnTo>
                        <a:pt x="2254" y="1210"/>
                      </a:lnTo>
                      <a:lnTo>
                        <a:pt x="2223" y="1190"/>
                      </a:lnTo>
                      <a:lnTo>
                        <a:pt x="2202" y="1158"/>
                      </a:lnTo>
                      <a:lnTo>
                        <a:pt x="2170" y="1137"/>
                      </a:lnTo>
                      <a:lnTo>
                        <a:pt x="2139" y="1117"/>
                      </a:lnTo>
                      <a:lnTo>
                        <a:pt x="2118" y="1085"/>
                      </a:lnTo>
                      <a:lnTo>
                        <a:pt x="2108" y="1054"/>
                      </a:lnTo>
                      <a:lnTo>
                        <a:pt x="2097" y="1023"/>
                      </a:lnTo>
                      <a:lnTo>
                        <a:pt x="2087" y="991"/>
                      </a:lnTo>
                      <a:lnTo>
                        <a:pt x="2066" y="960"/>
                      </a:lnTo>
                      <a:lnTo>
                        <a:pt x="2045" y="929"/>
                      </a:lnTo>
                      <a:lnTo>
                        <a:pt x="2014" y="897"/>
                      </a:lnTo>
                      <a:lnTo>
                        <a:pt x="2003" y="866"/>
                      </a:lnTo>
                      <a:lnTo>
                        <a:pt x="1983" y="835"/>
                      </a:lnTo>
                      <a:lnTo>
                        <a:pt x="1962" y="803"/>
                      </a:lnTo>
                      <a:lnTo>
                        <a:pt x="1941" y="772"/>
                      </a:lnTo>
                      <a:lnTo>
                        <a:pt x="1920" y="741"/>
                      </a:lnTo>
                      <a:lnTo>
                        <a:pt x="1899" y="710"/>
                      </a:lnTo>
                      <a:lnTo>
                        <a:pt x="1910" y="678"/>
                      </a:lnTo>
                      <a:lnTo>
                        <a:pt x="1941" y="668"/>
                      </a:lnTo>
                      <a:lnTo>
                        <a:pt x="1972" y="668"/>
                      </a:lnTo>
                      <a:lnTo>
                        <a:pt x="2003" y="668"/>
                      </a:lnTo>
                      <a:lnTo>
                        <a:pt x="2035" y="689"/>
                      </a:lnTo>
                      <a:lnTo>
                        <a:pt x="2056" y="720"/>
                      </a:lnTo>
                      <a:lnTo>
                        <a:pt x="2087" y="751"/>
                      </a:lnTo>
                      <a:lnTo>
                        <a:pt x="2108" y="783"/>
                      </a:lnTo>
                      <a:lnTo>
                        <a:pt x="2129" y="814"/>
                      </a:lnTo>
                      <a:lnTo>
                        <a:pt x="2139" y="845"/>
                      </a:lnTo>
                      <a:lnTo>
                        <a:pt x="2160" y="877"/>
                      </a:lnTo>
                      <a:lnTo>
                        <a:pt x="2191" y="908"/>
                      </a:lnTo>
                      <a:lnTo>
                        <a:pt x="2202" y="939"/>
                      </a:lnTo>
                      <a:lnTo>
                        <a:pt x="2233" y="970"/>
                      </a:lnTo>
                      <a:lnTo>
                        <a:pt x="2254" y="1002"/>
                      </a:lnTo>
                      <a:lnTo>
                        <a:pt x="2285" y="1033"/>
                      </a:lnTo>
                      <a:lnTo>
                        <a:pt x="2296" y="1064"/>
                      </a:lnTo>
                      <a:lnTo>
                        <a:pt x="2317" y="1096"/>
                      </a:lnTo>
                      <a:lnTo>
                        <a:pt x="2348" y="1127"/>
                      </a:lnTo>
                      <a:lnTo>
                        <a:pt x="2379" y="1158"/>
                      </a:lnTo>
                      <a:lnTo>
                        <a:pt x="2410" y="1190"/>
                      </a:lnTo>
                      <a:lnTo>
                        <a:pt x="2431" y="1221"/>
                      </a:lnTo>
                      <a:lnTo>
                        <a:pt x="2452" y="1252"/>
                      </a:lnTo>
                      <a:lnTo>
                        <a:pt x="2463" y="1283"/>
                      </a:lnTo>
                      <a:lnTo>
                        <a:pt x="2473" y="1315"/>
                      </a:lnTo>
                      <a:lnTo>
                        <a:pt x="2473" y="1346"/>
                      </a:lnTo>
                      <a:lnTo>
                        <a:pt x="2473" y="1377"/>
                      </a:lnTo>
                      <a:lnTo>
                        <a:pt x="2473" y="1409"/>
                      </a:lnTo>
                      <a:lnTo>
                        <a:pt x="2473" y="1440"/>
                      </a:lnTo>
                      <a:lnTo>
                        <a:pt x="2504" y="1461"/>
                      </a:lnTo>
                      <a:lnTo>
                        <a:pt x="2536" y="1482"/>
                      </a:lnTo>
                      <a:lnTo>
                        <a:pt x="2557" y="1513"/>
                      </a:lnTo>
                      <a:lnTo>
                        <a:pt x="2557" y="1544"/>
                      </a:lnTo>
                      <a:lnTo>
                        <a:pt x="2557" y="1576"/>
                      </a:lnTo>
                      <a:lnTo>
                        <a:pt x="2557" y="1607"/>
                      </a:lnTo>
                      <a:lnTo>
                        <a:pt x="2588" y="1628"/>
                      </a:lnTo>
                      <a:lnTo>
                        <a:pt x="2619" y="1649"/>
                      </a:lnTo>
                      <a:lnTo>
                        <a:pt x="2650" y="1670"/>
                      </a:lnTo>
                      <a:lnTo>
                        <a:pt x="2682" y="1690"/>
                      </a:lnTo>
                      <a:lnTo>
                        <a:pt x="2713" y="1711"/>
                      </a:lnTo>
                      <a:lnTo>
                        <a:pt x="2744" y="1711"/>
                      </a:lnTo>
                      <a:lnTo>
                        <a:pt x="2776" y="1711"/>
                      </a:lnTo>
                      <a:lnTo>
                        <a:pt x="2807" y="1701"/>
                      </a:lnTo>
                      <a:lnTo>
                        <a:pt x="2828" y="1670"/>
                      </a:lnTo>
                      <a:lnTo>
                        <a:pt x="2849" y="1638"/>
                      </a:lnTo>
                      <a:lnTo>
                        <a:pt x="2859" y="1607"/>
                      </a:lnTo>
                      <a:lnTo>
                        <a:pt x="2870" y="1576"/>
                      </a:lnTo>
                      <a:lnTo>
                        <a:pt x="2859" y="1544"/>
                      </a:lnTo>
                      <a:lnTo>
                        <a:pt x="2838" y="1513"/>
                      </a:lnTo>
                      <a:lnTo>
                        <a:pt x="2817" y="1482"/>
                      </a:lnTo>
                      <a:lnTo>
                        <a:pt x="2797" y="1450"/>
                      </a:lnTo>
                      <a:lnTo>
                        <a:pt x="2786" y="1419"/>
                      </a:lnTo>
                      <a:lnTo>
                        <a:pt x="2786" y="1388"/>
                      </a:lnTo>
                      <a:lnTo>
                        <a:pt x="2817" y="1357"/>
                      </a:lnTo>
                      <a:lnTo>
                        <a:pt x="2849" y="1336"/>
                      </a:lnTo>
                      <a:lnTo>
                        <a:pt x="2880" y="1325"/>
                      </a:lnTo>
                      <a:lnTo>
                        <a:pt x="2911" y="1315"/>
                      </a:lnTo>
                      <a:lnTo>
                        <a:pt x="2943" y="1294"/>
                      </a:lnTo>
                      <a:lnTo>
                        <a:pt x="2974" y="1273"/>
                      </a:lnTo>
                      <a:lnTo>
                        <a:pt x="2984" y="1190"/>
                      </a:lnTo>
                      <a:lnTo>
                        <a:pt x="2995" y="1106"/>
                      </a:lnTo>
                      <a:lnTo>
                        <a:pt x="3026" y="1096"/>
                      </a:lnTo>
                      <a:lnTo>
                        <a:pt x="3057" y="1096"/>
                      </a:lnTo>
                      <a:lnTo>
                        <a:pt x="3089" y="1096"/>
                      </a:lnTo>
                      <a:lnTo>
                        <a:pt x="3120" y="1106"/>
                      </a:lnTo>
                      <a:lnTo>
                        <a:pt x="3151" y="1127"/>
                      </a:lnTo>
                      <a:lnTo>
                        <a:pt x="3183" y="1148"/>
                      </a:lnTo>
                      <a:lnTo>
                        <a:pt x="3214" y="1158"/>
                      </a:lnTo>
                      <a:lnTo>
                        <a:pt x="3235" y="1127"/>
                      </a:lnTo>
                      <a:lnTo>
                        <a:pt x="3235" y="1096"/>
                      </a:lnTo>
                      <a:lnTo>
                        <a:pt x="3235" y="1064"/>
                      </a:lnTo>
                      <a:lnTo>
                        <a:pt x="3214" y="1033"/>
                      </a:lnTo>
                      <a:lnTo>
                        <a:pt x="3193" y="1002"/>
                      </a:lnTo>
                      <a:lnTo>
                        <a:pt x="3183" y="970"/>
                      </a:lnTo>
                      <a:lnTo>
                        <a:pt x="3183" y="939"/>
                      </a:lnTo>
                      <a:lnTo>
                        <a:pt x="3183" y="908"/>
                      </a:lnTo>
                      <a:lnTo>
                        <a:pt x="3183" y="877"/>
                      </a:lnTo>
                      <a:lnTo>
                        <a:pt x="3183" y="845"/>
                      </a:lnTo>
                      <a:lnTo>
                        <a:pt x="3183" y="814"/>
                      </a:lnTo>
                      <a:lnTo>
                        <a:pt x="3183" y="783"/>
                      </a:lnTo>
                      <a:lnTo>
                        <a:pt x="3183" y="751"/>
                      </a:lnTo>
                      <a:lnTo>
                        <a:pt x="3193" y="668"/>
                      </a:lnTo>
                      <a:lnTo>
                        <a:pt x="3193" y="637"/>
                      </a:lnTo>
                      <a:lnTo>
                        <a:pt x="3203" y="605"/>
                      </a:lnTo>
                      <a:lnTo>
                        <a:pt x="3235" y="574"/>
                      </a:lnTo>
                      <a:lnTo>
                        <a:pt x="3266" y="563"/>
                      </a:lnTo>
                      <a:lnTo>
                        <a:pt x="3297" y="543"/>
                      </a:lnTo>
                      <a:lnTo>
                        <a:pt x="3329" y="532"/>
                      </a:lnTo>
                      <a:lnTo>
                        <a:pt x="3360" y="522"/>
                      </a:lnTo>
                      <a:lnTo>
                        <a:pt x="3391" y="522"/>
                      </a:lnTo>
                      <a:lnTo>
                        <a:pt x="3423" y="522"/>
                      </a:lnTo>
                      <a:lnTo>
                        <a:pt x="3454" y="553"/>
                      </a:lnTo>
                      <a:lnTo>
                        <a:pt x="3475" y="584"/>
                      </a:lnTo>
                      <a:lnTo>
                        <a:pt x="3475" y="616"/>
                      </a:lnTo>
                      <a:lnTo>
                        <a:pt x="3496" y="647"/>
                      </a:lnTo>
                      <a:lnTo>
                        <a:pt x="3527" y="668"/>
                      </a:lnTo>
                      <a:lnTo>
                        <a:pt x="3558" y="699"/>
                      </a:lnTo>
                      <a:lnTo>
                        <a:pt x="3590" y="710"/>
                      </a:lnTo>
                      <a:lnTo>
                        <a:pt x="3621" y="710"/>
                      </a:lnTo>
                      <a:lnTo>
                        <a:pt x="3652" y="699"/>
                      </a:lnTo>
                      <a:lnTo>
                        <a:pt x="3673" y="668"/>
                      </a:lnTo>
                      <a:lnTo>
                        <a:pt x="3694" y="637"/>
                      </a:lnTo>
                      <a:lnTo>
                        <a:pt x="3704" y="605"/>
                      </a:lnTo>
                      <a:lnTo>
                        <a:pt x="3694" y="574"/>
                      </a:lnTo>
                      <a:lnTo>
                        <a:pt x="3673" y="543"/>
                      </a:lnTo>
                      <a:lnTo>
                        <a:pt x="3652" y="511"/>
                      </a:lnTo>
                      <a:lnTo>
                        <a:pt x="3652" y="480"/>
                      </a:lnTo>
                      <a:lnTo>
                        <a:pt x="3652" y="449"/>
                      </a:lnTo>
                      <a:lnTo>
                        <a:pt x="3673" y="417"/>
                      </a:lnTo>
                      <a:lnTo>
                        <a:pt x="3704" y="397"/>
                      </a:lnTo>
                      <a:lnTo>
                        <a:pt x="3736" y="386"/>
                      </a:lnTo>
                      <a:lnTo>
                        <a:pt x="3767" y="365"/>
                      </a:lnTo>
                      <a:lnTo>
                        <a:pt x="3777" y="397"/>
                      </a:lnTo>
                      <a:lnTo>
                        <a:pt x="3798" y="428"/>
                      </a:lnTo>
                      <a:lnTo>
                        <a:pt x="3819" y="459"/>
                      </a:lnTo>
                      <a:lnTo>
                        <a:pt x="3809" y="490"/>
                      </a:lnTo>
                      <a:lnTo>
                        <a:pt x="3788" y="522"/>
                      </a:lnTo>
                      <a:lnTo>
                        <a:pt x="3767" y="553"/>
                      </a:lnTo>
                      <a:lnTo>
                        <a:pt x="3767" y="584"/>
                      </a:lnTo>
                      <a:lnTo>
                        <a:pt x="3767" y="616"/>
                      </a:lnTo>
                      <a:lnTo>
                        <a:pt x="3798" y="637"/>
                      </a:lnTo>
                      <a:lnTo>
                        <a:pt x="3830" y="668"/>
                      </a:lnTo>
                      <a:lnTo>
                        <a:pt x="3861" y="678"/>
                      </a:lnTo>
                      <a:lnTo>
                        <a:pt x="3892" y="689"/>
                      </a:lnTo>
                      <a:lnTo>
                        <a:pt x="3923" y="710"/>
                      </a:lnTo>
                      <a:lnTo>
                        <a:pt x="3955" y="720"/>
                      </a:lnTo>
                      <a:lnTo>
                        <a:pt x="3986" y="730"/>
                      </a:lnTo>
                      <a:lnTo>
                        <a:pt x="4017" y="751"/>
                      </a:lnTo>
                      <a:lnTo>
                        <a:pt x="4049" y="783"/>
                      </a:lnTo>
                      <a:lnTo>
                        <a:pt x="4070" y="814"/>
                      </a:lnTo>
                      <a:lnTo>
                        <a:pt x="4090" y="845"/>
                      </a:lnTo>
                      <a:lnTo>
                        <a:pt x="4101" y="877"/>
                      </a:lnTo>
                      <a:lnTo>
                        <a:pt x="4080" y="908"/>
                      </a:lnTo>
                      <a:lnTo>
                        <a:pt x="4070" y="939"/>
                      </a:lnTo>
                      <a:lnTo>
                        <a:pt x="4038" y="950"/>
                      </a:lnTo>
                      <a:lnTo>
                        <a:pt x="4007" y="950"/>
                      </a:lnTo>
                      <a:lnTo>
                        <a:pt x="3976" y="950"/>
                      </a:lnTo>
                      <a:lnTo>
                        <a:pt x="3944" y="950"/>
                      </a:lnTo>
                      <a:lnTo>
                        <a:pt x="3913" y="950"/>
                      </a:lnTo>
                      <a:lnTo>
                        <a:pt x="3882" y="950"/>
                      </a:lnTo>
                      <a:lnTo>
                        <a:pt x="3850" y="950"/>
                      </a:lnTo>
                      <a:lnTo>
                        <a:pt x="3819" y="960"/>
                      </a:lnTo>
                      <a:lnTo>
                        <a:pt x="3788" y="960"/>
                      </a:lnTo>
                      <a:lnTo>
                        <a:pt x="3757" y="960"/>
                      </a:lnTo>
                      <a:lnTo>
                        <a:pt x="3725" y="960"/>
                      </a:lnTo>
                      <a:lnTo>
                        <a:pt x="3694" y="970"/>
                      </a:lnTo>
                      <a:lnTo>
                        <a:pt x="3663" y="981"/>
                      </a:lnTo>
                      <a:lnTo>
                        <a:pt x="3631" y="1002"/>
                      </a:lnTo>
                      <a:lnTo>
                        <a:pt x="3600" y="1012"/>
                      </a:lnTo>
                      <a:lnTo>
                        <a:pt x="3569" y="1033"/>
                      </a:lnTo>
                      <a:lnTo>
                        <a:pt x="3537" y="1064"/>
                      </a:lnTo>
                      <a:lnTo>
                        <a:pt x="3506" y="1085"/>
                      </a:lnTo>
                      <a:lnTo>
                        <a:pt x="3475" y="1106"/>
                      </a:lnTo>
                      <a:lnTo>
                        <a:pt x="3454" y="1137"/>
                      </a:lnTo>
                      <a:lnTo>
                        <a:pt x="3423" y="1158"/>
                      </a:lnTo>
                      <a:lnTo>
                        <a:pt x="3391" y="1179"/>
                      </a:lnTo>
                      <a:lnTo>
                        <a:pt x="3360" y="1190"/>
                      </a:lnTo>
                      <a:lnTo>
                        <a:pt x="3329" y="1200"/>
                      </a:lnTo>
                      <a:lnTo>
                        <a:pt x="3297" y="1221"/>
                      </a:lnTo>
                      <a:lnTo>
                        <a:pt x="3266" y="1252"/>
                      </a:lnTo>
                      <a:lnTo>
                        <a:pt x="3235" y="1273"/>
                      </a:lnTo>
                      <a:lnTo>
                        <a:pt x="3203" y="1283"/>
                      </a:lnTo>
                      <a:lnTo>
                        <a:pt x="3172" y="1294"/>
                      </a:lnTo>
                      <a:lnTo>
                        <a:pt x="3141" y="1304"/>
                      </a:lnTo>
                      <a:lnTo>
                        <a:pt x="3120" y="1336"/>
                      </a:lnTo>
                      <a:lnTo>
                        <a:pt x="3089" y="1357"/>
                      </a:lnTo>
                      <a:lnTo>
                        <a:pt x="3078" y="1388"/>
                      </a:lnTo>
                      <a:lnTo>
                        <a:pt x="3057" y="1419"/>
                      </a:lnTo>
                      <a:lnTo>
                        <a:pt x="3057" y="1450"/>
                      </a:lnTo>
                      <a:lnTo>
                        <a:pt x="3068" y="1482"/>
                      </a:lnTo>
                      <a:lnTo>
                        <a:pt x="3078" y="1513"/>
                      </a:lnTo>
                      <a:lnTo>
                        <a:pt x="3089" y="1544"/>
                      </a:lnTo>
                      <a:lnTo>
                        <a:pt x="3120" y="1565"/>
                      </a:lnTo>
                      <a:lnTo>
                        <a:pt x="3130" y="1597"/>
                      </a:lnTo>
                      <a:lnTo>
                        <a:pt x="3151" y="1628"/>
                      </a:lnTo>
                      <a:lnTo>
                        <a:pt x="3172" y="1659"/>
                      </a:lnTo>
                      <a:lnTo>
                        <a:pt x="3203" y="1690"/>
                      </a:lnTo>
                      <a:lnTo>
                        <a:pt x="3235" y="1711"/>
                      </a:lnTo>
                      <a:lnTo>
                        <a:pt x="3245" y="1743"/>
                      </a:lnTo>
                      <a:lnTo>
                        <a:pt x="3277" y="1763"/>
                      </a:lnTo>
                      <a:lnTo>
                        <a:pt x="3308" y="1763"/>
                      </a:lnTo>
                      <a:lnTo>
                        <a:pt x="3339" y="1763"/>
                      </a:lnTo>
                      <a:lnTo>
                        <a:pt x="3370" y="1763"/>
                      </a:lnTo>
                      <a:lnTo>
                        <a:pt x="3402" y="1763"/>
                      </a:lnTo>
                      <a:lnTo>
                        <a:pt x="3433" y="1753"/>
                      </a:lnTo>
                      <a:lnTo>
                        <a:pt x="3464" y="1743"/>
                      </a:lnTo>
                      <a:lnTo>
                        <a:pt x="3496" y="1743"/>
                      </a:lnTo>
                      <a:lnTo>
                        <a:pt x="3527" y="1743"/>
                      </a:lnTo>
                      <a:lnTo>
                        <a:pt x="3558" y="1753"/>
                      </a:lnTo>
                      <a:lnTo>
                        <a:pt x="3590" y="1763"/>
                      </a:lnTo>
                      <a:lnTo>
                        <a:pt x="3621" y="1774"/>
                      </a:lnTo>
                      <a:lnTo>
                        <a:pt x="3652" y="1774"/>
                      </a:lnTo>
                      <a:lnTo>
                        <a:pt x="3683" y="1774"/>
                      </a:lnTo>
                      <a:lnTo>
                        <a:pt x="3704" y="1743"/>
                      </a:lnTo>
                      <a:lnTo>
                        <a:pt x="3725" y="1711"/>
                      </a:lnTo>
                      <a:lnTo>
                        <a:pt x="3736" y="1680"/>
                      </a:lnTo>
                      <a:lnTo>
                        <a:pt x="3757" y="1649"/>
                      </a:lnTo>
                      <a:lnTo>
                        <a:pt x="3788" y="1628"/>
                      </a:lnTo>
                      <a:lnTo>
                        <a:pt x="3819" y="1617"/>
                      </a:lnTo>
                      <a:lnTo>
                        <a:pt x="3830" y="1649"/>
                      </a:lnTo>
                      <a:lnTo>
                        <a:pt x="3830" y="1680"/>
                      </a:lnTo>
                      <a:lnTo>
                        <a:pt x="3819" y="1711"/>
                      </a:lnTo>
                      <a:lnTo>
                        <a:pt x="3809" y="1743"/>
                      </a:lnTo>
                      <a:lnTo>
                        <a:pt x="3830" y="1774"/>
                      </a:lnTo>
                      <a:lnTo>
                        <a:pt x="3861" y="1795"/>
                      </a:lnTo>
                      <a:lnTo>
                        <a:pt x="3882" y="1826"/>
                      </a:lnTo>
                      <a:lnTo>
                        <a:pt x="3892" y="1857"/>
                      </a:lnTo>
                      <a:lnTo>
                        <a:pt x="3913" y="1889"/>
                      </a:lnTo>
                      <a:lnTo>
                        <a:pt x="3913" y="1920"/>
                      </a:lnTo>
                      <a:lnTo>
                        <a:pt x="3913" y="1951"/>
                      </a:lnTo>
                      <a:lnTo>
                        <a:pt x="3903" y="1983"/>
                      </a:lnTo>
                      <a:lnTo>
                        <a:pt x="3903" y="2014"/>
                      </a:lnTo>
                      <a:lnTo>
                        <a:pt x="3903" y="2045"/>
                      </a:lnTo>
                      <a:lnTo>
                        <a:pt x="3882" y="2077"/>
                      </a:lnTo>
                      <a:lnTo>
                        <a:pt x="3850" y="2097"/>
                      </a:lnTo>
                      <a:lnTo>
                        <a:pt x="3819" y="2118"/>
                      </a:lnTo>
                      <a:lnTo>
                        <a:pt x="3788" y="2150"/>
                      </a:lnTo>
                      <a:lnTo>
                        <a:pt x="3757" y="2170"/>
                      </a:lnTo>
                      <a:lnTo>
                        <a:pt x="3725" y="2191"/>
                      </a:lnTo>
                      <a:lnTo>
                        <a:pt x="3694" y="2212"/>
                      </a:lnTo>
                      <a:lnTo>
                        <a:pt x="3663" y="2233"/>
                      </a:lnTo>
                      <a:lnTo>
                        <a:pt x="3631" y="2264"/>
                      </a:lnTo>
                      <a:lnTo>
                        <a:pt x="3600" y="2285"/>
                      </a:lnTo>
                      <a:lnTo>
                        <a:pt x="3590" y="2317"/>
                      </a:lnTo>
                      <a:lnTo>
                        <a:pt x="3569" y="2348"/>
                      </a:lnTo>
                      <a:lnTo>
                        <a:pt x="3548" y="2379"/>
                      </a:lnTo>
                      <a:lnTo>
                        <a:pt x="3527" y="2410"/>
                      </a:lnTo>
                      <a:lnTo>
                        <a:pt x="3506" y="2442"/>
                      </a:lnTo>
                      <a:lnTo>
                        <a:pt x="3485" y="2473"/>
                      </a:lnTo>
                      <a:lnTo>
                        <a:pt x="3475" y="2504"/>
                      </a:lnTo>
                      <a:lnTo>
                        <a:pt x="3443" y="2515"/>
                      </a:lnTo>
                      <a:lnTo>
                        <a:pt x="3412" y="2515"/>
                      </a:lnTo>
                      <a:lnTo>
                        <a:pt x="3381" y="2515"/>
                      </a:lnTo>
                      <a:lnTo>
                        <a:pt x="3350" y="2515"/>
                      </a:lnTo>
                      <a:lnTo>
                        <a:pt x="3318" y="2504"/>
                      </a:lnTo>
                      <a:lnTo>
                        <a:pt x="3287" y="2504"/>
                      </a:lnTo>
                      <a:lnTo>
                        <a:pt x="3256" y="2483"/>
                      </a:lnTo>
                      <a:lnTo>
                        <a:pt x="3224" y="2463"/>
                      </a:lnTo>
                      <a:lnTo>
                        <a:pt x="3193" y="2442"/>
                      </a:lnTo>
                      <a:lnTo>
                        <a:pt x="3162" y="2442"/>
                      </a:lnTo>
                      <a:lnTo>
                        <a:pt x="3130" y="2442"/>
                      </a:lnTo>
                      <a:lnTo>
                        <a:pt x="3099" y="2442"/>
                      </a:lnTo>
                      <a:lnTo>
                        <a:pt x="3068" y="2452"/>
                      </a:lnTo>
                      <a:lnTo>
                        <a:pt x="3047" y="2483"/>
                      </a:lnTo>
                      <a:lnTo>
                        <a:pt x="3016" y="2504"/>
                      </a:lnTo>
                      <a:lnTo>
                        <a:pt x="2984" y="2504"/>
                      </a:lnTo>
                      <a:lnTo>
                        <a:pt x="2901" y="2504"/>
                      </a:lnTo>
                      <a:lnTo>
                        <a:pt x="2870" y="2504"/>
                      </a:lnTo>
                      <a:lnTo>
                        <a:pt x="2838" y="2504"/>
                      </a:lnTo>
                      <a:lnTo>
                        <a:pt x="2807" y="2504"/>
                      </a:lnTo>
                      <a:lnTo>
                        <a:pt x="2776" y="2504"/>
                      </a:lnTo>
                      <a:lnTo>
                        <a:pt x="2744" y="2494"/>
                      </a:lnTo>
                      <a:lnTo>
                        <a:pt x="2713" y="2483"/>
                      </a:lnTo>
                      <a:lnTo>
                        <a:pt x="2682" y="2452"/>
                      </a:lnTo>
                      <a:lnTo>
                        <a:pt x="2650" y="2431"/>
                      </a:lnTo>
                      <a:lnTo>
                        <a:pt x="2619" y="2410"/>
                      </a:lnTo>
                      <a:lnTo>
                        <a:pt x="2588" y="2410"/>
                      </a:lnTo>
                      <a:lnTo>
                        <a:pt x="2557" y="2400"/>
                      </a:lnTo>
                      <a:lnTo>
                        <a:pt x="2525" y="2400"/>
                      </a:lnTo>
                      <a:lnTo>
                        <a:pt x="2494" y="2400"/>
                      </a:lnTo>
                      <a:lnTo>
                        <a:pt x="2463" y="2400"/>
                      </a:lnTo>
                      <a:lnTo>
                        <a:pt x="2379" y="2400"/>
                      </a:lnTo>
                      <a:lnTo>
                        <a:pt x="2348" y="2400"/>
                      </a:lnTo>
                      <a:lnTo>
                        <a:pt x="2317" y="2400"/>
                      </a:lnTo>
                      <a:lnTo>
                        <a:pt x="2285" y="2400"/>
                      </a:lnTo>
                      <a:lnTo>
                        <a:pt x="2254" y="2400"/>
                      </a:lnTo>
                      <a:lnTo>
                        <a:pt x="2223" y="2400"/>
                      </a:lnTo>
                      <a:lnTo>
                        <a:pt x="2191" y="2410"/>
                      </a:lnTo>
                      <a:lnTo>
                        <a:pt x="2160" y="2410"/>
                      </a:lnTo>
                      <a:lnTo>
                        <a:pt x="2129" y="2421"/>
                      </a:lnTo>
                      <a:lnTo>
                        <a:pt x="2097" y="2431"/>
                      </a:lnTo>
                      <a:lnTo>
                        <a:pt x="2087" y="2463"/>
                      </a:lnTo>
                      <a:lnTo>
                        <a:pt x="2087" y="2494"/>
                      </a:lnTo>
                      <a:lnTo>
                        <a:pt x="2087" y="2525"/>
                      </a:lnTo>
                      <a:lnTo>
                        <a:pt x="2087" y="2557"/>
                      </a:lnTo>
                      <a:lnTo>
                        <a:pt x="2056" y="2577"/>
                      </a:lnTo>
                      <a:lnTo>
                        <a:pt x="2024" y="2567"/>
                      </a:lnTo>
                      <a:lnTo>
                        <a:pt x="1993" y="2546"/>
                      </a:lnTo>
                      <a:lnTo>
                        <a:pt x="1972" y="2515"/>
                      </a:lnTo>
                      <a:lnTo>
                        <a:pt x="1951" y="2483"/>
                      </a:lnTo>
                      <a:lnTo>
                        <a:pt x="1920" y="2452"/>
                      </a:lnTo>
                      <a:lnTo>
                        <a:pt x="1889" y="2431"/>
                      </a:lnTo>
                      <a:lnTo>
                        <a:pt x="1857" y="2410"/>
                      </a:lnTo>
                      <a:lnTo>
                        <a:pt x="1826" y="2390"/>
                      </a:lnTo>
                      <a:lnTo>
                        <a:pt x="1805" y="2358"/>
                      </a:lnTo>
                      <a:lnTo>
                        <a:pt x="1774" y="2337"/>
                      </a:lnTo>
                      <a:lnTo>
                        <a:pt x="1743" y="2306"/>
                      </a:lnTo>
                      <a:lnTo>
                        <a:pt x="1722" y="2275"/>
                      </a:lnTo>
                      <a:lnTo>
                        <a:pt x="1690" y="2264"/>
                      </a:lnTo>
                      <a:lnTo>
                        <a:pt x="1659" y="2254"/>
                      </a:lnTo>
                      <a:lnTo>
                        <a:pt x="1628" y="2254"/>
                      </a:lnTo>
                      <a:lnTo>
                        <a:pt x="1597" y="2254"/>
                      </a:lnTo>
                      <a:lnTo>
                        <a:pt x="1513" y="2254"/>
                      </a:lnTo>
                      <a:lnTo>
                        <a:pt x="1482" y="2233"/>
                      </a:lnTo>
                      <a:lnTo>
                        <a:pt x="1471" y="2202"/>
                      </a:lnTo>
                      <a:lnTo>
                        <a:pt x="1471" y="2170"/>
                      </a:lnTo>
                      <a:lnTo>
                        <a:pt x="1461" y="2139"/>
                      </a:lnTo>
                      <a:lnTo>
                        <a:pt x="1461" y="2108"/>
                      </a:lnTo>
                      <a:lnTo>
                        <a:pt x="1461" y="2077"/>
                      </a:lnTo>
                      <a:lnTo>
                        <a:pt x="1461" y="2045"/>
                      </a:lnTo>
                      <a:lnTo>
                        <a:pt x="1461" y="2014"/>
                      </a:lnTo>
                      <a:lnTo>
                        <a:pt x="1461" y="1983"/>
                      </a:lnTo>
                      <a:lnTo>
                        <a:pt x="1461" y="1951"/>
                      </a:lnTo>
                      <a:lnTo>
                        <a:pt x="1450" y="1920"/>
                      </a:lnTo>
                      <a:lnTo>
                        <a:pt x="1440" y="1889"/>
                      </a:lnTo>
                      <a:lnTo>
                        <a:pt x="1440" y="1857"/>
                      </a:lnTo>
                      <a:lnTo>
                        <a:pt x="1419" y="1826"/>
                      </a:lnTo>
                      <a:lnTo>
                        <a:pt x="1388" y="1805"/>
                      </a:lnTo>
                      <a:lnTo>
                        <a:pt x="1357" y="1805"/>
                      </a:lnTo>
                      <a:lnTo>
                        <a:pt x="1325" y="1805"/>
                      </a:lnTo>
                      <a:lnTo>
                        <a:pt x="1294" y="1805"/>
                      </a:lnTo>
                      <a:lnTo>
                        <a:pt x="1210" y="1805"/>
                      </a:lnTo>
                      <a:lnTo>
                        <a:pt x="1179" y="1816"/>
                      </a:lnTo>
                      <a:lnTo>
                        <a:pt x="1096" y="1816"/>
                      </a:lnTo>
                      <a:lnTo>
                        <a:pt x="1064" y="1826"/>
                      </a:lnTo>
                      <a:lnTo>
                        <a:pt x="1033" y="1826"/>
                      </a:lnTo>
                      <a:lnTo>
                        <a:pt x="1002" y="1826"/>
                      </a:lnTo>
                      <a:lnTo>
                        <a:pt x="970" y="1826"/>
                      </a:lnTo>
                      <a:lnTo>
                        <a:pt x="939" y="1826"/>
                      </a:lnTo>
                      <a:lnTo>
                        <a:pt x="908" y="1805"/>
                      </a:lnTo>
                      <a:lnTo>
                        <a:pt x="877" y="1784"/>
                      </a:lnTo>
                      <a:lnTo>
                        <a:pt x="845" y="1763"/>
                      </a:lnTo>
                      <a:lnTo>
                        <a:pt x="814" y="1732"/>
                      </a:lnTo>
                      <a:lnTo>
                        <a:pt x="783" y="1722"/>
                      </a:lnTo>
                      <a:lnTo>
                        <a:pt x="751" y="1711"/>
                      </a:lnTo>
                      <a:lnTo>
                        <a:pt x="678" y="1701"/>
                      </a:lnTo>
                      <a:lnTo>
                        <a:pt x="605" y="1701"/>
                      </a:lnTo>
                      <a:lnTo>
                        <a:pt x="522" y="1690"/>
                      </a:lnTo>
                      <a:lnTo>
                        <a:pt x="490" y="1680"/>
                      </a:lnTo>
                      <a:lnTo>
                        <a:pt x="459" y="1680"/>
                      </a:lnTo>
                      <a:lnTo>
                        <a:pt x="428" y="1649"/>
                      </a:lnTo>
                      <a:lnTo>
                        <a:pt x="407" y="1617"/>
                      </a:lnTo>
                      <a:lnTo>
                        <a:pt x="376" y="1597"/>
                      </a:lnTo>
                      <a:lnTo>
                        <a:pt x="344" y="1576"/>
                      </a:lnTo>
                      <a:lnTo>
                        <a:pt x="313" y="1576"/>
                      </a:lnTo>
                      <a:lnTo>
                        <a:pt x="282" y="1576"/>
                      </a:lnTo>
                      <a:lnTo>
                        <a:pt x="209" y="1576"/>
                      </a:lnTo>
                      <a:lnTo>
                        <a:pt x="177" y="1586"/>
                      </a:lnTo>
                      <a:lnTo>
                        <a:pt x="146" y="1597"/>
                      </a:lnTo>
                      <a:lnTo>
                        <a:pt x="125" y="1628"/>
                      </a:lnTo>
                      <a:lnTo>
                        <a:pt x="104" y="1659"/>
                      </a:lnTo>
                      <a:lnTo>
                        <a:pt x="73" y="1690"/>
                      </a:lnTo>
                      <a:lnTo>
                        <a:pt x="52" y="1722"/>
                      </a:lnTo>
                      <a:lnTo>
                        <a:pt x="21" y="1743"/>
                      </a:lnTo>
                      <a:lnTo>
                        <a:pt x="0" y="1774"/>
                      </a:lnTo>
                      <a:lnTo>
                        <a:pt x="0" y="1743"/>
                      </a:lnTo>
                      <a:lnTo>
                        <a:pt x="0" y="1711"/>
                      </a:lnTo>
                      <a:lnTo>
                        <a:pt x="0" y="1680"/>
                      </a:lnTo>
                      <a:lnTo>
                        <a:pt x="0" y="1649"/>
                      </a:lnTo>
                      <a:lnTo>
                        <a:pt x="0" y="1617"/>
                      </a:lnTo>
                      <a:lnTo>
                        <a:pt x="0" y="1534"/>
                      </a:lnTo>
                      <a:lnTo>
                        <a:pt x="0" y="1440"/>
                      </a:lnTo>
                      <a:lnTo>
                        <a:pt x="0" y="1357"/>
                      </a:lnTo>
                      <a:lnTo>
                        <a:pt x="0" y="1263"/>
                      </a:lnTo>
                      <a:lnTo>
                        <a:pt x="0" y="1169"/>
                      </a:lnTo>
                      <a:lnTo>
                        <a:pt x="0" y="1075"/>
                      </a:lnTo>
                      <a:lnTo>
                        <a:pt x="0" y="1043"/>
                      </a:lnTo>
                      <a:lnTo>
                        <a:pt x="0" y="1012"/>
                      </a:lnTo>
                      <a:lnTo>
                        <a:pt x="0" y="981"/>
                      </a:lnTo>
                      <a:lnTo>
                        <a:pt x="0" y="908"/>
                      </a:lnTo>
                      <a:lnTo>
                        <a:pt x="0" y="814"/>
                      </a:lnTo>
                      <a:lnTo>
                        <a:pt x="0" y="730"/>
                      </a:lnTo>
                      <a:lnTo>
                        <a:pt x="0" y="657"/>
                      </a:lnTo>
                      <a:lnTo>
                        <a:pt x="0" y="584"/>
                      </a:lnTo>
                      <a:lnTo>
                        <a:pt x="0" y="501"/>
                      </a:lnTo>
                      <a:lnTo>
                        <a:pt x="0" y="417"/>
                      </a:lnTo>
                      <a:lnTo>
                        <a:pt x="0" y="323"/>
                      </a:lnTo>
                      <a:lnTo>
                        <a:pt x="0" y="230"/>
                      </a:lnTo>
                      <a:lnTo>
                        <a:pt x="0" y="136"/>
                      </a:lnTo>
                      <a:lnTo>
                        <a:pt x="0" y="104"/>
                      </a:lnTo>
                      <a:lnTo>
                        <a:pt x="0" y="73"/>
                      </a:lnTo>
                      <a:lnTo>
                        <a:pt x="0" y="42"/>
                      </a:lnTo>
                      <a:lnTo>
                        <a:pt x="31" y="21"/>
                      </a:lnTo>
                      <a:lnTo>
                        <a:pt x="63" y="21"/>
                      </a:lnTo>
                      <a:lnTo>
                        <a:pt x="94" y="21"/>
                      </a:lnTo>
                      <a:lnTo>
                        <a:pt x="125" y="21"/>
                      </a:lnTo>
                      <a:lnTo>
                        <a:pt x="157" y="21"/>
                      </a:lnTo>
                      <a:lnTo>
                        <a:pt x="240" y="21"/>
                      </a:lnTo>
                      <a:lnTo>
                        <a:pt x="313" y="21"/>
                      </a:lnTo>
                      <a:lnTo>
                        <a:pt x="397" y="21"/>
                      </a:lnTo>
                      <a:lnTo>
                        <a:pt x="490" y="21"/>
                      </a:lnTo>
                      <a:lnTo>
                        <a:pt x="563" y="21"/>
                      </a:lnTo>
                      <a:lnTo>
                        <a:pt x="647" y="21"/>
                      </a:lnTo>
                      <a:lnTo>
                        <a:pt x="720" y="21"/>
                      </a:lnTo>
                      <a:lnTo>
                        <a:pt x="751" y="21"/>
                      </a:lnTo>
                      <a:lnTo>
                        <a:pt x="783" y="21"/>
                      </a:lnTo>
                      <a:lnTo>
                        <a:pt x="720"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4964040" y="4275000"/>
                  <a:ext cx="333360" cy="1549440"/>
                </a:xfrm>
                <a:custGeom>
                  <a:avLst/>
                  <a:gdLst/>
                  <a:ahLst/>
                  <a:rect l="l" t="t" r="r" b="b"/>
                  <a:pathLst>
                    <a:path w="210" h="976">
                      <a:moveTo>
                        <a:pt x="0" y="0"/>
                      </a:moveTo>
                      <a:lnTo>
                        <a:pt x="21" y="35"/>
                      </a:lnTo>
                      <a:lnTo>
                        <a:pt x="42" y="67"/>
                      </a:lnTo>
                      <a:lnTo>
                        <a:pt x="42" y="98"/>
                      </a:lnTo>
                      <a:lnTo>
                        <a:pt x="42" y="129"/>
                      </a:lnTo>
                      <a:lnTo>
                        <a:pt x="42" y="161"/>
                      </a:lnTo>
                      <a:lnTo>
                        <a:pt x="31" y="192"/>
                      </a:lnTo>
                      <a:lnTo>
                        <a:pt x="31" y="223"/>
                      </a:lnTo>
                      <a:lnTo>
                        <a:pt x="31" y="255"/>
                      </a:lnTo>
                      <a:lnTo>
                        <a:pt x="31" y="286"/>
                      </a:lnTo>
                      <a:lnTo>
                        <a:pt x="31" y="317"/>
                      </a:lnTo>
                      <a:lnTo>
                        <a:pt x="31" y="349"/>
                      </a:lnTo>
                      <a:lnTo>
                        <a:pt x="31" y="380"/>
                      </a:lnTo>
                      <a:lnTo>
                        <a:pt x="31" y="411"/>
                      </a:lnTo>
                      <a:lnTo>
                        <a:pt x="42" y="442"/>
                      </a:lnTo>
                      <a:lnTo>
                        <a:pt x="42" y="474"/>
                      </a:lnTo>
                      <a:lnTo>
                        <a:pt x="42" y="505"/>
                      </a:lnTo>
                      <a:lnTo>
                        <a:pt x="52" y="536"/>
                      </a:lnTo>
                      <a:lnTo>
                        <a:pt x="63" y="568"/>
                      </a:lnTo>
                      <a:lnTo>
                        <a:pt x="73" y="599"/>
                      </a:lnTo>
                      <a:lnTo>
                        <a:pt x="94" y="630"/>
                      </a:lnTo>
                      <a:lnTo>
                        <a:pt x="115" y="662"/>
                      </a:lnTo>
                      <a:lnTo>
                        <a:pt x="136" y="693"/>
                      </a:lnTo>
                      <a:lnTo>
                        <a:pt x="136" y="724"/>
                      </a:lnTo>
                      <a:lnTo>
                        <a:pt x="146" y="755"/>
                      </a:lnTo>
                      <a:lnTo>
                        <a:pt x="157" y="787"/>
                      </a:lnTo>
                      <a:lnTo>
                        <a:pt x="177" y="818"/>
                      </a:lnTo>
                      <a:lnTo>
                        <a:pt x="198" y="849"/>
                      </a:lnTo>
                      <a:lnTo>
                        <a:pt x="209" y="881"/>
                      </a:lnTo>
                      <a:lnTo>
                        <a:pt x="209" y="912"/>
                      </a:lnTo>
                      <a:lnTo>
                        <a:pt x="209" y="943"/>
                      </a:lnTo>
                      <a:lnTo>
                        <a:pt x="209" y="975"/>
                      </a:lnTo>
                      <a:lnTo>
                        <a:pt x="192" y="864"/>
                      </a:lnTo>
                    </a:path>
                  </a:pathLst>
                </a:custGeom>
                <a:solidFill>
                  <a:srgbClr val="114ffb"/>
                </a:solidFill>
                <a:ln cap="rnd"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146560" y="4449600"/>
                  <a:ext cx="1575000" cy="1909800"/>
                </a:xfrm>
                <a:custGeom>
                  <a:avLst/>
                  <a:gdLst/>
                  <a:ahLst/>
                  <a:rect l="l" t="t" r="r" b="b"/>
                  <a:pathLst>
                    <a:path w="992" h="1203">
                      <a:moveTo>
                        <a:pt x="29" y="10"/>
                      </a:moveTo>
                      <a:lnTo>
                        <a:pt x="62" y="41"/>
                      </a:lnTo>
                      <a:lnTo>
                        <a:pt x="62" y="73"/>
                      </a:lnTo>
                      <a:lnTo>
                        <a:pt x="73" y="104"/>
                      </a:lnTo>
                      <a:lnTo>
                        <a:pt x="83" y="135"/>
                      </a:lnTo>
                      <a:lnTo>
                        <a:pt x="94" y="167"/>
                      </a:lnTo>
                      <a:lnTo>
                        <a:pt x="115" y="198"/>
                      </a:lnTo>
                      <a:lnTo>
                        <a:pt x="135" y="229"/>
                      </a:lnTo>
                      <a:lnTo>
                        <a:pt x="146" y="260"/>
                      </a:lnTo>
                      <a:lnTo>
                        <a:pt x="167" y="292"/>
                      </a:lnTo>
                      <a:lnTo>
                        <a:pt x="177" y="323"/>
                      </a:lnTo>
                      <a:lnTo>
                        <a:pt x="208" y="344"/>
                      </a:lnTo>
                      <a:lnTo>
                        <a:pt x="219" y="375"/>
                      </a:lnTo>
                      <a:lnTo>
                        <a:pt x="240" y="407"/>
                      </a:lnTo>
                      <a:lnTo>
                        <a:pt x="261" y="438"/>
                      </a:lnTo>
                      <a:lnTo>
                        <a:pt x="271" y="469"/>
                      </a:lnTo>
                      <a:lnTo>
                        <a:pt x="282" y="500"/>
                      </a:lnTo>
                      <a:lnTo>
                        <a:pt x="302" y="532"/>
                      </a:lnTo>
                      <a:lnTo>
                        <a:pt x="323" y="563"/>
                      </a:lnTo>
                      <a:lnTo>
                        <a:pt x="344" y="594"/>
                      </a:lnTo>
                      <a:lnTo>
                        <a:pt x="375" y="626"/>
                      </a:lnTo>
                      <a:lnTo>
                        <a:pt x="396" y="657"/>
                      </a:lnTo>
                      <a:lnTo>
                        <a:pt x="407" y="688"/>
                      </a:lnTo>
                      <a:lnTo>
                        <a:pt x="428" y="720"/>
                      </a:lnTo>
                      <a:lnTo>
                        <a:pt x="448" y="751"/>
                      </a:lnTo>
                      <a:lnTo>
                        <a:pt x="469" y="782"/>
                      </a:lnTo>
                      <a:lnTo>
                        <a:pt x="490" y="813"/>
                      </a:lnTo>
                      <a:lnTo>
                        <a:pt x="522" y="845"/>
                      </a:lnTo>
                      <a:lnTo>
                        <a:pt x="542" y="876"/>
                      </a:lnTo>
                      <a:lnTo>
                        <a:pt x="553" y="907"/>
                      </a:lnTo>
                      <a:lnTo>
                        <a:pt x="553" y="939"/>
                      </a:lnTo>
                      <a:lnTo>
                        <a:pt x="553" y="970"/>
                      </a:lnTo>
                      <a:lnTo>
                        <a:pt x="553" y="1001"/>
                      </a:lnTo>
                      <a:lnTo>
                        <a:pt x="563" y="1033"/>
                      </a:lnTo>
                      <a:lnTo>
                        <a:pt x="563" y="1064"/>
                      </a:lnTo>
                      <a:lnTo>
                        <a:pt x="584" y="1095"/>
                      </a:lnTo>
                      <a:lnTo>
                        <a:pt x="615" y="1127"/>
                      </a:lnTo>
                      <a:lnTo>
                        <a:pt x="636" y="1158"/>
                      </a:lnTo>
                      <a:lnTo>
                        <a:pt x="668" y="1189"/>
                      </a:lnTo>
                      <a:lnTo>
                        <a:pt x="699" y="1202"/>
                      </a:lnTo>
                      <a:lnTo>
                        <a:pt x="730" y="1202"/>
                      </a:lnTo>
                      <a:lnTo>
                        <a:pt x="762" y="1202"/>
                      </a:lnTo>
                      <a:lnTo>
                        <a:pt x="793" y="1202"/>
                      </a:lnTo>
                      <a:lnTo>
                        <a:pt x="824" y="1202"/>
                      </a:lnTo>
                      <a:lnTo>
                        <a:pt x="855" y="1202"/>
                      </a:lnTo>
                      <a:lnTo>
                        <a:pt x="887" y="1202"/>
                      </a:lnTo>
                      <a:lnTo>
                        <a:pt x="918" y="1202"/>
                      </a:lnTo>
                      <a:lnTo>
                        <a:pt x="949" y="1202"/>
                      </a:lnTo>
                      <a:lnTo>
                        <a:pt x="981" y="1202"/>
                      </a:lnTo>
                      <a:lnTo>
                        <a:pt x="991" y="1168"/>
                      </a:lnTo>
                      <a:lnTo>
                        <a:pt x="970" y="1137"/>
                      </a:lnTo>
                      <a:lnTo>
                        <a:pt x="960" y="1106"/>
                      </a:lnTo>
                      <a:lnTo>
                        <a:pt x="949" y="1074"/>
                      </a:lnTo>
                      <a:lnTo>
                        <a:pt x="928" y="1043"/>
                      </a:lnTo>
                      <a:lnTo>
                        <a:pt x="908" y="1012"/>
                      </a:lnTo>
                      <a:lnTo>
                        <a:pt x="887" y="980"/>
                      </a:lnTo>
                      <a:lnTo>
                        <a:pt x="876" y="949"/>
                      </a:lnTo>
                      <a:lnTo>
                        <a:pt x="855" y="918"/>
                      </a:lnTo>
                      <a:lnTo>
                        <a:pt x="824" y="887"/>
                      </a:lnTo>
                      <a:lnTo>
                        <a:pt x="803" y="855"/>
                      </a:lnTo>
                      <a:lnTo>
                        <a:pt x="772" y="824"/>
                      </a:lnTo>
                      <a:lnTo>
                        <a:pt x="741" y="803"/>
                      </a:lnTo>
                      <a:lnTo>
                        <a:pt x="720" y="772"/>
                      </a:lnTo>
                      <a:lnTo>
                        <a:pt x="688" y="751"/>
                      </a:lnTo>
                      <a:lnTo>
                        <a:pt x="668" y="720"/>
                      </a:lnTo>
                      <a:lnTo>
                        <a:pt x="657" y="688"/>
                      </a:lnTo>
                      <a:lnTo>
                        <a:pt x="647" y="657"/>
                      </a:lnTo>
                      <a:lnTo>
                        <a:pt x="636" y="626"/>
                      </a:lnTo>
                      <a:lnTo>
                        <a:pt x="615" y="594"/>
                      </a:lnTo>
                      <a:lnTo>
                        <a:pt x="595" y="563"/>
                      </a:lnTo>
                      <a:lnTo>
                        <a:pt x="574" y="532"/>
                      </a:lnTo>
                      <a:lnTo>
                        <a:pt x="553" y="500"/>
                      </a:lnTo>
                      <a:lnTo>
                        <a:pt x="532" y="469"/>
                      </a:lnTo>
                      <a:lnTo>
                        <a:pt x="511" y="438"/>
                      </a:lnTo>
                      <a:lnTo>
                        <a:pt x="501" y="407"/>
                      </a:lnTo>
                      <a:lnTo>
                        <a:pt x="469" y="386"/>
                      </a:lnTo>
                      <a:lnTo>
                        <a:pt x="438" y="365"/>
                      </a:lnTo>
                      <a:lnTo>
                        <a:pt x="417" y="333"/>
                      </a:lnTo>
                      <a:lnTo>
                        <a:pt x="386" y="313"/>
                      </a:lnTo>
                      <a:lnTo>
                        <a:pt x="355" y="292"/>
                      </a:lnTo>
                      <a:lnTo>
                        <a:pt x="323" y="271"/>
                      </a:lnTo>
                      <a:lnTo>
                        <a:pt x="292" y="250"/>
                      </a:lnTo>
                      <a:lnTo>
                        <a:pt x="261" y="219"/>
                      </a:lnTo>
                      <a:lnTo>
                        <a:pt x="229" y="187"/>
                      </a:lnTo>
                      <a:lnTo>
                        <a:pt x="219" y="156"/>
                      </a:lnTo>
                      <a:lnTo>
                        <a:pt x="219" y="125"/>
                      </a:lnTo>
                      <a:lnTo>
                        <a:pt x="229" y="93"/>
                      </a:lnTo>
                      <a:lnTo>
                        <a:pt x="240" y="62"/>
                      </a:lnTo>
                      <a:lnTo>
                        <a:pt x="250" y="31"/>
                      </a:lnTo>
                      <a:lnTo>
                        <a:pt x="250" y="0"/>
                      </a:lnTo>
                      <a:lnTo>
                        <a:pt x="219" y="10"/>
                      </a:lnTo>
                      <a:lnTo>
                        <a:pt x="198" y="41"/>
                      </a:lnTo>
                      <a:lnTo>
                        <a:pt x="177" y="73"/>
                      </a:lnTo>
                      <a:lnTo>
                        <a:pt x="156" y="104"/>
                      </a:lnTo>
                      <a:lnTo>
                        <a:pt x="156" y="135"/>
                      </a:lnTo>
                      <a:lnTo>
                        <a:pt x="125" y="114"/>
                      </a:lnTo>
                      <a:lnTo>
                        <a:pt x="115" y="83"/>
                      </a:lnTo>
                      <a:lnTo>
                        <a:pt x="94" y="52"/>
                      </a:lnTo>
                      <a:lnTo>
                        <a:pt x="62" y="41"/>
                      </a:lnTo>
                      <a:lnTo>
                        <a:pt x="31" y="20"/>
                      </a:lnTo>
                      <a:lnTo>
                        <a:pt x="0" y="10"/>
                      </a:lnTo>
                      <a:lnTo>
                        <a:pt x="29" y="1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17600" y="5799240"/>
                  <a:ext cx="1168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1747800" y="4807080"/>
                  <a:ext cx="435132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1672920" y="5494320"/>
                  <a:ext cx="4450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Paul’s Journey to Rome</a:t>
                  </a:r>
                  <a:endParaRPr b="0" lang="en-US" sz="3600" spc="-1" strike="noStrike">
                    <a:solidFill>
                      <a:srgbClr val="ffffff"/>
                    </a:solidFill>
                    <a:latin typeface="Times New Roman"/>
                  </a:endParaRPr>
                </a:p>
              </p:txBody>
            </p:sp>
            <p:sp>
              <p:nvSpPr>
                <p:cNvPr id="1043" name=""/>
                <p:cNvSpPr/>
                <p:nvPr/>
              </p:nvSpPr>
              <p:spPr>
                <a:xfrm>
                  <a:off x="5713560" y="3970440"/>
                  <a:ext cx="168120" cy="203040"/>
                </a:xfrm>
                <a:custGeom>
                  <a:avLst/>
                  <a:gdLst/>
                  <a:ahLst/>
                  <a:rect l="l" t="t" r="r" b="b"/>
                  <a:pathLst>
                    <a:path w="106" h="128">
                      <a:moveTo>
                        <a:pt x="92" y="0"/>
                      </a:moveTo>
                      <a:lnTo>
                        <a:pt x="52" y="23"/>
                      </a:lnTo>
                      <a:lnTo>
                        <a:pt x="21" y="33"/>
                      </a:lnTo>
                      <a:lnTo>
                        <a:pt x="0" y="65"/>
                      </a:lnTo>
                      <a:lnTo>
                        <a:pt x="11" y="96"/>
                      </a:lnTo>
                      <a:lnTo>
                        <a:pt x="21" y="127"/>
                      </a:lnTo>
                      <a:lnTo>
                        <a:pt x="52" y="127"/>
                      </a:lnTo>
                      <a:lnTo>
                        <a:pt x="73" y="96"/>
                      </a:lnTo>
                      <a:lnTo>
                        <a:pt x="94" y="65"/>
                      </a:lnTo>
                      <a:lnTo>
                        <a:pt x="94" y="33"/>
                      </a:lnTo>
                      <a:lnTo>
                        <a:pt x="105" y="2"/>
                      </a:lnTo>
                      <a:lnTo>
                        <a:pt x="92" y="0"/>
                      </a:lnTo>
                    </a:path>
                  </a:pathLst>
                </a:custGeom>
                <a:solidFill>
                  <a:srgbClr val="008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5862600" y="4094280"/>
                  <a:ext cx="2055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a:t>
                  </a:r>
                  <a:endParaRPr b="0" lang="en-US" sz="3200" spc="-1" strike="noStrike">
                    <a:solidFill>
                      <a:srgbClr val="ffffff"/>
                    </a:solidFill>
                    <a:latin typeface="Times New Roman"/>
                  </a:endParaRPr>
                </a:p>
              </p:txBody>
            </p:sp>
            <p:sp>
              <p:nvSpPr>
                <p:cNvPr id="1045" name=""/>
                <p:cNvSpPr/>
                <p:nvPr/>
              </p:nvSpPr>
              <p:spPr>
                <a:xfrm>
                  <a:off x="4797360" y="456552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ypt</a:t>
                  </a:r>
                  <a:endParaRPr b="0" lang="en-US" sz="2400" spc="-1" strike="noStrike">
                    <a:solidFill>
                      <a:srgbClr val="ffffff"/>
                    </a:solidFill>
                    <a:latin typeface="Times New Roman"/>
                  </a:endParaRPr>
                </a:p>
              </p:txBody>
            </p:sp>
            <p:sp>
              <p:nvSpPr>
                <p:cNvPr id="1046" name=""/>
                <p:cNvSpPr/>
                <p:nvPr/>
              </p:nvSpPr>
              <p:spPr>
                <a:xfrm>
                  <a:off x="525600" y="387360"/>
                  <a:ext cx="83818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6bf69"/>
                      </a:solidFill>
                      <a:uFillTx/>
                      <a:latin typeface="Book Antiqua"/>
                    </a:rPr>
                    <a:t>Paul’s Journeys</a:t>
                  </a:r>
                  <a:endParaRPr b="0" lang="en-US" sz="6000" spc="-1" strike="noStrike">
                    <a:solidFill>
                      <a:srgbClr val="ffffff"/>
                    </a:solidFill>
                    <a:latin typeface="Times New Roman"/>
                  </a:endParaRPr>
                </a:p>
              </p:txBody>
            </p:sp>
            <p:sp>
              <p:nvSpPr>
                <p:cNvPr id="1047" name=""/>
                <p:cNvSpPr/>
                <p:nvPr/>
              </p:nvSpPr>
              <p:spPr>
                <a:xfrm>
                  <a:off x="3065400" y="207180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48" name=""/>
                <p:cNvSpPr/>
                <p:nvPr/>
              </p:nvSpPr>
              <p:spPr>
                <a:xfrm>
                  <a:off x="1596240" y="1608120"/>
                  <a:ext cx="145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me</a:t>
                  </a:r>
                  <a:endParaRPr b="0" lang="en-US" sz="3600" spc="-1" strike="noStrike">
                    <a:solidFill>
                      <a:srgbClr val="ffffff"/>
                    </a:solidFill>
                    <a:latin typeface="Times New Roman"/>
                  </a:endParaRPr>
                </a:p>
              </p:txBody>
            </p:sp>
            <p:sp>
              <p:nvSpPr>
                <p:cNvPr id="1049" name=""/>
                <p:cNvSpPr/>
                <p:nvPr/>
              </p:nvSpPr>
              <p:spPr>
                <a:xfrm>
                  <a:off x="3233880" y="3032280"/>
                  <a:ext cx="21564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50" name=""/>
                <p:cNvSpPr/>
                <p:nvPr/>
              </p:nvSpPr>
              <p:spPr>
                <a:xfrm>
                  <a:off x="4233600" y="2486160"/>
                  <a:ext cx="1513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Corinth</a:t>
                  </a:r>
                  <a:endParaRPr b="0" lang="en-US" sz="3600" spc="-1" strike="noStrike">
                    <a:solidFill>
                      <a:srgbClr val="ffffff"/>
                    </a:solidFill>
                    <a:latin typeface="Times New Roman"/>
                  </a:endParaRPr>
                </a:p>
              </p:txBody>
            </p:sp>
            <p:sp>
              <p:nvSpPr>
                <p:cNvPr id="1051" name=""/>
                <p:cNvSpPr/>
                <p:nvPr/>
              </p:nvSpPr>
              <p:spPr>
                <a:xfrm>
                  <a:off x="4208400" y="3062160"/>
                  <a:ext cx="216000" cy="139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52" name=""/>
                <p:cNvSpPr/>
                <p:nvPr/>
              </p:nvSpPr>
              <p:spPr>
                <a:xfrm>
                  <a:off x="6016320" y="3436920"/>
                  <a:ext cx="1161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Arial Narrow"/>
                    </a:rPr>
                    <a:t>Israel</a:t>
                  </a:r>
                  <a:endParaRPr b="0" lang="en-US" sz="3600" spc="-1" strike="noStrike">
                    <a:solidFill>
                      <a:srgbClr val="ffffff"/>
                    </a:solidFill>
                    <a:latin typeface="Times New Roman"/>
                  </a:endParaRPr>
                </a:p>
              </p:txBody>
            </p:sp>
            <p:sp>
              <p:nvSpPr>
                <p:cNvPr id="1053" name=""/>
                <p:cNvSpPr/>
                <p:nvPr/>
              </p:nvSpPr>
              <p:spPr>
                <a:xfrm>
                  <a:off x="3978000" y="3705120"/>
                  <a:ext cx="1851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Caesarea</a:t>
                  </a:r>
                  <a:endParaRPr b="0" lang="en-US" sz="3600" spc="-1" strike="noStrike">
                    <a:solidFill>
                      <a:srgbClr val="ffffff"/>
                    </a:solidFill>
                    <a:latin typeface="Times New Roman"/>
                  </a:endParaRPr>
                </a:p>
              </p:txBody>
            </p:sp>
            <p:sp>
              <p:nvSpPr>
                <p:cNvPr id="1054" name=""/>
                <p:cNvSpPr/>
                <p:nvPr/>
              </p:nvSpPr>
              <p:spPr>
                <a:xfrm>
                  <a:off x="5751360" y="3895560"/>
                  <a:ext cx="216000" cy="140040"/>
                </a:xfrm>
                <a:prstGeom prst="star5">
                  <a:avLst/>
                </a:prstGeom>
                <a:solidFill>
                  <a:srgbClr val="ff0000"/>
                </a:solidFill>
                <a:ln w="1260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55" name=""/>
                <p:cNvSpPr/>
                <p:nvPr/>
              </p:nvSpPr>
              <p:spPr>
                <a:xfrm>
                  <a:off x="3141720" y="2211480"/>
                  <a:ext cx="2933640" cy="1757160"/>
                </a:xfrm>
                <a:custGeom>
                  <a:avLst/>
                  <a:gdLst/>
                  <a:ahLst/>
                  <a:rect l="l" t="t" r="r" b="b"/>
                  <a:pathLst>
                    <a:path w="1848" h="1107">
                      <a:moveTo>
                        <a:pt x="1701" y="1106"/>
                      </a:moveTo>
                      <a:lnTo>
                        <a:pt x="1701" y="1022"/>
                      </a:lnTo>
                      <a:lnTo>
                        <a:pt x="1711" y="991"/>
                      </a:lnTo>
                      <a:lnTo>
                        <a:pt x="1722" y="960"/>
                      </a:lnTo>
                      <a:lnTo>
                        <a:pt x="1753" y="949"/>
                      </a:lnTo>
                      <a:lnTo>
                        <a:pt x="1785" y="939"/>
                      </a:lnTo>
                      <a:lnTo>
                        <a:pt x="1816" y="939"/>
                      </a:lnTo>
                      <a:lnTo>
                        <a:pt x="1847" y="949"/>
                      </a:lnTo>
                      <a:lnTo>
                        <a:pt x="1837" y="918"/>
                      </a:lnTo>
                      <a:lnTo>
                        <a:pt x="1837" y="887"/>
                      </a:lnTo>
                      <a:lnTo>
                        <a:pt x="1826" y="855"/>
                      </a:lnTo>
                      <a:lnTo>
                        <a:pt x="1826" y="824"/>
                      </a:lnTo>
                      <a:lnTo>
                        <a:pt x="1816" y="793"/>
                      </a:lnTo>
                      <a:lnTo>
                        <a:pt x="1816" y="762"/>
                      </a:lnTo>
                      <a:lnTo>
                        <a:pt x="1795" y="730"/>
                      </a:lnTo>
                      <a:lnTo>
                        <a:pt x="1764" y="699"/>
                      </a:lnTo>
                      <a:lnTo>
                        <a:pt x="1732" y="699"/>
                      </a:lnTo>
                      <a:lnTo>
                        <a:pt x="1701" y="699"/>
                      </a:lnTo>
                      <a:lnTo>
                        <a:pt x="1670" y="699"/>
                      </a:lnTo>
                      <a:lnTo>
                        <a:pt x="1638" y="699"/>
                      </a:lnTo>
                      <a:lnTo>
                        <a:pt x="1607" y="699"/>
                      </a:lnTo>
                      <a:lnTo>
                        <a:pt x="1576" y="699"/>
                      </a:lnTo>
                      <a:lnTo>
                        <a:pt x="1545" y="699"/>
                      </a:lnTo>
                      <a:lnTo>
                        <a:pt x="1513" y="689"/>
                      </a:lnTo>
                      <a:lnTo>
                        <a:pt x="1482" y="678"/>
                      </a:lnTo>
                      <a:lnTo>
                        <a:pt x="1451" y="678"/>
                      </a:lnTo>
                      <a:lnTo>
                        <a:pt x="1419" y="668"/>
                      </a:lnTo>
                      <a:lnTo>
                        <a:pt x="1388" y="647"/>
                      </a:lnTo>
                      <a:lnTo>
                        <a:pt x="1357" y="636"/>
                      </a:lnTo>
                      <a:lnTo>
                        <a:pt x="1325" y="626"/>
                      </a:lnTo>
                      <a:lnTo>
                        <a:pt x="1294" y="615"/>
                      </a:lnTo>
                      <a:lnTo>
                        <a:pt x="1263" y="615"/>
                      </a:lnTo>
                      <a:lnTo>
                        <a:pt x="1231" y="636"/>
                      </a:lnTo>
                      <a:lnTo>
                        <a:pt x="1211" y="668"/>
                      </a:lnTo>
                      <a:lnTo>
                        <a:pt x="1179" y="689"/>
                      </a:lnTo>
                      <a:lnTo>
                        <a:pt x="1148" y="709"/>
                      </a:lnTo>
                      <a:lnTo>
                        <a:pt x="1117" y="730"/>
                      </a:lnTo>
                      <a:lnTo>
                        <a:pt x="1085" y="751"/>
                      </a:lnTo>
                      <a:lnTo>
                        <a:pt x="1054" y="772"/>
                      </a:lnTo>
                      <a:lnTo>
                        <a:pt x="1023" y="782"/>
                      </a:lnTo>
                      <a:lnTo>
                        <a:pt x="991" y="782"/>
                      </a:lnTo>
                      <a:lnTo>
                        <a:pt x="960" y="793"/>
                      </a:lnTo>
                      <a:lnTo>
                        <a:pt x="929" y="803"/>
                      </a:lnTo>
                      <a:lnTo>
                        <a:pt x="898" y="803"/>
                      </a:lnTo>
                      <a:lnTo>
                        <a:pt x="866" y="803"/>
                      </a:lnTo>
                      <a:lnTo>
                        <a:pt x="835" y="793"/>
                      </a:lnTo>
                      <a:lnTo>
                        <a:pt x="804" y="782"/>
                      </a:lnTo>
                      <a:lnTo>
                        <a:pt x="772" y="772"/>
                      </a:lnTo>
                      <a:lnTo>
                        <a:pt x="741" y="762"/>
                      </a:lnTo>
                      <a:lnTo>
                        <a:pt x="710" y="741"/>
                      </a:lnTo>
                      <a:lnTo>
                        <a:pt x="678" y="730"/>
                      </a:lnTo>
                      <a:lnTo>
                        <a:pt x="595" y="720"/>
                      </a:lnTo>
                      <a:lnTo>
                        <a:pt x="522" y="720"/>
                      </a:lnTo>
                      <a:lnTo>
                        <a:pt x="428" y="709"/>
                      </a:lnTo>
                      <a:lnTo>
                        <a:pt x="345" y="699"/>
                      </a:lnTo>
                      <a:lnTo>
                        <a:pt x="261" y="689"/>
                      </a:lnTo>
                      <a:lnTo>
                        <a:pt x="188" y="678"/>
                      </a:lnTo>
                      <a:lnTo>
                        <a:pt x="157" y="678"/>
                      </a:lnTo>
                      <a:lnTo>
                        <a:pt x="125" y="668"/>
                      </a:lnTo>
                      <a:lnTo>
                        <a:pt x="115" y="636"/>
                      </a:lnTo>
                      <a:lnTo>
                        <a:pt x="125" y="605"/>
                      </a:lnTo>
                      <a:lnTo>
                        <a:pt x="136" y="574"/>
                      </a:lnTo>
                      <a:lnTo>
                        <a:pt x="136" y="542"/>
                      </a:lnTo>
                      <a:lnTo>
                        <a:pt x="136" y="511"/>
                      </a:lnTo>
                      <a:lnTo>
                        <a:pt x="136" y="480"/>
                      </a:lnTo>
                      <a:lnTo>
                        <a:pt x="105" y="459"/>
                      </a:lnTo>
                      <a:lnTo>
                        <a:pt x="94" y="428"/>
                      </a:lnTo>
                      <a:lnTo>
                        <a:pt x="94" y="396"/>
                      </a:lnTo>
                      <a:lnTo>
                        <a:pt x="94" y="365"/>
                      </a:lnTo>
                      <a:lnTo>
                        <a:pt x="84" y="334"/>
                      </a:lnTo>
                      <a:lnTo>
                        <a:pt x="63" y="302"/>
                      </a:lnTo>
                      <a:lnTo>
                        <a:pt x="31" y="282"/>
                      </a:lnTo>
                      <a:lnTo>
                        <a:pt x="11" y="250"/>
                      </a:lnTo>
                      <a:lnTo>
                        <a:pt x="0" y="219"/>
                      </a:lnTo>
                      <a:lnTo>
                        <a:pt x="0" y="188"/>
                      </a:lnTo>
                      <a:lnTo>
                        <a:pt x="11" y="156"/>
                      </a:lnTo>
                      <a:lnTo>
                        <a:pt x="31" y="125"/>
                      </a:lnTo>
                      <a:lnTo>
                        <a:pt x="42" y="94"/>
                      </a:lnTo>
                      <a:lnTo>
                        <a:pt x="42" y="62"/>
                      </a:lnTo>
                      <a:lnTo>
                        <a:pt x="21" y="31"/>
                      </a:lnTo>
                      <a:lnTo>
                        <a:pt x="0" y="0"/>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2138760" y="2708280"/>
                  <a:ext cx="23058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Malt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Shipwreck)</a:t>
                  </a:r>
                  <a:endParaRPr b="0" lang="en-US" sz="3600" spc="-1" strike="noStrike">
                    <a:solidFill>
                      <a:srgbClr val="ffffff"/>
                    </a:solidFill>
                    <a:latin typeface="Times New Roman"/>
                  </a:endParaRPr>
                </a:p>
              </p:txBody>
            </p:sp>
            <p:sp>
              <p:nvSpPr>
                <p:cNvPr id="1057" name=""/>
                <p:cNvSpPr/>
                <p:nvPr/>
              </p:nvSpPr>
              <p:spPr>
                <a:xfrm>
                  <a:off x="73080" y="610560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1058" name=""/>
                <p:cNvSpPr/>
                <p:nvPr/>
              </p:nvSpPr>
              <p:spPr>
                <a:xfrm rot="16938000">
                  <a:off x="5487120" y="321336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059" name=""/>
                <p:cNvSpPr/>
                <p:nvPr/>
              </p:nvSpPr>
              <p:spPr>
                <a:xfrm rot="16566600">
                  <a:off x="3677400" y="323244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060" name=""/>
                <p:cNvSpPr/>
                <p:nvPr/>
              </p:nvSpPr>
              <p:spPr>
                <a:xfrm rot="19620000">
                  <a:off x="3106440" y="2507760"/>
                  <a:ext cx="142920" cy="185760"/>
                </a:xfrm>
                <a:prstGeom prst="triangle">
                  <a:avLst>
                    <a:gd name="adj" fmla="val 50000"/>
                  </a:avLst>
                </a:prstGeom>
                <a:solidFill>
                  <a:srgbClr val="fafd00"/>
                </a:solidFill>
                <a:ln w="12600">
                  <a:solidFill>
                    <a:srgbClr val="fafd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sp>
            <p:nvSpPr>
              <p:cNvPr id="1061" name=""/>
              <p:cNvSpPr/>
              <p:nvPr/>
            </p:nvSpPr>
            <p:spPr>
              <a:xfrm>
                <a:off x="6750000" y="121284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1062" name=""/>
            <p:cNvSpPr/>
            <p:nvPr/>
          </p:nvSpPr>
          <p:spPr>
            <a:xfrm>
              <a:off x="7581960" y="4762440"/>
              <a:ext cx="1542960" cy="1590840"/>
            </a:xfrm>
            <a:custGeom>
              <a:avLst/>
              <a:gdLst/>
              <a:ahLst/>
              <a:rect l="l" t="t" r="r" b="b"/>
              <a:pathLst>
                <a:path w="972" h="1002">
                  <a:moveTo>
                    <a:pt x="972" y="504"/>
                  </a:moveTo>
                  <a:lnTo>
                    <a:pt x="940" y="420"/>
                  </a:lnTo>
                  <a:lnTo>
                    <a:pt x="892" y="396"/>
                  </a:lnTo>
                  <a:lnTo>
                    <a:pt x="736" y="468"/>
                  </a:lnTo>
                  <a:lnTo>
                    <a:pt x="652" y="348"/>
                  </a:lnTo>
                  <a:lnTo>
                    <a:pt x="556" y="252"/>
                  </a:lnTo>
                  <a:lnTo>
                    <a:pt x="448" y="216"/>
                  </a:lnTo>
                  <a:lnTo>
                    <a:pt x="364" y="144"/>
                  </a:lnTo>
                  <a:lnTo>
                    <a:pt x="252" y="0"/>
                  </a:lnTo>
                  <a:lnTo>
                    <a:pt x="160" y="12"/>
                  </a:lnTo>
                  <a:lnTo>
                    <a:pt x="112" y="60"/>
                  </a:lnTo>
                  <a:lnTo>
                    <a:pt x="0" y="72"/>
                  </a:lnTo>
                  <a:lnTo>
                    <a:pt x="64" y="240"/>
                  </a:lnTo>
                  <a:lnTo>
                    <a:pt x="196" y="372"/>
                  </a:lnTo>
                  <a:lnTo>
                    <a:pt x="252" y="504"/>
                  </a:lnTo>
                  <a:lnTo>
                    <a:pt x="252" y="576"/>
                  </a:lnTo>
                  <a:lnTo>
                    <a:pt x="268" y="624"/>
                  </a:lnTo>
                  <a:lnTo>
                    <a:pt x="324" y="540"/>
                  </a:lnTo>
                  <a:lnTo>
                    <a:pt x="364" y="552"/>
                  </a:lnTo>
                  <a:lnTo>
                    <a:pt x="360" y="612"/>
                  </a:lnTo>
                  <a:lnTo>
                    <a:pt x="388" y="744"/>
                  </a:lnTo>
                  <a:lnTo>
                    <a:pt x="640" y="756"/>
                  </a:lnTo>
                  <a:lnTo>
                    <a:pt x="788" y="660"/>
                  </a:lnTo>
                  <a:lnTo>
                    <a:pt x="720" y="900"/>
                  </a:lnTo>
                  <a:lnTo>
                    <a:pt x="816" y="1002"/>
                  </a:lnTo>
                  <a:lnTo>
                    <a:pt x="972" y="1002"/>
                  </a:lnTo>
                </a:path>
              </a:pathLst>
            </a:custGeom>
            <a:solidFill>
              <a:srgbClr val="114ffb"/>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063" name=""/>
          <p:cNvGrpSpPr/>
          <p:nvPr/>
        </p:nvGrpSpPr>
        <p:grpSpPr>
          <a:xfrm>
            <a:off x="76320" y="14400"/>
            <a:ext cx="9067680" cy="6843600"/>
            <a:chOff x="76320" y="14400"/>
            <a:chExt cx="9067680" cy="6843600"/>
          </a:xfrm>
        </p:grpSpPr>
        <p:sp>
          <p:nvSpPr>
            <p:cNvPr id="1064" name=""/>
            <p:cNvSpPr/>
            <p:nvPr/>
          </p:nvSpPr>
          <p:spPr>
            <a:xfrm>
              <a:off x="762120" y="604800"/>
              <a:ext cx="8381880" cy="1162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Book Antiqua"/>
                </a:rPr>
                <a:t>Click to add title</a:t>
              </a:r>
              <a:endParaRPr b="0" lang="en-US" sz="5400" spc="-1" strike="noStrike">
                <a:solidFill>
                  <a:srgbClr val="ffffff"/>
                </a:solidFill>
                <a:latin typeface="Times New Roman"/>
              </a:endParaRPr>
            </a:p>
          </p:txBody>
        </p:sp>
        <p:sp>
          <p:nvSpPr>
            <p:cNvPr id="1065" name=""/>
            <p:cNvSpPr/>
            <p:nvPr/>
          </p:nvSpPr>
          <p:spPr>
            <a:xfrm>
              <a:off x="838080" y="1995480"/>
              <a:ext cx="8305920" cy="4133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c0fe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add text</a:t>
              </a:r>
              <a:endParaRPr b="0" lang="en-US" sz="3600" spc="-1" strike="noStrike">
                <a:solidFill>
                  <a:srgbClr val="ffffff"/>
                </a:solidFill>
                <a:latin typeface="Times New Roman"/>
              </a:endParaRPr>
            </a:p>
          </p:txBody>
        </p:sp>
        <p:sp>
          <p:nvSpPr>
            <p:cNvPr id="1066" name=""/>
            <p:cNvSpPr/>
            <p:nvPr/>
          </p:nvSpPr>
          <p:spPr>
            <a:xfrm>
              <a:off x="8229600" y="776160"/>
              <a:ext cx="762120" cy="54864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t>
              </a:r>
              <a:br>
                <a:rPr sz="3600"/>
              </a:br>
              <a:r>
                <a:rPr b="1" lang="en-US" sz="3600" spc="-1" strike="noStrike">
                  <a:solidFill>
                    <a:srgbClr val="fafd00"/>
                  </a:solidFill>
                  <a:latin typeface="Arial"/>
                </a:rPr>
                <a:t>O</a:t>
              </a:r>
              <a:br>
                <a:rPr sz="3600"/>
              </a:br>
              <a:r>
                <a:rPr b="1" lang="en-US" sz="3600" spc="-1" strike="noStrike">
                  <a:solidFill>
                    <a:srgbClr val="fafd00"/>
                  </a:solidFill>
                  <a:latin typeface="Arial"/>
                </a:rPr>
                <a:t>R</a:t>
              </a:r>
              <a:br>
                <a:rPr sz="3600"/>
              </a:br>
              <a:r>
                <a:rPr b="1" lang="en-US" sz="3600" spc="-1" strike="noStrike">
                  <a:solidFill>
                    <a:srgbClr val="fafd00"/>
                  </a:solidFill>
                  <a:latin typeface="Arial"/>
                </a:rPr>
                <a:t>I</a:t>
              </a:r>
              <a:br>
                <a:rPr sz="3600"/>
              </a:br>
              <a:r>
                <a:rPr b="1" lang="en-US" sz="3600" spc="-1" strike="noStrike">
                  <a:solidFill>
                    <a:srgbClr val="fafd00"/>
                  </a:solidFill>
                  <a:latin typeface="Arial"/>
                </a:rPr>
                <a:t>N</a:t>
              </a:r>
              <a:br>
                <a:rPr sz="3600"/>
              </a:br>
              <a:r>
                <a:rPr b="1" lang="en-US" sz="3600" spc="-1" strike="noStrike">
                  <a:solidFill>
                    <a:srgbClr val="fafd00"/>
                  </a:solidFill>
                  <a:latin typeface="Arial"/>
                </a:rPr>
                <a:t>T</a:t>
              </a:r>
              <a:br>
                <a:rPr sz="3600"/>
              </a:br>
              <a:r>
                <a:rPr b="1" lang="en-US" sz="3600" spc="-1" strike="noStrike">
                  <a:solidFill>
                    <a:srgbClr val="fafd00"/>
                  </a:solidFill>
                  <a:latin typeface="Arial"/>
                </a:rPr>
                <a:t>H --- A T H E NS</a:t>
              </a:r>
              <a:endParaRPr b="0" lang="en-US" sz="3600" spc="-1" strike="noStrike">
                <a:solidFill>
                  <a:srgbClr val="ffffff"/>
                </a:solidFill>
                <a:latin typeface="Times New Roman"/>
              </a:endParaRPr>
            </a:p>
          </p:txBody>
        </p:sp>
        <p:sp>
          <p:nvSpPr>
            <p:cNvPr id="1067" name=""/>
            <p:cNvSpPr/>
            <p:nvPr/>
          </p:nvSpPr>
          <p:spPr>
            <a:xfrm>
              <a:off x="8267760" y="284040"/>
              <a:ext cx="762120" cy="6334200"/>
            </a:xfrm>
            <a:prstGeom prst="rect">
              <a:avLst/>
            </a:pr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8" name="" descr=""/>
            <p:cNvPicPr/>
            <p:nvPr/>
          </p:nvPicPr>
          <p:blipFill>
            <a:blip r:embed="rId1"/>
            <a:stretch/>
          </p:blipFill>
          <p:spPr>
            <a:xfrm>
              <a:off x="76320" y="14400"/>
              <a:ext cx="7985160" cy="6843600"/>
            </a:xfrm>
            <a:prstGeom prst="rect">
              <a:avLst/>
            </a:prstGeom>
            <a:ln w="0">
              <a:noFill/>
            </a:ln>
          </p:spPr>
        </p:pic>
        <p:sp>
          <p:nvSpPr>
            <p:cNvPr id="1069" name=""/>
            <p:cNvSpPr/>
            <p:nvPr/>
          </p:nvSpPr>
          <p:spPr>
            <a:xfrm>
              <a:off x="2194560" y="3747960"/>
              <a:ext cx="1580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haia</a:t>
              </a:r>
              <a:endParaRPr b="0" lang="en-US" sz="3600" spc="-1" strike="noStrike">
                <a:solidFill>
                  <a:srgbClr val="ffffff"/>
                </a:solidFill>
                <a:latin typeface="Times New Roman"/>
              </a:endParaRPr>
            </a:p>
          </p:txBody>
        </p:sp>
        <p:sp>
          <p:nvSpPr>
            <p:cNvPr id="1070" name=""/>
            <p:cNvSpPr/>
            <p:nvPr/>
          </p:nvSpPr>
          <p:spPr>
            <a:xfrm>
              <a:off x="4724280" y="2833560"/>
              <a:ext cx="216000" cy="139680"/>
            </a:xfrm>
            <a:prstGeom prst="star5">
              <a:avLst/>
            </a:prstGeom>
            <a:solidFill>
              <a:srgbClr val="fafd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71" name=""/>
            <p:cNvSpPr/>
            <p:nvPr/>
          </p:nvSpPr>
          <p:spPr>
            <a:xfrm>
              <a:off x="2664720" y="2730600"/>
              <a:ext cx="22464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Corinth</a:t>
              </a:r>
              <a:endParaRPr b="0" lang="en-US" sz="4800" spc="-1" strike="noStrike">
                <a:solidFill>
                  <a:srgbClr val="ffffff"/>
                </a:solidFill>
                <a:latin typeface="Times New Roman"/>
              </a:endParaRPr>
            </a:p>
          </p:txBody>
        </p:sp>
        <p:sp>
          <p:nvSpPr>
            <p:cNvPr id="1072" name=""/>
            <p:cNvSpPr/>
            <p:nvPr/>
          </p:nvSpPr>
          <p:spPr>
            <a:xfrm>
              <a:off x="2958120" y="655560"/>
              <a:ext cx="232272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EECE</a:t>
              </a:r>
              <a:endParaRPr b="0" lang="en-US" sz="4000" spc="-1" strike="noStrike">
                <a:solidFill>
                  <a:srgbClr val="ffffff"/>
                </a:solidFill>
                <a:latin typeface="Times New Roman"/>
              </a:endParaRPr>
            </a:p>
          </p:txBody>
        </p:sp>
        <p:sp>
          <p:nvSpPr>
            <p:cNvPr id="1073" name=""/>
            <p:cNvSpPr/>
            <p:nvPr/>
          </p:nvSpPr>
          <p:spPr>
            <a:xfrm>
              <a:off x="5776560" y="3262320"/>
              <a:ext cx="2415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ean Sea</a:t>
              </a:r>
              <a:endParaRPr b="0" lang="en-US" sz="3200" spc="-1" strike="noStrike">
                <a:solidFill>
                  <a:srgbClr val="ffffff"/>
                </a:solidFill>
                <a:latin typeface="Times New Roman"/>
              </a:endParaRPr>
            </a:p>
          </p:txBody>
        </p:sp>
        <p:sp>
          <p:nvSpPr>
            <p:cNvPr id="1074" name=""/>
            <p:cNvSpPr/>
            <p:nvPr/>
          </p:nvSpPr>
          <p:spPr>
            <a:xfrm>
              <a:off x="6462720" y="2576520"/>
              <a:ext cx="216000" cy="139680"/>
            </a:xfrm>
            <a:prstGeom prst="star5">
              <a:avLst/>
            </a:prstGeom>
            <a:solidFill>
              <a:srgbClr val="fafd0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75" name=""/>
            <p:cNvSpPr/>
            <p:nvPr/>
          </p:nvSpPr>
          <p:spPr>
            <a:xfrm>
              <a:off x="6186960" y="1752480"/>
              <a:ext cx="18594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Athens</a:t>
              </a:r>
              <a:endParaRPr b="0" lang="en-US" sz="4400" spc="-1" strike="noStrike">
                <a:solidFill>
                  <a:srgbClr val="ffffff"/>
                </a:solidFill>
                <a:latin typeface="Times New Roman"/>
              </a:endParaRPr>
            </a:p>
          </p:txBody>
        </p:sp>
        <p:sp>
          <p:nvSpPr>
            <p:cNvPr id="1076" name=""/>
            <p:cNvSpPr/>
            <p:nvPr/>
          </p:nvSpPr>
          <p:spPr>
            <a:xfrm>
              <a:off x="3869280" y="6033960"/>
              <a:ext cx="4072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terranean Sea</a:t>
              </a:r>
              <a:endParaRPr b="0" lang="en-US" sz="3600" spc="-1" strike="noStrike">
                <a:solidFill>
                  <a:srgbClr val="ffffff"/>
                </a:solidFill>
                <a:latin typeface="Times New Roman"/>
              </a:endParaRPr>
            </a:p>
          </p:txBody>
        </p:sp>
        <p:sp>
          <p:nvSpPr>
            <p:cNvPr id="1077" name=""/>
            <p:cNvSpPr/>
            <p:nvPr/>
          </p:nvSpPr>
          <p:spPr>
            <a:xfrm>
              <a:off x="5973840" y="6518160"/>
              <a:ext cx="1865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 Courtesy of NASA</a:t>
              </a:r>
              <a:endParaRPr b="0" lang="en-US" sz="1200" spc="-1" strike="noStrike">
                <a:solidFill>
                  <a:srgbClr val="ffffff"/>
                </a:solidFill>
                <a:latin typeface="Times New Roman"/>
              </a:endParaRPr>
            </a:p>
          </p:txBody>
        </p:sp>
        <p:sp>
          <p:nvSpPr>
            <p:cNvPr id="1078" name=""/>
            <p:cNvSpPr/>
            <p:nvPr/>
          </p:nvSpPr>
          <p:spPr>
            <a:xfrm>
              <a:off x="161280" y="6423120"/>
              <a:ext cx="1798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EBibleTeacher.com  </a:t>
              </a:r>
              <a:endParaRPr b="0" lang="en-US" sz="1200" spc="-1" strike="noStrike">
                <a:solidFill>
                  <a:srgbClr val="ffffff"/>
                </a:solidFill>
                <a:latin typeface="Times New Roman"/>
              </a:endParaRPr>
            </a:p>
          </p:txBody>
        </p:sp>
      </p:grpSp>
      <p:sp>
        <p:nvSpPr>
          <p:cNvPr id="1079" name="PlaceHolder 1"/>
          <p:cNvSpPr>
            <a:spLocks noGrp="1"/>
          </p:cNvSpPr>
          <p:nvPr>
            <p:ph type="title"/>
          </p:nvPr>
        </p:nvSpPr>
        <p:spPr>
          <a:xfrm>
            <a:off x="7696080" y="609120"/>
            <a:ext cx="1200240" cy="171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Corinth/Athens</a:t>
            </a:r>
            <a:endParaRPr b="1" lang="en-US" sz="100" spc="-1" strike="noStrike" u="sng">
              <a:solidFill>
                <a:srgbClr val="c0fef9"/>
              </a:solidFill>
              <a:uFillTx/>
              <a:latin typeface="Times New Roman"/>
            </a:endParaRPr>
          </a:p>
        </p:txBody>
      </p:sp>
      <p:sp>
        <p:nvSpPr>
          <p:cNvPr id="1080"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3" name=""/>
          <p:cNvSpPr/>
          <p:nvPr/>
        </p:nvSpPr>
        <p:spPr>
          <a:xfrm>
            <a:off x="900360" y="266760"/>
            <a:ext cx="744804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afd00"/>
                </a:solidFill>
                <a:uFillTx/>
                <a:latin typeface="Arial"/>
              </a:rPr>
              <a:t>Lands of the Bible</a:t>
            </a:r>
            <a:endParaRPr b="0" lang="en-US" sz="6600" spc="-1" strike="noStrike">
              <a:solidFill>
                <a:srgbClr val="ffffff"/>
              </a:solidFill>
              <a:latin typeface="Times New Roman"/>
            </a:endParaRPr>
          </a:p>
        </p:txBody>
      </p:sp>
      <p:sp>
        <p:nvSpPr>
          <p:cNvPr id="11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Important Ancient Lands</a:t>
            </a:r>
            <a:endParaRPr b="1" lang="en-US" sz="100" spc="-1" strike="noStrike" u="sng">
              <a:solidFill>
                <a:srgbClr val="c0fef9"/>
              </a:solidFill>
              <a:uFillTx/>
              <a:latin typeface="Times New Roman"/>
            </a:endParaRPr>
          </a:p>
        </p:txBody>
      </p:sp>
      <p:sp>
        <p:nvSpPr>
          <p:cNvPr id="115"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
        <p:nvSpPr>
          <p:cNvPr id="116" name=""/>
          <p:cNvSpPr/>
          <p:nvPr/>
        </p:nvSpPr>
        <p:spPr>
          <a:xfrm>
            <a:off x="5041800" y="5397480"/>
            <a:ext cx="127080" cy="26028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117" name=""/>
          <p:cNvGrpSpPr/>
          <p:nvPr/>
        </p:nvGrpSpPr>
        <p:grpSpPr>
          <a:xfrm>
            <a:off x="0" y="1352520"/>
            <a:ext cx="9144000" cy="5143680"/>
            <a:chOff x="0" y="1352520"/>
            <a:chExt cx="9144000" cy="5143680"/>
          </a:xfrm>
        </p:grpSpPr>
        <p:grpSp>
          <p:nvGrpSpPr>
            <p:cNvPr id="118" name=""/>
            <p:cNvGrpSpPr/>
            <p:nvPr/>
          </p:nvGrpSpPr>
          <p:grpSpPr>
            <a:xfrm>
              <a:off x="0" y="1352520"/>
              <a:ext cx="9144000" cy="5143680"/>
              <a:chOff x="0" y="1352520"/>
              <a:chExt cx="9144000" cy="5143680"/>
            </a:xfrm>
          </p:grpSpPr>
          <p:sp>
            <p:nvSpPr>
              <p:cNvPr id="119" name=""/>
              <p:cNvSpPr/>
              <p:nvPr/>
            </p:nvSpPr>
            <p:spPr>
              <a:xfrm>
                <a:off x="0" y="1371600"/>
                <a:ext cx="9086760" cy="50292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725560" y="3255840"/>
                <a:ext cx="9540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085760" y="1352520"/>
                <a:ext cx="8005680" cy="5086440"/>
              </a:xfrm>
              <a:custGeom>
                <a:avLst/>
                <a:gdLst/>
                <a:ahLst/>
                <a:rect l="l" t="t" r="r" b="b"/>
                <a:pathLst>
                  <a:path w="5040" h="3204">
                    <a:moveTo>
                      <a:pt x="5040" y="3132"/>
                    </a:moveTo>
                    <a:lnTo>
                      <a:pt x="4824" y="2952"/>
                    </a:lnTo>
                    <a:lnTo>
                      <a:pt x="4320" y="2952"/>
                    </a:lnTo>
                    <a:lnTo>
                      <a:pt x="3528" y="2556"/>
                    </a:lnTo>
                    <a:lnTo>
                      <a:pt x="3528" y="2952"/>
                    </a:lnTo>
                    <a:lnTo>
                      <a:pt x="3996" y="3204"/>
                    </a:lnTo>
                    <a:lnTo>
                      <a:pt x="2916" y="3204"/>
                    </a:lnTo>
                    <a:lnTo>
                      <a:pt x="2448" y="2484"/>
                    </a:lnTo>
                    <a:lnTo>
                      <a:pt x="2412" y="2304"/>
                    </a:lnTo>
                    <a:lnTo>
                      <a:pt x="2592" y="2196"/>
                    </a:lnTo>
                    <a:lnTo>
                      <a:pt x="2700" y="2072"/>
                    </a:lnTo>
                    <a:lnTo>
                      <a:pt x="2748" y="1940"/>
                    </a:lnTo>
                    <a:lnTo>
                      <a:pt x="2700" y="1656"/>
                    </a:lnTo>
                    <a:lnTo>
                      <a:pt x="2520" y="1736"/>
                    </a:lnTo>
                    <a:lnTo>
                      <a:pt x="2124" y="1692"/>
                    </a:lnTo>
                    <a:lnTo>
                      <a:pt x="2148" y="1484"/>
                    </a:lnTo>
                    <a:lnTo>
                      <a:pt x="2232" y="1440"/>
                    </a:lnTo>
                    <a:lnTo>
                      <a:pt x="2448" y="1296"/>
                    </a:lnTo>
                    <a:lnTo>
                      <a:pt x="3048" y="1220"/>
                    </a:lnTo>
                    <a:lnTo>
                      <a:pt x="3084" y="1088"/>
                    </a:lnTo>
                    <a:lnTo>
                      <a:pt x="2664" y="936"/>
                    </a:lnTo>
                    <a:lnTo>
                      <a:pt x="2700" y="792"/>
                    </a:lnTo>
                    <a:lnTo>
                      <a:pt x="2604" y="956"/>
                    </a:lnTo>
                    <a:lnTo>
                      <a:pt x="2484" y="956"/>
                    </a:lnTo>
                    <a:lnTo>
                      <a:pt x="2412" y="980"/>
                    </a:lnTo>
                    <a:lnTo>
                      <a:pt x="2280" y="1100"/>
                    </a:lnTo>
                    <a:lnTo>
                      <a:pt x="2364" y="1280"/>
                    </a:lnTo>
                    <a:lnTo>
                      <a:pt x="2304" y="1296"/>
                    </a:lnTo>
                    <a:lnTo>
                      <a:pt x="2256" y="1292"/>
                    </a:lnTo>
                    <a:lnTo>
                      <a:pt x="2160" y="1424"/>
                    </a:lnTo>
                    <a:lnTo>
                      <a:pt x="1944" y="1436"/>
                    </a:lnTo>
                    <a:lnTo>
                      <a:pt x="1944" y="1584"/>
                    </a:lnTo>
                    <a:lnTo>
                      <a:pt x="1944" y="1692"/>
                    </a:lnTo>
                    <a:lnTo>
                      <a:pt x="1848" y="1808"/>
                    </a:lnTo>
                    <a:lnTo>
                      <a:pt x="1764" y="1764"/>
                    </a:lnTo>
                    <a:lnTo>
                      <a:pt x="1764" y="1512"/>
                    </a:lnTo>
                    <a:lnTo>
                      <a:pt x="1764" y="1440"/>
                    </a:lnTo>
                    <a:lnTo>
                      <a:pt x="1440" y="980"/>
                    </a:lnTo>
                    <a:lnTo>
                      <a:pt x="1368" y="1052"/>
                    </a:lnTo>
                    <a:lnTo>
                      <a:pt x="1392" y="1172"/>
                    </a:lnTo>
                    <a:lnTo>
                      <a:pt x="1575" y="1425"/>
                    </a:lnTo>
                    <a:lnTo>
                      <a:pt x="1557" y="1488"/>
                    </a:lnTo>
                    <a:lnTo>
                      <a:pt x="1488" y="1424"/>
                    </a:lnTo>
                    <a:lnTo>
                      <a:pt x="1485" y="1515"/>
                    </a:lnTo>
                    <a:lnTo>
                      <a:pt x="1440" y="1587"/>
                    </a:lnTo>
                    <a:lnTo>
                      <a:pt x="1422" y="1569"/>
                    </a:lnTo>
                    <a:lnTo>
                      <a:pt x="1413" y="1443"/>
                    </a:lnTo>
                    <a:lnTo>
                      <a:pt x="1296" y="1296"/>
                    </a:lnTo>
                    <a:lnTo>
                      <a:pt x="1116" y="1044"/>
                    </a:lnTo>
                    <a:lnTo>
                      <a:pt x="792" y="1044"/>
                    </a:lnTo>
                    <a:lnTo>
                      <a:pt x="396" y="1584"/>
                    </a:lnTo>
                    <a:lnTo>
                      <a:pt x="252" y="1584"/>
                    </a:lnTo>
                    <a:lnTo>
                      <a:pt x="36" y="1404"/>
                    </a:lnTo>
                    <a:lnTo>
                      <a:pt x="0" y="1080"/>
                    </a:lnTo>
                    <a:lnTo>
                      <a:pt x="72" y="864"/>
                    </a:lnTo>
                    <a:lnTo>
                      <a:pt x="252" y="864"/>
                    </a:lnTo>
                    <a:lnTo>
                      <a:pt x="468" y="972"/>
                    </a:lnTo>
                    <a:lnTo>
                      <a:pt x="612" y="792"/>
                    </a:lnTo>
                    <a:lnTo>
                      <a:pt x="468" y="540"/>
                    </a:lnTo>
                    <a:lnTo>
                      <a:pt x="792" y="540"/>
                    </a:lnTo>
                    <a:lnTo>
                      <a:pt x="828" y="396"/>
                    </a:lnTo>
                    <a:lnTo>
                      <a:pt x="1080" y="216"/>
                    </a:lnTo>
                    <a:lnTo>
                      <a:pt x="1296" y="144"/>
                    </a:lnTo>
                    <a:lnTo>
                      <a:pt x="1260" y="0"/>
                    </a:lnTo>
                    <a:lnTo>
                      <a:pt x="1368" y="0"/>
                    </a:lnTo>
                    <a:lnTo>
                      <a:pt x="1404" y="144"/>
                    </a:lnTo>
                    <a:lnTo>
                      <a:pt x="1620" y="288"/>
                    </a:lnTo>
                    <a:lnTo>
                      <a:pt x="1728" y="36"/>
                    </a:lnTo>
                    <a:lnTo>
                      <a:pt x="5040" y="36"/>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2" name=""/>
              <p:cNvGrpSpPr/>
              <p:nvPr/>
            </p:nvGrpSpPr>
            <p:grpSpPr>
              <a:xfrm>
                <a:off x="0" y="3975120"/>
                <a:ext cx="5374800" cy="2521080"/>
                <a:chOff x="0" y="3975120"/>
                <a:chExt cx="5374800" cy="2521080"/>
              </a:xfrm>
            </p:grpSpPr>
            <p:sp>
              <p:nvSpPr>
                <p:cNvPr id="123" name=""/>
                <p:cNvSpPr/>
                <p:nvPr/>
              </p:nvSpPr>
              <p:spPr>
                <a:xfrm>
                  <a:off x="0" y="3975120"/>
                  <a:ext cx="5374800" cy="2521080"/>
                </a:xfrm>
                <a:custGeom>
                  <a:avLst/>
                  <a:gdLst/>
                  <a:ahLst/>
                  <a:rect l="l" t="t" r="r" b="b"/>
                  <a:pathLst>
                    <a:path w="3384" h="1588">
                      <a:moveTo>
                        <a:pt x="3384" y="1552"/>
                      </a:moveTo>
                      <a:lnTo>
                        <a:pt x="3348" y="1228"/>
                      </a:lnTo>
                      <a:lnTo>
                        <a:pt x="3060" y="976"/>
                      </a:lnTo>
                      <a:lnTo>
                        <a:pt x="3132" y="724"/>
                      </a:lnTo>
                      <a:lnTo>
                        <a:pt x="3060" y="580"/>
                      </a:lnTo>
                      <a:lnTo>
                        <a:pt x="2988" y="652"/>
                      </a:lnTo>
                      <a:lnTo>
                        <a:pt x="2916" y="616"/>
                      </a:lnTo>
                      <a:lnTo>
                        <a:pt x="2808" y="652"/>
                      </a:lnTo>
                      <a:lnTo>
                        <a:pt x="2376" y="472"/>
                      </a:lnTo>
                      <a:lnTo>
                        <a:pt x="2240" y="516"/>
                      </a:lnTo>
                      <a:lnTo>
                        <a:pt x="2228" y="624"/>
                      </a:lnTo>
                      <a:lnTo>
                        <a:pt x="1692" y="400"/>
                      </a:lnTo>
                      <a:lnTo>
                        <a:pt x="1652" y="156"/>
                      </a:lnTo>
                      <a:lnTo>
                        <a:pt x="1296" y="184"/>
                      </a:lnTo>
                      <a:lnTo>
                        <a:pt x="904" y="0"/>
                      </a:lnTo>
                      <a:lnTo>
                        <a:pt x="576" y="184"/>
                      </a:lnTo>
                      <a:lnTo>
                        <a:pt x="288" y="472"/>
                      </a:lnTo>
                      <a:lnTo>
                        <a:pt x="288" y="544"/>
                      </a:lnTo>
                      <a:lnTo>
                        <a:pt x="216" y="652"/>
                      </a:lnTo>
                      <a:lnTo>
                        <a:pt x="72" y="832"/>
                      </a:lnTo>
                      <a:lnTo>
                        <a:pt x="0" y="868"/>
                      </a:lnTo>
                      <a:lnTo>
                        <a:pt x="0" y="158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74960" y="604368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grpSp>
          <p:sp>
            <p:nvSpPr>
              <p:cNvPr id="125" name=""/>
              <p:cNvSpPr/>
              <p:nvPr/>
            </p:nvSpPr>
            <p:spPr>
              <a:xfrm>
                <a:off x="2716200" y="3533760"/>
                <a:ext cx="114480" cy="31428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3030480" y="3876840"/>
                <a:ext cx="257400" cy="23148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006800" y="4338720"/>
                <a:ext cx="223920" cy="9360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089680" y="4276800"/>
                <a:ext cx="171360" cy="15552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630440" y="1362240"/>
                <a:ext cx="799920" cy="714240"/>
              </a:xfrm>
              <a:custGeom>
                <a:avLst/>
                <a:gdLst/>
                <a:ahLst/>
                <a:rect l="l" t="t" r="r" b="b"/>
                <a:pathLst>
                  <a:path w="504" h="450">
                    <a:moveTo>
                      <a:pt x="0" y="396"/>
                    </a:moveTo>
                    <a:lnTo>
                      <a:pt x="54" y="450"/>
                    </a:lnTo>
                    <a:lnTo>
                      <a:pt x="198" y="378"/>
                    </a:lnTo>
                    <a:lnTo>
                      <a:pt x="396" y="396"/>
                    </a:lnTo>
                    <a:lnTo>
                      <a:pt x="504" y="288"/>
                    </a:lnTo>
                    <a:lnTo>
                      <a:pt x="342" y="72"/>
                    </a:lnTo>
                    <a:lnTo>
                      <a:pt x="342" y="0"/>
                    </a:lnTo>
                    <a:lnTo>
                      <a:pt x="180" y="0"/>
                    </a:lnTo>
                    <a:lnTo>
                      <a:pt x="180" y="162"/>
                    </a:lnTo>
                    <a:lnTo>
                      <a:pt x="108" y="162"/>
                    </a:lnTo>
                    <a:lnTo>
                      <a:pt x="126" y="270"/>
                    </a:lnTo>
                    <a:lnTo>
                      <a:pt x="0" y="396"/>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343160" y="1419120"/>
                <a:ext cx="40140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584360" y="3048120"/>
                <a:ext cx="2679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me</a:t>
                </a:r>
                <a:endParaRPr b="0" lang="en-US" sz="3600" spc="-1" strike="noStrike">
                  <a:solidFill>
                    <a:srgbClr val="ffffff"/>
                  </a:solidFill>
                  <a:latin typeface="Times New Roman"/>
                </a:endParaRPr>
              </a:p>
            </p:txBody>
          </p:sp>
          <p:sp>
            <p:nvSpPr>
              <p:cNvPr id="132" name=""/>
              <p:cNvSpPr/>
              <p:nvPr/>
            </p:nvSpPr>
            <p:spPr>
              <a:xfrm>
                <a:off x="2727360" y="2590920"/>
                <a:ext cx="26812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edonia</a:t>
                </a:r>
                <a:endParaRPr b="0" lang="en-US" sz="3200" spc="-1" strike="noStrike">
                  <a:solidFill>
                    <a:srgbClr val="ffffff"/>
                  </a:solidFill>
                  <a:latin typeface="Times New Roman"/>
                </a:endParaRPr>
              </a:p>
            </p:txBody>
          </p:sp>
          <p:sp>
            <p:nvSpPr>
              <p:cNvPr id="133" name=""/>
              <p:cNvSpPr/>
              <p:nvPr/>
            </p:nvSpPr>
            <p:spPr>
              <a:xfrm>
                <a:off x="6386400" y="4572000"/>
                <a:ext cx="268128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ian Empire</a:t>
                </a:r>
                <a:endParaRPr b="0" lang="en-US" sz="3200" spc="-1" strike="noStrike">
                  <a:solidFill>
                    <a:srgbClr val="ffffff"/>
                  </a:solidFill>
                  <a:latin typeface="Times New Roman"/>
                </a:endParaRPr>
              </a:p>
            </p:txBody>
          </p:sp>
          <p:sp>
            <p:nvSpPr>
              <p:cNvPr id="134" name=""/>
              <p:cNvSpPr/>
              <p:nvPr/>
            </p:nvSpPr>
            <p:spPr>
              <a:xfrm>
                <a:off x="4175280" y="4343400"/>
                <a:ext cx="2681280" cy="9666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aan     &amp; Israel</a:t>
                </a:r>
                <a:endParaRPr b="0" lang="en-US" sz="3600" spc="-1" strike="noStrike">
                  <a:solidFill>
                    <a:srgbClr val="ffffff"/>
                  </a:solidFill>
                  <a:latin typeface="Times New Roman"/>
                </a:endParaRPr>
              </a:p>
            </p:txBody>
          </p:sp>
          <p:sp>
            <p:nvSpPr>
              <p:cNvPr id="135" name=""/>
              <p:cNvSpPr/>
              <p:nvPr/>
            </p:nvSpPr>
            <p:spPr>
              <a:xfrm>
                <a:off x="1889280" y="5486400"/>
                <a:ext cx="26794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gypt</a:t>
                </a:r>
                <a:endParaRPr b="0" lang="en-US" sz="3600" spc="-1" strike="noStrike">
                  <a:solidFill>
                    <a:srgbClr val="ffffff"/>
                  </a:solidFill>
                  <a:latin typeface="Times New Roman"/>
                </a:endParaRPr>
              </a:p>
            </p:txBody>
          </p:sp>
          <p:sp>
            <p:nvSpPr>
              <p:cNvPr id="136" name=""/>
              <p:cNvSpPr/>
              <p:nvPr/>
            </p:nvSpPr>
            <p:spPr>
              <a:xfrm>
                <a:off x="6462720" y="3352680"/>
                <a:ext cx="268128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o Persian</a:t>
                </a:r>
                <a:endParaRPr b="0" lang="en-US" sz="3200" spc="-1" strike="noStrike">
                  <a:solidFill>
                    <a:srgbClr val="ffffff"/>
                  </a:solidFill>
                  <a:latin typeface="Times New Roman"/>
                </a:endParaRPr>
              </a:p>
            </p:txBody>
          </p:sp>
          <p:sp>
            <p:nvSpPr>
              <p:cNvPr id="137" name=""/>
              <p:cNvSpPr/>
              <p:nvPr/>
            </p:nvSpPr>
            <p:spPr>
              <a:xfrm>
                <a:off x="2346480" y="4054320"/>
                <a:ext cx="2470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dada"/>
                    </a:solidFill>
                    <a:latin typeface="Times New Roman"/>
                  </a:rPr>
                  <a:t>Mediterranean</a:t>
                </a:r>
                <a:endParaRPr b="0" lang="en-US" sz="2800" spc="-1" strike="noStrike">
                  <a:solidFill>
                    <a:srgbClr val="ffffff"/>
                  </a:solidFill>
                  <a:latin typeface="Times New Roman"/>
                </a:endParaRPr>
              </a:p>
            </p:txBody>
          </p:sp>
          <p:sp>
            <p:nvSpPr>
              <p:cNvPr id="138" name=""/>
              <p:cNvSpPr/>
              <p:nvPr/>
            </p:nvSpPr>
            <p:spPr>
              <a:xfrm>
                <a:off x="1972080" y="1479600"/>
                <a:ext cx="61556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afd00"/>
                    </a:solidFill>
                    <a:uFillTx/>
                    <a:latin typeface="Arial"/>
                  </a:rPr>
                  <a:t>Important Ancient Lands</a:t>
                </a:r>
                <a:endParaRPr b="0" lang="en-US" sz="4000" spc="-1" strike="noStrike">
                  <a:solidFill>
                    <a:srgbClr val="ffffff"/>
                  </a:solidFill>
                  <a:latin typeface="Times New Roman"/>
                </a:endParaRPr>
              </a:p>
            </p:txBody>
          </p:sp>
          <p:sp>
            <p:nvSpPr>
              <p:cNvPr id="139" name=""/>
              <p:cNvSpPr/>
              <p:nvPr/>
            </p:nvSpPr>
            <p:spPr>
              <a:xfrm>
                <a:off x="2955960" y="2971800"/>
                <a:ext cx="26812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Greece</a:t>
                </a:r>
                <a:endParaRPr b="0" lang="en-US" sz="3200" spc="-1" strike="noStrike">
                  <a:solidFill>
                    <a:srgbClr val="ffffff"/>
                  </a:solidFill>
                  <a:latin typeface="Times New Roman"/>
                </a:endParaRPr>
              </a:p>
            </p:txBody>
          </p:sp>
          <p:sp>
            <p:nvSpPr>
              <p:cNvPr id="140" name=""/>
              <p:cNvSpPr/>
              <p:nvPr/>
            </p:nvSpPr>
            <p:spPr>
              <a:xfrm>
                <a:off x="4633920" y="3276720"/>
                <a:ext cx="2679840" cy="9169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Churches of Asia</a:t>
                </a:r>
                <a:endParaRPr b="0" lang="en-US" sz="3200" spc="-1" strike="noStrike">
                  <a:solidFill>
                    <a:srgbClr val="ffffff"/>
                  </a:solidFill>
                  <a:latin typeface="Times New Roman"/>
                </a:endParaRPr>
              </a:p>
            </p:txBody>
          </p:sp>
        </p:grpSp>
        <p:sp>
          <p:nvSpPr>
            <p:cNvPr id="141" name=""/>
            <p:cNvSpPr/>
            <p:nvPr/>
          </p:nvSpPr>
          <p:spPr>
            <a:xfrm>
              <a:off x="6235560" y="2470320"/>
              <a:ext cx="666720" cy="93312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081" name=""/>
          <p:cNvGrpSpPr/>
          <p:nvPr/>
        </p:nvGrpSpPr>
        <p:grpSpPr>
          <a:xfrm>
            <a:off x="76320" y="0"/>
            <a:ext cx="9067680" cy="6495120"/>
            <a:chOff x="76320" y="0"/>
            <a:chExt cx="9067680" cy="6495120"/>
          </a:xfrm>
        </p:grpSpPr>
        <p:pic>
          <p:nvPicPr>
            <p:cNvPr id="1082" name="" descr=""/>
            <p:cNvPicPr/>
            <p:nvPr/>
          </p:nvPicPr>
          <p:blipFill>
            <a:blip r:embed="rId1"/>
            <a:stretch/>
          </p:blipFill>
          <p:spPr>
            <a:xfrm>
              <a:off x="76320" y="0"/>
              <a:ext cx="8786520" cy="6346800"/>
            </a:xfrm>
            <a:prstGeom prst="rect">
              <a:avLst/>
            </a:prstGeom>
            <a:ln w="0">
              <a:noFill/>
            </a:ln>
          </p:spPr>
        </p:pic>
        <p:sp>
          <p:nvSpPr>
            <p:cNvPr id="1083" name=""/>
            <p:cNvSpPr/>
            <p:nvPr/>
          </p:nvSpPr>
          <p:spPr>
            <a:xfrm>
              <a:off x="762120" y="92160"/>
              <a:ext cx="8381880" cy="1162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ff"/>
                  </a:solidFill>
                  <a:uFillTx/>
                  <a:latin typeface="Book Antiqua"/>
                </a:rPr>
                <a:t>7 Churches of Asia</a:t>
              </a:r>
              <a:endParaRPr b="0" lang="en-US" sz="5400" spc="-1" strike="noStrike">
                <a:solidFill>
                  <a:srgbClr val="ffffff"/>
                </a:solidFill>
                <a:latin typeface="Times New Roman"/>
              </a:endParaRPr>
            </a:p>
          </p:txBody>
        </p:sp>
        <p:sp>
          <p:nvSpPr>
            <p:cNvPr id="1084" name=""/>
            <p:cNvSpPr/>
            <p:nvPr/>
          </p:nvSpPr>
          <p:spPr>
            <a:xfrm>
              <a:off x="189000" y="2022480"/>
              <a:ext cx="218880" cy="203040"/>
            </a:xfrm>
            <a:prstGeom prst="star5">
              <a:avLst/>
            </a:prstGeom>
            <a:solidFill>
              <a:srgbClr val="ff5008"/>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85" name=""/>
            <p:cNvSpPr/>
            <p:nvPr/>
          </p:nvSpPr>
          <p:spPr>
            <a:xfrm>
              <a:off x="596880" y="1644480"/>
              <a:ext cx="219240" cy="203400"/>
            </a:xfrm>
            <a:prstGeom prst="star5">
              <a:avLst/>
            </a:prstGeom>
            <a:solidFill>
              <a:srgbClr val="ff5008"/>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86" name=""/>
            <p:cNvSpPr/>
            <p:nvPr/>
          </p:nvSpPr>
          <p:spPr>
            <a:xfrm>
              <a:off x="569880" y="2327400"/>
              <a:ext cx="219240" cy="203040"/>
            </a:xfrm>
            <a:prstGeom prst="star5">
              <a:avLst/>
            </a:prstGeom>
            <a:solidFill>
              <a:srgbClr val="ff5008"/>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87" name=""/>
            <p:cNvSpPr/>
            <p:nvPr/>
          </p:nvSpPr>
          <p:spPr>
            <a:xfrm>
              <a:off x="569880" y="2631960"/>
              <a:ext cx="219240" cy="203400"/>
            </a:xfrm>
            <a:prstGeom prst="star5">
              <a:avLst/>
            </a:prstGeom>
            <a:solidFill>
              <a:srgbClr val="ff5008"/>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88" name=""/>
            <p:cNvSpPr/>
            <p:nvPr/>
          </p:nvSpPr>
          <p:spPr>
            <a:xfrm>
              <a:off x="944640" y="2022480"/>
              <a:ext cx="218880" cy="203040"/>
            </a:xfrm>
            <a:prstGeom prst="star5">
              <a:avLst/>
            </a:prstGeom>
            <a:solidFill>
              <a:srgbClr val="ff5008"/>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89" name=""/>
            <p:cNvSpPr/>
            <p:nvPr/>
          </p:nvSpPr>
          <p:spPr>
            <a:xfrm>
              <a:off x="968400" y="2411280"/>
              <a:ext cx="216000" cy="203400"/>
            </a:xfrm>
            <a:prstGeom prst="star5">
              <a:avLst/>
            </a:prstGeom>
            <a:solidFill>
              <a:srgbClr val="ff5008"/>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90" name=""/>
            <p:cNvSpPr/>
            <p:nvPr/>
          </p:nvSpPr>
          <p:spPr>
            <a:xfrm>
              <a:off x="264960" y="1508040"/>
              <a:ext cx="219240" cy="203400"/>
            </a:xfrm>
            <a:prstGeom prst="star5">
              <a:avLst/>
            </a:prstGeom>
            <a:solidFill>
              <a:srgbClr val="ff5008"/>
            </a:solidFill>
            <a:ln w="1260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91" name=""/>
            <p:cNvSpPr/>
            <p:nvPr/>
          </p:nvSpPr>
          <p:spPr>
            <a:xfrm>
              <a:off x="4119480" y="1674720"/>
              <a:ext cx="4021200" cy="4355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  Pergamos</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  Thyatira</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  Sardis</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  Smyrna</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  Philadelphia</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  Ephesus</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  Laodicea</a:t>
              </a:r>
              <a:endParaRPr b="0" lang="en-US" sz="4000" spc="-1" strike="noStrike">
                <a:solidFill>
                  <a:srgbClr val="ffffff"/>
                </a:solidFill>
                <a:latin typeface="Times New Roman"/>
              </a:endParaRPr>
            </a:p>
          </p:txBody>
        </p:sp>
        <p:sp>
          <p:nvSpPr>
            <p:cNvPr id="1092" name=""/>
            <p:cNvSpPr/>
            <p:nvPr/>
          </p:nvSpPr>
          <p:spPr>
            <a:xfrm>
              <a:off x="381240" y="123984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ffffff"/>
                </a:solidFill>
                <a:latin typeface="Times New Roman"/>
              </a:endParaRPr>
            </a:p>
          </p:txBody>
        </p:sp>
        <p:sp>
          <p:nvSpPr>
            <p:cNvPr id="1093" name=""/>
            <p:cNvSpPr/>
            <p:nvPr/>
          </p:nvSpPr>
          <p:spPr>
            <a:xfrm>
              <a:off x="762120" y="146844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ffffff"/>
                </a:solidFill>
                <a:latin typeface="Times New Roman"/>
              </a:endParaRPr>
            </a:p>
          </p:txBody>
        </p:sp>
        <p:sp>
          <p:nvSpPr>
            <p:cNvPr id="1094" name=""/>
            <p:cNvSpPr/>
            <p:nvPr/>
          </p:nvSpPr>
          <p:spPr>
            <a:xfrm>
              <a:off x="1143000" y="207792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ffffff"/>
                </a:solidFill>
                <a:latin typeface="Times New Roman"/>
              </a:endParaRPr>
            </a:p>
          </p:txBody>
        </p:sp>
        <p:sp>
          <p:nvSpPr>
            <p:cNvPr id="1095" name=""/>
            <p:cNvSpPr/>
            <p:nvPr/>
          </p:nvSpPr>
          <p:spPr>
            <a:xfrm>
              <a:off x="228600" y="169704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ffffff"/>
                </a:solidFill>
                <a:latin typeface="Times New Roman"/>
              </a:endParaRPr>
            </a:p>
          </p:txBody>
        </p:sp>
        <p:sp>
          <p:nvSpPr>
            <p:cNvPr id="1096" name=""/>
            <p:cNvSpPr/>
            <p:nvPr/>
          </p:nvSpPr>
          <p:spPr>
            <a:xfrm>
              <a:off x="228600" y="238284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6</a:t>
              </a:r>
              <a:endParaRPr b="0" lang="en-US" sz="2400" spc="-1" strike="noStrike">
                <a:solidFill>
                  <a:srgbClr val="ffffff"/>
                </a:solidFill>
                <a:latin typeface="Times New Roman"/>
              </a:endParaRPr>
            </a:p>
          </p:txBody>
        </p:sp>
        <p:sp>
          <p:nvSpPr>
            <p:cNvPr id="1097" name=""/>
            <p:cNvSpPr/>
            <p:nvPr/>
          </p:nvSpPr>
          <p:spPr>
            <a:xfrm>
              <a:off x="1143000" y="245916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a:t>
              </a:r>
              <a:endParaRPr b="0" lang="en-US" sz="2400" spc="-1" strike="noStrike">
                <a:solidFill>
                  <a:srgbClr val="ffffff"/>
                </a:solidFill>
                <a:latin typeface="Times New Roman"/>
              </a:endParaRPr>
            </a:p>
          </p:txBody>
        </p:sp>
        <p:sp>
          <p:nvSpPr>
            <p:cNvPr id="1098" name=""/>
            <p:cNvSpPr/>
            <p:nvPr/>
          </p:nvSpPr>
          <p:spPr>
            <a:xfrm>
              <a:off x="838440" y="268776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a:t>
              </a:r>
              <a:endParaRPr b="0" lang="en-US" sz="2400" spc="-1" strike="noStrike">
                <a:solidFill>
                  <a:srgbClr val="ffffff"/>
                </a:solidFill>
                <a:latin typeface="Times New Roman"/>
              </a:endParaRPr>
            </a:p>
          </p:txBody>
        </p:sp>
        <p:sp>
          <p:nvSpPr>
            <p:cNvPr id="1099" name=""/>
            <p:cNvSpPr/>
            <p:nvPr/>
          </p:nvSpPr>
          <p:spPr>
            <a:xfrm>
              <a:off x="138240" y="5979960"/>
              <a:ext cx="16891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EBibleTeacher.com  </a:t>
              </a:r>
              <a:endParaRPr b="0" lang="en-US" sz="1400" spc="-1" strike="noStrike">
                <a:solidFill>
                  <a:srgbClr val="ffffff"/>
                </a:solidFill>
                <a:latin typeface="Times New Roman"/>
              </a:endParaRPr>
            </a:p>
          </p:txBody>
        </p:sp>
      </p:grpSp>
      <p:sp>
        <p:nvSpPr>
          <p:cNvPr id="1100" name="PlaceHolder 1"/>
          <p:cNvSpPr>
            <a:spLocks noGrp="1"/>
          </p:cNvSpPr>
          <p:nvPr>
            <p:ph type="title"/>
          </p:nvPr>
        </p:nvSpPr>
        <p:spPr>
          <a:xfrm>
            <a:off x="7867440" y="609480"/>
            <a:ext cx="1028520" cy="285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7 Churches of Asia (Revelation)</a:t>
            </a:r>
            <a:endParaRPr b="1" lang="en-US" sz="100" spc="-1" strike="noStrike" u="sng">
              <a:solidFill>
                <a:srgbClr val="c0fef9"/>
              </a:solidFill>
              <a:uFillTx/>
              <a:latin typeface="Times New Roman"/>
            </a:endParaRPr>
          </a:p>
        </p:txBody>
      </p:sp>
      <p:sp>
        <p:nvSpPr>
          <p:cNvPr id="1101"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02" name=""/>
          <p:cNvSpPr/>
          <p:nvPr/>
        </p:nvSpPr>
        <p:spPr>
          <a:xfrm>
            <a:off x="4726080" y="2440080"/>
            <a:ext cx="4340160" cy="2099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afd00"/>
                </a:solidFill>
                <a:uFillTx/>
                <a:latin typeface="Arial"/>
              </a:rPr>
              <a:t>Modern Israel</a:t>
            </a:r>
            <a:endParaRPr b="0" lang="en-US" sz="6600" spc="-1" strike="noStrike">
              <a:solidFill>
                <a:srgbClr val="ffffff"/>
              </a:solidFill>
              <a:latin typeface="Times New Roman"/>
            </a:endParaRPr>
          </a:p>
        </p:txBody>
      </p:sp>
      <p:grpSp>
        <p:nvGrpSpPr>
          <p:cNvPr id="1103" name=""/>
          <p:cNvGrpSpPr/>
          <p:nvPr/>
        </p:nvGrpSpPr>
        <p:grpSpPr>
          <a:xfrm>
            <a:off x="371520" y="108000"/>
            <a:ext cx="4484520" cy="6629400"/>
            <a:chOff x="371520" y="108000"/>
            <a:chExt cx="4484520" cy="6629400"/>
          </a:xfrm>
        </p:grpSpPr>
        <p:pic>
          <p:nvPicPr>
            <p:cNvPr id="1104" name="" descr=""/>
            <p:cNvPicPr/>
            <p:nvPr/>
          </p:nvPicPr>
          <p:blipFill>
            <a:blip r:embed="rId1"/>
            <a:stretch/>
          </p:blipFill>
          <p:spPr>
            <a:xfrm>
              <a:off x="371520" y="108000"/>
              <a:ext cx="4476600" cy="6618240"/>
            </a:xfrm>
            <a:prstGeom prst="rect">
              <a:avLst/>
            </a:prstGeom>
            <a:ln w="0">
              <a:noFill/>
            </a:ln>
          </p:spPr>
        </p:pic>
        <p:sp>
          <p:nvSpPr>
            <p:cNvPr id="1105" name=""/>
            <p:cNvSpPr/>
            <p:nvPr/>
          </p:nvSpPr>
          <p:spPr>
            <a:xfrm>
              <a:off x="301320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rot="17880000">
              <a:off x="600840" y="5364720"/>
              <a:ext cx="77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aza</a:t>
              </a:r>
              <a:endParaRPr b="0" lang="en-US" sz="2000" spc="-1" strike="noStrike">
                <a:solidFill>
                  <a:srgbClr val="ffffff"/>
                </a:solidFill>
                <a:latin typeface="Times New Roman"/>
              </a:endParaRPr>
            </a:p>
          </p:txBody>
        </p:sp>
        <p:sp>
          <p:nvSpPr>
            <p:cNvPr id="1107" name=""/>
            <p:cNvSpPr/>
            <p:nvPr/>
          </p:nvSpPr>
          <p:spPr>
            <a:xfrm>
              <a:off x="784080" y="4290840"/>
              <a:ext cx="1246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Black"/>
                </a:rPr>
                <a:t>Israel</a:t>
              </a:r>
              <a:endParaRPr b="0" lang="en-US" sz="3200" spc="-1" strike="noStrike">
                <a:solidFill>
                  <a:srgbClr val="ffffff"/>
                </a:solidFill>
                <a:latin typeface="Times New Roman"/>
              </a:endParaRPr>
            </a:p>
          </p:txBody>
        </p:sp>
        <p:sp>
          <p:nvSpPr>
            <p:cNvPr id="1108" name=""/>
            <p:cNvSpPr/>
            <p:nvPr/>
          </p:nvSpPr>
          <p:spPr>
            <a:xfrm>
              <a:off x="3521160" y="6458040"/>
              <a:ext cx="1288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PHOTO</a:t>
              </a:r>
              <a:endParaRPr b="0" lang="en-US" sz="1200" spc="-1" strike="noStrike">
                <a:solidFill>
                  <a:srgbClr val="ffffff"/>
                </a:solidFill>
                <a:latin typeface="Times New Roman"/>
              </a:endParaRPr>
            </a:p>
          </p:txBody>
        </p:sp>
        <p:sp>
          <p:nvSpPr>
            <p:cNvPr id="1109" name=""/>
            <p:cNvSpPr/>
            <p:nvPr/>
          </p:nvSpPr>
          <p:spPr>
            <a:xfrm>
              <a:off x="3456000" y="6305400"/>
              <a:ext cx="13730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EBibleTeacher.com  </a:t>
              </a:r>
              <a:endParaRPr b="0" lang="en-US" sz="900" spc="-1" strike="noStrike">
                <a:solidFill>
                  <a:srgbClr val="ffffff"/>
                </a:solidFill>
                <a:latin typeface="Times New Roman"/>
              </a:endParaRPr>
            </a:p>
          </p:txBody>
        </p:sp>
        <p:sp>
          <p:nvSpPr>
            <p:cNvPr id="1110" name=""/>
            <p:cNvSpPr/>
            <p:nvPr/>
          </p:nvSpPr>
          <p:spPr>
            <a:xfrm>
              <a:off x="2978280" y="272880"/>
              <a:ext cx="1863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Modern Israel</a:t>
              </a:r>
              <a:endParaRPr b="0" lang="en-US" sz="2400" spc="-1" strike="noStrike">
                <a:solidFill>
                  <a:srgbClr val="ffffff"/>
                </a:solidFill>
                <a:latin typeface="Times New Roman"/>
              </a:endParaRPr>
            </a:p>
          </p:txBody>
        </p:sp>
        <p:sp>
          <p:nvSpPr>
            <p:cNvPr id="1111" name=""/>
            <p:cNvSpPr/>
            <p:nvPr/>
          </p:nvSpPr>
          <p:spPr>
            <a:xfrm>
              <a:off x="712080" y="3645000"/>
              <a:ext cx="95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l Aviv</a:t>
              </a:r>
              <a:endParaRPr b="0" lang="en-US" sz="1600" spc="-1" strike="noStrike">
                <a:solidFill>
                  <a:srgbClr val="ffffff"/>
                </a:solidFill>
                <a:latin typeface="Times New Roman"/>
              </a:endParaRPr>
            </a:p>
          </p:txBody>
        </p:sp>
        <p:sp>
          <p:nvSpPr>
            <p:cNvPr id="1112" name=""/>
            <p:cNvSpPr/>
            <p:nvPr/>
          </p:nvSpPr>
          <p:spPr>
            <a:xfrm>
              <a:off x="1574640" y="3867120"/>
              <a:ext cx="78120" cy="85680"/>
            </a:xfrm>
            <a:prstGeom prst="star5">
              <a:avLst/>
            </a:prstGeom>
            <a:solidFill>
              <a:srgbClr val="ff0000"/>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113" name=""/>
            <p:cNvSpPr/>
            <p:nvPr/>
          </p:nvSpPr>
          <p:spPr>
            <a:xfrm>
              <a:off x="1014480" y="5354640"/>
              <a:ext cx="325440" cy="549360"/>
            </a:xfrm>
            <a:custGeom>
              <a:avLst/>
              <a:gdLst/>
              <a:ahLst/>
              <a:rect l="l" t="t" r="r" b="b"/>
              <a:pathLst>
                <a:path w="205" h="346">
                  <a:moveTo>
                    <a:pt x="121" y="0"/>
                  </a:moveTo>
                  <a:lnTo>
                    <a:pt x="140" y="19"/>
                  </a:lnTo>
                  <a:lnTo>
                    <a:pt x="160" y="25"/>
                  </a:lnTo>
                  <a:lnTo>
                    <a:pt x="179" y="32"/>
                  </a:lnTo>
                  <a:lnTo>
                    <a:pt x="198" y="45"/>
                  </a:lnTo>
                  <a:lnTo>
                    <a:pt x="204" y="64"/>
                  </a:lnTo>
                  <a:lnTo>
                    <a:pt x="204" y="83"/>
                  </a:lnTo>
                  <a:lnTo>
                    <a:pt x="185" y="96"/>
                  </a:lnTo>
                  <a:lnTo>
                    <a:pt x="166" y="109"/>
                  </a:lnTo>
                  <a:lnTo>
                    <a:pt x="147" y="121"/>
                  </a:lnTo>
                  <a:lnTo>
                    <a:pt x="128" y="134"/>
                  </a:lnTo>
                  <a:lnTo>
                    <a:pt x="121" y="153"/>
                  </a:lnTo>
                  <a:lnTo>
                    <a:pt x="108" y="173"/>
                  </a:lnTo>
                  <a:lnTo>
                    <a:pt x="102" y="192"/>
                  </a:lnTo>
                  <a:lnTo>
                    <a:pt x="102" y="211"/>
                  </a:lnTo>
                  <a:lnTo>
                    <a:pt x="102" y="230"/>
                  </a:lnTo>
                  <a:lnTo>
                    <a:pt x="102" y="249"/>
                  </a:lnTo>
                  <a:lnTo>
                    <a:pt x="102" y="269"/>
                  </a:lnTo>
                  <a:lnTo>
                    <a:pt x="96" y="288"/>
                  </a:lnTo>
                  <a:lnTo>
                    <a:pt x="89" y="307"/>
                  </a:lnTo>
                  <a:lnTo>
                    <a:pt x="76" y="326"/>
                  </a:lnTo>
                  <a:lnTo>
                    <a:pt x="64" y="345"/>
                  </a:lnTo>
                  <a:lnTo>
                    <a:pt x="44" y="339"/>
                  </a:lnTo>
                  <a:lnTo>
                    <a:pt x="25" y="333"/>
                  </a:lnTo>
                  <a:lnTo>
                    <a:pt x="6" y="320"/>
                  </a:lnTo>
                  <a:lnTo>
                    <a:pt x="0" y="30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1074600" y="5902200"/>
              <a:ext cx="671760" cy="835200"/>
            </a:xfrm>
            <a:custGeom>
              <a:avLst/>
              <a:gdLst/>
              <a:ahLst/>
              <a:rect l="l" t="t" r="r" b="b"/>
              <a:pathLst>
                <a:path w="423" h="526">
                  <a:moveTo>
                    <a:pt x="0" y="0"/>
                  </a:moveTo>
                  <a:lnTo>
                    <a:pt x="19" y="13"/>
                  </a:lnTo>
                  <a:lnTo>
                    <a:pt x="38" y="26"/>
                  </a:lnTo>
                  <a:lnTo>
                    <a:pt x="58" y="45"/>
                  </a:lnTo>
                  <a:lnTo>
                    <a:pt x="77" y="64"/>
                  </a:lnTo>
                  <a:lnTo>
                    <a:pt x="90" y="84"/>
                  </a:lnTo>
                  <a:lnTo>
                    <a:pt x="109" y="96"/>
                  </a:lnTo>
                  <a:lnTo>
                    <a:pt x="128" y="116"/>
                  </a:lnTo>
                  <a:lnTo>
                    <a:pt x="147" y="135"/>
                  </a:lnTo>
                  <a:lnTo>
                    <a:pt x="166" y="186"/>
                  </a:lnTo>
                  <a:lnTo>
                    <a:pt x="186" y="205"/>
                  </a:lnTo>
                  <a:lnTo>
                    <a:pt x="198" y="256"/>
                  </a:lnTo>
                  <a:lnTo>
                    <a:pt x="211" y="301"/>
                  </a:lnTo>
                  <a:lnTo>
                    <a:pt x="230" y="320"/>
                  </a:lnTo>
                  <a:lnTo>
                    <a:pt x="250" y="340"/>
                  </a:lnTo>
                  <a:lnTo>
                    <a:pt x="269" y="352"/>
                  </a:lnTo>
                  <a:lnTo>
                    <a:pt x="282" y="372"/>
                  </a:lnTo>
                  <a:lnTo>
                    <a:pt x="301" y="384"/>
                  </a:lnTo>
                  <a:lnTo>
                    <a:pt x="314" y="404"/>
                  </a:lnTo>
                  <a:lnTo>
                    <a:pt x="333" y="416"/>
                  </a:lnTo>
                  <a:lnTo>
                    <a:pt x="346" y="436"/>
                  </a:lnTo>
                  <a:lnTo>
                    <a:pt x="365" y="455"/>
                  </a:lnTo>
                  <a:lnTo>
                    <a:pt x="378" y="474"/>
                  </a:lnTo>
                  <a:lnTo>
                    <a:pt x="397" y="487"/>
                  </a:lnTo>
                  <a:lnTo>
                    <a:pt x="403" y="506"/>
                  </a:lnTo>
                  <a:lnTo>
                    <a:pt x="422" y="5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3025800" y="2468520"/>
              <a:ext cx="163440" cy="4248360"/>
            </a:xfrm>
            <a:custGeom>
              <a:avLst/>
              <a:gdLst/>
              <a:ahLst/>
              <a:rect l="l" t="t" r="r" b="b"/>
              <a:pathLst>
                <a:path w="103" h="2676">
                  <a:moveTo>
                    <a:pt x="0" y="2675"/>
                  </a:moveTo>
                  <a:lnTo>
                    <a:pt x="0" y="2656"/>
                  </a:lnTo>
                  <a:lnTo>
                    <a:pt x="6" y="2637"/>
                  </a:lnTo>
                  <a:lnTo>
                    <a:pt x="13" y="2618"/>
                  </a:lnTo>
                  <a:lnTo>
                    <a:pt x="19" y="2599"/>
                  </a:lnTo>
                  <a:lnTo>
                    <a:pt x="25" y="2579"/>
                  </a:lnTo>
                  <a:lnTo>
                    <a:pt x="32" y="2560"/>
                  </a:lnTo>
                  <a:lnTo>
                    <a:pt x="38" y="2541"/>
                  </a:lnTo>
                  <a:lnTo>
                    <a:pt x="45" y="2522"/>
                  </a:lnTo>
                  <a:lnTo>
                    <a:pt x="51" y="2503"/>
                  </a:lnTo>
                  <a:lnTo>
                    <a:pt x="57" y="2483"/>
                  </a:lnTo>
                  <a:lnTo>
                    <a:pt x="57" y="2464"/>
                  </a:lnTo>
                  <a:lnTo>
                    <a:pt x="64" y="2445"/>
                  </a:lnTo>
                  <a:lnTo>
                    <a:pt x="70" y="2426"/>
                  </a:lnTo>
                  <a:lnTo>
                    <a:pt x="70" y="2407"/>
                  </a:lnTo>
                  <a:lnTo>
                    <a:pt x="70" y="2387"/>
                  </a:lnTo>
                  <a:lnTo>
                    <a:pt x="70" y="2368"/>
                  </a:lnTo>
                  <a:lnTo>
                    <a:pt x="70" y="2349"/>
                  </a:lnTo>
                  <a:lnTo>
                    <a:pt x="70" y="2330"/>
                  </a:lnTo>
                  <a:lnTo>
                    <a:pt x="70" y="2311"/>
                  </a:lnTo>
                  <a:lnTo>
                    <a:pt x="70" y="2291"/>
                  </a:lnTo>
                  <a:lnTo>
                    <a:pt x="64" y="2272"/>
                  </a:lnTo>
                  <a:lnTo>
                    <a:pt x="64" y="2253"/>
                  </a:lnTo>
                  <a:lnTo>
                    <a:pt x="64" y="2234"/>
                  </a:lnTo>
                  <a:lnTo>
                    <a:pt x="64" y="2215"/>
                  </a:lnTo>
                  <a:lnTo>
                    <a:pt x="64" y="2195"/>
                  </a:lnTo>
                  <a:lnTo>
                    <a:pt x="64" y="2176"/>
                  </a:lnTo>
                  <a:lnTo>
                    <a:pt x="70" y="2157"/>
                  </a:lnTo>
                  <a:lnTo>
                    <a:pt x="70" y="2138"/>
                  </a:lnTo>
                  <a:lnTo>
                    <a:pt x="70" y="2119"/>
                  </a:lnTo>
                  <a:lnTo>
                    <a:pt x="70" y="2099"/>
                  </a:lnTo>
                  <a:lnTo>
                    <a:pt x="77" y="2080"/>
                  </a:lnTo>
                  <a:lnTo>
                    <a:pt x="77" y="2061"/>
                  </a:lnTo>
                  <a:lnTo>
                    <a:pt x="83" y="2042"/>
                  </a:lnTo>
                  <a:lnTo>
                    <a:pt x="89" y="2023"/>
                  </a:lnTo>
                  <a:lnTo>
                    <a:pt x="89" y="2003"/>
                  </a:lnTo>
                  <a:lnTo>
                    <a:pt x="89" y="1984"/>
                  </a:lnTo>
                  <a:lnTo>
                    <a:pt x="89" y="1965"/>
                  </a:lnTo>
                  <a:lnTo>
                    <a:pt x="89" y="1946"/>
                  </a:lnTo>
                  <a:lnTo>
                    <a:pt x="89" y="1927"/>
                  </a:lnTo>
                  <a:lnTo>
                    <a:pt x="89" y="1907"/>
                  </a:lnTo>
                  <a:lnTo>
                    <a:pt x="89" y="1888"/>
                  </a:lnTo>
                  <a:lnTo>
                    <a:pt x="89" y="1869"/>
                  </a:lnTo>
                  <a:lnTo>
                    <a:pt x="89" y="1850"/>
                  </a:lnTo>
                  <a:lnTo>
                    <a:pt x="89" y="1831"/>
                  </a:lnTo>
                  <a:lnTo>
                    <a:pt x="89" y="1811"/>
                  </a:lnTo>
                  <a:lnTo>
                    <a:pt x="89" y="1792"/>
                  </a:lnTo>
                  <a:lnTo>
                    <a:pt x="89" y="1773"/>
                  </a:lnTo>
                  <a:lnTo>
                    <a:pt x="89" y="1754"/>
                  </a:lnTo>
                  <a:lnTo>
                    <a:pt x="89" y="1735"/>
                  </a:lnTo>
                  <a:lnTo>
                    <a:pt x="89" y="1715"/>
                  </a:lnTo>
                  <a:lnTo>
                    <a:pt x="89" y="1696"/>
                  </a:lnTo>
                  <a:lnTo>
                    <a:pt x="89" y="1677"/>
                  </a:lnTo>
                  <a:lnTo>
                    <a:pt x="89" y="1658"/>
                  </a:lnTo>
                  <a:lnTo>
                    <a:pt x="96" y="1600"/>
                  </a:lnTo>
                  <a:lnTo>
                    <a:pt x="96" y="1549"/>
                  </a:lnTo>
                  <a:lnTo>
                    <a:pt x="102" y="1530"/>
                  </a:lnTo>
                  <a:lnTo>
                    <a:pt x="102" y="1511"/>
                  </a:lnTo>
                  <a:lnTo>
                    <a:pt x="102" y="1491"/>
                  </a:lnTo>
                  <a:lnTo>
                    <a:pt x="102" y="1472"/>
                  </a:lnTo>
                  <a:lnTo>
                    <a:pt x="102" y="1453"/>
                  </a:lnTo>
                  <a:lnTo>
                    <a:pt x="96" y="1434"/>
                  </a:lnTo>
                  <a:lnTo>
                    <a:pt x="96" y="1389"/>
                  </a:lnTo>
                  <a:lnTo>
                    <a:pt x="89" y="1370"/>
                  </a:lnTo>
                  <a:lnTo>
                    <a:pt x="89" y="1351"/>
                  </a:lnTo>
                  <a:lnTo>
                    <a:pt x="83" y="1331"/>
                  </a:lnTo>
                  <a:lnTo>
                    <a:pt x="77" y="1312"/>
                  </a:lnTo>
                  <a:lnTo>
                    <a:pt x="77" y="1293"/>
                  </a:lnTo>
                  <a:lnTo>
                    <a:pt x="70" y="1274"/>
                  </a:lnTo>
                  <a:lnTo>
                    <a:pt x="64" y="1255"/>
                  </a:lnTo>
                  <a:lnTo>
                    <a:pt x="64" y="1235"/>
                  </a:lnTo>
                  <a:lnTo>
                    <a:pt x="57" y="1216"/>
                  </a:lnTo>
                  <a:lnTo>
                    <a:pt x="51" y="1197"/>
                  </a:lnTo>
                  <a:lnTo>
                    <a:pt x="51" y="1178"/>
                  </a:lnTo>
                  <a:lnTo>
                    <a:pt x="51" y="1159"/>
                  </a:lnTo>
                  <a:lnTo>
                    <a:pt x="51" y="1139"/>
                  </a:lnTo>
                  <a:lnTo>
                    <a:pt x="51" y="1120"/>
                  </a:lnTo>
                  <a:lnTo>
                    <a:pt x="51" y="1101"/>
                  </a:lnTo>
                  <a:lnTo>
                    <a:pt x="51" y="1082"/>
                  </a:lnTo>
                  <a:lnTo>
                    <a:pt x="51" y="1063"/>
                  </a:lnTo>
                  <a:lnTo>
                    <a:pt x="51" y="1043"/>
                  </a:lnTo>
                  <a:lnTo>
                    <a:pt x="51" y="1024"/>
                  </a:lnTo>
                  <a:lnTo>
                    <a:pt x="51" y="1005"/>
                  </a:lnTo>
                  <a:lnTo>
                    <a:pt x="51" y="986"/>
                  </a:lnTo>
                  <a:lnTo>
                    <a:pt x="51" y="967"/>
                  </a:lnTo>
                  <a:lnTo>
                    <a:pt x="51" y="947"/>
                  </a:lnTo>
                  <a:lnTo>
                    <a:pt x="51" y="928"/>
                  </a:lnTo>
                  <a:lnTo>
                    <a:pt x="51" y="909"/>
                  </a:lnTo>
                  <a:lnTo>
                    <a:pt x="51" y="890"/>
                  </a:lnTo>
                  <a:lnTo>
                    <a:pt x="51" y="871"/>
                  </a:lnTo>
                  <a:lnTo>
                    <a:pt x="51" y="851"/>
                  </a:lnTo>
                  <a:lnTo>
                    <a:pt x="51" y="832"/>
                  </a:lnTo>
                  <a:lnTo>
                    <a:pt x="45" y="813"/>
                  </a:lnTo>
                  <a:lnTo>
                    <a:pt x="45" y="794"/>
                  </a:lnTo>
                  <a:lnTo>
                    <a:pt x="38" y="775"/>
                  </a:lnTo>
                  <a:lnTo>
                    <a:pt x="38" y="730"/>
                  </a:lnTo>
                  <a:lnTo>
                    <a:pt x="32" y="685"/>
                  </a:lnTo>
                  <a:lnTo>
                    <a:pt x="32" y="666"/>
                  </a:lnTo>
                  <a:lnTo>
                    <a:pt x="25" y="621"/>
                  </a:lnTo>
                  <a:lnTo>
                    <a:pt x="25" y="576"/>
                  </a:lnTo>
                  <a:lnTo>
                    <a:pt x="25" y="557"/>
                  </a:lnTo>
                  <a:lnTo>
                    <a:pt x="25" y="538"/>
                  </a:lnTo>
                  <a:lnTo>
                    <a:pt x="25" y="519"/>
                  </a:lnTo>
                  <a:lnTo>
                    <a:pt x="25" y="499"/>
                  </a:lnTo>
                  <a:lnTo>
                    <a:pt x="25" y="480"/>
                  </a:lnTo>
                  <a:lnTo>
                    <a:pt x="25" y="461"/>
                  </a:lnTo>
                  <a:lnTo>
                    <a:pt x="32" y="442"/>
                  </a:lnTo>
                  <a:lnTo>
                    <a:pt x="32" y="423"/>
                  </a:lnTo>
                  <a:lnTo>
                    <a:pt x="32" y="403"/>
                  </a:lnTo>
                  <a:lnTo>
                    <a:pt x="32" y="352"/>
                  </a:lnTo>
                  <a:lnTo>
                    <a:pt x="32" y="333"/>
                  </a:lnTo>
                  <a:lnTo>
                    <a:pt x="32" y="314"/>
                  </a:lnTo>
                  <a:lnTo>
                    <a:pt x="32" y="295"/>
                  </a:lnTo>
                  <a:lnTo>
                    <a:pt x="32" y="250"/>
                  </a:lnTo>
                  <a:lnTo>
                    <a:pt x="32" y="231"/>
                  </a:lnTo>
                  <a:lnTo>
                    <a:pt x="32" y="211"/>
                  </a:lnTo>
                  <a:lnTo>
                    <a:pt x="32" y="192"/>
                  </a:lnTo>
                  <a:lnTo>
                    <a:pt x="32" y="173"/>
                  </a:lnTo>
                  <a:lnTo>
                    <a:pt x="32" y="154"/>
                  </a:lnTo>
                  <a:lnTo>
                    <a:pt x="32" y="135"/>
                  </a:lnTo>
                  <a:lnTo>
                    <a:pt x="32" y="115"/>
                  </a:lnTo>
                  <a:lnTo>
                    <a:pt x="32" y="96"/>
                  </a:lnTo>
                  <a:lnTo>
                    <a:pt x="25" y="77"/>
                  </a:lnTo>
                  <a:lnTo>
                    <a:pt x="25" y="58"/>
                  </a:lnTo>
                  <a:lnTo>
                    <a:pt x="25" y="39"/>
                  </a:lnTo>
                  <a:lnTo>
                    <a:pt x="25" y="19"/>
                  </a:lnTo>
                  <a:lnTo>
                    <a:pt x="4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1979640" y="2955960"/>
              <a:ext cx="1179360" cy="2908440"/>
            </a:xfrm>
            <a:custGeom>
              <a:avLst/>
              <a:gdLst/>
              <a:ahLst/>
              <a:rect l="l" t="t" r="r" b="b"/>
              <a:pathLst>
                <a:path w="743" h="1832">
                  <a:moveTo>
                    <a:pt x="691" y="103"/>
                  </a:moveTo>
                  <a:lnTo>
                    <a:pt x="672" y="96"/>
                  </a:lnTo>
                  <a:lnTo>
                    <a:pt x="652" y="90"/>
                  </a:lnTo>
                  <a:lnTo>
                    <a:pt x="633" y="77"/>
                  </a:lnTo>
                  <a:lnTo>
                    <a:pt x="614" y="77"/>
                  </a:lnTo>
                  <a:lnTo>
                    <a:pt x="595" y="77"/>
                  </a:lnTo>
                  <a:lnTo>
                    <a:pt x="576" y="77"/>
                  </a:lnTo>
                  <a:lnTo>
                    <a:pt x="556" y="77"/>
                  </a:lnTo>
                  <a:lnTo>
                    <a:pt x="544" y="96"/>
                  </a:lnTo>
                  <a:lnTo>
                    <a:pt x="524" y="103"/>
                  </a:lnTo>
                  <a:lnTo>
                    <a:pt x="505" y="109"/>
                  </a:lnTo>
                  <a:lnTo>
                    <a:pt x="486" y="109"/>
                  </a:lnTo>
                  <a:lnTo>
                    <a:pt x="467" y="103"/>
                  </a:lnTo>
                  <a:lnTo>
                    <a:pt x="454" y="84"/>
                  </a:lnTo>
                  <a:lnTo>
                    <a:pt x="441" y="64"/>
                  </a:lnTo>
                  <a:lnTo>
                    <a:pt x="422" y="45"/>
                  </a:lnTo>
                  <a:lnTo>
                    <a:pt x="403" y="32"/>
                  </a:lnTo>
                  <a:lnTo>
                    <a:pt x="384" y="26"/>
                  </a:lnTo>
                  <a:lnTo>
                    <a:pt x="364" y="20"/>
                  </a:lnTo>
                  <a:lnTo>
                    <a:pt x="345" y="26"/>
                  </a:lnTo>
                  <a:lnTo>
                    <a:pt x="326" y="39"/>
                  </a:lnTo>
                  <a:lnTo>
                    <a:pt x="307" y="45"/>
                  </a:lnTo>
                  <a:lnTo>
                    <a:pt x="288" y="52"/>
                  </a:lnTo>
                  <a:lnTo>
                    <a:pt x="268" y="58"/>
                  </a:lnTo>
                  <a:lnTo>
                    <a:pt x="249" y="58"/>
                  </a:lnTo>
                  <a:lnTo>
                    <a:pt x="230" y="52"/>
                  </a:lnTo>
                  <a:lnTo>
                    <a:pt x="211" y="32"/>
                  </a:lnTo>
                  <a:lnTo>
                    <a:pt x="192" y="20"/>
                  </a:lnTo>
                  <a:lnTo>
                    <a:pt x="134" y="13"/>
                  </a:lnTo>
                  <a:lnTo>
                    <a:pt x="89" y="7"/>
                  </a:lnTo>
                  <a:lnTo>
                    <a:pt x="70" y="0"/>
                  </a:lnTo>
                  <a:lnTo>
                    <a:pt x="51" y="13"/>
                  </a:lnTo>
                  <a:lnTo>
                    <a:pt x="44" y="32"/>
                  </a:lnTo>
                  <a:lnTo>
                    <a:pt x="38" y="52"/>
                  </a:lnTo>
                  <a:lnTo>
                    <a:pt x="38" y="71"/>
                  </a:lnTo>
                  <a:lnTo>
                    <a:pt x="32" y="90"/>
                  </a:lnTo>
                  <a:lnTo>
                    <a:pt x="32" y="109"/>
                  </a:lnTo>
                  <a:lnTo>
                    <a:pt x="32" y="128"/>
                  </a:lnTo>
                  <a:lnTo>
                    <a:pt x="32" y="148"/>
                  </a:lnTo>
                  <a:lnTo>
                    <a:pt x="32" y="167"/>
                  </a:lnTo>
                  <a:lnTo>
                    <a:pt x="32" y="186"/>
                  </a:lnTo>
                  <a:lnTo>
                    <a:pt x="32" y="205"/>
                  </a:lnTo>
                  <a:lnTo>
                    <a:pt x="32" y="224"/>
                  </a:lnTo>
                  <a:lnTo>
                    <a:pt x="32" y="244"/>
                  </a:lnTo>
                  <a:lnTo>
                    <a:pt x="32" y="263"/>
                  </a:lnTo>
                  <a:lnTo>
                    <a:pt x="32" y="282"/>
                  </a:lnTo>
                  <a:lnTo>
                    <a:pt x="32" y="301"/>
                  </a:lnTo>
                  <a:lnTo>
                    <a:pt x="32" y="320"/>
                  </a:lnTo>
                  <a:lnTo>
                    <a:pt x="38" y="340"/>
                  </a:lnTo>
                  <a:lnTo>
                    <a:pt x="38" y="359"/>
                  </a:lnTo>
                  <a:lnTo>
                    <a:pt x="38" y="378"/>
                  </a:lnTo>
                  <a:lnTo>
                    <a:pt x="38" y="397"/>
                  </a:lnTo>
                  <a:lnTo>
                    <a:pt x="38" y="416"/>
                  </a:lnTo>
                  <a:lnTo>
                    <a:pt x="25" y="436"/>
                  </a:lnTo>
                  <a:lnTo>
                    <a:pt x="12" y="455"/>
                  </a:lnTo>
                  <a:lnTo>
                    <a:pt x="0" y="474"/>
                  </a:lnTo>
                  <a:lnTo>
                    <a:pt x="6" y="493"/>
                  </a:lnTo>
                  <a:lnTo>
                    <a:pt x="12" y="512"/>
                  </a:lnTo>
                  <a:lnTo>
                    <a:pt x="25" y="532"/>
                  </a:lnTo>
                  <a:lnTo>
                    <a:pt x="38" y="551"/>
                  </a:lnTo>
                  <a:lnTo>
                    <a:pt x="44" y="570"/>
                  </a:lnTo>
                  <a:lnTo>
                    <a:pt x="51" y="589"/>
                  </a:lnTo>
                  <a:lnTo>
                    <a:pt x="57" y="608"/>
                  </a:lnTo>
                  <a:lnTo>
                    <a:pt x="64" y="628"/>
                  </a:lnTo>
                  <a:lnTo>
                    <a:pt x="70" y="647"/>
                  </a:lnTo>
                  <a:lnTo>
                    <a:pt x="76" y="666"/>
                  </a:lnTo>
                  <a:lnTo>
                    <a:pt x="76" y="685"/>
                  </a:lnTo>
                  <a:lnTo>
                    <a:pt x="76" y="704"/>
                  </a:lnTo>
                  <a:lnTo>
                    <a:pt x="83" y="724"/>
                  </a:lnTo>
                  <a:lnTo>
                    <a:pt x="89" y="743"/>
                  </a:lnTo>
                  <a:lnTo>
                    <a:pt x="89" y="762"/>
                  </a:lnTo>
                  <a:lnTo>
                    <a:pt x="89" y="781"/>
                  </a:lnTo>
                  <a:lnTo>
                    <a:pt x="96" y="800"/>
                  </a:lnTo>
                  <a:lnTo>
                    <a:pt x="102" y="852"/>
                  </a:lnTo>
                  <a:lnTo>
                    <a:pt x="102" y="871"/>
                  </a:lnTo>
                  <a:lnTo>
                    <a:pt x="108" y="890"/>
                  </a:lnTo>
                  <a:lnTo>
                    <a:pt x="115" y="909"/>
                  </a:lnTo>
                  <a:lnTo>
                    <a:pt x="121" y="928"/>
                  </a:lnTo>
                  <a:lnTo>
                    <a:pt x="128" y="948"/>
                  </a:lnTo>
                  <a:lnTo>
                    <a:pt x="128" y="967"/>
                  </a:lnTo>
                  <a:lnTo>
                    <a:pt x="115" y="986"/>
                  </a:lnTo>
                  <a:lnTo>
                    <a:pt x="102" y="1005"/>
                  </a:lnTo>
                  <a:lnTo>
                    <a:pt x="89" y="1024"/>
                  </a:lnTo>
                  <a:lnTo>
                    <a:pt x="76" y="1044"/>
                  </a:lnTo>
                  <a:lnTo>
                    <a:pt x="70" y="1063"/>
                  </a:lnTo>
                  <a:lnTo>
                    <a:pt x="70" y="1082"/>
                  </a:lnTo>
                  <a:lnTo>
                    <a:pt x="76" y="1101"/>
                  </a:lnTo>
                  <a:lnTo>
                    <a:pt x="96" y="1108"/>
                  </a:lnTo>
                  <a:lnTo>
                    <a:pt x="115" y="1108"/>
                  </a:lnTo>
                  <a:lnTo>
                    <a:pt x="134" y="1101"/>
                  </a:lnTo>
                  <a:lnTo>
                    <a:pt x="147" y="1082"/>
                  </a:lnTo>
                  <a:lnTo>
                    <a:pt x="166" y="1069"/>
                  </a:lnTo>
                  <a:lnTo>
                    <a:pt x="179" y="1050"/>
                  </a:lnTo>
                  <a:lnTo>
                    <a:pt x="198" y="1037"/>
                  </a:lnTo>
                  <a:lnTo>
                    <a:pt x="217" y="1031"/>
                  </a:lnTo>
                  <a:lnTo>
                    <a:pt x="236" y="1024"/>
                  </a:lnTo>
                  <a:lnTo>
                    <a:pt x="256" y="1031"/>
                  </a:lnTo>
                  <a:lnTo>
                    <a:pt x="275" y="1050"/>
                  </a:lnTo>
                  <a:lnTo>
                    <a:pt x="288" y="1069"/>
                  </a:lnTo>
                  <a:lnTo>
                    <a:pt x="307" y="1082"/>
                  </a:lnTo>
                  <a:lnTo>
                    <a:pt x="326" y="1088"/>
                  </a:lnTo>
                  <a:lnTo>
                    <a:pt x="345" y="1088"/>
                  </a:lnTo>
                  <a:lnTo>
                    <a:pt x="364" y="1088"/>
                  </a:lnTo>
                  <a:lnTo>
                    <a:pt x="384" y="1082"/>
                  </a:lnTo>
                  <a:lnTo>
                    <a:pt x="403" y="1082"/>
                  </a:lnTo>
                  <a:lnTo>
                    <a:pt x="422" y="1082"/>
                  </a:lnTo>
                  <a:lnTo>
                    <a:pt x="441" y="1082"/>
                  </a:lnTo>
                  <a:lnTo>
                    <a:pt x="460" y="1082"/>
                  </a:lnTo>
                  <a:lnTo>
                    <a:pt x="473" y="1101"/>
                  </a:lnTo>
                  <a:lnTo>
                    <a:pt x="486" y="1120"/>
                  </a:lnTo>
                  <a:lnTo>
                    <a:pt x="492" y="1140"/>
                  </a:lnTo>
                  <a:lnTo>
                    <a:pt x="499" y="1159"/>
                  </a:lnTo>
                  <a:lnTo>
                    <a:pt x="480" y="1165"/>
                  </a:lnTo>
                  <a:lnTo>
                    <a:pt x="460" y="1172"/>
                  </a:lnTo>
                  <a:lnTo>
                    <a:pt x="441" y="1178"/>
                  </a:lnTo>
                  <a:lnTo>
                    <a:pt x="422" y="1184"/>
                  </a:lnTo>
                  <a:lnTo>
                    <a:pt x="403" y="1191"/>
                  </a:lnTo>
                  <a:lnTo>
                    <a:pt x="384" y="1197"/>
                  </a:lnTo>
                  <a:lnTo>
                    <a:pt x="364" y="1204"/>
                  </a:lnTo>
                  <a:lnTo>
                    <a:pt x="345" y="1216"/>
                  </a:lnTo>
                  <a:lnTo>
                    <a:pt x="326" y="1236"/>
                  </a:lnTo>
                  <a:lnTo>
                    <a:pt x="313" y="1255"/>
                  </a:lnTo>
                  <a:lnTo>
                    <a:pt x="294" y="1268"/>
                  </a:lnTo>
                  <a:lnTo>
                    <a:pt x="275" y="1287"/>
                  </a:lnTo>
                  <a:lnTo>
                    <a:pt x="256" y="1300"/>
                  </a:lnTo>
                  <a:lnTo>
                    <a:pt x="236" y="1312"/>
                  </a:lnTo>
                  <a:lnTo>
                    <a:pt x="217" y="1312"/>
                  </a:lnTo>
                  <a:lnTo>
                    <a:pt x="198" y="1319"/>
                  </a:lnTo>
                  <a:lnTo>
                    <a:pt x="179" y="1325"/>
                  </a:lnTo>
                  <a:lnTo>
                    <a:pt x="160" y="1338"/>
                  </a:lnTo>
                  <a:lnTo>
                    <a:pt x="140" y="1351"/>
                  </a:lnTo>
                  <a:lnTo>
                    <a:pt x="128" y="1370"/>
                  </a:lnTo>
                  <a:lnTo>
                    <a:pt x="115" y="1389"/>
                  </a:lnTo>
                  <a:lnTo>
                    <a:pt x="102" y="1408"/>
                  </a:lnTo>
                  <a:lnTo>
                    <a:pt x="102" y="1428"/>
                  </a:lnTo>
                  <a:lnTo>
                    <a:pt x="96" y="1447"/>
                  </a:lnTo>
                  <a:lnTo>
                    <a:pt x="76" y="1460"/>
                  </a:lnTo>
                  <a:lnTo>
                    <a:pt x="64" y="1479"/>
                  </a:lnTo>
                  <a:lnTo>
                    <a:pt x="57" y="1498"/>
                  </a:lnTo>
                  <a:lnTo>
                    <a:pt x="57" y="1517"/>
                  </a:lnTo>
                  <a:lnTo>
                    <a:pt x="51" y="1536"/>
                  </a:lnTo>
                  <a:lnTo>
                    <a:pt x="44" y="1556"/>
                  </a:lnTo>
                  <a:lnTo>
                    <a:pt x="25" y="1575"/>
                  </a:lnTo>
                  <a:lnTo>
                    <a:pt x="12" y="1594"/>
                  </a:lnTo>
                  <a:lnTo>
                    <a:pt x="6" y="1613"/>
                  </a:lnTo>
                  <a:lnTo>
                    <a:pt x="0" y="1632"/>
                  </a:lnTo>
                  <a:lnTo>
                    <a:pt x="0" y="1652"/>
                  </a:lnTo>
                  <a:lnTo>
                    <a:pt x="0" y="1671"/>
                  </a:lnTo>
                  <a:lnTo>
                    <a:pt x="0" y="1690"/>
                  </a:lnTo>
                  <a:lnTo>
                    <a:pt x="0" y="1709"/>
                  </a:lnTo>
                  <a:lnTo>
                    <a:pt x="0" y="1728"/>
                  </a:lnTo>
                  <a:lnTo>
                    <a:pt x="0" y="1748"/>
                  </a:lnTo>
                  <a:lnTo>
                    <a:pt x="0" y="1767"/>
                  </a:lnTo>
                  <a:lnTo>
                    <a:pt x="0" y="1786"/>
                  </a:lnTo>
                  <a:lnTo>
                    <a:pt x="12" y="1805"/>
                  </a:lnTo>
                  <a:lnTo>
                    <a:pt x="32" y="1812"/>
                  </a:lnTo>
                  <a:lnTo>
                    <a:pt x="51" y="1818"/>
                  </a:lnTo>
                  <a:lnTo>
                    <a:pt x="70" y="1824"/>
                  </a:lnTo>
                  <a:lnTo>
                    <a:pt x="89" y="1831"/>
                  </a:lnTo>
                  <a:lnTo>
                    <a:pt x="108" y="1831"/>
                  </a:lnTo>
                  <a:lnTo>
                    <a:pt x="128" y="1831"/>
                  </a:lnTo>
                  <a:lnTo>
                    <a:pt x="147" y="1831"/>
                  </a:lnTo>
                  <a:lnTo>
                    <a:pt x="166" y="1824"/>
                  </a:lnTo>
                  <a:lnTo>
                    <a:pt x="185" y="1824"/>
                  </a:lnTo>
                  <a:lnTo>
                    <a:pt x="204" y="1824"/>
                  </a:lnTo>
                  <a:lnTo>
                    <a:pt x="224" y="1824"/>
                  </a:lnTo>
                  <a:lnTo>
                    <a:pt x="281" y="1818"/>
                  </a:lnTo>
                  <a:lnTo>
                    <a:pt x="300" y="1812"/>
                  </a:lnTo>
                  <a:lnTo>
                    <a:pt x="320" y="1805"/>
                  </a:lnTo>
                  <a:lnTo>
                    <a:pt x="339" y="1799"/>
                  </a:lnTo>
                  <a:lnTo>
                    <a:pt x="358" y="1792"/>
                  </a:lnTo>
                  <a:lnTo>
                    <a:pt x="377" y="1792"/>
                  </a:lnTo>
                  <a:lnTo>
                    <a:pt x="396" y="1786"/>
                  </a:lnTo>
                  <a:lnTo>
                    <a:pt x="416" y="1767"/>
                  </a:lnTo>
                  <a:lnTo>
                    <a:pt x="435" y="1754"/>
                  </a:lnTo>
                  <a:lnTo>
                    <a:pt x="454" y="1748"/>
                  </a:lnTo>
                  <a:lnTo>
                    <a:pt x="473" y="1748"/>
                  </a:lnTo>
                  <a:lnTo>
                    <a:pt x="492" y="1741"/>
                  </a:lnTo>
                  <a:lnTo>
                    <a:pt x="505" y="1722"/>
                  </a:lnTo>
                  <a:lnTo>
                    <a:pt x="524" y="1709"/>
                  </a:lnTo>
                  <a:lnTo>
                    <a:pt x="544" y="1690"/>
                  </a:lnTo>
                  <a:lnTo>
                    <a:pt x="563" y="1671"/>
                  </a:lnTo>
                  <a:lnTo>
                    <a:pt x="576" y="1652"/>
                  </a:lnTo>
                  <a:lnTo>
                    <a:pt x="588" y="1632"/>
                  </a:lnTo>
                  <a:lnTo>
                    <a:pt x="595" y="1613"/>
                  </a:lnTo>
                  <a:lnTo>
                    <a:pt x="608" y="1594"/>
                  </a:lnTo>
                  <a:lnTo>
                    <a:pt x="627" y="1575"/>
                  </a:lnTo>
                  <a:lnTo>
                    <a:pt x="633" y="1556"/>
                  </a:lnTo>
                  <a:lnTo>
                    <a:pt x="646" y="1536"/>
                  </a:lnTo>
                  <a:lnTo>
                    <a:pt x="659" y="1517"/>
                  </a:lnTo>
                  <a:lnTo>
                    <a:pt x="672" y="1498"/>
                  </a:lnTo>
                  <a:lnTo>
                    <a:pt x="691" y="1485"/>
                  </a:lnTo>
                  <a:lnTo>
                    <a:pt x="710" y="1479"/>
                  </a:lnTo>
                  <a:lnTo>
                    <a:pt x="729" y="1479"/>
                  </a:lnTo>
                  <a:lnTo>
                    <a:pt x="742" y="1498"/>
                  </a:lnTo>
                  <a:lnTo>
                    <a:pt x="742" y="151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2096640" y="3268800"/>
              <a:ext cx="783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nk</a:t>
              </a:r>
              <a:endParaRPr b="0" lang="en-US" sz="2000" spc="-1" strike="noStrike">
                <a:solidFill>
                  <a:srgbClr val="ffffff"/>
                </a:solidFill>
                <a:latin typeface="Times New Roman"/>
              </a:endParaRPr>
            </a:p>
          </p:txBody>
        </p:sp>
        <p:sp>
          <p:nvSpPr>
            <p:cNvPr id="1118" name=""/>
            <p:cNvSpPr/>
            <p:nvPr/>
          </p:nvSpPr>
          <p:spPr>
            <a:xfrm>
              <a:off x="3097080" y="2417760"/>
              <a:ext cx="1758960" cy="865080"/>
            </a:xfrm>
            <a:custGeom>
              <a:avLst/>
              <a:gdLst/>
              <a:ahLst/>
              <a:rect l="l" t="t" r="r" b="b"/>
              <a:pathLst>
                <a:path w="1108" h="545">
                  <a:moveTo>
                    <a:pt x="0" y="39"/>
                  </a:moveTo>
                  <a:lnTo>
                    <a:pt x="19" y="32"/>
                  </a:lnTo>
                  <a:lnTo>
                    <a:pt x="38" y="19"/>
                  </a:lnTo>
                  <a:lnTo>
                    <a:pt x="57" y="13"/>
                  </a:lnTo>
                  <a:lnTo>
                    <a:pt x="76" y="7"/>
                  </a:lnTo>
                  <a:lnTo>
                    <a:pt x="96" y="0"/>
                  </a:lnTo>
                  <a:lnTo>
                    <a:pt x="115" y="0"/>
                  </a:lnTo>
                  <a:lnTo>
                    <a:pt x="134" y="19"/>
                  </a:lnTo>
                  <a:lnTo>
                    <a:pt x="153" y="26"/>
                  </a:lnTo>
                  <a:lnTo>
                    <a:pt x="172" y="26"/>
                  </a:lnTo>
                  <a:lnTo>
                    <a:pt x="192" y="26"/>
                  </a:lnTo>
                  <a:lnTo>
                    <a:pt x="211" y="26"/>
                  </a:lnTo>
                  <a:lnTo>
                    <a:pt x="230" y="26"/>
                  </a:lnTo>
                  <a:lnTo>
                    <a:pt x="243" y="45"/>
                  </a:lnTo>
                  <a:lnTo>
                    <a:pt x="262" y="58"/>
                  </a:lnTo>
                  <a:lnTo>
                    <a:pt x="268" y="77"/>
                  </a:lnTo>
                  <a:lnTo>
                    <a:pt x="281" y="96"/>
                  </a:lnTo>
                  <a:lnTo>
                    <a:pt x="288" y="115"/>
                  </a:lnTo>
                  <a:lnTo>
                    <a:pt x="294" y="135"/>
                  </a:lnTo>
                  <a:lnTo>
                    <a:pt x="300" y="154"/>
                  </a:lnTo>
                  <a:lnTo>
                    <a:pt x="300" y="199"/>
                  </a:lnTo>
                  <a:lnTo>
                    <a:pt x="313" y="218"/>
                  </a:lnTo>
                  <a:lnTo>
                    <a:pt x="326" y="237"/>
                  </a:lnTo>
                  <a:lnTo>
                    <a:pt x="345" y="250"/>
                  </a:lnTo>
                  <a:lnTo>
                    <a:pt x="364" y="256"/>
                  </a:lnTo>
                  <a:lnTo>
                    <a:pt x="384" y="263"/>
                  </a:lnTo>
                  <a:lnTo>
                    <a:pt x="403" y="263"/>
                  </a:lnTo>
                  <a:lnTo>
                    <a:pt x="422" y="263"/>
                  </a:lnTo>
                  <a:lnTo>
                    <a:pt x="441" y="250"/>
                  </a:lnTo>
                  <a:lnTo>
                    <a:pt x="460" y="250"/>
                  </a:lnTo>
                  <a:lnTo>
                    <a:pt x="480" y="256"/>
                  </a:lnTo>
                  <a:lnTo>
                    <a:pt x="499" y="269"/>
                  </a:lnTo>
                  <a:lnTo>
                    <a:pt x="518" y="288"/>
                  </a:lnTo>
                  <a:lnTo>
                    <a:pt x="537" y="307"/>
                  </a:lnTo>
                  <a:lnTo>
                    <a:pt x="556" y="327"/>
                  </a:lnTo>
                  <a:lnTo>
                    <a:pt x="576" y="339"/>
                  </a:lnTo>
                  <a:lnTo>
                    <a:pt x="595" y="352"/>
                  </a:lnTo>
                  <a:lnTo>
                    <a:pt x="614" y="365"/>
                  </a:lnTo>
                  <a:lnTo>
                    <a:pt x="633" y="378"/>
                  </a:lnTo>
                  <a:lnTo>
                    <a:pt x="652" y="384"/>
                  </a:lnTo>
                  <a:lnTo>
                    <a:pt x="672" y="391"/>
                  </a:lnTo>
                  <a:lnTo>
                    <a:pt x="691" y="403"/>
                  </a:lnTo>
                  <a:lnTo>
                    <a:pt x="710" y="410"/>
                  </a:lnTo>
                  <a:lnTo>
                    <a:pt x="729" y="416"/>
                  </a:lnTo>
                  <a:lnTo>
                    <a:pt x="748" y="423"/>
                  </a:lnTo>
                  <a:lnTo>
                    <a:pt x="768" y="429"/>
                  </a:lnTo>
                  <a:lnTo>
                    <a:pt x="819" y="429"/>
                  </a:lnTo>
                  <a:lnTo>
                    <a:pt x="838" y="435"/>
                  </a:lnTo>
                  <a:lnTo>
                    <a:pt x="883" y="435"/>
                  </a:lnTo>
                  <a:lnTo>
                    <a:pt x="902" y="442"/>
                  </a:lnTo>
                  <a:lnTo>
                    <a:pt x="921" y="455"/>
                  </a:lnTo>
                  <a:lnTo>
                    <a:pt x="934" y="474"/>
                  </a:lnTo>
                  <a:lnTo>
                    <a:pt x="953" y="480"/>
                  </a:lnTo>
                  <a:lnTo>
                    <a:pt x="972" y="487"/>
                  </a:lnTo>
                  <a:lnTo>
                    <a:pt x="992" y="499"/>
                  </a:lnTo>
                  <a:lnTo>
                    <a:pt x="1011" y="506"/>
                  </a:lnTo>
                  <a:lnTo>
                    <a:pt x="1030" y="519"/>
                  </a:lnTo>
                  <a:lnTo>
                    <a:pt x="1049" y="525"/>
                  </a:lnTo>
                  <a:lnTo>
                    <a:pt x="1068" y="531"/>
                  </a:lnTo>
                  <a:lnTo>
                    <a:pt x="1088" y="531"/>
                  </a:lnTo>
                  <a:lnTo>
                    <a:pt x="1107" y="54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3244680" y="3971880"/>
              <a:ext cx="1437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rdan</a:t>
              </a:r>
              <a:endParaRPr b="0" lang="en-US" sz="3200" spc="-1" strike="noStrike">
                <a:solidFill>
                  <a:srgbClr val="ffffff"/>
                </a:solidFill>
                <a:latin typeface="Times New Roman"/>
              </a:endParaRPr>
            </a:p>
          </p:txBody>
        </p:sp>
        <p:sp>
          <p:nvSpPr>
            <p:cNvPr id="1120" name=""/>
            <p:cNvSpPr/>
            <p:nvPr/>
          </p:nvSpPr>
          <p:spPr>
            <a:xfrm>
              <a:off x="181368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Times New Roman"/>
              </a:endParaRPr>
            </a:p>
          </p:txBody>
        </p:sp>
        <p:sp>
          <p:nvSpPr>
            <p:cNvPr id="1121" name=""/>
            <p:cNvSpPr/>
            <p:nvPr/>
          </p:nvSpPr>
          <p:spPr>
            <a:xfrm>
              <a:off x="2692440" y="4705200"/>
              <a:ext cx="77760" cy="86040"/>
            </a:xfrm>
            <a:prstGeom prst="star5">
              <a:avLst/>
            </a:prstGeom>
            <a:solidFill>
              <a:srgbClr val="ff0000"/>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122" name=""/>
            <p:cNvSpPr/>
            <p:nvPr/>
          </p:nvSpPr>
          <p:spPr>
            <a:xfrm>
              <a:off x="1871640" y="1378080"/>
              <a:ext cx="1241280" cy="1137960"/>
            </a:xfrm>
            <a:custGeom>
              <a:avLst/>
              <a:gdLst/>
              <a:ahLst/>
              <a:rect l="l" t="t" r="r" b="b"/>
              <a:pathLst>
                <a:path w="782" h="717">
                  <a:moveTo>
                    <a:pt x="759" y="716"/>
                  </a:moveTo>
                  <a:lnTo>
                    <a:pt x="755" y="703"/>
                  </a:lnTo>
                  <a:lnTo>
                    <a:pt x="755" y="690"/>
                  </a:lnTo>
                  <a:lnTo>
                    <a:pt x="759" y="677"/>
                  </a:lnTo>
                  <a:lnTo>
                    <a:pt x="763" y="664"/>
                  </a:lnTo>
                  <a:lnTo>
                    <a:pt x="772" y="651"/>
                  </a:lnTo>
                  <a:lnTo>
                    <a:pt x="772" y="637"/>
                  </a:lnTo>
                  <a:lnTo>
                    <a:pt x="772" y="624"/>
                  </a:lnTo>
                  <a:lnTo>
                    <a:pt x="772" y="611"/>
                  </a:lnTo>
                  <a:lnTo>
                    <a:pt x="777" y="576"/>
                  </a:lnTo>
                  <a:lnTo>
                    <a:pt x="781" y="563"/>
                  </a:lnTo>
                  <a:lnTo>
                    <a:pt x="781" y="550"/>
                  </a:lnTo>
                  <a:lnTo>
                    <a:pt x="772" y="511"/>
                  </a:lnTo>
                  <a:lnTo>
                    <a:pt x="768" y="498"/>
                  </a:lnTo>
                  <a:lnTo>
                    <a:pt x="763" y="485"/>
                  </a:lnTo>
                  <a:lnTo>
                    <a:pt x="763" y="472"/>
                  </a:lnTo>
                  <a:lnTo>
                    <a:pt x="763" y="459"/>
                  </a:lnTo>
                  <a:lnTo>
                    <a:pt x="763" y="445"/>
                  </a:lnTo>
                  <a:lnTo>
                    <a:pt x="759" y="432"/>
                  </a:lnTo>
                  <a:lnTo>
                    <a:pt x="750" y="419"/>
                  </a:lnTo>
                  <a:lnTo>
                    <a:pt x="750" y="406"/>
                  </a:lnTo>
                  <a:lnTo>
                    <a:pt x="750" y="393"/>
                  </a:lnTo>
                  <a:lnTo>
                    <a:pt x="750" y="380"/>
                  </a:lnTo>
                  <a:lnTo>
                    <a:pt x="750" y="367"/>
                  </a:lnTo>
                  <a:lnTo>
                    <a:pt x="742" y="354"/>
                  </a:lnTo>
                  <a:lnTo>
                    <a:pt x="737" y="341"/>
                  </a:lnTo>
                  <a:lnTo>
                    <a:pt x="737" y="328"/>
                  </a:lnTo>
                  <a:lnTo>
                    <a:pt x="733" y="315"/>
                  </a:lnTo>
                  <a:lnTo>
                    <a:pt x="733" y="301"/>
                  </a:lnTo>
                  <a:lnTo>
                    <a:pt x="733" y="271"/>
                  </a:lnTo>
                  <a:lnTo>
                    <a:pt x="733" y="236"/>
                  </a:lnTo>
                  <a:lnTo>
                    <a:pt x="733" y="201"/>
                  </a:lnTo>
                  <a:lnTo>
                    <a:pt x="733" y="171"/>
                  </a:lnTo>
                  <a:lnTo>
                    <a:pt x="733" y="157"/>
                  </a:lnTo>
                  <a:lnTo>
                    <a:pt x="733" y="144"/>
                  </a:lnTo>
                  <a:lnTo>
                    <a:pt x="733" y="131"/>
                  </a:lnTo>
                  <a:lnTo>
                    <a:pt x="729" y="118"/>
                  </a:lnTo>
                  <a:lnTo>
                    <a:pt x="729" y="105"/>
                  </a:lnTo>
                  <a:lnTo>
                    <a:pt x="729" y="92"/>
                  </a:lnTo>
                  <a:lnTo>
                    <a:pt x="724" y="79"/>
                  </a:lnTo>
                  <a:lnTo>
                    <a:pt x="724" y="66"/>
                  </a:lnTo>
                  <a:lnTo>
                    <a:pt x="720" y="53"/>
                  </a:lnTo>
                  <a:lnTo>
                    <a:pt x="720" y="40"/>
                  </a:lnTo>
                  <a:lnTo>
                    <a:pt x="715" y="27"/>
                  </a:lnTo>
                  <a:lnTo>
                    <a:pt x="711" y="13"/>
                  </a:lnTo>
                  <a:lnTo>
                    <a:pt x="698" y="9"/>
                  </a:lnTo>
                  <a:lnTo>
                    <a:pt x="685" y="5"/>
                  </a:lnTo>
                  <a:lnTo>
                    <a:pt x="672" y="5"/>
                  </a:lnTo>
                  <a:lnTo>
                    <a:pt x="659" y="0"/>
                  </a:lnTo>
                  <a:lnTo>
                    <a:pt x="646" y="0"/>
                  </a:lnTo>
                  <a:lnTo>
                    <a:pt x="633" y="0"/>
                  </a:lnTo>
                  <a:lnTo>
                    <a:pt x="619" y="0"/>
                  </a:lnTo>
                  <a:lnTo>
                    <a:pt x="606" y="0"/>
                  </a:lnTo>
                  <a:lnTo>
                    <a:pt x="593" y="0"/>
                  </a:lnTo>
                  <a:lnTo>
                    <a:pt x="580" y="0"/>
                  </a:lnTo>
                  <a:lnTo>
                    <a:pt x="567" y="0"/>
                  </a:lnTo>
                  <a:lnTo>
                    <a:pt x="554" y="0"/>
                  </a:lnTo>
                  <a:lnTo>
                    <a:pt x="541" y="0"/>
                  </a:lnTo>
                  <a:lnTo>
                    <a:pt x="528" y="0"/>
                  </a:lnTo>
                  <a:lnTo>
                    <a:pt x="515" y="0"/>
                  </a:lnTo>
                  <a:lnTo>
                    <a:pt x="506" y="13"/>
                  </a:lnTo>
                  <a:lnTo>
                    <a:pt x="506" y="27"/>
                  </a:lnTo>
                  <a:lnTo>
                    <a:pt x="506" y="40"/>
                  </a:lnTo>
                  <a:lnTo>
                    <a:pt x="506" y="53"/>
                  </a:lnTo>
                  <a:lnTo>
                    <a:pt x="506" y="66"/>
                  </a:lnTo>
                  <a:lnTo>
                    <a:pt x="506" y="79"/>
                  </a:lnTo>
                  <a:lnTo>
                    <a:pt x="506" y="92"/>
                  </a:lnTo>
                  <a:lnTo>
                    <a:pt x="506" y="105"/>
                  </a:lnTo>
                  <a:lnTo>
                    <a:pt x="502" y="118"/>
                  </a:lnTo>
                  <a:lnTo>
                    <a:pt x="502" y="131"/>
                  </a:lnTo>
                  <a:lnTo>
                    <a:pt x="497" y="144"/>
                  </a:lnTo>
                  <a:lnTo>
                    <a:pt x="497" y="157"/>
                  </a:lnTo>
                  <a:lnTo>
                    <a:pt x="493" y="171"/>
                  </a:lnTo>
                  <a:lnTo>
                    <a:pt x="493" y="184"/>
                  </a:lnTo>
                  <a:lnTo>
                    <a:pt x="493" y="197"/>
                  </a:lnTo>
                  <a:lnTo>
                    <a:pt x="489" y="210"/>
                  </a:lnTo>
                  <a:lnTo>
                    <a:pt x="489" y="223"/>
                  </a:lnTo>
                  <a:lnTo>
                    <a:pt x="484" y="236"/>
                  </a:lnTo>
                  <a:lnTo>
                    <a:pt x="480" y="249"/>
                  </a:lnTo>
                  <a:lnTo>
                    <a:pt x="475" y="262"/>
                  </a:lnTo>
                  <a:lnTo>
                    <a:pt x="467" y="275"/>
                  </a:lnTo>
                  <a:lnTo>
                    <a:pt x="454" y="284"/>
                  </a:lnTo>
                  <a:lnTo>
                    <a:pt x="441" y="293"/>
                  </a:lnTo>
                  <a:lnTo>
                    <a:pt x="427" y="301"/>
                  </a:lnTo>
                  <a:lnTo>
                    <a:pt x="414" y="301"/>
                  </a:lnTo>
                  <a:lnTo>
                    <a:pt x="401" y="310"/>
                  </a:lnTo>
                  <a:lnTo>
                    <a:pt x="388" y="315"/>
                  </a:lnTo>
                  <a:lnTo>
                    <a:pt x="375" y="319"/>
                  </a:lnTo>
                  <a:lnTo>
                    <a:pt x="362" y="332"/>
                  </a:lnTo>
                  <a:lnTo>
                    <a:pt x="349" y="341"/>
                  </a:lnTo>
                  <a:lnTo>
                    <a:pt x="314" y="349"/>
                  </a:lnTo>
                  <a:lnTo>
                    <a:pt x="301" y="358"/>
                  </a:lnTo>
                  <a:lnTo>
                    <a:pt x="288" y="367"/>
                  </a:lnTo>
                  <a:lnTo>
                    <a:pt x="275" y="367"/>
                  </a:lnTo>
                  <a:lnTo>
                    <a:pt x="262" y="367"/>
                  </a:lnTo>
                  <a:lnTo>
                    <a:pt x="249" y="367"/>
                  </a:lnTo>
                  <a:lnTo>
                    <a:pt x="244" y="354"/>
                  </a:lnTo>
                  <a:lnTo>
                    <a:pt x="235" y="341"/>
                  </a:lnTo>
                  <a:lnTo>
                    <a:pt x="222" y="332"/>
                  </a:lnTo>
                  <a:lnTo>
                    <a:pt x="209" y="323"/>
                  </a:lnTo>
                  <a:lnTo>
                    <a:pt x="196" y="319"/>
                  </a:lnTo>
                  <a:lnTo>
                    <a:pt x="183" y="319"/>
                  </a:lnTo>
                  <a:lnTo>
                    <a:pt x="170" y="319"/>
                  </a:lnTo>
                  <a:lnTo>
                    <a:pt x="157" y="319"/>
                  </a:lnTo>
                  <a:lnTo>
                    <a:pt x="144" y="319"/>
                  </a:lnTo>
                  <a:lnTo>
                    <a:pt x="131" y="319"/>
                  </a:lnTo>
                  <a:lnTo>
                    <a:pt x="118" y="319"/>
                  </a:lnTo>
                  <a:lnTo>
                    <a:pt x="105" y="319"/>
                  </a:lnTo>
                  <a:lnTo>
                    <a:pt x="91" y="323"/>
                  </a:lnTo>
                  <a:lnTo>
                    <a:pt x="78" y="328"/>
                  </a:lnTo>
                  <a:lnTo>
                    <a:pt x="65" y="328"/>
                  </a:lnTo>
                  <a:lnTo>
                    <a:pt x="52" y="328"/>
                  </a:lnTo>
                  <a:lnTo>
                    <a:pt x="39" y="328"/>
                  </a:lnTo>
                  <a:lnTo>
                    <a:pt x="26" y="323"/>
                  </a:lnTo>
                  <a:lnTo>
                    <a:pt x="13" y="315"/>
                  </a:lnTo>
                  <a:lnTo>
                    <a:pt x="0" y="3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3006720" y="111240"/>
              <a:ext cx="320760" cy="1296720"/>
            </a:xfrm>
            <a:custGeom>
              <a:avLst/>
              <a:gdLst/>
              <a:ahLst/>
              <a:rect l="l" t="t" r="r" b="b"/>
              <a:pathLst>
                <a:path w="202" h="817">
                  <a:moveTo>
                    <a:pt x="0" y="816"/>
                  </a:moveTo>
                  <a:lnTo>
                    <a:pt x="0" y="803"/>
                  </a:lnTo>
                  <a:lnTo>
                    <a:pt x="0" y="790"/>
                  </a:lnTo>
                  <a:lnTo>
                    <a:pt x="0" y="777"/>
                  </a:lnTo>
                  <a:lnTo>
                    <a:pt x="0" y="763"/>
                  </a:lnTo>
                  <a:lnTo>
                    <a:pt x="0" y="750"/>
                  </a:lnTo>
                  <a:lnTo>
                    <a:pt x="9" y="737"/>
                  </a:lnTo>
                  <a:lnTo>
                    <a:pt x="22" y="733"/>
                  </a:lnTo>
                  <a:lnTo>
                    <a:pt x="31" y="720"/>
                  </a:lnTo>
                  <a:lnTo>
                    <a:pt x="35" y="707"/>
                  </a:lnTo>
                  <a:lnTo>
                    <a:pt x="44" y="694"/>
                  </a:lnTo>
                  <a:lnTo>
                    <a:pt x="57" y="681"/>
                  </a:lnTo>
                  <a:lnTo>
                    <a:pt x="66" y="667"/>
                  </a:lnTo>
                  <a:lnTo>
                    <a:pt x="79" y="659"/>
                  </a:lnTo>
                  <a:lnTo>
                    <a:pt x="83" y="646"/>
                  </a:lnTo>
                  <a:lnTo>
                    <a:pt x="83" y="633"/>
                  </a:lnTo>
                  <a:lnTo>
                    <a:pt x="96" y="619"/>
                  </a:lnTo>
                  <a:lnTo>
                    <a:pt x="127" y="615"/>
                  </a:lnTo>
                  <a:lnTo>
                    <a:pt x="131" y="602"/>
                  </a:lnTo>
                  <a:lnTo>
                    <a:pt x="131" y="571"/>
                  </a:lnTo>
                  <a:lnTo>
                    <a:pt x="131" y="558"/>
                  </a:lnTo>
                  <a:lnTo>
                    <a:pt x="131" y="545"/>
                  </a:lnTo>
                  <a:lnTo>
                    <a:pt x="131" y="532"/>
                  </a:lnTo>
                  <a:lnTo>
                    <a:pt x="136" y="519"/>
                  </a:lnTo>
                  <a:lnTo>
                    <a:pt x="140" y="506"/>
                  </a:lnTo>
                  <a:lnTo>
                    <a:pt x="144" y="493"/>
                  </a:lnTo>
                  <a:lnTo>
                    <a:pt x="149" y="480"/>
                  </a:lnTo>
                  <a:lnTo>
                    <a:pt x="153" y="449"/>
                  </a:lnTo>
                  <a:lnTo>
                    <a:pt x="158" y="436"/>
                  </a:lnTo>
                  <a:lnTo>
                    <a:pt x="162" y="423"/>
                  </a:lnTo>
                  <a:lnTo>
                    <a:pt x="166" y="410"/>
                  </a:lnTo>
                  <a:lnTo>
                    <a:pt x="153" y="406"/>
                  </a:lnTo>
                  <a:lnTo>
                    <a:pt x="140" y="401"/>
                  </a:lnTo>
                  <a:lnTo>
                    <a:pt x="127" y="397"/>
                  </a:lnTo>
                  <a:lnTo>
                    <a:pt x="114" y="393"/>
                  </a:lnTo>
                  <a:lnTo>
                    <a:pt x="101" y="388"/>
                  </a:lnTo>
                  <a:lnTo>
                    <a:pt x="92" y="375"/>
                  </a:lnTo>
                  <a:lnTo>
                    <a:pt x="92" y="362"/>
                  </a:lnTo>
                  <a:lnTo>
                    <a:pt x="92" y="349"/>
                  </a:lnTo>
                  <a:lnTo>
                    <a:pt x="92" y="336"/>
                  </a:lnTo>
                  <a:lnTo>
                    <a:pt x="92" y="323"/>
                  </a:lnTo>
                  <a:lnTo>
                    <a:pt x="92" y="310"/>
                  </a:lnTo>
                  <a:lnTo>
                    <a:pt x="92" y="297"/>
                  </a:lnTo>
                  <a:lnTo>
                    <a:pt x="92" y="283"/>
                  </a:lnTo>
                  <a:lnTo>
                    <a:pt x="96" y="270"/>
                  </a:lnTo>
                  <a:lnTo>
                    <a:pt x="96" y="257"/>
                  </a:lnTo>
                  <a:lnTo>
                    <a:pt x="101" y="244"/>
                  </a:lnTo>
                  <a:lnTo>
                    <a:pt x="110" y="231"/>
                  </a:lnTo>
                  <a:lnTo>
                    <a:pt x="114" y="218"/>
                  </a:lnTo>
                  <a:lnTo>
                    <a:pt x="127" y="209"/>
                  </a:lnTo>
                  <a:lnTo>
                    <a:pt x="140" y="201"/>
                  </a:lnTo>
                  <a:lnTo>
                    <a:pt x="149" y="187"/>
                  </a:lnTo>
                  <a:lnTo>
                    <a:pt x="158" y="174"/>
                  </a:lnTo>
                  <a:lnTo>
                    <a:pt x="166" y="161"/>
                  </a:lnTo>
                  <a:lnTo>
                    <a:pt x="171" y="148"/>
                  </a:lnTo>
                  <a:lnTo>
                    <a:pt x="179" y="135"/>
                  </a:lnTo>
                  <a:lnTo>
                    <a:pt x="184" y="100"/>
                  </a:lnTo>
                  <a:lnTo>
                    <a:pt x="184" y="70"/>
                  </a:lnTo>
                  <a:lnTo>
                    <a:pt x="188" y="39"/>
                  </a:lnTo>
                  <a:lnTo>
                    <a:pt x="192" y="26"/>
                  </a:lnTo>
                  <a:lnTo>
                    <a:pt x="201" y="13"/>
                  </a:lnTo>
                  <a:lnTo>
                    <a:pt x="20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rot="17100000">
              <a:off x="1659240" y="781200"/>
              <a:ext cx="1638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banon</a:t>
              </a:r>
              <a:endParaRPr b="0" lang="en-US" sz="2800" spc="-1" strike="noStrike">
                <a:solidFill>
                  <a:srgbClr val="ffffff"/>
                </a:solidFill>
                <a:latin typeface="Times New Roman"/>
              </a:endParaRPr>
            </a:p>
          </p:txBody>
        </p:sp>
        <p:sp>
          <p:nvSpPr>
            <p:cNvPr id="1125" name=""/>
            <p:cNvSpPr/>
            <p:nvPr/>
          </p:nvSpPr>
          <p:spPr>
            <a:xfrm>
              <a:off x="3323520" y="1327320"/>
              <a:ext cx="111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yria</a:t>
              </a:r>
              <a:endParaRPr b="0" lang="en-US" sz="3200" spc="-1" strike="noStrike">
                <a:solidFill>
                  <a:srgbClr val="ffffff"/>
                </a:solidFill>
                <a:latin typeface="Times New Roman"/>
              </a:endParaRPr>
            </a:p>
          </p:txBody>
        </p:sp>
        <p:sp>
          <p:nvSpPr>
            <p:cNvPr id="1126" name=""/>
            <p:cNvSpPr/>
            <p:nvPr/>
          </p:nvSpPr>
          <p:spPr>
            <a:xfrm>
              <a:off x="1400040" y="6056280"/>
              <a:ext cx="189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gev(Negeb)</a:t>
              </a:r>
              <a:endParaRPr b="0" lang="en-US" sz="2000" spc="-1" strike="noStrike">
                <a:solidFill>
                  <a:srgbClr val="ffffff"/>
                </a:solidFill>
                <a:latin typeface="Times New Roman"/>
              </a:endParaRPr>
            </a:p>
          </p:txBody>
        </p:sp>
        <p:sp>
          <p:nvSpPr>
            <p:cNvPr id="1127" name=""/>
            <p:cNvSpPr/>
            <p:nvPr/>
          </p:nvSpPr>
          <p:spPr>
            <a:xfrm rot="17160000">
              <a:off x="-217440" y="156168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Times New Roman"/>
              </a:endParaRPr>
            </a:p>
          </p:txBody>
        </p:sp>
        <p:sp>
          <p:nvSpPr>
            <p:cNvPr id="1128" name=""/>
            <p:cNvSpPr/>
            <p:nvPr/>
          </p:nvSpPr>
          <p:spPr>
            <a:xfrm rot="16680000">
              <a:off x="2654640" y="5103720"/>
              <a:ext cx="98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Times New Roman"/>
              </a:endParaRPr>
            </a:p>
          </p:txBody>
        </p:sp>
        <p:sp>
          <p:nvSpPr>
            <p:cNvPr id="1129" name=""/>
            <p:cNvSpPr/>
            <p:nvPr/>
          </p:nvSpPr>
          <p:spPr>
            <a:xfrm rot="16500000">
              <a:off x="272484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Times New Roman"/>
              </a:endParaRPr>
            </a:p>
          </p:txBody>
        </p:sp>
        <p:sp>
          <p:nvSpPr>
            <p:cNvPr id="1130" name=""/>
            <p:cNvSpPr/>
            <p:nvPr/>
          </p:nvSpPr>
          <p:spPr>
            <a:xfrm rot="16200000">
              <a:off x="266868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Times New Roman"/>
              </a:endParaRPr>
            </a:p>
          </p:txBody>
        </p:sp>
        <p:sp>
          <p:nvSpPr>
            <p:cNvPr id="1131" name=""/>
            <p:cNvSpPr/>
            <p:nvPr/>
          </p:nvSpPr>
          <p:spPr>
            <a:xfrm rot="16200000">
              <a:off x="271728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Times New Roman"/>
              </a:endParaRPr>
            </a:p>
          </p:txBody>
        </p:sp>
      </p:grpSp>
      <p:sp>
        <p:nvSpPr>
          <p:cNvPr id="1132" name="PlaceHolder 1"/>
          <p:cNvSpPr>
            <a:spLocks noGrp="1"/>
          </p:cNvSpPr>
          <p:nvPr>
            <p:ph type="title"/>
          </p:nvPr>
        </p:nvSpPr>
        <p:spPr>
          <a:xfrm>
            <a:off x="7696080" y="609480"/>
            <a:ext cx="1200240" cy="285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Modern Israel</a:t>
            </a:r>
            <a:endParaRPr b="1" lang="en-US" sz="100" spc="-1" strike="noStrike" u="sng">
              <a:solidFill>
                <a:srgbClr val="c0fef9"/>
              </a:solidFill>
              <a:uFillTx/>
              <a:latin typeface="Times New Roman"/>
            </a:endParaRPr>
          </a:p>
        </p:txBody>
      </p:sp>
      <p:sp>
        <p:nvSpPr>
          <p:cNvPr id="1133"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134" name=""/>
          <p:cNvGrpSpPr/>
          <p:nvPr/>
        </p:nvGrpSpPr>
        <p:grpSpPr>
          <a:xfrm>
            <a:off x="771480" y="365040"/>
            <a:ext cx="8372520" cy="6588000"/>
            <a:chOff x="771480" y="365040"/>
            <a:chExt cx="8372520" cy="6588000"/>
          </a:xfrm>
        </p:grpSpPr>
        <p:pic>
          <p:nvPicPr>
            <p:cNvPr id="1135" name="" descr=""/>
            <p:cNvPicPr/>
            <p:nvPr/>
          </p:nvPicPr>
          <p:blipFill>
            <a:blip r:embed="rId1"/>
            <a:stretch/>
          </p:blipFill>
          <p:spPr>
            <a:xfrm>
              <a:off x="771480" y="365040"/>
              <a:ext cx="8372520" cy="6492960"/>
            </a:xfrm>
            <a:prstGeom prst="rect">
              <a:avLst/>
            </a:prstGeom>
            <a:ln w="0">
              <a:noFill/>
            </a:ln>
          </p:spPr>
        </p:pic>
        <p:sp>
          <p:nvSpPr>
            <p:cNvPr id="1136" name=""/>
            <p:cNvSpPr/>
            <p:nvPr/>
          </p:nvSpPr>
          <p:spPr>
            <a:xfrm>
              <a:off x="771480" y="6224760"/>
              <a:ext cx="19702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Pho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BibleTeacher.com  </a:t>
              </a:r>
              <a:endParaRPr b="0" lang="en-US" sz="1400" spc="-1" strike="noStrike">
                <a:solidFill>
                  <a:srgbClr val="ffffff"/>
                </a:solidFill>
                <a:latin typeface="Times New Roman"/>
              </a:endParaRPr>
            </a:p>
          </p:txBody>
        </p:sp>
      </p:grpSp>
      <p:sp>
        <p:nvSpPr>
          <p:cNvPr id="1137" name=""/>
          <p:cNvSpPr/>
          <p:nvPr/>
        </p:nvSpPr>
        <p:spPr>
          <a:xfrm>
            <a:off x="367920" y="0"/>
            <a:ext cx="479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Use this to Make your own map.</a:t>
            </a:r>
            <a:endParaRPr b="0" lang="en-US" sz="2400" spc="-1" strike="noStrike">
              <a:solidFill>
                <a:srgbClr val="ffffff"/>
              </a:solidFill>
              <a:latin typeface="Times New Roman"/>
            </a:endParaRPr>
          </a:p>
        </p:txBody>
      </p:sp>
      <p:sp>
        <p:nvSpPr>
          <p:cNvPr id="1138" name="PlaceHolder 1"/>
          <p:cNvSpPr>
            <a:spLocks noGrp="1"/>
          </p:cNvSpPr>
          <p:nvPr>
            <p:ph type="title"/>
          </p:nvPr>
        </p:nvSpPr>
        <p:spPr>
          <a:xfrm>
            <a:off x="8038800" y="609480"/>
            <a:ext cx="85716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Sinai/Egypt Blank Map</a:t>
            </a:r>
            <a:endParaRPr b="1" lang="en-US" sz="100" spc="-1" strike="noStrike" u="sng">
              <a:solidFill>
                <a:srgbClr val="c0fef9"/>
              </a:solidFill>
              <a:uFillTx/>
              <a:latin typeface="Times New Roman"/>
            </a:endParaRPr>
          </a:p>
        </p:txBody>
      </p:sp>
      <p:sp>
        <p:nvSpPr>
          <p:cNvPr id="1139"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140" name=""/>
          <p:cNvGrpSpPr/>
          <p:nvPr/>
        </p:nvGrpSpPr>
        <p:grpSpPr>
          <a:xfrm>
            <a:off x="765000" y="0"/>
            <a:ext cx="5362920" cy="6898320"/>
            <a:chOff x="765000" y="0"/>
            <a:chExt cx="5362920" cy="6898320"/>
          </a:xfrm>
        </p:grpSpPr>
        <p:pic>
          <p:nvPicPr>
            <p:cNvPr id="1141" name="" descr=""/>
            <p:cNvPicPr/>
            <p:nvPr/>
          </p:nvPicPr>
          <p:blipFill>
            <a:blip r:embed="rId1">
              <a:lum bright="-6000"/>
            </a:blip>
            <a:srcRect l="1058" t="18878" r="9384" b="3960"/>
            <a:stretch/>
          </p:blipFill>
          <p:spPr>
            <a:xfrm>
              <a:off x="765000" y="0"/>
              <a:ext cx="5362920" cy="6835680"/>
            </a:xfrm>
            <a:prstGeom prst="rect">
              <a:avLst/>
            </a:prstGeom>
            <a:ln w="0">
              <a:noFill/>
            </a:ln>
          </p:spPr>
        </p:pic>
        <p:sp>
          <p:nvSpPr>
            <p:cNvPr id="1142" name=""/>
            <p:cNvSpPr/>
            <p:nvPr/>
          </p:nvSpPr>
          <p:spPr>
            <a:xfrm>
              <a:off x="4611600" y="6566040"/>
              <a:ext cx="1513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 PHOTO</a:t>
              </a:r>
              <a:endParaRPr b="0" lang="en-US" sz="1600" spc="-1" strike="noStrike">
                <a:solidFill>
                  <a:srgbClr val="ffffff"/>
                </a:solidFill>
                <a:latin typeface="Times New Roman"/>
              </a:endParaRPr>
            </a:p>
          </p:txBody>
        </p:sp>
        <p:sp>
          <p:nvSpPr>
            <p:cNvPr id="1143" name=""/>
            <p:cNvSpPr/>
            <p:nvPr/>
          </p:nvSpPr>
          <p:spPr>
            <a:xfrm>
              <a:off x="888840" y="6634080"/>
              <a:ext cx="2390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BibleTeacher.com  </a:t>
              </a:r>
              <a:endParaRPr b="0" lang="en-US" sz="1000" spc="-1" strike="noStrike">
                <a:solidFill>
                  <a:srgbClr val="ffffff"/>
                </a:solidFill>
                <a:latin typeface="Times New Roman"/>
              </a:endParaRPr>
            </a:p>
          </p:txBody>
        </p:sp>
      </p:grpSp>
      <p:sp>
        <p:nvSpPr>
          <p:cNvPr id="1144" name=""/>
          <p:cNvSpPr/>
          <p:nvPr/>
        </p:nvSpPr>
        <p:spPr>
          <a:xfrm>
            <a:off x="6386400" y="2257560"/>
            <a:ext cx="2679840" cy="155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this to Make your own map.</a:t>
            </a:r>
            <a:endParaRPr b="0" lang="en-US" sz="3200" spc="-1" strike="noStrike">
              <a:solidFill>
                <a:srgbClr val="ffffff"/>
              </a:solidFill>
              <a:latin typeface="Times New Roman"/>
            </a:endParaRPr>
          </a:p>
        </p:txBody>
      </p:sp>
      <p:sp>
        <p:nvSpPr>
          <p:cNvPr id="1145" name="PlaceHolder 1"/>
          <p:cNvSpPr>
            <a:spLocks noGrp="1"/>
          </p:cNvSpPr>
          <p:nvPr>
            <p:ph type="title"/>
          </p:nvPr>
        </p:nvSpPr>
        <p:spPr>
          <a:xfrm>
            <a:off x="7981920" y="609120"/>
            <a:ext cx="914400" cy="171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Israel Blank Map</a:t>
            </a:r>
            <a:endParaRPr b="1" lang="en-US" sz="100" spc="-1" strike="noStrike" u="sng">
              <a:solidFill>
                <a:srgbClr val="c0fef9"/>
              </a:solidFill>
              <a:uFillTx/>
              <a:latin typeface="Times New Roman"/>
            </a:endParaRPr>
          </a:p>
        </p:txBody>
      </p:sp>
      <p:sp>
        <p:nvSpPr>
          <p:cNvPr id="1146"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147" name=""/>
          <p:cNvGrpSpPr/>
          <p:nvPr/>
        </p:nvGrpSpPr>
        <p:grpSpPr>
          <a:xfrm>
            <a:off x="0" y="590400"/>
            <a:ext cx="9144000" cy="6276960"/>
            <a:chOff x="0" y="590400"/>
            <a:chExt cx="9144000" cy="6276960"/>
          </a:xfrm>
        </p:grpSpPr>
        <p:grpSp>
          <p:nvGrpSpPr>
            <p:cNvPr id="1148" name=""/>
            <p:cNvGrpSpPr/>
            <p:nvPr/>
          </p:nvGrpSpPr>
          <p:grpSpPr>
            <a:xfrm>
              <a:off x="0" y="590400"/>
              <a:ext cx="9144000" cy="6267600"/>
              <a:chOff x="0" y="590400"/>
              <a:chExt cx="9144000" cy="6267600"/>
            </a:xfrm>
          </p:grpSpPr>
          <p:grpSp>
            <p:nvGrpSpPr>
              <p:cNvPr id="1149" name=""/>
              <p:cNvGrpSpPr/>
              <p:nvPr/>
            </p:nvGrpSpPr>
            <p:grpSpPr>
              <a:xfrm>
                <a:off x="0" y="590400"/>
                <a:ext cx="9144000" cy="6267600"/>
                <a:chOff x="0" y="590400"/>
                <a:chExt cx="9144000" cy="6267600"/>
              </a:xfrm>
            </p:grpSpPr>
            <p:sp>
              <p:nvSpPr>
                <p:cNvPr id="1150" name=""/>
                <p:cNvSpPr/>
                <p:nvPr/>
              </p:nvSpPr>
              <p:spPr>
                <a:xfrm>
                  <a:off x="685800" y="590400"/>
                  <a:ext cx="8381880" cy="1162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Book Antiqua"/>
                    </a:rPr>
                    <a:t>Click to add title</a:t>
                  </a:r>
                  <a:endParaRPr b="0" lang="en-US" sz="5400" spc="-1" strike="noStrike">
                    <a:solidFill>
                      <a:srgbClr val="ffffff"/>
                    </a:solidFill>
                    <a:latin typeface="Times New Roman"/>
                  </a:endParaRPr>
                </a:p>
              </p:txBody>
            </p:sp>
            <p:sp>
              <p:nvSpPr>
                <p:cNvPr id="1151" name=""/>
                <p:cNvSpPr/>
                <p:nvPr/>
              </p:nvSpPr>
              <p:spPr>
                <a:xfrm>
                  <a:off x="762120" y="1981080"/>
                  <a:ext cx="8305560" cy="4133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c0fe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add text</a:t>
                  </a:r>
                  <a:endParaRPr b="0" lang="en-US" sz="3600" spc="-1" strike="noStrike">
                    <a:solidFill>
                      <a:srgbClr val="ffffff"/>
                    </a:solidFill>
                    <a:latin typeface="Times New Roman"/>
                  </a:endParaRPr>
                </a:p>
              </p:txBody>
            </p:sp>
            <p:sp>
              <p:nvSpPr>
                <p:cNvPr id="1152" name=""/>
                <p:cNvSpPr/>
                <p:nvPr/>
              </p:nvSpPr>
              <p:spPr>
                <a:xfrm>
                  <a:off x="4816440" y="2925720"/>
                  <a:ext cx="4680" cy="13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flipH="1" flipV="1">
                  <a:off x="4816080" y="2868480"/>
                  <a:ext cx="196920" cy="52560"/>
                </a:xfrm>
                <a:prstGeom prst="line">
                  <a:avLst/>
                </a:prstGeom>
                <a:ln w="50760">
                  <a:solidFill>
                    <a:srgbClr val="fafd00"/>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1154" name=""/>
                <p:cNvSpPr/>
                <p:nvPr/>
              </p:nvSpPr>
              <p:spPr>
                <a:xfrm>
                  <a:off x="88920" y="851040"/>
                  <a:ext cx="9055080" cy="60069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2881080" y="3384720"/>
                  <a:ext cx="1161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Narrow"/>
                    </a:rPr>
                    <a:t>Israel</a:t>
                  </a:r>
                  <a:endParaRPr b="0" lang="en-US" sz="3600" spc="-1" strike="noStrike">
                    <a:solidFill>
                      <a:srgbClr val="ffffff"/>
                    </a:solidFill>
                    <a:latin typeface="Times New Roman"/>
                  </a:endParaRPr>
                </a:p>
              </p:txBody>
            </p:sp>
            <p:sp>
              <p:nvSpPr>
                <p:cNvPr id="1156" name=""/>
                <p:cNvSpPr/>
                <p:nvPr/>
              </p:nvSpPr>
              <p:spPr>
                <a:xfrm>
                  <a:off x="0" y="762120"/>
                  <a:ext cx="6512040" cy="4092480"/>
                </a:xfrm>
                <a:custGeom>
                  <a:avLst/>
                  <a:gdLst/>
                  <a:ahLst/>
                  <a:rect l="l" t="t" r="r" b="b"/>
                  <a:pathLst>
                    <a:path w="4102" h="2578">
                      <a:moveTo>
                        <a:pt x="720" y="0"/>
                      </a:moveTo>
                      <a:lnTo>
                        <a:pt x="751" y="31"/>
                      </a:lnTo>
                      <a:lnTo>
                        <a:pt x="772" y="63"/>
                      </a:lnTo>
                      <a:lnTo>
                        <a:pt x="803" y="83"/>
                      </a:lnTo>
                      <a:lnTo>
                        <a:pt x="824" y="115"/>
                      </a:lnTo>
                      <a:lnTo>
                        <a:pt x="845" y="146"/>
                      </a:lnTo>
                      <a:lnTo>
                        <a:pt x="856" y="177"/>
                      </a:lnTo>
                      <a:lnTo>
                        <a:pt x="866" y="209"/>
                      </a:lnTo>
                      <a:lnTo>
                        <a:pt x="877" y="240"/>
                      </a:lnTo>
                      <a:lnTo>
                        <a:pt x="877" y="271"/>
                      </a:lnTo>
                      <a:lnTo>
                        <a:pt x="877" y="303"/>
                      </a:lnTo>
                      <a:lnTo>
                        <a:pt x="877" y="334"/>
                      </a:lnTo>
                      <a:lnTo>
                        <a:pt x="877" y="365"/>
                      </a:lnTo>
                      <a:lnTo>
                        <a:pt x="866" y="397"/>
                      </a:lnTo>
                      <a:lnTo>
                        <a:pt x="866" y="428"/>
                      </a:lnTo>
                      <a:lnTo>
                        <a:pt x="866" y="459"/>
                      </a:lnTo>
                      <a:lnTo>
                        <a:pt x="866" y="490"/>
                      </a:lnTo>
                      <a:lnTo>
                        <a:pt x="866" y="522"/>
                      </a:lnTo>
                      <a:lnTo>
                        <a:pt x="845" y="553"/>
                      </a:lnTo>
                      <a:lnTo>
                        <a:pt x="814" y="574"/>
                      </a:lnTo>
                      <a:lnTo>
                        <a:pt x="793" y="605"/>
                      </a:lnTo>
                      <a:lnTo>
                        <a:pt x="772" y="637"/>
                      </a:lnTo>
                      <a:lnTo>
                        <a:pt x="741" y="657"/>
                      </a:lnTo>
                      <a:lnTo>
                        <a:pt x="710" y="637"/>
                      </a:lnTo>
                      <a:lnTo>
                        <a:pt x="678" y="616"/>
                      </a:lnTo>
                      <a:lnTo>
                        <a:pt x="647" y="595"/>
                      </a:lnTo>
                      <a:lnTo>
                        <a:pt x="616" y="574"/>
                      </a:lnTo>
                      <a:lnTo>
                        <a:pt x="584" y="563"/>
                      </a:lnTo>
                      <a:lnTo>
                        <a:pt x="553" y="563"/>
                      </a:lnTo>
                      <a:lnTo>
                        <a:pt x="522" y="553"/>
                      </a:lnTo>
                      <a:lnTo>
                        <a:pt x="449" y="553"/>
                      </a:lnTo>
                      <a:lnTo>
                        <a:pt x="417" y="543"/>
                      </a:lnTo>
                      <a:lnTo>
                        <a:pt x="386" y="543"/>
                      </a:lnTo>
                      <a:lnTo>
                        <a:pt x="355" y="543"/>
                      </a:lnTo>
                      <a:lnTo>
                        <a:pt x="323" y="532"/>
                      </a:lnTo>
                      <a:lnTo>
                        <a:pt x="292" y="522"/>
                      </a:lnTo>
                      <a:lnTo>
                        <a:pt x="261" y="511"/>
                      </a:lnTo>
                      <a:lnTo>
                        <a:pt x="230" y="501"/>
                      </a:lnTo>
                      <a:lnTo>
                        <a:pt x="198" y="490"/>
                      </a:lnTo>
                      <a:lnTo>
                        <a:pt x="177" y="522"/>
                      </a:lnTo>
                      <a:lnTo>
                        <a:pt x="177" y="553"/>
                      </a:lnTo>
                      <a:lnTo>
                        <a:pt x="177" y="584"/>
                      </a:lnTo>
                      <a:lnTo>
                        <a:pt x="177" y="616"/>
                      </a:lnTo>
                      <a:lnTo>
                        <a:pt x="177" y="647"/>
                      </a:lnTo>
                      <a:lnTo>
                        <a:pt x="177" y="678"/>
                      </a:lnTo>
                      <a:lnTo>
                        <a:pt x="177" y="710"/>
                      </a:lnTo>
                      <a:lnTo>
                        <a:pt x="177" y="741"/>
                      </a:lnTo>
                      <a:lnTo>
                        <a:pt x="177" y="772"/>
                      </a:lnTo>
                      <a:lnTo>
                        <a:pt x="177" y="803"/>
                      </a:lnTo>
                      <a:lnTo>
                        <a:pt x="177" y="835"/>
                      </a:lnTo>
                      <a:lnTo>
                        <a:pt x="146" y="845"/>
                      </a:lnTo>
                      <a:lnTo>
                        <a:pt x="125" y="877"/>
                      </a:lnTo>
                      <a:lnTo>
                        <a:pt x="94" y="908"/>
                      </a:lnTo>
                      <a:lnTo>
                        <a:pt x="83" y="939"/>
                      </a:lnTo>
                      <a:lnTo>
                        <a:pt x="73" y="970"/>
                      </a:lnTo>
                      <a:lnTo>
                        <a:pt x="73" y="1002"/>
                      </a:lnTo>
                      <a:lnTo>
                        <a:pt x="73" y="1033"/>
                      </a:lnTo>
                      <a:lnTo>
                        <a:pt x="73" y="1064"/>
                      </a:lnTo>
                      <a:lnTo>
                        <a:pt x="73" y="1096"/>
                      </a:lnTo>
                      <a:lnTo>
                        <a:pt x="83" y="1127"/>
                      </a:lnTo>
                      <a:lnTo>
                        <a:pt x="83" y="1158"/>
                      </a:lnTo>
                      <a:lnTo>
                        <a:pt x="94" y="1190"/>
                      </a:lnTo>
                      <a:lnTo>
                        <a:pt x="94" y="1221"/>
                      </a:lnTo>
                      <a:lnTo>
                        <a:pt x="94" y="1252"/>
                      </a:lnTo>
                      <a:lnTo>
                        <a:pt x="94" y="1283"/>
                      </a:lnTo>
                      <a:lnTo>
                        <a:pt x="125" y="1294"/>
                      </a:lnTo>
                      <a:lnTo>
                        <a:pt x="157" y="1304"/>
                      </a:lnTo>
                      <a:lnTo>
                        <a:pt x="188" y="1304"/>
                      </a:lnTo>
                      <a:lnTo>
                        <a:pt x="209" y="1336"/>
                      </a:lnTo>
                      <a:lnTo>
                        <a:pt x="240" y="1367"/>
                      </a:lnTo>
                      <a:lnTo>
                        <a:pt x="261" y="1398"/>
                      </a:lnTo>
                      <a:lnTo>
                        <a:pt x="292" y="1409"/>
                      </a:lnTo>
                      <a:lnTo>
                        <a:pt x="323" y="1409"/>
                      </a:lnTo>
                      <a:lnTo>
                        <a:pt x="355" y="1409"/>
                      </a:lnTo>
                      <a:lnTo>
                        <a:pt x="386" y="1409"/>
                      </a:lnTo>
                      <a:lnTo>
                        <a:pt x="417" y="1409"/>
                      </a:lnTo>
                      <a:lnTo>
                        <a:pt x="449" y="1409"/>
                      </a:lnTo>
                      <a:lnTo>
                        <a:pt x="480" y="1409"/>
                      </a:lnTo>
                      <a:lnTo>
                        <a:pt x="511" y="1409"/>
                      </a:lnTo>
                      <a:lnTo>
                        <a:pt x="543" y="1409"/>
                      </a:lnTo>
                      <a:lnTo>
                        <a:pt x="574" y="1409"/>
                      </a:lnTo>
                      <a:lnTo>
                        <a:pt x="605" y="1409"/>
                      </a:lnTo>
                      <a:lnTo>
                        <a:pt x="637" y="1409"/>
                      </a:lnTo>
                      <a:lnTo>
                        <a:pt x="668" y="1409"/>
                      </a:lnTo>
                      <a:lnTo>
                        <a:pt x="689" y="1377"/>
                      </a:lnTo>
                      <a:lnTo>
                        <a:pt x="720" y="1367"/>
                      </a:lnTo>
                      <a:lnTo>
                        <a:pt x="741" y="1336"/>
                      </a:lnTo>
                      <a:lnTo>
                        <a:pt x="772" y="1315"/>
                      </a:lnTo>
                      <a:lnTo>
                        <a:pt x="803" y="1283"/>
                      </a:lnTo>
                      <a:lnTo>
                        <a:pt x="835" y="1252"/>
                      </a:lnTo>
                      <a:lnTo>
                        <a:pt x="866" y="1231"/>
                      </a:lnTo>
                      <a:lnTo>
                        <a:pt x="866" y="1200"/>
                      </a:lnTo>
                      <a:lnTo>
                        <a:pt x="866" y="1169"/>
                      </a:lnTo>
                      <a:lnTo>
                        <a:pt x="866" y="1075"/>
                      </a:lnTo>
                      <a:lnTo>
                        <a:pt x="887" y="1043"/>
                      </a:lnTo>
                      <a:lnTo>
                        <a:pt x="918" y="1033"/>
                      </a:lnTo>
                      <a:lnTo>
                        <a:pt x="950" y="1023"/>
                      </a:lnTo>
                      <a:lnTo>
                        <a:pt x="981" y="1012"/>
                      </a:lnTo>
                      <a:lnTo>
                        <a:pt x="1012" y="1002"/>
                      </a:lnTo>
                      <a:lnTo>
                        <a:pt x="1043" y="981"/>
                      </a:lnTo>
                      <a:lnTo>
                        <a:pt x="1064" y="950"/>
                      </a:lnTo>
                      <a:lnTo>
                        <a:pt x="1085" y="918"/>
                      </a:lnTo>
                      <a:lnTo>
                        <a:pt x="1096" y="887"/>
                      </a:lnTo>
                      <a:lnTo>
                        <a:pt x="1106" y="856"/>
                      </a:lnTo>
                      <a:lnTo>
                        <a:pt x="1137" y="824"/>
                      </a:lnTo>
                      <a:lnTo>
                        <a:pt x="1158" y="793"/>
                      </a:lnTo>
                      <a:lnTo>
                        <a:pt x="1190" y="783"/>
                      </a:lnTo>
                      <a:lnTo>
                        <a:pt x="1221" y="772"/>
                      </a:lnTo>
                      <a:lnTo>
                        <a:pt x="1252" y="772"/>
                      </a:lnTo>
                      <a:lnTo>
                        <a:pt x="1283" y="783"/>
                      </a:lnTo>
                      <a:lnTo>
                        <a:pt x="1315" y="793"/>
                      </a:lnTo>
                      <a:lnTo>
                        <a:pt x="1346" y="803"/>
                      </a:lnTo>
                      <a:lnTo>
                        <a:pt x="1377" y="814"/>
                      </a:lnTo>
                      <a:lnTo>
                        <a:pt x="1409" y="814"/>
                      </a:lnTo>
                      <a:lnTo>
                        <a:pt x="1440" y="814"/>
                      </a:lnTo>
                      <a:lnTo>
                        <a:pt x="1471" y="814"/>
                      </a:lnTo>
                      <a:lnTo>
                        <a:pt x="1503" y="793"/>
                      </a:lnTo>
                      <a:lnTo>
                        <a:pt x="1534" y="772"/>
                      </a:lnTo>
                      <a:lnTo>
                        <a:pt x="1565" y="762"/>
                      </a:lnTo>
                      <a:lnTo>
                        <a:pt x="1597" y="762"/>
                      </a:lnTo>
                      <a:lnTo>
                        <a:pt x="1628" y="762"/>
                      </a:lnTo>
                      <a:lnTo>
                        <a:pt x="1659" y="762"/>
                      </a:lnTo>
                      <a:lnTo>
                        <a:pt x="1690" y="783"/>
                      </a:lnTo>
                      <a:lnTo>
                        <a:pt x="1722" y="793"/>
                      </a:lnTo>
                      <a:lnTo>
                        <a:pt x="1732" y="824"/>
                      </a:lnTo>
                      <a:lnTo>
                        <a:pt x="1732" y="856"/>
                      </a:lnTo>
                      <a:lnTo>
                        <a:pt x="1732" y="887"/>
                      </a:lnTo>
                      <a:lnTo>
                        <a:pt x="1732" y="918"/>
                      </a:lnTo>
                      <a:lnTo>
                        <a:pt x="1732" y="950"/>
                      </a:lnTo>
                      <a:lnTo>
                        <a:pt x="1743" y="981"/>
                      </a:lnTo>
                      <a:lnTo>
                        <a:pt x="1763" y="1012"/>
                      </a:lnTo>
                      <a:lnTo>
                        <a:pt x="1784" y="1043"/>
                      </a:lnTo>
                      <a:lnTo>
                        <a:pt x="1805" y="1075"/>
                      </a:lnTo>
                      <a:lnTo>
                        <a:pt x="1837" y="1096"/>
                      </a:lnTo>
                      <a:lnTo>
                        <a:pt x="1857" y="1127"/>
                      </a:lnTo>
                      <a:lnTo>
                        <a:pt x="1889" y="1148"/>
                      </a:lnTo>
                      <a:lnTo>
                        <a:pt x="1920" y="1169"/>
                      </a:lnTo>
                      <a:lnTo>
                        <a:pt x="1941" y="1200"/>
                      </a:lnTo>
                      <a:lnTo>
                        <a:pt x="1962" y="1231"/>
                      </a:lnTo>
                      <a:lnTo>
                        <a:pt x="1983" y="1263"/>
                      </a:lnTo>
                      <a:lnTo>
                        <a:pt x="2014" y="1283"/>
                      </a:lnTo>
                      <a:lnTo>
                        <a:pt x="2035" y="1315"/>
                      </a:lnTo>
                      <a:lnTo>
                        <a:pt x="2045" y="1346"/>
                      </a:lnTo>
                      <a:lnTo>
                        <a:pt x="2066" y="1377"/>
                      </a:lnTo>
                      <a:lnTo>
                        <a:pt x="2077" y="1409"/>
                      </a:lnTo>
                      <a:lnTo>
                        <a:pt x="2087" y="1440"/>
                      </a:lnTo>
                      <a:lnTo>
                        <a:pt x="2097" y="1471"/>
                      </a:lnTo>
                      <a:lnTo>
                        <a:pt x="2097" y="1503"/>
                      </a:lnTo>
                      <a:lnTo>
                        <a:pt x="2097" y="1534"/>
                      </a:lnTo>
                      <a:lnTo>
                        <a:pt x="2097" y="1565"/>
                      </a:lnTo>
                      <a:lnTo>
                        <a:pt x="2097" y="1597"/>
                      </a:lnTo>
                      <a:lnTo>
                        <a:pt x="2129" y="1628"/>
                      </a:lnTo>
                      <a:lnTo>
                        <a:pt x="2160" y="1649"/>
                      </a:lnTo>
                      <a:lnTo>
                        <a:pt x="2191" y="1649"/>
                      </a:lnTo>
                      <a:lnTo>
                        <a:pt x="2212" y="1617"/>
                      </a:lnTo>
                      <a:lnTo>
                        <a:pt x="2223" y="1586"/>
                      </a:lnTo>
                      <a:lnTo>
                        <a:pt x="2233" y="1555"/>
                      </a:lnTo>
                      <a:lnTo>
                        <a:pt x="2233" y="1523"/>
                      </a:lnTo>
                      <a:lnTo>
                        <a:pt x="2223" y="1492"/>
                      </a:lnTo>
                      <a:lnTo>
                        <a:pt x="2223" y="1461"/>
                      </a:lnTo>
                      <a:lnTo>
                        <a:pt x="2223" y="1430"/>
                      </a:lnTo>
                      <a:lnTo>
                        <a:pt x="2223" y="1398"/>
                      </a:lnTo>
                      <a:lnTo>
                        <a:pt x="2254" y="1388"/>
                      </a:lnTo>
                      <a:lnTo>
                        <a:pt x="2285" y="1388"/>
                      </a:lnTo>
                      <a:lnTo>
                        <a:pt x="2317" y="1398"/>
                      </a:lnTo>
                      <a:lnTo>
                        <a:pt x="2348" y="1409"/>
                      </a:lnTo>
                      <a:lnTo>
                        <a:pt x="2358" y="1377"/>
                      </a:lnTo>
                      <a:lnTo>
                        <a:pt x="2358" y="1346"/>
                      </a:lnTo>
                      <a:lnTo>
                        <a:pt x="2348" y="1315"/>
                      </a:lnTo>
                      <a:lnTo>
                        <a:pt x="2337" y="1283"/>
                      </a:lnTo>
                      <a:lnTo>
                        <a:pt x="2306" y="1273"/>
                      </a:lnTo>
                      <a:lnTo>
                        <a:pt x="2275" y="1242"/>
                      </a:lnTo>
                      <a:lnTo>
                        <a:pt x="2254" y="1210"/>
                      </a:lnTo>
                      <a:lnTo>
                        <a:pt x="2223" y="1190"/>
                      </a:lnTo>
                      <a:lnTo>
                        <a:pt x="2202" y="1158"/>
                      </a:lnTo>
                      <a:lnTo>
                        <a:pt x="2170" y="1137"/>
                      </a:lnTo>
                      <a:lnTo>
                        <a:pt x="2139" y="1117"/>
                      </a:lnTo>
                      <a:lnTo>
                        <a:pt x="2118" y="1085"/>
                      </a:lnTo>
                      <a:lnTo>
                        <a:pt x="2108" y="1054"/>
                      </a:lnTo>
                      <a:lnTo>
                        <a:pt x="2097" y="1023"/>
                      </a:lnTo>
                      <a:lnTo>
                        <a:pt x="2087" y="991"/>
                      </a:lnTo>
                      <a:lnTo>
                        <a:pt x="2066" y="960"/>
                      </a:lnTo>
                      <a:lnTo>
                        <a:pt x="2045" y="929"/>
                      </a:lnTo>
                      <a:lnTo>
                        <a:pt x="2014" y="897"/>
                      </a:lnTo>
                      <a:lnTo>
                        <a:pt x="2003" y="866"/>
                      </a:lnTo>
                      <a:lnTo>
                        <a:pt x="1983" y="835"/>
                      </a:lnTo>
                      <a:lnTo>
                        <a:pt x="1962" y="803"/>
                      </a:lnTo>
                      <a:lnTo>
                        <a:pt x="1941" y="772"/>
                      </a:lnTo>
                      <a:lnTo>
                        <a:pt x="1920" y="741"/>
                      </a:lnTo>
                      <a:lnTo>
                        <a:pt x="1899" y="710"/>
                      </a:lnTo>
                      <a:lnTo>
                        <a:pt x="1910" y="678"/>
                      </a:lnTo>
                      <a:lnTo>
                        <a:pt x="1941" y="668"/>
                      </a:lnTo>
                      <a:lnTo>
                        <a:pt x="1972" y="668"/>
                      </a:lnTo>
                      <a:lnTo>
                        <a:pt x="2003" y="668"/>
                      </a:lnTo>
                      <a:lnTo>
                        <a:pt x="2035" y="689"/>
                      </a:lnTo>
                      <a:lnTo>
                        <a:pt x="2056" y="720"/>
                      </a:lnTo>
                      <a:lnTo>
                        <a:pt x="2087" y="751"/>
                      </a:lnTo>
                      <a:lnTo>
                        <a:pt x="2108" y="783"/>
                      </a:lnTo>
                      <a:lnTo>
                        <a:pt x="2129" y="814"/>
                      </a:lnTo>
                      <a:lnTo>
                        <a:pt x="2139" y="845"/>
                      </a:lnTo>
                      <a:lnTo>
                        <a:pt x="2160" y="877"/>
                      </a:lnTo>
                      <a:lnTo>
                        <a:pt x="2191" y="908"/>
                      </a:lnTo>
                      <a:lnTo>
                        <a:pt x="2202" y="939"/>
                      </a:lnTo>
                      <a:lnTo>
                        <a:pt x="2233" y="970"/>
                      </a:lnTo>
                      <a:lnTo>
                        <a:pt x="2254" y="1002"/>
                      </a:lnTo>
                      <a:lnTo>
                        <a:pt x="2285" y="1033"/>
                      </a:lnTo>
                      <a:lnTo>
                        <a:pt x="2296" y="1064"/>
                      </a:lnTo>
                      <a:lnTo>
                        <a:pt x="2317" y="1096"/>
                      </a:lnTo>
                      <a:lnTo>
                        <a:pt x="2348" y="1127"/>
                      </a:lnTo>
                      <a:lnTo>
                        <a:pt x="2379" y="1158"/>
                      </a:lnTo>
                      <a:lnTo>
                        <a:pt x="2410" y="1190"/>
                      </a:lnTo>
                      <a:lnTo>
                        <a:pt x="2431" y="1221"/>
                      </a:lnTo>
                      <a:lnTo>
                        <a:pt x="2452" y="1252"/>
                      </a:lnTo>
                      <a:lnTo>
                        <a:pt x="2463" y="1283"/>
                      </a:lnTo>
                      <a:lnTo>
                        <a:pt x="2473" y="1315"/>
                      </a:lnTo>
                      <a:lnTo>
                        <a:pt x="2473" y="1346"/>
                      </a:lnTo>
                      <a:lnTo>
                        <a:pt x="2473" y="1377"/>
                      </a:lnTo>
                      <a:lnTo>
                        <a:pt x="2473" y="1409"/>
                      </a:lnTo>
                      <a:lnTo>
                        <a:pt x="2473" y="1440"/>
                      </a:lnTo>
                      <a:lnTo>
                        <a:pt x="2504" y="1461"/>
                      </a:lnTo>
                      <a:lnTo>
                        <a:pt x="2536" y="1482"/>
                      </a:lnTo>
                      <a:lnTo>
                        <a:pt x="2557" y="1513"/>
                      </a:lnTo>
                      <a:lnTo>
                        <a:pt x="2557" y="1544"/>
                      </a:lnTo>
                      <a:lnTo>
                        <a:pt x="2557" y="1576"/>
                      </a:lnTo>
                      <a:lnTo>
                        <a:pt x="2557" y="1607"/>
                      </a:lnTo>
                      <a:lnTo>
                        <a:pt x="2588" y="1628"/>
                      </a:lnTo>
                      <a:lnTo>
                        <a:pt x="2619" y="1649"/>
                      </a:lnTo>
                      <a:lnTo>
                        <a:pt x="2650" y="1670"/>
                      </a:lnTo>
                      <a:lnTo>
                        <a:pt x="2682" y="1690"/>
                      </a:lnTo>
                      <a:lnTo>
                        <a:pt x="2713" y="1711"/>
                      </a:lnTo>
                      <a:lnTo>
                        <a:pt x="2744" y="1711"/>
                      </a:lnTo>
                      <a:lnTo>
                        <a:pt x="2776" y="1711"/>
                      </a:lnTo>
                      <a:lnTo>
                        <a:pt x="2807" y="1701"/>
                      </a:lnTo>
                      <a:lnTo>
                        <a:pt x="2828" y="1670"/>
                      </a:lnTo>
                      <a:lnTo>
                        <a:pt x="2849" y="1638"/>
                      </a:lnTo>
                      <a:lnTo>
                        <a:pt x="2859" y="1607"/>
                      </a:lnTo>
                      <a:lnTo>
                        <a:pt x="2870" y="1576"/>
                      </a:lnTo>
                      <a:lnTo>
                        <a:pt x="2859" y="1544"/>
                      </a:lnTo>
                      <a:lnTo>
                        <a:pt x="2838" y="1513"/>
                      </a:lnTo>
                      <a:lnTo>
                        <a:pt x="2817" y="1482"/>
                      </a:lnTo>
                      <a:lnTo>
                        <a:pt x="2797" y="1450"/>
                      </a:lnTo>
                      <a:lnTo>
                        <a:pt x="2786" y="1419"/>
                      </a:lnTo>
                      <a:lnTo>
                        <a:pt x="2786" y="1388"/>
                      </a:lnTo>
                      <a:lnTo>
                        <a:pt x="2817" y="1357"/>
                      </a:lnTo>
                      <a:lnTo>
                        <a:pt x="2849" y="1336"/>
                      </a:lnTo>
                      <a:lnTo>
                        <a:pt x="2880" y="1325"/>
                      </a:lnTo>
                      <a:lnTo>
                        <a:pt x="2911" y="1315"/>
                      </a:lnTo>
                      <a:lnTo>
                        <a:pt x="2943" y="1294"/>
                      </a:lnTo>
                      <a:lnTo>
                        <a:pt x="2974" y="1273"/>
                      </a:lnTo>
                      <a:lnTo>
                        <a:pt x="2984" y="1190"/>
                      </a:lnTo>
                      <a:lnTo>
                        <a:pt x="2995" y="1106"/>
                      </a:lnTo>
                      <a:lnTo>
                        <a:pt x="3026" y="1096"/>
                      </a:lnTo>
                      <a:lnTo>
                        <a:pt x="3057" y="1096"/>
                      </a:lnTo>
                      <a:lnTo>
                        <a:pt x="3089" y="1096"/>
                      </a:lnTo>
                      <a:lnTo>
                        <a:pt x="3120" y="1106"/>
                      </a:lnTo>
                      <a:lnTo>
                        <a:pt x="3151" y="1127"/>
                      </a:lnTo>
                      <a:lnTo>
                        <a:pt x="3183" y="1148"/>
                      </a:lnTo>
                      <a:lnTo>
                        <a:pt x="3214" y="1158"/>
                      </a:lnTo>
                      <a:lnTo>
                        <a:pt x="3235" y="1127"/>
                      </a:lnTo>
                      <a:lnTo>
                        <a:pt x="3235" y="1096"/>
                      </a:lnTo>
                      <a:lnTo>
                        <a:pt x="3235" y="1064"/>
                      </a:lnTo>
                      <a:lnTo>
                        <a:pt x="3214" y="1033"/>
                      </a:lnTo>
                      <a:lnTo>
                        <a:pt x="3193" y="1002"/>
                      </a:lnTo>
                      <a:lnTo>
                        <a:pt x="3183" y="970"/>
                      </a:lnTo>
                      <a:lnTo>
                        <a:pt x="3183" y="939"/>
                      </a:lnTo>
                      <a:lnTo>
                        <a:pt x="3183" y="908"/>
                      </a:lnTo>
                      <a:lnTo>
                        <a:pt x="3183" y="877"/>
                      </a:lnTo>
                      <a:lnTo>
                        <a:pt x="3183" y="845"/>
                      </a:lnTo>
                      <a:lnTo>
                        <a:pt x="3183" y="814"/>
                      </a:lnTo>
                      <a:lnTo>
                        <a:pt x="3183" y="783"/>
                      </a:lnTo>
                      <a:lnTo>
                        <a:pt x="3183" y="751"/>
                      </a:lnTo>
                      <a:lnTo>
                        <a:pt x="3193" y="668"/>
                      </a:lnTo>
                      <a:lnTo>
                        <a:pt x="3193" y="637"/>
                      </a:lnTo>
                      <a:lnTo>
                        <a:pt x="3203" y="605"/>
                      </a:lnTo>
                      <a:lnTo>
                        <a:pt x="3235" y="574"/>
                      </a:lnTo>
                      <a:lnTo>
                        <a:pt x="3266" y="563"/>
                      </a:lnTo>
                      <a:lnTo>
                        <a:pt x="3297" y="543"/>
                      </a:lnTo>
                      <a:lnTo>
                        <a:pt x="3329" y="532"/>
                      </a:lnTo>
                      <a:lnTo>
                        <a:pt x="3360" y="522"/>
                      </a:lnTo>
                      <a:lnTo>
                        <a:pt x="3391" y="522"/>
                      </a:lnTo>
                      <a:lnTo>
                        <a:pt x="3423" y="522"/>
                      </a:lnTo>
                      <a:lnTo>
                        <a:pt x="3454" y="553"/>
                      </a:lnTo>
                      <a:lnTo>
                        <a:pt x="3475" y="584"/>
                      </a:lnTo>
                      <a:lnTo>
                        <a:pt x="3475" y="616"/>
                      </a:lnTo>
                      <a:lnTo>
                        <a:pt x="3496" y="647"/>
                      </a:lnTo>
                      <a:lnTo>
                        <a:pt x="3527" y="668"/>
                      </a:lnTo>
                      <a:lnTo>
                        <a:pt x="3558" y="699"/>
                      </a:lnTo>
                      <a:lnTo>
                        <a:pt x="3590" y="710"/>
                      </a:lnTo>
                      <a:lnTo>
                        <a:pt x="3621" y="710"/>
                      </a:lnTo>
                      <a:lnTo>
                        <a:pt x="3652" y="699"/>
                      </a:lnTo>
                      <a:lnTo>
                        <a:pt x="3673" y="668"/>
                      </a:lnTo>
                      <a:lnTo>
                        <a:pt x="3694" y="637"/>
                      </a:lnTo>
                      <a:lnTo>
                        <a:pt x="3704" y="605"/>
                      </a:lnTo>
                      <a:lnTo>
                        <a:pt x="3694" y="574"/>
                      </a:lnTo>
                      <a:lnTo>
                        <a:pt x="3673" y="543"/>
                      </a:lnTo>
                      <a:lnTo>
                        <a:pt x="3652" y="511"/>
                      </a:lnTo>
                      <a:lnTo>
                        <a:pt x="3652" y="480"/>
                      </a:lnTo>
                      <a:lnTo>
                        <a:pt x="3652" y="449"/>
                      </a:lnTo>
                      <a:lnTo>
                        <a:pt x="3673" y="417"/>
                      </a:lnTo>
                      <a:lnTo>
                        <a:pt x="3704" y="397"/>
                      </a:lnTo>
                      <a:lnTo>
                        <a:pt x="3736" y="386"/>
                      </a:lnTo>
                      <a:lnTo>
                        <a:pt x="3767" y="365"/>
                      </a:lnTo>
                      <a:lnTo>
                        <a:pt x="3777" y="397"/>
                      </a:lnTo>
                      <a:lnTo>
                        <a:pt x="3798" y="428"/>
                      </a:lnTo>
                      <a:lnTo>
                        <a:pt x="3819" y="459"/>
                      </a:lnTo>
                      <a:lnTo>
                        <a:pt x="3809" y="490"/>
                      </a:lnTo>
                      <a:lnTo>
                        <a:pt x="3788" y="522"/>
                      </a:lnTo>
                      <a:lnTo>
                        <a:pt x="3767" y="553"/>
                      </a:lnTo>
                      <a:lnTo>
                        <a:pt x="3767" y="584"/>
                      </a:lnTo>
                      <a:lnTo>
                        <a:pt x="3767" y="616"/>
                      </a:lnTo>
                      <a:lnTo>
                        <a:pt x="3798" y="637"/>
                      </a:lnTo>
                      <a:lnTo>
                        <a:pt x="3830" y="668"/>
                      </a:lnTo>
                      <a:lnTo>
                        <a:pt x="3861" y="678"/>
                      </a:lnTo>
                      <a:lnTo>
                        <a:pt x="3892" y="689"/>
                      </a:lnTo>
                      <a:lnTo>
                        <a:pt x="3923" y="710"/>
                      </a:lnTo>
                      <a:lnTo>
                        <a:pt x="3955" y="720"/>
                      </a:lnTo>
                      <a:lnTo>
                        <a:pt x="3986" y="730"/>
                      </a:lnTo>
                      <a:lnTo>
                        <a:pt x="4017" y="751"/>
                      </a:lnTo>
                      <a:lnTo>
                        <a:pt x="4049" y="783"/>
                      </a:lnTo>
                      <a:lnTo>
                        <a:pt x="4070" y="814"/>
                      </a:lnTo>
                      <a:lnTo>
                        <a:pt x="4090" y="845"/>
                      </a:lnTo>
                      <a:lnTo>
                        <a:pt x="4101" y="877"/>
                      </a:lnTo>
                      <a:lnTo>
                        <a:pt x="4080" y="908"/>
                      </a:lnTo>
                      <a:lnTo>
                        <a:pt x="4070" y="939"/>
                      </a:lnTo>
                      <a:lnTo>
                        <a:pt x="4038" y="950"/>
                      </a:lnTo>
                      <a:lnTo>
                        <a:pt x="4007" y="950"/>
                      </a:lnTo>
                      <a:lnTo>
                        <a:pt x="3976" y="950"/>
                      </a:lnTo>
                      <a:lnTo>
                        <a:pt x="3944" y="950"/>
                      </a:lnTo>
                      <a:lnTo>
                        <a:pt x="3913" y="950"/>
                      </a:lnTo>
                      <a:lnTo>
                        <a:pt x="3882" y="950"/>
                      </a:lnTo>
                      <a:lnTo>
                        <a:pt x="3850" y="950"/>
                      </a:lnTo>
                      <a:lnTo>
                        <a:pt x="3819" y="960"/>
                      </a:lnTo>
                      <a:lnTo>
                        <a:pt x="3788" y="960"/>
                      </a:lnTo>
                      <a:lnTo>
                        <a:pt x="3757" y="960"/>
                      </a:lnTo>
                      <a:lnTo>
                        <a:pt x="3725" y="960"/>
                      </a:lnTo>
                      <a:lnTo>
                        <a:pt x="3694" y="970"/>
                      </a:lnTo>
                      <a:lnTo>
                        <a:pt x="3663" y="981"/>
                      </a:lnTo>
                      <a:lnTo>
                        <a:pt x="3631" y="1002"/>
                      </a:lnTo>
                      <a:lnTo>
                        <a:pt x="3600" y="1012"/>
                      </a:lnTo>
                      <a:lnTo>
                        <a:pt x="3569" y="1033"/>
                      </a:lnTo>
                      <a:lnTo>
                        <a:pt x="3537" y="1064"/>
                      </a:lnTo>
                      <a:lnTo>
                        <a:pt x="3506" y="1085"/>
                      </a:lnTo>
                      <a:lnTo>
                        <a:pt x="3475" y="1106"/>
                      </a:lnTo>
                      <a:lnTo>
                        <a:pt x="3454" y="1137"/>
                      </a:lnTo>
                      <a:lnTo>
                        <a:pt x="3423" y="1158"/>
                      </a:lnTo>
                      <a:lnTo>
                        <a:pt x="3391" y="1179"/>
                      </a:lnTo>
                      <a:lnTo>
                        <a:pt x="3360" y="1190"/>
                      </a:lnTo>
                      <a:lnTo>
                        <a:pt x="3329" y="1200"/>
                      </a:lnTo>
                      <a:lnTo>
                        <a:pt x="3297" y="1221"/>
                      </a:lnTo>
                      <a:lnTo>
                        <a:pt x="3266" y="1252"/>
                      </a:lnTo>
                      <a:lnTo>
                        <a:pt x="3235" y="1273"/>
                      </a:lnTo>
                      <a:lnTo>
                        <a:pt x="3203" y="1283"/>
                      </a:lnTo>
                      <a:lnTo>
                        <a:pt x="3172" y="1294"/>
                      </a:lnTo>
                      <a:lnTo>
                        <a:pt x="3141" y="1304"/>
                      </a:lnTo>
                      <a:lnTo>
                        <a:pt x="3120" y="1336"/>
                      </a:lnTo>
                      <a:lnTo>
                        <a:pt x="3089" y="1357"/>
                      </a:lnTo>
                      <a:lnTo>
                        <a:pt x="3078" y="1388"/>
                      </a:lnTo>
                      <a:lnTo>
                        <a:pt x="3057" y="1419"/>
                      </a:lnTo>
                      <a:lnTo>
                        <a:pt x="3057" y="1450"/>
                      </a:lnTo>
                      <a:lnTo>
                        <a:pt x="3068" y="1482"/>
                      </a:lnTo>
                      <a:lnTo>
                        <a:pt x="3078" y="1513"/>
                      </a:lnTo>
                      <a:lnTo>
                        <a:pt x="3089" y="1544"/>
                      </a:lnTo>
                      <a:lnTo>
                        <a:pt x="3120" y="1565"/>
                      </a:lnTo>
                      <a:lnTo>
                        <a:pt x="3130" y="1597"/>
                      </a:lnTo>
                      <a:lnTo>
                        <a:pt x="3151" y="1628"/>
                      </a:lnTo>
                      <a:lnTo>
                        <a:pt x="3172" y="1659"/>
                      </a:lnTo>
                      <a:lnTo>
                        <a:pt x="3203" y="1690"/>
                      </a:lnTo>
                      <a:lnTo>
                        <a:pt x="3235" y="1711"/>
                      </a:lnTo>
                      <a:lnTo>
                        <a:pt x="3245" y="1743"/>
                      </a:lnTo>
                      <a:lnTo>
                        <a:pt x="3277" y="1763"/>
                      </a:lnTo>
                      <a:lnTo>
                        <a:pt x="3308" y="1763"/>
                      </a:lnTo>
                      <a:lnTo>
                        <a:pt x="3339" y="1763"/>
                      </a:lnTo>
                      <a:lnTo>
                        <a:pt x="3370" y="1763"/>
                      </a:lnTo>
                      <a:lnTo>
                        <a:pt x="3402" y="1763"/>
                      </a:lnTo>
                      <a:lnTo>
                        <a:pt x="3433" y="1753"/>
                      </a:lnTo>
                      <a:lnTo>
                        <a:pt x="3464" y="1743"/>
                      </a:lnTo>
                      <a:lnTo>
                        <a:pt x="3496" y="1743"/>
                      </a:lnTo>
                      <a:lnTo>
                        <a:pt x="3527" y="1743"/>
                      </a:lnTo>
                      <a:lnTo>
                        <a:pt x="3558" y="1753"/>
                      </a:lnTo>
                      <a:lnTo>
                        <a:pt x="3590" y="1763"/>
                      </a:lnTo>
                      <a:lnTo>
                        <a:pt x="3621" y="1774"/>
                      </a:lnTo>
                      <a:lnTo>
                        <a:pt x="3652" y="1774"/>
                      </a:lnTo>
                      <a:lnTo>
                        <a:pt x="3683" y="1774"/>
                      </a:lnTo>
                      <a:lnTo>
                        <a:pt x="3704" y="1743"/>
                      </a:lnTo>
                      <a:lnTo>
                        <a:pt x="3725" y="1711"/>
                      </a:lnTo>
                      <a:lnTo>
                        <a:pt x="3736" y="1680"/>
                      </a:lnTo>
                      <a:lnTo>
                        <a:pt x="3757" y="1649"/>
                      </a:lnTo>
                      <a:lnTo>
                        <a:pt x="3788" y="1628"/>
                      </a:lnTo>
                      <a:lnTo>
                        <a:pt x="3819" y="1617"/>
                      </a:lnTo>
                      <a:lnTo>
                        <a:pt x="3830" y="1649"/>
                      </a:lnTo>
                      <a:lnTo>
                        <a:pt x="3830" y="1680"/>
                      </a:lnTo>
                      <a:lnTo>
                        <a:pt x="3819" y="1711"/>
                      </a:lnTo>
                      <a:lnTo>
                        <a:pt x="3809" y="1743"/>
                      </a:lnTo>
                      <a:lnTo>
                        <a:pt x="3830" y="1774"/>
                      </a:lnTo>
                      <a:lnTo>
                        <a:pt x="3861" y="1795"/>
                      </a:lnTo>
                      <a:lnTo>
                        <a:pt x="3882" y="1826"/>
                      </a:lnTo>
                      <a:lnTo>
                        <a:pt x="3892" y="1857"/>
                      </a:lnTo>
                      <a:lnTo>
                        <a:pt x="3913" y="1889"/>
                      </a:lnTo>
                      <a:lnTo>
                        <a:pt x="3913" y="1920"/>
                      </a:lnTo>
                      <a:lnTo>
                        <a:pt x="3913" y="1951"/>
                      </a:lnTo>
                      <a:lnTo>
                        <a:pt x="3903" y="1983"/>
                      </a:lnTo>
                      <a:lnTo>
                        <a:pt x="3903" y="2014"/>
                      </a:lnTo>
                      <a:lnTo>
                        <a:pt x="3903" y="2045"/>
                      </a:lnTo>
                      <a:lnTo>
                        <a:pt x="3882" y="2077"/>
                      </a:lnTo>
                      <a:lnTo>
                        <a:pt x="3850" y="2097"/>
                      </a:lnTo>
                      <a:lnTo>
                        <a:pt x="3819" y="2118"/>
                      </a:lnTo>
                      <a:lnTo>
                        <a:pt x="3788" y="2150"/>
                      </a:lnTo>
                      <a:lnTo>
                        <a:pt x="3757" y="2170"/>
                      </a:lnTo>
                      <a:lnTo>
                        <a:pt x="3725" y="2191"/>
                      </a:lnTo>
                      <a:lnTo>
                        <a:pt x="3694" y="2212"/>
                      </a:lnTo>
                      <a:lnTo>
                        <a:pt x="3663" y="2233"/>
                      </a:lnTo>
                      <a:lnTo>
                        <a:pt x="3631" y="2264"/>
                      </a:lnTo>
                      <a:lnTo>
                        <a:pt x="3600" y="2285"/>
                      </a:lnTo>
                      <a:lnTo>
                        <a:pt x="3590" y="2317"/>
                      </a:lnTo>
                      <a:lnTo>
                        <a:pt x="3569" y="2348"/>
                      </a:lnTo>
                      <a:lnTo>
                        <a:pt x="3548" y="2379"/>
                      </a:lnTo>
                      <a:lnTo>
                        <a:pt x="3527" y="2410"/>
                      </a:lnTo>
                      <a:lnTo>
                        <a:pt x="3506" y="2442"/>
                      </a:lnTo>
                      <a:lnTo>
                        <a:pt x="3485" y="2473"/>
                      </a:lnTo>
                      <a:lnTo>
                        <a:pt x="3475" y="2504"/>
                      </a:lnTo>
                      <a:lnTo>
                        <a:pt x="3443" y="2515"/>
                      </a:lnTo>
                      <a:lnTo>
                        <a:pt x="3412" y="2515"/>
                      </a:lnTo>
                      <a:lnTo>
                        <a:pt x="3381" y="2515"/>
                      </a:lnTo>
                      <a:lnTo>
                        <a:pt x="3350" y="2515"/>
                      </a:lnTo>
                      <a:lnTo>
                        <a:pt x="3318" y="2504"/>
                      </a:lnTo>
                      <a:lnTo>
                        <a:pt x="3287" y="2504"/>
                      </a:lnTo>
                      <a:lnTo>
                        <a:pt x="3256" y="2483"/>
                      </a:lnTo>
                      <a:lnTo>
                        <a:pt x="3224" y="2463"/>
                      </a:lnTo>
                      <a:lnTo>
                        <a:pt x="3193" y="2442"/>
                      </a:lnTo>
                      <a:lnTo>
                        <a:pt x="3162" y="2442"/>
                      </a:lnTo>
                      <a:lnTo>
                        <a:pt x="3130" y="2442"/>
                      </a:lnTo>
                      <a:lnTo>
                        <a:pt x="3099" y="2442"/>
                      </a:lnTo>
                      <a:lnTo>
                        <a:pt x="3068" y="2452"/>
                      </a:lnTo>
                      <a:lnTo>
                        <a:pt x="3047" y="2483"/>
                      </a:lnTo>
                      <a:lnTo>
                        <a:pt x="3016" y="2504"/>
                      </a:lnTo>
                      <a:lnTo>
                        <a:pt x="2984" y="2504"/>
                      </a:lnTo>
                      <a:lnTo>
                        <a:pt x="2901" y="2504"/>
                      </a:lnTo>
                      <a:lnTo>
                        <a:pt x="2870" y="2504"/>
                      </a:lnTo>
                      <a:lnTo>
                        <a:pt x="2838" y="2504"/>
                      </a:lnTo>
                      <a:lnTo>
                        <a:pt x="2807" y="2504"/>
                      </a:lnTo>
                      <a:lnTo>
                        <a:pt x="2776" y="2504"/>
                      </a:lnTo>
                      <a:lnTo>
                        <a:pt x="2744" y="2494"/>
                      </a:lnTo>
                      <a:lnTo>
                        <a:pt x="2713" y="2483"/>
                      </a:lnTo>
                      <a:lnTo>
                        <a:pt x="2682" y="2452"/>
                      </a:lnTo>
                      <a:lnTo>
                        <a:pt x="2650" y="2431"/>
                      </a:lnTo>
                      <a:lnTo>
                        <a:pt x="2619" y="2410"/>
                      </a:lnTo>
                      <a:lnTo>
                        <a:pt x="2588" y="2410"/>
                      </a:lnTo>
                      <a:lnTo>
                        <a:pt x="2557" y="2400"/>
                      </a:lnTo>
                      <a:lnTo>
                        <a:pt x="2525" y="2400"/>
                      </a:lnTo>
                      <a:lnTo>
                        <a:pt x="2494" y="2400"/>
                      </a:lnTo>
                      <a:lnTo>
                        <a:pt x="2463" y="2400"/>
                      </a:lnTo>
                      <a:lnTo>
                        <a:pt x="2379" y="2400"/>
                      </a:lnTo>
                      <a:lnTo>
                        <a:pt x="2348" y="2400"/>
                      </a:lnTo>
                      <a:lnTo>
                        <a:pt x="2317" y="2400"/>
                      </a:lnTo>
                      <a:lnTo>
                        <a:pt x="2285" y="2400"/>
                      </a:lnTo>
                      <a:lnTo>
                        <a:pt x="2254" y="2400"/>
                      </a:lnTo>
                      <a:lnTo>
                        <a:pt x="2223" y="2400"/>
                      </a:lnTo>
                      <a:lnTo>
                        <a:pt x="2191" y="2410"/>
                      </a:lnTo>
                      <a:lnTo>
                        <a:pt x="2160" y="2410"/>
                      </a:lnTo>
                      <a:lnTo>
                        <a:pt x="2129" y="2421"/>
                      </a:lnTo>
                      <a:lnTo>
                        <a:pt x="2097" y="2431"/>
                      </a:lnTo>
                      <a:lnTo>
                        <a:pt x="2087" y="2463"/>
                      </a:lnTo>
                      <a:lnTo>
                        <a:pt x="2087" y="2494"/>
                      </a:lnTo>
                      <a:lnTo>
                        <a:pt x="2087" y="2525"/>
                      </a:lnTo>
                      <a:lnTo>
                        <a:pt x="2087" y="2557"/>
                      </a:lnTo>
                      <a:lnTo>
                        <a:pt x="2056" y="2577"/>
                      </a:lnTo>
                      <a:lnTo>
                        <a:pt x="2024" y="2567"/>
                      </a:lnTo>
                      <a:lnTo>
                        <a:pt x="1993" y="2546"/>
                      </a:lnTo>
                      <a:lnTo>
                        <a:pt x="1972" y="2515"/>
                      </a:lnTo>
                      <a:lnTo>
                        <a:pt x="1951" y="2483"/>
                      </a:lnTo>
                      <a:lnTo>
                        <a:pt x="1920" y="2452"/>
                      </a:lnTo>
                      <a:lnTo>
                        <a:pt x="1889" y="2431"/>
                      </a:lnTo>
                      <a:lnTo>
                        <a:pt x="1857" y="2410"/>
                      </a:lnTo>
                      <a:lnTo>
                        <a:pt x="1826" y="2390"/>
                      </a:lnTo>
                      <a:lnTo>
                        <a:pt x="1805" y="2358"/>
                      </a:lnTo>
                      <a:lnTo>
                        <a:pt x="1774" y="2337"/>
                      </a:lnTo>
                      <a:lnTo>
                        <a:pt x="1743" y="2306"/>
                      </a:lnTo>
                      <a:lnTo>
                        <a:pt x="1722" y="2275"/>
                      </a:lnTo>
                      <a:lnTo>
                        <a:pt x="1690" y="2264"/>
                      </a:lnTo>
                      <a:lnTo>
                        <a:pt x="1659" y="2254"/>
                      </a:lnTo>
                      <a:lnTo>
                        <a:pt x="1628" y="2254"/>
                      </a:lnTo>
                      <a:lnTo>
                        <a:pt x="1597" y="2254"/>
                      </a:lnTo>
                      <a:lnTo>
                        <a:pt x="1513" y="2254"/>
                      </a:lnTo>
                      <a:lnTo>
                        <a:pt x="1482" y="2233"/>
                      </a:lnTo>
                      <a:lnTo>
                        <a:pt x="1471" y="2202"/>
                      </a:lnTo>
                      <a:lnTo>
                        <a:pt x="1471" y="2170"/>
                      </a:lnTo>
                      <a:lnTo>
                        <a:pt x="1461" y="2139"/>
                      </a:lnTo>
                      <a:lnTo>
                        <a:pt x="1461" y="2108"/>
                      </a:lnTo>
                      <a:lnTo>
                        <a:pt x="1461" y="2077"/>
                      </a:lnTo>
                      <a:lnTo>
                        <a:pt x="1461" y="2045"/>
                      </a:lnTo>
                      <a:lnTo>
                        <a:pt x="1461" y="2014"/>
                      </a:lnTo>
                      <a:lnTo>
                        <a:pt x="1461" y="1983"/>
                      </a:lnTo>
                      <a:lnTo>
                        <a:pt x="1461" y="1951"/>
                      </a:lnTo>
                      <a:lnTo>
                        <a:pt x="1450" y="1920"/>
                      </a:lnTo>
                      <a:lnTo>
                        <a:pt x="1440" y="1889"/>
                      </a:lnTo>
                      <a:lnTo>
                        <a:pt x="1440" y="1857"/>
                      </a:lnTo>
                      <a:lnTo>
                        <a:pt x="1419" y="1826"/>
                      </a:lnTo>
                      <a:lnTo>
                        <a:pt x="1388" y="1805"/>
                      </a:lnTo>
                      <a:lnTo>
                        <a:pt x="1357" y="1805"/>
                      </a:lnTo>
                      <a:lnTo>
                        <a:pt x="1325" y="1805"/>
                      </a:lnTo>
                      <a:lnTo>
                        <a:pt x="1294" y="1805"/>
                      </a:lnTo>
                      <a:lnTo>
                        <a:pt x="1210" y="1805"/>
                      </a:lnTo>
                      <a:lnTo>
                        <a:pt x="1179" y="1816"/>
                      </a:lnTo>
                      <a:lnTo>
                        <a:pt x="1096" y="1816"/>
                      </a:lnTo>
                      <a:lnTo>
                        <a:pt x="1064" y="1826"/>
                      </a:lnTo>
                      <a:lnTo>
                        <a:pt x="1033" y="1826"/>
                      </a:lnTo>
                      <a:lnTo>
                        <a:pt x="1002" y="1826"/>
                      </a:lnTo>
                      <a:lnTo>
                        <a:pt x="970" y="1826"/>
                      </a:lnTo>
                      <a:lnTo>
                        <a:pt x="939" y="1826"/>
                      </a:lnTo>
                      <a:lnTo>
                        <a:pt x="908" y="1805"/>
                      </a:lnTo>
                      <a:lnTo>
                        <a:pt x="877" y="1784"/>
                      </a:lnTo>
                      <a:lnTo>
                        <a:pt x="845" y="1763"/>
                      </a:lnTo>
                      <a:lnTo>
                        <a:pt x="814" y="1732"/>
                      </a:lnTo>
                      <a:lnTo>
                        <a:pt x="783" y="1722"/>
                      </a:lnTo>
                      <a:lnTo>
                        <a:pt x="751" y="1711"/>
                      </a:lnTo>
                      <a:lnTo>
                        <a:pt x="678" y="1701"/>
                      </a:lnTo>
                      <a:lnTo>
                        <a:pt x="605" y="1701"/>
                      </a:lnTo>
                      <a:lnTo>
                        <a:pt x="522" y="1690"/>
                      </a:lnTo>
                      <a:lnTo>
                        <a:pt x="490" y="1680"/>
                      </a:lnTo>
                      <a:lnTo>
                        <a:pt x="459" y="1680"/>
                      </a:lnTo>
                      <a:lnTo>
                        <a:pt x="428" y="1649"/>
                      </a:lnTo>
                      <a:lnTo>
                        <a:pt x="407" y="1617"/>
                      </a:lnTo>
                      <a:lnTo>
                        <a:pt x="376" y="1597"/>
                      </a:lnTo>
                      <a:lnTo>
                        <a:pt x="344" y="1576"/>
                      </a:lnTo>
                      <a:lnTo>
                        <a:pt x="313" y="1576"/>
                      </a:lnTo>
                      <a:lnTo>
                        <a:pt x="282" y="1576"/>
                      </a:lnTo>
                      <a:lnTo>
                        <a:pt x="209" y="1576"/>
                      </a:lnTo>
                      <a:lnTo>
                        <a:pt x="177" y="1586"/>
                      </a:lnTo>
                      <a:lnTo>
                        <a:pt x="146" y="1597"/>
                      </a:lnTo>
                      <a:lnTo>
                        <a:pt x="125" y="1628"/>
                      </a:lnTo>
                      <a:lnTo>
                        <a:pt x="104" y="1659"/>
                      </a:lnTo>
                      <a:lnTo>
                        <a:pt x="73" y="1690"/>
                      </a:lnTo>
                      <a:lnTo>
                        <a:pt x="52" y="1722"/>
                      </a:lnTo>
                      <a:lnTo>
                        <a:pt x="21" y="1743"/>
                      </a:lnTo>
                      <a:lnTo>
                        <a:pt x="0" y="1774"/>
                      </a:lnTo>
                      <a:lnTo>
                        <a:pt x="0" y="1743"/>
                      </a:lnTo>
                      <a:lnTo>
                        <a:pt x="0" y="1711"/>
                      </a:lnTo>
                      <a:lnTo>
                        <a:pt x="0" y="1680"/>
                      </a:lnTo>
                      <a:lnTo>
                        <a:pt x="0" y="1649"/>
                      </a:lnTo>
                      <a:lnTo>
                        <a:pt x="0" y="1617"/>
                      </a:lnTo>
                      <a:lnTo>
                        <a:pt x="0" y="1534"/>
                      </a:lnTo>
                      <a:lnTo>
                        <a:pt x="0" y="1440"/>
                      </a:lnTo>
                      <a:lnTo>
                        <a:pt x="0" y="1357"/>
                      </a:lnTo>
                      <a:lnTo>
                        <a:pt x="0" y="1263"/>
                      </a:lnTo>
                      <a:lnTo>
                        <a:pt x="0" y="1169"/>
                      </a:lnTo>
                      <a:lnTo>
                        <a:pt x="0" y="1075"/>
                      </a:lnTo>
                      <a:lnTo>
                        <a:pt x="0" y="1043"/>
                      </a:lnTo>
                      <a:lnTo>
                        <a:pt x="0" y="1012"/>
                      </a:lnTo>
                      <a:lnTo>
                        <a:pt x="0" y="981"/>
                      </a:lnTo>
                      <a:lnTo>
                        <a:pt x="0" y="908"/>
                      </a:lnTo>
                      <a:lnTo>
                        <a:pt x="0" y="814"/>
                      </a:lnTo>
                      <a:lnTo>
                        <a:pt x="0" y="730"/>
                      </a:lnTo>
                      <a:lnTo>
                        <a:pt x="0" y="657"/>
                      </a:lnTo>
                      <a:lnTo>
                        <a:pt x="0" y="584"/>
                      </a:lnTo>
                      <a:lnTo>
                        <a:pt x="0" y="501"/>
                      </a:lnTo>
                      <a:lnTo>
                        <a:pt x="0" y="417"/>
                      </a:lnTo>
                      <a:lnTo>
                        <a:pt x="0" y="323"/>
                      </a:lnTo>
                      <a:lnTo>
                        <a:pt x="0" y="230"/>
                      </a:lnTo>
                      <a:lnTo>
                        <a:pt x="0" y="136"/>
                      </a:lnTo>
                      <a:lnTo>
                        <a:pt x="0" y="104"/>
                      </a:lnTo>
                      <a:lnTo>
                        <a:pt x="0" y="73"/>
                      </a:lnTo>
                      <a:lnTo>
                        <a:pt x="0" y="42"/>
                      </a:lnTo>
                      <a:lnTo>
                        <a:pt x="31" y="21"/>
                      </a:lnTo>
                      <a:lnTo>
                        <a:pt x="63" y="21"/>
                      </a:lnTo>
                      <a:lnTo>
                        <a:pt x="94" y="21"/>
                      </a:lnTo>
                      <a:lnTo>
                        <a:pt x="125" y="21"/>
                      </a:lnTo>
                      <a:lnTo>
                        <a:pt x="157" y="21"/>
                      </a:lnTo>
                      <a:lnTo>
                        <a:pt x="240" y="21"/>
                      </a:lnTo>
                      <a:lnTo>
                        <a:pt x="313" y="21"/>
                      </a:lnTo>
                      <a:lnTo>
                        <a:pt x="397" y="21"/>
                      </a:lnTo>
                      <a:lnTo>
                        <a:pt x="490" y="21"/>
                      </a:lnTo>
                      <a:lnTo>
                        <a:pt x="563" y="21"/>
                      </a:lnTo>
                      <a:lnTo>
                        <a:pt x="647" y="21"/>
                      </a:lnTo>
                      <a:lnTo>
                        <a:pt x="720" y="21"/>
                      </a:lnTo>
                      <a:lnTo>
                        <a:pt x="751" y="21"/>
                      </a:lnTo>
                      <a:lnTo>
                        <a:pt x="783" y="21"/>
                      </a:lnTo>
                      <a:lnTo>
                        <a:pt x="720" y="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952880" y="4648320"/>
                  <a:ext cx="230400" cy="1549440"/>
                </a:xfrm>
                <a:custGeom>
                  <a:avLst/>
                  <a:gdLst/>
                  <a:ahLst/>
                  <a:rect l="l" t="t" r="r" b="b"/>
                  <a:pathLst>
                    <a:path w="145" h="976">
                      <a:moveTo>
                        <a:pt x="0" y="0"/>
                      </a:moveTo>
                      <a:lnTo>
                        <a:pt x="14" y="35"/>
                      </a:lnTo>
                      <a:lnTo>
                        <a:pt x="29" y="67"/>
                      </a:lnTo>
                      <a:lnTo>
                        <a:pt x="29" y="98"/>
                      </a:lnTo>
                      <a:lnTo>
                        <a:pt x="29" y="129"/>
                      </a:lnTo>
                      <a:lnTo>
                        <a:pt x="29" y="161"/>
                      </a:lnTo>
                      <a:lnTo>
                        <a:pt x="21" y="192"/>
                      </a:lnTo>
                      <a:lnTo>
                        <a:pt x="21" y="223"/>
                      </a:lnTo>
                      <a:lnTo>
                        <a:pt x="21" y="255"/>
                      </a:lnTo>
                      <a:lnTo>
                        <a:pt x="21" y="286"/>
                      </a:lnTo>
                      <a:lnTo>
                        <a:pt x="21" y="317"/>
                      </a:lnTo>
                      <a:lnTo>
                        <a:pt x="21" y="349"/>
                      </a:lnTo>
                      <a:lnTo>
                        <a:pt x="21" y="380"/>
                      </a:lnTo>
                      <a:lnTo>
                        <a:pt x="21" y="411"/>
                      </a:lnTo>
                      <a:lnTo>
                        <a:pt x="29" y="442"/>
                      </a:lnTo>
                      <a:lnTo>
                        <a:pt x="29" y="474"/>
                      </a:lnTo>
                      <a:lnTo>
                        <a:pt x="29" y="505"/>
                      </a:lnTo>
                      <a:lnTo>
                        <a:pt x="36" y="536"/>
                      </a:lnTo>
                      <a:lnTo>
                        <a:pt x="43" y="568"/>
                      </a:lnTo>
                      <a:lnTo>
                        <a:pt x="50" y="599"/>
                      </a:lnTo>
                      <a:lnTo>
                        <a:pt x="65" y="630"/>
                      </a:lnTo>
                      <a:lnTo>
                        <a:pt x="79" y="662"/>
                      </a:lnTo>
                      <a:lnTo>
                        <a:pt x="94" y="693"/>
                      </a:lnTo>
                      <a:lnTo>
                        <a:pt x="94" y="724"/>
                      </a:lnTo>
                      <a:lnTo>
                        <a:pt x="101" y="755"/>
                      </a:lnTo>
                      <a:lnTo>
                        <a:pt x="108" y="787"/>
                      </a:lnTo>
                      <a:lnTo>
                        <a:pt x="122" y="818"/>
                      </a:lnTo>
                      <a:lnTo>
                        <a:pt x="136" y="849"/>
                      </a:lnTo>
                      <a:lnTo>
                        <a:pt x="144" y="881"/>
                      </a:lnTo>
                      <a:lnTo>
                        <a:pt x="144" y="912"/>
                      </a:lnTo>
                      <a:lnTo>
                        <a:pt x="144" y="943"/>
                      </a:lnTo>
                      <a:lnTo>
                        <a:pt x="144" y="975"/>
                      </a:lnTo>
                      <a:lnTo>
                        <a:pt x="132" y="864"/>
                      </a:lnTo>
                    </a:path>
                  </a:pathLst>
                </a:custGeom>
                <a:solidFill>
                  <a:srgbClr val="114ffb"/>
                </a:solidFill>
                <a:ln cap="rnd"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5135400" y="4948200"/>
                  <a:ext cx="1575000" cy="1909800"/>
                </a:xfrm>
                <a:custGeom>
                  <a:avLst/>
                  <a:gdLst/>
                  <a:ahLst/>
                  <a:rect l="l" t="t" r="r" b="b"/>
                  <a:pathLst>
                    <a:path w="992" h="1203">
                      <a:moveTo>
                        <a:pt x="29" y="10"/>
                      </a:moveTo>
                      <a:lnTo>
                        <a:pt x="62" y="41"/>
                      </a:lnTo>
                      <a:lnTo>
                        <a:pt x="62" y="73"/>
                      </a:lnTo>
                      <a:lnTo>
                        <a:pt x="73" y="104"/>
                      </a:lnTo>
                      <a:lnTo>
                        <a:pt x="83" y="135"/>
                      </a:lnTo>
                      <a:lnTo>
                        <a:pt x="94" y="167"/>
                      </a:lnTo>
                      <a:lnTo>
                        <a:pt x="115" y="198"/>
                      </a:lnTo>
                      <a:lnTo>
                        <a:pt x="135" y="229"/>
                      </a:lnTo>
                      <a:lnTo>
                        <a:pt x="146" y="260"/>
                      </a:lnTo>
                      <a:lnTo>
                        <a:pt x="167" y="292"/>
                      </a:lnTo>
                      <a:lnTo>
                        <a:pt x="177" y="323"/>
                      </a:lnTo>
                      <a:lnTo>
                        <a:pt x="208" y="344"/>
                      </a:lnTo>
                      <a:lnTo>
                        <a:pt x="219" y="375"/>
                      </a:lnTo>
                      <a:lnTo>
                        <a:pt x="240" y="407"/>
                      </a:lnTo>
                      <a:lnTo>
                        <a:pt x="261" y="438"/>
                      </a:lnTo>
                      <a:lnTo>
                        <a:pt x="271" y="469"/>
                      </a:lnTo>
                      <a:lnTo>
                        <a:pt x="282" y="500"/>
                      </a:lnTo>
                      <a:lnTo>
                        <a:pt x="302" y="532"/>
                      </a:lnTo>
                      <a:lnTo>
                        <a:pt x="323" y="563"/>
                      </a:lnTo>
                      <a:lnTo>
                        <a:pt x="344" y="594"/>
                      </a:lnTo>
                      <a:lnTo>
                        <a:pt x="375" y="626"/>
                      </a:lnTo>
                      <a:lnTo>
                        <a:pt x="396" y="657"/>
                      </a:lnTo>
                      <a:lnTo>
                        <a:pt x="407" y="688"/>
                      </a:lnTo>
                      <a:lnTo>
                        <a:pt x="428" y="720"/>
                      </a:lnTo>
                      <a:lnTo>
                        <a:pt x="448" y="751"/>
                      </a:lnTo>
                      <a:lnTo>
                        <a:pt x="469" y="782"/>
                      </a:lnTo>
                      <a:lnTo>
                        <a:pt x="490" y="813"/>
                      </a:lnTo>
                      <a:lnTo>
                        <a:pt x="522" y="845"/>
                      </a:lnTo>
                      <a:lnTo>
                        <a:pt x="542" y="876"/>
                      </a:lnTo>
                      <a:lnTo>
                        <a:pt x="553" y="907"/>
                      </a:lnTo>
                      <a:lnTo>
                        <a:pt x="553" y="939"/>
                      </a:lnTo>
                      <a:lnTo>
                        <a:pt x="553" y="970"/>
                      </a:lnTo>
                      <a:lnTo>
                        <a:pt x="553" y="1001"/>
                      </a:lnTo>
                      <a:lnTo>
                        <a:pt x="563" y="1033"/>
                      </a:lnTo>
                      <a:lnTo>
                        <a:pt x="563" y="1064"/>
                      </a:lnTo>
                      <a:lnTo>
                        <a:pt x="584" y="1095"/>
                      </a:lnTo>
                      <a:lnTo>
                        <a:pt x="615" y="1127"/>
                      </a:lnTo>
                      <a:lnTo>
                        <a:pt x="636" y="1158"/>
                      </a:lnTo>
                      <a:lnTo>
                        <a:pt x="668" y="1189"/>
                      </a:lnTo>
                      <a:lnTo>
                        <a:pt x="699" y="1202"/>
                      </a:lnTo>
                      <a:lnTo>
                        <a:pt x="730" y="1202"/>
                      </a:lnTo>
                      <a:lnTo>
                        <a:pt x="762" y="1202"/>
                      </a:lnTo>
                      <a:lnTo>
                        <a:pt x="793" y="1202"/>
                      </a:lnTo>
                      <a:lnTo>
                        <a:pt x="824" y="1202"/>
                      </a:lnTo>
                      <a:lnTo>
                        <a:pt x="855" y="1202"/>
                      </a:lnTo>
                      <a:lnTo>
                        <a:pt x="887" y="1202"/>
                      </a:lnTo>
                      <a:lnTo>
                        <a:pt x="918" y="1202"/>
                      </a:lnTo>
                      <a:lnTo>
                        <a:pt x="949" y="1202"/>
                      </a:lnTo>
                      <a:lnTo>
                        <a:pt x="981" y="1202"/>
                      </a:lnTo>
                      <a:lnTo>
                        <a:pt x="991" y="1168"/>
                      </a:lnTo>
                      <a:lnTo>
                        <a:pt x="970" y="1137"/>
                      </a:lnTo>
                      <a:lnTo>
                        <a:pt x="960" y="1106"/>
                      </a:lnTo>
                      <a:lnTo>
                        <a:pt x="949" y="1074"/>
                      </a:lnTo>
                      <a:lnTo>
                        <a:pt x="928" y="1043"/>
                      </a:lnTo>
                      <a:lnTo>
                        <a:pt x="908" y="1012"/>
                      </a:lnTo>
                      <a:lnTo>
                        <a:pt x="887" y="980"/>
                      </a:lnTo>
                      <a:lnTo>
                        <a:pt x="876" y="949"/>
                      </a:lnTo>
                      <a:lnTo>
                        <a:pt x="855" y="918"/>
                      </a:lnTo>
                      <a:lnTo>
                        <a:pt x="824" y="887"/>
                      </a:lnTo>
                      <a:lnTo>
                        <a:pt x="803" y="855"/>
                      </a:lnTo>
                      <a:lnTo>
                        <a:pt x="772" y="824"/>
                      </a:lnTo>
                      <a:lnTo>
                        <a:pt x="741" y="803"/>
                      </a:lnTo>
                      <a:lnTo>
                        <a:pt x="720" y="772"/>
                      </a:lnTo>
                      <a:lnTo>
                        <a:pt x="688" y="751"/>
                      </a:lnTo>
                      <a:lnTo>
                        <a:pt x="668" y="720"/>
                      </a:lnTo>
                      <a:lnTo>
                        <a:pt x="657" y="688"/>
                      </a:lnTo>
                      <a:lnTo>
                        <a:pt x="647" y="657"/>
                      </a:lnTo>
                      <a:lnTo>
                        <a:pt x="636" y="626"/>
                      </a:lnTo>
                      <a:lnTo>
                        <a:pt x="615" y="594"/>
                      </a:lnTo>
                      <a:lnTo>
                        <a:pt x="595" y="563"/>
                      </a:lnTo>
                      <a:lnTo>
                        <a:pt x="574" y="532"/>
                      </a:lnTo>
                      <a:lnTo>
                        <a:pt x="553" y="500"/>
                      </a:lnTo>
                      <a:lnTo>
                        <a:pt x="532" y="469"/>
                      </a:lnTo>
                      <a:lnTo>
                        <a:pt x="511" y="438"/>
                      </a:lnTo>
                      <a:lnTo>
                        <a:pt x="501" y="407"/>
                      </a:lnTo>
                      <a:lnTo>
                        <a:pt x="469" y="386"/>
                      </a:lnTo>
                      <a:lnTo>
                        <a:pt x="438" y="365"/>
                      </a:lnTo>
                      <a:lnTo>
                        <a:pt x="417" y="333"/>
                      </a:lnTo>
                      <a:lnTo>
                        <a:pt x="386" y="313"/>
                      </a:lnTo>
                      <a:lnTo>
                        <a:pt x="355" y="292"/>
                      </a:lnTo>
                      <a:lnTo>
                        <a:pt x="323" y="271"/>
                      </a:lnTo>
                      <a:lnTo>
                        <a:pt x="292" y="250"/>
                      </a:lnTo>
                      <a:lnTo>
                        <a:pt x="261" y="219"/>
                      </a:lnTo>
                      <a:lnTo>
                        <a:pt x="229" y="187"/>
                      </a:lnTo>
                      <a:lnTo>
                        <a:pt x="219" y="156"/>
                      </a:lnTo>
                      <a:lnTo>
                        <a:pt x="219" y="125"/>
                      </a:lnTo>
                      <a:lnTo>
                        <a:pt x="229" y="93"/>
                      </a:lnTo>
                      <a:lnTo>
                        <a:pt x="240" y="62"/>
                      </a:lnTo>
                      <a:lnTo>
                        <a:pt x="250" y="31"/>
                      </a:lnTo>
                      <a:lnTo>
                        <a:pt x="250" y="0"/>
                      </a:lnTo>
                      <a:lnTo>
                        <a:pt x="219" y="10"/>
                      </a:lnTo>
                      <a:lnTo>
                        <a:pt x="198" y="41"/>
                      </a:lnTo>
                      <a:lnTo>
                        <a:pt x="177" y="73"/>
                      </a:lnTo>
                      <a:lnTo>
                        <a:pt x="156" y="104"/>
                      </a:lnTo>
                      <a:lnTo>
                        <a:pt x="156" y="135"/>
                      </a:lnTo>
                      <a:lnTo>
                        <a:pt x="125" y="114"/>
                      </a:lnTo>
                      <a:lnTo>
                        <a:pt x="115" y="83"/>
                      </a:lnTo>
                      <a:lnTo>
                        <a:pt x="94" y="52"/>
                      </a:lnTo>
                      <a:lnTo>
                        <a:pt x="62" y="41"/>
                      </a:lnTo>
                      <a:lnTo>
                        <a:pt x="31" y="20"/>
                      </a:lnTo>
                      <a:lnTo>
                        <a:pt x="0" y="10"/>
                      </a:lnTo>
                      <a:lnTo>
                        <a:pt x="29" y="10"/>
                      </a:lnTo>
                    </a:path>
                  </a:pathLst>
                </a:custGeom>
                <a:solidFill>
                  <a:srgbClr val="114f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1736640" y="5180040"/>
                  <a:ext cx="435132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60" name=""/>
              <p:cNvSpPr/>
              <p:nvPr/>
            </p:nvSpPr>
            <p:spPr>
              <a:xfrm>
                <a:off x="6750000" y="121284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1161" name=""/>
            <p:cNvSpPr/>
            <p:nvPr/>
          </p:nvSpPr>
          <p:spPr>
            <a:xfrm>
              <a:off x="7581960" y="5276880"/>
              <a:ext cx="1542960" cy="1590480"/>
            </a:xfrm>
            <a:custGeom>
              <a:avLst/>
              <a:gdLst/>
              <a:ahLst/>
              <a:rect l="l" t="t" r="r" b="b"/>
              <a:pathLst>
                <a:path w="972" h="1002">
                  <a:moveTo>
                    <a:pt x="972" y="504"/>
                  </a:moveTo>
                  <a:lnTo>
                    <a:pt x="940" y="420"/>
                  </a:lnTo>
                  <a:lnTo>
                    <a:pt x="892" y="396"/>
                  </a:lnTo>
                  <a:lnTo>
                    <a:pt x="736" y="468"/>
                  </a:lnTo>
                  <a:lnTo>
                    <a:pt x="652" y="348"/>
                  </a:lnTo>
                  <a:lnTo>
                    <a:pt x="556" y="252"/>
                  </a:lnTo>
                  <a:lnTo>
                    <a:pt x="448" y="216"/>
                  </a:lnTo>
                  <a:lnTo>
                    <a:pt x="364" y="144"/>
                  </a:lnTo>
                  <a:lnTo>
                    <a:pt x="252" y="0"/>
                  </a:lnTo>
                  <a:lnTo>
                    <a:pt x="160" y="12"/>
                  </a:lnTo>
                  <a:lnTo>
                    <a:pt x="112" y="60"/>
                  </a:lnTo>
                  <a:lnTo>
                    <a:pt x="0" y="72"/>
                  </a:lnTo>
                  <a:lnTo>
                    <a:pt x="64" y="240"/>
                  </a:lnTo>
                  <a:lnTo>
                    <a:pt x="196" y="372"/>
                  </a:lnTo>
                  <a:lnTo>
                    <a:pt x="252" y="504"/>
                  </a:lnTo>
                  <a:lnTo>
                    <a:pt x="252" y="576"/>
                  </a:lnTo>
                  <a:lnTo>
                    <a:pt x="268" y="624"/>
                  </a:lnTo>
                  <a:lnTo>
                    <a:pt x="324" y="540"/>
                  </a:lnTo>
                  <a:lnTo>
                    <a:pt x="364" y="552"/>
                  </a:lnTo>
                  <a:lnTo>
                    <a:pt x="360" y="612"/>
                  </a:lnTo>
                  <a:lnTo>
                    <a:pt x="388" y="744"/>
                  </a:lnTo>
                  <a:lnTo>
                    <a:pt x="640" y="756"/>
                  </a:lnTo>
                  <a:lnTo>
                    <a:pt x="788" y="660"/>
                  </a:lnTo>
                  <a:lnTo>
                    <a:pt x="720" y="900"/>
                  </a:lnTo>
                  <a:lnTo>
                    <a:pt x="816" y="1002"/>
                  </a:lnTo>
                  <a:lnTo>
                    <a:pt x="972" y="1002"/>
                  </a:lnTo>
                </a:path>
              </a:pathLst>
            </a:custGeom>
            <a:solidFill>
              <a:srgbClr val="114ffb"/>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1162" name=""/>
          <p:cNvSpPr/>
          <p:nvPr/>
        </p:nvSpPr>
        <p:spPr>
          <a:xfrm>
            <a:off x="1392120" y="123840"/>
            <a:ext cx="6332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this to Make your own map.</a:t>
            </a:r>
            <a:endParaRPr b="0" lang="en-US" sz="3200" spc="-1" strike="noStrike">
              <a:solidFill>
                <a:srgbClr val="ffffff"/>
              </a:solidFill>
              <a:latin typeface="Times New Roman"/>
            </a:endParaRPr>
          </a:p>
        </p:txBody>
      </p:sp>
      <p:sp>
        <p:nvSpPr>
          <p:cNvPr id="1163" name=""/>
          <p:cNvSpPr/>
          <p:nvPr/>
        </p:nvSpPr>
        <p:spPr>
          <a:xfrm>
            <a:off x="61920" y="647856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1164" name="PlaceHolder 1"/>
          <p:cNvSpPr>
            <a:spLocks noGrp="1"/>
          </p:cNvSpPr>
          <p:nvPr>
            <p:ph type="title"/>
          </p:nvPr>
        </p:nvSpPr>
        <p:spPr>
          <a:xfrm>
            <a:off x="7639200" y="609480"/>
            <a:ext cx="1257120" cy="4003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Bible Lands Blank Map</a:t>
            </a:r>
            <a:endParaRPr b="1" lang="en-US" sz="100" spc="-1" strike="noStrike" u="sng">
              <a:solidFill>
                <a:srgbClr val="c0fef9"/>
              </a:solidFill>
              <a:uFillTx/>
              <a:latin typeface="Times New Roman"/>
            </a:endParaRPr>
          </a:p>
        </p:txBody>
      </p:sp>
      <p:sp>
        <p:nvSpPr>
          <p:cNvPr id="1165"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66" name=""/>
          <p:cNvSpPr/>
          <p:nvPr/>
        </p:nvSpPr>
        <p:spPr>
          <a:xfrm>
            <a:off x="157320" y="200160"/>
            <a:ext cx="2679480" cy="155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this to Make your own map.</a:t>
            </a:r>
            <a:endParaRPr b="0" lang="en-US" sz="3200" spc="-1" strike="noStrike">
              <a:solidFill>
                <a:srgbClr val="ffffff"/>
              </a:solidFill>
              <a:latin typeface="Times New Roman"/>
            </a:endParaRPr>
          </a:p>
        </p:txBody>
      </p:sp>
      <p:grpSp>
        <p:nvGrpSpPr>
          <p:cNvPr id="1167" name=""/>
          <p:cNvGrpSpPr/>
          <p:nvPr/>
        </p:nvGrpSpPr>
        <p:grpSpPr>
          <a:xfrm>
            <a:off x="2075040" y="114480"/>
            <a:ext cx="7047720" cy="6787080"/>
            <a:chOff x="2075040" y="114480"/>
            <a:chExt cx="7047720" cy="6787080"/>
          </a:xfrm>
        </p:grpSpPr>
        <p:grpSp>
          <p:nvGrpSpPr>
            <p:cNvPr id="1168" name=""/>
            <p:cNvGrpSpPr/>
            <p:nvPr/>
          </p:nvGrpSpPr>
          <p:grpSpPr>
            <a:xfrm>
              <a:off x="2075040" y="114480"/>
              <a:ext cx="7047720" cy="6787080"/>
              <a:chOff x="2075040" y="114480"/>
              <a:chExt cx="7047720" cy="6787080"/>
            </a:xfrm>
          </p:grpSpPr>
          <p:sp>
            <p:nvSpPr>
              <p:cNvPr id="1169" name=""/>
              <p:cNvSpPr/>
              <p:nvPr/>
            </p:nvSpPr>
            <p:spPr>
              <a:xfrm>
                <a:off x="2075040" y="171000"/>
                <a:ext cx="7031160" cy="6730560"/>
              </a:xfrm>
              <a:custGeom>
                <a:avLst/>
                <a:gdLst/>
                <a:ahLst/>
                <a:rect l="l" t="t" r="r" b="b"/>
                <a:pathLst>
                  <a:path w="2106" h="2016">
                    <a:moveTo>
                      <a:pt x="144" y="2016"/>
                    </a:moveTo>
                    <a:lnTo>
                      <a:pt x="90" y="1890"/>
                    </a:lnTo>
                    <a:lnTo>
                      <a:pt x="54" y="1746"/>
                    </a:lnTo>
                    <a:lnTo>
                      <a:pt x="18" y="1620"/>
                    </a:lnTo>
                    <a:lnTo>
                      <a:pt x="18" y="1440"/>
                    </a:lnTo>
                    <a:lnTo>
                      <a:pt x="0" y="1278"/>
                    </a:lnTo>
                    <a:lnTo>
                      <a:pt x="36" y="936"/>
                    </a:lnTo>
                    <a:lnTo>
                      <a:pt x="108" y="720"/>
                    </a:lnTo>
                    <a:lnTo>
                      <a:pt x="216" y="450"/>
                    </a:lnTo>
                    <a:lnTo>
                      <a:pt x="306" y="288"/>
                    </a:lnTo>
                    <a:lnTo>
                      <a:pt x="432" y="108"/>
                    </a:lnTo>
                    <a:lnTo>
                      <a:pt x="504" y="0"/>
                    </a:lnTo>
                    <a:lnTo>
                      <a:pt x="2106" y="0"/>
                    </a:lnTo>
                    <a:lnTo>
                      <a:pt x="2106" y="1998"/>
                    </a:lnTo>
                    <a:lnTo>
                      <a:pt x="108" y="1998"/>
                    </a:lnTo>
                  </a:path>
                </a:pathLst>
              </a:custGeom>
              <a:solidFill>
                <a:srgbClr val="0000ff"/>
              </a:solid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4197960" y="3269160"/>
                <a:ext cx="120240" cy="140040"/>
              </a:xfrm>
              <a:custGeom>
                <a:avLst/>
                <a:gdLst/>
                <a:ahLst/>
                <a:rect l="l" t="t" r="r" b="b"/>
                <a:pathLst>
                  <a:path w="36" h="42">
                    <a:moveTo>
                      <a:pt x="0" y="6"/>
                    </a:moveTo>
                    <a:lnTo>
                      <a:pt x="18" y="0"/>
                    </a:lnTo>
                    <a:lnTo>
                      <a:pt x="30" y="12"/>
                    </a:lnTo>
                    <a:lnTo>
                      <a:pt x="36" y="24"/>
                    </a:lnTo>
                    <a:lnTo>
                      <a:pt x="30" y="42"/>
                    </a:lnTo>
                    <a:lnTo>
                      <a:pt x="12" y="24"/>
                    </a:lnTo>
                    <a:lnTo>
                      <a:pt x="0" y="6"/>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3957840" y="3029040"/>
                <a:ext cx="79920" cy="159480"/>
              </a:xfrm>
              <a:custGeom>
                <a:avLst/>
                <a:gdLst/>
                <a:ahLst/>
                <a:rect l="l" t="t" r="r" b="b"/>
                <a:pathLst>
                  <a:path w="24" h="48">
                    <a:moveTo>
                      <a:pt x="0" y="18"/>
                    </a:moveTo>
                    <a:lnTo>
                      <a:pt x="18" y="0"/>
                    </a:lnTo>
                    <a:lnTo>
                      <a:pt x="24" y="12"/>
                    </a:lnTo>
                    <a:lnTo>
                      <a:pt x="24" y="48"/>
                    </a:lnTo>
                    <a:lnTo>
                      <a:pt x="0" y="48"/>
                    </a:lnTo>
                    <a:lnTo>
                      <a:pt x="0" y="18"/>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3977640" y="2888280"/>
                <a:ext cx="39960" cy="100440"/>
              </a:xfrm>
              <a:custGeom>
                <a:avLst/>
                <a:gdLst/>
                <a:ahLst/>
                <a:rect l="l" t="t" r="r" b="b"/>
                <a:pathLst>
                  <a:path w="12" h="30">
                    <a:moveTo>
                      <a:pt x="0" y="6"/>
                    </a:moveTo>
                    <a:lnTo>
                      <a:pt x="12" y="0"/>
                    </a:lnTo>
                    <a:lnTo>
                      <a:pt x="12" y="24"/>
                    </a:lnTo>
                    <a:lnTo>
                      <a:pt x="0" y="30"/>
                    </a:lnTo>
                    <a:lnTo>
                      <a:pt x="0" y="6"/>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3316680" y="1766880"/>
                <a:ext cx="240480" cy="260280"/>
              </a:xfrm>
              <a:custGeom>
                <a:avLst/>
                <a:gdLst/>
                <a:ahLst/>
                <a:rect l="l" t="t" r="r" b="b"/>
                <a:pathLst>
                  <a:path w="72" h="78">
                    <a:moveTo>
                      <a:pt x="6" y="54"/>
                    </a:moveTo>
                    <a:lnTo>
                      <a:pt x="60" y="0"/>
                    </a:lnTo>
                    <a:lnTo>
                      <a:pt x="72" y="0"/>
                    </a:lnTo>
                    <a:lnTo>
                      <a:pt x="72" y="12"/>
                    </a:lnTo>
                    <a:lnTo>
                      <a:pt x="54" y="30"/>
                    </a:lnTo>
                    <a:lnTo>
                      <a:pt x="60" y="48"/>
                    </a:lnTo>
                    <a:lnTo>
                      <a:pt x="48" y="72"/>
                    </a:lnTo>
                    <a:lnTo>
                      <a:pt x="36" y="72"/>
                    </a:lnTo>
                    <a:lnTo>
                      <a:pt x="0" y="78"/>
                    </a:lnTo>
                    <a:lnTo>
                      <a:pt x="6" y="54"/>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3470400" y="1573200"/>
                <a:ext cx="400320" cy="660600"/>
              </a:xfrm>
              <a:custGeom>
                <a:avLst/>
                <a:gdLst/>
                <a:ahLst/>
                <a:rect l="l" t="t" r="r" b="b"/>
                <a:pathLst>
                  <a:path w="120" h="198">
                    <a:moveTo>
                      <a:pt x="12" y="198"/>
                    </a:moveTo>
                    <a:cubicBezTo>
                      <a:pt x="27" y="193"/>
                      <a:pt x="38" y="186"/>
                      <a:pt x="54" y="186"/>
                    </a:cubicBezTo>
                    <a:lnTo>
                      <a:pt x="96" y="186"/>
                    </a:lnTo>
                    <a:lnTo>
                      <a:pt x="120" y="162"/>
                    </a:lnTo>
                    <a:lnTo>
                      <a:pt x="84" y="114"/>
                    </a:lnTo>
                    <a:lnTo>
                      <a:pt x="84" y="48"/>
                    </a:lnTo>
                    <a:lnTo>
                      <a:pt x="114" y="24"/>
                    </a:lnTo>
                    <a:lnTo>
                      <a:pt x="78" y="24"/>
                    </a:lnTo>
                    <a:lnTo>
                      <a:pt x="96" y="0"/>
                    </a:lnTo>
                    <a:lnTo>
                      <a:pt x="72" y="0"/>
                    </a:lnTo>
                    <a:lnTo>
                      <a:pt x="36" y="36"/>
                    </a:lnTo>
                    <a:lnTo>
                      <a:pt x="42" y="96"/>
                    </a:lnTo>
                    <a:lnTo>
                      <a:pt x="48" y="132"/>
                    </a:lnTo>
                    <a:lnTo>
                      <a:pt x="24" y="132"/>
                    </a:lnTo>
                    <a:lnTo>
                      <a:pt x="30" y="156"/>
                    </a:lnTo>
                    <a:lnTo>
                      <a:pt x="0" y="192"/>
                    </a:lnTo>
                    <a:lnTo>
                      <a:pt x="12" y="198"/>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3112920" y="114480"/>
                <a:ext cx="6009840" cy="5912640"/>
              </a:xfrm>
              <a:custGeom>
                <a:avLst/>
                <a:gdLst/>
                <a:ahLst/>
                <a:rect l="l" t="t" r="r" b="b"/>
                <a:pathLst>
                  <a:path w="1800" h="1771">
                    <a:moveTo>
                      <a:pt x="1800" y="1383"/>
                    </a:moveTo>
                    <a:lnTo>
                      <a:pt x="1742" y="1383"/>
                    </a:lnTo>
                    <a:lnTo>
                      <a:pt x="1613" y="1555"/>
                    </a:lnTo>
                    <a:lnTo>
                      <a:pt x="1627" y="1656"/>
                    </a:lnTo>
                    <a:lnTo>
                      <a:pt x="1584" y="1771"/>
                    </a:lnTo>
                    <a:lnTo>
                      <a:pt x="1541" y="1771"/>
                    </a:lnTo>
                    <a:lnTo>
                      <a:pt x="1397" y="1512"/>
                    </a:lnTo>
                    <a:lnTo>
                      <a:pt x="1397" y="1397"/>
                    </a:lnTo>
                    <a:lnTo>
                      <a:pt x="1353" y="1426"/>
                    </a:lnTo>
                    <a:lnTo>
                      <a:pt x="1281" y="1426"/>
                    </a:lnTo>
                    <a:lnTo>
                      <a:pt x="1325" y="1354"/>
                    </a:lnTo>
                    <a:lnTo>
                      <a:pt x="1195" y="1267"/>
                    </a:lnTo>
                    <a:lnTo>
                      <a:pt x="1065" y="1267"/>
                    </a:lnTo>
                    <a:lnTo>
                      <a:pt x="878" y="1167"/>
                    </a:lnTo>
                    <a:lnTo>
                      <a:pt x="878" y="1267"/>
                    </a:lnTo>
                    <a:lnTo>
                      <a:pt x="993" y="1325"/>
                    </a:lnTo>
                    <a:lnTo>
                      <a:pt x="1037" y="1325"/>
                    </a:lnTo>
                    <a:lnTo>
                      <a:pt x="921" y="1426"/>
                    </a:lnTo>
                    <a:lnTo>
                      <a:pt x="792" y="1483"/>
                    </a:lnTo>
                    <a:lnTo>
                      <a:pt x="792" y="1411"/>
                    </a:lnTo>
                    <a:lnTo>
                      <a:pt x="677" y="1239"/>
                    </a:lnTo>
                    <a:lnTo>
                      <a:pt x="590" y="1123"/>
                    </a:lnTo>
                    <a:lnTo>
                      <a:pt x="619" y="1095"/>
                    </a:lnTo>
                    <a:lnTo>
                      <a:pt x="691" y="1051"/>
                    </a:lnTo>
                    <a:lnTo>
                      <a:pt x="677" y="1008"/>
                    </a:lnTo>
                    <a:lnTo>
                      <a:pt x="677" y="951"/>
                    </a:lnTo>
                    <a:lnTo>
                      <a:pt x="633" y="979"/>
                    </a:lnTo>
                    <a:lnTo>
                      <a:pt x="576" y="965"/>
                    </a:lnTo>
                    <a:lnTo>
                      <a:pt x="533" y="951"/>
                    </a:lnTo>
                    <a:lnTo>
                      <a:pt x="533" y="879"/>
                    </a:lnTo>
                    <a:lnTo>
                      <a:pt x="561" y="893"/>
                    </a:lnTo>
                    <a:lnTo>
                      <a:pt x="619" y="850"/>
                    </a:lnTo>
                    <a:lnTo>
                      <a:pt x="734" y="821"/>
                    </a:lnTo>
                    <a:lnTo>
                      <a:pt x="662" y="763"/>
                    </a:lnTo>
                    <a:lnTo>
                      <a:pt x="662" y="720"/>
                    </a:lnTo>
                    <a:lnTo>
                      <a:pt x="648" y="763"/>
                    </a:lnTo>
                    <a:lnTo>
                      <a:pt x="619" y="763"/>
                    </a:lnTo>
                    <a:lnTo>
                      <a:pt x="590" y="735"/>
                    </a:lnTo>
                    <a:lnTo>
                      <a:pt x="561" y="763"/>
                    </a:lnTo>
                    <a:lnTo>
                      <a:pt x="561" y="807"/>
                    </a:lnTo>
                    <a:lnTo>
                      <a:pt x="547" y="835"/>
                    </a:lnTo>
                    <a:lnTo>
                      <a:pt x="561" y="864"/>
                    </a:lnTo>
                    <a:lnTo>
                      <a:pt x="533" y="864"/>
                    </a:lnTo>
                    <a:lnTo>
                      <a:pt x="489" y="922"/>
                    </a:lnTo>
                    <a:lnTo>
                      <a:pt x="489" y="965"/>
                    </a:lnTo>
                    <a:lnTo>
                      <a:pt x="461" y="994"/>
                    </a:lnTo>
                    <a:lnTo>
                      <a:pt x="446" y="951"/>
                    </a:lnTo>
                    <a:lnTo>
                      <a:pt x="446" y="907"/>
                    </a:lnTo>
                    <a:lnTo>
                      <a:pt x="432" y="879"/>
                    </a:lnTo>
                    <a:lnTo>
                      <a:pt x="374" y="807"/>
                    </a:lnTo>
                    <a:lnTo>
                      <a:pt x="360" y="778"/>
                    </a:lnTo>
                    <a:lnTo>
                      <a:pt x="331" y="792"/>
                    </a:lnTo>
                    <a:lnTo>
                      <a:pt x="331" y="821"/>
                    </a:lnTo>
                    <a:lnTo>
                      <a:pt x="403" y="907"/>
                    </a:lnTo>
                    <a:lnTo>
                      <a:pt x="374" y="936"/>
                    </a:lnTo>
                    <a:lnTo>
                      <a:pt x="374" y="965"/>
                    </a:lnTo>
                    <a:lnTo>
                      <a:pt x="360" y="922"/>
                    </a:lnTo>
                    <a:lnTo>
                      <a:pt x="331" y="879"/>
                    </a:lnTo>
                    <a:lnTo>
                      <a:pt x="317" y="835"/>
                    </a:lnTo>
                    <a:lnTo>
                      <a:pt x="273" y="792"/>
                    </a:lnTo>
                    <a:lnTo>
                      <a:pt x="187" y="807"/>
                    </a:lnTo>
                    <a:lnTo>
                      <a:pt x="86" y="936"/>
                    </a:lnTo>
                    <a:lnTo>
                      <a:pt x="57" y="936"/>
                    </a:lnTo>
                    <a:lnTo>
                      <a:pt x="0" y="893"/>
                    </a:lnTo>
                    <a:lnTo>
                      <a:pt x="0" y="850"/>
                    </a:lnTo>
                    <a:lnTo>
                      <a:pt x="0" y="807"/>
                    </a:lnTo>
                    <a:lnTo>
                      <a:pt x="14" y="749"/>
                    </a:lnTo>
                    <a:lnTo>
                      <a:pt x="72" y="749"/>
                    </a:lnTo>
                    <a:lnTo>
                      <a:pt x="115" y="778"/>
                    </a:lnTo>
                    <a:lnTo>
                      <a:pt x="144" y="735"/>
                    </a:lnTo>
                    <a:lnTo>
                      <a:pt x="144" y="706"/>
                    </a:lnTo>
                    <a:lnTo>
                      <a:pt x="129" y="663"/>
                    </a:lnTo>
                    <a:lnTo>
                      <a:pt x="187" y="663"/>
                    </a:lnTo>
                    <a:lnTo>
                      <a:pt x="273" y="576"/>
                    </a:lnTo>
                    <a:lnTo>
                      <a:pt x="317" y="576"/>
                    </a:lnTo>
                    <a:lnTo>
                      <a:pt x="317" y="519"/>
                    </a:lnTo>
                    <a:lnTo>
                      <a:pt x="345" y="533"/>
                    </a:lnTo>
                    <a:lnTo>
                      <a:pt x="345" y="562"/>
                    </a:lnTo>
                    <a:lnTo>
                      <a:pt x="403" y="591"/>
                    </a:lnTo>
                    <a:lnTo>
                      <a:pt x="417" y="562"/>
                    </a:lnTo>
                    <a:lnTo>
                      <a:pt x="475" y="504"/>
                    </a:lnTo>
                    <a:lnTo>
                      <a:pt x="533" y="475"/>
                    </a:lnTo>
                    <a:lnTo>
                      <a:pt x="475" y="461"/>
                    </a:lnTo>
                    <a:lnTo>
                      <a:pt x="461" y="403"/>
                    </a:lnTo>
                    <a:lnTo>
                      <a:pt x="518" y="303"/>
                    </a:lnTo>
                    <a:lnTo>
                      <a:pt x="504" y="274"/>
                    </a:lnTo>
                    <a:lnTo>
                      <a:pt x="403" y="403"/>
                    </a:lnTo>
                    <a:lnTo>
                      <a:pt x="417" y="475"/>
                    </a:lnTo>
                    <a:lnTo>
                      <a:pt x="403" y="504"/>
                    </a:lnTo>
                    <a:lnTo>
                      <a:pt x="374" y="547"/>
                    </a:lnTo>
                    <a:lnTo>
                      <a:pt x="360" y="461"/>
                    </a:lnTo>
                    <a:lnTo>
                      <a:pt x="317" y="490"/>
                    </a:lnTo>
                    <a:lnTo>
                      <a:pt x="288" y="490"/>
                    </a:lnTo>
                    <a:lnTo>
                      <a:pt x="288" y="403"/>
                    </a:lnTo>
                    <a:lnTo>
                      <a:pt x="446" y="202"/>
                    </a:lnTo>
                    <a:lnTo>
                      <a:pt x="547" y="159"/>
                    </a:lnTo>
                    <a:lnTo>
                      <a:pt x="648" y="187"/>
                    </a:lnTo>
                    <a:lnTo>
                      <a:pt x="662" y="259"/>
                    </a:lnTo>
                    <a:lnTo>
                      <a:pt x="619" y="259"/>
                    </a:lnTo>
                    <a:lnTo>
                      <a:pt x="677" y="346"/>
                    </a:lnTo>
                    <a:lnTo>
                      <a:pt x="864" y="245"/>
                    </a:lnTo>
                    <a:lnTo>
                      <a:pt x="835" y="187"/>
                    </a:lnTo>
                    <a:lnTo>
                      <a:pt x="921" y="87"/>
                    </a:lnTo>
                    <a:lnTo>
                      <a:pt x="979" y="87"/>
                    </a:lnTo>
                    <a:lnTo>
                      <a:pt x="893" y="130"/>
                    </a:lnTo>
                    <a:lnTo>
                      <a:pt x="893" y="231"/>
                    </a:lnTo>
                    <a:lnTo>
                      <a:pt x="993" y="303"/>
                    </a:lnTo>
                    <a:lnTo>
                      <a:pt x="1123" y="130"/>
                    </a:lnTo>
                    <a:lnTo>
                      <a:pt x="1425" y="0"/>
                    </a:lnTo>
                    <a:lnTo>
                      <a:pt x="1800"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234520" y="3276000"/>
                <a:ext cx="4116960" cy="3575520"/>
              </a:xfrm>
              <a:custGeom>
                <a:avLst/>
                <a:gdLst/>
                <a:ahLst/>
                <a:rect l="l" t="t" r="r" b="b"/>
                <a:pathLst>
                  <a:path w="1233" h="1071">
                    <a:moveTo>
                      <a:pt x="522" y="1071"/>
                    </a:moveTo>
                    <a:cubicBezTo>
                      <a:pt x="516" y="1065"/>
                      <a:pt x="510" y="1059"/>
                      <a:pt x="504" y="1053"/>
                    </a:cubicBezTo>
                    <a:cubicBezTo>
                      <a:pt x="501" y="1050"/>
                      <a:pt x="513" y="1044"/>
                      <a:pt x="513" y="1044"/>
                    </a:cubicBezTo>
                    <a:lnTo>
                      <a:pt x="459" y="882"/>
                    </a:lnTo>
                    <a:lnTo>
                      <a:pt x="450" y="792"/>
                    </a:lnTo>
                    <a:lnTo>
                      <a:pt x="468" y="729"/>
                    </a:lnTo>
                    <a:lnTo>
                      <a:pt x="342" y="693"/>
                    </a:lnTo>
                    <a:lnTo>
                      <a:pt x="189" y="693"/>
                    </a:lnTo>
                    <a:lnTo>
                      <a:pt x="162" y="729"/>
                    </a:lnTo>
                    <a:lnTo>
                      <a:pt x="90" y="666"/>
                    </a:lnTo>
                    <a:lnTo>
                      <a:pt x="0" y="531"/>
                    </a:lnTo>
                    <a:lnTo>
                      <a:pt x="18" y="477"/>
                    </a:lnTo>
                    <a:lnTo>
                      <a:pt x="36" y="423"/>
                    </a:lnTo>
                    <a:lnTo>
                      <a:pt x="36" y="351"/>
                    </a:lnTo>
                    <a:lnTo>
                      <a:pt x="90" y="243"/>
                    </a:lnTo>
                    <a:lnTo>
                      <a:pt x="117" y="234"/>
                    </a:lnTo>
                    <a:lnTo>
                      <a:pt x="144" y="198"/>
                    </a:lnTo>
                    <a:lnTo>
                      <a:pt x="171" y="126"/>
                    </a:lnTo>
                    <a:lnTo>
                      <a:pt x="315" y="0"/>
                    </a:lnTo>
                    <a:lnTo>
                      <a:pt x="414" y="54"/>
                    </a:lnTo>
                    <a:lnTo>
                      <a:pt x="504" y="36"/>
                    </a:lnTo>
                    <a:lnTo>
                      <a:pt x="522" y="117"/>
                    </a:lnTo>
                    <a:lnTo>
                      <a:pt x="576" y="117"/>
                    </a:lnTo>
                    <a:lnTo>
                      <a:pt x="630" y="162"/>
                    </a:lnTo>
                    <a:lnTo>
                      <a:pt x="684" y="135"/>
                    </a:lnTo>
                    <a:lnTo>
                      <a:pt x="783" y="171"/>
                    </a:lnTo>
                    <a:lnTo>
                      <a:pt x="855" y="171"/>
                    </a:lnTo>
                    <a:lnTo>
                      <a:pt x="873" y="171"/>
                    </a:lnTo>
                    <a:lnTo>
                      <a:pt x="864" y="261"/>
                    </a:lnTo>
                    <a:lnTo>
                      <a:pt x="927" y="324"/>
                    </a:lnTo>
                    <a:lnTo>
                      <a:pt x="954" y="441"/>
                    </a:lnTo>
                    <a:lnTo>
                      <a:pt x="981" y="468"/>
                    </a:lnTo>
                    <a:lnTo>
                      <a:pt x="1026" y="513"/>
                    </a:lnTo>
                    <a:lnTo>
                      <a:pt x="1062" y="531"/>
                    </a:lnTo>
                    <a:lnTo>
                      <a:pt x="1053" y="576"/>
                    </a:lnTo>
                    <a:lnTo>
                      <a:pt x="1116" y="612"/>
                    </a:lnTo>
                    <a:lnTo>
                      <a:pt x="1215" y="558"/>
                    </a:lnTo>
                    <a:lnTo>
                      <a:pt x="1233" y="585"/>
                    </a:lnTo>
                    <a:lnTo>
                      <a:pt x="1161" y="756"/>
                    </a:lnTo>
                    <a:lnTo>
                      <a:pt x="1035" y="846"/>
                    </a:lnTo>
                    <a:lnTo>
                      <a:pt x="1044" y="873"/>
                    </a:lnTo>
                    <a:lnTo>
                      <a:pt x="1044" y="918"/>
                    </a:lnTo>
                    <a:lnTo>
                      <a:pt x="981" y="981"/>
                    </a:lnTo>
                    <a:lnTo>
                      <a:pt x="1008" y="1008"/>
                    </a:lnTo>
                    <a:lnTo>
                      <a:pt x="1035" y="1071"/>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4605120" y="3396240"/>
                <a:ext cx="100440" cy="39960"/>
              </a:xfrm>
              <a:custGeom>
                <a:avLst/>
                <a:gdLst/>
                <a:ahLst/>
                <a:rect l="l" t="t" r="r" b="b"/>
                <a:pathLst>
                  <a:path w="30" h="12">
                    <a:moveTo>
                      <a:pt x="0" y="0"/>
                    </a:moveTo>
                    <a:lnTo>
                      <a:pt x="24" y="0"/>
                    </a:lnTo>
                    <a:lnTo>
                      <a:pt x="30" y="12"/>
                    </a:lnTo>
                    <a:lnTo>
                      <a:pt x="18" y="12"/>
                    </a:lnTo>
                    <a:lnTo>
                      <a:pt x="6" y="12"/>
                    </a:lnTo>
                  </a:path>
                </a:pathLst>
              </a:custGeom>
              <a:solidFill>
                <a:srgbClr val="008000"/>
              </a:solidFill>
              <a:ln w="25560">
                <a:solidFill>
                  <a:srgbClr val="000000"/>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8" name=""/>
              <p:cNvSpPr/>
              <p:nvPr/>
            </p:nvSpPr>
            <p:spPr>
              <a:xfrm>
                <a:off x="5226840" y="3432600"/>
                <a:ext cx="79200" cy="43560"/>
              </a:xfrm>
              <a:custGeom>
                <a:avLst/>
                <a:gdLst/>
                <a:ahLst/>
                <a:rect l="l" t="t" r="r" b="b"/>
                <a:pathLst>
                  <a:path w="24" h="13">
                    <a:moveTo>
                      <a:pt x="0" y="7"/>
                    </a:moveTo>
                    <a:cubicBezTo>
                      <a:pt x="20" y="0"/>
                      <a:pt x="12" y="1"/>
                      <a:pt x="24" y="1"/>
                    </a:cubicBezTo>
                    <a:lnTo>
                      <a:pt x="18" y="13"/>
                    </a:lnTo>
                    <a:lnTo>
                      <a:pt x="0" y="7"/>
                    </a:lnTo>
                    <a:close/>
                  </a:path>
                </a:pathLst>
              </a:custGeom>
              <a:solidFill>
                <a:srgbClr val="008000"/>
              </a:solidFill>
              <a:ln w="25560">
                <a:solidFill>
                  <a:srgbClr val="000000"/>
                </a:solidFill>
                <a:round/>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grpSp>
        <p:sp>
          <p:nvSpPr>
            <p:cNvPr id="1179" name=""/>
            <p:cNvSpPr/>
            <p:nvPr/>
          </p:nvSpPr>
          <p:spPr>
            <a:xfrm>
              <a:off x="2519280" y="647856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0" name=""/>
          <p:cNvSpPr/>
          <p:nvPr/>
        </p:nvSpPr>
        <p:spPr>
          <a:xfrm>
            <a:off x="157320" y="200160"/>
            <a:ext cx="2679480" cy="155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this to Make your own map.</a:t>
            </a:r>
            <a:endParaRPr b="0" lang="en-US" sz="3200" spc="-1" strike="noStrike">
              <a:solidFill>
                <a:srgbClr val="ffffff"/>
              </a:solidFill>
              <a:latin typeface="Times New Roman"/>
            </a:endParaRPr>
          </a:p>
        </p:txBody>
      </p:sp>
      <p:grpSp>
        <p:nvGrpSpPr>
          <p:cNvPr id="1181" name=""/>
          <p:cNvGrpSpPr/>
          <p:nvPr/>
        </p:nvGrpSpPr>
        <p:grpSpPr>
          <a:xfrm>
            <a:off x="57240" y="1714680"/>
            <a:ext cx="9086760" cy="5086080"/>
            <a:chOff x="57240" y="1714680"/>
            <a:chExt cx="9086760" cy="5086080"/>
          </a:xfrm>
        </p:grpSpPr>
        <p:sp>
          <p:nvSpPr>
            <p:cNvPr id="1182" name=""/>
            <p:cNvSpPr/>
            <p:nvPr/>
          </p:nvSpPr>
          <p:spPr>
            <a:xfrm>
              <a:off x="57240" y="1733400"/>
              <a:ext cx="9029520" cy="497232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2781360" y="3560760"/>
              <a:ext cx="9504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57240" y="4280040"/>
              <a:ext cx="5371920" cy="2520720"/>
            </a:xfrm>
            <a:custGeom>
              <a:avLst/>
              <a:gdLst/>
              <a:ahLst/>
              <a:rect l="l" t="t" r="r" b="b"/>
              <a:pathLst>
                <a:path w="3384" h="1588">
                  <a:moveTo>
                    <a:pt x="3384" y="1552"/>
                  </a:moveTo>
                  <a:lnTo>
                    <a:pt x="3348" y="1228"/>
                  </a:lnTo>
                  <a:lnTo>
                    <a:pt x="3060" y="976"/>
                  </a:lnTo>
                  <a:lnTo>
                    <a:pt x="3080" y="820"/>
                  </a:lnTo>
                  <a:lnTo>
                    <a:pt x="3092" y="664"/>
                  </a:lnTo>
                  <a:lnTo>
                    <a:pt x="2988" y="652"/>
                  </a:lnTo>
                  <a:lnTo>
                    <a:pt x="2916" y="616"/>
                  </a:lnTo>
                  <a:lnTo>
                    <a:pt x="2808" y="652"/>
                  </a:lnTo>
                  <a:lnTo>
                    <a:pt x="2376" y="472"/>
                  </a:lnTo>
                  <a:lnTo>
                    <a:pt x="2240" y="516"/>
                  </a:lnTo>
                  <a:lnTo>
                    <a:pt x="2228" y="624"/>
                  </a:lnTo>
                  <a:lnTo>
                    <a:pt x="1692" y="400"/>
                  </a:lnTo>
                  <a:lnTo>
                    <a:pt x="1652" y="156"/>
                  </a:lnTo>
                  <a:lnTo>
                    <a:pt x="1296" y="184"/>
                  </a:lnTo>
                  <a:lnTo>
                    <a:pt x="904" y="0"/>
                  </a:lnTo>
                  <a:lnTo>
                    <a:pt x="576" y="184"/>
                  </a:lnTo>
                  <a:lnTo>
                    <a:pt x="288" y="472"/>
                  </a:lnTo>
                  <a:lnTo>
                    <a:pt x="288" y="544"/>
                  </a:lnTo>
                  <a:lnTo>
                    <a:pt x="216" y="652"/>
                  </a:lnTo>
                  <a:lnTo>
                    <a:pt x="72" y="832"/>
                  </a:lnTo>
                  <a:lnTo>
                    <a:pt x="0" y="868"/>
                  </a:lnTo>
                  <a:lnTo>
                    <a:pt x="0" y="158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61200" y="646272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1186" name=""/>
            <p:cNvSpPr/>
            <p:nvPr/>
          </p:nvSpPr>
          <p:spPr>
            <a:xfrm>
              <a:off x="2771640" y="3917880"/>
              <a:ext cx="114480" cy="235080"/>
            </a:xfrm>
            <a:custGeom>
              <a:avLst/>
              <a:gdLst/>
              <a:ahLst/>
              <a:rect l="l" t="t" r="r" b="b"/>
              <a:pathLst>
                <a:path w="72" h="148">
                  <a:moveTo>
                    <a:pt x="70" y="0"/>
                  </a:moveTo>
                  <a:lnTo>
                    <a:pt x="0" y="4"/>
                  </a:lnTo>
                  <a:lnTo>
                    <a:pt x="0" y="148"/>
                  </a:lnTo>
                  <a:lnTo>
                    <a:pt x="54" y="148"/>
                  </a:lnTo>
                  <a:lnTo>
                    <a:pt x="72" y="76"/>
                  </a:lnTo>
                  <a:lnTo>
                    <a:pt x="7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086280" y="4260960"/>
              <a:ext cx="272880" cy="95040"/>
            </a:xfrm>
            <a:custGeom>
              <a:avLst/>
              <a:gdLst/>
              <a:ahLst/>
              <a:rect l="l" t="t" r="r" b="b"/>
              <a:pathLst>
                <a:path w="172" h="60">
                  <a:moveTo>
                    <a:pt x="96" y="0"/>
                  </a:moveTo>
                  <a:lnTo>
                    <a:pt x="172" y="0"/>
                  </a:lnTo>
                  <a:lnTo>
                    <a:pt x="148" y="36"/>
                  </a:lnTo>
                  <a:lnTo>
                    <a:pt x="136" y="60"/>
                  </a:lnTo>
                  <a:lnTo>
                    <a:pt x="0" y="12"/>
                  </a:lnTo>
                  <a:lnTo>
                    <a:pt x="96"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4062240" y="4643280"/>
              <a:ext cx="223920" cy="9396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143680" y="4508640"/>
              <a:ext cx="209520" cy="228600"/>
            </a:xfrm>
            <a:custGeom>
              <a:avLst/>
              <a:gdLst/>
              <a:ahLst/>
              <a:rect l="l" t="t" r="r" b="b"/>
              <a:pathLst>
                <a:path w="132" h="144">
                  <a:moveTo>
                    <a:pt x="0" y="108"/>
                  </a:moveTo>
                  <a:lnTo>
                    <a:pt x="72" y="46"/>
                  </a:lnTo>
                  <a:lnTo>
                    <a:pt x="132" y="0"/>
                  </a:lnTo>
                  <a:lnTo>
                    <a:pt x="108" y="100"/>
                  </a:lnTo>
                  <a:lnTo>
                    <a:pt x="60" y="144"/>
                  </a:lnTo>
                  <a:lnTo>
                    <a:pt x="0" y="108"/>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1685880" y="1724040"/>
              <a:ext cx="800280" cy="714240"/>
            </a:xfrm>
            <a:custGeom>
              <a:avLst/>
              <a:gdLst/>
              <a:ahLst/>
              <a:rect l="l" t="t" r="r" b="b"/>
              <a:pathLst>
                <a:path w="504" h="450">
                  <a:moveTo>
                    <a:pt x="0" y="396"/>
                  </a:moveTo>
                  <a:lnTo>
                    <a:pt x="54" y="450"/>
                  </a:lnTo>
                  <a:lnTo>
                    <a:pt x="198" y="378"/>
                  </a:lnTo>
                  <a:lnTo>
                    <a:pt x="396" y="396"/>
                  </a:lnTo>
                  <a:lnTo>
                    <a:pt x="504" y="288"/>
                  </a:lnTo>
                  <a:lnTo>
                    <a:pt x="342" y="72"/>
                  </a:lnTo>
                  <a:lnTo>
                    <a:pt x="342" y="0"/>
                  </a:lnTo>
                  <a:lnTo>
                    <a:pt x="180" y="0"/>
                  </a:lnTo>
                  <a:lnTo>
                    <a:pt x="180" y="162"/>
                  </a:lnTo>
                  <a:lnTo>
                    <a:pt x="108" y="162"/>
                  </a:lnTo>
                  <a:lnTo>
                    <a:pt x="126" y="270"/>
                  </a:lnTo>
                  <a:lnTo>
                    <a:pt x="0" y="396"/>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1400040" y="1743120"/>
              <a:ext cx="40032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958680" y="1714680"/>
              <a:ext cx="8185320" cy="5029200"/>
            </a:xfrm>
            <a:custGeom>
              <a:avLst/>
              <a:gdLst/>
              <a:ahLst/>
              <a:rect l="l" t="t" r="r" b="b"/>
              <a:pathLst>
                <a:path w="5156" h="3168">
                  <a:moveTo>
                    <a:pt x="5156" y="3096"/>
                  </a:moveTo>
                  <a:lnTo>
                    <a:pt x="4940" y="2916"/>
                  </a:lnTo>
                  <a:lnTo>
                    <a:pt x="4436" y="2916"/>
                  </a:lnTo>
                  <a:lnTo>
                    <a:pt x="3728" y="2460"/>
                  </a:lnTo>
                  <a:lnTo>
                    <a:pt x="3404" y="2532"/>
                  </a:lnTo>
                  <a:lnTo>
                    <a:pt x="4112" y="3168"/>
                  </a:lnTo>
                  <a:lnTo>
                    <a:pt x="3032" y="3168"/>
                  </a:lnTo>
                  <a:lnTo>
                    <a:pt x="2560" y="2448"/>
                  </a:lnTo>
                  <a:lnTo>
                    <a:pt x="2528" y="2268"/>
                  </a:lnTo>
                  <a:lnTo>
                    <a:pt x="2708" y="2160"/>
                  </a:lnTo>
                  <a:lnTo>
                    <a:pt x="2816" y="2036"/>
                  </a:lnTo>
                  <a:lnTo>
                    <a:pt x="2864" y="1904"/>
                  </a:lnTo>
                  <a:lnTo>
                    <a:pt x="2816" y="1620"/>
                  </a:lnTo>
                  <a:lnTo>
                    <a:pt x="2636" y="1700"/>
                  </a:lnTo>
                  <a:lnTo>
                    <a:pt x="2240" y="1656"/>
                  </a:lnTo>
                  <a:lnTo>
                    <a:pt x="2264" y="1448"/>
                  </a:lnTo>
                  <a:lnTo>
                    <a:pt x="2348" y="1404"/>
                  </a:lnTo>
                  <a:lnTo>
                    <a:pt x="2564" y="1260"/>
                  </a:lnTo>
                  <a:lnTo>
                    <a:pt x="3164" y="1184"/>
                  </a:lnTo>
                  <a:lnTo>
                    <a:pt x="3200" y="1052"/>
                  </a:lnTo>
                  <a:lnTo>
                    <a:pt x="2780" y="900"/>
                  </a:lnTo>
                  <a:lnTo>
                    <a:pt x="2816" y="756"/>
                  </a:lnTo>
                  <a:lnTo>
                    <a:pt x="2720" y="920"/>
                  </a:lnTo>
                  <a:lnTo>
                    <a:pt x="2600" y="920"/>
                  </a:lnTo>
                  <a:lnTo>
                    <a:pt x="2528" y="944"/>
                  </a:lnTo>
                  <a:lnTo>
                    <a:pt x="2396" y="1064"/>
                  </a:lnTo>
                  <a:lnTo>
                    <a:pt x="2480" y="1244"/>
                  </a:lnTo>
                  <a:lnTo>
                    <a:pt x="2420" y="1260"/>
                  </a:lnTo>
                  <a:lnTo>
                    <a:pt x="2372" y="1256"/>
                  </a:lnTo>
                  <a:lnTo>
                    <a:pt x="2276" y="1388"/>
                  </a:lnTo>
                  <a:lnTo>
                    <a:pt x="2060" y="1400"/>
                  </a:lnTo>
                  <a:lnTo>
                    <a:pt x="2060" y="1548"/>
                  </a:lnTo>
                  <a:lnTo>
                    <a:pt x="2060" y="1656"/>
                  </a:lnTo>
                  <a:lnTo>
                    <a:pt x="1964" y="1772"/>
                  </a:lnTo>
                  <a:lnTo>
                    <a:pt x="1880" y="1728"/>
                  </a:lnTo>
                  <a:lnTo>
                    <a:pt x="1880" y="1476"/>
                  </a:lnTo>
                  <a:lnTo>
                    <a:pt x="1880" y="1404"/>
                  </a:lnTo>
                  <a:lnTo>
                    <a:pt x="1556" y="944"/>
                  </a:lnTo>
                  <a:lnTo>
                    <a:pt x="1484" y="1016"/>
                  </a:lnTo>
                  <a:lnTo>
                    <a:pt x="1508" y="1136"/>
                  </a:lnTo>
                  <a:lnTo>
                    <a:pt x="1691" y="1389"/>
                  </a:lnTo>
                  <a:lnTo>
                    <a:pt x="1673" y="1452"/>
                  </a:lnTo>
                  <a:lnTo>
                    <a:pt x="1604" y="1388"/>
                  </a:lnTo>
                  <a:lnTo>
                    <a:pt x="1601" y="1479"/>
                  </a:lnTo>
                  <a:lnTo>
                    <a:pt x="1556" y="1551"/>
                  </a:lnTo>
                  <a:lnTo>
                    <a:pt x="1538" y="1533"/>
                  </a:lnTo>
                  <a:lnTo>
                    <a:pt x="1529" y="1407"/>
                  </a:lnTo>
                  <a:lnTo>
                    <a:pt x="1412" y="1260"/>
                  </a:lnTo>
                  <a:lnTo>
                    <a:pt x="1232" y="1008"/>
                  </a:lnTo>
                  <a:lnTo>
                    <a:pt x="908" y="1008"/>
                  </a:lnTo>
                  <a:lnTo>
                    <a:pt x="512" y="1548"/>
                  </a:lnTo>
                  <a:lnTo>
                    <a:pt x="228" y="1496"/>
                  </a:lnTo>
                  <a:lnTo>
                    <a:pt x="0" y="1292"/>
                  </a:lnTo>
                  <a:lnTo>
                    <a:pt x="116" y="1044"/>
                  </a:lnTo>
                  <a:lnTo>
                    <a:pt x="188" y="828"/>
                  </a:lnTo>
                  <a:lnTo>
                    <a:pt x="276" y="800"/>
                  </a:lnTo>
                  <a:lnTo>
                    <a:pt x="584" y="936"/>
                  </a:lnTo>
                  <a:lnTo>
                    <a:pt x="728" y="756"/>
                  </a:lnTo>
                  <a:lnTo>
                    <a:pt x="584" y="504"/>
                  </a:lnTo>
                  <a:lnTo>
                    <a:pt x="908" y="504"/>
                  </a:lnTo>
                  <a:lnTo>
                    <a:pt x="944" y="360"/>
                  </a:lnTo>
                  <a:lnTo>
                    <a:pt x="1196" y="180"/>
                  </a:lnTo>
                  <a:lnTo>
                    <a:pt x="1412" y="108"/>
                  </a:lnTo>
                  <a:lnTo>
                    <a:pt x="1388" y="12"/>
                  </a:lnTo>
                  <a:lnTo>
                    <a:pt x="1484" y="12"/>
                  </a:lnTo>
                  <a:lnTo>
                    <a:pt x="1520" y="108"/>
                  </a:lnTo>
                  <a:lnTo>
                    <a:pt x="1736" y="252"/>
                  </a:lnTo>
                  <a:lnTo>
                    <a:pt x="1844" y="0"/>
                  </a:lnTo>
                  <a:lnTo>
                    <a:pt x="5156"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041800" y="5397480"/>
              <a:ext cx="127080" cy="26028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194" name=""/>
            <p:cNvSpPr/>
            <p:nvPr/>
          </p:nvSpPr>
          <p:spPr>
            <a:xfrm>
              <a:off x="6235560" y="264168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pic>
        <p:nvPicPr>
          <p:cNvPr id="1195" name="" descr=""/>
          <p:cNvPicPr/>
          <p:nvPr/>
        </p:nvPicPr>
        <p:blipFill>
          <a:blip r:embed="rId1"/>
          <a:stretch/>
        </p:blipFill>
        <p:spPr>
          <a:xfrm>
            <a:off x="0" y="0"/>
            <a:ext cx="9131400" cy="6845400"/>
          </a:xfrm>
          <a:prstGeom prst="rect">
            <a:avLst/>
          </a:prstGeom>
          <a:ln w="0">
            <a:noFill/>
          </a:ln>
        </p:spPr>
      </p:pic>
      <p:sp>
        <p:nvSpPr>
          <p:cNvPr id="1196" name=""/>
          <p:cNvSpPr/>
          <p:nvPr/>
        </p:nvSpPr>
        <p:spPr>
          <a:xfrm>
            <a:off x="157320" y="200160"/>
            <a:ext cx="2679480" cy="155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this to Make your own ma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342720" y="-3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Times New Roman"/>
              </a:rPr>
              <a:t>More Tips and Tricks</a:t>
            </a:r>
            <a:endParaRPr b="1" lang="en-US" sz="5400" spc="-1" strike="noStrike" u="sng">
              <a:solidFill>
                <a:srgbClr val="c0fef9"/>
              </a:solidFill>
              <a:uFillTx/>
              <a:latin typeface="Times New Roman"/>
            </a:endParaRPr>
          </a:p>
        </p:txBody>
      </p:sp>
      <p:sp>
        <p:nvSpPr>
          <p:cNvPr id="1198" name="PlaceHolder 2"/>
          <p:cNvSpPr>
            <a:spLocks noGrp="1"/>
          </p:cNvSpPr>
          <p:nvPr>
            <p:ph/>
          </p:nvPr>
        </p:nvSpPr>
        <p:spPr>
          <a:xfrm>
            <a:off x="361440" y="990360"/>
            <a:ext cx="8587080" cy="5715000"/>
          </a:xfrm>
          <a:prstGeom prst="rect">
            <a:avLst/>
          </a:prstGeom>
          <a:noFill/>
          <a:ln w="0">
            <a:noFill/>
          </a:ln>
        </p:spPr>
        <p:txBody>
          <a:bodyPr lIns="90360" rIns="90360" tIns="44280" bIns="44280" anchor="t">
            <a:normAutofit/>
          </a:bodyPr>
          <a:p>
            <a:pPr marL="343080" indent="-343080">
              <a:spcBef>
                <a:spcPts val="550"/>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  </a:t>
            </a:r>
            <a:r>
              <a:rPr b="1" lang="en-US" sz="2200" spc="-1" strike="noStrike" u="sng">
                <a:solidFill>
                  <a:srgbClr val="ffffff"/>
                </a:solidFill>
                <a:uFillTx/>
                <a:latin typeface="Times New Roman"/>
              </a:rPr>
              <a:t>FONT SIZE</a:t>
            </a:r>
            <a:r>
              <a:rPr b="1" lang="en-US" sz="2200" spc="-1" strike="noStrike">
                <a:solidFill>
                  <a:srgbClr val="ffffff"/>
                </a:solidFill>
                <a:latin typeface="Times New Roman"/>
              </a:rPr>
              <a:t>:  This program is designed for video projection and uses large fonts for maximum visibility.  Prior to using in your class or sermon, try viewing the slides from the most distant seat in your room to make sure that the image is large enough to read the text.</a:t>
            </a:r>
            <a:endParaRPr b="1" lang="en-US" sz="2200" spc="-1" strike="noStrike">
              <a:solidFill>
                <a:srgbClr val="ffffff"/>
              </a:solidFill>
              <a:latin typeface="Times New Roman"/>
            </a:endParaRPr>
          </a:p>
          <a:p>
            <a:pPr marL="343080" indent="-343080">
              <a:spcBef>
                <a:spcPts val="550"/>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2.  </a:t>
            </a:r>
            <a:r>
              <a:rPr b="1" lang="en-US" sz="2200" spc="-1" strike="noStrike" u="sng">
                <a:solidFill>
                  <a:srgbClr val="ffffff"/>
                </a:solidFill>
                <a:uFillTx/>
                <a:latin typeface="Times New Roman"/>
              </a:rPr>
              <a:t>EDITING</a:t>
            </a:r>
            <a:r>
              <a:rPr b="1" lang="en-US" sz="2200" spc="-1" strike="noStrike">
                <a:solidFill>
                  <a:srgbClr val="ffffff"/>
                </a:solidFill>
                <a:latin typeface="Times New Roman"/>
              </a:rPr>
              <a:t>:  To make it easy for you to copy these maps into your own presentations the map graphics and text are “grouped”.  If you want to make significant changes to the map then click on “Draw” and chose the “ungroup” feature to allow full editing capability.</a:t>
            </a:r>
            <a:endParaRPr b="1" lang="en-US" sz="2200" spc="-1" strike="noStrike">
              <a:solidFill>
                <a:srgbClr val="ffffff"/>
              </a:solidFill>
              <a:latin typeface="Times New Roman"/>
            </a:endParaRPr>
          </a:p>
          <a:p>
            <a:pPr marL="343080" indent="-343080">
              <a:spcBef>
                <a:spcPts val="550"/>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  </a:t>
            </a:r>
            <a:r>
              <a:rPr b="1" lang="en-US" sz="2200" spc="-1" strike="noStrike" u="sng">
                <a:solidFill>
                  <a:srgbClr val="ffffff"/>
                </a:solidFill>
                <a:uFillTx/>
                <a:latin typeface="Times New Roman"/>
              </a:rPr>
              <a:t>INFORMATION</a:t>
            </a:r>
            <a:r>
              <a:rPr b="1" lang="en-US" sz="2200" spc="-1" strike="noStrike">
                <a:solidFill>
                  <a:srgbClr val="ffffff"/>
                </a:solidFill>
                <a:latin typeface="Times New Roman"/>
              </a:rPr>
              <a:t>:  There is considerable map background information in the “Notes” mode of this presentation.  Simply click on the        icon or click “View/Notes Page” from the menu above.</a:t>
            </a:r>
            <a:endParaRPr b="1" lang="en-US" sz="2200" spc="-1" strike="noStrike">
              <a:solidFill>
                <a:srgbClr val="ffffff"/>
              </a:solidFill>
              <a:latin typeface="Times New Roman"/>
            </a:endParaRPr>
          </a:p>
          <a:p>
            <a:pPr marL="343080" indent="-343080">
              <a:spcBef>
                <a:spcPts val="550"/>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4.  </a:t>
            </a:r>
            <a:r>
              <a:rPr b="1" lang="en-US" sz="2200" spc="-1" strike="noStrike" u="sng">
                <a:solidFill>
                  <a:srgbClr val="ffffff"/>
                </a:solidFill>
                <a:uFillTx/>
                <a:latin typeface="Times New Roman"/>
              </a:rPr>
              <a:t>IMPORTING</a:t>
            </a:r>
            <a:r>
              <a:rPr b="1" lang="en-US" sz="2200" spc="-1" strike="noStrike">
                <a:solidFill>
                  <a:srgbClr val="ffffff"/>
                </a:solidFill>
                <a:latin typeface="Times New Roman"/>
              </a:rPr>
              <a:t>:  These maps can be imported into some other software packages such as Corel Presentations.  Be aware that some formating will be lost and images will need to be edited and corrected after importing.</a:t>
            </a:r>
            <a:endParaRPr b="1" lang="en-US" sz="2200" spc="-1" strike="noStrike">
              <a:solidFill>
                <a:srgbClr val="ffffff"/>
              </a:solidFill>
              <a:latin typeface="Times New Roman"/>
            </a:endParaRPr>
          </a:p>
        </p:txBody>
      </p:sp>
      <p:sp>
        <p:nvSpPr>
          <p:cNvPr id="1199"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aphicFrame>
        <p:nvGraphicFramePr>
          <p:cNvPr id="1200" name=""/>
          <p:cNvGraphicFramePr/>
          <p:nvPr/>
        </p:nvGraphicFramePr>
        <p:xfrm>
          <a:off x="1638360" y="4838760"/>
          <a:ext cx="379440" cy="379440"/>
        </p:xfrm>
        <a:graphic>
          <a:graphicData uri="http://schemas.openxmlformats.org/presentationml/2006/ole">
            <p:oleObj r:id="rId2" spid="">
              <p:embed/>
              <p:pic>
                <p:nvPicPr>
                  <p:cNvPr id="1201" name="" descr=""/>
                  <p:cNvPicPr/>
                  <p:nvPr/>
                </p:nvPicPr>
                <p:blipFill>
                  <a:blip r:embed="rId3"/>
                  <a:stretch/>
                </p:blipFill>
                <p:spPr>
                  <a:xfrm>
                    <a:off x="1638360" y="4838760"/>
                    <a:ext cx="379440" cy="37944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202" name=""/>
          <p:cNvGrpSpPr/>
          <p:nvPr/>
        </p:nvGrpSpPr>
        <p:grpSpPr>
          <a:xfrm>
            <a:off x="326880" y="216000"/>
            <a:ext cx="8804520" cy="6482160"/>
            <a:chOff x="326880" y="216000"/>
            <a:chExt cx="8804520" cy="6482160"/>
          </a:xfrm>
        </p:grpSpPr>
        <p:grpSp>
          <p:nvGrpSpPr>
            <p:cNvPr id="1203" name=""/>
            <p:cNvGrpSpPr/>
            <p:nvPr/>
          </p:nvGrpSpPr>
          <p:grpSpPr>
            <a:xfrm>
              <a:off x="371520" y="216000"/>
              <a:ext cx="8759880" cy="6448320"/>
              <a:chOff x="371520" y="216000"/>
              <a:chExt cx="8759880" cy="6448320"/>
            </a:xfrm>
          </p:grpSpPr>
          <p:pic>
            <p:nvPicPr>
              <p:cNvPr id="1204" name="" descr=""/>
              <p:cNvPicPr/>
              <p:nvPr/>
            </p:nvPicPr>
            <p:blipFill>
              <a:blip r:embed="rId1"/>
              <a:srcRect l="0" t="2579" r="12020" b="0"/>
              <a:stretch/>
            </p:blipFill>
            <p:spPr>
              <a:xfrm>
                <a:off x="2573280" y="216000"/>
                <a:ext cx="6354720" cy="5270400"/>
              </a:xfrm>
              <a:prstGeom prst="rect">
                <a:avLst/>
              </a:prstGeom>
              <a:ln w="0">
                <a:noFill/>
              </a:ln>
            </p:spPr>
          </p:pic>
          <p:sp>
            <p:nvSpPr>
              <p:cNvPr id="1205" name=""/>
              <p:cNvSpPr/>
              <p:nvPr/>
            </p:nvSpPr>
            <p:spPr>
              <a:xfrm>
                <a:off x="3300480" y="884160"/>
                <a:ext cx="4340160" cy="437040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5240160" y="3223440"/>
                <a:ext cx="2014920" cy="1258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8 Inches</a:t>
                </a:r>
                <a:endParaRPr b="0" lang="en-US" sz="32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 1 Cubit</a:t>
                </a:r>
                <a:endParaRPr b="0" lang="en-US" sz="3200" spc="-1" strike="noStrike">
                  <a:solidFill>
                    <a:srgbClr val="ffffff"/>
                  </a:solidFill>
                  <a:latin typeface="Times New Roman"/>
                </a:endParaRPr>
              </a:p>
            </p:txBody>
          </p:sp>
          <p:sp>
            <p:nvSpPr>
              <p:cNvPr id="1207" name=""/>
              <p:cNvSpPr/>
              <p:nvPr/>
            </p:nvSpPr>
            <p:spPr>
              <a:xfrm>
                <a:off x="3403440" y="981000"/>
                <a:ext cx="4124520" cy="416556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710160" y="5759280"/>
                <a:ext cx="5421240" cy="669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600" spc="-1" strike="noStrike">
                    <a:solidFill>
                      <a:srgbClr val="fafd00"/>
                    </a:solidFill>
                    <a:latin typeface="Arial"/>
                  </a:rPr>
                  <a:t>Length Measurement</a:t>
                </a:r>
                <a:endParaRPr b="0" lang="en-US" sz="3600" spc="-1" strike="noStrike">
                  <a:solidFill>
                    <a:srgbClr val="ffffff"/>
                  </a:solidFill>
                  <a:latin typeface="Times New Roman"/>
                </a:endParaRPr>
              </a:p>
            </p:txBody>
          </p:sp>
          <p:sp>
            <p:nvSpPr>
              <p:cNvPr id="1209" name=""/>
              <p:cNvSpPr/>
              <p:nvPr/>
            </p:nvSpPr>
            <p:spPr>
              <a:xfrm>
                <a:off x="933480" y="988920"/>
                <a:ext cx="12700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B</a:t>
                </a:r>
                <a:br>
                  <a:rPr sz="3600"/>
                </a:br>
                <a:r>
                  <a:rPr b="1" lang="en-US" sz="3600" spc="-1" strike="noStrike">
                    <a:solidFill>
                      <a:srgbClr val="fafd00"/>
                    </a:solidFill>
                    <a:latin typeface="Times New Roman"/>
                  </a:rPr>
                  <a:t>I</a:t>
                </a:r>
                <a:br>
                  <a:rPr sz="3600"/>
                </a:br>
                <a:r>
                  <a:rPr b="1" lang="en-US" sz="3600" spc="-1" strike="noStrike">
                    <a:solidFill>
                      <a:srgbClr val="fafd00"/>
                    </a:solidFill>
                    <a:latin typeface="Times New Roman"/>
                  </a:rPr>
                  <a:t>B</a:t>
                </a:r>
                <a:br>
                  <a:rPr sz="3600"/>
                </a:br>
                <a:r>
                  <a:rPr b="1" lang="en-US" sz="3600" spc="-1" strike="noStrike">
                    <a:solidFill>
                      <a:srgbClr val="fafd00"/>
                    </a:solidFill>
                    <a:latin typeface="Times New Roman"/>
                  </a:rPr>
                  <a:t>L</a:t>
                </a:r>
                <a:br>
                  <a:rPr sz="3600"/>
                </a:br>
                <a:r>
                  <a:rPr b="1" lang="en-US" sz="3600" spc="-1" strike="noStrike">
                    <a:solidFill>
                      <a:srgbClr val="fafd00"/>
                    </a:solidFill>
                    <a:latin typeface="Times New Roman"/>
                  </a:rPr>
                  <a:t>E</a:t>
                </a:r>
                <a:endParaRPr b="0" lang="en-US" sz="3600" spc="-1" strike="noStrike">
                  <a:solidFill>
                    <a:srgbClr val="ffffff"/>
                  </a:solidFill>
                  <a:latin typeface="Times New Roman"/>
                </a:endParaRPr>
              </a:p>
            </p:txBody>
          </p:sp>
          <p:pic>
            <p:nvPicPr>
              <p:cNvPr id="1210" name="" descr=""/>
              <p:cNvPicPr/>
              <p:nvPr/>
            </p:nvPicPr>
            <p:blipFill>
              <a:blip r:embed="rId2"/>
              <a:srcRect l="4149" t="4134" r="60625" b="49980"/>
              <a:stretch/>
            </p:blipFill>
            <p:spPr>
              <a:xfrm>
                <a:off x="371520" y="2854440"/>
                <a:ext cx="3905280" cy="3809880"/>
              </a:xfrm>
              <a:prstGeom prst="rect">
                <a:avLst/>
              </a:prstGeom>
              <a:ln w="0">
                <a:noFill/>
              </a:ln>
            </p:spPr>
          </p:pic>
          <p:sp>
            <p:nvSpPr>
              <p:cNvPr id="1211" name=""/>
              <p:cNvSpPr/>
              <p:nvPr/>
            </p:nvSpPr>
            <p:spPr>
              <a:xfrm flipV="1">
                <a:off x="719280" y="3506760"/>
                <a:ext cx="3228840" cy="142560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833400" y="3586320"/>
                <a:ext cx="2998800" cy="126360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flipV="1">
                <a:off x="2009880" y="4287960"/>
                <a:ext cx="1130040" cy="186048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rot="19140000">
                <a:off x="981000" y="3758760"/>
                <a:ext cx="534960" cy="351000"/>
              </a:xfrm>
              <a:prstGeom prst="rightArrow">
                <a:avLst>
                  <a:gd name="adj1" fmla="val 50000"/>
                  <a:gd name="adj2" fmla="val 76212"/>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rot="8340000">
                <a:off x="1645920" y="3201480"/>
                <a:ext cx="534960" cy="351000"/>
              </a:xfrm>
              <a:prstGeom prst="rightArrow">
                <a:avLst>
                  <a:gd name="adj1" fmla="val 50000"/>
                  <a:gd name="adj2" fmla="val 76212"/>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flipV="1">
                <a:off x="2075040" y="4441320"/>
                <a:ext cx="1001520" cy="1551240"/>
              </a:xfrm>
              <a:prstGeom prst="line">
                <a:avLst/>
              </a:prstGeom>
              <a:ln w="76320">
                <a:solidFill>
                  <a:srgbClr val="edf8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1724760" y="388476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n</a:t>
                </a:r>
                <a:endParaRPr b="0" lang="en-US" sz="3200" spc="-1" strike="noStrike">
                  <a:solidFill>
                    <a:srgbClr val="ffffff"/>
                  </a:solidFill>
                  <a:latin typeface="Times New Roman"/>
                </a:endParaRPr>
              </a:p>
            </p:txBody>
          </p:sp>
          <p:sp>
            <p:nvSpPr>
              <p:cNvPr id="1218" name=""/>
              <p:cNvSpPr/>
              <p:nvPr/>
            </p:nvSpPr>
            <p:spPr>
              <a:xfrm>
                <a:off x="1222920" y="4925880"/>
                <a:ext cx="26884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ndbreadth</a:t>
                </a:r>
                <a:endParaRPr b="0" lang="en-US" sz="3200" spc="-1" strike="noStrike">
                  <a:solidFill>
                    <a:srgbClr val="ffffff"/>
                  </a:solidFill>
                  <a:latin typeface="Times New Roman"/>
                </a:endParaRPr>
              </a:p>
            </p:txBody>
          </p:sp>
          <p:sp>
            <p:nvSpPr>
              <p:cNvPr id="1219" name=""/>
              <p:cNvSpPr/>
              <p:nvPr/>
            </p:nvSpPr>
            <p:spPr>
              <a:xfrm>
                <a:off x="1287720" y="2846520"/>
                <a:ext cx="1423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ger</a:t>
                </a:r>
                <a:endParaRPr b="0" lang="en-US" sz="3200" spc="-1" strike="noStrike">
                  <a:solidFill>
                    <a:srgbClr val="ffffff"/>
                  </a:solidFill>
                  <a:latin typeface="Times New Roman"/>
                </a:endParaRPr>
              </a:p>
            </p:txBody>
          </p:sp>
        </p:grpSp>
        <p:sp>
          <p:nvSpPr>
            <p:cNvPr id="1220" name=""/>
            <p:cNvSpPr/>
            <p:nvPr/>
          </p:nvSpPr>
          <p:spPr>
            <a:xfrm>
              <a:off x="326880" y="6396120"/>
              <a:ext cx="1689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EBibleTeacher.com  </a:t>
              </a:r>
              <a:endParaRPr b="0" lang="en-US" sz="1400" spc="-1" strike="noStrike">
                <a:solidFill>
                  <a:srgbClr val="ffffff"/>
                </a:solidFill>
                <a:latin typeface="Times New Roman"/>
              </a:endParaRPr>
            </a:p>
          </p:txBody>
        </p:sp>
      </p:grpSp>
      <p:sp>
        <p:nvSpPr>
          <p:cNvPr id="1221" name=""/>
          <p:cNvSpPr/>
          <p:nvPr/>
        </p:nvSpPr>
        <p:spPr>
          <a:xfrm>
            <a:off x="5481720" y="452520"/>
            <a:ext cx="3286080" cy="1917720"/>
          </a:xfrm>
          <a:prstGeom prst="rect">
            <a:avLst/>
          </a:prstGeom>
          <a:solidFill>
            <a:srgbClr val="ff5008"/>
          </a:solidFill>
          <a:ln w="12600">
            <a:solidFill>
              <a:srgbClr val="ff5008"/>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is is a sample page from </a:t>
            </a:r>
            <a:r>
              <a:rPr b="1" i="1" lang="en-US" sz="2400" spc="-1" strike="noStrike">
                <a:solidFill>
                  <a:srgbClr val="ffffff"/>
                </a:solidFill>
                <a:latin typeface="Arial Narrow"/>
              </a:rPr>
              <a:t>“The World of the Bible” </a:t>
            </a:r>
            <a:r>
              <a:rPr b="0" lang="en-US" sz="2400" spc="-1" strike="noStrike">
                <a:solidFill>
                  <a:srgbClr val="ffffff"/>
                </a:solidFill>
                <a:latin typeface="Arial Narrow"/>
              </a:rPr>
              <a:t>a PowerPoint Sunday School  series available in Mid- 2000</a:t>
            </a:r>
            <a:endParaRPr b="0" lang="en-US" sz="2400" spc="-1" strike="noStrike">
              <a:solidFill>
                <a:srgbClr val="ffffff"/>
              </a:solidFill>
              <a:latin typeface="Times New Roman"/>
            </a:endParaRPr>
          </a:p>
        </p:txBody>
      </p:sp>
      <p:sp>
        <p:nvSpPr>
          <p:cNvPr id="122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Cubit Diagram Sample</a:t>
            </a:r>
            <a:endParaRPr b="1" lang="en-US" sz="100" spc="-1" strike="noStrike" u="sng">
              <a:solidFill>
                <a:srgbClr val="c0fef9"/>
              </a:solidFill>
              <a:uFillTx/>
              <a:latin typeface="Times New Roman"/>
            </a:endParaRPr>
          </a:p>
        </p:txBody>
      </p:sp>
      <p:sp>
        <p:nvSpPr>
          <p:cNvPr id="1223"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3" action="ppaction://hlinksldjump"/>
              </a:rPr>
              <a:t>INDEX</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42" name=""/>
          <p:cNvSpPr/>
          <p:nvPr/>
        </p:nvSpPr>
        <p:spPr>
          <a:xfrm>
            <a:off x="903240" y="266760"/>
            <a:ext cx="744804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afd00"/>
                </a:solidFill>
                <a:uFillTx/>
                <a:latin typeface="Arial"/>
              </a:rPr>
              <a:t>Lands of the Bible</a:t>
            </a:r>
            <a:endParaRPr b="0" lang="en-US" sz="6600" spc="-1" strike="noStrike">
              <a:solidFill>
                <a:srgbClr val="ffffff"/>
              </a:solidFill>
              <a:latin typeface="Times New Roman"/>
            </a:endParaRPr>
          </a:p>
        </p:txBody>
      </p:sp>
      <p:sp>
        <p:nvSpPr>
          <p:cNvPr id="143" name="PlaceHolder 1"/>
          <p:cNvSpPr>
            <a:spLocks noGrp="1"/>
          </p:cNvSpPr>
          <p:nvPr>
            <p:ph type="title"/>
          </p:nvPr>
        </p:nvSpPr>
        <p:spPr>
          <a:xfrm>
            <a:off x="7124400" y="609480"/>
            <a:ext cx="1771560" cy="571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Continents &amp; Land Masses</a:t>
            </a:r>
            <a:endParaRPr b="1" lang="en-US" sz="100" spc="-1" strike="noStrike" u="sng">
              <a:solidFill>
                <a:srgbClr val="c0fef9"/>
              </a:solidFill>
              <a:uFillTx/>
              <a:latin typeface="Times New Roman"/>
            </a:endParaRPr>
          </a:p>
        </p:txBody>
      </p:sp>
      <p:sp>
        <p:nvSpPr>
          <p:cNvPr id="144"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145" name=""/>
          <p:cNvGrpSpPr/>
          <p:nvPr/>
        </p:nvGrpSpPr>
        <p:grpSpPr>
          <a:xfrm>
            <a:off x="57240" y="1409760"/>
            <a:ext cx="9086760" cy="5142960"/>
            <a:chOff x="57240" y="1409760"/>
            <a:chExt cx="9086760" cy="5142960"/>
          </a:xfrm>
        </p:grpSpPr>
        <p:grpSp>
          <p:nvGrpSpPr>
            <p:cNvPr id="146" name=""/>
            <p:cNvGrpSpPr/>
            <p:nvPr/>
          </p:nvGrpSpPr>
          <p:grpSpPr>
            <a:xfrm>
              <a:off x="57240" y="1409760"/>
              <a:ext cx="9086760" cy="5142960"/>
              <a:chOff x="57240" y="1409760"/>
              <a:chExt cx="9086760" cy="5142960"/>
            </a:xfrm>
          </p:grpSpPr>
          <p:sp>
            <p:nvSpPr>
              <p:cNvPr id="147" name=""/>
              <p:cNvSpPr/>
              <p:nvPr/>
            </p:nvSpPr>
            <p:spPr>
              <a:xfrm>
                <a:off x="57240" y="1428840"/>
                <a:ext cx="9086760" cy="50292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57240" y="1409760"/>
                <a:ext cx="9086760" cy="5142960"/>
                <a:chOff x="57240" y="1409760"/>
                <a:chExt cx="9086760" cy="5142960"/>
              </a:xfrm>
            </p:grpSpPr>
            <p:sp>
              <p:nvSpPr>
                <p:cNvPr id="149" name=""/>
                <p:cNvSpPr/>
                <p:nvPr/>
              </p:nvSpPr>
              <p:spPr>
                <a:xfrm>
                  <a:off x="2781360" y="3312720"/>
                  <a:ext cx="95400" cy="17280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7240" y="4032000"/>
                  <a:ext cx="5372280" cy="2520720"/>
                </a:xfrm>
                <a:custGeom>
                  <a:avLst/>
                  <a:gdLst/>
                  <a:ahLst/>
                  <a:rect l="l" t="t" r="r" b="b"/>
                  <a:pathLst>
                    <a:path w="3384" h="1588">
                      <a:moveTo>
                        <a:pt x="3384" y="1552"/>
                      </a:moveTo>
                      <a:lnTo>
                        <a:pt x="3348" y="1228"/>
                      </a:lnTo>
                      <a:lnTo>
                        <a:pt x="3060" y="976"/>
                      </a:lnTo>
                      <a:lnTo>
                        <a:pt x="3132" y="724"/>
                      </a:lnTo>
                      <a:lnTo>
                        <a:pt x="3060" y="580"/>
                      </a:lnTo>
                      <a:lnTo>
                        <a:pt x="2988" y="652"/>
                      </a:lnTo>
                      <a:lnTo>
                        <a:pt x="2916" y="616"/>
                      </a:lnTo>
                      <a:lnTo>
                        <a:pt x="2808" y="652"/>
                      </a:lnTo>
                      <a:lnTo>
                        <a:pt x="2376" y="472"/>
                      </a:lnTo>
                      <a:lnTo>
                        <a:pt x="2240" y="516"/>
                      </a:lnTo>
                      <a:lnTo>
                        <a:pt x="2228" y="624"/>
                      </a:lnTo>
                      <a:lnTo>
                        <a:pt x="1692" y="400"/>
                      </a:lnTo>
                      <a:lnTo>
                        <a:pt x="1652" y="156"/>
                      </a:lnTo>
                      <a:lnTo>
                        <a:pt x="1296" y="184"/>
                      </a:lnTo>
                      <a:lnTo>
                        <a:pt x="904" y="0"/>
                      </a:lnTo>
                      <a:lnTo>
                        <a:pt x="576" y="184"/>
                      </a:lnTo>
                      <a:lnTo>
                        <a:pt x="288" y="472"/>
                      </a:lnTo>
                      <a:lnTo>
                        <a:pt x="288" y="544"/>
                      </a:lnTo>
                      <a:lnTo>
                        <a:pt x="216" y="652"/>
                      </a:lnTo>
                      <a:lnTo>
                        <a:pt x="72" y="832"/>
                      </a:lnTo>
                      <a:lnTo>
                        <a:pt x="0" y="868"/>
                      </a:lnTo>
                      <a:lnTo>
                        <a:pt x="0" y="158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1409760"/>
                  <a:ext cx="8001000" cy="5086080"/>
                </a:xfrm>
                <a:custGeom>
                  <a:avLst/>
                  <a:gdLst/>
                  <a:ahLst/>
                  <a:rect l="l" t="t" r="r" b="b"/>
                  <a:pathLst>
                    <a:path w="5040" h="3204">
                      <a:moveTo>
                        <a:pt x="5040" y="3132"/>
                      </a:moveTo>
                      <a:lnTo>
                        <a:pt x="4824" y="2952"/>
                      </a:lnTo>
                      <a:lnTo>
                        <a:pt x="4320" y="2952"/>
                      </a:lnTo>
                      <a:lnTo>
                        <a:pt x="3528" y="2556"/>
                      </a:lnTo>
                      <a:lnTo>
                        <a:pt x="3528" y="2952"/>
                      </a:lnTo>
                      <a:lnTo>
                        <a:pt x="3996" y="3204"/>
                      </a:lnTo>
                      <a:lnTo>
                        <a:pt x="2916" y="3204"/>
                      </a:lnTo>
                      <a:lnTo>
                        <a:pt x="2448" y="2484"/>
                      </a:lnTo>
                      <a:lnTo>
                        <a:pt x="2412" y="2304"/>
                      </a:lnTo>
                      <a:lnTo>
                        <a:pt x="2592" y="2196"/>
                      </a:lnTo>
                      <a:lnTo>
                        <a:pt x="2700" y="2072"/>
                      </a:lnTo>
                      <a:lnTo>
                        <a:pt x="2748" y="1940"/>
                      </a:lnTo>
                      <a:lnTo>
                        <a:pt x="2700" y="1656"/>
                      </a:lnTo>
                      <a:lnTo>
                        <a:pt x="2520" y="1736"/>
                      </a:lnTo>
                      <a:lnTo>
                        <a:pt x="2124" y="1692"/>
                      </a:lnTo>
                      <a:lnTo>
                        <a:pt x="2148" y="1484"/>
                      </a:lnTo>
                      <a:lnTo>
                        <a:pt x="2232" y="1440"/>
                      </a:lnTo>
                      <a:lnTo>
                        <a:pt x="2448" y="1296"/>
                      </a:lnTo>
                      <a:lnTo>
                        <a:pt x="3048" y="1220"/>
                      </a:lnTo>
                      <a:lnTo>
                        <a:pt x="3084" y="1088"/>
                      </a:lnTo>
                      <a:lnTo>
                        <a:pt x="2664" y="936"/>
                      </a:lnTo>
                      <a:lnTo>
                        <a:pt x="2700" y="792"/>
                      </a:lnTo>
                      <a:lnTo>
                        <a:pt x="2604" y="956"/>
                      </a:lnTo>
                      <a:lnTo>
                        <a:pt x="2484" y="956"/>
                      </a:lnTo>
                      <a:lnTo>
                        <a:pt x="2412" y="980"/>
                      </a:lnTo>
                      <a:lnTo>
                        <a:pt x="2280" y="1100"/>
                      </a:lnTo>
                      <a:lnTo>
                        <a:pt x="2364" y="1280"/>
                      </a:lnTo>
                      <a:lnTo>
                        <a:pt x="2304" y="1296"/>
                      </a:lnTo>
                      <a:lnTo>
                        <a:pt x="2256" y="1292"/>
                      </a:lnTo>
                      <a:lnTo>
                        <a:pt x="2160" y="1424"/>
                      </a:lnTo>
                      <a:lnTo>
                        <a:pt x="1944" y="1436"/>
                      </a:lnTo>
                      <a:lnTo>
                        <a:pt x="1944" y="1584"/>
                      </a:lnTo>
                      <a:lnTo>
                        <a:pt x="1944" y="1692"/>
                      </a:lnTo>
                      <a:lnTo>
                        <a:pt x="1848" y="1808"/>
                      </a:lnTo>
                      <a:lnTo>
                        <a:pt x="1764" y="1764"/>
                      </a:lnTo>
                      <a:lnTo>
                        <a:pt x="1764" y="1512"/>
                      </a:lnTo>
                      <a:lnTo>
                        <a:pt x="1764" y="1440"/>
                      </a:lnTo>
                      <a:lnTo>
                        <a:pt x="1440" y="980"/>
                      </a:lnTo>
                      <a:lnTo>
                        <a:pt x="1368" y="1052"/>
                      </a:lnTo>
                      <a:lnTo>
                        <a:pt x="1392" y="1172"/>
                      </a:lnTo>
                      <a:lnTo>
                        <a:pt x="1575" y="1425"/>
                      </a:lnTo>
                      <a:lnTo>
                        <a:pt x="1557" y="1488"/>
                      </a:lnTo>
                      <a:lnTo>
                        <a:pt x="1488" y="1424"/>
                      </a:lnTo>
                      <a:lnTo>
                        <a:pt x="1485" y="1515"/>
                      </a:lnTo>
                      <a:lnTo>
                        <a:pt x="1440" y="1587"/>
                      </a:lnTo>
                      <a:lnTo>
                        <a:pt x="1422" y="1569"/>
                      </a:lnTo>
                      <a:lnTo>
                        <a:pt x="1413" y="1443"/>
                      </a:lnTo>
                      <a:lnTo>
                        <a:pt x="1296" y="1296"/>
                      </a:lnTo>
                      <a:lnTo>
                        <a:pt x="1116" y="1044"/>
                      </a:lnTo>
                      <a:lnTo>
                        <a:pt x="792" y="1044"/>
                      </a:lnTo>
                      <a:lnTo>
                        <a:pt x="396" y="1584"/>
                      </a:lnTo>
                      <a:lnTo>
                        <a:pt x="252" y="1584"/>
                      </a:lnTo>
                      <a:lnTo>
                        <a:pt x="36" y="1404"/>
                      </a:lnTo>
                      <a:lnTo>
                        <a:pt x="0" y="1080"/>
                      </a:lnTo>
                      <a:lnTo>
                        <a:pt x="72" y="864"/>
                      </a:lnTo>
                      <a:lnTo>
                        <a:pt x="252" y="864"/>
                      </a:lnTo>
                      <a:lnTo>
                        <a:pt x="468" y="972"/>
                      </a:lnTo>
                      <a:lnTo>
                        <a:pt x="612" y="792"/>
                      </a:lnTo>
                      <a:lnTo>
                        <a:pt x="468" y="540"/>
                      </a:lnTo>
                      <a:lnTo>
                        <a:pt x="792" y="540"/>
                      </a:lnTo>
                      <a:lnTo>
                        <a:pt x="828" y="396"/>
                      </a:lnTo>
                      <a:lnTo>
                        <a:pt x="1080" y="216"/>
                      </a:lnTo>
                      <a:lnTo>
                        <a:pt x="1296" y="144"/>
                      </a:lnTo>
                      <a:lnTo>
                        <a:pt x="1260" y="0"/>
                      </a:lnTo>
                      <a:lnTo>
                        <a:pt x="1368" y="0"/>
                      </a:lnTo>
                      <a:lnTo>
                        <a:pt x="1404" y="144"/>
                      </a:lnTo>
                      <a:lnTo>
                        <a:pt x="1620" y="288"/>
                      </a:lnTo>
                      <a:lnTo>
                        <a:pt x="1728" y="36"/>
                      </a:lnTo>
                      <a:lnTo>
                        <a:pt x="5040" y="36"/>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1560" y="621468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153" name=""/>
                <p:cNvSpPr/>
                <p:nvPr/>
              </p:nvSpPr>
              <p:spPr>
                <a:xfrm>
                  <a:off x="2772000" y="3590640"/>
                  <a:ext cx="114120" cy="31392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86280" y="3933720"/>
                  <a:ext cx="257040" cy="23112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062600" y="4395600"/>
                  <a:ext cx="223920" cy="9324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56" name=""/>
                <p:cNvSpPr/>
                <p:nvPr/>
              </p:nvSpPr>
              <p:spPr>
                <a:xfrm>
                  <a:off x="5143680" y="4333680"/>
                  <a:ext cx="171360" cy="15516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685880" y="1419120"/>
                  <a:ext cx="800280" cy="713880"/>
                </a:xfrm>
                <a:custGeom>
                  <a:avLst/>
                  <a:gdLst/>
                  <a:ahLst/>
                  <a:rect l="l" t="t" r="r" b="b"/>
                  <a:pathLst>
                    <a:path w="504" h="450">
                      <a:moveTo>
                        <a:pt x="0" y="396"/>
                      </a:moveTo>
                      <a:lnTo>
                        <a:pt x="54" y="450"/>
                      </a:lnTo>
                      <a:lnTo>
                        <a:pt x="198" y="378"/>
                      </a:lnTo>
                      <a:lnTo>
                        <a:pt x="396" y="396"/>
                      </a:lnTo>
                      <a:lnTo>
                        <a:pt x="504" y="288"/>
                      </a:lnTo>
                      <a:lnTo>
                        <a:pt x="342" y="72"/>
                      </a:lnTo>
                      <a:lnTo>
                        <a:pt x="342" y="0"/>
                      </a:lnTo>
                      <a:lnTo>
                        <a:pt x="180" y="0"/>
                      </a:lnTo>
                      <a:lnTo>
                        <a:pt x="180" y="162"/>
                      </a:lnTo>
                      <a:lnTo>
                        <a:pt x="108" y="162"/>
                      </a:lnTo>
                      <a:lnTo>
                        <a:pt x="126" y="270"/>
                      </a:lnTo>
                      <a:lnTo>
                        <a:pt x="0" y="396"/>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00400" y="1476000"/>
                  <a:ext cx="399960" cy="31392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1415160" y="2343240"/>
                <a:ext cx="3887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thern Europe</a:t>
                </a:r>
                <a:endParaRPr b="0" lang="en-US" sz="3600" spc="-1" strike="noStrike">
                  <a:solidFill>
                    <a:srgbClr val="ffffff"/>
                  </a:solidFill>
                  <a:latin typeface="Times New Roman"/>
                </a:endParaRPr>
              </a:p>
            </p:txBody>
          </p:sp>
          <p:sp>
            <p:nvSpPr>
              <p:cNvPr id="160" name=""/>
              <p:cNvSpPr/>
              <p:nvPr/>
            </p:nvSpPr>
            <p:spPr>
              <a:xfrm>
                <a:off x="5148000" y="4629240"/>
                <a:ext cx="2720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ddle East</a:t>
                </a:r>
                <a:endParaRPr b="0" lang="en-US" sz="3600" spc="-1" strike="noStrike">
                  <a:solidFill>
                    <a:srgbClr val="ffffff"/>
                  </a:solidFill>
                  <a:latin typeface="Times New Roman"/>
                </a:endParaRPr>
              </a:p>
            </p:txBody>
          </p:sp>
          <p:sp>
            <p:nvSpPr>
              <p:cNvPr id="161" name=""/>
              <p:cNvSpPr/>
              <p:nvPr/>
            </p:nvSpPr>
            <p:spPr>
              <a:xfrm>
                <a:off x="4805280" y="3409920"/>
                <a:ext cx="2517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ia Minor</a:t>
                </a:r>
                <a:endParaRPr b="0" lang="en-US" sz="3600" spc="-1" strike="noStrike">
                  <a:solidFill>
                    <a:srgbClr val="ffffff"/>
                  </a:solidFill>
                  <a:latin typeface="Times New Roman"/>
                </a:endParaRPr>
              </a:p>
            </p:txBody>
          </p:sp>
          <p:sp>
            <p:nvSpPr>
              <p:cNvPr id="162" name=""/>
              <p:cNvSpPr/>
              <p:nvPr/>
            </p:nvSpPr>
            <p:spPr>
              <a:xfrm>
                <a:off x="1108440" y="5467320"/>
                <a:ext cx="35359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rthern Africa</a:t>
                </a:r>
                <a:endParaRPr b="0" lang="en-US" sz="3600" spc="-1" strike="noStrike">
                  <a:solidFill>
                    <a:srgbClr val="ffffff"/>
                  </a:solidFill>
                  <a:latin typeface="Times New Roman"/>
                </a:endParaRPr>
              </a:p>
            </p:txBody>
          </p:sp>
          <p:sp>
            <p:nvSpPr>
              <p:cNvPr id="163" name=""/>
              <p:cNvSpPr/>
              <p:nvPr/>
            </p:nvSpPr>
            <p:spPr>
              <a:xfrm>
                <a:off x="2557440" y="4143240"/>
                <a:ext cx="2907720" cy="8686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ada"/>
                    </a:solidFill>
                    <a:latin typeface="Times New Roman"/>
                  </a:rPr>
                  <a:t>Mediterranean Sea</a:t>
                </a:r>
                <a:endParaRPr b="0" lang="en-US" sz="3200" spc="-1" strike="noStrike">
                  <a:solidFill>
                    <a:srgbClr val="ffffff"/>
                  </a:solidFill>
                  <a:latin typeface="Times New Roman"/>
                </a:endParaRPr>
              </a:p>
            </p:txBody>
          </p:sp>
          <p:sp>
            <p:nvSpPr>
              <p:cNvPr id="164" name=""/>
              <p:cNvSpPr/>
              <p:nvPr/>
            </p:nvSpPr>
            <p:spPr>
              <a:xfrm>
                <a:off x="3071880" y="1619280"/>
                <a:ext cx="6022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Arial"/>
                  </a:rPr>
                  <a:t>Continents &amp; Land Masses</a:t>
                </a:r>
                <a:endParaRPr b="0" lang="en-US" sz="3600" spc="-1" strike="noStrike">
                  <a:solidFill>
                    <a:srgbClr val="ffffff"/>
                  </a:solidFill>
                  <a:latin typeface="Times New Roman"/>
                </a:endParaRPr>
              </a:p>
            </p:txBody>
          </p:sp>
        </p:grpSp>
        <p:sp>
          <p:nvSpPr>
            <p:cNvPr id="165" name=""/>
            <p:cNvSpPr/>
            <p:nvPr/>
          </p:nvSpPr>
          <p:spPr>
            <a:xfrm>
              <a:off x="5099040" y="5226120"/>
              <a:ext cx="127080" cy="26028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66" name=""/>
            <p:cNvSpPr/>
            <p:nvPr/>
          </p:nvSpPr>
          <p:spPr>
            <a:xfrm>
              <a:off x="6292800" y="264168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304560" y="380880"/>
            <a:ext cx="8762760" cy="9907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afd00"/>
                </a:solidFill>
                <a:uFillTx/>
                <a:latin typeface="Times New Roman"/>
              </a:rPr>
              <a:t>RESOURCES</a:t>
            </a:r>
            <a:br>
              <a:rPr sz="4800"/>
            </a:br>
            <a:r>
              <a:rPr b="1" lang="en-US" sz="3200" spc="-1" strike="noStrike" u="sng">
                <a:solidFill>
                  <a:srgbClr val="fafd00"/>
                </a:solidFill>
                <a:uFillTx/>
                <a:latin typeface="Times New Roman"/>
              </a:rPr>
              <a:t>For Sunday School Teachers using Computers</a:t>
            </a:r>
            <a:endParaRPr b="1" lang="en-US" sz="3200" spc="-1" strike="noStrike" u="sng">
              <a:solidFill>
                <a:srgbClr val="c0fef9"/>
              </a:solidFill>
              <a:uFillTx/>
              <a:latin typeface="Times New Roman"/>
            </a:endParaRPr>
          </a:p>
        </p:txBody>
      </p:sp>
      <p:sp>
        <p:nvSpPr>
          <p:cNvPr id="1225" name="PlaceHolder 2"/>
          <p:cNvSpPr>
            <a:spLocks noGrp="1"/>
          </p:cNvSpPr>
          <p:nvPr>
            <p:ph/>
          </p:nvPr>
        </p:nvSpPr>
        <p:spPr>
          <a:xfrm>
            <a:off x="309600" y="1542960"/>
            <a:ext cx="8491680" cy="4267440"/>
          </a:xfrm>
          <a:prstGeom prst="rect">
            <a:avLst/>
          </a:prstGeom>
          <a:noFill/>
          <a:ln w="0">
            <a:noFill/>
          </a:ln>
        </p:spPr>
        <p:txBody>
          <a:bodyPr lIns="90360" rIns="90360" tIns="44280" bIns="44280" anchor="t">
            <a:normAutofit fontScale="95000"/>
          </a:bodyPr>
          <a:p>
            <a:pPr marL="325800" indent="-325800">
              <a:lnSpc>
                <a:spcPct val="85000"/>
              </a:lnSpc>
              <a:spcBef>
                <a:spcPts val="3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hlinkClick r:id="rId1"/>
              </a:rPr>
              <a:t>Free graphics</a:t>
            </a:r>
            <a:r>
              <a:rPr b="1" lang="en-US" sz="2400" spc="-1" strike="noStrike">
                <a:solidFill>
                  <a:srgbClr val="ffffff"/>
                </a:solidFill>
                <a:latin typeface="Times New Roman"/>
              </a:rPr>
              <a:t> for Sunday School teachers.</a:t>
            </a:r>
            <a:endParaRPr b="1" lang="en-US" sz="2400" spc="-1" strike="noStrike">
              <a:solidFill>
                <a:srgbClr val="ffffff"/>
              </a:solidFill>
              <a:latin typeface="Times New Roman"/>
            </a:endParaRPr>
          </a:p>
          <a:p>
            <a:pPr marL="325800" indent="-325800">
              <a:lnSpc>
                <a:spcPct val="85000"/>
              </a:lnSpc>
              <a:spcBef>
                <a:spcPts val="3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hlinkClick r:id="rId2"/>
              </a:rPr>
              <a:t>How-to guides</a:t>
            </a:r>
            <a:r>
              <a:rPr b="1" lang="en-US" sz="2400" spc="-1" strike="noStrike">
                <a:solidFill>
                  <a:srgbClr val="ffffff"/>
                </a:solidFill>
                <a:latin typeface="Times New Roman"/>
              </a:rPr>
              <a:t> for using video projectors, PC/TV converters and other electronic equipment.</a:t>
            </a:r>
            <a:endParaRPr b="1" lang="en-US" sz="2400" spc="-1" strike="noStrike">
              <a:solidFill>
                <a:srgbClr val="ffffff"/>
              </a:solidFill>
              <a:latin typeface="Times New Roman"/>
            </a:endParaRPr>
          </a:p>
          <a:p>
            <a:pPr marL="325800" indent="-325800">
              <a:lnSpc>
                <a:spcPct val="85000"/>
              </a:lnSpc>
              <a:spcBef>
                <a:spcPts val="3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hlinkClick r:id="rId3"/>
              </a:rPr>
              <a:t>Reviews</a:t>
            </a:r>
            <a:r>
              <a:rPr b="1" lang="en-US" sz="2400" spc="-1" strike="noStrike">
                <a:solidFill>
                  <a:srgbClr val="ffffff"/>
                </a:solidFill>
                <a:latin typeface="Times New Roman"/>
              </a:rPr>
              <a:t> of software and hardware for use in the Sunday School.</a:t>
            </a:r>
            <a:endParaRPr b="1" lang="en-US" sz="2400" spc="-1" strike="noStrike">
              <a:solidFill>
                <a:srgbClr val="ffffff"/>
              </a:solidFill>
              <a:latin typeface="Times New Roman"/>
            </a:endParaRPr>
          </a:p>
          <a:p>
            <a:pPr marL="325800" indent="-325800">
              <a:lnSpc>
                <a:spcPct val="85000"/>
              </a:lnSpc>
              <a:spcBef>
                <a:spcPts val="3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werPoint based Sunday School literature.</a:t>
            </a:r>
            <a:endParaRPr b="1" lang="en-US" sz="2400" spc="-1" strike="noStrike">
              <a:solidFill>
                <a:srgbClr val="ffffff"/>
              </a:solidFill>
              <a:latin typeface="Times New Roman"/>
            </a:endParaRPr>
          </a:p>
          <a:p>
            <a:pPr lvl="1" marL="705600" indent="-271440">
              <a:lnSpc>
                <a:spcPct val="85000"/>
              </a:lnSpc>
              <a:spcBef>
                <a:spcPts val="2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t>
            </a:r>
            <a:r>
              <a:rPr b="1" lang="en-US" sz="2000" spc="-1" strike="noStrike" u="sng">
                <a:solidFill>
                  <a:srgbClr val="ffffff"/>
                </a:solidFill>
                <a:uFillTx/>
                <a:latin typeface="Times New Roman"/>
                <a:hlinkClick r:id="rId4"/>
              </a:rPr>
              <a:t>The Christian’s Personal Growth Class</a:t>
            </a:r>
            <a:r>
              <a:rPr b="1" i="1" lang="en-US" sz="2000" spc="-1" strike="noStrike">
                <a:solidFill>
                  <a:srgbClr val="ffffff"/>
                </a:solidFill>
                <a:latin typeface="Times New Roman"/>
              </a:rPr>
              <a:t>”  </a:t>
            </a:r>
            <a:r>
              <a:rPr b="1" lang="en-US" sz="2000" spc="-1" strike="noStrike">
                <a:solidFill>
                  <a:srgbClr val="ffffff"/>
                </a:solidFill>
                <a:latin typeface="Times New Roman"/>
              </a:rPr>
              <a:t>300+ PowerPoint slides and a 30+ page teacher’s guide.  “</a:t>
            </a:r>
            <a:r>
              <a:rPr b="1" lang="en-US" sz="2000" spc="-1" strike="noStrike" u="sng">
                <a:solidFill>
                  <a:srgbClr val="ffffff"/>
                </a:solidFill>
                <a:uFillTx/>
                <a:latin typeface="Times New Roman"/>
                <a:hlinkClick r:id="rId5"/>
              </a:rPr>
              <a:t>Acts</a:t>
            </a:r>
            <a:r>
              <a:rPr b="1" i="1" lang="en-US" sz="2000" spc="-1" strike="noStrike">
                <a:solidFill>
                  <a:srgbClr val="ffffff"/>
                </a:solidFill>
                <a:latin typeface="Times New Roman"/>
              </a:rPr>
              <a:t>”  </a:t>
            </a:r>
            <a:r>
              <a:rPr b="1" lang="en-US" sz="2000" spc="-1" strike="noStrike">
                <a:solidFill>
                  <a:srgbClr val="ffffff"/>
                </a:solidFill>
                <a:latin typeface="Times New Roman"/>
              </a:rPr>
              <a:t>580+ PowerPoint slides &amp; a 60+ page teacher’s guide.  </a:t>
            </a:r>
            <a:r>
              <a:rPr b="1" i="1" lang="en-US" sz="2000" spc="-1" strike="noStrike">
                <a:solidFill>
                  <a:srgbClr val="ffffff"/>
                </a:solidFill>
                <a:latin typeface="Times New Roman"/>
              </a:rPr>
              <a:t>“</a:t>
            </a:r>
            <a:r>
              <a:rPr b="1" lang="en-US" sz="2000" spc="-1" strike="noStrike" u="sng">
                <a:solidFill>
                  <a:srgbClr val="ffffff"/>
                </a:solidFill>
                <a:uFillTx/>
                <a:latin typeface="Times New Roman"/>
                <a:hlinkClick r:id="rId6"/>
              </a:rPr>
              <a:t>Romans</a:t>
            </a:r>
            <a:r>
              <a:rPr b="1" i="1" lang="en-US" sz="2000" spc="-1" strike="noStrike">
                <a:solidFill>
                  <a:srgbClr val="ffffff"/>
                </a:solidFill>
                <a:latin typeface="Times New Roman"/>
              </a:rPr>
              <a:t>” </a:t>
            </a:r>
            <a:r>
              <a:rPr b="1" lang="en-US" sz="2000" spc="-1" strike="noStrike">
                <a:solidFill>
                  <a:srgbClr val="ffffff"/>
                </a:solidFill>
                <a:latin typeface="Times New Roman"/>
              </a:rPr>
              <a:t>300+ PowerPoint slides &amp; a 30+ page teacher’s guide.  “Misc” set and images 300+ slides.  Get nearly 1400 PowerPoint slides and over 100 printable pages of teacher’s guides total for only $39 plus $2 shipping (US).</a:t>
            </a:r>
            <a:endParaRPr b="1" lang="en-US" sz="2000" spc="-1" strike="noStrike">
              <a:solidFill>
                <a:srgbClr val="ffffff"/>
              </a:solidFill>
              <a:latin typeface="Times New Roman"/>
            </a:endParaRPr>
          </a:p>
          <a:p>
            <a:pPr lvl="1" marL="705600" indent="-271440">
              <a:lnSpc>
                <a:spcPct val="85000"/>
              </a:lnSpc>
              <a:spcBef>
                <a:spcPts val="2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2000" spc="-1" strike="noStrike">
                <a:solidFill>
                  <a:srgbClr val="ffffff"/>
                </a:solidFill>
                <a:latin typeface="Times New Roman"/>
              </a:rPr>
              <a:t>“</a:t>
            </a:r>
            <a:r>
              <a:rPr b="1" lang="en-US" sz="2400" spc="-1" strike="noStrike" u="sng">
                <a:solidFill>
                  <a:srgbClr val="ffffff"/>
                </a:solidFill>
                <a:uFillTx/>
                <a:latin typeface="Times New Roman"/>
                <a:hlinkClick r:id="rId7"/>
              </a:rPr>
              <a:t>World of the Bible</a:t>
            </a:r>
            <a:r>
              <a:rPr b="1" lang="en-US" sz="2000" spc="-1" strike="noStrike">
                <a:solidFill>
                  <a:srgbClr val="ffffff"/>
                </a:solidFill>
                <a:latin typeface="Times New Roman"/>
              </a:rPr>
              <a:t>” 450 + Slides available in 2000</a:t>
            </a:r>
            <a:endParaRPr b="1" lang="en-US" sz="2000" spc="-1" strike="noStrike">
              <a:solidFill>
                <a:srgbClr val="ffffff"/>
              </a:solidFill>
              <a:latin typeface="Times New Roman"/>
            </a:endParaRPr>
          </a:p>
          <a:p>
            <a:pPr marL="325800" indent="-325800">
              <a:lnSpc>
                <a:spcPct val="85000"/>
              </a:lnSpc>
              <a:spcBef>
                <a:spcPts val="3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sit EBibleTeacher.com at:</a:t>
            </a:r>
            <a:endParaRPr b="1" lang="en-US" sz="2400" spc="-1" strike="noStrike">
              <a:solidFill>
                <a:srgbClr val="ffffff"/>
              </a:solidFill>
              <a:latin typeface="Times New Roman"/>
            </a:endParaRPr>
          </a:p>
        </p:txBody>
      </p:sp>
      <p:sp>
        <p:nvSpPr>
          <p:cNvPr id="1226" name=""/>
          <p:cNvSpPr/>
          <p:nvPr/>
        </p:nvSpPr>
        <p:spPr>
          <a:xfrm>
            <a:off x="1052640" y="5869080"/>
            <a:ext cx="7022880" cy="916920"/>
          </a:xfrm>
          <a:prstGeom prst="rect">
            <a:avLst/>
          </a:prstGeom>
          <a:noFill/>
          <a:ln w="0">
            <a:noFill/>
          </a:ln>
        </p:spPr>
        <p:style>
          <a:lnRef idx="0"/>
          <a:fillRef idx="0"/>
          <a:effectRef idx="0"/>
          <a:fontRef idx="minor"/>
        </p:style>
        <p:txBody>
          <a:bodyPr lIns="90360" rIns="90360" tIns="44280" bIns="44280" anchor="t">
            <a:spAutoFit/>
          </a:bodyPr>
          <a:p>
            <a:pPr lvl="1"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hlinkClick r:id="rId8"/>
              </a:rPr>
              <a:t>www.</a:t>
            </a:r>
            <a:r>
              <a:rPr b="0" lang="en-US" sz="3200" spc="-1" strike="noStrike" u="sng">
                <a:solidFill>
                  <a:srgbClr val="ffffff"/>
                </a:solidFill>
                <a:uFillTx/>
                <a:latin typeface="Times New Roman"/>
                <a:hlinkClick r:id="rId9"/>
              </a:rPr>
              <a:t>ebibleteacher</a:t>
            </a:r>
            <a:r>
              <a:rPr b="0" lang="en-US" sz="3200" spc="-1" strike="noStrike" u="sng">
                <a:solidFill>
                  <a:srgbClr val="ffffff"/>
                </a:solidFill>
                <a:uFillTx/>
                <a:latin typeface="Times New Roman"/>
                <a:hlinkClick r:id="rId10"/>
              </a:rPr>
              <a:t>.com</a:t>
            </a:r>
            <a:r>
              <a:rPr b="1" lang="en-US" sz="3200" spc="-1" strike="noStrike">
                <a:solidFill>
                  <a:srgbClr val="000000"/>
                </a:solidFill>
                <a:latin typeface="Times New Roman"/>
              </a:rPr>
              <a:t>     </a:t>
            </a:r>
            <a:endParaRPr b="0" lang="en-US" sz="3200" spc="-1" strike="noStrike">
              <a:solidFill>
                <a:srgbClr val="ffffff"/>
              </a:solidFill>
              <a:latin typeface="Times New Roman"/>
            </a:endParaRPr>
          </a:p>
          <a:p>
            <a:pPr lvl="1"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email: </a:t>
            </a:r>
            <a:r>
              <a:rPr b="0" lang="en-US" sz="3200" spc="-1" strike="noStrike" u="sng">
                <a:solidFill>
                  <a:srgbClr val="ffffff"/>
                </a:solidFill>
                <a:uFillTx/>
                <a:latin typeface="Times New Roman"/>
                <a:hlinkClick r:id="rId11"/>
              </a:rPr>
              <a:t>ttaylor</a:t>
            </a:r>
            <a:r>
              <a:rPr b="0" lang="en-US" sz="3200" spc="-1" strike="noStrike" u="sng">
                <a:solidFill>
                  <a:srgbClr val="ffffff"/>
                </a:solidFill>
                <a:uFillTx/>
                <a:latin typeface="Times New Roman"/>
                <a:hlinkClick r:id="rId12"/>
              </a:rPr>
              <a:t>@</a:t>
            </a:r>
            <a:r>
              <a:rPr b="0" lang="en-US" sz="3200" spc="-1" strike="noStrike" u="sng">
                <a:solidFill>
                  <a:srgbClr val="ffffff"/>
                </a:solidFill>
                <a:uFillTx/>
                <a:latin typeface="Times New Roman"/>
                <a:hlinkClick r:id="rId13"/>
              </a:rPr>
              <a:t>ebibleteacher</a:t>
            </a:r>
            <a:r>
              <a:rPr b="0" lang="en-US" sz="3200" spc="-1" strike="noStrike" u="sng">
                <a:solidFill>
                  <a:srgbClr val="ffffff"/>
                </a:solidFill>
                <a:uFillTx/>
                <a:latin typeface="Times New Roman"/>
                <a:hlinkClick r:id="rId14"/>
              </a:rPr>
              <a:t>.</a:t>
            </a:r>
            <a:r>
              <a:rPr b="0" lang="en-US" sz="3200" spc="-1" strike="noStrike" u="sng">
                <a:solidFill>
                  <a:srgbClr val="ffffff"/>
                </a:solidFill>
                <a:uFillTx/>
                <a:latin typeface="Times New Roman"/>
                <a:hlinkClick r:id="rId15"/>
              </a:rPr>
              <a:t>com</a:t>
            </a:r>
            <a:endParaRPr b="0" lang="en-US" sz="3200" spc="-1" strike="noStrike">
              <a:solidFill>
                <a:srgbClr val="ffffff"/>
              </a:solidFill>
              <a:latin typeface="Times New Roman"/>
            </a:endParaRPr>
          </a:p>
        </p:txBody>
      </p:sp>
      <p:sp>
        <p:nvSpPr>
          <p:cNvPr id="1227"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6" action="ppaction://hlinksldjump"/>
              </a:rPr>
              <a:t>INDEX</a:t>
            </a:r>
            <a:endParaRPr b="0" lang="en-US" sz="1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180800" y="60912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afd00"/>
                </a:solidFill>
                <a:uFillTx/>
                <a:latin typeface="Times New Roman"/>
              </a:rPr>
              <a:t>About The Author</a:t>
            </a:r>
            <a:endParaRPr b="1" lang="en-US" sz="5400" spc="-1" strike="noStrike" u="sng">
              <a:solidFill>
                <a:srgbClr val="c0fef9"/>
              </a:solidFill>
              <a:uFillTx/>
              <a:latin typeface="Times New Roman"/>
            </a:endParaRPr>
          </a:p>
        </p:txBody>
      </p:sp>
      <p:sp>
        <p:nvSpPr>
          <p:cNvPr id="1229" name="PlaceHolder 2"/>
          <p:cNvSpPr>
            <a:spLocks noGrp="1"/>
          </p:cNvSpPr>
          <p:nvPr>
            <p:ph/>
          </p:nvPr>
        </p:nvSpPr>
        <p:spPr>
          <a:xfrm>
            <a:off x="1157040" y="1828800"/>
            <a:ext cx="7148520" cy="4114800"/>
          </a:xfrm>
          <a:prstGeom prst="rect">
            <a:avLst/>
          </a:prstGeom>
          <a:noFill/>
          <a:ln w="0">
            <a:noFill/>
          </a:ln>
        </p:spPr>
        <p:txBody>
          <a:bodyPr lIns="90360" rIns="90360" tIns="44280" bIns="44280" anchor="t">
            <a:normAutofit fontScale="92000"/>
          </a:bodyPr>
          <a:p>
            <a:pPr marL="315360" indent="-315360">
              <a:spcBef>
                <a:spcPts val="700"/>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rry Taylor  </a:t>
            </a:r>
            <a:r>
              <a:rPr b="1" lang="en-US" sz="2800" spc="-1" strike="noStrike">
                <a:solidFill>
                  <a:srgbClr val="ffffff"/>
                </a:solidFill>
                <a:latin typeface="Times New Roman"/>
              </a:rPr>
              <a:t>is  the webmaster of   “EBibleTeacher.com” a website of resources for Bible Teachers who use the computer in the Sunday School.  He is available for teaching classes and seminars about using the computer in the Sunday School.</a:t>
            </a:r>
            <a:endParaRPr b="1" lang="en-US" sz="2800" spc="-1" strike="noStrike">
              <a:solidFill>
                <a:srgbClr val="ffffff"/>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Terry Taylor</a:t>
            </a:r>
            <a:endParaRPr b="1" lang="en-US" sz="2800" spc="-1" strike="noStrike">
              <a:solidFill>
                <a:srgbClr val="ffffff"/>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609 Country Club Ln</a:t>
            </a:r>
            <a:endParaRPr b="1" lang="en-US" sz="2800" spc="-1" strike="noStrike">
              <a:solidFill>
                <a:srgbClr val="ffffff"/>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Carterville, IL  62918</a:t>
            </a:r>
            <a:endParaRPr b="1" lang="en-US" sz="2800" spc="-1" strike="noStrike">
              <a:solidFill>
                <a:srgbClr val="ffffff"/>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18)985-4527  email: </a:t>
            </a:r>
            <a:r>
              <a:rPr b="1" lang="en-US" sz="2400" spc="-1" strike="noStrike" u="sng">
                <a:solidFill>
                  <a:srgbClr val="ffffff"/>
                </a:solidFill>
                <a:uFillTx/>
                <a:latin typeface="Times New Roman"/>
                <a:hlinkClick r:id="rId1"/>
              </a:rPr>
              <a:t>ttaylor</a:t>
            </a:r>
            <a:r>
              <a:rPr b="1" lang="en-US" sz="2400" spc="-1" strike="noStrike" u="sng">
                <a:solidFill>
                  <a:srgbClr val="ffffff"/>
                </a:solidFill>
                <a:uFillTx/>
                <a:latin typeface="Times New Roman"/>
                <a:hlinkClick r:id="rId2"/>
              </a:rPr>
              <a:t>@</a:t>
            </a:r>
            <a:r>
              <a:rPr b="1" lang="en-US" sz="2400" spc="-1" strike="noStrike" u="sng">
                <a:solidFill>
                  <a:srgbClr val="ffffff"/>
                </a:solidFill>
                <a:uFillTx/>
                <a:latin typeface="Times New Roman"/>
                <a:hlinkClick r:id="rId3"/>
              </a:rPr>
              <a:t>ebibleteacher</a:t>
            </a:r>
            <a:r>
              <a:rPr b="1" lang="en-US" sz="2400" spc="-1" strike="noStrike" u="sng">
                <a:solidFill>
                  <a:srgbClr val="ffffff"/>
                </a:solidFill>
                <a:uFillTx/>
                <a:latin typeface="Times New Roman"/>
                <a:hlinkClick r:id="rId4"/>
              </a:rPr>
              <a:t>.</a:t>
            </a:r>
            <a:r>
              <a:rPr b="1" lang="en-US" sz="2400" spc="-1" strike="noStrike" u="sng">
                <a:solidFill>
                  <a:srgbClr val="ffffff"/>
                </a:solidFill>
                <a:uFillTx/>
                <a:latin typeface="Times New Roman"/>
                <a:hlinkClick r:id="rId5"/>
              </a:rPr>
              <a:t>com</a:t>
            </a:r>
            <a:endParaRPr b="1" lang="en-US" sz="2400" spc="-1" strike="noStrike">
              <a:solidFill>
                <a:srgbClr val="ffffff"/>
              </a:solidFill>
              <a:latin typeface="Times New Roman"/>
            </a:endParaRPr>
          </a:p>
        </p:txBody>
      </p:sp>
      <p:sp>
        <p:nvSpPr>
          <p:cNvPr id="1230"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6" action="ppaction://hlinksldjump"/>
              </a:rPr>
              <a:t>INDEX</a:t>
            </a:r>
            <a:endParaRPr b="0" lang="en-US" sz="18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3924360" y="894960"/>
            <a:ext cx="4457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afd00"/>
                </a:solidFill>
                <a:uFillTx/>
                <a:latin typeface="Arial"/>
              </a:rPr>
              <a:t>Sponsor</a:t>
            </a:r>
            <a:endParaRPr b="1" lang="en-US" sz="6600" spc="-1" strike="noStrike" u="sng">
              <a:solidFill>
                <a:srgbClr val="c0fef9"/>
              </a:solidFill>
              <a:uFillTx/>
              <a:latin typeface="Times New Roman"/>
            </a:endParaRPr>
          </a:p>
        </p:txBody>
      </p:sp>
      <p:sp>
        <p:nvSpPr>
          <p:cNvPr id="1232" name=""/>
          <p:cNvSpPr/>
          <p:nvPr/>
        </p:nvSpPr>
        <p:spPr>
          <a:xfrm>
            <a:off x="228600" y="3117600"/>
            <a:ext cx="8572680" cy="4575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Paragon Multimedia Imaging</a:t>
            </a:r>
            <a:r>
              <a:rPr b="0" lang="en-US" sz="2800" spc="-1" strike="noStrike">
                <a:solidFill>
                  <a:srgbClr val="ffffff"/>
                </a:solidFill>
                <a:latin typeface="Arial"/>
              </a:rPr>
              <a:t> is a full service company for all of your church's video projection needs. </a:t>
            </a:r>
            <a:r>
              <a:rPr b="1" i="1" lang="en-US" sz="2800" spc="-1" strike="noStrike">
                <a:solidFill>
                  <a:srgbClr val="ffffff"/>
                </a:solidFill>
                <a:latin typeface="Arial"/>
              </a:rPr>
              <a:t>Paragon</a:t>
            </a:r>
            <a:r>
              <a:rPr b="0" lang="en-US" sz="2800" spc="-1" strike="noStrike">
                <a:solidFill>
                  <a:srgbClr val="ffffff"/>
                </a:solidFill>
                <a:latin typeface="Arial"/>
              </a:rPr>
              <a:t> is the Barco church and worship dealer for the Southeast and represents Proxima across the world. They are also dealers for Da-Lite, Draper and Prologue Worship Leader software. This Bible Atlas software is provided free as a service to churches through the sponsorship of Projection Solutions.</a:t>
            </a:r>
            <a:br>
              <a:rPr sz="2800"/>
            </a:br>
            <a:r>
              <a:rPr b="0" lang="en-US" sz="2800" spc="-1" strike="noStrike">
                <a:solidFill>
                  <a:srgbClr val="ffffff"/>
                </a:solidFill>
                <a:latin typeface="Arial"/>
              </a:rPr>
              <a:t>    Call toll free at 1-877-321-5106</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3" name=""/>
          <p:cNvSpPr/>
          <p:nvPr/>
        </p:nvSpPr>
        <p:spPr>
          <a:xfrm>
            <a:off x="8288280" y="649116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Heavy"/>
              </a:rPr>
              <a:t>INDEX</a:t>
            </a:r>
            <a:endParaRPr b="0" lang="en-US" sz="1800" spc="-1" strike="noStrike">
              <a:solidFill>
                <a:srgbClr val="ffffff"/>
              </a:solidFill>
              <a:latin typeface="Times New Roman"/>
            </a:endParaRPr>
          </a:p>
        </p:txBody>
      </p:sp>
      <p:pic>
        <p:nvPicPr>
          <p:cNvPr id="1234" name="projector%20solutions" descr=""/>
          <p:cNvPicPr/>
          <p:nvPr/>
        </p:nvPicPr>
        <p:blipFill>
          <a:blip r:embed="rId2"/>
          <a:stretch/>
        </p:blipFill>
        <p:spPr>
          <a:xfrm>
            <a:off x="235080" y="533520"/>
            <a:ext cx="3301920" cy="190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35" name=""/>
          <p:cNvSpPr/>
          <p:nvPr/>
        </p:nvSpPr>
        <p:spPr>
          <a:xfrm>
            <a:off x="162360" y="117360"/>
            <a:ext cx="6911280" cy="6375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Bible Class Electronic Slide Shows</a:t>
            </a:r>
            <a:endParaRPr b="0" lang="en-US" sz="3600" spc="-1" strike="noStrike">
              <a:solidFill>
                <a:srgbClr val="ffffff"/>
              </a:solidFill>
              <a:latin typeface="Times New Roman"/>
            </a:endParaRPr>
          </a:p>
        </p:txBody>
      </p:sp>
      <p:sp>
        <p:nvSpPr>
          <p:cNvPr id="1236" name=""/>
          <p:cNvSpPr/>
          <p:nvPr/>
        </p:nvSpPr>
        <p:spPr>
          <a:xfrm>
            <a:off x="201600" y="958680"/>
            <a:ext cx="8877240" cy="173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Times New Roman"/>
              </a:rPr>
              <a:t>SCRIPTURE/TOPIC</a:t>
            </a:r>
            <a:r>
              <a:rPr b="0" lang="en-US" sz="2400" spc="-1" strike="noStrike">
                <a:solidFill>
                  <a:srgbClr val="fafd00"/>
                </a:solidFill>
                <a:latin typeface="Times New Roman"/>
              </a:rPr>
              <a:t>:</a:t>
            </a:r>
            <a:r>
              <a:rPr b="0" lang="en-US" sz="2400" spc="-1" strike="noStrike">
                <a:solidFill>
                  <a:srgbClr val="c0fef9"/>
                </a:solidFill>
                <a:latin typeface="Times New Roman"/>
              </a:rPr>
              <a:t>   </a:t>
            </a:r>
            <a:r>
              <a:rPr b="0" lang="en-US" sz="2400" spc="-1" strike="noStrike">
                <a:solidFill>
                  <a:srgbClr val="c0fef9"/>
                </a:solidFill>
                <a:latin typeface="Times New Roman"/>
              </a:rPr>
              <a:t>	</a:t>
            </a:r>
            <a:r>
              <a:rPr b="0" lang="en-US" sz="2400" spc="-1" strike="noStrike">
                <a:solidFill>
                  <a:srgbClr val="c0fef9"/>
                </a:solidFill>
                <a:latin typeface="Times New Roman"/>
              </a:rPr>
              <a:t>Bible Class Atl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u="sng">
                <a:solidFill>
                  <a:srgbClr val="fafd00"/>
                </a:solidFill>
                <a:uFillTx/>
                <a:latin typeface="Times New Roman"/>
              </a:rPr>
              <a:t>SERIES</a:t>
            </a:r>
            <a:r>
              <a:rPr b="0" lang="en-US" sz="2400" spc="-1" strike="noStrike">
                <a:solidFill>
                  <a:srgbClr val="fafd00"/>
                </a:solidFill>
                <a:latin typeface="Times New Roman"/>
              </a:rPr>
              <a:t>:</a:t>
            </a:r>
            <a:r>
              <a:rPr b="0" lang="en-US" sz="2400" spc="-1" strike="noStrike">
                <a:solidFill>
                  <a:srgbClr val="c0fef9"/>
                </a:solidFill>
                <a:latin typeface="Times New Roman"/>
              </a:rPr>
              <a:t>	</a:t>
            </a:r>
            <a:r>
              <a:rPr b="0" lang="en-US" sz="2400" spc="-1" strike="noStrike">
                <a:solidFill>
                  <a:srgbClr val="c0fef9"/>
                </a:solidFill>
                <a:latin typeface="Times New Roman"/>
              </a:rPr>
              <a:t>	</a:t>
            </a:r>
            <a:r>
              <a:rPr b="0" lang="en-US" sz="2400" spc="-1" strike="noStrike">
                <a:solidFill>
                  <a:srgbClr val="c0fef9"/>
                </a:solidFill>
                <a:latin typeface="Times New Roman"/>
              </a:rPr>
              <a:t>Maps for the Sunday Scho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Times New Roman"/>
              </a:rPr>
              <a:t>NUMBER OF SLIDES</a:t>
            </a:r>
            <a:r>
              <a:rPr b="0" lang="en-US" sz="2000" spc="-1" strike="noStrike">
                <a:solidFill>
                  <a:srgbClr val="fafd00"/>
                </a:solidFill>
                <a:latin typeface="Times New Roman"/>
              </a:rPr>
              <a:t>:</a:t>
            </a:r>
            <a:r>
              <a:rPr b="0" lang="en-US" sz="2000" spc="-1" strike="noStrike">
                <a:solidFill>
                  <a:srgbClr val="c0fef9"/>
                </a:solidFill>
                <a:latin typeface="Times New Roman"/>
              </a:rPr>
              <a:t> </a:t>
            </a:r>
            <a:r>
              <a:rPr b="0" lang="en-US" sz="2000" spc="-1" strike="noStrike">
                <a:solidFill>
                  <a:srgbClr val="c0fef9"/>
                </a:solidFill>
                <a:latin typeface="Times New Roman"/>
              </a:rPr>
              <a:t>	</a:t>
            </a:r>
            <a:r>
              <a:rPr b="0" lang="en-US" sz="2000" spc="-1" strike="noStrike">
                <a:solidFill>
                  <a:srgbClr val="c0fef9"/>
                </a:solidFill>
                <a:latin typeface="Times New Roman"/>
              </a:rPr>
              <a:t>	</a:t>
            </a:r>
            <a:r>
              <a:rPr b="0" lang="en-US" sz="2000" spc="-1" strike="noStrike">
                <a:solidFill>
                  <a:srgbClr val="c0fef9"/>
                </a:solidFill>
                <a:latin typeface="Times New Roman"/>
              </a:rPr>
              <a:t>53</a:t>
            </a:r>
            <a:r>
              <a:rPr b="0" lang="en-US" sz="2000" spc="-1" strike="noStrike">
                <a:solidFill>
                  <a:srgbClr val="c0fef9"/>
                </a:solidFill>
                <a:latin typeface="Times New Roman"/>
              </a:rPr>
              <a:t>	</a:t>
            </a:r>
            <a:r>
              <a:rPr b="0" lang="en-US" sz="2000" spc="-1" strike="noStrike">
                <a:solidFill>
                  <a:srgbClr val="c0fef9"/>
                </a:solidFill>
                <a:latin typeface="Times New Roman"/>
              </a:rPr>
              <a:t>	</a:t>
            </a:r>
            <a:r>
              <a:rPr b="0" lang="en-US" sz="2000" spc="-1" strike="noStrike">
                <a:solidFill>
                  <a:srgbClr val="c0fef9"/>
                </a:solidFill>
                <a:latin typeface="Times New Roman"/>
              </a:rPr>
              <a:t>	</a:t>
            </a:r>
            <a:r>
              <a:rPr b="0" lang="en-US" sz="2000" spc="-1" strike="noStrike">
                <a:solidFill>
                  <a:srgbClr val="fafd00"/>
                </a:solidFill>
                <a:latin typeface="Times New Roman"/>
              </a:rPr>
              <a:t>Date:</a:t>
            </a:r>
            <a:r>
              <a:rPr b="0" lang="en-US" sz="2000" spc="-1" strike="noStrike">
                <a:solidFill>
                  <a:srgbClr val="c0fef9"/>
                </a:solidFill>
                <a:latin typeface="Times New Roman"/>
              </a:rPr>
              <a:t>	</a:t>
            </a:r>
            <a:r>
              <a:rPr b="0" lang="en-US" sz="2000" spc="-1" strike="noStrike">
                <a:solidFill>
                  <a:srgbClr val="c0fef9"/>
                </a:solidFill>
                <a:latin typeface="Times New Roman"/>
              </a:rPr>
              <a:t>6/10/00</a:t>
            </a:r>
            <a:r>
              <a:rPr b="0" lang="en-US" sz="2000" spc="-1" strike="noStrike">
                <a:solidFill>
                  <a:srgbClr val="000000"/>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	</a:t>
            </a:r>
            <a:r>
              <a:rPr b="0" lang="en-US" sz="2000" spc="-1" strike="noStrike">
                <a:solidFill>
                  <a:srgbClr val="fafd00"/>
                </a:solidFill>
                <a:latin typeface="Times New Roman"/>
              </a:rPr>
              <a:t>   </a:t>
            </a:r>
            <a:r>
              <a:rPr b="0" lang="en-US" sz="2000" spc="-1" strike="noStrike" u="sng">
                <a:solidFill>
                  <a:srgbClr val="fafd00"/>
                </a:solidFill>
                <a:uFillTx/>
                <a:latin typeface="Times New Roman"/>
              </a:rPr>
              <a:t>FILE NAMES</a:t>
            </a:r>
            <a:r>
              <a:rPr b="0" lang="en-US" sz="2000" spc="-1" strike="noStrike">
                <a:solidFill>
                  <a:srgbClr val="fafd00"/>
                </a:solidFill>
                <a:latin typeface="Times New Roman"/>
              </a:rPr>
              <a:t>:</a:t>
            </a:r>
            <a:r>
              <a:rPr b="0" lang="en-US" sz="2000" spc="-1" strike="noStrike">
                <a:solidFill>
                  <a:srgbClr val="c0fef9"/>
                </a:solidFill>
                <a:latin typeface="Times New Roman"/>
              </a:rPr>
              <a:t>   </a:t>
            </a:r>
            <a:r>
              <a:rPr b="0" lang="en-US" sz="2000" spc="-1" strike="noStrike">
                <a:solidFill>
                  <a:srgbClr val="c0fef9"/>
                </a:solidFill>
                <a:latin typeface="Times New Roman"/>
              </a:rPr>
              <a:t>	</a:t>
            </a:r>
            <a:r>
              <a:rPr b="0" lang="en-US" sz="2000" spc="-1" strike="noStrike">
                <a:solidFill>
                  <a:srgbClr val="c0fef9"/>
                </a:solidFill>
                <a:latin typeface="Times New Roman"/>
              </a:rPr>
              <a:t>Readme.txt &amp; BATLAS22.pp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7" name=""/>
          <p:cNvSpPr/>
          <p:nvPr/>
        </p:nvSpPr>
        <p:spPr>
          <a:xfrm>
            <a:off x="466560" y="849240"/>
            <a:ext cx="7569360" cy="0"/>
          </a:xfrm>
          <a:prstGeom prst="line">
            <a:avLst/>
          </a:prstGeom>
          <a:ln w="127080">
            <a:solidFill>
              <a:srgbClr val="7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270360" y="2408400"/>
            <a:ext cx="799524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CATEGORY:</a:t>
            </a:r>
            <a:r>
              <a:rPr b="1" lang="en-US" sz="2400" spc="-1" strike="noStrike">
                <a:solidFill>
                  <a:srgbClr val="fafd00"/>
                </a:solidFill>
                <a:latin typeface="Times New Roman"/>
              </a:rPr>
              <a:t>  </a:t>
            </a:r>
            <a:r>
              <a:rPr b="1" lang="en-US" sz="2400" spc="-1" strike="noStrike" u="sng">
                <a:solidFill>
                  <a:srgbClr val="d49fff"/>
                </a:solidFill>
                <a:uFillTx/>
                <a:latin typeface="Times New Roman"/>
              </a:rPr>
              <a:t>Copyrighted</a:t>
            </a:r>
            <a:r>
              <a:rPr b="1" lang="en-US" sz="2400" spc="-1" strike="noStrike" u="sng">
                <a:solidFill>
                  <a:srgbClr val="c0fef9"/>
                </a:solidFill>
                <a:uFillTx/>
                <a:latin typeface="Times New Roman"/>
              </a:rPr>
              <a:t> </a:t>
            </a:r>
            <a:r>
              <a:rPr b="1" i="1" lang="en-US" sz="2800" spc="-1" strike="noStrike" u="sng">
                <a:solidFill>
                  <a:srgbClr val="ffffff"/>
                </a:solidFill>
                <a:uFillTx/>
                <a:latin typeface="Times New Roman"/>
              </a:rPr>
              <a:t>Sunday School Literatu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9" name=""/>
          <p:cNvSpPr/>
          <p:nvPr/>
        </p:nvSpPr>
        <p:spPr>
          <a:xfrm>
            <a:off x="169920" y="2933640"/>
            <a:ext cx="8804160" cy="319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se electronic slide shows provided by Terry Taylor.  Microsoft PowerPoint (R) was used  to create the show.  Typically, teacher's notes in text files are included in the packages.  You can download Microsoft’s free PowerPoint viewer from www.microsoft.com on the Internet if need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ontact  me at </a:t>
            </a:r>
            <a:r>
              <a:rPr b="0" lang="en-US" sz="1400" spc="-1" strike="noStrike" u="sng">
                <a:solidFill>
                  <a:srgbClr val="ffffff"/>
                </a:solidFill>
                <a:uFillTx/>
                <a:latin typeface="Swis721 Cn BT"/>
                <a:hlinkClick r:id="rId1"/>
              </a:rPr>
              <a:t>ttaylor</a:t>
            </a:r>
            <a:r>
              <a:rPr b="0" lang="en-US" sz="1400" spc="-1" strike="noStrike" u="sng">
                <a:solidFill>
                  <a:srgbClr val="ffffff"/>
                </a:solidFill>
                <a:uFillTx/>
                <a:latin typeface="Swis721 Cn BT"/>
                <a:hlinkClick r:id="rId2"/>
              </a:rPr>
              <a:t>@</a:t>
            </a:r>
            <a:r>
              <a:rPr b="0" lang="en-US" sz="1400" spc="-1" strike="noStrike" u="sng">
                <a:solidFill>
                  <a:srgbClr val="ffffff"/>
                </a:solidFill>
                <a:uFillTx/>
                <a:latin typeface="Swis721 Cn BT"/>
                <a:hlinkClick r:id="rId3"/>
              </a:rPr>
              <a:t>ebibleteacher</a:t>
            </a:r>
            <a:r>
              <a:rPr b="0" lang="en-US" sz="1400" spc="-1" strike="noStrike" u="sng">
                <a:solidFill>
                  <a:srgbClr val="ffffff"/>
                </a:solidFill>
                <a:uFillTx/>
                <a:latin typeface="Swis721 Cn BT"/>
                <a:hlinkClick r:id="rId4"/>
              </a:rPr>
              <a:t>.</a:t>
            </a:r>
            <a:r>
              <a:rPr b="0" lang="en-US" sz="1400" spc="-1" strike="noStrike" u="sng">
                <a:solidFill>
                  <a:srgbClr val="ffffff"/>
                </a:solidFill>
                <a:uFillTx/>
                <a:latin typeface="Swis721 Cn BT"/>
                <a:hlinkClick r:id="rId5"/>
              </a:rPr>
              <a:t>com</a:t>
            </a:r>
            <a:r>
              <a:rPr b="0" lang="en-US" sz="1400" spc="-1" strike="noStrike">
                <a:solidFill>
                  <a:srgbClr val="fafd00"/>
                </a:solidFill>
                <a:latin typeface="Swis721 Cn BT"/>
              </a:rPr>
              <a:t>   </a:t>
            </a:r>
            <a:r>
              <a:rPr b="0" lang="en-US" sz="1600" spc="-1" strike="noStrike">
                <a:solidFill>
                  <a:srgbClr val="ffffff"/>
                </a:solidFill>
                <a:latin typeface="Times New Roman"/>
              </a:rPr>
              <a:t>for more information or at 609 Country Club Ln Carterville, IL  62918.  Email with suggestions, comments or for more informatio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is slide show is a type of Sunday School literature and is copyrighted in regards to slide layout, text and arrangement.   “Microsoft” and “Powerpoint” are copyrighted by the Microsoft Corpor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 ARE ALLOWED TO COPY MAPS OUT OF THIS SET AND REUSE IN SUNDAY SCHOOL CLASSES PROVIDED THAT THE MAPS ARE INCIDENTAL TO THE COURSE MATERIAL.  YOU MAY NOT RESELL ANY OF THESE MAPS AS PART OF MAP SETS WITHOUT THE WRITTEN PERMISSION OF THE AUTHOR, TERRY TAYLOR.  See Title page for cost and other restriction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No warranty or guarantee is  implied.  This is freeware.  Some images based  on NASA satellite photos.  Use of these images does not imply NASA endorsement.</a:t>
            </a:r>
            <a:endParaRPr b="0" lang="en-US" sz="1400" spc="-1" strike="noStrike">
              <a:solidFill>
                <a:srgbClr val="ffffff"/>
              </a:solidFill>
              <a:latin typeface="Times New Roman"/>
            </a:endParaRPr>
          </a:p>
        </p:txBody>
      </p:sp>
      <p:sp>
        <p:nvSpPr>
          <p:cNvPr id="1240" name=""/>
          <p:cNvSpPr/>
          <p:nvPr/>
        </p:nvSpPr>
        <p:spPr>
          <a:xfrm>
            <a:off x="-156960" y="6524640"/>
            <a:ext cx="8497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A variety of other electronic slideshows and software is available. </a:t>
            </a:r>
            <a:r>
              <a:rPr b="0" lang="en-US" sz="1400" spc="-1" strike="noStrike" u="sng">
                <a:solidFill>
                  <a:srgbClr val="ffffff"/>
                </a:solidFill>
                <a:uFillTx/>
                <a:latin typeface="Swis721 Cn BT"/>
                <a:hlinkClick r:id="rId6"/>
              </a:rPr>
              <a:t>ttaylor</a:t>
            </a:r>
            <a:r>
              <a:rPr b="0" lang="en-US" sz="1400" spc="-1" strike="noStrike" u="sng">
                <a:solidFill>
                  <a:srgbClr val="ffffff"/>
                </a:solidFill>
                <a:uFillTx/>
                <a:latin typeface="Swis721 Cn BT"/>
                <a:hlinkClick r:id="rId7"/>
              </a:rPr>
              <a:t>@</a:t>
            </a:r>
            <a:r>
              <a:rPr b="0" lang="en-US" sz="1400" spc="-1" strike="noStrike" u="sng">
                <a:solidFill>
                  <a:srgbClr val="ffffff"/>
                </a:solidFill>
                <a:uFillTx/>
                <a:latin typeface="Swis721 Cn BT"/>
                <a:hlinkClick r:id="rId8"/>
              </a:rPr>
              <a:t>ebibleteacher</a:t>
            </a:r>
            <a:r>
              <a:rPr b="0" lang="en-US" sz="1400" spc="-1" strike="noStrike" u="sng">
                <a:solidFill>
                  <a:srgbClr val="ffffff"/>
                </a:solidFill>
                <a:uFillTx/>
                <a:latin typeface="Swis721 Cn BT"/>
                <a:hlinkClick r:id="rId9"/>
              </a:rPr>
              <a:t>.</a:t>
            </a:r>
            <a:r>
              <a:rPr b="0" lang="en-US" sz="1400" spc="-1" strike="noStrike" u="sng">
                <a:solidFill>
                  <a:srgbClr val="ffffff"/>
                </a:solidFill>
                <a:uFillTx/>
                <a:latin typeface="Swis721 Cn BT"/>
                <a:hlinkClick r:id="rId10"/>
              </a:rPr>
              <a:t>com</a:t>
            </a:r>
            <a:r>
              <a:rPr b="0" lang="en-US" sz="1400" spc="-1" strike="noStrike">
                <a:solidFill>
                  <a:srgbClr val="fafd00"/>
                </a:solidFill>
                <a:latin typeface="Swis721 Cn BT"/>
              </a:rPr>
              <a:t> ©</a:t>
            </a:r>
            <a:r>
              <a:rPr b="0" lang="en-US" sz="1600" spc="-1" strike="noStrike">
                <a:solidFill>
                  <a:srgbClr val="fafd00"/>
                </a:solidFill>
                <a:latin typeface="Times New Roman"/>
              </a:rPr>
              <a:t> 2000</a:t>
            </a:r>
            <a:endParaRPr b="0" lang="en-US" sz="1600" spc="-1" strike="noStrike">
              <a:solidFill>
                <a:srgbClr val="ffffff"/>
              </a:solidFill>
              <a:latin typeface="Times New Roman"/>
            </a:endParaRPr>
          </a:p>
        </p:txBody>
      </p:sp>
      <p:sp>
        <p:nvSpPr>
          <p:cNvPr id="1241" name=""/>
          <p:cNvSpPr/>
          <p:nvPr/>
        </p:nvSpPr>
        <p:spPr>
          <a:xfrm>
            <a:off x="3506760" y="6254640"/>
            <a:ext cx="556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ff00"/>
                </a:solidFill>
                <a:latin typeface="Arial"/>
              </a:rPr>
              <a:t>Web Site:  </a:t>
            </a:r>
            <a:r>
              <a:rPr b="0" lang="en-US" sz="1800" spc="-1" strike="noStrike" u="sng">
                <a:solidFill>
                  <a:srgbClr val="ffffff"/>
                </a:solidFill>
                <a:uFillTx/>
                <a:latin typeface="Arial"/>
                <a:hlinkClick r:id="rId11"/>
              </a:rPr>
              <a:t>www.</a:t>
            </a:r>
            <a:r>
              <a:rPr b="0" lang="en-US" sz="1800" spc="-1" strike="noStrike" u="sng">
                <a:solidFill>
                  <a:srgbClr val="ffffff"/>
                </a:solidFill>
                <a:uFillTx/>
                <a:latin typeface="Arial"/>
                <a:hlinkClick r:id="rId12"/>
              </a:rPr>
              <a:t>ebibleteacher</a:t>
            </a:r>
            <a:r>
              <a:rPr b="0" lang="en-US" sz="1800" spc="-1" strike="noStrike" u="sng">
                <a:solidFill>
                  <a:srgbClr val="ffffff"/>
                </a:solidFill>
                <a:uFillTx/>
                <a:latin typeface="Arial"/>
                <a:hlinkClick r:id="rId13"/>
              </a:rPr>
              <a:t>.com</a:t>
            </a:r>
            <a:endParaRPr b="0" lang="en-US" sz="1800" spc="-1" strike="noStrike">
              <a:solidFill>
                <a:srgbClr val="ffffff"/>
              </a:solidFill>
              <a:latin typeface="Times New Roman"/>
            </a:endParaRPr>
          </a:p>
        </p:txBody>
      </p:sp>
      <p:sp>
        <p:nvSpPr>
          <p:cNvPr id="124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Times New Roman"/>
              </a:rPr>
              <a:t>Copyright &amp; Business Info</a:t>
            </a:r>
            <a:endParaRPr b="1" lang="en-US" sz="100" spc="-1" strike="noStrike" u="sng">
              <a:solidFill>
                <a:srgbClr val="c0fef9"/>
              </a:solidFill>
              <a:uFillTx/>
              <a:latin typeface="Times New Roman"/>
            </a:endParaRPr>
          </a:p>
        </p:txBody>
      </p:sp>
      <p:sp>
        <p:nvSpPr>
          <p:cNvPr id="1243" name=""/>
          <p:cNvSpPr/>
          <p:nvPr/>
        </p:nvSpPr>
        <p:spPr>
          <a:xfrm>
            <a:off x="0" y="6051600"/>
            <a:ext cx="32130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9b03"/>
                </a:solidFill>
                <a:latin typeface="Arial Narrow"/>
              </a:rPr>
              <a:t>Shareware distributors may charge a nominal distribution fee for this software.</a:t>
            </a:r>
            <a:endParaRPr b="0" lang="en-US" sz="1600" spc="-1" strike="noStrike">
              <a:solidFill>
                <a:srgbClr val="ffffff"/>
              </a:solidFill>
              <a:latin typeface="Times New Roman"/>
            </a:endParaRPr>
          </a:p>
        </p:txBody>
      </p:sp>
      <p:sp>
        <p:nvSpPr>
          <p:cNvPr id="1244"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4" action="ppaction://hlinksldjump"/>
              </a:rPr>
              <a:t>INDEX</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49500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Garden of Eden</a:t>
            </a:r>
            <a:endParaRPr b="1" lang="en-US" sz="100" spc="-1" strike="noStrike" u="sng">
              <a:solidFill>
                <a:srgbClr val="c0fef9"/>
              </a:solidFill>
              <a:uFillTx/>
              <a:latin typeface="Times New Roman"/>
            </a:endParaRPr>
          </a:p>
        </p:txBody>
      </p:sp>
      <p:sp>
        <p:nvSpPr>
          <p:cNvPr id="168"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169" name=""/>
          <p:cNvGrpSpPr/>
          <p:nvPr/>
        </p:nvGrpSpPr>
        <p:grpSpPr>
          <a:xfrm>
            <a:off x="0" y="952560"/>
            <a:ext cx="9144000" cy="5086440"/>
            <a:chOff x="0" y="952560"/>
            <a:chExt cx="9144000" cy="5086440"/>
          </a:xfrm>
        </p:grpSpPr>
        <p:grpSp>
          <p:nvGrpSpPr>
            <p:cNvPr id="170" name=""/>
            <p:cNvGrpSpPr/>
            <p:nvPr/>
          </p:nvGrpSpPr>
          <p:grpSpPr>
            <a:xfrm>
              <a:off x="0" y="952560"/>
              <a:ext cx="9144000" cy="5086440"/>
              <a:chOff x="0" y="952560"/>
              <a:chExt cx="9144000" cy="5086440"/>
            </a:xfrm>
          </p:grpSpPr>
          <p:sp>
            <p:nvSpPr>
              <p:cNvPr id="171" name=""/>
              <p:cNvSpPr/>
              <p:nvPr/>
            </p:nvSpPr>
            <p:spPr>
              <a:xfrm>
                <a:off x="0" y="971640"/>
                <a:ext cx="9086760" cy="50292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 name=""/>
              <p:cNvGrpSpPr/>
              <p:nvPr/>
            </p:nvGrpSpPr>
            <p:grpSpPr>
              <a:xfrm>
                <a:off x="23760" y="952560"/>
                <a:ext cx="9086760" cy="5086440"/>
                <a:chOff x="23760" y="952560"/>
                <a:chExt cx="9086760" cy="5086440"/>
              </a:xfrm>
            </p:grpSpPr>
            <p:sp>
              <p:nvSpPr>
                <p:cNvPr id="173" name=""/>
                <p:cNvSpPr/>
                <p:nvPr/>
              </p:nvSpPr>
              <p:spPr>
                <a:xfrm>
                  <a:off x="2747880" y="2798640"/>
                  <a:ext cx="9540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3760" y="3517920"/>
                  <a:ext cx="5372280" cy="2521080"/>
                </a:xfrm>
                <a:custGeom>
                  <a:avLst/>
                  <a:gdLst/>
                  <a:ahLst/>
                  <a:rect l="l" t="t" r="r" b="b"/>
                  <a:pathLst>
                    <a:path w="3384" h="1588">
                      <a:moveTo>
                        <a:pt x="3384" y="1552"/>
                      </a:moveTo>
                      <a:lnTo>
                        <a:pt x="3348" y="1228"/>
                      </a:lnTo>
                      <a:lnTo>
                        <a:pt x="3060" y="976"/>
                      </a:lnTo>
                      <a:lnTo>
                        <a:pt x="3132" y="724"/>
                      </a:lnTo>
                      <a:lnTo>
                        <a:pt x="3060" y="580"/>
                      </a:lnTo>
                      <a:lnTo>
                        <a:pt x="2988" y="652"/>
                      </a:lnTo>
                      <a:lnTo>
                        <a:pt x="2916" y="616"/>
                      </a:lnTo>
                      <a:lnTo>
                        <a:pt x="2808" y="652"/>
                      </a:lnTo>
                      <a:lnTo>
                        <a:pt x="2376" y="472"/>
                      </a:lnTo>
                      <a:lnTo>
                        <a:pt x="2240" y="516"/>
                      </a:lnTo>
                      <a:lnTo>
                        <a:pt x="2228" y="624"/>
                      </a:lnTo>
                      <a:lnTo>
                        <a:pt x="1692" y="400"/>
                      </a:lnTo>
                      <a:lnTo>
                        <a:pt x="1652" y="156"/>
                      </a:lnTo>
                      <a:lnTo>
                        <a:pt x="1296" y="184"/>
                      </a:lnTo>
                      <a:lnTo>
                        <a:pt x="904" y="0"/>
                      </a:lnTo>
                      <a:lnTo>
                        <a:pt x="576" y="184"/>
                      </a:lnTo>
                      <a:lnTo>
                        <a:pt x="288" y="472"/>
                      </a:lnTo>
                      <a:lnTo>
                        <a:pt x="288" y="544"/>
                      </a:lnTo>
                      <a:lnTo>
                        <a:pt x="216" y="652"/>
                      </a:lnTo>
                      <a:lnTo>
                        <a:pt x="72" y="832"/>
                      </a:lnTo>
                      <a:lnTo>
                        <a:pt x="0" y="868"/>
                      </a:lnTo>
                      <a:lnTo>
                        <a:pt x="0" y="158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57160" y="952560"/>
                  <a:ext cx="8253360" cy="5029200"/>
                </a:xfrm>
                <a:custGeom>
                  <a:avLst/>
                  <a:gdLst/>
                  <a:ahLst/>
                  <a:rect l="l" t="t" r="r" b="b"/>
                  <a:pathLst>
                    <a:path w="5199" h="3168">
                      <a:moveTo>
                        <a:pt x="5199" y="3096"/>
                      </a:moveTo>
                      <a:lnTo>
                        <a:pt x="4983" y="2916"/>
                      </a:lnTo>
                      <a:lnTo>
                        <a:pt x="4479" y="2916"/>
                      </a:lnTo>
                      <a:lnTo>
                        <a:pt x="3687" y="2520"/>
                      </a:lnTo>
                      <a:lnTo>
                        <a:pt x="3687" y="2916"/>
                      </a:lnTo>
                      <a:lnTo>
                        <a:pt x="4155" y="3168"/>
                      </a:lnTo>
                      <a:lnTo>
                        <a:pt x="3075" y="3168"/>
                      </a:lnTo>
                      <a:lnTo>
                        <a:pt x="2607" y="2448"/>
                      </a:lnTo>
                      <a:lnTo>
                        <a:pt x="2571" y="2268"/>
                      </a:lnTo>
                      <a:lnTo>
                        <a:pt x="2751" y="2160"/>
                      </a:lnTo>
                      <a:lnTo>
                        <a:pt x="2859" y="2036"/>
                      </a:lnTo>
                      <a:lnTo>
                        <a:pt x="2907" y="1904"/>
                      </a:lnTo>
                      <a:lnTo>
                        <a:pt x="2859" y="1620"/>
                      </a:lnTo>
                      <a:lnTo>
                        <a:pt x="2679" y="1700"/>
                      </a:lnTo>
                      <a:lnTo>
                        <a:pt x="2283" y="1656"/>
                      </a:lnTo>
                      <a:lnTo>
                        <a:pt x="2307" y="1448"/>
                      </a:lnTo>
                      <a:lnTo>
                        <a:pt x="2391" y="1404"/>
                      </a:lnTo>
                      <a:lnTo>
                        <a:pt x="2607" y="1260"/>
                      </a:lnTo>
                      <a:lnTo>
                        <a:pt x="3207" y="1184"/>
                      </a:lnTo>
                      <a:lnTo>
                        <a:pt x="3243" y="1052"/>
                      </a:lnTo>
                      <a:lnTo>
                        <a:pt x="2823" y="900"/>
                      </a:lnTo>
                      <a:lnTo>
                        <a:pt x="2859" y="756"/>
                      </a:lnTo>
                      <a:lnTo>
                        <a:pt x="2763" y="920"/>
                      </a:lnTo>
                      <a:lnTo>
                        <a:pt x="2643" y="920"/>
                      </a:lnTo>
                      <a:lnTo>
                        <a:pt x="2571" y="944"/>
                      </a:lnTo>
                      <a:lnTo>
                        <a:pt x="2439" y="1064"/>
                      </a:lnTo>
                      <a:lnTo>
                        <a:pt x="2523" y="1244"/>
                      </a:lnTo>
                      <a:lnTo>
                        <a:pt x="2463" y="1260"/>
                      </a:lnTo>
                      <a:lnTo>
                        <a:pt x="2415" y="1256"/>
                      </a:lnTo>
                      <a:lnTo>
                        <a:pt x="2319" y="1388"/>
                      </a:lnTo>
                      <a:lnTo>
                        <a:pt x="2103" y="1400"/>
                      </a:lnTo>
                      <a:lnTo>
                        <a:pt x="2103" y="1548"/>
                      </a:lnTo>
                      <a:lnTo>
                        <a:pt x="2103" y="1656"/>
                      </a:lnTo>
                      <a:lnTo>
                        <a:pt x="2007" y="1772"/>
                      </a:lnTo>
                      <a:lnTo>
                        <a:pt x="1923" y="1728"/>
                      </a:lnTo>
                      <a:lnTo>
                        <a:pt x="1923" y="1476"/>
                      </a:lnTo>
                      <a:lnTo>
                        <a:pt x="1923" y="1404"/>
                      </a:lnTo>
                      <a:lnTo>
                        <a:pt x="1599" y="944"/>
                      </a:lnTo>
                      <a:lnTo>
                        <a:pt x="1527" y="1016"/>
                      </a:lnTo>
                      <a:lnTo>
                        <a:pt x="1551" y="1136"/>
                      </a:lnTo>
                      <a:lnTo>
                        <a:pt x="1734" y="1389"/>
                      </a:lnTo>
                      <a:lnTo>
                        <a:pt x="1716" y="1452"/>
                      </a:lnTo>
                      <a:lnTo>
                        <a:pt x="1647" y="1388"/>
                      </a:lnTo>
                      <a:lnTo>
                        <a:pt x="1644" y="1479"/>
                      </a:lnTo>
                      <a:lnTo>
                        <a:pt x="1599" y="1551"/>
                      </a:lnTo>
                      <a:lnTo>
                        <a:pt x="1581" y="1533"/>
                      </a:lnTo>
                      <a:lnTo>
                        <a:pt x="1572" y="1407"/>
                      </a:lnTo>
                      <a:lnTo>
                        <a:pt x="1455" y="1260"/>
                      </a:lnTo>
                      <a:lnTo>
                        <a:pt x="1275" y="1008"/>
                      </a:lnTo>
                      <a:lnTo>
                        <a:pt x="951" y="1008"/>
                      </a:lnTo>
                      <a:lnTo>
                        <a:pt x="555" y="1548"/>
                      </a:lnTo>
                      <a:lnTo>
                        <a:pt x="288" y="1524"/>
                      </a:lnTo>
                      <a:lnTo>
                        <a:pt x="0" y="1308"/>
                      </a:lnTo>
                      <a:lnTo>
                        <a:pt x="159" y="1044"/>
                      </a:lnTo>
                      <a:lnTo>
                        <a:pt x="231" y="828"/>
                      </a:lnTo>
                      <a:lnTo>
                        <a:pt x="324" y="768"/>
                      </a:lnTo>
                      <a:lnTo>
                        <a:pt x="627" y="936"/>
                      </a:lnTo>
                      <a:lnTo>
                        <a:pt x="771" y="756"/>
                      </a:lnTo>
                      <a:lnTo>
                        <a:pt x="627" y="504"/>
                      </a:lnTo>
                      <a:lnTo>
                        <a:pt x="951" y="504"/>
                      </a:lnTo>
                      <a:lnTo>
                        <a:pt x="987" y="360"/>
                      </a:lnTo>
                      <a:lnTo>
                        <a:pt x="1239" y="180"/>
                      </a:lnTo>
                      <a:lnTo>
                        <a:pt x="1455" y="108"/>
                      </a:lnTo>
                      <a:lnTo>
                        <a:pt x="1436" y="12"/>
                      </a:lnTo>
                      <a:lnTo>
                        <a:pt x="1520" y="12"/>
                      </a:lnTo>
                      <a:lnTo>
                        <a:pt x="1563" y="108"/>
                      </a:lnTo>
                      <a:lnTo>
                        <a:pt x="1779" y="252"/>
                      </a:lnTo>
                      <a:lnTo>
                        <a:pt x="1887" y="0"/>
                      </a:lnTo>
                      <a:lnTo>
                        <a:pt x="5199"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8080" y="570060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177" name=""/>
                <p:cNvSpPr/>
                <p:nvPr/>
              </p:nvSpPr>
              <p:spPr>
                <a:xfrm>
                  <a:off x="2738520" y="3076560"/>
                  <a:ext cx="114120" cy="31428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3052800" y="3419640"/>
                  <a:ext cx="257040" cy="23148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029120" y="3881520"/>
                  <a:ext cx="223920" cy="9360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110200" y="3819600"/>
                  <a:ext cx="171360" cy="15552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52760" y="971640"/>
                  <a:ext cx="799920" cy="647640"/>
                </a:xfrm>
                <a:custGeom>
                  <a:avLst/>
                  <a:gdLst/>
                  <a:ahLst/>
                  <a:rect l="l" t="t" r="r" b="b"/>
                  <a:pathLst>
                    <a:path w="504" h="408">
                      <a:moveTo>
                        <a:pt x="0" y="354"/>
                      </a:moveTo>
                      <a:lnTo>
                        <a:pt x="54" y="408"/>
                      </a:lnTo>
                      <a:lnTo>
                        <a:pt x="198" y="336"/>
                      </a:lnTo>
                      <a:lnTo>
                        <a:pt x="396" y="354"/>
                      </a:lnTo>
                      <a:lnTo>
                        <a:pt x="504" y="246"/>
                      </a:lnTo>
                      <a:lnTo>
                        <a:pt x="342" y="30"/>
                      </a:lnTo>
                      <a:lnTo>
                        <a:pt x="335" y="0"/>
                      </a:lnTo>
                      <a:lnTo>
                        <a:pt x="191" y="0"/>
                      </a:lnTo>
                      <a:lnTo>
                        <a:pt x="180" y="120"/>
                      </a:lnTo>
                      <a:lnTo>
                        <a:pt x="108" y="120"/>
                      </a:lnTo>
                      <a:lnTo>
                        <a:pt x="126" y="228"/>
                      </a:lnTo>
                      <a:lnTo>
                        <a:pt x="0" y="354"/>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366920" y="961920"/>
                  <a:ext cx="39996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2234160" y="3581280"/>
                <a:ext cx="3125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terranean</a:t>
                </a:r>
                <a:endParaRPr b="0" lang="en-US" sz="3600" spc="-1" strike="noStrike">
                  <a:solidFill>
                    <a:srgbClr val="ffffff"/>
                  </a:solidFill>
                  <a:latin typeface="Times New Roman"/>
                </a:endParaRPr>
              </a:p>
            </p:txBody>
          </p:sp>
          <p:sp>
            <p:nvSpPr>
              <p:cNvPr id="184" name=""/>
              <p:cNvSpPr/>
              <p:nvPr/>
            </p:nvSpPr>
            <p:spPr>
              <a:xfrm>
                <a:off x="3376080" y="4743360"/>
                <a:ext cx="1350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gypt</a:t>
                </a:r>
                <a:endParaRPr b="0" lang="en-US" sz="3600" spc="-1" strike="noStrike">
                  <a:solidFill>
                    <a:srgbClr val="ffffff"/>
                  </a:solidFill>
                  <a:latin typeface="Times New Roman"/>
                </a:endParaRPr>
              </a:p>
            </p:txBody>
          </p:sp>
          <p:sp>
            <p:nvSpPr>
              <p:cNvPr id="185" name=""/>
              <p:cNvSpPr/>
              <p:nvPr/>
            </p:nvSpPr>
            <p:spPr>
              <a:xfrm>
                <a:off x="6734160" y="3390840"/>
                <a:ext cx="1679400" cy="1734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Garde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of</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Eden</a:t>
                </a:r>
                <a:endParaRPr b="0" lang="en-US" sz="3600" spc="-1" strike="noStrike">
                  <a:solidFill>
                    <a:srgbClr val="ffffff"/>
                  </a:solidFill>
                  <a:latin typeface="Times New Roman"/>
                </a:endParaRPr>
              </a:p>
            </p:txBody>
          </p:sp>
          <p:sp>
            <p:nvSpPr>
              <p:cNvPr id="186" name=""/>
              <p:cNvSpPr/>
              <p:nvPr/>
            </p:nvSpPr>
            <p:spPr>
              <a:xfrm>
                <a:off x="6369120" y="4083120"/>
                <a:ext cx="520560" cy="52056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600360" y="1009800"/>
                <a:ext cx="55436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afd00"/>
                    </a:solidFill>
                    <a:uFillTx/>
                    <a:latin typeface="Times New Roman"/>
                  </a:rPr>
                  <a:t>Garden of Eden</a:t>
                </a:r>
                <a:endParaRPr b="0" lang="en-US" sz="6000" spc="-1" strike="noStrike">
                  <a:solidFill>
                    <a:srgbClr val="ffffff"/>
                  </a:solidFill>
                  <a:latin typeface="Times New Roman"/>
                </a:endParaRPr>
              </a:p>
            </p:txBody>
          </p:sp>
          <p:sp>
            <p:nvSpPr>
              <p:cNvPr id="188" name=""/>
              <p:cNvSpPr/>
              <p:nvPr/>
            </p:nvSpPr>
            <p:spPr>
              <a:xfrm>
                <a:off x="5045040" y="4102200"/>
                <a:ext cx="498600" cy="482400"/>
              </a:xfrm>
              <a:custGeom>
                <a:avLst/>
                <a:gdLst/>
                <a:ahLst/>
                <a:rect l="l" t="t" r="r" b="b"/>
                <a:pathLst>
                  <a:path w="314" h="304">
                    <a:moveTo>
                      <a:pt x="240" y="12"/>
                    </a:moveTo>
                    <a:lnTo>
                      <a:pt x="288" y="0"/>
                    </a:lnTo>
                    <a:lnTo>
                      <a:pt x="314" y="17"/>
                    </a:lnTo>
                    <a:lnTo>
                      <a:pt x="314" y="53"/>
                    </a:lnTo>
                    <a:lnTo>
                      <a:pt x="278" y="98"/>
                    </a:lnTo>
                    <a:lnTo>
                      <a:pt x="206" y="179"/>
                    </a:lnTo>
                    <a:lnTo>
                      <a:pt x="125" y="269"/>
                    </a:lnTo>
                    <a:lnTo>
                      <a:pt x="64" y="304"/>
                    </a:lnTo>
                    <a:lnTo>
                      <a:pt x="0" y="264"/>
                    </a:lnTo>
                    <a:lnTo>
                      <a:pt x="84" y="204"/>
                    </a:lnTo>
                    <a:lnTo>
                      <a:pt x="192" y="108"/>
                    </a:lnTo>
                    <a:lnTo>
                      <a:pt x="240" y="12"/>
                    </a:lnTo>
                    <a:close/>
                  </a:path>
                </a:pathLst>
              </a:custGeom>
              <a:solidFill>
                <a:srgbClr val="99cc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842720" y="4000680"/>
                <a:ext cx="11782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srael</a:t>
                </a:r>
                <a:endParaRPr b="0" lang="en-US" sz="3200" spc="-1" strike="noStrike">
                  <a:solidFill>
                    <a:srgbClr val="ffffff"/>
                  </a:solidFill>
                  <a:latin typeface="Times New Roman"/>
                </a:endParaRPr>
              </a:p>
            </p:txBody>
          </p:sp>
        </p:grpSp>
        <p:sp>
          <p:nvSpPr>
            <p:cNvPr id="190" name=""/>
            <p:cNvSpPr/>
            <p:nvPr/>
          </p:nvSpPr>
          <p:spPr>
            <a:xfrm>
              <a:off x="4984920" y="4654440"/>
              <a:ext cx="126720" cy="26064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91" name=""/>
            <p:cNvSpPr/>
            <p:nvPr/>
          </p:nvSpPr>
          <p:spPr>
            <a:xfrm>
              <a:off x="6178680" y="2070000"/>
              <a:ext cx="666720" cy="93348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5520" y="609120"/>
            <a:ext cx="2800440" cy="171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Noah’s Ark 1</a:t>
            </a:r>
            <a:endParaRPr b="1" lang="en-US" sz="100" spc="-1" strike="noStrike" u="sng">
              <a:solidFill>
                <a:srgbClr val="c0fef9"/>
              </a:solidFill>
              <a:uFillTx/>
              <a:latin typeface="Times New Roman"/>
            </a:endParaRPr>
          </a:p>
        </p:txBody>
      </p:sp>
      <p:sp>
        <p:nvSpPr>
          <p:cNvPr id="193"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1" action="ppaction://hlinksldjump"/>
              </a:rPr>
              <a:t>INDEX</a:t>
            </a:r>
            <a:endParaRPr b="0" lang="en-US" sz="1800" spc="-1" strike="noStrike">
              <a:solidFill>
                <a:srgbClr val="ffffff"/>
              </a:solidFill>
              <a:latin typeface="Times New Roman"/>
            </a:endParaRPr>
          </a:p>
        </p:txBody>
      </p:sp>
      <p:grpSp>
        <p:nvGrpSpPr>
          <p:cNvPr id="194" name=""/>
          <p:cNvGrpSpPr/>
          <p:nvPr/>
        </p:nvGrpSpPr>
        <p:grpSpPr>
          <a:xfrm>
            <a:off x="57240" y="952560"/>
            <a:ext cx="9086760" cy="5086440"/>
            <a:chOff x="57240" y="952560"/>
            <a:chExt cx="9086760" cy="5086440"/>
          </a:xfrm>
        </p:grpSpPr>
        <p:grpSp>
          <p:nvGrpSpPr>
            <p:cNvPr id="195" name=""/>
            <p:cNvGrpSpPr/>
            <p:nvPr/>
          </p:nvGrpSpPr>
          <p:grpSpPr>
            <a:xfrm>
              <a:off x="57240" y="952560"/>
              <a:ext cx="9086760" cy="5086440"/>
              <a:chOff x="57240" y="952560"/>
              <a:chExt cx="9086760" cy="5086440"/>
            </a:xfrm>
          </p:grpSpPr>
          <p:sp>
            <p:nvSpPr>
              <p:cNvPr id="196" name=""/>
              <p:cNvSpPr/>
              <p:nvPr/>
            </p:nvSpPr>
            <p:spPr>
              <a:xfrm>
                <a:off x="57240" y="971640"/>
                <a:ext cx="9086760" cy="502920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7" name=""/>
              <p:cNvGrpSpPr/>
              <p:nvPr/>
            </p:nvGrpSpPr>
            <p:grpSpPr>
              <a:xfrm>
                <a:off x="57240" y="952560"/>
                <a:ext cx="9086760" cy="5086440"/>
                <a:chOff x="57240" y="952560"/>
                <a:chExt cx="9086760" cy="5086440"/>
              </a:xfrm>
            </p:grpSpPr>
            <p:grpSp>
              <p:nvGrpSpPr>
                <p:cNvPr id="198" name=""/>
                <p:cNvGrpSpPr/>
                <p:nvPr/>
              </p:nvGrpSpPr>
              <p:grpSpPr>
                <a:xfrm>
                  <a:off x="57240" y="952560"/>
                  <a:ext cx="9086760" cy="5086440"/>
                  <a:chOff x="57240" y="952560"/>
                  <a:chExt cx="9086760" cy="5086440"/>
                </a:xfrm>
              </p:grpSpPr>
              <p:sp>
                <p:nvSpPr>
                  <p:cNvPr id="199" name=""/>
                  <p:cNvSpPr/>
                  <p:nvPr/>
                </p:nvSpPr>
                <p:spPr>
                  <a:xfrm>
                    <a:off x="2781360" y="2798640"/>
                    <a:ext cx="95040" cy="173160"/>
                  </a:xfrm>
                  <a:custGeom>
                    <a:avLst/>
                    <a:gdLst/>
                    <a:ahLst/>
                    <a:rect l="l" t="t" r="r" b="b"/>
                    <a:pathLst>
                      <a:path w="60" h="109">
                        <a:moveTo>
                          <a:pt x="60" y="1"/>
                        </a:moveTo>
                        <a:cubicBezTo>
                          <a:pt x="0" y="21"/>
                          <a:pt x="6" y="0"/>
                          <a:pt x="6" y="37"/>
                        </a:cubicBezTo>
                        <a:lnTo>
                          <a:pt x="6" y="73"/>
                        </a:lnTo>
                        <a:lnTo>
                          <a:pt x="24" y="109"/>
                        </a:lnTo>
                        <a:lnTo>
                          <a:pt x="60" y="109"/>
                        </a:lnTo>
                        <a:lnTo>
                          <a:pt x="60" y="1"/>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7240" y="3517920"/>
                    <a:ext cx="5371920" cy="2521080"/>
                  </a:xfrm>
                  <a:custGeom>
                    <a:avLst/>
                    <a:gdLst/>
                    <a:ahLst/>
                    <a:rect l="l" t="t" r="r" b="b"/>
                    <a:pathLst>
                      <a:path w="3384" h="1588">
                        <a:moveTo>
                          <a:pt x="3384" y="1552"/>
                        </a:moveTo>
                        <a:lnTo>
                          <a:pt x="3348" y="1228"/>
                        </a:lnTo>
                        <a:lnTo>
                          <a:pt x="3060" y="976"/>
                        </a:lnTo>
                        <a:lnTo>
                          <a:pt x="3132" y="724"/>
                        </a:lnTo>
                        <a:lnTo>
                          <a:pt x="3060" y="580"/>
                        </a:lnTo>
                        <a:lnTo>
                          <a:pt x="2988" y="652"/>
                        </a:lnTo>
                        <a:lnTo>
                          <a:pt x="2916" y="616"/>
                        </a:lnTo>
                        <a:lnTo>
                          <a:pt x="2808" y="652"/>
                        </a:lnTo>
                        <a:lnTo>
                          <a:pt x="2376" y="472"/>
                        </a:lnTo>
                        <a:lnTo>
                          <a:pt x="2240" y="516"/>
                        </a:lnTo>
                        <a:lnTo>
                          <a:pt x="2228" y="624"/>
                        </a:lnTo>
                        <a:lnTo>
                          <a:pt x="1692" y="400"/>
                        </a:lnTo>
                        <a:lnTo>
                          <a:pt x="1652" y="156"/>
                        </a:lnTo>
                        <a:lnTo>
                          <a:pt x="1296" y="184"/>
                        </a:lnTo>
                        <a:lnTo>
                          <a:pt x="904" y="0"/>
                        </a:lnTo>
                        <a:lnTo>
                          <a:pt x="576" y="184"/>
                        </a:lnTo>
                        <a:lnTo>
                          <a:pt x="288" y="472"/>
                        </a:lnTo>
                        <a:lnTo>
                          <a:pt x="288" y="544"/>
                        </a:lnTo>
                        <a:lnTo>
                          <a:pt x="216" y="652"/>
                        </a:lnTo>
                        <a:lnTo>
                          <a:pt x="72" y="832"/>
                        </a:lnTo>
                        <a:lnTo>
                          <a:pt x="0" y="868"/>
                        </a:lnTo>
                        <a:lnTo>
                          <a:pt x="0" y="1588"/>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028880" y="952560"/>
                    <a:ext cx="8115120" cy="5029200"/>
                  </a:xfrm>
                  <a:custGeom>
                    <a:avLst/>
                    <a:gdLst/>
                    <a:ahLst/>
                    <a:rect l="l" t="t" r="r" b="b"/>
                    <a:pathLst>
                      <a:path w="5112" h="3168">
                        <a:moveTo>
                          <a:pt x="5112" y="3096"/>
                        </a:moveTo>
                        <a:lnTo>
                          <a:pt x="4896" y="2916"/>
                        </a:lnTo>
                        <a:lnTo>
                          <a:pt x="4392" y="2916"/>
                        </a:lnTo>
                        <a:lnTo>
                          <a:pt x="3600" y="2520"/>
                        </a:lnTo>
                        <a:lnTo>
                          <a:pt x="3600" y="2916"/>
                        </a:lnTo>
                        <a:lnTo>
                          <a:pt x="4068" y="3168"/>
                        </a:lnTo>
                        <a:lnTo>
                          <a:pt x="2988" y="3168"/>
                        </a:lnTo>
                        <a:lnTo>
                          <a:pt x="2520" y="2448"/>
                        </a:lnTo>
                        <a:lnTo>
                          <a:pt x="2484" y="2268"/>
                        </a:lnTo>
                        <a:lnTo>
                          <a:pt x="2664" y="2160"/>
                        </a:lnTo>
                        <a:lnTo>
                          <a:pt x="2772" y="2036"/>
                        </a:lnTo>
                        <a:lnTo>
                          <a:pt x="2820" y="1904"/>
                        </a:lnTo>
                        <a:lnTo>
                          <a:pt x="2772" y="1620"/>
                        </a:lnTo>
                        <a:lnTo>
                          <a:pt x="2592" y="1700"/>
                        </a:lnTo>
                        <a:lnTo>
                          <a:pt x="2196" y="1656"/>
                        </a:lnTo>
                        <a:lnTo>
                          <a:pt x="2220" y="1448"/>
                        </a:lnTo>
                        <a:lnTo>
                          <a:pt x="2304" y="1404"/>
                        </a:lnTo>
                        <a:lnTo>
                          <a:pt x="2520" y="1260"/>
                        </a:lnTo>
                        <a:lnTo>
                          <a:pt x="3120" y="1184"/>
                        </a:lnTo>
                        <a:lnTo>
                          <a:pt x="3156" y="1052"/>
                        </a:lnTo>
                        <a:lnTo>
                          <a:pt x="2736" y="900"/>
                        </a:lnTo>
                        <a:lnTo>
                          <a:pt x="2772" y="756"/>
                        </a:lnTo>
                        <a:lnTo>
                          <a:pt x="2676" y="920"/>
                        </a:lnTo>
                        <a:lnTo>
                          <a:pt x="2556" y="920"/>
                        </a:lnTo>
                        <a:lnTo>
                          <a:pt x="2484" y="944"/>
                        </a:lnTo>
                        <a:lnTo>
                          <a:pt x="2352" y="1064"/>
                        </a:lnTo>
                        <a:lnTo>
                          <a:pt x="2436" y="1244"/>
                        </a:lnTo>
                        <a:lnTo>
                          <a:pt x="2376" y="1260"/>
                        </a:lnTo>
                        <a:lnTo>
                          <a:pt x="2328" y="1256"/>
                        </a:lnTo>
                        <a:lnTo>
                          <a:pt x="2232" y="1388"/>
                        </a:lnTo>
                        <a:lnTo>
                          <a:pt x="2016" y="1400"/>
                        </a:lnTo>
                        <a:lnTo>
                          <a:pt x="2016" y="1548"/>
                        </a:lnTo>
                        <a:lnTo>
                          <a:pt x="2016" y="1656"/>
                        </a:lnTo>
                        <a:lnTo>
                          <a:pt x="1920" y="1772"/>
                        </a:lnTo>
                        <a:lnTo>
                          <a:pt x="1836" y="1728"/>
                        </a:lnTo>
                        <a:lnTo>
                          <a:pt x="1836" y="1476"/>
                        </a:lnTo>
                        <a:lnTo>
                          <a:pt x="1836" y="1404"/>
                        </a:lnTo>
                        <a:lnTo>
                          <a:pt x="1512" y="944"/>
                        </a:lnTo>
                        <a:lnTo>
                          <a:pt x="1440" y="1016"/>
                        </a:lnTo>
                        <a:lnTo>
                          <a:pt x="1464" y="1136"/>
                        </a:lnTo>
                        <a:lnTo>
                          <a:pt x="1647" y="1389"/>
                        </a:lnTo>
                        <a:lnTo>
                          <a:pt x="1629" y="1452"/>
                        </a:lnTo>
                        <a:lnTo>
                          <a:pt x="1560" y="1388"/>
                        </a:lnTo>
                        <a:lnTo>
                          <a:pt x="1557" y="1479"/>
                        </a:lnTo>
                        <a:lnTo>
                          <a:pt x="1512" y="1551"/>
                        </a:lnTo>
                        <a:lnTo>
                          <a:pt x="1494" y="1533"/>
                        </a:lnTo>
                        <a:lnTo>
                          <a:pt x="1485" y="1407"/>
                        </a:lnTo>
                        <a:lnTo>
                          <a:pt x="1368" y="1260"/>
                        </a:lnTo>
                        <a:lnTo>
                          <a:pt x="1188" y="1008"/>
                        </a:lnTo>
                        <a:lnTo>
                          <a:pt x="864" y="1008"/>
                        </a:lnTo>
                        <a:lnTo>
                          <a:pt x="468" y="1548"/>
                        </a:lnTo>
                        <a:lnTo>
                          <a:pt x="252" y="1488"/>
                        </a:lnTo>
                        <a:lnTo>
                          <a:pt x="0" y="1344"/>
                        </a:lnTo>
                        <a:lnTo>
                          <a:pt x="72" y="1044"/>
                        </a:lnTo>
                        <a:lnTo>
                          <a:pt x="144" y="828"/>
                        </a:lnTo>
                        <a:lnTo>
                          <a:pt x="324" y="828"/>
                        </a:lnTo>
                        <a:lnTo>
                          <a:pt x="540" y="936"/>
                        </a:lnTo>
                        <a:lnTo>
                          <a:pt x="684" y="756"/>
                        </a:lnTo>
                        <a:lnTo>
                          <a:pt x="540" y="504"/>
                        </a:lnTo>
                        <a:lnTo>
                          <a:pt x="864" y="504"/>
                        </a:lnTo>
                        <a:lnTo>
                          <a:pt x="900" y="360"/>
                        </a:lnTo>
                        <a:lnTo>
                          <a:pt x="1152" y="180"/>
                        </a:lnTo>
                        <a:lnTo>
                          <a:pt x="1368" y="108"/>
                        </a:lnTo>
                        <a:lnTo>
                          <a:pt x="1340" y="20"/>
                        </a:lnTo>
                        <a:lnTo>
                          <a:pt x="1472" y="8"/>
                        </a:lnTo>
                        <a:lnTo>
                          <a:pt x="1476" y="108"/>
                        </a:lnTo>
                        <a:lnTo>
                          <a:pt x="1692" y="252"/>
                        </a:lnTo>
                        <a:lnTo>
                          <a:pt x="1800" y="0"/>
                        </a:lnTo>
                        <a:lnTo>
                          <a:pt x="5112" y="0"/>
                        </a:lnTo>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61200" y="570060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EBibleTeacher.com  </a:t>
                    </a:r>
                    <a:endParaRPr b="0" lang="en-US" sz="1400" spc="-1" strike="noStrike">
                      <a:solidFill>
                        <a:srgbClr val="ffffff"/>
                      </a:solidFill>
                      <a:latin typeface="Times New Roman"/>
                    </a:endParaRPr>
                  </a:p>
                </p:txBody>
              </p:sp>
              <p:sp>
                <p:nvSpPr>
                  <p:cNvPr id="203" name=""/>
                  <p:cNvSpPr/>
                  <p:nvPr/>
                </p:nvSpPr>
                <p:spPr>
                  <a:xfrm>
                    <a:off x="2771640" y="3076560"/>
                    <a:ext cx="114480" cy="314280"/>
                  </a:xfrm>
                  <a:custGeom>
                    <a:avLst/>
                    <a:gdLst/>
                    <a:ahLst/>
                    <a:rect l="l" t="t" r="r" b="b"/>
                    <a:pathLst>
                      <a:path w="72" h="198">
                        <a:moveTo>
                          <a:pt x="54" y="0"/>
                        </a:moveTo>
                        <a:lnTo>
                          <a:pt x="0" y="54"/>
                        </a:lnTo>
                        <a:lnTo>
                          <a:pt x="0" y="198"/>
                        </a:lnTo>
                        <a:lnTo>
                          <a:pt x="54" y="198"/>
                        </a:lnTo>
                        <a:lnTo>
                          <a:pt x="72" y="126"/>
                        </a:lnTo>
                        <a:lnTo>
                          <a:pt x="54"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086280" y="3419640"/>
                    <a:ext cx="257040" cy="231480"/>
                  </a:xfrm>
                  <a:custGeom>
                    <a:avLst/>
                    <a:gdLst/>
                    <a:ahLst/>
                    <a:rect l="l" t="t" r="r" b="b"/>
                    <a:pathLst>
                      <a:path w="162" h="146">
                        <a:moveTo>
                          <a:pt x="96" y="50"/>
                        </a:moveTo>
                        <a:lnTo>
                          <a:pt x="162" y="0"/>
                        </a:lnTo>
                        <a:lnTo>
                          <a:pt x="156" y="74"/>
                        </a:lnTo>
                        <a:lnTo>
                          <a:pt x="108" y="146"/>
                        </a:lnTo>
                        <a:lnTo>
                          <a:pt x="0" y="62"/>
                        </a:lnTo>
                        <a:lnTo>
                          <a:pt x="96" y="5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062240" y="3881520"/>
                    <a:ext cx="223920" cy="93600"/>
                  </a:xfrm>
                  <a:custGeom>
                    <a:avLst/>
                    <a:gdLst/>
                    <a:ahLst/>
                    <a:rect l="l" t="t" r="r" b="b"/>
                    <a:pathLst>
                      <a:path w="141" h="59">
                        <a:moveTo>
                          <a:pt x="0" y="0"/>
                        </a:moveTo>
                        <a:lnTo>
                          <a:pt x="69" y="11"/>
                        </a:lnTo>
                        <a:lnTo>
                          <a:pt x="141" y="47"/>
                        </a:lnTo>
                        <a:lnTo>
                          <a:pt x="69" y="59"/>
                        </a:lnTo>
                        <a:lnTo>
                          <a:pt x="0" y="36"/>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143680" y="3819600"/>
                    <a:ext cx="171360" cy="155520"/>
                  </a:xfrm>
                  <a:custGeom>
                    <a:avLst/>
                    <a:gdLst/>
                    <a:ahLst/>
                    <a:rect l="l" t="t" r="r" b="b"/>
                    <a:pathLst>
                      <a:path w="108" h="98">
                        <a:moveTo>
                          <a:pt x="0" y="62"/>
                        </a:moveTo>
                        <a:lnTo>
                          <a:pt x="72" y="0"/>
                        </a:lnTo>
                        <a:lnTo>
                          <a:pt x="108" y="0"/>
                        </a:lnTo>
                        <a:lnTo>
                          <a:pt x="108" y="54"/>
                        </a:lnTo>
                        <a:lnTo>
                          <a:pt x="60" y="98"/>
                        </a:lnTo>
                        <a:lnTo>
                          <a:pt x="0" y="62"/>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685880" y="984240"/>
                    <a:ext cx="800280" cy="635040"/>
                  </a:xfrm>
                  <a:custGeom>
                    <a:avLst/>
                    <a:gdLst/>
                    <a:ahLst/>
                    <a:rect l="l" t="t" r="r" b="b"/>
                    <a:pathLst>
                      <a:path w="504" h="400">
                        <a:moveTo>
                          <a:pt x="0" y="346"/>
                        </a:moveTo>
                        <a:lnTo>
                          <a:pt x="54" y="400"/>
                        </a:lnTo>
                        <a:lnTo>
                          <a:pt x="198" y="328"/>
                        </a:lnTo>
                        <a:lnTo>
                          <a:pt x="396" y="346"/>
                        </a:lnTo>
                        <a:lnTo>
                          <a:pt x="504" y="238"/>
                        </a:lnTo>
                        <a:lnTo>
                          <a:pt x="342" y="22"/>
                        </a:lnTo>
                        <a:lnTo>
                          <a:pt x="350" y="0"/>
                        </a:lnTo>
                        <a:lnTo>
                          <a:pt x="194" y="0"/>
                        </a:lnTo>
                        <a:lnTo>
                          <a:pt x="180" y="112"/>
                        </a:lnTo>
                        <a:lnTo>
                          <a:pt x="108" y="112"/>
                        </a:lnTo>
                        <a:lnTo>
                          <a:pt x="126" y="220"/>
                        </a:lnTo>
                        <a:lnTo>
                          <a:pt x="0" y="346"/>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400040" y="981000"/>
                    <a:ext cx="400320" cy="314280"/>
                  </a:xfrm>
                  <a:custGeom>
                    <a:avLst/>
                    <a:gdLst/>
                    <a:ahLst/>
                    <a:rect l="l" t="t" r="r" b="b"/>
                    <a:pathLst>
                      <a:path w="252" h="198">
                        <a:moveTo>
                          <a:pt x="126" y="0"/>
                        </a:moveTo>
                        <a:lnTo>
                          <a:pt x="234" y="0"/>
                        </a:lnTo>
                        <a:lnTo>
                          <a:pt x="252" y="90"/>
                        </a:lnTo>
                        <a:lnTo>
                          <a:pt x="234" y="162"/>
                        </a:lnTo>
                        <a:lnTo>
                          <a:pt x="54" y="198"/>
                        </a:lnTo>
                        <a:lnTo>
                          <a:pt x="0" y="180"/>
                        </a:lnTo>
                        <a:lnTo>
                          <a:pt x="18" y="108"/>
                        </a:lnTo>
                        <a:lnTo>
                          <a:pt x="126" y="0"/>
                        </a:lnTo>
                        <a:close/>
                      </a:path>
                    </a:pathLst>
                  </a:custGeom>
                  <a:solidFill>
                    <a:srgbClr val="008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9" name=""/>
                <p:cNvSpPr/>
                <p:nvPr/>
              </p:nvSpPr>
              <p:spPr>
                <a:xfrm>
                  <a:off x="2291400" y="3524400"/>
                  <a:ext cx="3125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terranean</a:t>
                  </a:r>
                  <a:endParaRPr b="0" lang="en-US" sz="3600" spc="-1" strike="noStrike">
                    <a:solidFill>
                      <a:srgbClr val="ffffff"/>
                    </a:solidFill>
                    <a:latin typeface="Times New Roman"/>
                  </a:endParaRPr>
                </a:p>
              </p:txBody>
            </p:sp>
            <p:sp>
              <p:nvSpPr>
                <p:cNvPr id="210" name=""/>
                <p:cNvSpPr/>
                <p:nvPr/>
              </p:nvSpPr>
              <p:spPr>
                <a:xfrm>
                  <a:off x="3433320" y="4800600"/>
                  <a:ext cx="1350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gypt</a:t>
                  </a:r>
                  <a:endParaRPr b="0" lang="en-US" sz="3600" spc="-1" strike="noStrike">
                    <a:solidFill>
                      <a:srgbClr val="ffffff"/>
                    </a:solidFill>
                    <a:latin typeface="Times New Roman"/>
                  </a:endParaRPr>
                </a:p>
              </p:txBody>
            </p:sp>
            <p:sp>
              <p:nvSpPr>
                <p:cNvPr id="211" name=""/>
                <p:cNvSpPr/>
                <p:nvPr/>
              </p:nvSpPr>
              <p:spPr>
                <a:xfrm>
                  <a:off x="6512040" y="2895480"/>
                  <a:ext cx="1933920" cy="1734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Mou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Times New Roman"/>
                    </a:rPr>
                    <a:t>Arara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Turkey)</a:t>
                  </a:r>
                  <a:endParaRPr b="0" lang="en-US" sz="3600" spc="-1" strike="noStrike">
                    <a:solidFill>
                      <a:srgbClr val="ffffff"/>
                    </a:solidFill>
                    <a:latin typeface="Times New Roman"/>
                  </a:endParaRPr>
                </a:p>
              </p:txBody>
            </p:sp>
            <p:sp>
              <p:nvSpPr>
                <p:cNvPr id="212" name=""/>
                <p:cNvSpPr/>
                <p:nvPr/>
              </p:nvSpPr>
              <p:spPr>
                <a:xfrm>
                  <a:off x="6064200" y="2806560"/>
                  <a:ext cx="520920" cy="52092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4381560" y="952560"/>
                  <a:ext cx="4648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afd00"/>
                      </a:solidFill>
                      <a:uFillTx/>
                      <a:latin typeface="Times New Roman"/>
                    </a:rPr>
                    <a:t>Noah’s Ark</a:t>
                  </a:r>
                  <a:endParaRPr b="0" lang="en-US" sz="6600" spc="-1" strike="noStrike">
                    <a:solidFill>
                      <a:srgbClr val="ffffff"/>
                    </a:solidFill>
                    <a:latin typeface="Times New Roman"/>
                  </a:endParaRPr>
                </a:p>
              </p:txBody>
            </p:sp>
            <p:sp>
              <p:nvSpPr>
                <p:cNvPr id="214" name=""/>
                <p:cNvSpPr/>
                <p:nvPr/>
              </p:nvSpPr>
              <p:spPr>
                <a:xfrm>
                  <a:off x="5078520" y="4102200"/>
                  <a:ext cx="498240" cy="482400"/>
                </a:xfrm>
                <a:custGeom>
                  <a:avLst/>
                  <a:gdLst/>
                  <a:ahLst/>
                  <a:rect l="l" t="t" r="r" b="b"/>
                  <a:pathLst>
                    <a:path w="314" h="304">
                      <a:moveTo>
                        <a:pt x="240" y="12"/>
                      </a:moveTo>
                      <a:lnTo>
                        <a:pt x="288" y="0"/>
                      </a:lnTo>
                      <a:lnTo>
                        <a:pt x="314" y="17"/>
                      </a:lnTo>
                      <a:lnTo>
                        <a:pt x="314" y="53"/>
                      </a:lnTo>
                      <a:lnTo>
                        <a:pt x="278" y="98"/>
                      </a:lnTo>
                      <a:lnTo>
                        <a:pt x="206" y="179"/>
                      </a:lnTo>
                      <a:lnTo>
                        <a:pt x="125" y="269"/>
                      </a:lnTo>
                      <a:lnTo>
                        <a:pt x="64" y="304"/>
                      </a:lnTo>
                      <a:lnTo>
                        <a:pt x="0" y="264"/>
                      </a:lnTo>
                      <a:lnTo>
                        <a:pt x="84" y="204"/>
                      </a:lnTo>
                      <a:lnTo>
                        <a:pt x="192" y="108"/>
                      </a:lnTo>
                      <a:lnTo>
                        <a:pt x="240" y="12"/>
                      </a:lnTo>
                      <a:close/>
                    </a:path>
                  </a:pathLst>
                </a:custGeom>
                <a:solidFill>
                  <a:srgbClr val="99cc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990320" y="3943440"/>
                  <a:ext cx="11782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srael</a:t>
                  </a:r>
                  <a:endParaRPr b="0" lang="en-US" sz="3200" spc="-1" strike="noStrike">
                    <a:solidFill>
                      <a:srgbClr val="ffffff"/>
                    </a:solidFill>
                    <a:latin typeface="Times New Roman"/>
                  </a:endParaRPr>
                </a:p>
              </p:txBody>
            </p:sp>
          </p:grpSp>
        </p:grpSp>
        <p:sp>
          <p:nvSpPr>
            <p:cNvPr id="216" name=""/>
            <p:cNvSpPr/>
            <p:nvPr/>
          </p:nvSpPr>
          <p:spPr>
            <a:xfrm>
              <a:off x="5041800" y="4654440"/>
              <a:ext cx="127080" cy="260640"/>
            </a:xfrm>
            <a:custGeom>
              <a:avLst/>
              <a:gdLst/>
              <a:ahLst/>
              <a:rect l="l" t="t" r="r" b="b"/>
              <a:pathLst>
                <a:path w="80" h="164">
                  <a:moveTo>
                    <a:pt x="0" y="140"/>
                  </a:moveTo>
                  <a:lnTo>
                    <a:pt x="80" y="0"/>
                  </a:lnTo>
                  <a:lnTo>
                    <a:pt x="80" y="24"/>
                  </a:lnTo>
                  <a:lnTo>
                    <a:pt x="12" y="164"/>
                  </a:lnTo>
                </a:path>
              </a:pathLst>
            </a:custGeom>
            <a:solidFill>
              <a:srgbClr val="114ffb"/>
            </a:solidFill>
            <a:ln w="1260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7" name=""/>
            <p:cNvSpPr/>
            <p:nvPr/>
          </p:nvSpPr>
          <p:spPr>
            <a:xfrm>
              <a:off x="6235560" y="2013120"/>
              <a:ext cx="666720" cy="933120"/>
            </a:xfrm>
            <a:custGeom>
              <a:avLst/>
              <a:gdLst/>
              <a:ahLst/>
              <a:rect l="l" t="t" r="r" b="b"/>
              <a:pathLst>
                <a:path w="420" h="588">
                  <a:moveTo>
                    <a:pt x="0" y="252"/>
                  </a:moveTo>
                  <a:lnTo>
                    <a:pt x="48" y="132"/>
                  </a:lnTo>
                  <a:lnTo>
                    <a:pt x="252" y="0"/>
                  </a:lnTo>
                  <a:lnTo>
                    <a:pt x="300" y="60"/>
                  </a:lnTo>
                  <a:lnTo>
                    <a:pt x="228" y="156"/>
                  </a:lnTo>
                  <a:lnTo>
                    <a:pt x="288" y="192"/>
                  </a:lnTo>
                  <a:lnTo>
                    <a:pt x="348" y="300"/>
                  </a:lnTo>
                  <a:lnTo>
                    <a:pt x="384" y="276"/>
                  </a:lnTo>
                  <a:lnTo>
                    <a:pt x="420" y="348"/>
                  </a:lnTo>
                  <a:lnTo>
                    <a:pt x="396" y="360"/>
                  </a:lnTo>
                  <a:lnTo>
                    <a:pt x="372" y="336"/>
                  </a:lnTo>
                  <a:lnTo>
                    <a:pt x="420" y="480"/>
                  </a:lnTo>
                  <a:lnTo>
                    <a:pt x="336" y="564"/>
                  </a:lnTo>
                  <a:lnTo>
                    <a:pt x="300" y="564"/>
                  </a:lnTo>
                  <a:lnTo>
                    <a:pt x="276" y="540"/>
                  </a:lnTo>
                  <a:lnTo>
                    <a:pt x="252" y="588"/>
                  </a:lnTo>
                  <a:lnTo>
                    <a:pt x="120" y="516"/>
                  </a:lnTo>
                  <a:lnTo>
                    <a:pt x="120" y="420"/>
                  </a:lnTo>
                  <a:lnTo>
                    <a:pt x="120" y="360"/>
                  </a:lnTo>
                  <a:lnTo>
                    <a:pt x="48" y="324"/>
                  </a:lnTo>
                  <a:lnTo>
                    <a:pt x="0" y="252"/>
                  </a:lnTo>
                  <a:close/>
                </a:path>
              </a:pathLst>
            </a:custGeom>
            <a:solidFill>
              <a:srgbClr val="114ffb"/>
            </a:solidFill>
            <a:ln w="25560">
              <a:solidFill>
                <a:srgbClr val="000000"/>
              </a:solidFill>
              <a:round/>
            </a:ln>
            <a:effectLst>
              <a:outerShdw dist="36147" dir="2700000"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218" name=""/>
          <p:cNvGrpSpPr/>
          <p:nvPr/>
        </p:nvGrpSpPr>
        <p:grpSpPr>
          <a:xfrm>
            <a:off x="0" y="257040"/>
            <a:ext cx="9067680" cy="6364440"/>
            <a:chOff x="0" y="257040"/>
            <a:chExt cx="9067680" cy="6364440"/>
          </a:xfrm>
        </p:grpSpPr>
        <p:sp>
          <p:nvSpPr>
            <p:cNvPr id="219" name=""/>
            <p:cNvSpPr/>
            <p:nvPr/>
          </p:nvSpPr>
          <p:spPr>
            <a:xfrm>
              <a:off x="1181160" y="609480"/>
              <a:ext cx="7715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fef9"/>
                  </a:solidFill>
                  <a:latin typeface="Times New Roman"/>
                </a:rPr>
                <a:t>Click to add title</a:t>
              </a:r>
              <a:endParaRPr b="0" lang="en-US" sz="4400" spc="-1" strike="noStrike">
                <a:solidFill>
                  <a:srgbClr val="ffffff"/>
                </a:solidFill>
                <a:latin typeface="Times New Roman"/>
              </a:endParaRPr>
            </a:p>
          </p:txBody>
        </p:sp>
        <p:sp>
          <p:nvSpPr>
            <p:cNvPr id="220" name=""/>
            <p:cNvSpPr/>
            <p:nvPr/>
          </p:nvSpPr>
          <p:spPr>
            <a:xfrm>
              <a:off x="1157400" y="1981080"/>
              <a:ext cx="77914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add text</a:t>
              </a:r>
              <a:endParaRPr b="0" lang="en-US" sz="3200" spc="-1" strike="noStrike">
                <a:solidFill>
                  <a:srgbClr val="ffffff"/>
                </a:solidFill>
                <a:latin typeface="Times New Roman"/>
              </a:endParaRPr>
            </a:p>
          </p:txBody>
        </p:sp>
        <p:pic>
          <p:nvPicPr>
            <p:cNvPr id="221" name="" descr=""/>
            <p:cNvPicPr/>
            <p:nvPr/>
          </p:nvPicPr>
          <p:blipFill>
            <a:blip r:embed="rId1"/>
            <a:stretch/>
          </p:blipFill>
          <p:spPr>
            <a:xfrm>
              <a:off x="0" y="257040"/>
              <a:ext cx="9067680" cy="6364440"/>
            </a:xfrm>
            <a:prstGeom prst="rect">
              <a:avLst/>
            </a:prstGeom>
            <a:ln w="0">
              <a:noFill/>
            </a:ln>
          </p:spPr>
        </p:pic>
        <p:sp>
          <p:nvSpPr>
            <p:cNvPr id="222" name=""/>
            <p:cNvSpPr/>
            <p:nvPr/>
          </p:nvSpPr>
          <p:spPr>
            <a:xfrm>
              <a:off x="595080" y="4253040"/>
              <a:ext cx="515412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terranean Sea</a:t>
              </a:r>
              <a:endParaRPr b="0" lang="en-US" sz="4400" spc="-1" strike="noStrike">
                <a:solidFill>
                  <a:srgbClr val="ffffff"/>
                </a:solidFill>
                <a:latin typeface="Times New Roman"/>
              </a:endParaRPr>
            </a:p>
          </p:txBody>
        </p:sp>
        <p:sp>
          <p:nvSpPr>
            <p:cNvPr id="223" name=""/>
            <p:cNvSpPr/>
            <p:nvPr/>
          </p:nvSpPr>
          <p:spPr>
            <a:xfrm>
              <a:off x="213480" y="5638680"/>
              <a:ext cx="1757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yprus</a:t>
              </a:r>
              <a:endParaRPr b="0" lang="en-US" sz="3600" spc="-1" strike="noStrike">
                <a:solidFill>
                  <a:srgbClr val="ffffff"/>
                </a:solidFill>
                <a:latin typeface="Times New Roman"/>
              </a:endParaRPr>
            </a:p>
          </p:txBody>
        </p:sp>
        <p:sp>
          <p:nvSpPr>
            <p:cNvPr id="224" name=""/>
            <p:cNvSpPr/>
            <p:nvPr/>
          </p:nvSpPr>
          <p:spPr>
            <a:xfrm>
              <a:off x="1814760" y="1631880"/>
              <a:ext cx="267912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Turkey</a:t>
              </a:r>
              <a:endParaRPr b="0" lang="en-US" sz="6000" spc="-1" strike="noStrike">
                <a:solidFill>
                  <a:srgbClr val="ffffff"/>
                </a:solidFill>
                <a:latin typeface="Times New Roman"/>
              </a:endParaRPr>
            </a:p>
          </p:txBody>
        </p:sp>
        <p:sp>
          <p:nvSpPr>
            <p:cNvPr id="225" name=""/>
            <p:cNvSpPr/>
            <p:nvPr/>
          </p:nvSpPr>
          <p:spPr>
            <a:xfrm>
              <a:off x="8540640" y="1301760"/>
              <a:ext cx="444600" cy="444600"/>
            </a:xfrm>
            <a:prstGeom prst="star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843960" y="914400"/>
              <a:ext cx="15516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Arial"/>
                </a:rPr>
                <a:t>Moun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afd00"/>
                  </a:solidFill>
                  <a:uFillTx/>
                  <a:latin typeface="Arial"/>
                </a:rPr>
                <a:t>Ararat</a:t>
              </a:r>
              <a:endParaRPr b="0" lang="en-US" sz="3600" spc="-1" strike="noStrike">
                <a:solidFill>
                  <a:srgbClr val="ffffff"/>
                </a:solidFill>
                <a:latin typeface="Times New Roman"/>
              </a:endParaRPr>
            </a:p>
          </p:txBody>
        </p:sp>
        <p:sp>
          <p:nvSpPr>
            <p:cNvPr id="227" name=""/>
            <p:cNvSpPr/>
            <p:nvPr/>
          </p:nvSpPr>
          <p:spPr>
            <a:xfrm>
              <a:off x="7150320" y="6157800"/>
              <a:ext cx="1796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Photo</a:t>
              </a:r>
              <a:endParaRPr b="0" lang="en-US" sz="2400" spc="-1" strike="noStrike">
                <a:solidFill>
                  <a:srgbClr val="ffffff"/>
                </a:solidFill>
                <a:latin typeface="Times New Roman"/>
              </a:endParaRPr>
            </a:p>
          </p:txBody>
        </p:sp>
        <p:sp>
          <p:nvSpPr>
            <p:cNvPr id="228" name=""/>
            <p:cNvSpPr/>
            <p:nvPr/>
          </p:nvSpPr>
          <p:spPr>
            <a:xfrm>
              <a:off x="57960" y="352440"/>
              <a:ext cx="1798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EBibleTeacher.com  </a:t>
              </a:r>
              <a:endParaRPr b="0" lang="en-US" sz="1200" spc="-1" strike="noStrike">
                <a:solidFill>
                  <a:srgbClr val="ffffff"/>
                </a:solidFill>
                <a:latin typeface="Times New Roman"/>
              </a:endParaRPr>
            </a:p>
          </p:txBody>
        </p:sp>
        <p:sp>
          <p:nvSpPr>
            <p:cNvPr id="229" name=""/>
            <p:cNvSpPr/>
            <p:nvPr/>
          </p:nvSpPr>
          <p:spPr>
            <a:xfrm flipH="1" rot="16200000">
              <a:off x="5796360" y="5873760"/>
              <a:ext cx="825480" cy="368280"/>
            </a:xfrm>
            <a:prstGeom prst="rightArrow">
              <a:avLst>
                <a:gd name="adj1" fmla="val 50000"/>
                <a:gd name="adj2" fmla="val 112082"/>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385680" y="5486400"/>
              <a:ext cx="1376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rael</a:t>
              </a:r>
              <a:endParaRPr b="0" lang="en-US" sz="3600" spc="-1" strike="noStrike">
                <a:solidFill>
                  <a:srgbClr val="ffffff"/>
                </a:solidFill>
                <a:latin typeface="Times New Roman"/>
              </a:endParaRPr>
            </a:p>
          </p:txBody>
        </p:sp>
      </p:grpSp>
      <p:sp>
        <p:nvSpPr>
          <p:cNvPr id="231" name="PlaceHolder 1"/>
          <p:cNvSpPr>
            <a:spLocks noGrp="1"/>
          </p:cNvSpPr>
          <p:nvPr>
            <p:ph type="title"/>
          </p:nvPr>
        </p:nvSpPr>
        <p:spPr>
          <a:xfrm>
            <a:off x="6324480" y="609120"/>
            <a:ext cx="2571840" cy="343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Noah’s Ark 2</a:t>
            </a:r>
            <a:endParaRPr b="1" lang="en-US" sz="100" spc="-1" strike="noStrike" u="sng">
              <a:solidFill>
                <a:srgbClr val="c0fef9"/>
              </a:solidFill>
              <a:uFillTx/>
              <a:latin typeface="Times New Roman"/>
            </a:endParaRPr>
          </a:p>
        </p:txBody>
      </p:sp>
      <p:sp>
        <p:nvSpPr>
          <p:cNvPr id="232"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228600" y="304920"/>
            <a:ext cx="8839080" cy="6476040"/>
            <a:chOff x="228600" y="304920"/>
            <a:chExt cx="8839080" cy="6476040"/>
          </a:xfrm>
        </p:grpSpPr>
        <p:sp>
          <p:nvSpPr>
            <p:cNvPr id="234" name=""/>
            <p:cNvSpPr/>
            <p:nvPr/>
          </p:nvSpPr>
          <p:spPr>
            <a:xfrm>
              <a:off x="1181160" y="609480"/>
              <a:ext cx="7715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fef9"/>
                  </a:solidFill>
                  <a:latin typeface="Times New Roman"/>
                </a:rPr>
                <a:t>Click to add title</a:t>
              </a:r>
              <a:endParaRPr b="0" lang="en-US" sz="4400" spc="-1" strike="noStrike">
                <a:solidFill>
                  <a:srgbClr val="ffffff"/>
                </a:solidFill>
                <a:latin typeface="Times New Roman"/>
              </a:endParaRPr>
            </a:p>
          </p:txBody>
        </p:sp>
        <p:pic>
          <p:nvPicPr>
            <p:cNvPr id="235" name="" descr=""/>
            <p:cNvPicPr/>
            <p:nvPr/>
          </p:nvPicPr>
          <p:blipFill>
            <a:blip r:embed="rId1"/>
            <a:stretch/>
          </p:blipFill>
          <p:spPr>
            <a:xfrm>
              <a:off x="228600" y="304920"/>
              <a:ext cx="6400800" cy="6400800"/>
            </a:xfrm>
            <a:prstGeom prst="rect">
              <a:avLst/>
            </a:prstGeom>
            <a:ln w="0">
              <a:noFill/>
            </a:ln>
          </p:spPr>
        </p:pic>
        <p:sp>
          <p:nvSpPr>
            <p:cNvPr id="236" name=""/>
            <p:cNvSpPr/>
            <p:nvPr/>
          </p:nvSpPr>
          <p:spPr>
            <a:xfrm>
              <a:off x="4800600" y="685800"/>
              <a:ext cx="4267080" cy="6019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now covered Mt. Ararat and Little Ararat are inactive volcanoes located in eastern Turkey.  Mt. Ararat rises over 3 miles above sea level.   This mountain is the traditional resting place of the Ark.</a:t>
              </a:r>
              <a:endParaRPr b="0" lang="en-US" sz="3600" spc="-1" strike="noStrike">
                <a:solidFill>
                  <a:srgbClr val="ffffff"/>
                </a:solidFill>
                <a:latin typeface="Times New Roman"/>
              </a:endParaRPr>
            </a:p>
          </p:txBody>
        </p:sp>
        <p:sp>
          <p:nvSpPr>
            <p:cNvPr id="237" name=""/>
            <p:cNvSpPr/>
            <p:nvPr/>
          </p:nvSpPr>
          <p:spPr>
            <a:xfrm>
              <a:off x="442800" y="6326280"/>
              <a:ext cx="2527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Photo</a:t>
              </a:r>
              <a:endParaRPr b="0" lang="en-US" sz="2400" spc="-1" strike="noStrike">
                <a:solidFill>
                  <a:srgbClr val="ffffff"/>
                </a:solidFill>
                <a:latin typeface="Times New Roman"/>
              </a:endParaRPr>
            </a:p>
          </p:txBody>
        </p:sp>
        <p:sp>
          <p:nvSpPr>
            <p:cNvPr id="238" name=""/>
            <p:cNvSpPr/>
            <p:nvPr/>
          </p:nvSpPr>
          <p:spPr>
            <a:xfrm>
              <a:off x="808560" y="988920"/>
              <a:ext cx="2316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t. Ararat</a:t>
              </a:r>
              <a:endParaRPr b="0" lang="en-US" sz="3600" spc="-1" strike="noStrike">
                <a:solidFill>
                  <a:srgbClr val="ffffff"/>
                </a:solidFill>
                <a:latin typeface="Times New Roman"/>
              </a:endParaRPr>
            </a:p>
          </p:txBody>
        </p:sp>
        <p:sp>
          <p:nvSpPr>
            <p:cNvPr id="239" name=""/>
            <p:cNvSpPr/>
            <p:nvPr/>
          </p:nvSpPr>
          <p:spPr>
            <a:xfrm flipH="1" flipV="1">
              <a:off x="2111400" y="1533600"/>
              <a:ext cx="1109520" cy="744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166720" y="642456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EBibleTeacher.com  </a:t>
              </a:r>
              <a:endParaRPr b="0" lang="en-US" sz="1400" spc="-1" strike="noStrike">
                <a:solidFill>
                  <a:srgbClr val="ffffff"/>
                </a:solidFill>
                <a:latin typeface="Times New Roman"/>
              </a:endParaRPr>
            </a:p>
          </p:txBody>
        </p:sp>
      </p:grpSp>
      <p:sp>
        <p:nvSpPr>
          <p:cNvPr id="241" name="PlaceHolder 1"/>
          <p:cNvSpPr>
            <a:spLocks noGrp="1"/>
          </p:cNvSpPr>
          <p:nvPr>
            <p:ph type="title"/>
          </p:nvPr>
        </p:nvSpPr>
        <p:spPr>
          <a:xfrm>
            <a:off x="6438960" y="609480"/>
            <a:ext cx="2457360" cy="285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Noah’s Ark Mt. Ararat</a:t>
            </a:r>
            <a:endParaRPr b="1" lang="en-US" sz="100" spc="-1" strike="noStrike" u="sng">
              <a:solidFill>
                <a:srgbClr val="c0fef9"/>
              </a:solidFill>
              <a:uFillTx/>
              <a:latin typeface="Times New Roman"/>
            </a:endParaRPr>
          </a:p>
        </p:txBody>
      </p:sp>
      <p:sp>
        <p:nvSpPr>
          <p:cNvPr id="242"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Franklin Gothic Heavy"/>
                <a:hlinkClick r:id="rId2" action="ppaction://hlinksldjump"/>
              </a:rPr>
              <a:t>INDEX</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18:58:00Z</dcterms:created>
  <dc:creator>Terry Taylor   ttaylor@midwest.net</dc:creator>
  <dc:description>SOURCE:  www.ebibleteacher.com</dc:description>
  <cp:keywords>Bible atlas maps temple tabernacle israel canaan egypt</cp:keywords>
  <dc:language>en-US</dc:language>
  <cp:lastModifiedBy>Terry Taylor</cp:lastModifiedBy>
  <dcterms:modified xsi:type="dcterms:W3CDTF">2000-06-10T15:09:44Z</dcterms:modified>
  <cp:revision>65</cp:revision>
  <dc:subject>40+ Bible Atlas Maps and Diagrams</dc:subject>
  <dc:title>Bible Class Atl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8421440</vt:r8>
  </property>
  <property fmtid="{D5CDD505-2E9C-101B-9397-08002B2CF9AE}" pid="3" name="ButtonType">
    <vt:r8>3</vt:r8>
  </property>
  <property fmtid="{D5CDD505-2E9C-101B-9397-08002B2CF9AE}" pid="4" name="Compression">
    <vt:r8>9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batlas.html</vt:lpwstr>
  </property>
  <property fmtid="{D5CDD505-2E9C-101B-9397-08002B2CF9AE}" pid="9" name="LinkColor">
    <vt:r8>8388608</vt:r8>
  </property>
  <property fmtid="{D5CDD505-2E9C-101B-9397-08002B2CF9AE}" pid="10" name="MailAddress">
    <vt:lpwstr>ttaylor@ebibleteacher.com</vt:lpwstr>
  </property>
  <property fmtid="{D5CDD505-2E9C-101B-9397-08002B2CF9AE}" pid="11" name="NavBtnPos">
    <vt:r8>3</vt:r8>
  </property>
  <property fmtid="{D5CDD505-2E9C-101B-9397-08002B2CF9AE}" pid="12" name="Other">
    <vt:lpwstr>For better image quality, download the regular PowerPoint version below.   If you don't have PowerPoint, Windows 95/98 users can "right click" on these jpeg based  web images and copy them into their own presentations.</vt:lpwstr>
  </property>
  <property fmtid="{D5CDD505-2E9C-101B-9397-08002B2CF9AE}" pid="13" name="OutputDir">
    <vt:lpwstr>C:\aaahtml\batlas\batlaswebsite</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6777088</vt:r8>
  </property>
</Properties>
</file>