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19214"/>
        <c:axId val="14096763"/>
      </c:barChart>
      <c:catAx>
        <c:axId val="289192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96763"/>
        <c:crosses val="autoZero"/>
        <c:auto val="1"/>
        <c:lblAlgn val="ctr"/>
        <c:lblOffset val="100"/>
        <c:noMultiLvlLbl val="0"/>
      </c:catAx>
      <c:valAx>
        <c:axId val="14096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192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1223-4937-4826-8F09-6A7850C3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2EB9-6997-4BFC-9F71-752854DE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645-B31D-4A49-A780-DEB20284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F40C-2A24-4D60-93B2-34126259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37A-B83C-4148-8E16-F0E67BC7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E125-1673-4A42-B22A-2338DFBB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86F-F110-41D7-8A9B-F820F1D2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B10-2C74-44FF-B168-7A59DCF2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7A0-2E4E-41EA-AB89-DBC6952E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DB2-F976-486A-A396-7C9C38D3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333E-8464-42DF-88AD-514D9321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4A6-0D99-4F4D-920D-2427C761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741AC-DE72-4E88-AF25-49D1868D3E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