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03832"/>
        <c:axId val="90860977"/>
      </c:barChart>
      <c:catAx>
        <c:axId val="68003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60977"/>
        <c:crosses val="autoZero"/>
        <c:auto val="1"/>
        <c:lblAlgn val="ctr"/>
        <c:lblOffset val="100"/>
        <c:noMultiLvlLbl val="0"/>
      </c:catAx>
      <c:valAx>
        <c:axId val="90860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03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3B9-5517-4294-BD23-9C469AE7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16A-EC52-47A7-AF78-22A8FA97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C5B-8E78-4588-9B7D-FEEF4EED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86C-2044-4593-A3FB-048DB298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FF4-F6D6-43EC-AA77-0D25E569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5D3-F0E5-4583-B4B0-AFE834E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E21-94BF-4BB8-A44F-7C35E02A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26D-C6C5-49F1-8B70-170AA47C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F78-5139-430A-808F-C5339CAE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6F8-5DAC-4455-9FE7-9EC35584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31C-139F-4941-A99A-044C60B9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7A9-B177-49B8-A5BE-AC2D18C2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76D02-EA21-487E-81AF-F865D02972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