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872593"/>
        <c:axId val="63690748"/>
      </c:barChart>
      <c:catAx>
        <c:axId val="928725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90748"/>
        <c:crosses val="autoZero"/>
        <c:auto val="1"/>
        <c:lblAlgn val="ctr"/>
        <c:lblOffset val="100"/>
        <c:noMultiLvlLbl val="0"/>
      </c:catAx>
      <c:valAx>
        <c:axId val="636907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725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7EC4-5098-4543-B790-5D09FF17D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7BAF-3D1F-490F-B8D0-9557EA32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3DD9-BA8C-4677-96D4-FB8AB657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6FBB-8756-4C4F-8B3E-87E7E25E8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E6F8-8062-46F0-AF84-3A00D1D5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49CC-7211-4FF0-AE2D-09A78C18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117C-81FA-4423-BFC1-15C6E987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9879-3825-4F50-9017-85498CAE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04AA-F30A-49E4-B1FE-1745224F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BCCB-D5ED-4A35-9FB6-82397C5A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11EC-0C7E-42FE-9818-007FBAC2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B7F2-88C5-4880-A7C3-613FB5DB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7A717-7685-466B-A250-0C060131BF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