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181894"/>
        <c:axId val="46425671"/>
      </c:barChart>
      <c:catAx>
        <c:axId val="971818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425671"/>
        <c:crosses val="autoZero"/>
        <c:auto val="1"/>
        <c:lblAlgn val="ctr"/>
        <c:lblOffset val="100"/>
        <c:noMultiLvlLbl val="0"/>
      </c:catAx>
      <c:valAx>
        <c:axId val="46425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1818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09EE-13E1-4BD9-B5FA-E708CBBFF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D96-214A-4AAE-A0CA-6A521F96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768-3FE7-4CA7-A353-097934FF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EE88-7973-438D-8722-FB0718B6D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3ECC-EEA7-426A-82A1-D26EFCFF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57C0-7456-4EF4-BAAA-18DEBB34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CDE2-4CF0-4EDC-A6C3-4BC90E57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26D5-DA46-40FE-BA61-20779509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DDF5-5004-47C4-B037-C68666E4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90E5-FB1A-4A56-99B4-E9DFDA2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CB4-3C1A-4A8D-A44A-DD66C68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62C7-5597-41D7-B5B7-D151236B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ABDCA-E4DF-42AA-9C8A-A033B59C6B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