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11487"/>
        <c:axId val="99158951"/>
      </c:barChart>
      <c:catAx>
        <c:axId val="981114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58951"/>
        <c:crosses val="autoZero"/>
        <c:auto val="1"/>
        <c:lblAlgn val="ctr"/>
        <c:lblOffset val="100"/>
        <c:noMultiLvlLbl val="0"/>
      </c:catAx>
      <c:valAx>
        <c:axId val="99158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114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F54-C79E-4E10-9681-DBFCA4E1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07E-583F-4E23-B8A6-C181668C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693-3A61-4088-82F2-012565D4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B294-B58D-4973-BC2A-B160FDB0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097-ABE8-40E0-938E-153219BB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19F-AB5A-42D0-9CF0-FF7F68BF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816-83E5-46EC-89EF-24976B72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A47E-1978-459D-942F-175422C1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D6F3-925F-404E-9E84-95567D1D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FBAC-38C7-478C-8108-2552B103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AB2-45DB-4A43-9927-37EFC947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60E-EDB9-48BB-9999-A7313B28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47745-9B30-43E2-BCD5-4F034D0DBE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