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443972"/>
        <c:axId val="22053158"/>
      </c:barChart>
      <c:catAx>
        <c:axId val="594439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053158"/>
        <c:crosses val="autoZero"/>
        <c:auto val="1"/>
        <c:lblAlgn val="ctr"/>
        <c:lblOffset val="100"/>
        <c:noMultiLvlLbl val="0"/>
      </c:catAx>
      <c:valAx>
        <c:axId val="220531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4439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3281-9762-4623-8D90-816BCF9F3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23A6-090E-4869-A44E-455403E29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56C1-F527-4A0D-9A38-F6E3E01F8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4221-0716-4AB6-8F13-9C5CA521B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BC04-68BE-4643-8849-ED69871AE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2CE1-94B4-4717-B62E-82C208315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BB96-0FF5-4B0C-9A9D-058CA9D3D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F175-6920-4FFC-9F13-4DC7C7688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42FB-D965-423D-9B1D-EBD463FB2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3359-FF96-46F1-9A11-C9F16190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A3E6-FEBC-41C9-8F79-3671E2FA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2A61-1E50-443B-AB66-C5023B35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F1BAEA-0C9E-4012-95A8-536877CA200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