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666314"/>
        <c:axId val="6196705"/>
      </c:barChart>
      <c:catAx>
        <c:axId val="196663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6705"/>
        <c:crosses val="autoZero"/>
        <c:auto val="1"/>
        <c:lblAlgn val="ctr"/>
        <c:lblOffset val="100"/>
        <c:noMultiLvlLbl val="0"/>
      </c:catAx>
      <c:valAx>
        <c:axId val="61967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663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D8C3-435D-4C2A-AE74-D8739ABB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B771-38B5-4A29-8F10-84DCEFFE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4632-F3F8-4205-B932-37F08CE5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2110-DFAE-4A8E-A0BA-8BD2F0BE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CABA-8E1A-4783-B7EC-26167E4B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1A36-7153-453C-A21F-B4A507FF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3659-696F-4A72-8687-1073B4E8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FE8C-3FA3-4757-A7EB-7626F8A4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E336-AE47-491D-8C09-27391967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B1DE-932C-49C9-8ADB-29A0B3A0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52E9-2394-4629-9483-ACDAB58E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E3BD-0C80-4B2E-882A-E4DA155E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02442-DF36-41DC-8E35-C590AFC489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