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78441"/>
        <c:axId val="94310196"/>
      </c:barChart>
      <c:catAx>
        <c:axId val="11178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10196"/>
        <c:crosses val="autoZero"/>
        <c:auto val="1"/>
        <c:lblAlgn val="ctr"/>
        <c:lblOffset val="100"/>
        <c:noMultiLvlLbl val="0"/>
      </c:catAx>
      <c:valAx>
        <c:axId val="94310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78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BD5-0DB2-4885-AE32-EDA006F5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990-5384-46B9-93ED-91352D34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804-B448-4FE0-A892-F727BE1D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525-56A5-421D-A756-8D409C34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F3E-4FD7-4B56-9FBB-CBF405C0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F2E-B73D-4791-A2D7-BC30999A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7E0-9995-4779-9D7D-8A192FAC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1A3-DACD-4EA7-AF7F-5F1BFEEA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70F-2DBB-46AD-A0F6-1892456B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639-4E40-4553-9B9B-E394647C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EE4-DE78-4881-ADE8-BADF01B3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819-0F4C-4FA4-B250-1CE73034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2EFC2-137E-4605-BF44-6C846DC32C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